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00850" cy="9888538"/>
  <p:custShowLst>
    <p:custShow name="Képek nélkül" id="0">
      <p:sldLst>
        <p:sld r:id="rId4"/>
        <p:sld r:id="rId5"/>
        <p:sld r:id="rId6"/>
        <p:sld r:id="rId9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0D3-9BC3-4FA9-A864-4AE1C81C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640" y="304056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17F-4A2C-462F-93D9-CFE0C5A9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96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60A-38D7-4ED5-AC3F-EA95AABC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80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864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80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653-D902-4975-ADCB-7FCF32D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842-07E6-4A1F-BF51-ED566590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A505-36C0-4BC7-8B22-BFFE35F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6A89-A285-4494-AA1B-4F40B0A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1291-E7CB-4CCA-8EBB-62ADC3A8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1A9-46A6-4E5E-B8E3-9C1396AF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920" y="56800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C57-FBFC-4924-B21E-89CC7900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E0E5-B0EE-4B65-9EBD-E0C61D57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E29-33D2-4DCA-B15D-E7D91DDB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96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E8E0-4AA4-404F-AEC7-6D14A01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339-811C-4E6E-80E3-3B370F8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640" y="304056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CB7-67EF-4DE4-86C1-1487C3C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96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804-227D-4CA3-B653-2F7FA94D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072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800" y="72864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864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072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800" y="304056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3B3-BBE1-46D4-A47F-F6E8C654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2FD-73B9-4002-8BF4-08C4D7C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B3-8E93-4722-BA8F-75D52FCD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DCC-70AC-4545-B8F5-48A8FE67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920" y="56800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042-C214-4781-A9DE-B38856DA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C75-D272-4B57-B645-7D373D4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960" y="304056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80F-EDC0-4075-8D47-1E2F385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72864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8640" y="304056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439-0CD3-4265-855E-EC78C47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99000"/>
            <a:ext cx="9144000" cy="1359000"/>
          </a:xfrm>
          <a:prstGeom prst="rect">
            <a:avLst/>
          </a:prstGeom>
          <a:gradFill rotWithShape="0">
            <a:gsLst>
              <a:gs pos="0">
                <a:srgbClr val="548341">
                  <a:alpha val="90196"/>
                </a:srgbClr>
              </a:gs>
              <a:gs pos="50000">
                <a:srgbClr val="a5b5b3">
                  <a:alpha val="90196"/>
                </a:srgbClr>
              </a:gs>
              <a:gs pos="100000">
                <a:srgbClr val="548341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-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EC2-7CAD-432A-941C-5F45284652C6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408640"/>
            <a:ext cx="9144000" cy="136440"/>
          </a:xfrm>
          <a:prstGeom prst="rect">
            <a:avLst/>
          </a:prstGeom>
          <a:solidFill>
            <a:srgbClr val="6c7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62000" y="5680080"/>
            <a:ext cx="906480" cy="9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02160"/>
            <a:ext cx="9144000" cy="1455840"/>
          </a:xfrm>
          <a:prstGeom prst="rect">
            <a:avLst/>
          </a:prstGeom>
          <a:gradFill rotWithShape="0">
            <a:gsLst>
              <a:gs pos="0">
                <a:srgbClr val="548341">
                  <a:alpha val="90196"/>
                </a:srgbClr>
              </a:gs>
              <a:gs pos="50000">
                <a:srgbClr val="a5b5b3">
                  <a:alpha val="90196"/>
                </a:srgbClr>
              </a:gs>
              <a:gs pos="100000">
                <a:srgbClr val="548341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5b5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840" y="550872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155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0A54-4689-4041-A12E-CAB3BBCDBF0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95960"/>
            <a:ext cx="9144000" cy="136440"/>
          </a:xfrm>
          <a:prstGeom prst="rect">
            <a:avLst/>
          </a:prstGeom>
          <a:solidFill>
            <a:srgbClr val="6c7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840" y="550872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Dokumentumkezelő rendszer javaslat</a:t>
            </a:r>
            <a:br>
              <a:rPr sz="3000"/>
            </a:b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 PTR zRt. részé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608200" y="646128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ámítóGépész Kf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Work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ektronikus csoportmunka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zleti folyamatok kezelése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ződés és számla jóváhagyási folyamat teljes körű kezelése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rafikus folyamattervező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 dokumentumtovábbítás (ADR Automatic Document Routing) stb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Content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i tartalomkezelés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oldalú adatkapcsolat az elterjedt tartalomkezelő rendszerekkel, mint pl.: IBM Content Manager; IXOS; SAP SU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Register Data Integrator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odul feladata, hogy nyílt szabványokon alapuló technológia segítségével biztosítsa, hogy a dokumentumkezelő rendszer más alkalmazásokhoz illeszthető legye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Előnyök, amiket a felső vezető realizá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atékonyság javulás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ntos információ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agálási idő csökkené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táridő kezelé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Út a hatékonyság növeléséhez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adatot csak egyszer szükséges rögzíteni; 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complete funkció segítségével a partnertörzsbe már felvitt adatokat gombnyomásra felajánlja a rendszer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 tömegű szkennelés, iratdigitalizálás lehetősége; 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-mailek, fax szerverről valamint portálról érkező dokumentumok automatikus fogadás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Költségmegtakarítás a BóBerc Zrt-né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Dokumentumkezelé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Bármilyen méretű és formátumú dokumentum fogadására tárolására és kezelé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"hagyományos" papír alapú dokumentum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tolt fájlokat, esetleg elektronikus aláírást is tartalmazó e-mail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ortálról, weboldalról, ügyfélkapuról érkező dokumentum, kitöltött elektronikus űrlap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ax szerverről jövő kimenetek kezelése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mélyesen, ügyfélszolgálaton átvett papíralapú vagy elektronikus adathordozón tárolt dokumentum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gy tömegben fogadott S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égen belüli nyomtatási kimenetek kezelése (pl. kinyomtatott dokumentumok elektronikus képének automatikus archiválása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Moduláris felépítés - Teljes körű funkcionalitá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2077920"/>
            <a:ext cx="197964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1b9"/>
              </a:gs>
              <a:gs pos="100000">
                <a:srgbClr val="5d8a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62622"/>
                </a:solidFill>
                <a:latin typeface="Arial Narrow"/>
              </a:rPr>
              <a:t>Doc</a:t>
            </a:r>
            <a:r>
              <a:rPr b="1" lang="en-US" sz="2400" spc="-1" strike="noStrike">
                <a:solidFill>
                  <a:srgbClr val="262622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72000" y="4329000"/>
            <a:ext cx="1979640" cy="90036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ntent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2000" y="54756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080" y="2890800"/>
            <a:ext cx="1979640" cy="63036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rm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080" y="4329000"/>
            <a:ext cx="1979640" cy="90036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gister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teg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000" y="2079720"/>
            <a:ext cx="1979640" cy="63000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Po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42000" y="2890800"/>
            <a:ext cx="1979640" cy="63036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Regi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080" y="2079720"/>
            <a:ext cx="1979640" cy="630000"/>
          </a:xfrm>
          <a:prstGeom prst="roundRect">
            <a:avLst>
              <a:gd name="adj" fmla="val 16667"/>
            </a:avLst>
          </a:prstGeom>
          <a:solidFill>
            <a:srgbClr val="723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Sca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2529000"/>
            <a:ext cx="71892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2360" y="3068640"/>
            <a:ext cx="71892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2000" y="2529000"/>
            <a:ext cx="71928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3068640"/>
            <a:ext cx="71928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92720" y="1358640"/>
            <a:ext cx="0" cy="53964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1359000"/>
            <a:ext cx="0" cy="53964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92720" y="3608280"/>
            <a:ext cx="0" cy="54000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3608280"/>
            <a:ext cx="0" cy="54000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62000" y="4599000"/>
            <a:ext cx="71892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62360" y="5138640"/>
            <a:ext cx="718920" cy="0"/>
          </a:xfrm>
          <a:prstGeom prst="line">
            <a:avLst/>
          </a:prstGeom>
          <a:ln w="76320">
            <a:solidFill>
              <a:srgbClr val="2626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Scan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tömegű iratdigitalizálás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kár 180 lap/perc sebesség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CR (optikai karakterfelismerés) funkció, melynek segítségével a szkennelt szöveg tartalmában is kereshetünk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yomtatványok, űrlapok automatikus feldolgozása, kezelése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pkorrekciós funkciók stb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56800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Form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72864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ektronikus űrlapok kezelése, automatikus feldolgoz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rtál, ügyfélkapu támogatás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3:18:56Z</dcterms:created>
  <dc:creator>Rendszergazda</dc:creator>
  <dc:description/>
  <dc:language>en-US</dc:language>
  <cp:lastModifiedBy>doni</cp:lastModifiedBy>
  <dcterms:modified xsi:type="dcterms:W3CDTF">2008-07-07T07:21:40Z</dcterms:modified>
  <cp:revision>285</cp:revision>
  <dc:subject/>
  <dc:title>Projekttámogató szoftverek</dc:title>
</cp:coreProperties>
</file>