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00850" cy="9888538"/>
  <p:custShowLst>
    <p:custShow name="Képek nélkül" id="0">
      <p:sldLst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59F-FD86-4C0C-9DD0-CC6F54ED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8640" y="401220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9732-30A3-4288-A2F1-781ECF1B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864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96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0A16-913D-49ED-A29C-5F6A60CF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0720" y="170028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800" y="170028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8640" y="401220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0720" y="401220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800" y="401220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B05-284E-4D59-AC7B-E2B6E102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ABCE-BBE6-4C05-ADC9-0BEE65BC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2478-45B5-434E-815A-7C5B3E4A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8038-AC8A-41F9-8B15-D0D748BB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5953-7E28-4131-ABF7-6D8A949C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70BA-5969-49BC-9D52-8F0FA68B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90440" y="274680"/>
            <a:ext cx="7758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CF2F-2F19-44B5-BBFA-7D7F1DD9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864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2B9B-CEAD-4212-84A0-5E210D30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A1E3-A2F7-4082-9707-25AECC8C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96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FE8D-EE3C-4DBB-9BEF-D2210F36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8640" y="401220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6FC2-326F-4B59-A20F-2C1A43C4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640" y="401220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EA9B-81C7-479E-A25A-482B517C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864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96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C5B8-5E2C-4A89-BC8B-9A311BD6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0720" y="170028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800" y="170028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8640" y="401220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0720" y="401220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800" y="401220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88D9-8178-44E3-9EA7-8A44844B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098EB-608F-4741-810A-D04A8C05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7A9D5-77FD-4756-9241-C2EA35E6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24BA0-BD7A-4E51-8342-F4471B4A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A7881-0A6A-4C66-97C4-9D4B1C48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8E556-33F0-4A18-B7AD-DC444E65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949-57B2-434C-9078-0671DECF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0440" y="274680"/>
            <a:ext cx="7758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A68EC-7E3D-42CD-9F25-BD09E010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864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6B95E-5092-409D-B7EC-25C71E93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96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1FE22-1B4E-41D2-AFB0-2E947418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8640" y="401220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EF092-36F2-4EE9-95FC-A421695F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8640" y="401220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B9BD4-C53A-4D35-9462-D96D9FD3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864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96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76764-7AC9-468E-84C5-0204DC52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40720" y="170028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800" y="170028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8640" y="401220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40720" y="401220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800" y="401220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412D0-C6C9-4454-A760-92ACF628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05CEA-323D-4BEF-BC71-52C4C6D8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10E80-7A6A-463E-8BF4-B236CE90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69AE1-5861-4255-84FA-A6D604E4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F0B5-E101-4640-8E5C-63C7B20F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4AA57-52FA-449A-BCB0-517A2330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A58A3-9C55-419C-83FB-E248B7B8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90440" y="274680"/>
            <a:ext cx="7758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F953E-3288-40FF-83E5-3B9A5E8F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64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6CE23-A88A-49D9-96A8-1A7CCAE7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96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CA123-628B-492D-843D-3F4BECAA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8640" y="401220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3CA1C-CB12-4699-A9A7-27D6A8F2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8640" y="401220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59D3D-18B8-4EC3-86DE-69DC9687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864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96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CCEE8-CC5C-40BC-B74A-98CF6675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40720" y="170028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800" y="170028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8640" y="401220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40720" y="401220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800" y="401220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0E6DB-25AC-4C2F-99F1-07A6D3A8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6DFF-44BB-4CAB-9B45-AE807B5F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40" y="274680"/>
            <a:ext cx="7758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E88-84A1-4085-89E9-1772AADE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864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38F-091C-4664-BC65-E2AAD65C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96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B47-21AB-41CE-80FB-6E1B525B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8640" y="401220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498-A5B3-4B8D-BB6D-250561F5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gradFill rotWithShape="0">
            <a:gsLst>
              <a:gs pos="0">
                <a:srgbClr val="8ea29f">
                  <a:alpha val="90196"/>
                </a:srgbClr>
              </a:gs>
              <a:gs pos="50000">
                <a:srgbClr val="a5b5b3">
                  <a:alpha val="90196"/>
                </a:srgbClr>
              </a:gs>
              <a:gs pos="100000">
                <a:srgbClr val="8ea29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0DC8-C2AE-4530-93C8-16E6EF0C93C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295280"/>
            <a:ext cx="9144000" cy="1368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04240" y="173160"/>
            <a:ext cx="906480" cy="90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004240" y="173160"/>
            <a:ext cx="906480" cy="901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402160"/>
            <a:ext cx="9144000" cy="1455840"/>
          </a:xfrm>
          <a:prstGeom prst="rect">
            <a:avLst/>
          </a:prstGeom>
          <a:gradFill rotWithShape="0">
            <a:gsLst>
              <a:gs pos="0">
                <a:srgbClr val="8ea29f">
                  <a:alpha val="90196"/>
                </a:srgbClr>
              </a:gs>
              <a:gs pos="50000">
                <a:srgbClr val="a5b5b3">
                  <a:alpha val="90196"/>
                </a:srgbClr>
              </a:gs>
              <a:gs pos="100000">
                <a:srgbClr val="8ea29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5b5b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0840" y="5508720"/>
            <a:ext cx="88581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155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C4FC-8D2D-4EDF-9E51-79AEDBFABF70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295960"/>
            <a:ext cx="9144000" cy="1364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5C18-C16A-44B5-BFD6-351444AD3802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295280"/>
            <a:ext cx="9144000" cy="1368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004240" y="173160"/>
            <a:ext cx="906480" cy="90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402160"/>
            <a:ext cx="9144000" cy="1455840"/>
          </a:xfrm>
          <a:prstGeom prst="rect">
            <a:avLst/>
          </a:prstGeom>
          <a:gradFill rotWithShape="0">
            <a:gsLst>
              <a:gs pos="0">
                <a:srgbClr val="8ea29f">
                  <a:alpha val="90196"/>
                </a:srgbClr>
              </a:gs>
              <a:gs pos="50000">
                <a:srgbClr val="a5b5b3">
                  <a:alpha val="90196"/>
                </a:srgbClr>
              </a:gs>
              <a:gs pos="100000">
                <a:srgbClr val="8ea29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8004240" y="173160"/>
            <a:ext cx="906480" cy="901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5b5b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840" y="5508720"/>
            <a:ext cx="88581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45684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155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CA5D-421E-4063-9339-AD6809BC0CF4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295960"/>
            <a:ext cx="9144000" cy="1364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840" y="5508720"/>
            <a:ext cx="88581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Arial"/>
              </a:rPr>
              <a:t>Dokumentumkezelő rendszer javaslat</a:t>
            </a:r>
            <a:br>
              <a:rPr sz="3000"/>
            </a:br>
            <a:r>
              <a:rPr b="1" lang="hu-HU" sz="3000" spc="-1" strike="noStrike">
                <a:solidFill>
                  <a:srgbClr val="ffffff"/>
                </a:solidFill>
                <a:latin typeface="Arial"/>
              </a:rPr>
              <a:t> Topola Kft. részé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608200" y="6461280"/>
            <a:ext cx="64008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zámítóGépész Kf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Arial"/>
              </a:rPr>
              <a:t>PostFlow, RegistFlow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ostFl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okumentumok nagytömegű postázása, postázásra előkészítése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ostakönyv készítése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értivevény, ajánlószelvény és egyéb nyomtatványok automatikus nyomtatása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utárjegyzék készítése st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egistFl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agytömegű irattárazá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ivataloknál tömeges levéltári átadá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elejtezés támogatása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ratarchiválá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Arial"/>
              </a:rPr>
              <a:t>RegistFlow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agytömegű irattárazás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ivataloknál tömeges levéltári átadás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elejtezés támogatása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ratarchiválá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Arial"/>
              </a:rPr>
              <a:t>ContentFlow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özponti tartalomkezelés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étoldalú adatkapcsolat az elterjedt tartalomkezelő rendszerekkel, mint pl.: IBM Content Manager; IXOS; SAP SU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4T13:18:56Z</dcterms:created>
  <dc:creator>Rendszergazda</dc:creator>
  <dc:description/>
  <dc:language>en-US</dc:language>
  <cp:lastModifiedBy>doni</cp:lastModifiedBy>
  <dcterms:modified xsi:type="dcterms:W3CDTF">2008-07-04T14:26:34Z</dcterms:modified>
  <cp:revision>261</cp:revision>
  <dc:subject/>
  <dc:title>Projekttámogató szoftverek</dc:title>
</cp:coreProperties>
</file>