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31500-0234-48CB-8FD6-1724BCFD2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758A9-9057-44A5-99C1-1719FD1F5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87330-4CD0-474B-B02F-A3922272E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B3B-3BF1-4EDE-B74A-90E45EE3B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080B2-9CCF-4308-8E48-6B31A557C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0F1CB-B0C7-40CE-AA06-AC10530C6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45E7C-7D0A-4619-982D-DFB338F1C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2268-C7FF-4654-B5DD-986DFEA7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C2662-67E8-4233-BAE9-37013E39F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82927-86B8-402A-95FF-56A86696B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DB79-5476-4ABA-84F8-64774A0A3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1F611-6A7A-423F-B179-C3D9EBD6C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17BAC-C3F9-40BB-A9EF-E4DE9013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D18A8-1C2A-4DF5-AB33-970C03233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DAF04-84C2-4BD4-AEB9-DB864BEFE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2BB5F-8394-48C4-8B73-C1254901D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55A44-E036-439B-B4D1-4B0FB337F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5563-1C6E-4FA4-BAB2-F5E2C716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68982-8166-4EAE-8FB9-BE504CBC0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3353-B0D8-4E1E-B3B0-F04DEC208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FBE2-8B31-4E33-A50A-A3043360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6CD70-BD87-43D4-A801-A0956F33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FCD9-02A3-420C-ADB0-E064C0C2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4863A-4DCE-4259-B527-8EC9A18D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98F45-7D69-4425-9AF6-8075198649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B379F-781C-4200-8974-24FB81CB4D4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Vezeték nélküli biztonság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4400" spc="-1" strike="noStrike">
                <a:solidFill>
                  <a:srgbClr val="feec94"/>
                </a:solidFill>
                <a:latin typeface="Times New Roman"/>
              </a:rPr>
              <a:t>Vezeték nélküli hálózatok biztonságmegőrzési folyamat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lózatbiztonság kialakít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lózatbiztonság felügyelet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ztonsági elemek tesztel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ztonsági elemek fejlesz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álózatbiztonság kialakítása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ztonsági szükségletek meghatározás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lózatbiztonsági dokumentumok elkészíté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iztonsági házirende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űzfala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itelesít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ehatolás-érzékelé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VP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Hálózatbiztonság felügyelet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lyamatos rendszervizsgá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alósidejű behatolás-észlelé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iztonsági elemek tesztelése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zirendek és más eljárások beható vizsgálat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legális behatolási kísérl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eljes rendszervizsgál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Biztonsági elemek fejlesztése</a:t>
            </a:r>
            <a:br>
              <a:rPr sz="4400"/>
            </a:b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ázirendek módosítása a tapasztalatok alapján, a technológiai fejlesztések, változások figyelembevételé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újabb biztonságtechnikai szükségletek felmerülése esetén vissza a Hálózatbiztonság kialakítása feladathoz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09:27:05Z</dcterms:created>
  <dc:creator>T7</dc:creator>
  <dc:description/>
  <dc:language>en-US</dc:language>
  <cp:lastModifiedBy>T7</cp:lastModifiedBy>
  <dcterms:modified xsi:type="dcterms:W3CDTF">2008-05-19T09:28:02Z</dcterms:modified>
  <cp:revision>1</cp:revision>
  <dc:subject/>
  <dc:title>Vezeték nélküli biztonság</dc:title>
</cp:coreProperties>
</file>