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08F-59F0-4278-8B98-058B30B5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842-7338-4802-B402-7D057513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6C4-CB83-472D-AF10-364FD62B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AB8A-48E4-4789-927B-4122A87A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D02-D05B-4C60-9744-F125B67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BF0-5365-4700-8FCB-87B31408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34E-367B-4B8E-ADC8-EDF63FE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2F4-4595-4DAB-AAF1-E2F571C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88C-3CAB-43C1-AB25-FB5DCB9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6F4-9903-41A2-957D-82CB1CEE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027-BFBC-4BC1-B844-82DFA645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EA4-1508-4095-BF37-3B16092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8DC0-BB85-4256-99DA-8B9009926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PPt 2003-2007 áttérés tanfolyam tematiká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Hallgató n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títés, nyom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iavetítési beállítások, egyéni diasorok létrehoz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avigációó, rajzok készítése vetítés köz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Nyomtatási lehetőség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Árbevétel és nyere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őadá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  vázlatos igények alapján készült tematika ismertet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akorlati feladatmegoldás bemuta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  tanfolyam tematik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p a  jegyzetbő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PPt új kezelőfelü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ffice g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ájlformátum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xcel beállítási lehetősé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Gyorseléréssi eszköztá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szköztár testreszab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Paletta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rábbi verzió egyéni eszköztárának átvé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elyi menük, helyi eszköztár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ami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m és dia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rendezés mint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gyéni prezentációsémák készítése diaminta, címminta felhasználásá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ejléc és lábléc beállítása (oldalszámok, dátum elhelyezése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ülönlegesebb formai beállítások (pl.: felsorolás egyedi jellel, vagy saját piktogram használatával) a teljes bemutató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ílusok használ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ázá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lyta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$$$ek használata. Téma$$$ választás, egyéni téma$$$ megad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áttér (Background) beállítások. $$$választás, egyéni háttér megadása kitöltési effektusok segítségével. $$$átmenet, anyagmintázat, kép alkalmazása diaháttér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éges megjelenés kialakítása, mentés sablonként. Sablon alkalmazása kész bemutató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ép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aját illetve ClipArt kép beszúrása, formázási lehetőség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tméretezés, levágás, halványítás, $$$ átlátszóvá tét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képstílu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örlendő 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e a diára nincsen szük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05:07Z</dcterms:created>
  <dc:creator>iqjb</dc:creator>
  <dc:description/>
  <dc:language>en-US</dc:language>
  <cp:lastModifiedBy>doni</cp:lastModifiedBy>
  <dcterms:modified xsi:type="dcterms:W3CDTF">2008-11-15T20:43:12Z</dcterms:modified>
  <cp:revision>32</cp:revision>
  <dc:subject/>
  <dc:title>1. dia</dc:title>
</cp:coreProperties>
</file>