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4FA7-A319-495F-8720-D8C1DD168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57240"/>
            <a:ext cx="82296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87080"/>
            <a:ext cx="82296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02A9-9A8B-430C-A730-40CEB2C45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57240"/>
            <a:ext cx="40158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57240"/>
            <a:ext cx="40158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87080"/>
            <a:ext cx="40158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87080"/>
            <a:ext cx="40158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D025-5ED9-41FE-8E97-76E3479D7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57240"/>
            <a:ext cx="26496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857240"/>
            <a:ext cx="26496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857240"/>
            <a:ext cx="26496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87080"/>
            <a:ext cx="26496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87080"/>
            <a:ext cx="26496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87080"/>
            <a:ext cx="26496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C34D-19C3-4D29-81C8-A21597543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857240"/>
            <a:ext cx="822960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95EC-6DBD-4788-BC98-661EBA8F2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857240"/>
            <a:ext cx="822960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F0F5-6091-4774-A392-23EF26C91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857240"/>
            <a:ext cx="401580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857240"/>
            <a:ext cx="401580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FDDC-B61B-4E64-BD92-A86E464F1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F795-5F77-4D9E-BDAB-640D2B669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3A8D-44EA-4C99-90F0-77A5729D8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57240"/>
            <a:ext cx="40158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857240"/>
            <a:ext cx="401580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87080"/>
            <a:ext cx="40158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B454-E107-41F3-A1F7-4045535CD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57240"/>
            <a:ext cx="401580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57240"/>
            <a:ext cx="40158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87080"/>
            <a:ext cx="40158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6F87-1F87-49A6-B49E-574DD19D9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857240"/>
            <a:ext cx="40158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857240"/>
            <a:ext cx="40158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87080"/>
            <a:ext cx="82296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5EED-0995-4644-85DB-696F0AD21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57240"/>
            <a:ext cx="822960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26C4B-532D-4829-B332-03CA2BCCEF0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Times New Roman"/>
              </a:rPr>
              <a:t>PPt 2003-2007 áttérés tanfolyam tematikáj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857240"/>
            <a:ext cx="822960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Arial"/>
              </a:rPr>
              <a:t>Hallgató ne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etítés, nyomtatá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857240"/>
            <a:ext cx="822960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Diavetítési beállítások, egyéni diasorok létrehozás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Navigációó, rajzok készítése vetítés közb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Nyomtatási lehetőség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Árbevétel és nyeresé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857240"/>
            <a:ext cx="822960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őadás mene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785960"/>
            <a:ext cx="822960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  vázlatos igények alapján készült tematika ismerteté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yakorlati feladatmegoldás bemutatá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  tanfolyam tematikáj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857240"/>
            <a:ext cx="822960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p a  jegyzetbő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A PPt új kezelőfelüle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857240"/>
            <a:ext cx="822960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Office gom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fájlformátum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Excel beállítási lehetősége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Gyorseléréssi eszköztá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eszköztár testreszabá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Palettarendsz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korábbi verzió egyéni eszköztárának átvé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Helyi menük, helyi eszköztára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mázá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857240"/>
            <a:ext cx="822960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Diamint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ím és diamintá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rendezés mintá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Egyéni prezentációsémák készítése diaminta, címminta felhasználásáva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ejléc és lábléc beállítása (oldalszámok, dátum elhelyezése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Különlegesebb formai beállítások (pl.: felsorolás egyedi jellel, vagy saját piktogram használatával) a teljes bemutató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tílusok használat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mázá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folytatá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857240"/>
            <a:ext cx="822960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$$$ek használata. Téma$$$ választás, egyéni téma$$$ megadás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Háttér (Background) beállítások. $$$választás, egyéni háttér megadása kitöltési effektusok segítségével. $$$átmenet, anyagmintázat, kép alkalmazása diaháttérké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Céges megjelenés kialakítása, mentés sablonként. Sablon alkalmazása kész bemutatór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épe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57240"/>
            <a:ext cx="822960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Saját illetve ClipArt kép beszúrása, formázási lehetősége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átméretezés, levágás, halványítás, $$$ átlátszóvá téte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képstílus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örlendő d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857240"/>
            <a:ext cx="822960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rre a diára nincsen szüksé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21:05:07Z</dcterms:created>
  <dc:creator>iqjb</dc:creator>
  <dc:description/>
  <dc:language>en-US</dc:language>
  <cp:lastModifiedBy>doni</cp:lastModifiedBy>
  <dcterms:modified xsi:type="dcterms:W3CDTF">2008-11-15T20:43:12Z</dcterms:modified>
  <cp:revision>32</cp:revision>
  <dc:subject/>
  <dc:title>1. dia</dc:title>
</cp:coreProperties>
</file>