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51EC-EF88-4CA3-B6CD-A11B38FF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007-DB69-47E7-80EE-F58B097D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EEE-3C06-4634-8ADB-8EB21D4C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BBC-1F61-48AF-9DC1-B0F61799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341-2364-4060-8DC0-25272EEF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5E8-B484-447D-A299-D908AFFD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4CA-819E-4517-8FB5-88B9C55F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98C-E325-4A9D-AAFD-A435EC3D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906-0BE9-4B80-AE4E-053D8E35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085-360F-4EC0-A753-7824E513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477-023B-477D-9533-7C490595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AF8-242D-4699-8DAE-B7530F88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E30E-7B86-4DBE-AC23-1E0F3CF525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PPt 2003-2007 áttérés tanfolyam tematiká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Hallgató n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títés, nyomta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iavetítési beállítások, egyéni diasorok létrehoz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avigációó, rajzok készítése vetítés köz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yomtatási lehetőség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rbevétel és nyere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őadá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  vázlatos igények alapján készült tematika ismerte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yakorlati feladatmegoldás bemut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  tanfolyam tematiká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 a  jegyzetbő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PPt új kezelőfelül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ffice g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ájlformátum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xcel beállítási lehetőség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yorseléréssi eszköztá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szköztár testreszab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aletta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rábbi verzió egyéni eszköztárának átvé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elyi menük, helyi eszköztár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áz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ami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ím és diamint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rendezés mint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gyéni prezentációsémák készítése diaminta, címminta felhasználásáv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ejléc és lábléc beállítása (oldalszámok, dátum elhelyezése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ülönlegesebb formai beállítások (pl.: felsorolás egyedi jellel, vagy saját piktogram használatával) a teljes bemutató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ílusok használ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ázá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lytat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$$$ek használata. Téma$$$ választás, egyéni téma$$$ megad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áttér (Background) beállítások. $$$választás, egyéni háttér megadása kitöltési effektusok segítségével. $$$átmenet, anyagmintázat, kép alkalmazása diaháttérké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éges megjelenés kialakítása, mentés sablonként. Sablon alkalmazása kész bemutató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ép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aját illetve ClipArt kép beszúrása, formázási lehetőség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tméretezés, levágás, halványítás, $$$ átlátszóvá tét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pstílu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örlendő 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e a diára nincsen szük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1:05:07Z</dcterms:created>
  <dc:creator>iqjb</dc:creator>
  <dc:description/>
  <dc:language>en-US</dc:language>
  <cp:lastModifiedBy>doni</cp:lastModifiedBy>
  <dcterms:modified xsi:type="dcterms:W3CDTF">2008-11-15T20:43:12Z</dcterms:modified>
  <cp:revision>32</cp:revision>
  <dc:subject/>
  <dc:title>1. dia</dc:title>
</cp:coreProperties>
</file>