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A56-A733-49DB-B8B1-14A5E314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EB1-41F4-4764-9A84-DEFA5158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9F0-3559-4964-BAEA-D0242624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488-5D2D-4BDE-A183-1B45279C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BD7-D5B6-4CCA-9CC5-4944F998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2A3-BBE5-496B-84D6-B101A91B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C3B-1956-435A-82BF-9BF38A9B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8A8-7881-4738-BE47-0A8DF824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664-D83D-41A7-98AA-590A62C0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503-5DD9-4E6A-91A4-6F76CAD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141-27F5-49BF-8D1D-C89433FC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9A3-7676-4C44-B0EB-9CA55EBC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01F6-E8CC-4CA2-BC70-205BD3DCD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PPt 2003-2007 áttérés tanfolyam tematiká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Hallgat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ítés, nyomt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avetítési beállítások, egyéni diasorok létrehoz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vigációó, rajzok készítése vetítés köz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omtatási lehető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bevétel és nyere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őadá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  vázlatos igények alapján készült tematika ismert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akorlati feladatmegoldás bemu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  tanfolyam tematik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 a  jegyzetbő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Pt új kezelőfelü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ffice g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ájlformátu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cel beállítási lehetősé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orseléréssi eszköz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zköztár testreszab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letta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rábbi verzió egyéni eszköztárának átvé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i menük, helyi eszköztár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ami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m és dia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rendezés 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gyéni prezentációsémák készítése diaminta, címminta felhasználásá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ejléc és lábléc beállítása (oldalszámok, dátum elhelyezés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ülönlegesebb formai beállítások (pl.: felsorolás egyedi jellel, vagy saját piktogram használatával) a teljes bemutató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ílusok használ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$$$ek használata. Téma$$$ választás, egyéni téma$$$ megad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ttér (Background) beállítások. $$$választás, egyéni háttér megadása kitöltési effektusok segítségével. $$$átmenet, anyagmintázat, kép alkalmazása diaháttér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ges megjelenés kialakítása, mentés sablonként. Sablon alkalmazása kész bemutató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illetve ClipArt kép beszúrása, formázási lehető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méretezés, levágás, halványítás, $$$ átlátszóvá té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stíl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örlendő 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e a diára nincsen szük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05:07Z</dcterms:created>
  <dc:creator>iqjb</dc:creator>
  <dc:description/>
  <dc:language>en-US</dc:language>
  <cp:lastModifiedBy>doni</cp:lastModifiedBy>
  <dcterms:modified xsi:type="dcterms:W3CDTF">2008-11-15T20:43:12Z</dcterms:modified>
  <cp:revision>32</cp:revision>
  <dc:subject/>
  <dc:title>1. dia</dc:title>
</cp:coreProperties>
</file>