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4064-BA9B-44E1-9916-025CF20F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8708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4970-008A-4520-BD8E-849989BD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7799-B7A4-4343-A5E0-2045F7BA6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4E16-938F-4318-A05E-DFC18FAD2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DE42-825D-47D7-A0B8-0453A860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A28C-2F42-4925-A1E8-8AD45DA3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3B33-81AB-4B9E-B7D9-7704C708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3D74-9696-4419-A252-A75F456F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B06E-3CAE-4014-925C-7A0908A9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8085-3C4E-4BC8-98F4-A993C4DF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8E08-D4E2-48DF-9F45-CF57F8F4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0E01-0228-45A3-BF53-8B3676EE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50C3-B5FC-4E57-9EDE-7816A2A2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DB6B-3386-47B9-93A8-65F122AA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8708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1729-FB45-4E6F-99C4-A51D6A82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FD72-025E-4098-80B2-79DF71B82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2300-08BE-4401-B03A-05353C85B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88AC-6F24-4B71-9407-3723B080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39A9-6505-4524-A533-9EE1504C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18DC-38B2-48AD-8F74-68E72DE3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CF51-C792-42CF-9DFC-966DDCC9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3D5C-6AC0-4636-B4BD-F45889EE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51F7-47E0-464A-8BA7-72E7026D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DF59-A8B4-4947-B607-6A8BC91E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5A58-5A1A-4C9B-A524-DF2F01B69D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FB7A-69D0-41C7-84BE-DB01CE5055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 2003-2007 áttérés tanfolyam tematiká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Boros Sán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ép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ját illetve ClipArt kép beszúrása, formázási lehetőség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tméretezés, levágás, halványítás, szín átlátszóvá té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épstílus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títés, nyomta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vetítési beállítások, egyéni diasorok létrehozá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igáció, rajzok készítése vetítés közb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yomtatási lehetőség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Árbevétel és nyeresé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Szöveg helye 2"/>
          <p:cNvGraphicFramePr/>
          <p:nvPr/>
        </p:nvGraphicFramePr>
        <p:xfrm>
          <a:off x="457200" y="1857240"/>
          <a:ext cx="8229600" cy="426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Szöveg helye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57240"/>
                    <a:ext cx="822960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6300720" y="2060640"/>
            <a:ext cx="1150920" cy="792000"/>
          </a:xfrm>
          <a:prstGeom prst="ellipse">
            <a:avLst/>
          </a:prstGeom>
          <a:noFill/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tó ár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857240"/>
          <a:ext cx="8229600" cy="4386240"/>
        </p:xfrm>
        <a:graphic>
          <a:graphicData uri="http://schemas.openxmlformats.org/drawingml/2006/table">
            <a:tbl>
              <a:tblPr/>
              <a:tblGrid>
                <a:gridCol w="2602080"/>
                <a:gridCol w="1873080"/>
                <a:gridCol w="1871640"/>
                <a:gridCol w="1882800"/>
              </a:tblGrid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fői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-99 f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főtő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tatás a Számítógépész Kft. Terméb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000 Ft/fő/n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000 Ft/fő/n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000 Ft/fő/n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tatás az Ügyfélné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000 Ft/fő/n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000 Ft/fő/n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000 Ft/fő/n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ptop kölcsönzési ára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00 Ft/lp/n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 Ft/lp/n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 Ft/lp/n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őadás men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  vázlatos igények alapján készült tematika ismertet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yakorlati feladatmegoldás bemutat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  tanfolyam tematiká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  alábbi tematikavázlat 4 órás PPt tanfolyamot mutat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helyi igényeknek megfelelően kerül pontosításra, de ezen belü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dig a konkrét hallgatói csoporthoz igazod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ismereteket mindig konkrét példamegoldásokkal adjuk át a  résztvevők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részt az  irodai gyakorlatban előforduló feladatokat oldunk m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ény esetén saját, a  tanfolyam tematikáját követő felépítésű angol és magyar elnevezéseket egyaránt tartalmazó jegyzetet biztosítu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 a  jegyzetbő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004840" y="1906560"/>
            <a:ext cx="513576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Pt új kezelőfelül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 go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ájlformátum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 beállítási lehetőség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yorselérési eszköztá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zköztár testre szab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ettarends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rábbi verzió egyéni eszköztárának átvé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yi menük, helyi eszköztár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zentáció szövegez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őbb prezentációs szabályok (6x6-os, „a kevesebb, több” szabály, a kontraszt, a struktúra felépítésének szabálya, egységessé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yors prezentációkészítés a vázlat funkció segítségével. A prezentáció szerkezetének megadása, módosítása (Dia lefokozása felsorolássá, felsorolás előléptetése diává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ák áthelyezése, másolása. Diák betöltése másik fájlbó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áblázatok diagramok PPt-b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áblázatok és diagram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áblák, diagramok csatolt beilleszt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rásformátum megőrz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tok frissít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épített táblázatkezelő, diagramkészítő használ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áz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amin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ím és diamint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rendezés mint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gyéni prezentációsémák készítése diaminta, címminta felhasználásával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ejléc és lábléc beállítása (oldalszámok, dátum elhelyezése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ülönlegesebb formai beállítások (pl.: felsorolás egyedi jellel, vagy saját piktogram használatával) a teljes bemutatór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ílusok használ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ázá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lytatá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ínek használata. Témaszín választás, egyéni témaszín megadá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áttér (Background) beállítások. színválasztás, egyéni háttér megadása kitöltési effektusok segítségével. színátmenet, anyagmintázat, kép alkalmazása diaháttérké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éges megjelenés kialakítása, mentés sablonként. Sablon alkalmazása kész bemutató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21:05:07Z</dcterms:created>
  <dc:creator>iqjb</dc:creator>
  <dc:description/>
  <dc:language>en-US</dc:language>
  <cp:lastModifiedBy>MS-USER</cp:lastModifiedBy>
  <dcterms:modified xsi:type="dcterms:W3CDTF">2009-01-25T20:20:27Z</dcterms:modified>
  <cp:revision>35</cp:revision>
  <dc:subject/>
  <dc:title>1. dia</dc:title>
</cp:coreProperties>
</file>