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4433-B82A-4765-BABD-5F25E5A3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DB77-01EC-4B1C-A094-010B67E9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DC96-B2C7-4307-ACC1-49FFA561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1BCA-372D-4F0D-AC1D-222ADCD2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D6A2-3FBE-47F8-852F-5075DF08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0701-C8E1-4675-8864-B066849A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266D-176B-487C-B779-4D5EE343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231C-FBE2-4A89-A052-70E93BFA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CE31-B1D9-4525-9933-335CFC03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142560"/>
            <a:ext cx="72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C10E-DCBD-4E00-8253-14BCF744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4642-A721-446C-907D-33C6BB27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DBC5-5AE8-42E6-8D67-4CD2515C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CFC3-E6C1-4263-B9A6-E86BF88A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7231-3270-42E1-9533-6D3C3ACC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73B9-F041-404D-8C0C-E0F9E108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AA47-1769-4A20-A7C7-85A4334F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EE59-DC9A-4B92-AE4C-DD82131A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387A-28EB-4C7B-BF4D-65B28CD3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26B8-B5A4-4B17-B457-14A02442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9B03-9B35-48B7-BB7E-878C1366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42560"/>
            <a:ext cx="72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2371-B1AE-43CF-803E-5115A03D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4D6C-3316-4D2A-B98C-622F8C8A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684E-AF18-49D2-8679-C536B84D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475C-ADEF-4526-969F-A5343EA7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-538200">
              <a:spcBef>
                <a:spcPts val="799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332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11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1944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2732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2732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2732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6370-9C4F-4C8E-953C-811829451305}" type="slidenum">
              <a:rPr b="0" lang="hu-H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1164-9E79-48B7-8FD3-DE8E1C36A727}" type="slidenum">
              <a:rPr b="0" lang="hu-H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682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21924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16992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16992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16992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Kockázatkezel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Nem tartják fontosnak, me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-538200">
              <a:spcBef>
                <a:spcPts val="799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ockázatelemzés időrabló és unalmas felada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8200" indent="-538200">
              <a:spcBef>
                <a:spcPts val="799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zel szem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332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ó lenne, ha a „jövőbe láthatnánk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332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engeteg bekövetkező nehézségtől (probléma) óvhatnánk meg magunkat előzetes stratégiá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332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obban tudjuk irányítani az eseménye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Miért előnyös a projektvezetőnek a kockázatelemzé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4120" y="2430360"/>
            <a:ext cx="783576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5000" indent="-49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Önvédelemből (én mindent megtett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5000" indent="-49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ényegesebb és kevéssé lényeges tevékenységek szétválasztása mia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5000" indent="-49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ügyfél vezetése mia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04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Jobban elfogadja a szükséges tennivalót, ha az elhárítandó veszélyt is lát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000" indent="-49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projektvezető hitelét növe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04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ügyfél rádöbben, hogy nem puszta kedvtelésből forszírozok valamit, hanem egy probléma elkerülése vég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Miért előnyös a megrendelőknek a kockázatelemzé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4600"/>
            <a:ext cx="822960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-538200">
              <a:spcBef>
                <a:spcPts val="799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elkészülhet a várható problémák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8200" indent="-538200">
              <a:spcBef>
                <a:spcPts val="799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okkal kevesebb meglepetés érhe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8200" indent="-538200">
              <a:spcBef>
                <a:spcPts val="799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okkal kevesebb az időbeli és pénzbeli csúsz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8200" indent="-538200">
              <a:spcBef>
                <a:spcPts val="799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demes megkövetel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332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ogy a vállalkozó is felkészültebb legyen a nem várt helyzetek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Kockázatok tulajdonság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-538200">
              <a:spcBef>
                <a:spcPts val="799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Önmagában nem jó és nem rossz do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8200" indent="-538200">
              <a:spcBef>
                <a:spcPts val="799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m félni kell tőle, fel kell rá készülni és folyamatosan nyomon kell követ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8200" indent="-538200">
              <a:spcBef>
                <a:spcPts val="799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incs projekt kockázat nélkü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A kockázatokkal kapcsolatban elvégzendő feladat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7560"/>
            <a:ext cx="82296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-538200">
              <a:spcBef>
                <a:spcPts val="799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ockázatok azonosítása, értékelése, rangsorol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8200" indent="-538200">
              <a:spcBef>
                <a:spcPts val="799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hetséges kezelési módok meghatároz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8200" indent="-538200">
              <a:spcBef>
                <a:spcPts val="799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ockázatok projekt életciklusára vonatkozó hatásának feltár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Kockázatkezelés költsége - hatá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857240"/>
            <a:ext cx="8229600" cy="4268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0920" y="595008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ve McConnell: Project Survival Gu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Kockázatelemz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338760" indent="-3387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rojekt mérete alapjá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800" indent="-1800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2 hetes időtartam alat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840" indent="-144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projekt kezdetén érdemes átgondolni a lehetséges kockázatok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800" indent="-180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hé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– 4 hét közö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840" indent="-144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égig kell menni a vonatkozó kockázatlist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840" indent="-144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 alkalommal csináljunk formális kockázatelemzé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800" indent="-1800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Nagyobbná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840" indent="-144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teljes csapat bevonásá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840" indent="-144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orábbi tapasztalatok értékelése (kockázatlis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840" indent="-144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ormális kockázatelemz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840" indent="-144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olyamatos köv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760" indent="-3387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 készítse a kockázatelemzé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800" indent="-1800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A projektvezető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840" indent="-144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a csapat kics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840" indent="-144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kapcsolat állandó és közvetlen, barát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840" indent="-144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egyetlen csapat dolgoz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800" indent="-1800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Egyébként a csapat csinálja közös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ni</cp:lastModifiedBy>
  <dcterms:modified xsi:type="dcterms:W3CDTF">2008-11-16T17:07:21Z</dcterms:modified>
  <cp:revision>78</cp:revision>
  <dc:subject/>
  <dc:title>PowerPoint Presentation</dc:title>
</cp:coreProperties>
</file>