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A9E-978F-4960-8597-E0E115BE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183-2128-41AC-9767-902D3FA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E9F-5F1E-44D4-B292-17ED7988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2D8-D629-47F9-AEDF-411E237B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842-3D1E-4906-92EE-12C7204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61C-2F06-4F82-A41B-598D17C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292-578E-47B3-A187-2054C036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0CF-DBA4-4615-9E0B-0E0C0F3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295-B3B8-4F14-98D1-B097221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BF5-7CEA-401B-9181-2D41715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DF9-C34D-4046-B861-318165F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409-E395-49E7-9DCE-DB8989FD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6FA-8FA9-4814-AC86-95F813CBFAC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Times New Roman"/>
              </a:rPr>
              <a:t>Fűtéstechnik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20040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Times New Roman"/>
              </a:rPr>
              <a:t>Sugárzó fűtése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F55-E87B-4BB0-97AF-FC56D9C74C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Közérzeti eredő hőmérsék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edford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259160" cy="498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1371600"/>
            <a:ext cx="374940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léghőmérséklet (t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 és a környező falfelületek átlagos hőmérsékletének (t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 és a hőérzetnek viszon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0,46 t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+ 0,54 t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ata hőmér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őszükséglet számításnál hőérzeti növek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gárzó fűtéseknél alacsonyabb léghőmérsé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67E-6BD4-41E5-A115-8EEEBB71E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ugárzó fűtés előny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nagy hősugárzó felületekkel egyenletesebb hőérzet valósítható m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lacsonyabb helyiséghőmérséklet energia megtakarítást tesz lehetőv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űtés nem foglal el helyet a helyiségb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áron a felület esetleg hűtésre is felhasználha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incs akkora por mozg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csony hőmérsékletű fűtőköz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429-A633-49F5-B970-65FEA5755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ugárzó fűtés hátrány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agy fajlagos veszteségű helyiségekben esetleg nehéz a kellemes közérzetet biztosít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gasabb, esetleg változó szerkezeti hőmérsékletek miatt a dilatációra fokozottan ügyelni k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s rendszerek nagy tehetetlensége szabályozási gondokat jelenth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csony hőmérsékletű fűtőköz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ésbé vannak szabványosítva, ezért felelősségteljesebb a tervezés és a kivitelezés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ruházási költsé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6D4-B544-4C2A-9966-E3AD8DF1A3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9:50:37Z</dcterms:created>
  <dc:creator>Baumann Mihály</dc:creator>
  <dc:description/>
  <dc:language>en-US</dc:language>
  <cp:lastModifiedBy>Baumann Mihály</cp:lastModifiedBy>
  <dcterms:modified xsi:type="dcterms:W3CDTF">2004-11-22T07:39:28Z</dcterms:modified>
  <cp:revision>38</cp:revision>
  <dc:subject/>
  <dc:title>Nincs diacím</dc:title>
</cp:coreProperties>
</file>