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7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11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  <p:sldId id="299" r:id="rId52"/>
    <p:sldId id="300" r:id="rId53"/>
    <p:sldId id="301" r:id="rId54"/>
    <p:sldId id="302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slide" Target="slides/slide44.xml"/><Relationship Id="rId53" Type="http://schemas.openxmlformats.org/officeDocument/2006/relationships/slide" Target="slides/slide45.xml"/><Relationship Id="rId54" Type="http://schemas.openxmlformats.org/officeDocument/2006/relationships/slide" Target="slides/slide46.xml"/><Relationship Id="rId55" Type="http://schemas.openxmlformats.org/officeDocument/2006/relationships/slide" Target="slides/slide47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9677-9059-4C70-8EBA-3E27BA94D61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Calibri"/>
              </a:rPr>
              <a:t>Király Zsolt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9E6E-CC8D-4C73-B1C4-0C09532C6EF6}" type="slidenum">
              <a:rPr b="0" lang="hu-H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Calibri"/>
              </a:rPr>
              <a:t>Király Zsolt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90F61-5292-477C-91FF-9C2A413400A3}" type="slidenum">
              <a:rPr b="0" lang="hu-H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A stratégiai gondolkodásnak egy adott jelenlegi állapotból egy kitűzött célállapotba való eljutás áll a középpontjában, a stratégia a két pont között „légvonalban” gondolkodik. A stratégia megfogalmazása után a konkrétabb szint a projektek szintje, a projektek jelentik a két pont közötti konkrét utat, amit a valóságban be kell, hogy járjon a vállalat. Egy-egy projekt a két szélső pont közötti, konkrét kezdő-, és végponttal kitűzött szakaszt jelent. Például az adott vállalat megfogalmazta a versenyképességének növelésére irányuló stratégiát, a kivitelezésen dolgozva épp egy új szolgáltatás bevezetésére irányuló projektet valósít me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42E5-87E1-4389-A762-A88786EFA3EE}" type="slidenum">
              <a:rPr b="0" lang="hu-H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84B5-2AA1-499C-99FD-39B51D193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521C-9274-45B4-8F6F-9CCF253A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BB18-8987-4DEE-A21C-20A2A1A08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42E9-7636-417D-B5BB-D37D5C71D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D70C-BA3E-4A5E-A0BB-75821BD7B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F09E4-5AB9-440F-B274-75C71179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2E193-75A4-4E6F-AE64-8F865944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ADF9-87FB-41E7-9246-FBC4EDC7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A7AB-DD7F-4E66-9715-98475015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A6B4-E4B8-4B8E-8148-1B6B065E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1D1F3-66AE-4319-8D90-77B26255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FB9B-2207-4ED5-9BFD-330E935A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FE6A0-24D5-4516-8BB5-15645667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C34C-B1DF-49EB-9AD3-C2AACD9D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A381-AC98-4D5D-AD64-A98BB845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22ED-67C3-415C-96B6-C74AF2F9C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5A31E-7703-4176-AA79-99A9253E7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7D9E7-0B56-4B8B-A9CD-329C0DA04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9B284-A2C9-4363-BF61-5315263B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B329E-6D0A-4F74-89C7-BF82C1E1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027536-B821-4E85-8EE5-670D1065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3C88A-20BF-44DB-877B-E7C21A6E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014E-54B7-4D68-B783-162045D3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A865B-48A4-4C7B-AC74-F5BF0C96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C0136-AF2E-42DF-984C-6148BB30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20315-DD4C-4BA3-A7E7-6F0F2D407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A5A7B-0E08-4471-8785-2F42DA1AA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9F5F6-07ED-4691-BF75-9F50EEF0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AC773-72D9-4975-B6AD-8B35F1549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89FE0-016D-4CD1-AE68-8D371F8C6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CEE66-5083-45BD-9537-2CB66B1E4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27A0CF-2AF3-4266-B8B2-3775B1EC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8EFE3-23D9-4CC7-AB39-6C8F040FB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3D24-2A0E-4080-A5D2-6FAB36AF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5E65A-D708-4EB3-A57D-29FBF96C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8EEF3-FCD5-46F9-935D-54492AEBD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BA497-0CE4-48F3-9C2D-60271C36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CC18E-8B16-452A-83DD-1D5037A2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7FFC3-2E7B-49BF-99E5-07B7A1F3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8E067-B184-4349-BCC1-3E6B09429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0F889-B3B7-497C-8FB0-4B247814D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73D38-03AC-4449-A1FB-6F3E54F53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912631-DE6F-46C9-91F3-1B082BB21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EFE24-284D-48D2-B8DE-A93276152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AD6DC-25D8-4D9F-BCB2-0F575BB9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B6953E-05CC-44D8-84BF-5C0605E2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3D554-4262-4FF2-A953-53D19DEFA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A66B4-3F2F-4DB4-A71D-3766D7AE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8DE51F-6B51-4B9E-97A3-3C68328F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E38D5-5436-4C9F-81FC-E3C05188C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DB9A6-AFB1-4845-9893-66076A3D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163D7-B433-4B52-AB87-0D2E58A76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76739-2D3D-4B4B-910F-AAAB3F66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63054-DAB0-4C9A-B964-8F2CF5DC8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7FB162-32FB-433A-A476-30CFDD887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77A7-ADBF-4B77-B4B8-6321E2506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10AE1-5897-4C56-A8A1-0033FDBED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F3DEF3-95A5-4D9F-A8CD-A3838F49F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ED5438-F916-4BF2-A7FB-335A26C2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84CB4-C410-4A36-AF46-4F163D417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76B5D3-1ADB-400B-B3A9-9A70E7CD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B33146-BFA8-4FFD-A81A-1D5C6415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7DEFD-F3E9-4023-88FC-02C52907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DAFD0-EE09-4762-BD51-8B625C65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839F7-CA0D-4DE7-9336-B6BD097A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932F76-9744-407B-8F13-49382777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1F32-17C4-41B4-945C-70C8B5F7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9ADE2-60B3-4BCB-97B9-132145582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FC1AD-D75A-48F2-89F6-08D91C4B5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220CC-1B19-4782-874C-8E351FA3D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159F-D60B-4219-8AFE-352C40FB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8C7F-55B7-4738-ADED-7E0CDB7E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zabadkézi sokszög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Szabadkézi sokszög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488960" indent="-182520">
              <a:spcBef>
                <a:spcPts val="751"/>
              </a:spcBef>
              <a:buClr>
                <a:srgbClr val="c465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F27D-D25A-4A6A-B3E2-EDCEA7E4CEFB}" type="slidenum"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273a"/>
            </a:gs>
            <a:gs pos="100000">
              <a:srgbClr val="7c7d8c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zabadkézi sokszög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Szabadkézi sokszög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488960" indent="-182520">
              <a:spcBef>
                <a:spcPts val="751"/>
              </a:spcBef>
              <a:buClr>
                <a:srgbClr val="c465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B6D07-EFD6-4B1B-AEB1-2081AF8AA621}" type="slidenum"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273a"/>
            </a:gs>
            <a:gs pos="100000">
              <a:srgbClr val="7c7d8c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abadkézi sokszög 10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Szabadkézi sokszög 12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488960" indent="-182520">
              <a:spcBef>
                <a:spcPts val="751"/>
              </a:spcBef>
              <a:buClr>
                <a:srgbClr val="c465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99AF-A0AB-41CC-B4BF-116255B25994}" type="slidenum"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488960" indent="-182520">
              <a:spcBef>
                <a:spcPts val="751"/>
              </a:spcBef>
              <a:buClr>
                <a:srgbClr val="c465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3659-1EE0-4A6C-BFEA-CE937B2DDECD}" type="slidenum"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zabadkézi sokszög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Szabadkézi sokszög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488960" indent="-182520">
              <a:spcBef>
                <a:spcPts val="751"/>
              </a:spcBef>
              <a:buClr>
                <a:srgbClr val="c465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7C349-E1AD-444F-9C18-43A6163E4C0D}" type="slidenum"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2445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53548a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751"/>
              </a:spcBef>
              <a:buClr>
                <a:srgbClr val="53548a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004760" indent="-255600">
              <a:spcBef>
                <a:spcPts val="75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3" marL="1279440" indent="-236520">
              <a:spcBef>
                <a:spcPts val="751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488960" indent="-182520">
              <a:spcBef>
                <a:spcPts val="751"/>
              </a:spcBef>
              <a:buClr>
                <a:srgbClr val="c4652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3a3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92E6-58C2-4DC0-AA66-DDFD6A3B908F}" type="slidenum">
              <a:rPr b="0" lang="hu-HU" sz="1000" spc="-1" strike="noStrike">
                <a:solidFill>
                  <a:srgbClr val="a3a3a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Cím 6" descr=""/>
          <p:cNvPicPr/>
          <p:nvPr/>
        </p:nvPicPr>
        <p:blipFill>
          <a:blip r:embed="rId1"/>
          <a:stretch/>
        </p:blipFill>
        <p:spPr>
          <a:xfrm>
            <a:off x="420840" y="3206880"/>
            <a:ext cx="6949800" cy="243828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33440" y="154476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Calibri"/>
              </a:rPr>
              <a:t>Nagy Zsolt Projektmenedzsmen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Calibri"/>
              </a:rPr>
              <a:t>és Király Zsolt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A projekttervezés és menedzselés alapjai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Calibri"/>
              </a:rPr>
              <a:t>jegyzete alapján készítette: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Calibri"/>
              </a:rPr>
              <a:t>Biró Erzsébe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A projekt fogalma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 algn="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hu-HU" sz="23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0" lang="hu-HU" sz="2300" spc="-1" strike="noStrike">
                <a:solidFill>
                  <a:srgbClr val="ffffff"/>
                </a:solidFill>
                <a:latin typeface="Calibri"/>
              </a:rPr>
              <a:t>A projekt egy nem megszokott, nem ismétlődő feladat, különálló időbeli, pénzügyi, és technikai megvalósítási célokkal.”</a:t>
            </a:r>
            <a:r>
              <a:rPr b="0" lang="hu-HU" sz="23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hu-HU" sz="23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hu-HU" sz="23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hu-HU" sz="23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hu-HU" sz="2300" spc="-1" strike="noStrike">
                <a:solidFill>
                  <a:srgbClr val="ffffff"/>
                </a:solidFill>
                <a:latin typeface="Calibri"/>
              </a:rPr>
              <a:t>       /Harrison, 1995/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 algn="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hu-HU" sz="23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0" lang="hu-HU" sz="2300" spc="-1" strike="noStrike">
                <a:solidFill>
                  <a:srgbClr val="ffffff"/>
                </a:solidFill>
                <a:latin typeface="Calibri"/>
              </a:rPr>
              <a:t>Egy speciális cél elérése érdekében végrehajtott komplex munka meghatározott időn, költségen és teljesítményen belül, egyedi és nem a korábbi munkák folytatása”</a:t>
            </a:r>
            <a:r>
              <a:rPr b="0" lang="hu-HU" sz="23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hu-HU" sz="23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hu-HU" sz="23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hu-HU" sz="23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hu-HU" sz="23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hu-HU" sz="2300" spc="-1" strike="noStrike">
                <a:solidFill>
                  <a:srgbClr val="ffffff"/>
                </a:solidFill>
                <a:latin typeface="Calibri"/>
              </a:rPr>
              <a:t>           /Stuckenbruck, 1995/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 algn="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hu-HU" sz="23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0" lang="hu-HU" sz="2300" spc="-1" strike="noStrike">
                <a:solidFill>
                  <a:srgbClr val="ffffff"/>
                </a:solidFill>
                <a:latin typeface="Calibri"/>
              </a:rPr>
              <a:t>A projekt egy olyan egyedi folyamatrendszer, amely kezelési és befejezési időpontokkal megjelölt, specifikus követelményeknek – határidő, költség, erőforrás – megfelelő célkitűzés elérése érdekében vállalt, koordinált és kontrollált tevékenységek csoportja.”</a:t>
            </a:r>
            <a:br>
              <a:rPr sz="2300"/>
            </a:br>
            <a:r>
              <a:rPr b="0" lang="hu-HU" sz="23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hu-HU" sz="23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hu-HU" sz="2300" spc="-1" strike="noStrike">
                <a:solidFill>
                  <a:srgbClr val="ffffff"/>
                </a:solidFill>
                <a:latin typeface="Calibri"/>
              </a:rPr>
              <a:t>     /ISO 8402, 1994/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A projekt fogalma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6840" y="1600200"/>
            <a:ext cx="532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A projekt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Mindazon feladatok összessége, melyek egyszeri, komplex tevékenységfolyamatok által megoldhatók, jól körülhatárolt célt képesek elérni előre rögzített határidőre és teljesítményen, adott költségkereten belül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9" name="Picture 1" descr="zsalu4"/>
          <p:cNvPicPr/>
          <p:nvPr/>
        </p:nvPicPr>
        <p:blipFill>
          <a:blip r:embed="rId1"/>
          <a:stretch/>
        </p:blipFill>
        <p:spPr>
          <a:xfrm>
            <a:off x="5715000" y="2428920"/>
            <a:ext cx="34290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A projekt ( a tervezés álneve)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Pontosan meghatározott célok (eredmények) elérése megadott időre adott költségkeret mellet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Kezdési és befejezési időpont adot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Egyszeri tevékenység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Összetettség, komplexitá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Saját szervezeti háttér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Tapasztalat alkalmazhatósága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A projekt fogalma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A projekt általános ismérvei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megvalósítandó céllal rendelkezik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projektterv alapján készül el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adott idő- és költségkerettel rendelkezik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költségterve projektidőre bontot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minőségi követelményekkel kell számolni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bizonytalansági tényezők, akadályok nehezítik a megvalósulás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kockázati tényezők, reakciók eltérőek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77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7" dur="77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9" dur="77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1" dur="77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10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4000"/>
                            </p:stCondLst>
                            <p:childTnLst>
                              <p:par>
                                <p:cTn id="16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0"/>
                            </p:stCondLst>
                            <p:childTnLst>
                              <p:par>
                                <p:cTn id="17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6000"/>
                            </p:stCondLst>
                            <p:childTnLst>
                              <p:par>
                                <p:cTn id="17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Projektek csoportosítása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Csoportosítási lehetőségek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alapcsoportosítá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végeredmény szerin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beruházó és vállalkozó tulajdonosi elkülönültsége alapjá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egyéb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Lockyer és Gordon (2000) szerin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0" y="6524640"/>
            <a:ext cx="11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Calibri"/>
              </a:rPr>
              <a:t>KRF © 2005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00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Projektek csoportosítása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Alapcsoportosítás (Papp O., 1995)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Műszaki projek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egyszeri és összetett tevékenységfolya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végeredménye előre meghatározott műszaki paraméterekkel  leírható, önmagában működőképes létesítmény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megvalósítása pénzben és időben meghatározot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pl.: családi ház, kollégiumi épüle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0" y="6524640"/>
            <a:ext cx="11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Calibri"/>
              </a:rPr>
              <a:t>KRF © 2005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Projektek csoportosítása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Innovációs projek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új termékek kifejlesztésére irányu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eredménye új termék, technológia vag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meglévő termék, technológia javulás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Pl.: szoftver, termesztési technológi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Mega projek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megvalósításához sok ember szüksége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rövid időszak alatt, intenzív periódu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folyamatos szervezeti átszervezéseket igény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szervezeti formák felcserélhetők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Pl.: olimpia, világbajnoksá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0" y="6524640"/>
            <a:ext cx="11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Calibri"/>
              </a:rPr>
              <a:t>KRF © 2005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3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3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3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Projektek csoportosítása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Végeredmény szerint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széria-jellegű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önmagában egysége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Beruházó és a vállalkozó tulajdonos elkülönültsége alapján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belső projek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külső projek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bel-üzleti projek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0" y="6524640"/>
            <a:ext cx="11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Calibri"/>
              </a:rPr>
              <a:t>KRF © 2005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Projektek csoportosítása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Egyéb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beruházási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kutatási és fejlesztési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szellemi-szolgáltatási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Lockyer és Gordon szerint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jövedelemprojek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tőkeprojek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0" y="6524640"/>
            <a:ext cx="11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Calibri"/>
              </a:rPr>
              <a:t>KRF © 2005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100" spc="-1" strike="noStrike">
                <a:solidFill>
                  <a:srgbClr val="ffffff"/>
                </a:solidFill>
                <a:latin typeface="Calibri"/>
              </a:rPr>
              <a:t>Projekteredmény, projektmenedzsment</a:t>
            </a:r>
            <a:endParaRPr b="0" lang="en-US" sz="4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Projekteredmény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A projekt megvalósításával elérendő anyagi és immateriális célok összessége, a funkcióhordozók (célok elérését biztosító eszközök) struktúrájának segítségével azonosítható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Projektmenedzsment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Olyan vezetési és irányítási folyamat, melynek célja, hogy a rendelkezésre álló idő- és erőforrás korlátok mellett a projekt eredményesen megvalósuljo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0" y="6524640"/>
            <a:ext cx="11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Calibri"/>
              </a:rPr>
              <a:t>KRF © 2005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385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7" dur="385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9" dur="385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1" dur="385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385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4" dur="385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6" dur="385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8" dur="385" fill="hold"/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3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A tantárgy főbb fejezetei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Projekttervezés és menedzselés elméleti alapjai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Projektek gazdasági értékelése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Projekt időtervezése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Előminősítés, versenyeztetés; szerződé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Közbeszerzé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Projekt költségmenedzsmentje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Projektfinanszírozá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Szervezeti formák, projekt team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Kockázatmenedzsmen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Projektek lezárása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A projekt-team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A projekt-team egy olyan csoport, ahova minden szakterület küld egy-egy képviselőt, így a feladatmegoldás során mindenki a saját szakmai érdekviszonyait képviseli.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Ebből következik, hogy a projekt konfliktussal jár, a projektmenedzser feladatai között fontos szerepet játszik a </a:t>
            </a:r>
            <a:r>
              <a:rPr b="1" lang="hu-HU" sz="2800" spc="-1" strike="noStrike">
                <a:solidFill>
                  <a:srgbClr val="ffffff"/>
                </a:solidFill>
                <a:latin typeface="Calibri"/>
              </a:rPr>
              <a:t>konfliktuskezelés</a:t>
            </a: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, amíg a konfliktusban álló érték- és érdekviszonyok között a lehető legjobb (nyilvánvalóan kompromisszumos) megoldást megtalálják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15" name="Picture 1" descr="PE01561_"/>
          <p:cNvPicPr/>
          <p:nvPr/>
        </p:nvPicPr>
        <p:blipFill>
          <a:blip r:embed="rId1"/>
          <a:stretch/>
        </p:blipFill>
        <p:spPr>
          <a:xfrm>
            <a:off x="6859440" y="0"/>
            <a:ext cx="2284560" cy="15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A projektek szereplői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317" name="Group 2"/>
          <p:cNvGrpSpPr/>
          <p:nvPr/>
        </p:nvGrpSpPr>
        <p:grpSpPr>
          <a:xfrm>
            <a:off x="1357200" y="1643040"/>
            <a:ext cx="6643440" cy="4929120"/>
            <a:chOff x="1357200" y="1643040"/>
            <a:chExt cx="6643440" cy="4929120"/>
          </a:xfrm>
        </p:grpSpPr>
        <p:grpSp>
          <p:nvGrpSpPr>
            <p:cNvPr id="318" name="Text Box 3"/>
            <p:cNvGrpSpPr/>
            <p:nvPr/>
          </p:nvGrpSpPr>
          <p:grpSpPr>
            <a:xfrm>
              <a:off x="3205800" y="4502880"/>
              <a:ext cx="2941920" cy="2069280"/>
              <a:chOff x="3205800" y="4502880"/>
              <a:chExt cx="2941920" cy="2069280"/>
            </a:xfrm>
          </p:grpSpPr>
          <p:pic>
            <p:nvPicPr>
              <p:cNvPr id="319" name="Text Box 3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5800" y="4502880"/>
                <a:ext cx="2941920" cy="2069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"/>
              <p:cNvSpPr/>
              <p:nvPr/>
            </p:nvSpPr>
            <p:spPr>
              <a:xfrm>
                <a:off x="3288960" y="4583520"/>
                <a:ext cx="2775960" cy="19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2400" spc="-1" strike="noStrike">
                    <a:solidFill>
                      <a:srgbClr val="000000"/>
                    </a:solidFill>
                    <a:latin typeface="Calibri"/>
                  </a:rPr>
                  <a:t>Projektmenedzser</a:t>
                </a:r>
                <a:endParaRPr b="0" lang="en-US" sz="24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 algn="ctr"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ff"/>
                  </a:solidFill>
                  <a:latin typeface="Calibri"/>
                </a:endParaRPr>
              </a:p>
              <a:p>
                <a:pPr algn="ctr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2400" spc="-1" strike="noStrike">
                    <a:solidFill>
                      <a:srgbClr val="000000"/>
                    </a:solidFill>
                    <a:latin typeface="Calibri"/>
                  </a:rPr>
                  <a:t>A projekten dolgozó csoport (team)</a:t>
                </a:r>
                <a:br>
                  <a:rPr sz="2400"/>
                </a:br>
                <a:r>
                  <a:rPr b="0" lang="hu-HU" sz="2400" spc="-1" strike="noStrike">
                    <a:solidFill>
                      <a:srgbClr val="000000"/>
                    </a:solidFill>
                    <a:latin typeface="Calibri"/>
                  </a:rPr>
                  <a:t>(projektkoordinátor)</a:t>
                </a:r>
                <a:endParaRPr b="0" lang="en-US" sz="2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321" name="Text Box 4"/>
            <p:cNvGrpSpPr/>
            <p:nvPr/>
          </p:nvGrpSpPr>
          <p:grpSpPr>
            <a:xfrm>
              <a:off x="3514320" y="1643040"/>
              <a:ext cx="2323440" cy="737280"/>
              <a:chOff x="3514320" y="1643040"/>
              <a:chExt cx="2323440" cy="737280"/>
            </a:xfrm>
          </p:grpSpPr>
          <p:pic>
            <p:nvPicPr>
              <p:cNvPr id="322" name="Text Box 4" descr=""/>
              <p:cNvPicPr/>
              <p:nvPr/>
            </p:nvPicPr>
            <p:blipFill>
              <a:blip r:embed="rId2"/>
              <a:stretch/>
            </p:blipFill>
            <p:spPr>
              <a:xfrm>
                <a:off x="3514320" y="1643040"/>
                <a:ext cx="232344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3" name=""/>
              <p:cNvSpPr/>
              <p:nvPr/>
            </p:nvSpPr>
            <p:spPr>
              <a:xfrm>
                <a:off x="3597120" y="1722600"/>
                <a:ext cx="2158920" cy="57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2400" spc="-1" strike="noStrike">
                    <a:solidFill>
                      <a:srgbClr val="000000"/>
                    </a:solidFill>
                    <a:latin typeface="Calibri"/>
                  </a:rPr>
                  <a:t>Vállalatvezető</a:t>
                </a:r>
                <a:endParaRPr b="0" lang="en-US" sz="2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324" name="Text Box 5"/>
            <p:cNvGrpSpPr/>
            <p:nvPr/>
          </p:nvGrpSpPr>
          <p:grpSpPr>
            <a:xfrm>
              <a:off x="1357200" y="2397240"/>
              <a:ext cx="2323440" cy="737280"/>
              <a:chOff x="1357200" y="2397240"/>
              <a:chExt cx="2323440" cy="737280"/>
            </a:xfrm>
          </p:grpSpPr>
          <p:pic>
            <p:nvPicPr>
              <p:cNvPr id="325" name="Text Box 5" descr=""/>
              <p:cNvPicPr/>
              <p:nvPr/>
            </p:nvPicPr>
            <p:blipFill>
              <a:blip r:embed="rId3"/>
              <a:stretch/>
            </p:blipFill>
            <p:spPr>
              <a:xfrm>
                <a:off x="1357200" y="2397240"/>
                <a:ext cx="232344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6" name=""/>
              <p:cNvSpPr/>
              <p:nvPr/>
            </p:nvSpPr>
            <p:spPr>
              <a:xfrm>
                <a:off x="1438200" y="2481840"/>
                <a:ext cx="2158920" cy="57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2400" spc="-1" strike="noStrike">
                    <a:solidFill>
                      <a:srgbClr val="000000"/>
                    </a:solidFill>
                    <a:latin typeface="Calibri"/>
                  </a:rPr>
                  <a:t>Döntéshozó</a:t>
                </a:r>
                <a:endParaRPr b="0" lang="en-US" sz="2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grpSp>
          <p:nvGrpSpPr>
            <p:cNvPr id="327" name="Text Box 6"/>
            <p:cNvGrpSpPr/>
            <p:nvPr/>
          </p:nvGrpSpPr>
          <p:grpSpPr>
            <a:xfrm>
              <a:off x="5671440" y="2397240"/>
              <a:ext cx="2329200" cy="737280"/>
              <a:chOff x="5671440" y="2397240"/>
              <a:chExt cx="2329200" cy="737280"/>
            </a:xfrm>
          </p:grpSpPr>
          <p:pic>
            <p:nvPicPr>
              <p:cNvPr id="328" name="Text Box 6" descr=""/>
              <p:cNvPicPr/>
              <p:nvPr/>
            </p:nvPicPr>
            <p:blipFill>
              <a:blip r:embed="rId4"/>
              <a:stretch/>
            </p:blipFill>
            <p:spPr>
              <a:xfrm>
                <a:off x="5671440" y="2397240"/>
                <a:ext cx="232920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9" name=""/>
              <p:cNvSpPr/>
              <p:nvPr/>
            </p:nvSpPr>
            <p:spPr>
              <a:xfrm>
                <a:off x="5755680" y="2481840"/>
                <a:ext cx="2158560" cy="57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2400" spc="-1" strike="noStrike">
                    <a:solidFill>
                      <a:srgbClr val="000000"/>
                    </a:solidFill>
                    <a:latin typeface="Calibri"/>
                  </a:rPr>
                  <a:t>Végfelhasználó</a:t>
                </a:r>
                <a:endParaRPr b="0" lang="en-US" sz="2400" spc="-1" strike="noStrike">
                  <a:solidFill>
                    <a:srgbClr val="ffffff"/>
                  </a:solidFill>
                  <a:latin typeface="Calibri"/>
                </a:endParaRPr>
              </a:p>
            </p:txBody>
          </p:sp>
        </p:grpSp>
        <p:sp>
          <p:nvSpPr>
            <p:cNvPr id="330" name="Line 7"/>
            <p:cNvSpPr/>
            <p:nvPr/>
          </p:nvSpPr>
          <p:spPr>
            <a:xfrm>
              <a:off x="4676760" y="2294640"/>
              <a:ext cx="720" cy="2288520"/>
            </a:xfrm>
            <a:prstGeom prst="line">
              <a:avLst/>
            </a:prstGeom>
            <a:ln w="76320">
              <a:solidFill>
                <a:srgbClr val="ebebe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1" name="Line 8"/>
            <p:cNvSpPr/>
            <p:nvPr/>
          </p:nvSpPr>
          <p:spPr>
            <a:xfrm>
              <a:off x="2482560" y="3035160"/>
              <a:ext cx="2039760" cy="1548000"/>
            </a:xfrm>
            <a:prstGeom prst="line">
              <a:avLst/>
            </a:prstGeom>
            <a:ln w="76320">
              <a:solidFill>
                <a:srgbClr val="ebebe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2" name="Line 9"/>
            <p:cNvSpPr/>
            <p:nvPr/>
          </p:nvSpPr>
          <p:spPr>
            <a:xfrm flipH="1">
              <a:off x="4831200" y="3103920"/>
              <a:ext cx="2039760" cy="1478880"/>
            </a:xfrm>
            <a:prstGeom prst="line">
              <a:avLst/>
            </a:prstGeom>
            <a:ln w="76320">
              <a:solidFill>
                <a:srgbClr val="ebebeb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33" name="Line 10"/>
            <p:cNvSpPr/>
            <p:nvPr/>
          </p:nvSpPr>
          <p:spPr>
            <a:xfrm>
              <a:off x="3288960" y="5155200"/>
              <a:ext cx="27756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A döntéshozó feladatai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ffffff"/>
                </a:solidFill>
                <a:latin typeface="Calibri"/>
              </a:rPr>
              <a:t>A projekttel kapcsolatban a vállalatvezető általában nem tartja magánál a felelősséget, hanem vezetőtársai közül megnevez egy </a:t>
            </a:r>
            <a:r>
              <a:rPr b="0" i="1" lang="hu-HU" sz="2300" spc="-1" strike="noStrike">
                <a:solidFill>
                  <a:srgbClr val="ffffff"/>
                </a:solidFill>
                <a:latin typeface="Calibri"/>
              </a:rPr>
              <a:t>Döntéshozó</a:t>
            </a:r>
            <a:r>
              <a:rPr b="0" lang="hu-HU" sz="2300" spc="-1" strike="noStrike">
                <a:solidFill>
                  <a:srgbClr val="ffffff"/>
                </a:solidFill>
                <a:latin typeface="Calibri"/>
              </a:rPr>
              <a:t>-t, aki a projekt tervezési és megvalósítási szakaszában a </a:t>
            </a:r>
            <a:r>
              <a:rPr b="1" lang="hu-HU" sz="2300" spc="-1" strike="noStrike">
                <a:solidFill>
                  <a:srgbClr val="ffffff"/>
                </a:solidFill>
                <a:latin typeface="Calibri"/>
              </a:rPr>
              <a:t>projektmenedzser partnere </a:t>
            </a:r>
            <a:r>
              <a:rPr b="0" lang="hu-HU" sz="2300" spc="-1" strike="noStrike">
                <a:solidFill>
                  <a:srgbClr val="ffffff"/>
                </a:solidFill>
                <a:latin typeface="Calibri"/>
              </a:rPr>
              <a:t>lesz, meghozza a projektet érintő döntéseket, rendelkezik a szükséges erőforrások felett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ffffff"/>
                </a:solidFill>
                <a:latin typeface="Calibri"/>
              </a:rPr>
              <a:t>A döntéshozó feladatai: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lvl="1" marL="714600" indent="-2700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Calibri"/>
              </a:rPr>
              <a:t>döntést hoz arról, hogy a projekt egyik életciklus-fázisából a következőbe léphessen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14600" indent="-2700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Calibri"/>
              </a:rPr>
              <a:t>döntés a megvalósításró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14600" indent="-2700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Calibri"/>
              </a:rPr>
              <a:t>sikeresnek vagy sikertelennek nyilvánítja a projektet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14600" indent="-2700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Calibri"/>
              </a:rPr>
              <a:t>a megvalósítás során a változtatások engedélyezés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14600" indent="-2700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Calibri"/>
              </a:rPr>
              <a:t>a megvalósítás során rendszeres ellenőrzé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14600" indent="-2700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Calibri"/>
              </a:rPr>
              <a:t>a minőségi ellenőrzés irányítás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1" marL="714600" indent="-2700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Calibri"/>
              </a:rPr>
              <a:t>értékeli a projektet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A projektmenedzser feladatai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Calibri"/>
              </a:rPr>
              <a:t>A </a:t>
            </a:r>
            <a:r>
              <a:rPr b="0" i="1" lang="hu-HU" sz="2100" spc="-1" strike="noStrike">
                <a:solidFill>
                  <a:srgbClr val="ffffff"/>
                </a:solidFill>
                <a:latin typeface="Calibri"/>
              </a:rPr>
              <a:t>Projektmenedzser</a:t>
            </a:r>
            <a:r>
              <a:rPr b="0" lang="hu-HU" sz="2100" spc="-1" strike="noStrike">
                <a:solidFill>
                  <a:srgbClr val="ffffff"/>
                </a:solidFill>
                <a:latin typeface="Calibri"/>
              </a:rPr>
              <a:t> felel a projekt hatékony működéséért. A fenti kommunikációs ábra középpontjában helyezkedik el. A projekt sikere legfőképpen az ő </a:t>
            </a:r>
            <a:r>
              <a:rPr b="1" lang="hu-HU" sz="2100" spc="-1" strike="noStrike">
                <a:solidFill>
                  <a:srgbClr val="ffffff"/>
                </a:solidFill>
                <a:latin typeface="Calibri"/>
              </a:rPr>
              <a:t>szakmai hozzáértésétől és eredményes munkájától függ</a:t>
            </a:r>
            <a:r>
              <a:rPr b="0" lang="hu-HU" sz="21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ffff"/>
                </a:solidFill>
                <a:latin typeface="Calibri"/>
              </a:rPr>
              <a:t>A projektmenedzser feladatai:</a:t>
            </a:r>
            <a:endParaRPr b="0" lang="en-US" sz="21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a projekt tervének elkészítés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csapatépítés, a csapaton belüli kompetenciák és felelősségek meghatározás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a csapattagok motiválás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az ellenőrzési pontok, mérföldkövek megállapítás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kommunikáció a projektcsoporton belül és a többi érintett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a tervezetthez képesti változtatások dokumentálása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jelentések készítése (projektindító dokumentáció, a projekt zárójelentése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Calibri"/>
              </a:rPr>
              <a:t>a tervezett és a ténylegesen megvalósított munka összehasonlítása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Végfelhasználók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A projekt eredményét a </a:t>
            </a:r>
            <a:r>
              <a:rPr b="0" i="1" lang="hu-HU" sz="2600" spc="-1" strike="noStrike">
                <a:solidFill>
                  <a:srgbClr val="ffffff"/>
                </a:solidFill>
                <a:latin typeface="Calibri"/>
              </a:rPr>
              <a:t>Végfelhasználók</a:t>
            </a: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 fogják majd hasznosítani a projekt befejezése után. Vegyünk például egy olyan projektet, ami egy ISO szabvány szerinti minőségirányítási rendszer kiépítésére irányul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A végfelhasználók ebben az esetben azok a munkatársak, akik munkájuk során alkalmazni a fogják a minőségirányítási rendszer előírásait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A projekt sikere szempontjából </a:t>
            </a:r>
            <a:r>
              <a:rPr b="1" lang="hu-HU" sz="2600" spc="-1" strike="noStrike">
                <a:solidFill>
                  <a:srgbClr val="ffffff"/>
                </a:solidFill>
                <a:latin typeface="Calibri"/>
              </a:rPr>
              <a:t>kulcsfontosságú</a:t>
            </a: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, hogy a rendszerrel kapcsolatos elvárásaik kiderüljenek, a </a:t>
            </a:r>
            <a:r>
              <a:rPr b="1" lang="hu-HU" sz="2600" spc="-1" strike="noStrike">
                <a:solidFill>
                  <a:srgbClr val="ffffff"/>
                </a:solidFill>
                <a:latin typeface="Calibri"/>
              </a:rPr>
              <a:t>rendszerépítés során bevonják őket</a:t>
            </a: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, és folyamatos egyeztetés legyen közöttük és a projektcsoport közöt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A projekten dolgozó csoport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3000" spc="-1" strike="noStrike">
                <a:solidFill>
                  <a:srgbClr val="ffffff"/>
                </a:solidFill>
                <a:latin typeface="Calibri"/>
              </a:rPr>
              <a:t>A projekten dolgozó csoport</a:t>
            </a: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 felállításáról a fentiekben már kiderült, hogy a vállalat különböző funkcionális szakterületei delegálnak oda munkatársakat, de ha ez indokolt, külső szakértőkkel is kiegészülhet.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Nagyobb projekteknél szükség lehet egy </a:t>
            </a:r>
            <a:r>
              <a:rPr b="0" i="1" lang="hu-HU" sz="3000" spc="-1" strike="noStrike">
                <a:solidFill>
                  <a:srgbClr val="ffffff"/>
                </a:solidFill>
                <a:latin typeface="Calibri"/>
              </a:rPr>
              <a:t>Projektkoordinátor</a:t>
            </a: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ra, aki a projektmenedzser munkáját segíti, természetesen kisebb projekteknél a költségvetés ezt nem teszi lehetővé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100" spc="-1" strike="noStrike">
                <a:solidFill>
                  <a:srgbClr val="ffffff"/>
                </a:solidFill>
                <a:latin typeface="Calibri"/>
              </a:rPr>
              <a:t>A klasszikus menedzsment funkciója</a:t>
            </a:r>
            <a:endParaRPr b="0" lang="en-US" sz="4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Két alapfunkció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célkitűzések állítása és elfogadás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célkitűzések végrehajtása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A klasszikus menedzsment öt funkciója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tervezé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szervezé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személyzet felvétel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0000"/>
                </a:solidFill>
                <a:latin typeface="Calibri"/>
              </a:rPr>
              <a:t>!!!ellenőrzés!!! </a:t>
            </a: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(pénz, munkaerő, gépek, berendezések, lehetőségek, anyagok, információ technológia)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5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irányítá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0" y="6524640"/>
            <a:ext cx="11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Calibri"/>
              </a:rPr>
              <a:t>KRF © 2005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100" spc="-1" strike="noStrike">
                <a:solidFill>
                  <a:srgbClr val="ffffff"/>
                </a:solidFill>
                <a:latin typeface="Calibri"/>
              </a:rPr>
              <a:t>A projektmenedzsment funkciója</a:t>
            </a:r>
            <a:endParaRPr b="0" lang="en-US" sz="4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A menedzser tevékenységével összhangban lévő funkciók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4" marL="1488960" indent="-182520">
              <a:spcBef>
                <a:spcPts val="499"/>
              </a:spcBef>
              <a:buClr>
                <a:srgbClr val="c4652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0" y="6524640"/>
            <a:ext cx="11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Calibri"/>
              </a:rPr>
              <a:t>KRF © 2005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1547640" y="2565360"/>
            <a:ext cx="568836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Tervezé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Szervezé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Motiváció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Irányítá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  <a:p>
            <a:pPr lvl="4" marL="21718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Ellenőrzés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100" spc="-1" strike="noStrike">
                <a:solidFill>
                  <a:srgbClr val="ffffff"/>
                </a:solidFill>
                <a:latin typeface="Calibri"/>
              </a:rPr>
              <a:t>A projektmenedzsment funkciója</a:t>
            </a:r>
            <a:endParaRPr b="0" lang="en-US" sz="4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Tervezé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1004760" indent="-255600">
              <a:lnSpc>
                <a:spcPct val="80000"/>
              </a:lnSpc>
              <a:spcBef>
                <a:spcPts val="499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Calibri"/>
              </a:rPr>
              <a:t>projekt céljainak meghatározás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004760" indent="-255600">
              <a:lnSpc>
                <a:spcPct val="80000"/>
              </a:lnSpc>
              <a:spcBef>
                <a:spcPts val="499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Calibri"/>
              </a:rPr>
              <a:t>erőforrások felhasználási módjának leírás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Szervezé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1004760" indent="-255600">
              <a:lnSpc>
                <a:spcPct val="80000"/>
              </a:lnSpc>
              <a:spcBef>
                <a:spcPts val="499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Calibri"/>
              </a:rPr>
              <a:t>erőforrások mennyiségi, minőségi meghatározás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004760" indent="-255600">
              <a:lnSpc>
                <a:spcPct val="80000"/>
              </a:lnSpc>
              <a:spcBef>
                <a:spcPts val="499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Calibri"/>
              </a:rPr>
              <a:t>erőforrások beszerzésének, kijelölésének és fejlesztésének meghatározás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Motiváció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1004760" indent="-255600">
              <a:lnSpc>
                <a:spcPct val="80000"/>
              </a:lnSpc>
              <a:spcBef>
                <a:spcPts val="499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Calibri"/>
              </a:rPr>
              <a:t>megfelelő környezet kialakítása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Irányítá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1004760" indent="-255600">
              <a:lnSpc>
                <a:spcPct val="80000"/>
              </a:lnSpc>
              <a:spcBef>
                <a:spcPts val="499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Calibri"/>
              </a:rPr>
              <a:t>beosztottak fölötti személyes ellenőrzés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Ellenőrzé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2" marL="1004760" indent="-255600">
              <a:lnSpc>
                <a:spcPct val="80000"/>
              </a:lnSpc>
              <a:spcBef>
                <a:spcPts val="499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Calibri"/>
              </a:rPr>
              <a:t>végrehajtási szabvány fejlesztése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1488960" indent="-182520">
              <a:lnSpc>
                <a:spcPct val="80000"/>
              </a:lnSpc>
              <a:spcBef>
                <a:spcPts val="499"/>
              </a:spcBef>
              <a:buClr>
                <a:srgbClr val="c4652d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0" y="6524640"/>
            <a:ext cx="11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Calibri"/>
              </a:rPr>
              <a:t>KRF © 2005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3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3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3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3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A menedzsment funkciója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A hatékony menedzsment által megkövetelt elemek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2" marL="1004760" indent="-255600">
              <a:spcBef>
                <a:spcPts val="60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kvantitatív eszközök és technikák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279440" indent="-236520">
              <a:spcBef>
                <a:spcPts val="499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Calibri"/>
              </a:rPr>
              <a:t>(munkák tervezése, ütemezése,ellenőrzése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004760" indent="-255600">
              <a:spcBef>
                <a:spcPts val="60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szervezeti struktúrák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279440" indent="-236520">
              <a:spcBef>
                <a:spcPts val="499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Calibri"/>
              </a:rPr>
              <a:t>(vonalbeli szervezet működési szerkezete, hatáskörök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1004760" indent="-255600">
              <a:spcBef>
                <a:spcPts val="601"/>
              </a:spcBef>
              <a:buClr>
                <a:srgbClr val="438086"/>
              </a:buClr>
              <a:buSzPct val="85000"/>
              <a:buFont typeface="Arial"/>
              <a:buChar char="○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szervezeti magatartá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279440" indent="-236520">
              <a:spcBef>
                <a:spcPts val="499"/>
              </a:spcBef>
              <a:buClr>
                <a:srgbClr val="a04da3"/>
              </a:buClr>
              <a:buSzPct val="9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Calibri"/>
              </a:rPr>
              <a:t>(beosztottak – vezetők)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0" y="6524640"/>
            <a:ext cx="11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Calibri"/>
              </a:rPr>
              <a:t>KRF © 2005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0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Projekttervezés alapjai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Projekt fogalma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Projekteredmény, projektmenedzsmen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Projektek csoportosítása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A menedzsment funkciója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Projekt ciklu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A megvalósulási folyamat szereplői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Tevékenységek közötti kapcsolatok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5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A menedzsment feladatai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Projekt team összeállítása (szaktudás alapján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Technikai feladatok meghatározása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Projekt tervezés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Változások kezelés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Feladat ellenőrzése (költség, idő, minőség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0" y="6524640"/>
            <a:ext cx="11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Calibri"/>
              </a:rPr>
              <a:t>KRF © 2005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000"/>
                            </p:stCondLst>
                            <p:childTnLst>
                              <p:par>
                                <p:cTn id="5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500"/>
                            </p:stCondLst>
                            <p:childTnLst>
                              <p:par>
                                <p:cTn id="5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000"/>
                            </p:stCondLst>
                            <p:childTnLst>
                              <p:par>
                                <p:cTn id="5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100" spc="-1" strike="noStrike">
                <a:solidFill>
                  <a:srgbClr val="ffffff"/>
                </a:solidFill>
                <a:latin typeface="Calibri"/>
              </a:rPr>
              <a:t>A projekt életének fontosabb szakaszai</a:t>
            </a:r>
            <a:endParaRPr b="0" lang="en-US" sz="4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Valamennyi projektre érvényes projekt élet-ciklus -modell nem létezik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A különféle projekteket elemezve bizonyos hasonlóságokat felfedezhetünk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a projekt, mint egyedi lebonyolítandó folyama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a projekt, mint egy szervezési, vezetési módszer tárgya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Négyszakaszú projektek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1" name="Diagram 10" descr=""/>
          <p:cNvPicPr/>
          <p:nvPr/>
        </p:nvPicPr>
        <p:blipFill>
          <a:blip r:embed="rId1"/>
          <a:stretch/>
        </p:blipFill>
        <p:spPr>
          <a:xfrm>
            <a:off x="706320" y="1494000"/>
            <a:ext cx="802332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Négyszakaszú projektek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Jellemzői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lezáró, kiértékelő fázist is tartalmaznak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valódi projektirányítási ciklusok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Weiss és Wysocki (1994) 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Általánosan használt élet-ciklu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Öt egységre bontot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spcBef>
                <a:spcPts val="649"/>
              </a:spcBef>
              <a:buClr>
                <a:srgbClr val="ffffff"/>
              </a:buClr>
              <a:buSzPct val="9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Projekt kialakítá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spcBef>
                <a:spcPts val="649"/>
              </a:spcBef>
              <a:buClr>
                <a:srgbClr val="ffffff"/>
              </a:buClr>
              <a:buSzPct val="9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Tervezé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spcBef>
                <a:spcPts val="649"/>
              </a:spcBef>
              <a:buClr>
                <a:srgbClr val="ffffff"/>
              </a:buClr>
              <a:buSzPct val="9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Szervezé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spcBef>
                <a:spcPts val="649"/>
              </a:spcBef>
              <a:buClr>
                <a:srgbClr val="ffffff"/>
              </a:buClr>
              <a:buSzPct val="9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Végrehajtá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971640" indent="-514440">
              <a:spcBef>
                <a:spcPts val="649"/>
              </a:spcBef>
              <a:buClr>
                <a:srgbClr val="ffffff"/>
              </a:buClr>
              <a:buSzPct val="90000"/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Projektlezárá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68" name="Picture 2" descr="proj"/>
          <p:cNvPicPr/>
          <p:nvPr/>
        </p:nvPicPr>
        <p:blipFill>
          <a:blip r:embed="rId1"/>
          <a:stretch/>
        </p:blipFill>
        <p:spPr>
          <a:xfrm>
            <a:off x="-6480" y="-6480"/>
            <a:ext cx="9169560" cy="687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WW életciklus modell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A fő szakaszok közötti átfedő területek azt érzékeltetik, hogy az egyik szakaszból a másikba történő átmenet nem éle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A projekt kialakítási szakaszban javaslatok kerülnek kialakításra, a megvalósíthatóságuk kerül értékelésre. Egy „menjen/ne menjen” döntés zárja le ezt a szakaszt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Egy pozitív „menjen” döntés után a projekt a tervezési szakaszba lép.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Projekt kialakítás feladatai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Követelmények elemzés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Megvalósíthatósági tanulmány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Költség-haszonelemzé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Célok kitűzés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Változatok kialakítása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100" spc="-1" strike="noStrike">
                <a:solidFill>
                  <a:srgbClr val="ffffff"/>
                </a:solidFill>
                <a:latin typeface="Calibri"/>
              </a:rPr>
              <a:t>A tervezési szakaszban elvégzendő feladatok:</a:t>
            </a:r>
            <a:endParaRPr b="0" lang="en-US" sz="4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10400" indent="-37476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A feladatok alábontási rendszere (WBS - Work Breakdown Structure) (</a:t>
            </a:r>
            <a:r>
              <a:rPr b="1" lang="hu-HU" sz="2600" spc="-1" strike="noStrike">
                <a:solidFill>
                  <a:srgbClr val="406f8d"/>
                </a:solidFill>
                <a:latin typeface="Calibri"/>
              </a:rPr>
              <a:t>MIT?</a:t>
            </a: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10400" indent="-37476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A feladatok kivitelezőinek meghatározása (Kompetenciák és felelősségek mátrixa - KFM) (</a:t>
            </a:r>
            <a:r>
              <a:rPr b="1" lang="hu-HU" sz="2600" spc="-1" strike="noStrike">
                <a:solidFill>
                  <a:srgbClr val="406f8d"/>
                </a:solidFill>
                <a:latin typeface="Calibri"/>
              </a:rPr>
              <a:t>KI?</a:t>
            </a: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10400" indent="-37476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A feladatok közötti logikai kapcsolat alapján a kivitelezés technológiája – A projekt hálóterve (</a:t>
            </a:r>
            <a:r>
              <a:rPr b="1" lang="hu-HU" sz="2600" spc="-1" strike="noStrike">
                <a:solidFill>
                  <a:srgbClr val="406f8d"/>
                </a:solidFill>
                <a:latin typeface="Calibri"/>
              </a:rPr>
              <a:t>HOGYAN?</a:t>
            </a: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10400" indent="-37476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A feladatok végrehajtásának időbeli tervezése – Gantt-diagram (</a:t>
            </a:r>
            <a:r>
              <a:rPr b="1" lang="hu-HU" sz="2600" spc="-1" strike="noStrike">
                <a:solidFill>
                  <a:srgbClr val="406f8d"/>
                </a:solidFill>
                <a:latin typeface="Calibri"/>
              </a:rPr>
              <a:t>MIKOR?</a:t>
            </a: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10400" indent="-37476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A kivitelezéshez szükséges erőforrások megtervezése – Erőforrás-tervezés (</a:t>
            </a:r>
            <a:r>
              <a:rPr b="1" lang="hu-HU" sz="2600" spc="-1" strike="noStrike">
                <a:solidFill>
                  <a:srgbClr val="406f8d"/>
                </a:solidFill>
                <a:latin typeface="Calibri"/>
              </a:rPr>
              <a:t>MIVEL?</a:t>
            </a: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10400" indent="-37476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A projekt költségeinek a felmérése (</a:t>
            </a:r>
            <a:r>
              <a:rPr b="1" lang="hu-HU" sz="2600" spc="-1" strike="noStrike">
                <a:solidFill>
                  <a:srgbClr val="406f8d"/>
                </a:solidFill>
                <a:latin typeface="Calibri"/>
              </a:rPr>
              <a:t>MENNYIBŐL?</a:t>
            </a: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10400" indent="-37476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Tervezés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Feladatok rögzítés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Tevékenységek azonosítása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Idő-költség becslé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Team véglegesítés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Értéktervezé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Mi a projekt?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A projekt fogalmát a vállalatok, vállalkozások világára koncentrálva </a:t>
            </a:r>
            <a:r>
              <a:rPr b="1" lang="hu-HU" sz="2800" spc="-1" strike="noStrike">
                <a:solidFill>
                  <a:srgbClr val="ffffff"/>
                </a:solidFill>
                <a:latin typeface="Calibri"/>
              </a:rPr>
              <a:t>három különböző úton</a:t>
            </a: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 közelítjük meg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363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A vállalat menedzsmentje projekteken 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keresztül valósítja meg a stratégiát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363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Megvizsgáljuk a vállalat vezetése 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szerinti tipikus vállalati 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tevékenységeke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363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Meghatározzuk a 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projektmenedzsment </a:t>
            </a:r>
            <a:br>
              <a:rPr sz="2800"/>
            </a:b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alapvető funkciói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indent="363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0" name="Picture 1" descr="BD06663_"/>
          <p:cNvPicPr/>
          <p:nvPr/>
        </p:nvPicPr>
        <p:blipFill>
          <a:blip r:embed="rId1"/>
          <a:stretch/>
        </p:blipFill>
        <p:spPr>
          <a:xfrm>
            <a:off x="5189400" y="3429000"/>
            <a:ext cx="39546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Szervezés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A szervezési szakasz alatt az a cél, hogy a projekt és a szervezet kapcsolata, a projekt-team, az ellenőrzés, a módszerek, a következő szakaszban igényelt kommunikáció kialakításra kerüljenek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Szervezési szakasz feladatai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Csoportok kialakítása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Feladatok sorrendjének meghatározása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A munka felosztása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Ellenőrző módszerek meghatározása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Végrehajtás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Szükséges változtatások meghatározása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Projekt helyzetének áttekintés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Ütemterv áttekintés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Költségfelhasználás áttekintés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Érték követé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100" spc="-1" strike="noStrike">
                <a:solidFill>
                  <a:srgbClr val="ffffff"/>
                </a:solidFill>
                <a:latin typeface="Calibri"/>
              </a:rPr>
              <a:t>A végrehajtás/megvalósítás szakasza tevékenységei</a:t>
            </a:r>
            <a:endParaRPr b="0" lang="en-US" sz="4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kommunikáció a vezetőkkel, megrendelővel, kivitelezőkkel, végfelhasználókkal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változtatások a projekte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a projekt ellenőrzése, nyomon követése a kivitelezés során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a költségek figyelemmel kísérése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minőségellenőrzé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A projektzárás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A projektciklus végső szakasza a projektzárás. A projektcsapat átadja a projekt eredményének a végfelhasználónak. Az értékelés az átadás után következő, tehát záró feladat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Átadási teendők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bevonás,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egyeztetés,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elvárások tisztázása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Projektlezárás feladatai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A végfelhasználók általi elfogadá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Dokumentálá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Utóelemzé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Karbantartá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Befejezés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100" spc="-1" strike="noStrike">
                <a:solidFill>
                  <a:srgbClr val="ffffff"/>
                </a:solidFill>
                <a:latin typeface="Calibri"/>
              </a:rPr>
              <a:t>A projektmegvalósítás szereplői</a:t>
            </a:r>
            <a:endParaRPr b="0" lang="en-US" sz="4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Beruházó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Vállalkozó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Tervező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Mérnök-tanácsadó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Beszállító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ffffff"/>
                </a:solidFill>
                <a:latin typeface="Calibri"/>
              </a:rPr>
              <a:t>Mérnök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0" y="6524640"/>
            <a:ext cx="11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Calibri"/>
              </a:rPr>
              <a:t>KRF © 2005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3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500"/>
                            </p:stCondLst>
                            <p:childTnLst>
                              <p:par>
                                <p:cTn id="5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2500"/>
                            </p:stCondLst>
                            <p:childTnLst>
                              <p:par>
                                <p:cTn id="5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100" spc="-1" strike="noStrike">
                <a:solidFill>
                  <a:srgbClr val="ffffff"/>
                </a:solidFill>
                <a:latin typeface="Calibri"/>
              </a:rPr>
              <a:t>Az idő-költség-minőség háromszöge</a:t>
            </a:r>
            <a:endParaRPr b="0" lang="en-US" sz="4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3" name="Text Box 2"/>
          <p:cNvSpPr/>
          <p:nvPr/>
        </p:nvSpPr>
        <p:spPr>
          <a:xfrm>
            <a:off x="6572160" y="4857840"/>
            <a:ext cx="109224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Idő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4" name="Text Box 3"/>
          <p:cNvSpPr/>
          <p:nvPr/>
        </p:nvSpPr>
        <p:spPr>
          <a:xfrm>
            <a:off x="1143000" y="4786200"/>
            <a:ext cx="181944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Költsé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3429000" y="1428840"/>
            <a:ext cx="2000160" cy="57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Minőség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396" name="Picture 6" descr="hsz"/>
          <p:cNvPicPr/>
          <p:nvPr/>
        </p:nvPicPr>
        <p:blipFill>
          <a:blip r:embed="rId1"/>
          <a:stretch/>
        </p:blipFill>
        <p:spPr>
          <a:xfrm>
            <a:off x="2779560" y="2279520"/>
            <a:ext cx="3657600" cy="34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A stratégia kérdései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1. A vállalat menedzsmentje projekteken keresztül valósítja meg a stratégiát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419040" indent="-382680">
              <a:spcBef>
                <a:spcPts val="751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Calibri"/>
              </a:rPr>
              <a:t>A stratégia 3 fő kérdés köré épül fel: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3" name="Arc 1"/>
          <p:cNvSpPr/>
          <p:nvPr/>
        </p:nvSpPr>
        <p:spPr>
          <a:xfrm rot="8256000">
            <a:off x="3269880" y="2327400"/>
            <a:ext cx="2103480" cy="1828800"/>
          </a:xfrm>
          <a:prstGeom prst="pie">
            <a:avLst/>
          </a:prstGeom>
          <a:noFill/>
          <a:ln w="228600">
            <a:solidFill>
              <a:srgbClr val="c69b7e"/>
            </a:solidFill>
            <a:round/>
            <a:headEnd len="med" type="triangle" w="med"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3160" rIns="83160" tIns="41400" bIns="41400" anchor="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285840" y="3143160"/>
          <a:ext cx="8072280" cy="3143520"/>
        </p:xfrm>
        <a:graphic>
          <a:graphicData uri="http://schemas.openxmlformats.org/drawingml/2006/table">
            <a:tbl>
              <a:tblPr/>
              <a:tblGrid>
                <a:gridCol w="2690640"/>
                <a:gridCol w="2691000"/>
                <a:gridCol w="2690640"/>
              </a:tblGrid>
              <a:tr h="3143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ol tartunk most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elyzetelemzés, pozícióanalízis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hu-H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WO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ogyan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ratégiai akciók és programok megfogalmazás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Hova akarunk eljutni?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élmeghatározá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érdekcsoportok elvárása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üldetés és jövőkép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élok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Vállalat tevékenységei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Calibri"/>
              </a:rPr>
              <a:t>2. Amikor vállalat vezetése végiggondolja a tipikus vállalati tevékenységeket, két csoportot tud elkülöníteni: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Calibri"/>
              </a:rPr>
              <a:t>rutinszerűen ismétlődő</a:t>
            </a: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, a meglévő rendszer keretében megoldandó feladatok, amire folyamatokat fog definiálni, a standard kiváló minőségű folyamat-végrehajtásra minőségirányítási rendszert működtet, ilyen például tipikusan a tömeggyártás,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722160" indent="-27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Calibri"/>
              </a:rPr>
              <a:t>egyedi célok megvalósítására irányuló</a:t>
            </a:r>
            <a:r>
              <a:rPr b="0" lang="hu-HU" sz="2400" spc="-1" strike="noStrike">
                <a:solidFill>
                  <a:srgbClr val="ffffff"/>
                </a:solidFill>
                <a:latin typeface="Calibri"/>
              </a:rPr>
              <a:t>, nagykockázatú, változó összetételű csoportok (teamek) együttműködésén alapuló feladatmegoldás, amire projekteket fog felállítani, ilyen például a terméktervezés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Calibri"/>
              </a:rPr>
              <a:t>Vállalat tevékenységei</a:t>
            </a:r>
            <a:endParaRPr b="0" lang="en-US" sz="4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78" name="Tartalom helye 3" descr=""/>
          <p:cNvPicPr/>
          <p:nvPr/>
        </p:nvPicPr>
        <p:blipFill>
          <a:blip r:embed="rId1"/>
          <a:stretch/>
        </p:blipFill>
        <p:spPr>
          <a:xfrm>
            <a:off x="347760" y="1279440"/>
            <a:ext cx="8388360" cy="1586160"/>
          </a:xfrm>
          <a:prstGeom prst="rect">
            <a:avLst/>
          </a:prstGeom>
          <a:ln w="0">
            <a:noFill/>
          </a:ln>
        </p:spPr>
      </p:pic>
      <p:pic>
        <p:nvPicPr>
          <p:cNvPr id="279" name="Diagram 9" descr=""/>
          <p:cNvPicPr/>
          <p:nvPr/>
        </p:nvPicPr>
        <p:blipFill>
          <a:blip r:embed="rId2"/>
          <a:stretch/>
        </p:blipFill>
        <p:spPr>
          <a:xfrm>
            <a:off x="1633680" y="2786040"/>
            <a:ext cx="636408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100" spc="-1" strike="noStrike">
                <a:solidFill>
                  <a:srgbClr val="ffffff"/>
                </a:solidFill>
                <a:latin typeface="Calibri"/>
              </a:rPr>
              <a:t>Tevékenységcsoportok közötti alapvető különbségek </a:t>
            </a:r>
            <a:endParaRPr b="0" lang="en-US" sz="41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81" name="Tartalom helye 3" descr=""/>
          <p:cNvPicPr/>
          <p:nvPr/>
        </p:nvPicPr>
        <p:blipFill>
          <a:blip r:embed="rId1"/>
          <a:stretch/>
        </p:blipFill>
        <p:spPr>
          <a:xfrm>
            <a:off x="55440" y="1590840"/>
            <a:ext cx="8960040" cy="54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100" spc="-1" strike="noStrike">
                <a:solidFill>
                  <a:srgbClr val="ffffff"/>
                </a:solidFill>
                <a:latin typeface="Calibri"/>
              </a:rPr>
              <a:t>A projektmenedzsment alapvető funkciói</a:t>
            </a:r>
            <a:endParaRPr b="0" lang="en-US" sz="4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100" spc="-1" strike="noStrike">
                <a:solidFill>
                  <a:srgbClr val="ffffff"/>
                </a:solidFill>
                <a:latin typeface="Calibri"/>
              </a:rPr>
              <a:t>3. A projektmenedzsment alapvető funkciói közé tartozik </a:t>
            </a:r>
            <a:r>
              <a:rPr b="1" lang="hu-HU" sz="3100" spc="-1" strike="noStrike">
                <a:solidFill>
                  <a:srgbClr val="ffffff"/>
                </a:solidFill>
                <a:latin typeface="Calibri"/>
              </a:rPr>
              <a:t>a projekt által érintett funkcionális szakterületek tevékenységeinek integrálása</a:t>
            </a:r>
            <a:r>
              <a:rPr b="0" lang="hu-HU" sz="3100" spc="-1" strike="noStrike">
                <a:solidFill>
                  <a:srgbClr val="ffffff"/>
                </a:solidFill>
                <a:latin typeface="Calibri"/>
              </a:rPr>
              <a:t>. 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ffffff"/>
                </a:solidFill>
                <a:latin typeface="Calibri"/>
              </a:rPr>
              <a:t>Ha ugyanis a projektet valamilyen funkcionális szakterülethez rendelnénk, természetesen az ő szempontjai lennének dominánsak, nyilvánvalóan a többi szakterület rovására. 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300" spc="-1" strike="noStrike">
                <a:solidFill>
                  <a:srgbClr val="ffffff"/>
                </a:solidFill>
                <a:latin typeface="Calibri"/>
              </a:rPr>
              <a:t>Mihez vezetne az, ha egy termékfejlesztési feladatot sorra a K+F, a minőségbiztosítás, a marketing, a gyártás kapna meg egyedül? Milyen lenne az így kifejlesztett termék, ami a K+F, a minőségbiztosítás, a marketing, a gyártás szakembere számára a legjobb megoldás?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ffff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04:07:59Z</dcterms:created>
  <dc:creator>Biró Erzsébet</dc:creator>
  <dc:description/>
  <dc:language>en-US</dc:language>
  <cp:lastModifiedBy>habakukk</cp:lastModifiedBy>
  <dcterms:modified xsi:type="dcterms:W3CDTF">2008-11-28T03:39:45Z</dcterms:modified>
  <cp:revision>29</cp:revision>
  <dc:subject/>
  <dc:title>1. dia</dc:title>
</cp:coreProperties>
</file>