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  <p:sldId id="269" r:id="rId39"/>
    <p:sldId id="270" r:id="rId40"/>
    <p:sldId id="271" r:id="rId41"/>
    <p:sldId id="272" r:id="rId42"/>
    <p:sldId id="273" r:id="rId43"/>
    <p:sldId id="274" r:id="rId44"/>
    <p:sldId id="275" r:id="rId45"/>
    <p:sldId id="276" r:id="rId46"/>
    <p:sldId id="277" r:id="rId47"/>
    <p:sldId id="278" r:id="rId48"/>
    <p:sldId id="279" r:id="rId49"/>
    <p:sldId id="280" r:id="rId50"/>
    <p:sldId id="281" r:id="rId51"/>
    <p:sldId id="282" r:id="rId52"/>
    <p:sldId id="283" r:id="rId53"/>
    <p:sldId id="284" r:id="rId54"/>
    <p:sldId id="285" r:id="rId55"/>
    <p:sldId id="286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slide" Target="slides/slide14.xml"/><Relationship Id="rId40" Type="http://schemas.openxmlformats.org/officeDocument/2006/relationships/slide" Target="slides/slide15.xml"/><Relationship Id="rId41" Type="http://schemas.openxmlformats.org/officeDocument/2006/relationships/slide" Target="slides/slide16.xml"/><Relationship Id="rId42" Type="http://schemas.openxmlformats.org/officeDocument/2006/relationships/slide" Target="slides/slide17.xml"/><Relationship Id="rId43" Type="http://schemas.openxmlformats.org/officeDocument/2006/relationships/slide" Target="slides/slide18.xml"/><Relationship Id="rId44" Type="http://schemas.openxmlformats.org/officeDocument/2006/relationships/slide" Target="slides/slide19.xml"/><Relationship Id="rId45" Type="http://schemas.openxmlformats.org/officeDocument/2006/relationships/slide" Target="slides/slide20.xml"/><Relationship Id="rId46" Type="http://schemas.openxmlformats.org/officeDocument/2006/relationships/slide" Target="slides/slide21.xml"/><Relationship Id="rId47" Type="http://schemas.openxmlformats.org/officeDocument/2006/relationships/slide" Target="slides/slide22.xml"/><Relationship Id="rId48" Type="http://schemas.openxmlformats.org/officeDocument/2006/relationships/slide" Target="slides/slide23.xml"/><Relationship Id="rId49" Type="http://schemas.openxmlformats.org/officeDocument/2006/relationships/slide" Target="slides/slide24.xml"/><Relationship Id="rId50" Type="http://schemas.openxmlformats.org/officeDocument/2006/relationships/slide" Target="slides/slide25.xml"/><Relationship Id="rId51" Type="http://schemas.openxmlformats.org/officeDocument/2006/relationships/slide" Target="slides/slide26.xml"/><Relationship Id="rId52" Type="http://schemas.openxmlformats.org/officeDocument/2006/relationships/slide" Target="slides/slide27.xml"/><Relationship Id="rId53" Type="http://schemas.openxmlformats.org/officeDocument/2006/relationships/slide" Target="slides/slide28.xml"/><Relationship Id="rId54" Type="http://schemas.openxmlformats.org/officeDocument/2006/relationships/slide" Target="slides/slide29.xml"/><Relationship Id="rId55" Type="http://schemas.openxmlformats.org/officeDocument/2006/relationships/slide" Target="slides/slide30.xml"/><Relationship Id="rId56" Type="http://schemas.openxmlformats.org/officeDocument/2006/relationships/slide" Target="slides/slide31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E94-46F0-4D3F-B981-82ECF861C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C0B7-611C-46F8-A6BB-2CEF4105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44DD88-646C-46DD-B86D-3BE0DB06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969DB-BE8D-4E14-AE50-C61AFDBA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F5BCCF-EC14-47EB-873E-5788E486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9FF5C-415F-4553-A88B-C6136B48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963F2-8478-4200-B142-B10513FB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042463-2064-44ED-9EEA-2FC3E9A25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110F25-9BB3-4167-AF7A-F2865C4E3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589E4C-F085-4046-A4C9-0F43EBADC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B4860A-81F4-477A-B6D7-76FC12BD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4299-6BA6-4077-A284-34B59245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B9E-AAAE-4FFF-8CC2-9A8EE163E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FBDA8B-D1E4-4E22-882E-DD4D54F62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394DD3-F45B-4ED8-B7D7-CC0D5EABD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8294D9-509E-45B1-AB07-FA25F76E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EEBB26-1DA2-45C8-A5B3-A0B0D60E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CA8C37-902F-4B7A-81B0-0F2F99E95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24615A-ECA2-4413-9502-10E5BB17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2F3ECC-1B19-4E5D-BE83-C54DABA6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4CCBA-D52A-4A6C-B4AA-4A4A8602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B3952-2053-44F9-912D-8CE59B7D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A2899-408B-4793-98A8-107B3BB6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06F1-BDCF-4F85-A7EA-FD033764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7532A3-6AB0-4107-9417-97432D1DF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C0E2F2-91DC-4FDD-83F0-D87932404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C256F-E680-4C80-9D7D-796B5750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C58B6-C01A-408E-9E3A-8CCE55E0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8FB19-48B0-49E2-B9A9-057C93C5B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F34394-7073-4D10-ABF9-E5F8D5E58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7AA83-36F6-47B9-B5EE-894896A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77D511-A2F8-4F10-AA7A-BA21237D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DF262-4DCF-4959-A2DB-068C629F7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8C15B-CFBA-4E16-BDBF-24A73C0F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9B9B-88C9-4416-92B1-410E253F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77B98-8074-4830-B0AB-72D12B14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471505-DA48-4886-94E2-4AD35544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33FDB-6E4C-48E2-AD72-C4DDEE022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91B625-C368-41F3-94D3-FF5E3C928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4C29D-9C8F-4D40-8747-844D598FA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C83A8-CD86-40A9-AE33-71A4FF4B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EC5EBD-E176-4030-9A8C-CF79B6AD7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93E6CB-C2CB-41B3-8593-6DBAC7C99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52800-E5AD-4170-B0ED-4C1219BC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5283A-76E1-4272-8559-1D97AC6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049B8-7DFD-4EFF-9442-6DBE634A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30DCC-D800-446C-A89A-4FD83D59B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992A12-81EA-4050-974C-114C1757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CDCD8C-332E-4B6F-8888-66A21C058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A20E1-2E2B-4E16-B53F-4A0DC816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08E32-49D0-4BAC-B54D-B8D4AA6EE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E1E437-AE78-4A74-928A-E78FF26D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53174-6468-4D09-97C2-78D3FC35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D0524C-B90A-49FF-842D-DF388FBD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621ACD-D806-48C5-B866-2320D3BE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5D964D-B4EB-4D69-B47D-97456031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9503-3FCE-447D-8957-09852D6F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1EB1B-93D1-4D28-AB93-A3D68305C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AEB18A-36FD-4DA7-A3B3-9326645B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9C08C-7112-4F45-B902-0CB90A114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95AB4-E03C-476B-AE03-07E75ED0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9A6703-58BD-403A-B318-04C5A4BF0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B8BDDB-A23A-456B-88D3-497813E7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1C3919-FE64-4B42-B418-ADA802AE8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757F16-F22B-4E91-B754-ECF07814C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5A4E72-A702-4E4E-8EEB-BCACF2D0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1EC1CA-6E99-42E1-9486-BEC96768A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938E-7984-4D3A-9087-7E31EAFE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697615-4020-457B-B142-72C388E7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3F3831-B7C2-4F72-8815-F313EACD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3DD148-1462-4DE1-81F1-16A87AC3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90D8C0-B876-44A9-9A53-18AD41E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23D56C-9C60-425F-BCD1-66AE56AA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8D864A-D377-4F5C-AD32-7C18B9132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119FD4-AB6C-49ED-B377-10ABBF3D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96CC09-1009-445D-923D-657277D54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D9090F-6EE1-4824-BE69-F71EF05B9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674AD1-4037-44E8-9F85-C79C97B6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D3E70-B8D0-4FD0-B09C-8C9CAF08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9C529F-6EE4-4444-8E7B-A793DC89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1C191-8F9D-4286-B11B-87F1B7FD5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CD9946-3850-43B2-AE36-ED1ED340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6C10AD-BFAE-4C30-8686-7ABA9691E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574904-BE0B-4107-B227-DBC55D8F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81FB4C-6838-4A46-8FB3-657E00EDE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B44E2-A897-43B8-A92F-271CC112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A8294A-840B-43C7-9E7E-08AEC4A9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D01D9D-480F-4B5A-8D50-C18F18BE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4E1659-C817-4534-B094-353A0977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3009F-18F4-446C-BB13-546D4D592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E63A0F-4534-40D6-9885-EE7B5A2E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97BA4-8E81-4BF7-8D31-037CE02B8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05BA9-F5D6-41C4-AA20-18A3445A0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BB38895-3011-4932-878D-E53E5017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05E3A-80AD-4DE8-BEC5-26AEA004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229E5F-B87C-4E95-B1B9-32005BD1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C4AB18-91D5-48CE-AA55-CDD3EA20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C1CF7F-9D55-4076-B6F0-3808E1E9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C606AC-AB2A-4B24-870D-83F1EECA6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E33DB77-BBB8-493C-876B-33D32F780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CCE72-4662-4F7E-8D7B-C99ABDF8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BAE3A-FD3B-4DFE-9E5A-57A2AE14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D6A87F-EF97-443F-8C99-7910C8F2C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7B10C-8583-4FD6-852D-6CB192B7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D97504-4B66-4D71-A21B-5AB43EE3A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2B6002-9E25-4D5F-8EF0-E293B7409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AE12EE-A470-42E7-BB14-A44DD7B0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9AB6A7-577E-4488-9E32-EDFF7F99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0D308A-7357-4561-99DB-4582F213E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326EB-409D-43EA-BDFB-E23B72AEC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DECABE-647C-4F61-922D-D0224A77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885-E62E-4118-AAFB-000C617BD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39B39-1126-4FAA-AE18-026A5EE58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5840F0-F1C7-44ED-99D8-E1BB6EE6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AA47F-CE1F-4A83-81C7-50B8A120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B1ACA7-8BDB-491A-A2A3-C0CAE86B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E9853-98DF-4A0A-ACBA-CFC24C53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13C8C1-CA66-4416-9B48-19D7A3316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3AEAF1-A63F-4CC8-AF77-B5C97E605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EEB36C-7EBF-4307-8C56-79759799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C7C75F-8392-442E-A72D-A1972D30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7CBD11-4090-4EA3-AC34-45F96287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96C21E-7630-4E32-AC55-2E086F04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85C0-C47B-4F1C-A716-46D0FECF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6D0E45-82DC-4D11-97C3-C73A3050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2A5515-0513-4E7C-84C0-99FC2AE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445BD-B01A-4A59-92C4-821AF97F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D4A41B-4031-4C14-A631-08B1830B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50015C-0BCA-4564-9BC4-4248AE9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965F2-5378-4FF1-96D5-BBB493D4E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8805F3-1387-44AF-9AB6-03B7121C6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5287D5-88F8-43A0-B501-7803BA11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86249-C798-47FB-A9C7-703EB7F3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5B7113-8908-4C67-BC70-69519213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4717C-9B05-4E66-ADF3-91856262C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0A89F3-D454-4143-93DD-517488AE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D8EB69-BF9F-41C4-B35E-D229CE8C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435F61-7FBC-48C1-AA5B-E799A36D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EA9296-68DD-4508-A35A-14374920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7C67F1-0FDC-4C9C-96E4-0630D9527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BC6E6B-AA5C-45BB-9B04-4BDC831E8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9D60F6-4013-487B-A95B-98F513189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CE51B2-94F1-4CC2-A653-3663AE93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BF64B-8FAA-477B-B6ED-D4002D5B4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818067-352E-458F-83A0-936456120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6B75-098C-4722-9636-B478FDC08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880502-734C-4E84-94B2-559C9A242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73D83C-4E5E-4B36-84FF-81997E3C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FECD15-BD52-4C28-A9BC-D8E9AAF38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148995-9EA3-4C76-82E3-B68142188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9F5B3E-EA44-4AD4-BE0D-C40E6EE4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3727F4-2438-446D-9B3E-761A10B8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21ACD-55FF-4526-863D-3ECA6C6E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C71391-2E03-44AB-BF1C-8FEAFD65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661DFF-037F-49FC-A3C4-E47E63EEF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779B3E-ADE5-4845-A600-B6241A618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59D53-9F83-4C06-8EA8-519F96F7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2836E8-520A-4CE6-AFAD-54313B52C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252A75-BF0E-4D15-A730-5AC73435E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D55EF-DA71-4395-804B-07508C5C2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20C15-AC9A-4C70-93A7-9A7D6551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4EC29F-FDE9-483D-AA9C-8DFF09F5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1D2731-860B-444F-ABBF-7B22C5B37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B205E-EAE6-418C-9B89-63D7EB0BB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8C516-18BB-4A80-BA81-C996787C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9C1A63-E0E4-4F5F-8AE9-58BE1BBB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3F443E-9D03-47BB-B929-63833C8B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45BA6-2C18-4467-8FBA-CCBEF7410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572FF-BC0F-4817-80E8-FBBC8DD6B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6DCAA7-E471-4FE4-A50E-12E050833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0008E0-851D-46CE-871C-967FCE63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B9A61A-1DAB-419A-85E2-33FE88C3C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B6876E-2FDE-4966-8BBA-7F7BF6E4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B3E50-85AC-40F1-8BDC-E4405147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16B662-FD31-400A-98AB-A1454537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F5A236-6C0F-4E34-A049-2FE8044B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6785D0-47A7-4948-9699-ED3B571C9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E7BD9F-4931-46EF-B962-831AA669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A6E1AB-9626-43E2-8162-67F44D1DB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8EEAF6-129A-4E4D-B556-6E5CBD56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F3E14B-CEB1-4816-9F3D-E9EFD201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3081996-B023-4DE0-9569-2E9DE8415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891DE39-5B4B-4CB9-AF85-3EEBE237F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DB11CD-BA19-4018-A052-B2ACAE141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23170DB-5FBC-41D1-8073-E139887F3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37DE6B2-0F2B-4E6A-96C4-24E16847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1C695-FECB-494E-9EB6-4690C7AB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8A3BF4-9FE0-4234-9DD1-8CB0DD40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E46714-4C0E-4851-B9D7-639C956D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FD7AA-CD5A-449D-9AD9-1473CBEA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7E2E38E-D4A1-4232-9B1B-4C56E8DE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198F28-4164-4988-B7D0-C095C385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CDDBDA-7F4A-466D-80EB-2AA217F8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F2FECDD-5E97-4C63-8FE9-AFD864A4E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02BDA0-1312-4862-A474-EBEE3A9CD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89D619-9668-4038-B619-F5A5DA56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9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0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B36C301-6CAF-4AA2-9A2B-082AB7E9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E8B756-CAC5-47CB-B861-5D9B91173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91E2C8A-CDF1-4F7A-9DA7-0DFB1E243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73F9F9-68FA-46A7-839E-2C23F3432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40E9-599C-4947-96A9-606C14785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AE985-C206-4931-AB58-9B61279A3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5E9AE9-2042-476B-9FCC-94969CD5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C371D4E-1315-404E-A1E3-F8250A8A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BEE7F0-CE81-4984-858E-53BCAFBD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598F04-91D5-4529-8A6D-6380577AE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63478D-24D9-4C6F-8C60-F6334EE6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E6DE8F0-355E-4B12-9A16-6B2F7EF0F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AD9FC6-BC5F-4941-9A2C-A4E52FD1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3520EF-B2CC-45BE-BDA4-9D5FD7FA8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1492-E2B7-4920-BD25-AFC13C6F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3CF-98A6-4BFB-B915-DF56F861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9310D-556E-4328-BE6B-73A1D2FD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B3140F-EE86-41CA-9D56-63155597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68632-B20A-434E-B38A-129F22AC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BFE00-4E02-4B05-88E0-45D2ACA1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35C48-9244-4855-98E1-AB75932E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D37FF-8F68-40C1-AA6C-1ADC25DD9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BD14F-8AF8-4B43-AE8D-41320FB9D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642AB-7685-4706-8441-FE76B0F81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681ED-9899-4FF4-8C41-47AFFA6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30F6A-E626-4CF9-BF34-9D27147B6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E58F-4D5F-46D8-A62B-1D84AB102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7973-03BD-4A90-A386-CDE5AC83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BE2F0-7D8D-40F4-9C08-9EE5BE52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6738F-20EB-4C13-B286-C6CAB16A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9AFD8-5E50-41DA-9CB7-88085D756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9968-D5E6-46CA-A408-E879DED9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962BB-9510-48E3-B990-A0BD8A23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FD58B-72F1-42B0-A52E-B33B47F2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A6A8A3-7BE8-46D7-9E48-13F8F3D55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2651E-1C94-4A66-934E-B21B4400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E71E6D-321F-4D36-8942-187D1385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696-98A6-421E-A73A-710DC9B2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6F8DC-99AC-42D9-B3D9-EDCCD84C5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DDED6-A79D-403B-AF15-25F4AF6EA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611838-411B-4CD2-8940-0972650A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00148-419F-421B-ABF3-838702D6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C0CE6-9088-4DA1-9A89-FC5BA6DD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2124F-AFD6-4818-A549-1F42868F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4EE4C-5FE9-42B4-8D6B-8C5E686E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E45377-7D6A-4405-A35E-D814C8F5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F22C8F-555E-4CDC-90BF-C14EFBB8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92EA9-62F9-4CA3-88A2-E7D1B20D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0C0C-7301-420C-AD2D-8F44B1E2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AA40B-1267-4587-BDCC-AF74A2CB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76F2B3-040B-4FA1-88F0-9A4156222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CBC1A-A2AC-4566-AA72-C5478269A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77F68-EA71-4014-943C-CFCF90026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A8F97-A5DC-4A50-993F-B9E2EBE8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C70613-4FDA-4FD2-A472-1407FD3D5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F0AEC-A914-4456-AC6F-FACF1120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4BA087-E150-4622-962A-0D8FF3E3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03F479-37AE-4C7A-B237-9A4674F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9C558-1DE1-4572-94EE-DA56FCF4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B5F-F04A-42F4-8A3B-902EB43A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330D1-B620-40D9-9690-48304F03E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958EB-41A4-4B38-B01F-6777C9D3A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79E416-1F79-4D04-A21A-ABE77587F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2841C-90FC-4A74-90EB-3C2CC5223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8D11-478D-4BFC-BB04-F136A66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C7F192-7288-4CC1-AB9A-EF3545AB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356299-0FE1-4A2F-AB80-5DC614DD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B9F6F6-9F4B-4227-B678-0BEBC8A45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D792F-BF75-4EEB-99FF-708050DD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08F62-93A6-401F-A899-D65875CC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A12A-ADA8-40BF-BCC1-0DE64363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5B33BE-871C-4592-B99B-341B3E7C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00F29-2CBF-4558-BACB-FF5F5AE5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95D7C-555D-443E-9A76-C698C257C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29F83-BF16-4943-92CA-BA7AD37F4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B5D09-DFD3-4549-B17E-8D57C56FA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A33F3E-BCD7-4B32-8633-43B9D4DA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2F98B7-CA67-461B-9377-E9C6B87F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336281-DF3D-4B56-A4BB-CE29DFCA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B90A3-D5F2-4D3A-A424-8E92B853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D5159-1CFC-4162-9B4A-87C6A0DE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0133-9D37-4C96-8590-C532A63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A52D-9578-410A-A13B-7509FC8C0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8F05C8-8D87-4070-8E5D-BA4E57CF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0C957-5D95-4389-A43F-7C96E835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8C1284-6E82-44F9-91E7-DE92F7B21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2D6A3-BF3E-4910-B6C1-37575583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318691-2298-49CB-B735-ACF201720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2787E-1961-4FC2-AD74-4C1D3E409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74C60-FE71-4DD5-9CEA-C403A6E4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29685D-3990-479C-ADD7-6AB9277A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B83AC-9CD1-4821-852C-17BB9A68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267F-AE4A-4329-91CD-7568F5FCB29C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30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DA73-146D-40E2-92F2-D9C11837E9BD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3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B4BF-4C83-4B7E-8BDB-0602BB751FB5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0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3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2AD5-A296-4A54-857F-D039FD7106D6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3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120C-8497-4862-BFF2-467DCE0E2374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zabadkézi sokszög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6" name="Szabadkézi sokszög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4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ftr" idx="4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sldNum" idx="4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26EE-F469-480C-B3F3-0A9E2D07974A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4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4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4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EEC5-5D30-4A56-87F2-C3C8A855BC7C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Szabadkézi sokszög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2" name="Szabadkézi sokszög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 type="dt" idx="4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 type="ftr" idx="4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 type="sldNum" idx="4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8B571-7616-433C-947F-82ADDA3DBCA7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5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 type="dt" idx="4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 type="ftr" idx="5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 type="sldNum" idx="5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91E16-0406-4BF1-A629-5D28B53B86F5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5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5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5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C790-1FF2-46AE-BEF0-A1C7192832C9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9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6AB8-1CEF-458E-B74A-1F5B6674D4F5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4FA7A-B1AB-4FBD-A4BE-1659AFBABE85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2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5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5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6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EAF1-E5D1-4267-A7E0-5CA66CACCCB4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5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 type="dt" idx="6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 type="ftr" idx="6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 type="sldNum" idx="63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7536-2D9D-4B85-88B4-D56F6C61E6F0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 type="dt" idx="6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 type="ftr" idx="6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 type="sldNum" idx="6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5E59-087C-4DF4-900C-889F567BE6C2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9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dt" idx="6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 type="ftr" idx="6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 type="sldNum" idx="6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1A0B2-B80F-4656-9314-F90F93054720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2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 type="dt" idx="7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 type="ftr" idx="7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 type="sldNum" idx="7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F1B05-20CD-4560-B423-26C992D8DC01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abadkézi sokszög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zabadkézi sokszög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207-DF60-441A-BE82-BB7814AFC9E8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9CD2-F375-4D03-9657-27E39D4B0FD2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zabadkézi sokszög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Szabadkézi sokszög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A37-EA04-4D4C-BE10-A94566B8F27F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FB6-F0A7-468B-9549-1009C8CCDFA3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9F82-980B-4A3C-B755-F31947340F22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0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C27F-57C4-4BDF-9EB1-4BC41EB0B969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966C-1C75-4832-B9A5-0930554A04E2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Cím 6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6949800" cy="243828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alibri"/>
              </a:rPr>
              <a:t>Nagy Zsolt Projektmenedzs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alibri"/>
              </a:rPr>
              <a:t>és Király Zsol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projekttervezés és menedzselés alapja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jegyzete alapján készített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Biró Erzséb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6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6A5C-7A3F-4952-8148-5C630496EFE0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Erőforrás-szükséglet péld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4" name=""/>
          <p:cNvSpPr txBox="1"/>
          <p:nvPr/>
        </p:nvSpPr>
        <p:spPr>
          <a:xfrm>
            <a:off x="456840" y="4285800"/>
            <a:ext cx="7467480" cy="18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z erőforrás-szükségletet értelmezve az első nap 4 főre van szükségünk, közülük egy-egy a </a:t>
            </a:r>
            <a:r>
              <a:rPr b="0" i="1" lang="hu-HU" sz="21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 és a </a:t>
            </a:r>
            <a:r>
              <a:rPr b="0" i="1" lang="hu-HU" sz="21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 tevékenységgel foglalkozik, kettő az </a:t>
            </a:r>
            <a:r>
              <a:rPr b="0" i="1" lang="hu-HU" sz="21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 tevékenységgel. A projekt előre haladtával minden nap le tudjuk olvasni a szükséges erőforrás-mennyiséget.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 maximális erőforrásigény 4.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5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A17E3-8D2F-4687-8287-AB2CED3713B6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56" name="Picture 2" descr="realg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14360" y="1285920"/>
            <a:ext cx="6186600" cy="29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Erőforrás-szükséglet péld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Általában a projektek erőforrásigénye az időben jelentős hullámzást mutat, ezért érdemes elgondolkodni, hogy a tevékenységek csúsztatásával találunk-e egyenletesebb terhelésű megoldás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éldaprojektünkben ez a téglák vízszintes tologatását jelenti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zért kerültek a kritikus tevékenységek téglái alulra, mert azok tologatása a projekt végső határidejének eltolását is jelentené, ezért ezt, ha csak lehetséges el kell kerülni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9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9016-1403-4CA6-9073-10E7C026AA25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Erőforrás-szükséglet péld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1" name=""/>
          <p:cNvSpPr txBox="1"/>
          <p:nvPr/>
        </p:nvSpPr>
        <p:spPr>
          <a:xfrm>
            <a:off x="456840" y="3786120"/>
            <a:ext cx="7467480" cy="23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Megoldásunk: </a:t>
            </a:r>
            <a:r>
              <a:rPr b="0" i="1" lang="hu-HU" sz="17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tevékenységet (ami 4 napos tartalékidővel rendelkezik) ne kezdjük el a projekt kezdetekor, egy napot csúsztassuk, a projekt első napján az </a:t>
            </a:r>
            <a:r>
              <a:rPr b="0" i="1" lang="hu-HU" sz="1700" spc="-1" strike="noStrike">
                <a:solidFill>
                  <a:srgbClr val="ffffff"/>
                </a:solidFill>
                <a:latin typeface="Calibri"/>
              </a:rPr>
              <a:t>A</a:t>
            </a: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 és a </a:t>
            </a:r>
            <a:r>
              <a:rPr b="0" i="1" lang="hu-HU" sz="1700" spc="-1" strike="noStrike">
                <a:solidFill>
                  <a:srgbClr val="ffffff"/>
                </a:solidFill>
                <a:latin typeface="Calibri"/>
              </a:rPr>
              <a:t>B</a:t>
            </a: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 tevékenységekkel induljunk. </a:t>
            </a:r>
            <a:r>
              <a:rPr b="0" i="1" lang="hu-HU" sz="17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 tevékenység maga mögött egy nappal hátratolja </a:t>
            </a:r>
            <a:r>
              <a:rPr b="0" i="1" lang="hu-HU" sz="1700" spc="-1" strike="noStrike">
                <a:solidFill>
                  <a:srgbClr val="ffffff"/>
                </a:solidFill>
                <a:latin typeface="Calibri"/>
              </a:rPr>
              <a:t>G</a:t>
            </a: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 tevékenységet, ezt is megtehetjük, mert </a:t>
            </a:r>
            <a:r>
              <a:rPr b="0" i="1" lang="hu-HU" sz="1700" spc="-1" strike="noStrike">
                <a:solidFill>
                  <a:srgbClr val="ffffff"/>
                </a:solidFill>
                <a:latin typeface="Calibri"/>
              </a:rPr>
              <a:t>G</a:t>
            </a:r>
            <a:r>
              <a:rPr b="0" lang="hu-HU" sz="1700" spc="-1" strike="noStrike">
                <a:solidFill>
                  <a:srgbClr val="ffffff"/>
                </a:solidFill>
                <a:latin typeface="Calibri"/>
              </a:rPr>
              <a:t> tevékenység 4 napos tartalékidővel rendelkezik. A projekt végrehajtásához így egy az eredetinél egyenletesebb erőforrás-kihasználást eredményező megoldásra jutottunk, a maximális erőforrás-igényünk három fő lett. Manapság nem kell ezen az optimalizálási problémán papíron, ceruzával bajlódnunk, ezt a szolgáltatást a projekttervező szoftverek felajánlják (erőforrás-terhelés simítása)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2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7D1-39F5-4AED-8B5A-60C1BCF7B6E9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63" name="Picture 2" descr="realg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62240" y="1176480"/>
            <a:ext cx="5495760" cy="260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Erőforrás-szükséglet péld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Gyakori, hogy az erőforrás-tervezés végeztével azt kell, hogy megállapítsuk, hogy nem rendelkezünk a szükséges számú erőforrással. Azt az esetet, </a:t>
            </a:r>
            <a:r>
              <a:rPr b="1" lang="hu-HU" sz="2600" spc="-1" strike="noStrike">
                <a:solidFill>
                  <a:srgbClr val="ffffff"/>
                </a:solidFill>
                <a:latin typeface="Calibri"/>
              </a:rPr>
              <a:t>amikor a meglévő erőforráskorlátokat be kell tartani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, akkor is, ha a projekt átfutási ideje megnő</a:t>
            </a:r>
            <a:r>
              <a:rPr b="1" lang="hu-HU" sz="2600" spc="-1" strike="noStrike">
                <a:solidFill>
                  <a:srgbClr val="ffffff"/>
                </a:solidFill>
                <a:latin typeface="Calibri"/>
              </a:rPr>
              <a:t>, </a:t>
            </a:r>
            <a:r>
              <a:rPr b="1" i="1" lang="hu-HU" sz="2600" spc="-1" strike="noStrike">
                <a:solidFill>
                  <a:srgbClr val="add2d6"/>
                </a:solidFill>
                <a:latin typeface="Calibri"/>
              </a:rPr>
              <a:t>erőforrás-korlátos allokálás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nak nevezzü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másik esetet, </a:t>
            </a:r>
            <a:r>
              <a:rPr b="1" lang="hu-HU" sz="2600" spc="-1" strike="noStrike">
                <a:solidFill>
                  <a:srgbClr val="ffffff"/>
                </a:solidFill>
                <a:latin typeface="Calibri"/>
              </a:rPr>
              <a:t>amikor az átfutási idő nem változhat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, tehát a szükséges erőforrásokat egy estleges </a:t>
            </a:r>
            <a:r>
              <a:rPr b="1" lang="hu-HU" sz="2600" spc="-1" strike="noStrike">
                <a:solidFill>
                  <a:srgbClr val="ffffff"/>
                </a:solidFill>
                <a:latin typeface="Calibri"/>
              </a:rPr>
              <a:t>terhelés-simítás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 után tűzön-vízen keresztül (akár költségtúllépés árán is) biztosítanunk kell, </a:t>
            </a:r>
            <a:r>
              <a:rPr b="1" i="1" lang="hu-HU" sz="2600" spc="-1" strike="noStrike">
                <a:solidFill>
                  <a:srgbClr val="add2d6"/>
                </a:solidFill>
                <a:latin typeface="Calibri"/>
              </a:rPr>
              <a:t>időkorlátos allokálás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nak nevezzü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6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C7366-8949-479A-A0F4-2565013585C4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 költségeinek a felmérése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projekt költségeinek minél pontosabb becslése alapvető fontosságú a menedzseri döntések és az ellenőrzés szempontjából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öltségek pontos becslése a projekt kezdeti fázisában nehezen megvalósítható feladat, ugyanakkor a későbbi szakaszokban a pontosság egyre nyilvánvalóbban elvárható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9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2EE3D-E025-47C7-95FE-00E508BB9591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költségkalkuláció két módszere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add2d6"/>
                </a:solidFill>
                <a:latin typeface="Calibri"/>
              </a:rPr>
              <a:t>A paraméteres költségbecslési eljárás</a:t>
            </a:r>
            <a:r>
              <a:rPr b="1" lang="hu-HU" sz="3000" spc="-1" strike="noStrike">
                <a:solidFill>
                  <a:srgbClr val="add2d6"/>
                </a:solidFill>
                <a:latin typeface="Calibri"/>
              </a:rPr>
              <a:t> </a:t>
            </a: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lényege, hogy a korábbi hasonló projektek költségei alapján becsüljük meg a tervezett projekt költségeit. Pontatlansága miatt csak a projekt kezdeti szakaszában lehet létjogosultság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000" spc="-1" strike="noStrike">
                <a:solidFill>
                  <a:srgbClr val="add2d6"/>
                </a:solidFill>
                <a:latin typeface="Calibri"/>
              </a:rPr>
              <a:t>A tevékenységalapú költségbecslés</a:t>
            </a: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 pontosabb. Költségeket az eddigi szóhasználattal a tevékenységekhez vagy az erőforrásokhoz rendelhetünk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2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0C33-32E4-4803-B218-1FB1B07C80E0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költségkalkuláció két módszere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tevékenységhez rendelt költségek (fix költségek) olyan költségek, amelyek függetlenek a tevékenység időtartamától, és az erőforrások által végzett munkától. Ilyen költség pl. építési projekteknél különböző engedélyezési eljárásokhoz kapcsolódó költségek, pályázatoknál a pályázati dokumentáció ár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z erőforrásokhoz rendelt költségeknél fajlagos összegeket rendelünk az adott erőforráshoz (pl. munkadíj vagy gépek bérlése esetén Ft/óra, Ft/nap, anyag típusú erőforrások esetén Ft/m</a:t>
            </a:r>
            <a:r>
              <a:rPr b="0" lang="hu-HU" sz="2600" spc="-1" strike="noStrike" baseline="30000">
                <a:solidFill>
                  <a:srgbClr val="ffffff"/>
                </a:solidFill>
                <a:latin typeface="Calibri"/>
              </a:rPr>
              <a:t>2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, Ft/folyóméter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5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6F5B-EFB0-4398-94A1-A61B37BE529F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költségek felmérési módszereinek elemei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projektköltségek felmérési módszereinek elemei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munka költsége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nyagi költsége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zolgáltatások költségei (szerződéses kivitelezők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gépesítés és felszerelések költsége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projektmenedzsment költsége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vezetés és az adminisztráció költsége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járulékok, adók, biztosítások és licencek költsége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inflációs költsége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8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2C3E-7246-4A7C-AC27-760FCEC64221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600" spc="-1" strike="noStrike">
                <a:solidFill>
                  <a:srgbClr val="ffffff"/>
                </a:solidFill>
                <a:latin typeface="Calibri"/>
              </a:rPr>
              <a:t>Kockáz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Bizonyos összefüggésekben elmondható, hogy a projektmenedzsment egyfajta kockázatmenedzsment, hiszen a projektmenedzser célja, hogy a projektet veszélyeztető számtalan kockázati tényező fölött úrrá legyen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ockázatnak minősül minden olyan tény, hatás, rendszerfunkció, összefüggés stb., amely a projekt sikeres megvalósulását gátolja, kritikus esetben lehetetlenné teszi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1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6265-09D9-421F-B725-8FD3834D9E05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kockázatok lehetnek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külső kockázatok (települési, politikai, környezetvédelmi stb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pénzügyi kockázatok (rossz vagy felületes költségtervezés, likviditási nehézség, tárgyi eszközöket érő elemi kár stb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tevékenységből fakadó kockázatok (működési zavarok, alacsony hatékonyságú információáramlás, helytelen ütemezés vagy nem betartott ütemterv, stb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emberi erőforrással kapcsolatos kockázatok (kompetenciahiány, motiválatlanság, együttműködési készség hiánya, érdektelenség stb.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4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0BE7-00A5-49D8-9A37-366EAF5B0875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Gantt diagram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legegyszerűbb, legrégibb, legáltalánosabban használ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z egyes tevékenységeket időtartamukkal arányos hosszúságú téglalap (vonal) reprezentál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lkészítése 4 lépésből á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evékenységek definiál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evékenységek logikai sorrendjének meghatároz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evékenységek időtartamának meghatároz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Gantt diagram összeállít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9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7ECF2-F167-42AE-BD5E-86C24B6A2070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ockázatok azonosítását, valamint a projekt előrehaladása során a kockázatok súlyának követését, módosulását a projektek teljes folyamatában követni kell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ockázatok azonosításához segítséget nyújt a következő szempontrendszer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ockázat megnevezése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ockázat azonosításának forrása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ockázat kifejtése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ockázat értékelés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7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D54EE-D347-4720-9F1F-0B52FB025848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ok azonosít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z a munka lényegében két tényezőből áll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kockázati tényezők </a:t>
            </a:r>
            <a:r>
              <a:rPr b="1" lang="hu-HU" sz="2400" spc="-1" strike="noStrike">
                <a:solidFill>
                  <a:srgbClr val="ffffff"/>
                </a:solidFill>
                <a:latin typeface="Calibri"/>
              </a:rPr>
              <a:t>felismeréséből és elemzéséből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 (Risk Identification, Risk Analysis), 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kockázati tényezők </a:t>
            </a:r>
            <a:r>
              <a:rPr b="1" lang="hu-HU" sz="2400" spc="-1" strike="noStrike">
                <a:solidFill>
                  <a:srgbClr val="ffffff"/>
                </a:solidFill>
                <a:latin typeface="Calibri"/>
              </a:rPr>
              <a:t>kezeléséből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kockázati tényezők felismerése és elemzése a kockázati esemény bekövetkezésének esélyeivel és a projektre gyakorolt esetleges hatásaival foglalkozik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kockázati kezelése viszont a veszély elhárítása, illetve káros hatásainak mérséklése érdekében teendő lépéseket takarj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0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8A48-8127-4FDE-8CC7-D9B0BA73F8A3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Kockázati tényezők felismerése és elemzése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Projektek esetében fel kell készülni olyan lehetőségre, hogy valami nem a terveknek megfelelően alakul. A tervezés és megvalósítás folyamán számos területen, számos tényező jelenthet kockázatot, amelyek különösen veszélyesek, ha érintik az </a:t>
            </a:r>
            <a:r>
              <a:rPr b="1" lang="hu-HU" sz="2300" spc="-1" strike="noStrike">
                <a:solidFill>
                  <a:srgbClr val="ffffff"/>
                </a:solidFill>
                <a:latin typeface="Calibri"/>
              </a:rPr>
              <a:t>idő- költség- minőség 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hármas paraméterét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Kockázatelemzés során azokat a kockázati tényezőket kell számszerűsíteni, </a:t>
            </a:r>
            <a:r>
              <a:rPr b="1" lang="hu-HU" sz="2300" spc="-1" strike="noStrike">
                <a:solidFill>
                  <a:srgbClr val="ffffff"/>
                </a:solidFill>
                <a:latin typeface="Calibri"/>
              </a:rPr>
              <a:t>amelyek a projekt végrehajtásában befolyással vannak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. Ilyen tényező például a vezetőség rátermettsége, a munkacsoportok szakértelme, a határidők, vagy a projekt jellege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kockázati tényezők értékelése lehetővé teszi a menedzsment számára a kockázati tényezők figyelemmel kísérését a megvalósítás során, és elősegíti az esetleges gyors beavatkozást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3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9BD59-EB1D-4A3E-973F-F23792DA3198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Kockázati tényezők felismerése és elemzése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ockázat megítélésekor kétféle adatot kell megnézni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kockázat fokát, illetv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z adott tényező kockázata milyen súlyozással szerepel a projekt teljes kockázatának megítélésekor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6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2598B-00F8-47CF-A38A-946F4F88237F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 adatainak elemz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8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767DF-DD52-423C-8CE1-620C80228A6C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99" name="Picture 30" descr=""/>
          <p:cNvPicPr/>
          <p:nvPr/>
        </p:nvPicPr>
        <p:blipFill>
          <a:blip r:embed="rId1"/>
          <a:srcRect l="20703" t="39262" r="22168" b="25586"/>
          <a:stretch/>
        </p:blipFill>
        <p:spPr>
          <a:xfrm>
            <a:off x="166680" y="1928880"/>
            <a:ext cx="86677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 becsl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kockázat felbecslésekor figyelembe kell venni, hogy mennyire valószínű, és milyen következményekkel jár az adott kockázat bekövetkezés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z alapján mérlegelni lehet például a szállítási késedelem kockázatá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Nem túl valószínű (4), de súlyos következményekkel jár annak bekövetkezése (9). A két adat összeszorzásával egy 100 alatti számot kapunk (36), ami a kockázat kezelésének fontosságát jelzi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Amennyiben a szám 25 fölötti, szükséges annak körültekintő figyelembe vétele. Ez esetben ajánlatos a szállítással kapcsolatos kockázatokkal előzetesen is foglalkozni.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2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1CA73-6933-434F-9057-81A002CB933F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 becsl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kockázati tényezők értékelése magába foglalja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z egyes kockázati tényezők azonosítását,a tényezőknek a végrehajtás menetére, a költségekre, az ütemtervekre és a minőségre gyakorolt hatása szempontjából történő elemzését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projekt megvalósítása során várható érvényre jutásuk esélyeinek becslését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projekt veszélyeztetettségének meghatározását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kockázati tényezőkre – azok halmozott érvényre jutásának valószínűsége, hatása és az okozott problémák nagysága függvényében meghatározott prioritások felállítását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5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F128-287A-4D1A-B0A6-3E9D3A585ACD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i tényezők kezel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kockázatokat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megelőzni,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kezelni és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kikerülni lehet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lehető legrosszabb eset, amikor szemet hunyunk az esetleges veszélyforrások felett. Ezzel szemben a legjobb megoldás, ha időben meghatározzuk a projekt összes lehetséges kockázatát és kezelésének módját, csökkentve így a projektterv módosításának szükségességé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8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CC18-CC08-49F1-AF1F-CF2136DF8AD7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i tényezők kezel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ockázatokat a vállalat szemszögéből nézve csoportosítani lehe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mberi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technikai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énzügyi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olitikai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jogi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örnyezeti forrásokból eredő kockázatokr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1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D80F-195F-4941-9379-9D40B173A733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i tényezők kezel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kockázatelemzés során beazonosított kockázati tényezőket az alábbi sorrendben célszerű megvizsgálni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nagy hatású, nagy bekövetkezési valószínűségű kockázati tényezők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nagy hatású, kisebb bekövetkezési valószínűségű kockázati tényezők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kisebb hatású, nagy bekövetkezési valószínűségű kockázati tényezők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kisebb hatású, kis bekövetkezésű valószínűségű kockázati tényezőkkel kapcsolatban érdemes a kockázat elfogadását, egyszerű tudomásul vételét megfontolni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4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0A79-43A7-490F-99D1-0D94637FEAC9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időterv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Henry Gantt a XX. század elején publikálta dolgozatát az ütemezési problémákról. Az ő munkája alapján kifejlesztett eszközt Gantt-diagramnak vagy sávos ütemtervnek nevezzü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z 50-es évekig szinte egyedüli projekttervező eszköz volt, de a hálós tervezési rendszerek kifejlődése óta a hálóterv elkészülte után ajánlott az időtervezéssel foglalkozni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Gantt-diagramban a tevékenységeket soronként, egymás alatt, a táblázat fejlécében az időtengelyt helyezzük el. A tevékenység mellett feltüntetett sáv azt jelöli, hogy az adott tevékenységet mikor kell elkezdeni, és mikor befejezni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2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DD6C-6FDB-411B-B2B2-A4EE22C0B2AC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kockázati tényezők kezelés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inden külön kezelésre szoruló kockázati tényező estében a projektmenedzsernek a kockázat csökkentésére hatékony megoldást kell találnia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z ellenintézkedés lehet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a kockázati tényező teljes kiiktatása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a kockázat mértékének (bekövetkezési esélyének vagy hatásának) csökkentése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a kockázatviselés áthárítása másokra (biztosítás)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vészelhárítási tervek készítése (a kockázati esemény bekövetkezésének esetére,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a kockázati tényező elfogadása(egyszerű tudomásul vétele).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7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7965-0B93-4DE1-A885-1DE12173707D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2" descr="http://invitel.hu/muskoist/DH-2006-12/karacsony2.jpg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VÉGE</a:t>
            </a:r>
            <a:r>
              <a:rPr b="0" lang="hu-HU" sz="46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120" name="Tartalom helye 2"/>
          <p:cNvGrpSpPr/>
          <p:nvPr/>
        </p:nvGrpSpPr>
        <p:grpSpPr>
          <a:xfrm>
            <a:off x="-85680" y="5078520"/>
            <a:ext cx="4151160" cy="1871640"/>
            <a:chOff x="-85680" y="5078520"/>
            <a:chExt cx="4151160" cy="1871640"/>
          </a:xfrm>
        </p:grpSpPr>
        <p:pic>
          <p:nvPicPr>
            <p:cNvPr id="1121" name="Tartalom helye 2" descr=""/>
            <p:cNvPicPr/>
            <p:nvPr/>
          </p:nvPicPr>
          <p:blipFill>
            <a:blip r:embed="rId2"/>
            <a:stretch/>
          </p:blipFill>
          <p:spPr>
            <a:xfrm>
              <a:off x="-85680" y="5078520"/>
              <a:ext cx="415116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2" name=""/>
            <p:cNvSpPr/>
            <p:nvPr/>
          </p:nvSpPr>
          <p:spPr>
            <a:xfrm>
              <a:off x="0" y="5160960"/>
              <a:ext cx="3971880" cy="169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419040" indent="-382680">
                <a:lnSpc>
                  <a:spcPct val="8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600" spc="-1" strike="noStrike">
                  <a:solidFill>
                    <a:srgbClr val="ffffff"/>
                  </a:solidFill>
                  <a:latin typeface="Calibri"/>
                </a:rPr>
                <a:t>Minden kedves diákomnak kellemes karácsonyi ünnepeket, jó pihenést és boldog újévet kívánok! Biró Erzsébet</a:t>
              </a:r>
              <a:endParaRPr b="0" lang="en-US" sz="26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123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D8E2-1D22-4D63-BF81-2B1E30D10C5B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időterv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éldaprojektünk Gantt-diagramjához annyi a hozzáfűzni való, hogy a szombat, vasárnap alapértelmezés szerint nem munkaidő, de a projektnaptár segítségével a projekt idejére munkaidőnek definiáltuk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z időtengelyen a hét napjait betűkkel azonosítjuk, a hét első napjának dátuma azonosítja a hete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éldaprojektünk (ami a fentiek alapján 12 napos) 2005. aug. 1-én, hétfőn indul, és aug. 12-én, pénteken fejeződik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5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75101-70F1-4ACC-99AB-3B6CA47BA729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Gantt diagram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37" name="Picture 2" descr="Kutepitproj"/>
          <p:cNvPicPr/>
          <p:nvPr/>
        </p:nvPicPr>
        <p:blipFill>
          <a:blip r:embed="rId1"/>
          <a:stretch/>
        </p:blipFill>
        <p:spPr>
          <a:xfrm>
            <a:off x="214200" y="1857240"/>
            <a:ext cx="8825040" cy="3448080"/>
          </a:xfrm>
          <a:prstGeom prst="rect">
            <a:avLst/>
          </a:prstGeom>
          <a:ln w="0">
            <a:noFill/>
          </a:ln>
        </p:spPr>
      </p:pic>
      <p:sp>
        <p:nvSpPr>
          <p:cNvPr id="1038" name="Szövegdoboz 4"/>
          <p:cNvSpPr/>
          <p:nvPr/>
        </p:nvSpPr>
        <p:spPr>
          <a:xfrm>
            <a:off x="1457280" y="592920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Gantt-diagram Microsoft Office Project Professional 2003 szoftverrel készül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9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ECD2-B060-4752-9441-B110AE783087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időterv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Gantt-diagram könnyen érthető, egyszerű eszköz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Hátránya, hogy nem mutatja a tevékenységeknek a megelőzőekkel való kapcsolatát (ezt a szolgáltatást a projekttervező szoftverekkel készített Gantt-diagramok már tudják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feladatok végrehajtásának időbeli tervezésén túl használata tipikusan az elkészült projektterv kommunikálására, ill. a végrehajtás szakaszában a projekt tényleges és tervezett előrehaladásának az összevetésére irányul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2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7C41-9C08-4452-AD30-C9BC25090FCB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Erőforrás-tervezé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z erőforrás-tervezésnél számba vesszük, hogy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z egyes tevékenységekhez milyen erőforrásra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ilyen mértékben van szükség,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ajd ezt a korábban elkészített hálótervből vagy Gantt-diagramból kiindulva az idő függvényében ábrázolju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49F5E-D50D-48DE-B9FC-45B9502A615C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Erőforrás típus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300" spc="-1" strike="noStrike">
                <a:solidFill>
                  <a:srgbClr val="ffffff"/>
                </a:solidFill>
                <a:latin typeface="Calibri"/>
              </a:rPr>
              <a:t>Munka típusú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 erőforrások: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a szakemberek, pl. programozó, mérnök, kőműves, villanyszerelő,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a gépek, szerszámok, berendezések, pl. fúrógép, markoló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z </a:t>
            </a:r>
            <a:r>
              <a:rPr b="0" i="1" lang="hu-HU" sz="2300" spc="-1" strike="noStrike">
                <a:solidFill>
                  <a:srgbClr val="ffffff"/>
                </a:solidFill>
                <a:latin typeface="Calibri"/>
              </a:rPr>
              <a:t>anyag típusú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 erőforrások </a:t>
            </a:r>
            <a:r>
              <a:rPr b="1" lang="hu-HU" sz="2300" spc="-1" strike="noStrike">
                <a:solidFill>
                  <a:srgbClr val="ffffff"/>
                </a:solidFill>
                <a:latin typeface="Calibri"/>
              </a:rPr>
              <a:t>raktározhatóak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, a projekt előrehaladtával folyamatosan kerülnek felhasználásra,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ilyen a beton, csempe, járólap, villanyvezeték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ffffff"/>
                </a:solidFill>
                <a:latin typeface="Calibri"/>
              </a:rPr>
              <a:t>A munka és anyagtípusú erőforrások között az a különbség, hogy a munkatípusúak nem raktározhatóak, ezért meg kell adni a belőlük rendelkezésre álló maximális mennyiséget (pl. a kivitelezésnél max. három villanyszerelő áll rendelkezésre), a rendelkezésre állásukkal kapcsolatban naptárt értelmezhetünk (pl. pihenőnapok, szabadságolás)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8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7393E-30F6-442A-B133-262C01B334E8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9" name="Lekerekített téglalap 4"/>
          <p:cNvSpPr/>
          <p:nvPr/>
        </p:nvSpPr>
        <p:spPr>
          <a:xfrm>
            <a:off x="214200" y="4000680"/>
            <a:ext cx="7929720" cy="192852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add2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Erőforrás-szükséglet ábrázolása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z erőforrás-szükséglet ábrázolásánál annyi koordinátarendszerre van szükség, </a:t>
            </a:r>
            <a:r>
              <a:rPr b="1" lang="hu-HU" sz="2100" spc="-1" strike="noStrike">
                <a:solidFill>
                  <a:srgbClr val="ffffff"/>
                </a:solidFill>
                <a:latin typeface="Calibri"/>
              </a:rPr>
              <a:t>ahány féle erőforrást 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 tevékenységek igényelnek.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Példaprojektünkben az egyszerűség kedvéért egy erőforrással, egy „univerzálisan képzett” </a:t>
            </a:r>
            <a:r>
              <a:rPr b="1" lang="hu-HU" sz="2100" spc="-1" strike="noStrike">
                <a:solidFill>
                  <a:srgbClr val="ffffff"/>
                </a:solidFill>
                <a:latin typeface="Calibri"/>
              </a:rPr>
              <a:t>személyzet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 nevű erőforrással dolgozunk.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 koordinátatengelyek felrajzolása után tevékenységenként ábrázoljuk az erőforrásigényt.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100" spc="-1" strike="noStrike">
                <a:solidFill>
                  <a:srgbClr val="ffffff"/>
                </a:solidFill>
                <a:latin typeface="Calibri"/>
              </a:rPr>
              <a:t>Egy adott tevékenység erőforrásigénye egy olyan téglalap, aminek a vízszintes oldala olyan hosszú, ameddig a tevékenység tart, függőleges oldala olyan hosszú, amekkora az erőforrás szükséges mennyisége. 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 koordinátarendszerbe először a kritikus útra eső tevékenységekhez tartozó téglalapokat rajzoljuk be (</a:t>
            </a:r>
            <a:r>
              <a:rPr b="0" i="1" lang="hu-HU" sz="2100" spc="-1" strike="noStrike">
                <a:solidFill>
                  <a:srgbClr val="ffffff"/>
                </a:solidFill>
                <a:latin typeface="Calibri"/>
              </a:rPr>
              <a:t>B – D – E – F – H)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, ezt követően a többi tevékenységet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2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BF2D2-B4A0-4C43-9E3C-16E4382CF96A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06:50:23Z</dcterms:created>
  <dc:creator>habakukk</dc:creator>
  <dc:description/>
  <dc:language>en-US</dc:language>
  <cp:lastModifiedBy>habakukk</cp:lastModifiedBy>
  <dcterms:modified xsi:type="dcterms:W3CDTF">2008-12-18T08:49:54Z</dcterms:modified>
  <cp:revision>13</cp:revision>
  <dc:subject/>
  <dc:title>Projektirányítás elmélet 4. előadás</dc:title>
</cp:coreProperties>
</file>