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320-DF05-4FDD-BB61-4851C79C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208-F339-4710-822A-C167FEA8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F10-FC85-425B-8A8A-D47F2267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A3B-FEA5-4099-A8B7-BCE3F278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CF0C-3C7B-4BF7-9FD4-77008D1C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DF7B-B0C9-4D67-B8F1-F3BC9CC2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A9DA-A6B7-496F-8A34-249606B7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B8BC-CCC2-4394-AF58-1A790FAB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A97D-21DE-4844-ADB6-EFAD7525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29E0-0552-4C1D-8494-513560E4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D808-B030-4429-8743-C7C41C2F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C2F-E980-436C-A745-1BB25FF9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625F-EC15-4802-B929-C5F1155B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28C8-484D-40CF-BF34-48CB0D81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99C2-5120-4997-9B07-F4939ED7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9063-06F2-47D8-BD4F-11BD777C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D8D9-F66C-4D70-9758-96EE4E38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52354-A6A4-4C52-8E10-8C831574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6CC5-20EF-4235-A7EB-32B1D1FF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35A8-0940-4A44-B7BB-2B43C5FC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17072-7CAA-4D6F-96C0-9ADA3F62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1CC11-F059-41DC-AD93-A7B88DAF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0B8-4859-43D3-9957-58F5DB9F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2E7E9-ABD8-4976-9437-FB324949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FC47B-339E-48A7-AD20-215EA436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7B32-3E55-4490-BF5C-85B14E3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4B68-8CA6-480A-96D0-8923DFE2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25AF1-3EC1-49DE-BE64-49CBE245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787E-73BF-48CC-AEBD-801DD6F1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0A40-22BE-4656-8F7F-5C3E84C4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C3C1A-2091-4E3E-9AC8-EB75D36B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3D070-C137-4D2D-A761-B27F0D65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E6794-4C8C-4B8E-A672-02712FD5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5DE-EBE4-4425-B88F-E7C26540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85F98-54E3-45B1-A29C-CE2945DA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54F80-DB14-48BF-AA11-3F2B2E1B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F0B81-E600-4106-A4D4-E952A316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5729C-F59D-4DCA-B4FE-E698653E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20755-7B63-4279-9440-73723699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5FDD1-BA2C-4B52-93F8-914C6F51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F15BD-12AE-4914-85A5-42088CCA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23021-543C-4181-A713-B2BF19A9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BBFB2-CB4B-4F58-8505-B62D7FA1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5AC-CD31-4B28-BF42-8702285B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4B7-0945-4A50-9709-4154A4E8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0C9-8D48-48A7-B4D8-A8BE47F0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3DA-6A0E-437B-8D2C-25E23A2C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B02-723F-43EA-A624-CAE0E007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5CE1-C936-4BF5-9EAF-18A154300A17}" type="slidenum"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1271-E644-4D79-9806-6D8D8BA55ABB}" type="slidenum"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56FE-7553-4986-9435-70A6668E108C}" type="slidenum"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gy sarkán kerekítve levágott téglalap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Derékszögű háromszög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Szabadkézi sokszög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Szabadkézi sokszög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E052-A034-42B4-B6B4-43F35F27B028}" type="slidenum"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Cím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z Australopithec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Kb. 4,1 millió éve élhetett Afrikában az </a:t>
            </a:r>
            <a:r>
              <a:rPr b="0" i="1" lang="hu-HU" sz="2400" spc="-1" strike="noStrike">
                <a:solidFill>
                  <a:srgbClr val="000000"/>
                </a:solidFill>
                <a:latin typeface="Constantia"/>
              </a:rPr>
              <a:t>Australopithecus </a:t>
            </a: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(képen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Élőhelyük igen változatos, Afrika füves szavannáin, ligeterdőiben és erdőiben egyaránt előfordultak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3,5 millió éves Australopithecus afarensis fosszíliái egyértelműen bizonyítják, hogy a csoport tagjai felegyenesedve, két lábon járta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Tartalom helye 5" descr="http://termtud.akg.hu/okt/9/3/anam200.jpg"/>
          <p:cNvPicPr/>
          <p:nvPr/>
        </p:nvPicPr>
        <p:blipFill>
          <a:blip r:embed="rId1"/>
          <a:stretch/>
        </p:blipFill>
        <p:spPr>
          <a:xfrm>
            <a:off x="857160" y="2214720"/>
            <a:ext cx="31435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z Australopithec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3714480"/>
            <a:ext cx="40384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Australopithecus africanu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Tartalom helye 4" descr="http://termtud.akg.hu/okt/9/3/afri200.JPG"/>
          <p:cNvPicPr/>
          <p:nvPr/>
        </p:nvPicPr>
        <p:blipFill>
          <a:blip r:embed="rId1"/>
          <a:stretch/>
        </p:blipFill>
        <p:spPr>
          <a:xfrm>
            <a:off x="285840" y="2571840"/>
            <a:ext cx="4143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 homo habil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első emberi faj a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omo habilis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(képen), amely 2-1,6 millió éve élhetet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. habilis, másnéven ügyes ember már két lábon járt, gyűjtögetett és kőeszközöket használ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Tartalom helye 4" descr="http://termtud.akg.hu/okt/9/3/habil200.jpg"/>
          <p:cNvPicPr/>
          <p:nvPr/>
        </p:nvPicPr>
        <p:blipFill>
          <a:blip r:embed="rId1"/>
          <a:stretch/>
        </p:blipFill>
        <p:spPr>
          <a:xfrm>
            <a:off x="642960" y="2857680"/>
            <a:ext cx="3786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 homo erect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omo erectus afrikai származású, 1,2 millió éve már élt faj feltehetően a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. sapiens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ő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. erectus (felegyenesedett ember) teljesen felegyenesedve járt, vadászott, tüzet és finom kőeszközöket használ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Tartalom helye 4" descr="http://termtud.akg.hu/okt/9/3/erect200.jpg"/>
          <p:cNvPicPr/>
          <p:nvPr/>
        </p:nvPicPr>
        <p:blipFill>
          <a:blip r:embed="rId1"/>
          <a:stretch/>
        </p:blipFill>
        <p:spPr>
          <a:xfrm>
            <a:off x="428760" y="2714760"/>
            <a:ext cx="4071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 homo sapie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. sapiens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(bölcs ember, ösember) barlangokban vagy kunyhókban lakott, állatokat kezdett háziasítani és a leletek között a varázslás, a művészet nyomait is felfedezhetjü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Tartalom helye 4" descr="http://termtud.akg.hu/okt/9/3/sapiens201.jpg"/>
          <p:cNvPicPr/>
          <p:nvPr/>
        </p:nvPicPr>
        <p:blipFill>
          <a:blip r:embed="rId1"/>
          <a:stretch/>
        </p:blipFill>
        <p:spPr>
          <a:xfrm>
            <a:off x="428760" y="2714760"/>
            <a:ext cx="4071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 homo sapiens sapie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eljegesedés utáni felmelegedés (kb. 10 ezer éve) kezdetétől beszélünk mai emberrő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. sapiens sapiens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. sapiens alfaja, amely a kontinensmozgásoknak köszönhetően ma négy nagyrasszra oszlik (europid, negrid, mongolid, ausztrolid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Tartalom helye 4" descr="http://termtud.akg.hu/okt/9/3/hss200.jpg"/>
          <p:cNvPicPr/>
          <p:nvPr/>
        </p:nvPicPr>
        <p:blipFill>
          <a:blip r:embed="rId1"/>
          <a:stretch/>
        </p:blipFill>
        <p:spPr>
          <a:xfrm>
            <a:off x="285840" y="2714760"/>
            <a:ext cx="4214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3:26:12Z</dcterms:created>
  <dc:creator>Tanár</dc:creator>
  <dc:description/>
  <dc:language>en-US</dc:language>
  <cp:lastModifiedBy>Tanár</cp:lastModifiedBy>
  <dcterms:modified xsi:type="dcterms:W3CDTF">2008-10-15T16:06:41Z</dcterms:modified>
  <cp:revision>2</cp:revision>
  <dc:subject/>
  <dc:title>Az emberré válás folyamata</dc:title>
</cp:coreProperties>
</file>