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A655-7842-4126-8B7B-55CD72A2D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3CA4-7BE3-4923-88DB-00971914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02F4-EEFA-473D-8E8B-AA332DAAE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A264-DD65-41D4-A0F3-DD5E1E6D4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BD44-0DF4-4BA3-8DC0-068ED6D2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1E34-7FA5-4A5E-B10B-429EA5A1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93BC-04C4-446C-A446-42D6A8DF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F2B5-0708-43D3-9303-ACD324ED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34A6-7583-4F15-9B53-5647264A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3984-BDBA-4597-BA4A-0FC6F290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BEB9-E974-4317-B9DF-24F09916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53B1-C5CF-4E9D-9B6A-0247F2EE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72D1-568E-4F4D-B7BC-6164AD6B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048F-580E-4B7F-80A1-DF933188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2473-2018-43E7-97D3-9EFDEF88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212C-850F-4193-A8CC-EF3B3DB2E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9D1A-6B42-4D66-8CE6-7937FCA7E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F31B8-D53F-4A5A-87F7-9A14B0D32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9FE85-5A26-484C-9F56-3FB7C8A9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EC156-E676-4EEF-8559-278540E0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B0D67-889F-452F-8A4A-040752CD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04DC3-8C29-4BB1-B572-0F96F8D3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0B0B-F876-4123-90A8-947F6B7A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9EE8E-A504-4B67-B74B-CCD898E2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EA01D-E65E-4A5A-A669-75C02D11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E54E8-F1FB-49FB-B488-A232211E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D624C-50C2-4145-AFBC-82A9EA3F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29715-E839-4A28-8E56-A82C9BE6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4C357-F056-40B4-BA7C-213C90153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1B763-2752-43C6-A010-FCF6BEE04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F2ED3-FA1B-4B21-A6CC-76FCAF96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E3FCA-352F-47CA-91B6-BC7BBB94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DF7E6-1D32-4896-BC16-7DB79A0F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2E05-D433-4B7E-A16F-EA770877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A0099-DF8B-48EB-9DA7-95446F98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59944-6A06-41DD-A4EB-2C05FCE9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C821D-6BBE-421A-BA91-AAE58C73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253D3-7FB1-4B14-B0F4-D5DF0F60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4AAC6-C8F0-4613-87D1-891A9C4F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1AE2F-311C-44CB-963F-E1A1FF65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E2DE9-EB72-4FC2-AE06-4598A134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DE4A9-6F91-4122-86BD-673D0C1DC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A516C-071E-4514-AAB3-FC26154D0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09F3-C93F-42E0-9F17-EFEDE898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F8FF-9B0D-42BD-AB1B-D3358E5F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6921-0BBA-4C35-ACC7-64014FA8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FEDE-655F-40F3-9AE7-A6E4F68E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3EF2-681A-4B9A-B46C-EBE09013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zabadkézi sokszög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Szabadkézi sokszög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D4DD-22D9-41F8-9FFD-424B34B88BC5}" type="slidenum">
              <a:rPr b="0" lang="hu-H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Csoportba foglalás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Szabadkézi sokszög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Szabadkézi sokszög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Szabadkézi sokszög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Szabadkézi sokszög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zabadkézi sokszög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Szabadkézi sokszög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Csoportba foglalás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Szabadkézi sokszög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Szabadkézi sokszög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Szabadkézi sokszög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Szabadkézi sokszög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5008-373A-4943-A43B-51124E39852E}" type="slidenum">
              <a:rPr b="0" lang="hu-H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zabadkézi sokszög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Szabadkézi sokszög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Csoportba foglalás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Szabadkézi sokszög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Szabadkézi sokszög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Szabadkézi sokszög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Szabadkézi sokszög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596B-5631-43F8-97DD-7D7872FED9A3}" type="slidenum">
              <a:rPr b="0" lang="hu-H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gy sarkán kerekítve levágott téglalap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Derékszögű háromszög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Szabadkézi sokszög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Szabadkézi sokszög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4D99-F44A-4779-8B26-365F8360A07F}" type="slidenum">
              <a:rPr b="0" lang="hu-H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Cím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6144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Az Australopithecu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Kb. 4,1 millió éve élhetett Afrikában az </a:t>
            </a:r>
            <a:r>
              <a:rPr b="0" i="1" lang="hu-HU" sz="2400" spc="-1" strike="noStrike">
                <a:solidFill>
                  <a:srgbClr val="000000"/>
                </a:solidFill>
                <a:latin typeface="Constantia"/>
              </a:rPr>
              <a:t>Australopithecus </a:t>
            </a: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(képen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Élőhelyük igen változatos, Afrika füves szavannáin, ligeterdőiben és erdőiben egyaránt előfordultak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A 3,5 millió éves Australopithecus afarensis fosszíliái egyértelműen bizonyítják, hogy a csoport tagjai felegyenesedve, két lábon járta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8" name="Tartalom helye 5" descr="http://termtud.akg.hu/okt/9/3/anam200.jpg"/>
          <p:cNvPicPr/>
          <p:nvPr/>
        </p:nvPicPr>
        <p:blipFill>
          <a:blip r:embed="rId1"/>
          <a:stretch/>
        </p:blipFill>
        <p:spPr>
          <a:xfrm>
            <a:off x="857160" y="2214720"/>
            <a:ext cx="31435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Az Australopithecu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8320" y="3714480"/>
            <a:ext cx="403848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Australopithecus africanu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Tartalom helye 4" descr="http://termtud.akg.hu/okt/9/3/afri200.JPG"/>
          <p:cNvPicPr/>
          <p:nvPr/>
        </p:nvPicPr>
        <p:blipFill>
          <a:blip r:embed="rId1"/>
          <a:stretch/>
        </p:blipFill>
        <p:spPr>
          <a:xfrm>
            <a:off x="285840" y="2571840"/>
            <a:ext cx="41432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A homo habili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első emberi faj a 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Homo habilis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(képen), amely 2-1,6 millió éve élhetet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H. habilis, másnéven ügyes ember már két lábon járt, gyűjtögetett és kőeszközöket használ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Tartalom helye 4" descr="http://termtud.akg.hu/okt/9/3/habil200.jpg"/>
          <p:cNvPicPr/>
          <p:nvPr/>
        </p:nvPicPr>
        <p:blipFill>
          <a:blip r:embed="rId1"/>
          <a:stretch/>
        </p:blipFill>
        <p:spPr>
          <a:xfrm>
            <a:off x="642960" y="2857680"/>
            <a:ext cx="37861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A homo erectu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homo erectus afrikai származású, 1,2 millió éve már élt faj feltehetően a 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H. sapiens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ős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H. erectus (felegyenesedett ember) teljesen felegyenesedve járt, vadászott, tüzet és finom kőeszközöket használ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Tartalom helye 4" descr="http://termtud.akg.hu/okt/9/3/erect200.jpg"/>
          <p:cNvPicPr/>
          <p:nvPr/>
        </p:nvPicPr>
        <p:blipFill>
          <a:blip r:embed="rId1"/>
          <a:stretch/>
        </p:blipFill>
        <p:spPr>
          <a:xfrm>
            <a:off x="428760" y="2714760"/>
            <a:ext cx="40719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A homo sapie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H. sapiens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(bölcs ember, ösember) barlangokban vagy kunyhókban lakott, állatokat kezdett háziasítani és a leletek között a varázslás, a művészet nyomait is felfedezhetjük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Tartalom helye 4" descr="http://termtud.akg.hu/okt/9/3/sapiens201.jpg"/>
          <p:cNvPicPr/>
          <p:nvPr/>
        </p:nvPicPr>
        <p:blipFill>
          <a:blip r:embed="rId1"/>
          <a:stretch/>
        </p:blipFill>
        <p:spPr>
          <a:xfrm>
            <a:off x="428760" y="2714760"/>
            <a:ext cx="40719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A homo sapiens sapie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eljegesedés utáni felmelegedés (kb. 10 ezer éve) kezdetétől beszélünk mai emberrő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H. sapiens sapiens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H. sapiens alfaja, amely a kontinensmozgásoknak köszönhetően ma négy nagyrasszra oszlik (europid, negrid, mongolid, ausztrolid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Tartalom helye 4" descr="http://termtud.akg.hu/okt/9/3/hss200.jpg"/>
          <p:cNvPicPr/>
          <p:nvPr/>
        </p:nvPicPr>
        <p:blipFill>
          <a:blip r:embed="rId1"/>
          <a:stretch/>
        </p:blipFill>
        <p:spPr>
          <a:xfrm>
            <a:off x="285840" y="2714760"/>
            <a:ext cx="4214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13:26:12Z</dcterms:created>
  <dc:creator>Tanár</dc:creator>
  <dc:description/>
  <dc:language>en-US</dc:language>
  <cp:lastModifiedBy>Tanár</cp:lastModifiedBy>
  <dcterms:modified xsi:type="dcterms:W3CDTF">2008-10-15T16:06:41Z</dcterms:modified>
  <cp:revision>2</cp:revision>
  <dc:subject/>
  <dc:title>Az emberré válás folyamata</dc:title>
</cp:coreProperties>
</file>