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CD17ED-2322-4F47-A711-9E2CF401A2B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99E9A3-9622-4972-928E-91AD2BE48B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Illesszen be egy 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k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pet az ors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720B03-B2E3-4E04-8C38-57954C2333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Illesszen be egy k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pet az ors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 egy f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ldrajzi jellegzetes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ő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C99EB5-7A0C-406B-A72C-25721B4DAF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adott évszakban készült képet az országró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936A77-BFCC-4B75-8219-871740C155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 az országban honos állatok vagy növények egyikérő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0B0E71-6E61-441F-919E-848709870F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Adja hoz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 az időrendi beosz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shoz a főbb 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nelmi pontok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F7D099-1046-45E8-B2F5-AB8AE5977A7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hagyományt vagy szokást ábrázoló kép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2950F0-B833-4D7A-BEC8-C2A5A7C06B4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 az ország egy vezetőjérő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7E0EC04-1FF6-447E-86D3-15316B2B06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, amely az ország gazdaságát szemlélte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903-C6DA-4830-96DD-718641AA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7D0-0F8B-4B34-A4FB-76A50AC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BD4-D75E-4D27-8B89-63125E39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218-9D15-479C-9B8F-B050BA9D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58D-A455-4706-8A1B-0DFE440F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54C2-BD2B-4BAB-927E-AD4C906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447-3612-4872-B3E2-510C822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6EC-03F9-46E7-A91C-4D91E6F0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AC67-DF98-4F64-832F-4BA2627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030C-8E97-44FF-BB4B-6466C898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A1B-C0F2-4D3B-8F3D-357CE07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EBB-1829-4530-9BAA-B646CBA7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81D2-3A30-41BA-8C6F-0DAA8E2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4A41-133B-4ED9-9A3A-99A2034E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3BB-3964-44D3-8914-D07882B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E9DA-7FCA-4199-BEBF-2B713452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014-3B4F-4259-852A-26BDC339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144-5D3B-4067-9539-626F853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D74-57B6-47E3-B46B-E727AD1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F9C-5AAC-4F71-93B4-5EA08CA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2D7-F9B0-43D9-90AD-9F1E75C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F4D-856B-43A2-B41E-393817C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168-8E26-49E6-91F6-05C1C58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D3E-C854-41AE-AD44-B2A2EBC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35E-36E3-4142-B8CC-8D67FAB1B628}" type="slidenum">
              <a:rPr b="0" lang="hu-HU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D72B-47FE-452F-98C8-7AC80A27D23D}" type="slidenum">
              <a:rPr b="0" lang="hu-HU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görög-perzsa háború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perzsa birodalom legyőzi a kisázsiai államokat az i.e. VI. század végé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i.e. 505-500 között </a:t>
            </a:r>
            <a:r>
              <a:rPr b="0" lang="hu-HU" sz="2000" spc="-1" strike="noStrike">
                <a:solidFill>
                  <a:srgbClr val="ff0000"/>
                </a:solidFill>
                <a:latin typeface="Century Schoolbook"/>
              </a:rPr>
              <a:t>Miléto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vezetésével lázadás kezdődi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Ezt a perzsák (</a:t>
            </a:r>
            <a:r>
              <a:rPr b="0" lang="hu-HU" sz="2000" spc="-1" strike="noStrike">
                <a:solidFill>
                  <a:srgbClr val="ff0000"/>
                </a:solidFill>
                <a:latin typeface="Century Schoolbook"/>
              </a:rPr>
              <a:t>I. Dareio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) kegyetlenül leverik, s elhatározzák, hogy legyőzik az európai görögöket i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(ok: Athén segített a görög lázadóknak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Picture 18" descr="D:\Történelem CD\CD1\tartalom\kep\2_2\01.jpg"/>
          <p:cNvPicPr/>
          <p:nvPr/>
        </p:nvPicPr>
        <p:blipFill>
          <a:blip r:embed="rId1"/>
          <a:stretch/>
        </p:blipFill>
        <p:spPr>
          <a:xfrm>
            <a:off x="4971960" y="2209680"/>
            <a:ext cx="3776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görög-perzsa háborúk menet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. szakas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</a:rPr>
              <a:t>i.e. 49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- a perzsa flotta megsemmisül a viharb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I.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</a:rPr>
              <a:t>i.e. 490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</a:rPr>
              <a:t>Marathon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Miltiadész 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↔ Dareio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III.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  <a:ea typeface="Arial"/>
              </a:rPr>
              <a:t>i.e. 480-47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Thermopülei-szoros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Leonidasz ↔ Xerxé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Szalamiszi öböl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emistoklész ↔ Xerxé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lataia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auszaniasz (spárta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IV.(befejező)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  <a:ea typeface="Arial"/>
              </a:rPr>
              <a:t>i.e. 448-i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e. 49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440" y="5285880"/>
            <a:ext cx="77864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Dareiosz első támadása kudarcot szenvedett egy tengeri vihar miatt, kénytelen volt visszafordul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szárazföldi serege is vereséget szenved Thrákiába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1" name="Picture 18" descr="D:\Történelem CD\CD1\tartalom\kep\2_2\01.jpg"/>
          <p:cNvPicPr/>
          <p:nvPr/>
        </p:nvPicPr>
        <p:blipFill>
          <a:blip r:embed="rId1"/>
          <a:stretch/>
        </p:blipFill>
        <p:spPr>
          <a:xfrm>
            <a:off x="2071800" y="1214280"/>
            <a:ext cx="4897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hadviselé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5" name="Picture 16" descr="D:\Történelem CD\CD1\tartalom\kep\3_1\12.jpg"/>
          <p:cNvPicPr/>
          <p:nvPr/>
        </p:nvPicPr>
        <p:blipFill>
          <a:blip r:embed="rId1"/>
          <a:stretch/>
        </p:blipFill>
        <p:spPr>
          <a:xfrm>
            <a:off x="285840" y="2000160"/>
            <a:ext cx="2786040" cy="414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:\Történelem CD\CD1\tartalom\kep\3_1\14.jpg"/>
          <p:cNvPicPr/>
          <p:nvPr/>
        </p:nvPicPr>
        <p:blipFill>
          <a:blip r:embed="rId2"/>
          <a:stretch/>
        </p:blipFill>
        <p:spPr>
          <a:xfrm>
            <a:off x="3357720" y="3286080"/>
            <a:ext cx="5338440" cy="338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D:\Történelem CD\CD1\tartalom\kep\3_1\13.jpg"/>
          <p:cNvPicPr/>
          <p:nvPr/>
        </p:nvPicPr>
        <p:blipFill>
          <a:blip r:embed="rId3"/>
          <a:stretch/>
        </p:blipFill>
        <p:spPr>
          <a:xfrm>
            <a:off x="6572160" y="1214280"/>
            <a:ext cx="2048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 E. 490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4572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Dareio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második támadása szárazföldön és tengeren is zajlo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entury Schoolbook"/>
              </a:rPr>
              <a:t>Marathon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nál </a:t>
            </a: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Miltiadé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serege feltartóztatta, s legyőzte a perzsa sere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25000 perzsa, 10-11000 görö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Falanx harcmodor kialakítá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 győzelem után erőltetett menetben mentek a győztes görögök Athénba, ennek állít emléket 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ratoni futá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" name="Picture 374" descr="D:\Történelem CD\CD1\tartalom\kep\2_2\02.jpg"/>
          <p:cNvPicPr/>
          <p:nvPr/>
        </p:nvPicPr>
        <p:blipFill>
          <a:blip r:embed="rId1"/>
          <a:stretch/>
        </p:blipFill>
        <p:spPr>
          <a:xfrm>
            <a:off x="4386240" y="2000160"/>
            <a:ext cx="4757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Felkészülés az újabb háború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1029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172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z athéni politikusok tudták, hogy a perzsák újra támadni fogna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kérdés: tengeri vagy szárazföldi fejlesztésbe fogjanak-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Century Schoolbook"/>
              </a:rPr>
              <a:t>Themisztoklész</a:t>
            </a: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: tenger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Century Schoolbook"/>
              </a:rPr>
              <a:t>Ariszteidész</a:t>
            </a: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: szárazföld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fejlesztést javasolt, Themisztoklész győz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fejlesztés fedezetét a laurioni ezüstbányák adtá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5257800" y="3200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e. 48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Dareiosz fia </a:t>
            </a:r>
            <a:r>
              <a:rPr b="0" lang="hu-HU" sz="2000" spc="-1" strike="noStrike">
                <a:solidFill>
                  <a:srgbClr val="cc3300"/>
                </a:solidFill>
                <a:latin typeface="Century Schoolbook"/>
              </a:rPr>
              <a:t>Xerxé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újra támad: 200000 katona, 650 haj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hu-HU" sz="2000" spc="-1" strike="noStrike">
                <a:solidFill>
                  <a:srgbClr val="c00000"/>
                </a:solidFill>
                <a:latin typeface="Century Schoolbook"/>
              </a:rPr>
              <a:t>Thermopülai-szoros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ban </a:t>
            </a:r>
            <a:r>
              <a:rPr b="0" lang="hu-HU" sz="2000" spc="-1" strike="noStrike">
                <a:solidFill>
                  <a:srgbClr val="cc3300"/>
                </a:solidFill>
                <a:latin typeface="Century Schoolbook"/>
              </a:rPr>
              <a:t>Leonida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spártai király 300 katonája hősiesen ellánáll, majd árulás miatt legyőzik őke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Itt fekszünk, vándor, vidd hírül a spártaiakna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Megcselekedtük, amit megkövetelt a haza”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hu-HU" sz="2000" spc="-1" strike="noStrike">
                <a:solidFill>
                  <a:srgbClr val="c00000"/>
                </a:solidFill>
                <a:latin typeface="Century Schoolbook"/>
              </a:rPr>
              <a:t>szalamiszi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tengeri ütközetben az athéni flotta legyőzte a perzsa hadat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7" name="Picture 11" descr="D:\Történelem CD\CD1\tartalom\kep\2_2\04.jpg"/>
          <p:cNvPicPr/>
          <p:nvPr/>
        </p:nvPicPr>
        <p:blipFill>
          <a:blip r:embed="rId1"/>
          <a:stretch/>
        </p:blipFill>
        <p:spPr>
          <a:xfrm>
            <a:off x="4818240" y="1920960"/>
            <a:ext cx="4182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háborúk lezáró szakasz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305000"/>
            <a:ext cx="7315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entury Schoolbook"/>
              </a:rPr>
              <a:t>i.e. 47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 spártaiak serege </a:t>
            </a: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Pauszania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vezetésével legyőzték </a:t>
            </a:r>
            <a:r>
              <a:rPr b="0" lang="hu-HU" sz="2400" spc="-1" strike="noStrike">
                <a:solidFill>
                  <a:srgbClr val="c00000"/>
                </a:solidFill>
                <a:latin typeface="Century Schoolbook"/>
              </a:rPr>
              <a:t>Plataia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-nál a szárazföldi perzsa sere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Mükalé-hegyfoknál (Kis-Ázsia) tengeri győzel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entury Schoolbook"/>
              </a:rPr>
              <a:t>i.e. 478 – 4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z athéniak létrehozták a perzsaellenes </a:t>
            </a:r>
            <a:r>
              <a:rPr b="0" lang="hu-HU" sz="2400" spc="-1" strike="noStrike">
                <a:solidFill>
                  <a:srgbClr val="e5d093"/>
                </a:solidFill>
                <a:latin typeface="Century Schoolbook"/>
              </a:rPr>
              <a:t>déloszi szövetség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t, melyet később saját céljaikra használnak f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Végül i.e. 448-ban megkötik a háborúkat lezáró béké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01:05Z</dcterms:created>
  <dc:creator>Tanár</dc:creator>
  <dc:description/>
  <dc:language>en-US</dc:language>
  <cp:lastModifiedBy>Tanár</cp:lastModifiedBy>
  <dcterms:modified xsi:type="dcterms:W3CDTF">2009-01-12T14:15:36Z</dcterms:modified>
  <cp:revision>3</cp:revision>
  <dc:subject/>
  <dc:title>A görög-perzsa háború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8</vt:lpwstr>
  </property>
</Properties>
</file>