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2FA38D4-A45E-4CA1-9E9A-535F1B83C96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1E276E4-DD07-46AE-AC73-8B5C524065A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Illesszen be egy t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rk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pet az orsz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gr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4D2F7B1-0EC8-44E1-90AC-04E175B5555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Illesszen be egy k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pet az orsz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g egy f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ldrajzi jellegzetess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rő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6D823BE-A789-4EAD-A7C9-6C802C27A76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llesszen be egy adott évszakban készült képet az országró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EBEAA3F-7549-40D3-8F05-15576F9E41A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llesszen be egy képet az országban honos állatok vagy növények egyikérő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1AEA58E-F09A-4C63-927D-3F964605067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Adja hozz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 az időrendi beoszt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shoz a főbb t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rt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nelmi pontoka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405E523-2CF0-4C75-8942-2DB1E159325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llesszen be egy hagyományt vagy szokást ábrázoló kép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EEE0A1F-29B4-46B6-87A2-0DF1398579D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llesszen be egy képet az ország egy vezetőjérő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C7E339E-A338-4366-A38F-9384A5C4FA5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llesszen be egy képet, amely az ország gazdaságát szemlélte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FE8-AA4A-416C-AE47-DE732F43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917-C5BD-4B0E-861D-D01CADFF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B822-B84E-418D-9F2B-9AE54D6F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BC83-ED4C-4F42-8E9C-DD3E1AB2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C6E3-5B88-47BD-8236-6013AB0D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2557-8D77-49E0-AA28-BB1ECAAD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A94F-A287-4C8A-A07F-F2EE5331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1378-336D-42D6-BBCC-BE61648A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D63C-D7FB-464F-8EE0-6DE0D87F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A182-98B4-4C8A-ADE4-625C59BE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4E28-BD42-4143-9BCB-2D1E55B0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577-7C4E-4AF6-9297-02D0C692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9329-96FA-43BF-8FE7-91C32B4E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460B-397F-4492-9E8F-AD35A73A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E96D-DFCD-436E-BCA6-A9F9E5E0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865D-B367-4071-BC71-EB3FB3A5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4378-87A3-4112-B328-3B969B7E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8E9-49AE-4489-8D1E-12098DAE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3B6A-56AC-4142-8267-37F6FA61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995-41D5-46CD-A020-D9E0697B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D54-962C-4C78-AEB1-C445413A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155-5B82-46E0-8F58-EA4AA413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011-B281-4828-9599-4404FD90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04D-B22F-4A25-BF6A-329A6F58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388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CDCF-FDE0-4014-ACEB-7040098B644D}" type="slidenum">
              <a:rPr b="0" lang="hu-HU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C3C7-621B-46CF-9BEE-CF4D50259069}" type="slidenum">
              <a:rPr b="0" lang="hu-HU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A görög-perzsa háborúk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16000" y="4184280"/>
            <a:ext cx="494676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Előzmények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A perzsa birodalom legyőzi a kisázsiai államokat az i.e. VI. század végér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i.e. 505-500 között </a:t>
            </a:r>
            <a:r>
              <a:rPr b="0" lang="hu-HU" sz="2000" spc="-1" strike="noStrike">
                <a:solidFill>
                  <a:srgbClr val="ff0000"/>
                </a:solidFill>
                <a:latin typeface="Century Schoolbook"/>
              </a:rPr>
              <a:t>Milétosz</a:t>
            </a: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 vezetésével lázadás kezdődi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Ezt a perzsák (</a:t>
            </a:r>
            <a:r>
              <a:rPr b="0" lang="hu-HU" sz="2000" spc="-1" strike="noStrike">
                <a:solidFill>
                  <a:srgbClr val="ff0000"/>
                </a:solidFill>
                <a:latin typeface="Century Schoolbook"/>
              </a:rPr>
              <a:t>I. Dareiosz</a:t>
            </a: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) kegyetlenül leverik, s elhatározzák, hogy legyőzik az európai görögöket i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(ok: Athén segített a görög lázadóknak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3" name="Picture 18" descr="D:\Történelem CD\CD1\tartalom\kep\2_2\01.jpg"/>
          <p:cNvPicPr/>
          <p:nvPr/>
        </p:nvPicPr>
        <p:blipFill>
          <a:blip r:embed="rId1"/>
          <a:stretch/>
        </p:blipFill>
        <p:spPr>
          <a:xfrm>
            <a:off x="4971960" y="2209680"/>
            <a:ext cx="37767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707160" y="26668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A görög-perzsa háborúk menet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72439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I. szakasz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hu-HU" sz="2400" spc="-1" strike="noStrike" u="sng">
                <a:solidFill>
                  <a:srgbClr val="cc3300"/>
                </a:solidFill>
                <a:uFillTx/>
                <a:latin typeface="Century Schoolbook"/>
              </a:rPr>
              <a:t>i.e. 49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- a perzsa flotta megsemmisül a viharb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II. szakasz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r>
              <a:rPr b="0" lang="hu-HU" sz="2400" spc="-1" strike="noStrike" u="sng">
                <a:solidFill>
                  <a:srgbClr val="cc3300"/>
                </a:solidFill>
                <a:uFillTx/>
                <a:latin typeface="Century Schoolbook"/>
              </a:rPr>
              <a:t>i.e. 490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Century Schoolbook"/>
              </a:rPr>
              <a:t>Marathon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Miltiadész 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↔ Dareiosz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III. szakasz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	</a:t>
            </a:r>
            <a:r>
              <a:rPr b="0" lang="hu-HU" sz="2400" spc="-1" strike="noStrike" u="sng">
                <a:solidFill>
                  <a:srgbClr val="cc3300"/>
                </a:solidFill>
                <a:uFillTx/>
                <a:latin typeface="Century Schoolbook"/>
                <a:ea typeface="Arial"/>
              </a:rPr>
              <a:t>i.e. 480-47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Thermopülei-szoros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Leonidasz ↔ Xerxész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Szalamiszi öböl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Themistoklész ↔ Xerxész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lataia</a:t>
            </a:r>
            <a:r>
              <a:rPr b="0" i="1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auszaniasz (spárta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IV.(befejező) szakasz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	</a:t>
            </a:r>
            <a:r>
              <a:rPr b="0" lang="hu-HU" sz="2400" spc="-1" strike="noStrike" u="sng">
                <a:solidFill>
                  <a:srgbClr val="cc3300"/>
                </a:solidFill>
                <a:uFillTx/>
                <a:latin typeface="Century Schoolbook"/>
                <a:ea typeface="Arial"/>
              </a:rPr>
              <a:t>i.e. 448-i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Kr.e. 492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28440" y="5285880"/>
            <a:ext cx="778644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Dareiosz első támadása kudarcot szenvedett egy tengeri vihar miatt, kénytelen volt visszaforduln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szárazföldi serege is vereséget szenved Thrákiába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1" name="Picture 18" descr="D:\Történelem CD\CD1\tartalom\kep\2_2\01.jpg"/>
          <p:cNvPicPr/>
          <p:nvPr/>
        </p:nvPicPr>
        <p:blipFill>
          <a:blip r:embed="rId1"/>
          <a:stretch/>
        </p:blipFill>
        <p:spPr>
          <a:xfrm>
            <a:off x="2071800" y="1214280"/>
            <a:ext cx="48974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5775480" y="263196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410080" y="35053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A hadviselé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5" name="Picture 16" descr="D:\Történelem CD\CD1\tartalom\kep\3_1\12.jpg"/>
          <p:cNvPicPr/>
          <p:nvPr/>
        </p:nvPicPr>
        <p:blipFill>
          <a:blip r:embed="rId1"/>
          <a:stretch/>
        </p:blipFill>
        <p:spPr>
          <a:xfrm>
            <a:off x="285840" y="2000160"/>
            <a:ext cx="2786040" cy="4143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D:\Történelem CD\CD1\tartalom\kep\3_1\14.jpg"/>
          <p:cNvPicPr/>
          <p:nvPr/>
        </p:nvPicPr>
        <p:blipFill>
          <a:blip r:embed="rId2"/>
          <a:stretch/>
        </p:blipFill>
        <p:spPr>
          <a:xfrm>
            <a:off x="3357720" y="3286080"/>
            <a:ext cx="5338440" cy="338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D:\Történelem CD\CD1\tartalom\kep\3_1\13.jpg"/>
          <p:cNvPicPr/>
          <p:nvPr/>
        </p:nvPicPr>
        <p:blipFill>
          <a:blip r:embed="rId3"/>
          <a:stretch/>
        </p:blipFill>
        <p:spPr>
          <a:xfrm>
            <a:off x="6572160" y="1214280"/>
            <a:ext cx="2048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Kr. E. 490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45720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cc3300"/>
                </a:solidFill>
                <a:latin typeface="Century Schoolbook"/>
              </a:rPr>
              <a:t>Dareiosz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 második támadása szárazföldön és tengeren is zajlot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Century Schoolbook"/>
              </a:rPr>
              <a:t>Marathon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nál </a:t>
            </a:r>
            <a:r>
              <a:rPr b="0" lang="hu-HU" sz="2400" spc="-1" strike="noStrike">
                <a:solidFill>
                  <a:srgbClr val="cc3300"/>
                </a:solidFill>
                <a:latin typeface="Century Schoolbook"/>
              </a:rPr>
              <a:t>Miltiadész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 serege feltartóztatta, s legyőzte a perzsa sereg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25000 perzsa, 10-11000 görö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Falanx harcmodor kialakítá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A győzelem után erőltetett menetben mentek a győztes görögök Athénba, ennek állít emléket a </a:t>
            </a:r>
            <a:r>
              <a:rPr b="0" i="1" lang="hu-H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aratoni futá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0" name="Picture 374" descr="D:\Történelem CD\CD1\tartalom\kep\2_2\02.jpg"/>
          <p:cNvPicPr/>
          <p:nvPr/>
        </p:nvPicPr>
        <p:blipFill>
          <a:blip r:embed="rId1"/>
          <a:stretch/>
        </p:blipFill>
        <p:spPr>
          <a:xfrm>
            <a:off x="4386240" y="2000160"/>
            <a:ext cx="47577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Felkészülés az újabb háborúr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Text Box 1029"/>
          <p:cNvSpPr/>
          <p:nvPr/>
        </p:nvSpPr>
        <p:spPr>
          <a:xfrm>
            <a:off x="5867280" y="30481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1722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Az athéni politikusok tudták, hogy a perzsák újra támadni fognak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A kérdés: tengeri vagy szárazföldi fejlesztésbe fogjanak-e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00000"/>
                </a:solidFill>
                <a:latin typeface="Century Schoolbook"/>
              </a:rPr>
              <a:t>Themisztoklész</a:t>
            </a: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: tenger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00000"/>
                </a:solidFill>
                <a:latin typeface="Century Schoolbook"/>
              </a:rPr>
              <a:t>Ariszteidész</a:t>
            </a: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: szárazföld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fejlesztést javasolt, Themisztoklész győz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A fejlesztés fedezetét a laurioni ezüstbányák adták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5257800" y="32004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Kr.e. 480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Dareiosz fia </a:t>
            </a:r>
            <a:r>
              <a:rPr b="0" lang="hu-HU" sz="2000" spc="-1" strike="noStrike">
                <a:solidFill>
                  <a:srgbClr val="cc3300"/>
                </a:solidFill>
                <a:latin typeface="Century Schoolbook"/>
              </a:rPr>
              <a:t>Xerxész</a:t>
            </a: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 újra támad: 200000 katona, 650 hajó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A </a:t>
            </a:r>
            <a:r>
              <a:rPr b="0" lang="hu-HU" sz="2000" spc="-1" strike="noStrike">
                <a:solidFill>
                  <a:srgbClr val="c00000"/>
                </a:solidFill>
                <a:latin typeface="Century Schoolbook"/>
              </a:rPr>
              <a:t>Thermopülai-szoros</a:t>
            </a: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ban </a:t>
            </a:r>
            <a:r>
              <a:rPr b="0" lang="hu-HU" sz="2000" spc="-1" strike="noStrike">
                <a:solidFill>
                  <a:srgbClr val="cc3300"/>
                </a:solidFill>
                <a:latin typeface="Century Schoolbook"/>
              </a:rPr>
              <a:t>Leonidasz</a:t>
            </a: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 spártai király 300 katonája hősiesen ellánáll, majd árulás miatt legyőzik őke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entury Schoolbook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Century Schoolbook"/>
              </a:rPr>
              <a:t>Itt fekszünk, vándor, vidd hírül a spártaiaknak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entury Schoolbook"/>
              </a:rPr>
              <a:t>Megcselekedtük, amit megkövetelt a haza”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A </a:t>
            </a:r>
            <a:r>
              <a:rPr b="0" lang="hu-HU" sz="2000" spc="-1" strike="noStrike">
                <a:solidFill>
                  <a:srgbClr val="c00000"/>
                </a:solidFill>
                <a:latin typeface="Century Schoolbook"/>
              </a:rPr>
              <a:t>szalamiszi</a:t>
            </a:r>
            <a:r>
              <a:rPr b="0" lang="hu-HU" sz="2000" spc="-1" strike="noStrike">
                <a:solidFill>
                  <a:srgbClr val="000000"/>
                </a:solidFill>
                <a:latin typeface="Century Schoolbook"/>
              </a:rPr>
              <a:t> tengeri ütközetben az athéni flotta legyőzte a perzsa hadat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7" name="Picture 11" descr="D:\Történelem CD\CD1\tartalom\kep\2_2\04.jpg"/>
          <p:cNvPicPr/>
          <p:nvPr/>
        </p:nvPicPr>
        <p:blipFill>
          <a:blip r:embed="rId1"/>
          <a:stretch/>
        </p:blipFill>
        <p:spPr>
          <a:xfrm>
            <a:off x="4818240" y="1920960"/>
            <a:ext cx="418284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entury Schoolbook"/>
              </a:rPr>
              <a:t>A háborúk lezáró szakasz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305000"/>
            <a:ext cx="731520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entury Schoolbook"/>
              </a:rPr>
              <a:t>i.e. 47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A spártaiak serege </a:t>
            </a:r>
            <a:r>
              <a:rPr b="0" lang="hu-HU" sz="2400" spc="-1" strike="noStrike">
                <a:solidFill>
                  <a:srgbClr val="cc3300"/>
                </a:solidFill>
                <a:latin typeface="Century Schoolbook"/>
              </a:rPr>
              <a:t>Pauszaniasz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 vezetésével legyőzték </a:t>
            </a:r>
            <a:r>
              <a:rPr b="0" lang="hu-HU" sz="2400" spc="-1" strike="noStrike">
                <a:solidFill>
                  <a:srgbClr val="c00000"/>
                </a:solidFill>
                <a:latin typeface="Century Schoolbook"/>
              </a:rPr>
              <a:t>Plataia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-nál a szárazföldi perzsa sereg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Mükalé-hegyfoknál (Kis-Ázsia) tengeri győzel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entury Schoolbook"/>
              </a:rPr>
              <a:t>i.e. 478 – 4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Az athéniak létrehozták a perzsaellenes </a:t>
            </a:r>
            <a:r>
              <a:rPr b="0" lang="hu-HU" sz="2400" spc="-1" strike="noStrike">
                <a:solidFill>
                  <a:srgbClr val="e5d093"/>
                </a:solidFill>
                <a:latin typeface="Century Schoolbook"/>
              </a:rPr>
              <a:t>déloszi szövetség</a:t>
            </a: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et, melyet később saját céljaikra használnak f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Végül i.e. 448-ban megkötik a háborúkat lezáró béké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3:01:05Z</dcterms:created>
  <dc:creator>Tanár</dc:creator>
  <dc:description/>
  <dc:language>en-US</dc:language>
  <cp:lastModifiedBy>Tanár</cp:lastModifiedBy>
  <dcterms:modified xsi:type="dcterms:W3CDTF">2009-01-12T14:15:36Z</dcterms:modified>
  <cp:revision>3</cp:revision>
  <dc:subject/>
  <dc:title>A görög-perzsa háború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11038</vt:lpwstr>
  </property>
</Properties>
</file>