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13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BB0C-9403-4177-B968-6F4643A2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795-5059-435F-8C00-DDE34189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40B1-C377-418E-828E-5E2FADA3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970-27AF-4DEE-96CA-E9D7191E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5203-0D0A-4B6C-BBAD-DE34C45F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C975-277C-4811-8841-4B9FC48B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B9F9-D9E8-4570-A94F-F0162BA1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0D83-BFD5-4152-872C-32D029E3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01DE-27F9-48EC-A602-E5753558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05E7-9F00-408F-930A-F8139F5A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A13E-0680-4F2F-AFBB-611ADA9E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7C0-2F38-4DE2-A407-ED809A33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3733-225D-4FF7-9295-5F1DC828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C541-23CC-4277-B8AC-08A2D0BB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107B-09DF-4B56-8D69-46076695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F087-8DAA-4F82-95FA-DD4861A6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675C-9C94-43DB-BBF1-52D92BD7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349-CD3A-4CB2-AE6A-61D5D229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14E9-5668-4113-AADA-9DC9CD32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260-3A0A-4FC5-B33D-B4DE4CA2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A36-B853-42C9-A958-0C5C22ED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EFE-2EC0-4D61-912F-B5DBF96C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790-1B59-4AAF-A50F-E6EF7760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ADB-B7DC-4C3B-AA75-2F172774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8AB4-0E85-4ABF-8D9F-6A4B0B743EA6}" type="slidenum">
              <a:rPr b="0" lang="hu-H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1C45-0B35-4A5A-B30C-036B4E7E4910}" type="slidenum">
              <a:rPr b="0" lang="hu-H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world-tourism.org/" TargetMode="External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oecd.org/" TargetMode="External"/><Relationship Id="rId2" Type="http://schemas.openxmlformats.org/officeDocument/2006/relationships/hyperlink" Target="http://www.oecd.org/" TargetMode="External"/><Relationship Id="rId3" Type="http://schemas.openxmlformats.org/officeDocument/2006/relationships/hyperlink" Target="http://www.oecd.org/" TargetMode="External"/><Relationship Id="rId4" Type="http://schemas.openxmlformats.org/officeDocument/2006/relationships/hyperlink" Target="http://www.europe.eu.int/com/eurostat" TargetMode="External"/><Relationship Id="rId5" Type="http://schemas.openxmlformats.org/officeDocument/2006/relationships/hyperlink" Target="http://www.europe.eu.int/com/eurostat" TargetMode="External"/><Relationship Id="rId6" Type="http://schemas.openxmlformats.org/officeDocument/2006/relationships/hyperlink" Target="http://www.europe.eu.int/com/eurostat" TargetMode="External"/><Relationship Id="rId7" Type="http://schemas.openxmlformats.org/officeDocument/2006/relationships/hyperlink" Target="http://www.europe.eu.int/com/eurostat" TargetMode="External"/><Relationship Id="rId8" Type="http://schemas.openxmlformats.org/officeDocument/2006/relationships/hyperlink" Target="http://www.europe.eu.int/com/eurostat" TargetMode="External"/><Relationship Id="rId9" Type="http://schemas.openxmlformats.org/officeDocument/2006/relationships/hyperlink" Target="http://www.europe.eu.int/com/eurostat" TargetMode="External"/><Relationship Id="rId10" Type="http://schemas.openxmlformats.org/officeDocument/2006/relationships/hyperlink" Target="http://www.europe.eu.int/com/eurostat" TargetMode="External"/><Relationship Id="rId11" Type="http://schemas.openxmlformats.org/officeDocument/2006/relationships/hyperlink" Target="http://www.europe.eu.int/com/eurostat" TargetMode="External"/><Relationship Id="rId12" Type="http://schemas.openxmlformats.org/officeDocument/2006/relationships/hyperlink" Target="http://www.wttc.org/" TargetMode="External"/><Relationship Id="rId13" Type="http://schemas.openxmlformats.org/officeDocument/2006/relationships/hyperlink" Target="http://www.wttc.org/" TargetMode="External"/><Relationship Id="rId14" Type="http://schemas.openxmlformats.org/officeDocument/2006/relationships/hyperlink" Target="http://www.wttc.org/" TargetMode="External"/><Relationship Id="rId15" Type="http://schemas.openxmlformats.org/officeDocument/2006/relationships/hyperlink" Target="http://www.etc-europe-travel.org/" TargetMode="External"/><Relationship Id="rId16" Type="http://schemas.openxmlformats.org/officeDocument/2006/relationships/hyperlink" Target="http://www.etc-europe-travel.org/" TargetMode="External"/><Relationship Id="rId17" Type="http://schemas.openxmlformats.org/officeDocument/2006/relationships/hyperlink" Target="http://www.etc-europe-travel.org/" TargetMode="External"/><Relationship Id="rId18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ksh.hu/" TargetMode="External"/><Relationship Id="rId2" Type="http://schemas.openxmlformats.org/officeDocument/2006/relationships/hyperlink" Target="http://www.ksh.hu/" TargetMode="External"/><Relationship Id="rId3" Type="http://schemas.openxmlformats.org/officeDocument/2006/relationships/hyperlink" Target="http://www.ksh.hu/" TargetMode="External"/><Relationship Id="rId4" Type="http://schemas.openxmlformats.org/officeDocument/2006/relationships/hyperlink" Target="http://www.ksh.hu/" TargetMode="External"/><Relationship Id="rId5" Type="http://schemas.openxmlformats.org/officeDocument/2006/relationships/hyperlink" Target="http://www.mnb.hu/" TargetMode="External"/><Relationship Id="rId6" Type="http://schemas.openxmlformats.org/officeDocument/2006/relationships/hyperlink" Target="http://www.mnb.hu/" TargetMode="External"/><Relationship Id="rId7" Type="http://schemas.openxmlformats.org/officeDocument/2006/relationships/hyperlink" Target="http://www.mnb.hu/" TargetMode="External"/><Relationship Id="rId8" Type="http://schemas.openxmlformats.org/officeDocument/2006/relationships/hyperlink" Target="http://www.mnb.hu/" TargetMode="External"/><Relationship Id="rId9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Turizmus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Összeállította: Kiss Kornélia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Csere, ügyletek, kapcsolatok /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898560" y="1938240"/>
            <a:ext cx="7940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csere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 megkívánt termék megszerzésének az a változata, amikor viszonzásképp felajánlunk érte vala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hhoz, hogy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csere megtörténjen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Legalább két félre van szüksé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indegyik félnek rendelkeznie kell valamivel, ami a másik számára értéket hordoz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indegyik félnek kommunikációképesnek kell lenn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indegyik félnek rendelkeznie kell az ajánlat elfogadásának, illetve elutasításának jogáv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indkét félnek helyénvalónak vagy kívánatosnak kell tartania a másikkal való megállapodá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evékenység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Piacelemzések alapján a 4P meghatároz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Minden termékre az ár, kommunikációs politika és az értékesítés módjának kialakít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költségek és a várható eredmények meghatároz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arketing mix pr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643680" y="2471760"/>
            <a:ext cx="600228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4 P / 7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000000"/>
                </a:solidFill>
                <a:uFillTx/>
                <a:latin typeface="Tahoma"/>
              </a:rPr>
              <a:t>Termék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Ár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mmunikációs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losztási csatornákra vonatkozó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+3 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746280" y="1905120"/>
            <a:ext cx="8016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mberi tényező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összes olyan szereplő, aki szerepet játszik a szolgáltatásügylet létrejöttében, és így hat az igénybe vevő által észleltekre, azaz a szolgáltató front-személyzete, maga az igénybe vevő, és a szolgáltatásügylet környezetében található más igénybe vevő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árgyi elem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a környezet, amelyben a szolgáltatást nyújtják és ahol az ügylet lezajlik, továbbá bármely olyan tárgyi elem, amely megkönnyíti a szolgáltatás teljesítését vagy kommunikációj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olyama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ok az eljárások, mechanizmusok, tevékenységfolyamatok, melyek műveleti rendszere leszállítja a szolgáltatá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4P (Moriss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822240" y="2243160"/>
            <a:ext cx="801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orisson (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eople – emberi erőfor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ackaging – csomaggá szervez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artnership – együttműkö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rogramming – a mix koordinálása, az egyes elemek összehango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Tipikus marketingkombináció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Kiemelkedő minőségű termé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Tömegá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evékenység eredmény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4P (termékek, árak, elosztási csatornák, kommunikációs politik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lternatívá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ermékpoli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lapfogalma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Kínálat, termék, desztináci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turisztikai termék lehetséges elem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termék fogalma egy vállalat és egy desztináció szempontjábó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termék összeállításának módj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termék életciklus görbe, a desztinációs életciklus gör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Lehetséges termékstratégiá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z Ansoff-mátrix alapjá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piac kihasznál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Piacbővítés vagy piacterem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Termékfejlesztés vagy a piaci rések feltár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Diverzifikáci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BCG portfólió mátr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piaci részesedés és a piaci növekedés alapjá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Csillagok, fejős tehenek, kérdőjelek, döglött kutyá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Csere, ügyletek, kapcsolatok /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06480" y="198108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ügyle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 két fél között cserét jel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apcsola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ügyletek sorozata hosszabb időszakon keresztül ugyanazon szereplők között. A kapcsolat csökkenti az ügyletek költségét és időigényét, a kapcsolat speciális vállalati erőforrá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Kommunikációs poli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lapfogalma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669960" y="2166840"/>
            <a:ext cx="816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romóció, kommunikáció, marketingkommunikáci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ommuniká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zon része, amely a marketingfunkcióhoz tartozik. Az eladótól a vevő felé irányuló információ kibocsátást foglalja magába, annak érdekében, hogy a vásárló attitűdjét és magatartását befolyásol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kommunikációs folya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517680" y="2166840"/>
            <a:ext cx="8321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orrás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üzenet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kódolás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átvitel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zaj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befogadó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dekódolás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válasz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visszacsat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vásárlási folyamat szakasz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roblémafelism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formációgyűj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formációfeldolgozás és érték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döntés megvalósítása, a vásár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döntés utáni magatar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Reklám: nem személyes bemutatá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PR: nem személyes ösztönzés, hosszú. távon 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Értékesítés ösztönzés: személyes ösztönzés, rövid távon 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Személyes eladás: közvetlen szóbeli bemutatás vagy eladási szándék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kommunikáció eszközrendsze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33520" y="2286000"/>
            <a:ext cx="8076960" cy="3597120"/>
            <a:chOff x="533520" y="2286000"/>
            <a:chExt cx="8076960" cy="3597120"/>
          </a:xfrm>
        </p:grpSpPr>
        <p:sp>
          <p:nvSpPr>
            <p:cNvPr id="362" name=""/>
            <p:cNvSpPr/>
            <p:nvPr/>
          </p:nvSpPr>
          <p:spPr>
            <a:xfrm>
              <a:off x="3657600" y="3230640"/>
              <a:ext cx="4952880" cy="26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800" spc="-1" strike="noStrike">
                  <a:solidFill>
                    <a:srgbClr val="000000"/>
                  </a:solidFill>
                  <a:latin typeface="Tahoma"/>
                </a:rPr>
                <a:t>Termék, minőség, ár, választék, csomagolás, forma, design, szerviz, garancia, vevőszolgálat, értékesítési hálózat, eladási feltételek, védjegy, stb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520" y="3230640"/>
              <a:ext cx="3124080" cy="26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800" spc="-1" strike="noStrike">
                  <a:solidFill>
                    <a:srgbClr val="000000"/>
                  </a:solidFill>
                  <a:latin typeface="Tahoma"/>
                </a:rPr>
                <a:t>Reklám, hirdeté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800" spc="-1" strike="noStrike">
                  <a:solidFill>
                    <a:srgbClr val="000000"/>
                  </a:solidFill>
                  <a:latin typeface="Tahoma"/>
                </a:rPr>
                <a:t>Személyes eladá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800" spc="-1" strike="noStrike">
                  <a:solidFill>
                    <a:srgbClr val="000000"/>
                  </a:solidFill>
                  <a:latin typeface="Tahoma"/>
                </a:rPr>
                <a:t>Public rel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800" spc="-1" strike="noStrike">
                  <a:solidFill>
                    <a:srgbClr val="000000"/>
                  </a:solidFill>
                  <a:latin typeface="Tahoma"/>
                </a:rPr>
                <a:t>Eladásösztönzé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57600" y="2286000"/>
              <a:ext cx="49528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000000"/>
                  </a:solidFill>
                  <a:latin typeface="Tahoma"/>
                </a:rPr>
                <a:t>Csak a kommunikációval együtt eredmény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3520" y="2286000"/>
              <a:ext cx="31240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000000"/>
                  </a:solidFill>
                  <a:latin typeface="Tahoma"/>
                </a:rPr>
                <a:t>Eredetében kommunikáció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3520" y="2286000"/>
              <a:ext cx="8076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3520" y="323064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520" y="5883120"/>
              <a:ext cx="8076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3520" y="2286000"/>
              <a:ext cx="0" cy="3597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57600" y="2286000"/>
              <a:ext cx="0" cy="359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610480" y="2286000"/>
              <a:ext cx="0" cy="3597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z eszközrendszer sajátosság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746280" y="2166840"/>
            <a:ext cx="8092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gy meghatározott cél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okféle eszközzel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elérhető, az eszközök egymással helyettesíthető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gy adott cél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gyszerre és egymás mellett többféle eszköz felhasználásával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valósítható meg, az eszközök egymással kombinálható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arketingkommunikáció egyrészt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önálló piacbefolyásol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eszköz, másrészt minden marketingelem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ísérő jelensége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ommunikáció hatását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ohasem önmagában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fejti ki, hanem összekapcsolódva a vele párhuzamosan érvényesülő és ható makroszintű befolyásoló tevékenység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Hirdetés / reklá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669960" y="1905120"/>
            <a:ext cx="8093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reklám olyan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ájékoztató tevékenysé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, amelyet kifejezetten gazdasági célból egy vagy több cég a potenciális fogyasztók befolyásolására meghatározott eszközökkel és hatékonyságra törekedve vég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reklám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árgy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leh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termék tulajdonsága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iegészítő szolgáltatás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á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beszerzési he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időbeosztá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eladási kondíci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csomagolási egység, a védjegy, a vállalati logo, 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hirdetés funkció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822240" y="2319480"/>
            <a:ext cx="794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Igénykeltő és szükségletet befolyásol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funkció (új igények ébresztése, a szükségletek módosítá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iacteremtő funk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, az új termékek megismertetése (új termékek fogyasztókkal való megismerteté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iacstabilizáló és piacbővítő funk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amikor a kínálat előreszalad a kereslethez képest / a vásárlási szokások megváltoztatása, tájékoztatás az eladási feltételekről, az igénybe vehető szolgáltatásokról, st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Reklámhordozó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822240" y="2090880"/>
            <a:ext cx="794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reklámhordoz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médium, média) a reklámüzenetek hordozója, megjelenítője, működtetője, a reklámeszköz közlésének továbbítója, eljuttatója a célszemélyh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Napilapok, hetilapok, képes lapok, szakfolyóiratok, újság mellékletek, hirdetési lapok, címjegyzékek, direct mail, rádió, tv, közterületi reklámhordozók, egyéb reklámhordozók (zárttéri reklámhordozó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Reklámeszközö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669960" y="2243160"/>
            <a:ext cx="8169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reklám mondanivalóját 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reklámeszközzel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fejezzük 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legfontosabb reklámeszközök: élőszó/beszéd, sajtóhirdetés, reklámnyomtatványok, plakát, reklámtáblák, tűzfalhirdetés, fényreklám, rádióreklám, reklámfilm, tv-reklám, reklámajándék, kiállítás és vásár, kirakatreklám, csomagolás, védj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reklámhordozó és a reklámeszköz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gyes esetekben azono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Piac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822240" y="1938240"/>
            <a:ext cx="80168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iac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tényleges és potenciális vevők és eladók, valamint azok cserekapcsolatainak rendszere, melynek legfőbb tényezői a kereslet és kínálat, az ár és jövede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eresle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t fejezi ki, hogy a fogyasztó vagy felhasználó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hajlandó és képe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valamilyen terméket vagy szolgáltatást megvásárolni (egyéni vs. piaci keresle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ínála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t jelenti,  hogy egy vállalat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épes és hajland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eladás céljából valamely terméket vagy szolgáltatást előállítani vagy teljesíteni (egyéni vs. piaci kínála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Reklámeszközök csoportosítá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517680" y="2133720"/>
            <a:ext cx="832140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özvetett és közvetlen 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Látásra, hallásra, látásra és hallásra, egyéb érzékszervre is ható 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rányítható, részben irányítható és nem irányítható 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özterületi és zártterületi reklám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lapeszközök, kiegészítő 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eljes és részleges reklám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Public Rel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822240" y="224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46280" y="2166840"/>
            <a:ext cx="8092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PR célja, hogy a vállalat és közönsége, közvéleménye, illetve szűkebb és tágabb környezete között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egértést és bizalmat építsen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Olyan általános magatartásforma amely arra irányul, hogy a vállalat belső és külső kapcsolatainál megértést, támogatást, bizalmat szerezzen, s ezzel üzleti tevékenységének eredményességét HOSSZÚ távra alapozza me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PR funkció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746280" y="2166840"/>
            <a:ext cx="7940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PR funkció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információadá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információk közvetítése a vállalat számára releváns célcsoportok fel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image-alakítá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vállalat számára kívánatos kép felépítése, a meglevő kép megváltoztatá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vezetés/befolyásolá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releváns közvélemény befolyásolá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ommuniká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kapcsolatok létrehozása a vállalkozás és a vállalkozás számára fontos célcsoportok közöt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gzisztencia-megtartás: a vállalkozásra való utaltság folyamatos szükségességének hiteles bemutatá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PR területeinek rendszerezé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822240" y="2243160"/>
            <a:ext cx="7940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apcsolat szorossága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özvetlen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személyes, rendezvény, esemény) 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özvetet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PR (média) kapcsolat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PR irányai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belső PR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szervezeten belüli, a vezetők és alkalmazottak, valamint a szervezeti egységek közötti kölcsönös információáramlás, kommunikációs kapcsolattart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ülső PR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szervezet külső környezetével kiépített kommunikációs kapcsolatainak összessé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Belső P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746280" y="2243160"/>
            <a:ext cx="8092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belső PR alapvető jelentőségű, m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okozza a munka hatékonyságá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vállalatról kialakult kedvező vagy kedvezőtlen kép kialakításában gyakran az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lkalmazotta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tehetnek a legtöbbet, így elkötelezettségük alapvető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vállalat és alkalmazottainak megfelelő kapcsolat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ozitívan hat a HR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-re is (munkatársak toborzása, és megtartá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jól tájékozottság 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tratégiaalkotásnak és végrehajtásnak is alapkövetelmén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belső PR eszköze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838080" y="2286000"/>
            <a:ext cx="6324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ormális és informális szóbeli információ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ormális és informális írásbeli információ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ormális és informális vizuális információ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(Példák??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Külső P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746280" y="2243160"/>
            <a:ext cx="809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vállalat külső érdekkapcsolatainak szféráját alapvetően 5 csoportra oszthatju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Üzleti kapcsolat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rmányzati kapcsolat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énzintézeti, banki és beruházási kapcsolat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Általános (önkormányzatok, helyi képviselők, kerületek, stb.) kapcsolat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ömegkommunikációs kapcsolat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külső PR eszköze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746280" y="2319480"/>
            <a:ext cx="8092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ülső PR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szköztár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lapvetően megegyezik a rekláméval: a különbséget az információ tartalma, illetve célja jel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emélyes kommuniká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viták, párbeszédek, interjúk, előadások, levelek, feljegyzés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Csoportkommuniká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konferenciák, szimpóziumok, kiállítások, prezentációk, értekezletek, fórumok, viták, speciális írásbeli közlemények, zártterületi tájékoztató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ömegkommuniká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közterületi objektumok, vásárok és kiállítások, film, sajtó, rádió, televízi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Eladásösztönzés (Sales Promo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ahoma"/>
              </a:rPr>
              <a:t>Ösztönző eszközök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(versenyek, utazások, bonus, díjak, hirdetési támogatás, ingyenes minták, költség átvállalá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ahoma"/>
              </a:rPr>
              <a:t>Árral kapcsolatos ösztönzők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(kuponok, engedmények, visszatérítés, készpénzfizetési engedmén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ahoma"/>
              </a:rPr>
              <a:t>Információnyújtás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(dm, kirakat, bemutatók, értékesítési szóróanyag, katalógus, reklámtárgy, vásáro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emélyes eladás (Personal Selling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Értékesítési bemutató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Értékesítési találkozó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Telemark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Ösztönző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Ügynöki árumintá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Vásárok és kereskedelmi bemutató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Piaci szereplők és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822240" y="186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2014560"/>
            <a:ext cx="83818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iaci szereplő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ki termeléssel vagy fogyasztással közvetlenül befolyásolja a piaci folyamatok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arketing: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piacokkal kapcsolatban végzett tevékenység, a potenciális cserék megvalósítása érdeké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tervezésnek és a végrehajtásnak az a folyamata, melynek során elképzelések, áruk és szolgáltatások teremtése, árazása, ösztönzése és elosztása megy végbe annak érdekében, hogy  a cserén keresztül megvalósuljanak az egyéni és szervezeti cél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kommunikáció folyam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Célközönség meghatározá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ommunikáció cél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Üzenet megtervezé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ommunikációs csatornák kiválasztá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öltségvetés felosztá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ommunikációs eszközök kiválasztá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kommunikáció eredményeinek becslé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marketingkommunikációs folyamat irányítá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szolgáltatás minőség modell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olgáltatásminőség</a:t>
            </a: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746280" y="1447920"/>
            <a:ext cx="80928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inőségbiztosítá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kérdése az 1980-as évektől kulcskérdéssé vált. Definiálni elsőként a kézzelfogható termékek szektorában próbáltá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szolgáltatások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peciális tulajdonságai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például megfoghatatlanság, ingadozás, egyidejűség) számos speciális problémát vetnek f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szolgáltatások tulajdonság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eresési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olyan jellemző, amilynek minőségét a fogyasztó már a termék megvásárlása előtt is meg tudja határozn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apasztalati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csak a vásárlás vagy fogyasztás után tudja meghatároz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Bizalmi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tulajdonságok (a vásárlást és fogyasztást követően sem biztos, hogy meg tudja határoz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olgáltatásminőség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669960" y="2243160"/>
            <a:ext cx="8169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Három alapvető feltev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fogyasztók számár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nehezebb megítélni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 szolgáltatások minőségét, mint a termékminőséget (megfoghatatlanság – tárgyiasult elemek!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szolgáltatások minőségéről kialakult fogyasztói vélemény 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apot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érzékelt) és 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vár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szolgáltatás összehasonlításának eredménye (irány és nagyság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inőség megítélésekor nem csupán a szolgáltatás eredményét, hanem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szolgáltatásnyújtási folyama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egészét is figyelembe kell ven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olgáltatások minősé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669960" y="2090880"/>
            <a:ext cx="809316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Rés-modell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Parasuramann-Zeitha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Rés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fogyasztó igénye és annak megértése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Rés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z igények megértése és a szolgáltatás minőségének meghatározás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Rés a szolgáltatás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inőségének meghatározása és a szolgáltatás teljesítése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Rés 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olgáltatás teljesítése és a külső kommunikáció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Rés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kapott és a várt szolgáltatás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szolgáltatás minőségét minden egyes rés nagysága és iránya befolyásol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szolgáltatások minőségét meghatározó tényezők / 1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746280" y="2090880"/>
            <a:ext cx="8092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Hozzáju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ommuniká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szolgáltatást a fogyasztó nyelvén kommunikálj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ompetenci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alkalmazottak rendelkeznek a pontos tudással és képzettség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Udvariassá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barátságos, tisztelettudó és tapintatos alkalmazot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elelősségtuda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felelősségteljes munkavégzés, a fogyasztó igényeinek szem előtt tar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egbízhatósá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szolgáltatás következetes és pontos végrehaj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szolgáltatások minőségét meghatározó tényezők / 2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669960" y="2090880"/>
            <a:ext cx="81691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igyelmessé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gyors és kreatív reagálás a fogyasztók kéréseire és problémá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Biztonsá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szolgáltatás veszély- és kockázatmentes, minden kétséget kizá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ézzelfogható bizonyítéko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tükrözik a szolgáltatás minőség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fogyasztók megismerése és megértése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alkalmazottak igyekeznek megismerni és megérteni a fogyasztók igényeit és személyes érdeklődést tanusíta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(Melyek a keresési, tapasztalati és bizalmi tényezők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Elosztási csatorna poli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Árpoli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arketing költségveté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669960" y="216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22240" y="2243160"/>
            <a:ext cx="794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eghatározza a kitűzött forgalom és bevétel eléréshez szükséges anyagi források nagyságát. A marketing költségvetés a marketingtervben szereplő célok megvalósításában alkalmazott egyedi marketing-mix elemek költségeinek össze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öltségvetés készítési módszer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egengedhető mó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orgalom/bevétel arányos mó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mpetitív/versenytársak költéséhez igazodó mó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eladat-cél módsz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vállalati marketingről alkotott elképzelések fejlődé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593640" y="2166840"/>
            <a:ext cx="824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arketing mint egyenrangú fun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arketing mint lényeges fun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arketing mint legfőbb fun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fogyasztó mint meghatározó fun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fogyasztó mint meghatározó és a marketing mint integráló fun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(Lsd. ábra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onitoring, értékelés, kontrol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380880" y="1981080"/>
            <a:ext cx="876312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Értékelés: a meghatározott célok elérésének szintjét vizsgáló szisztematikus, periodikus vizsgálat. Általában évente történik és részét képezi a stratégiai tervezési folyamat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Monitoring: szisztematikus napi, heti, havi, gyakoriságú teljesítményértékelés, amely az adott aktuális eredményeket és a kitűzött célokat veti össze. A monitoring eredményeit felhasználja a marketing-kontrol és azok megjelennek az éves vizsgálatokban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Marketing kontroll: olyan taktikai, folyamatos marketing-management akciók, melyeket a monitoring adataira alapozva végeznek. Általában a taktikai árképzéssel, eladásösztönzéssel és reklámozással foglalkozó akció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olgáltatás- és turizmus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urisztikai keresl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46280" y="2166840"/>
            <a:ext cx="809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eresle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turist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otiváci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diszkrecionális jövedel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abadid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urisztikai kínála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669960" y="2166840"/>
            <a:ext cx="8169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ínála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turisztikai termék): vonzerő, szállás, étkezés, közlekedés, egyéb infrastruktúra, szórakozási lehetőségek, kultúra, vendégszeretet, biztonság, higiéné, turisztikai szervezetek, árak, 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Termék vagy szolgáltatá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erméktől a szolgáltatási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98560" y="2243160"/>
            <a:ext cx="7864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termékek (fizikai javak) és a szolgáltatások piacának határvonala nem határozo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roblémamentes fogyasztási javak (péksüt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agyarázatot igénylő fogyasztási javak (selyem blú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arbantartás/szervízigényes beruházási javak (aut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ámítógé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Nagyberendezések tervezése és épít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gatlanközvetít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utójavít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Hajvágás, piackutat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Orvosi tanácsadás, pszichoteráp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olgáltatásmarketing /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2133720"/>
            <a:ext cx="8076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szolgáltatások tulajdonság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gfoghatatlan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á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- A szolgáltatás nem fogható meg, nem mérhető vagy értékelhető az előállítás elő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választhatatlansá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- az előállítás és a fogyasztás szimultán történik, mely mind az előállítótól, mind pedig a fogyasztótól aktív közreműködést igényel.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lapfogalma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olgáltatásmarketing /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201456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terogenitá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- A szubjektum szerepe, minden fogyasztó más és másképpen ítélheti meg ugyanazt a szolgáltat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4.  Raktározhatatlanság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(hierarchi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olgáltatások sajátosságaiból adódó problémák /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2286000"/>
          <a:ext cx="8229600" cy="3557520"/>
        </p:xfrm>
        <a:graphic>
          <a:graphicData uri="http://schemas.openxmlformats.org/drawingml/2006/table">
            <a:tbl>
              <a:tblPr/>
              <a:tblGrid>
                <a:gridCol w="2895840"/>
                <a:gridCol w="5333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zolgáltatás-jellemz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ketingproblém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gfoghatatlansá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szolgáltatások nem tárolhatók, nem védhetők szabadalommal, nem bemutathatók, nehéz őket beáraz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terogenitá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fogyasztó részt vesz a termelésben, más fogyasztók is részt vesznek a termelésben, a központosított tömeggyártás nem lehetsé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olgáltatások sajátosságaiból adódó problémák /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2286000"/>
          <a:ext cx="8229600" cy="3922560"/>
        </p:xfrm>
        <a:graphic>
          <a:graphicData uri="http://schemas.openxmlformats.org/drawingml/2006/table">
            <a:tbl>
              <a:tblPr/>
              <a:tblGrid>
                <a:gridCol w="3048120"/>
                <a:gridCol w="5181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zolgáltatás-jellemz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ketingproblém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választhatatlansá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szabványosítást és a minőségellenőrzést nehéz elérni, a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apacitások csak a fogyasztó jelenlétében használhatók 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ktározhatatlansá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m lehet raktározni a szolgáltatásokat, a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apacitások csak a fogyasztó jelenlétében használhatók 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33399"/>
                </a:solidFill>
                <a:latin typeface="Tahoma"/>
              </a:rPr>
              <a:t>A turisztikai szolgáltatások jellemző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urisztikai szolgáltatások további jellemző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ezonalit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emberi erőforrás szerepe kiemelten fo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gymásra épülő, egymástól függő termékelemek, komplexit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onopóliumok, oligopóliumok jelenlé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agas állandó költség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Turizmusmarketing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22240" y="2014560"/>
            <a:ext cx="7940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Nem önálló tudományág, hanem a marketing alkalmazása, a marketing alapelvek adaptációja a turizmus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4P / 7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050840" y="2090880"/>
            <a:ext cx="7788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arketing mix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4 P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oknak a marketingeszközöknek az összessége, amelyeket a vállalat a célpiacokra vonatkozó tervek megvalósításához használ f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roduc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termék,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rice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ár,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lace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elosztási vagy értékesítési csatornák,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romotion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promó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3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eople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emberi erőforrás, emberi tényez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hysical evidence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tárgyi megjele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a folyamat, amelyen keresztül a csere megvaló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+3 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46280" y="1905120"/>
            <a:ext cx="8016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mberi tényező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összes olyan szereplő, aki szerepet játszik a szolgáltatásügylet létrejöttében, és így hat az igénybe vevő által észleltekre, azaz a szolgáltató front-személyzete, maga az igénybe vevő, és a szolgáltatásügylet környezetében található más igénybe vevő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árgyi elem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a környezet, amelyben a szolgáltatást nyújtják és ahol az ügylet lezajlik, továbbá bármely olyan tárgyi elem, amely megkönnyíti a szolgáltatás teljesítését vagy kommunikációj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olyama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ok az eljárások, mechanizmusok, tevékenységfolyamatok, melyek műveleti rendszere leszállítja a szolgáltatá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4P (Moriss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822240" y="2243160"/>
            <a:ext cx="801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orisson (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eople – emberi erőfor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ackaging – csomaggá szervez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artnership – együttműkö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rogramming – a mix koordinálása, az egyes elemek összehango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(Mennyiben új ez a fajta megközelíté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urizmus marketing szintje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Nemzetköz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Nemze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Regioná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Vállala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z igény és szükséglet fogalm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 helye a turizmus rendszeréb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turizmus rendszerének alrendszer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turizmus rendszer működése / vezérléstechnikák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Turizmuspolit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Tervezés-fejleszt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Ösztönz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Szabályozá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Marke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szükségl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Szükséglet = ha a belső környezet állandósága megbomlik, akkor az egyensúly helyreállítására reflexes vagy motivációs folyamatok lépnek élet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Reflexes mechanizm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Motivációs mechanizm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aslow szükségletpirami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Fiziológiai szükséglet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Biztonság iránti vá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Valahová tartozni akará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Megbecsülés iránti szükséglet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Önmegvalósítással kapcsolatos szükséglet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ill és Mor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Két további, intellektuális szükség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Tudni és megérteni (ismeretszerzé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sztétika (a szépség értékelé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szükségleteket befolyásoló tényező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Demográfiai változó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népességstatisztikával leírható változó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Pszichográfiai változó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z életstílussal, illetve a személyiségi jellemzőkkel összefüggő változó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z utazási motiváció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otiváci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motiváció alapvető forrásai a biológiai szükséglete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Ha ezek kielégítetté válnak, a kutató-kereső tendenciák kerülnek előtér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szükségletből akkor lesz szándék, vagy motiváció, ha tudatosu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z utazási motivációk csoportosítá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Middlet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Horner és Swarbroo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Holloway és Robin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motivációt meghatározó tényező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uristák típusai pszichológiai jellemzőik alapjá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P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Co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Sm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családi életciklus mode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urisztikai keresletet meghatározó további tényező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Szabadid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Diszkrecionális jövede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 fogal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898560" y="2014560"/>
            <a:ext cx="7940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arketin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társadalmi és vezetési lépések láncolata, melynek során az egyének és csoportok termékeket és értékeket alkotnak és cserélnek ki egymás között, mialatt kielégítik szükségleteiket és igényei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 meghatározás a következő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lapfogalmakr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épü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ükséglet, igény, keresl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ermék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hasznosság, értékek, elégedettsé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csere, ügyletek, kapcsolat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iac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arketing és piaci szereplő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z utazási döntést befolyásoló tényező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z utazás tényét meghatározó tényező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vonzerőt, desztinációt meghatározó tényező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Fogyasztói</a:t>
            </a: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 magatartá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z utazási döntés modell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Igény - Szándék - Keresés -  Döntés   Utazás - Üdülés a desztinációban - Visszautazás - Emlékek - A döntés megerősítése vagy elutasít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2240" y="231948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fogyasztói magatartás modell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839880" y="1828800"/>
            <a:ext cx="8304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ülső ingerek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 vevő fekete doboza </a:t>
            </a:r>
            <a:r>
              <a:rPr b="0" lang="hu-HU" sz="2400" spc="-1" strike="noStrike">
                <a:solidFill>
                  <a:srgbClr val="000000"/>
                </a:solidFill>
                <a:latin typeface="Marlett"/>
                <a:ea typeface="Marlett"/>
              </a:rPr>
              <a:t>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 vásárlási dön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ülső ing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arketing – 4P (7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örnyezeti – gazdasági, politikai, technológiai, kulturális, 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ekete doboz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vevő kulturális, társadalmi, személyes, pszichológia jellemzői és a vásárlási döntés folyamata határozza meg a végeredmény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vásárlási dönté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termék-, márka-, kereskedőválasztás, időzítés, a vásárlásra fordított össz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fogyasztói magatartást befolyásoló főbb tényezők /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669960" y="2014560"/>
            <a:ext cx="8093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ulturális jellemző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fogyasztói magatartást legmélyebben és legerősebben befolyásoló tényező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ultúra: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értékek, felfogások, célok és magatartás-formák. Az ember a szocializáción keresztül a családban és a számára kulcsfontosságú intézményekben sajátítja el eze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ubkultúr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nemzetiségi, vallási, faji, földrajzi csoport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ársadalmi osztály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társadalom viszonylagosan homogén és tartós tagozódása, amely hierarchikus felépítésű, és az egyes osztályok tagjai hasonló érték-, érdek-, és magatartásnormákkal rendelkezn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Társadalmi osztályok Magyarország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988560" y="2243160"/>
            <a:ext cx="6674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első/alsó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első rét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első/középső/alsó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özéprét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első/alsó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lsó rét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Decimáliso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 (kiemelt az alsó és a felső tiz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fogyasztói magatartást befolyásoló főbb tényezők /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746280" y="209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2240" y="2090880"/>
            <a:ext cx="794088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ársadalmi jellemz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Referenciacsopor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ok a csoportok, amelyek az ember attitűdjére vagy magatartására közvetlen vagy közvetett hatással vannak. Elsődleges és másodlagos csoport. Aspirációs és aszociális  csopo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Család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legnagyobb hatású referenciacsoport, orientációs család és saját csalá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ársadalmi szerepek és státuszo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ember számos csoportnak lesz tagja élete során, az ezekben elfoglalt pozícióját határozzuk meg ezekkel a fogalmakk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fogyasztói magatartást befolyásoló főbb tényezők /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669960" y="1905120"/>
            <a:ext cx="8169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emélyes jellemz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or- és életciklus szaka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oglalkoz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Gazdasági körülmények: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befolyásolja a szabadon elkölthető jövedelem nagyságát, a hitelfelvételi lehetőségeket, az életmódot (költekező vagy takarék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Életmód: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egyén tevékenységében, érdeklődési körében és nézeteiben tükröződ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emélyiség és én-kép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egyén sajátos pszichológiai jellemzőinek összessége (önbizalom, dominancia, autonómia, tisztelet, szociabilitás, védekező- és alkalmazkodóképesség), én-kép: tényleges én-kép, ideális én-kép, mások által alkotott ké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fogyasztói magatartást befolyásoló főbb tényezők /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69960" y="1752480"/>
            <a:ext cx="8169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szichológiai jellemz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otivá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Maslow motivációelmé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Észlelé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motivált egyén kész a cselekvésre, de cselekvésének jellegét meghatározza a helyzet észlelésének módja. Az észlelés olyan folyamat, amelyen keresztül az egyén osztályozza, rendszerezi és lefordítja a külvilágból érkező információk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anulá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egyéni magatartás módosulása. Ha erős ösztönzéseket, motivációt befolyásoló hatásokat és pozitív megerősítéseket alkalmazunk, növelhető a termék iránti keresle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Gondolkodásmód és attitűdö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értékelések, érzések, cselekvési tendenciá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egmentáció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20574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iaco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vevőkből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állnak, melyek több szempontból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ülönböznek egymástól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igényeik, erőforrásaik, földrajzi elhelyezkedésük, vásárlási attitűdjük, stb. alapján. Ezek a csoportok többnyire különböző terméket és/vagy marketing-mixet igényel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iac-szegmentá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piac különböző csoportokra vagy vevőkre bontása. Lépése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egmentációs szemponto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meghatározása, és a piac szegmentáció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szegmentáció eredményeként megkülönböztethető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iaci szegmensek jellemzőin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kialakítá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 fogalma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arketing szűkebb értelemben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lyan vállalati tevékenység, amely a vev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ő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k/felhasználók igényeinek kielégítése érdekében elemzi a piacot, meghatározza az eladni kívánt termékeket és szolgáltatásokat, megismerteti azokat a fogyasztókkal, kialakítja az árakat, megszervezi az értékesítést és a lehetséges vásárlókra irányuló kommunikáción keresztül befolyásolja a fogyasztói magatartást.</a:t>
            </a:r>
            <a:r>
              <a:rPr b="0" lang="hu-HU" sz="2400" spc="-1" strike="noStrike">
                <a:solidFill>
                  <a:srgbClr val="000000"/>
                </a:solidFill>
                <a:latin typeface="Ottaw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piacszegmentáció módszere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669960" y="1828800"/>
            <a:ext cx="8169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Homogén preferenciá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piacon levő termékeknek közel azonosnak kell len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óródó preferenciá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piac egymástól nagyon különböző preferenciákkal rendelkező egyénekből áll. „Középpontban” levő termék vagy nagyon különböző termék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Csoportosított preferenciá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piac eltérő preferenciacsoportokból áll. Néhány márka kifejlesztése, és más-más szegmentumban való pozicionálása. Differenciált marketing.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szegmentálás alapjai a turizmusb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46280" y="224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9960" y="2090880"/>
            <a:ext cx="816912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utazás célj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belföld-külföld, hivatás-szabadidő)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otiváció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, szükségletek (étkezés: gyorsan, gyerekekkel, stb.)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Vásárlói/felhasználói viselkedé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egy főre jutó költés, vásárlói gyakoriság, médiahasználat, stb.)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Demográfiai jellemző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kor, nem, családnagyság, család életciklus, jövedelem, foglalkozás, képzettség, vallás, nemzetiség, stb.)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Geográfiai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jellemzők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szichográfiai jellemző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életstílu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(például kockázatkerülők és kockázatvállalók, stb.) alapj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hatékony szegmentáció követelménye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898560" y="2014560"/>
            <a:ext cx="7864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érhetősé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az a mérték, ameddig a szegmentumok mérete és vásárlóereje mérhet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ére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az a mérték, amíg a szegmentum elég nagy és/vagy nyeresé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lérhetősé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az a mérték, ameddig a szegmentumok hatékonyan elérhetők és kiszolgálhat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ezelhetősé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az az érték, amíg hatékony programok dolgozhatók ki a szegmentumok vonzására és kiszolgál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tervezés folyam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tervezés folyam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Marketingkutatás / MIR kialakít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Marketingcélok meghatároz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Marketingstratégia kialakít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Programok kidolgoz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Megvalósítá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Ellenőrzés és visszacsatolá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lapkérdése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46280" y="2166840"/>
            <a:ext cx="7864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Hol vagyunk m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Hová akarunk eljut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Hogyan juthatunk el o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arketingkutatá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kutatás fogal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593640" y="2243160"/>
            <a:ext cx="824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arketingkutatás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z információk folyamatos,, tervezett gyűjtése, elemzése, értékelése és a konkrét vállalati szituációra vonatkozó legjobb vállalati döntésvariációk kidolgozá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arketingkutatás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olyamata, lépései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probléma és a kutatás tárgyának meghatározá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utatási terv készíté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formációgyűjté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formációelemzé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utatási eredmények összegz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probléma és a kutatás tárgyának meghatározá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898560" y="2243160"/>
            <a:ext cx="7788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probléma pontos körvonalazása és a kutatási terület meghatározása. A kutatandó terület ne legyen túl szűk és túl tá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utatási programok típusa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elderítő: előzetes információgyűjtés valamely probléma, hipotézis vagy új ötlet valós természetének meghatározásár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Leíró: mennyiségi meghatározá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auzális: ok-okozati kapcsolatok vizsgál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Kutatási terv készíté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822240" y="2243160"/>
            <a:ext cx="832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utatási terv készítése során meghatározandó terület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formáció forrás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utatási eljárás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utatási eszközö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intavételi t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egkérdezéses vizsgálatok módszer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 fogalma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ágabb értelemben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iszont a marketing a vállalat egészére kiterjed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ő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filozófiai szemléletmód: annak folyamatos felismerése, hogy az üzleti tevékenység középpontja a fogyasztók hosszú távú érdeke kell, hogy legyen, illetve egyensúly megteremtése a jelenlegi erőforrások felhasználásával történő profittermelés és a jövendő profittermelés érdekében történő alkalmazkodás között, figyelembe véve a társadalmi és környezeti korlátoka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Információ forrás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898560" y="2319480"/>
            <a:ext cx="794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rimer információ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z első kézből, konkrét céllal összegyűjtött adatok. Általában jóval költségesebb, mint a szekunder adatok beszerz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ekunder információ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a más célból már összegyűjtött, valahol elérhető adatok összesség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ípus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Belső forrás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Hivatalos kiadvány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dőszakos kiadványok és könyv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ereskedelmi információ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ásodlagos információ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udományos vs. vállalati kutatás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éhány évtizede önálló kutatási tém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1930-as évektől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öldrajztudósok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özgazdász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1970-es évektől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ársadalomtudomány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1990-es évektől: önálló kutatási téma,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hatalmas mennyiségű információ, változatos kutatási területek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történelem, földrajz, politika, környezetvédelem, antropológia,  közgazdaságtan, szociológia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, marketing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lágturizmus Információs Adatbankja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(WTO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akmai kiadvány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akmai kiadványok /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1169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nnals of Tourism Researc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: földrajz, antropológia, közgazdaságtan, szociológia, szabad idő, pszi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hológia, kereskedelem, politikai tudományok, erdőgazdaság, marketing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Journal of Leisure Research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erdőgazdaság,  üdülés és park, földrajz, tervezés, szabad idő, pszichológia,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szociológia,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közgazdaságtan,  családtanulmányok, erőforrásgazdálkodás,  egészség és testnevelés, kereskedelem, marketing,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politikai tudományok, antropológ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ahoma"/>
              </a:rPr>
              <a:t>A t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urizmus enciklopédiáj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(Encyclopedia of Tourism, London, Routledge, 2000, 683 pp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akmai kiadványok /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ravel Industry Moni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ravel and Tourism Analy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Journal of Applied Recreation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Journal of International Hospitality, Leisure &amp; Tourism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Journal of Quality Assurance in Hospitality &amp; Tour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IEST; The Tourist 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Journal of Ecotou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ternational Journal of Hospitality &amp; Tourism Admini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Journal of Hospitality &amp; Leisure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Journal of Convention &amp; Exhibition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Current Issues in Tour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Journal of Sustainable Tour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ourism Geograph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akmai kiadványok /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Turizmus Bullet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www.hungarytourism.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Nemzetközi szervezet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W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urizmus Világszervezet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(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World Tourism Organisation,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WTO), illetve 1975 előtt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elődj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, a Hivatalos Idegenforgalmi Szervezetek Nemzetközi Szövetség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(IUO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turizmus világstatisztikái, tanulmányok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, guideline-ok,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főbb témakörö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turizmuspolitika, oktatás és szakképzés, fenntartható fejlődés, minőség, biztonság, finanszírozás, marketing, piaci trendek és előrejelzések, informat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www.world-tourism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Egyéb nemzetközi szervezet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407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OECD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www.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2"/>
              </a:rPr>
              <a:t>oecd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3"/>
              </a:rPr>
              <a:t>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ilágba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Európai Unió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4"/>
              </a:rPr>
              <a:t>www.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5"/>
              </a:rPr>
              <a:t>europe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6"/>
              </a:rPr>
              <a:t>.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7"/>
              </a:rPr>
              <a:t>eu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8"/>
              </a:rPr>
              <a:t>.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9"/>
              </a:rPr>
              <a:t>int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0"/>
              </a:rPr>
              <a:t>/com/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1"/>
              </a:rPr>
              <a:t>eurost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E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O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TTC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2"/>
              </a:rPr>
              <a:t>www.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3"/>
              </a:rPr>
              <a:t>wttc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4"/>
              </a:rPr>
              <a:t>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TC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5"/>
              </a:rPr>
              <a:t>www.etc-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6"/>
              </a:rPr>
              <a:t>europe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7"/>
              </a:rPr>
              <a:t>-travel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I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H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ükséglet, igény, keresl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746280" y="1981080"/>
            <a:ext cx="8092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ükségle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hiányérzet. Az emberi szükségletek bizonyos alapvető kielégítetlenség esetén hiányérzetként jelentkez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igény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z ilyen alapvető szükségletek konkrét kielégítésére irányul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eresle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egy konkrét termék iránti olyan igény, ami mögött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vásárlóképesség és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vásárlási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 hajlandósá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á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Országspecifikus adat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76312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39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urisztikai kormányszervek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www.meh.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39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nemzeti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tisztikai hivatal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www.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2"/>
              </a:rPr>
              <a:t>ksh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3"/>
              </a:rPr>
              <a:t>.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4"/>
              </a:rPr>
              <a:t>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39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mzeti bank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5"/>
              </a:rPr>
              <a:t>www.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6"/>
              </a:rPr>
              <a:t>mnb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7"/>
              </a:rPr>
              <a:t>.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8"/>
              </a:rPr>
              <a:t>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39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urizmussal vagy azzal is foglalkozó kutatóintézet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39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elsőoktatási intézménye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39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zakmai lap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39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mzeti és regionális turisztikai szervezetek és szakmai szövetségek kiadvány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39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elentősebb turisztikai vállalkozások éves jelentései, hírlevelei és időszakos kiadvány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Elsődleges információ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Kutatási eljárás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822240" y="2090880"/>
            <a:ext cx="8016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ókuszcsoportos interjú: 6-10 kiválasztott ember, jól képzett moderátorral beszélget egy kiválasztott témáró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élyinterjú: 1 kérdező – 1 válaszad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egfigyelés: szereplők és helyszínek megfigyelése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(fotópontok kijelöléséhe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egkérdez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ísérleti kutatás: a témában érintett csoportokat kiválogatják, majd a külső változókat kiszűrve különböző eljárásoknak vetik alá a megkérdezette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egkérdezéses módszer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669960" y="2166840"/>
            <a:ext cx="8169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Omnibusz vagy ad-hoc kutatatás segítségével bonyolít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elefonos megkérdezés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(reprezentatív?, a megkérdezés időigénye?, a kérdések jelleg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ostai úton kiküldött kérdőívek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 (visszaküldési arány?, a visszaküldés gyorsaság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emélyes megkérdezés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 (költségigény?, a kérdezőbiztos előítéletei és torzításai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Ad-hoc (utcai, bevásárlóhely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Terveze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Kutatási eszközö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822240" y="2243160"/>
            <a:ext cx="8016840" cy="48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érdőív vagy technikai eszközök alkalmazá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érdőív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zár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érdés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előre meghatározza a lehetséges válaszokat, a megkérdezett ezek közül válasz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nyitott kérdés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lehetőséget adnak a válaszadónak, hogy saját szavaival fogalmazza meg a véleményé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Fontos a kérdések megfogalmazásának módja (egyszerűség és közvetlenség), a kérdések sorrendje és konzisztenciá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echnikai eszközö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például szemkam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intavételi te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746280" y="2090880"/>
            <a:ext cx="8016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Három fontos kérd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intavételi egysé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- Kit vizsgálu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minta nagyság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Hány ember vesz részt a vizsgálatb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mintavétel folyamata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Hogyan válasszuk meg a válaszolókat?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véletlen mintavétel (egyszerű véletlen, rétegzett, klasz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nem véletlen mintavétel (önkényes, becsült,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vótá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jó marketingkutatás jellemző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593280" y="2166840"/>
            <a:ext cx="789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udományos mó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reativi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mplex mó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 információk értéke és költsége egymással arány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kutatás lehetséges hibá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gy piackutatás eredményének pontosságát az esetek messze jelentősebb részében semmilyen módón nincs lehetőségünk a „valósággal” való összehasonlítás révén ellenőriz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ég abban az esetben sem, ha ugyanabban a témában két vagy több cég is kuta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 kutatás során alkalmazott módszereket és eljárásokat kontrollálni ke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Ha a megfelelő módszereket alkalmazzuk és betartunk bizonyos eljárási szabályokat, akkor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léggé nagy valószínűséggel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„a valóságoshoz” közeli eredményeket kapun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hibák lehetséges típus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egbízhatóság (Reliability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t jelenti, hogy a kapott eredmények statisztikai értelemben és/vagy üzleti értelemben mennyire megbízhatóak, mennyire lehet rájuk támaszkodni, rájuk üzleti döntéseket alapozn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Érvényesség (Validity)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t jelenti, hogy a nyújtott információk tényleg arról szólnak-e, tényleg arra a piacra, célcsoportra vonatkoznak-e, tényleg arra az üzleti problémára adnak-e választ, amiről a kutatásnak szólnia kellett (voln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Termé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050840" y="193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98560" y="1938240"/>
            <a:ext cx="7940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emberek szükségleteiket és igényeiket termékekkel elégítik 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ermék: átfogja mindazt, ami valamely szükséglet vagy igény kielégítésére felkínálhat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vagy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szokásos értelemben vett termékeket és szolgáltatásoka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ézzelfogható terméket is valamely szükséglet kielégítésére vásároljuk meg, nem a tárgy kedvéért önmagáért. A tárgy a szolgáltatás becsomagolásának eszkö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hibák lehetséges forrás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piackutatások hibáinak négy forrását különböztethetjük me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ervezési (design) hiba: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 kutatás nem ad választ az üzleti problémára (ettől még technológiailag tökéletes leh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echnológiai hiba: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rosszul kivitelezett kutatás (mintavételi és nem mintavételi hib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interpretációs hiba: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 kutatási adatok és eredmények nem kielégítő, vagy félrevezető elemzése, értelmezé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implementációs hiba: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z eredmények nem adekvát módón kerülnek felhasználásra az üzleti gyakorlatb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Nem mintavételi hibá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vizsgálat módszerének megválasztás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utatási design kialakítá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érdőívszerkezet, kérdések sorrendje és egymásra épülé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érdés-típusok kialakítá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egyes kérdések megfogalmazása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(nem érthető, nem egyértelmű, vagy sugalló kérdése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érdezés megválasztott módja, helye és időpont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érdezőbiztosok kiválasztá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kérdezőbiztosok kiképzése és felkészíté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arketing Információs Rendsz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arketing Információs Rendsz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517680" y="1828800"/>
            <a:ext cx="8626320" cy="51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arketing információ rendszer: emberek, berendezések, és eljárások összessége, amelyek összegyűjtik, elemzik, értékelik és eljuttatják a szükséges, pontos és időszerű információt a marketing döntéshozóiho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t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ela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- felbecsülje a menedzserek információs igény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- létrehozza (beszerezze, feldolgozza) az igényelt információ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- időben eljuttassa az információt a menedzserekh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lem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- belső nyilvántartási 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- marketing megfigyelési 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- marketing- és piackutatási 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603440" y="609480"/>
            <a:ext cx="5897520" cy="52070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2160" y="609480"/>
            <a:ext cx="1272960" cy="5194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ark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nedzser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lemz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rvez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09040" y="609480"/>
            <a:ext cx="1325520" cy="5194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arketing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rny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élpiac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rketing-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satorn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senytárs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vélemé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krokörnyezeti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04840" y="1862280"/>
            <a:ext cx="1351080" cy="780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információs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gények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cs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4" idx="2"/>
            <a:endCxn id="275" idx="2"/>
          </p:cNvCxnSpPr>
          <p:nvPr/>
        </p:nvCxnSpPr>
        <p:spPr>
          <a:xfrm flipH="1" rot="16200000">
            <a:off x="4548960" y="1982520"/>
            <a:ext cx="2160" cy="7644600"/>
          </a:xfrm>
          <a:prstGeom prst="bentConnector3">
            <a:avLst>
              <a:gd name="adj1" fmla="val 21080000"/>
            </a:avLst>
          </a:prstGeom>
          <a:ln w="76320">
            <a:solidFill>
              <a:srgbClr val="66cc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004840" y="4400640"/>
            <a:ext cx="1351080" cy="780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információ 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osz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63680" y="4699080"/>
            <a:ext cx="649440" cy="199800"/>
          </a:xfrm>
          <a:prstGeom prst="leftRightArrow">
            <a:avLst>
              <a:gd name="adj1" fmla="val 50000"/>
              <a:gd name="adj2" fmla="val 64708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46040" y="2158920"/>
            <a:ext cx="649440" cy="160560"/>
          </a:xfrm>
          <a:prstGeom prst="leftRightArrow">
            <a:avLst>
              <a:gd name="adj1" fmla="val 50000"/>
              <a:gd name="adj2" fmla="val 80522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78400" y="1198440"/>
            <a:ext cx="3697200" cy="4386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33640" y="1862280"/>
            <a:ext cx="1378080" cy="7808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lső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yilvántar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62520" y="1862280"/>
            <a:ext cx="1351080" cy="7808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egfigyelés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33640" y="4400640"/>
            <a:ext cx="1378080" cy="7808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döntéstámogató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lemz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62520" y="4400640"/>
            <a:ext cx="1351080" cy="7808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arketing-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ku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84960" y="582948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arketingdöntések és kapcso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352680" y="2147760"/>
            <a:ext cx="463680" cy="209520"/>
          </a:xfrm>
          <a:prstGeom prst="leftRightArrow">
            <a:avLst>
              <a:gd name="adj1" fmla="val 50000"/>
              <a:gd name="adj2" fmla="val 44056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48000" y="4686480"/>
            <a:ext cx="463680" cy="209520"/>
          </a:xfrm>
          <a:prstGeom prst="leftRightArrow">
            <a:avLst>
              <a:gd name="adj1" fmla="val 50000"/>
              <a:gd name="adj2" fmla="val 44056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27560" y="2147760"/>
            <a:ext cx="531720" cy="209520"/>
          </a:xfrm>
          <a:prstGeom prst="leftRightArrow">
            <a:avLst>
              <a:gd name="adj1" fmla="val 50000"/>
              <a:gd name="adj2" fmla="val 50521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32240" y="4686480"/>
            <a:ext cx="532080" cy="209520"/>
          </a:xfrm>
          <a:prstGeom prst="leftRightArrow">
            <a:avLst>
              <a:gd name="adj1" fmla="val 50000"/>
              <a:gd name="adj2" fmla="val 50555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84800" y="12859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nformáció feldolgoz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77560" y="733320"/>
            <a:ext cx="323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arketinginformáció-rendszer (M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94680" y="2400480"/>
            <a:ext cx="411120" cy="187200"/>
          </a:xfrm>
          <a:prstGeom prst="leftRightArrow">
            <a:avLst>
              <a:gd name="adj1" fmla="val 50000"/>
              <a:gd name="adj2" fmla="val 43719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88200" y="4805280"/>
            <a:ext cx="411120" cy="187560"/>
          </a:xfrm>
          <a:prstGeom prst="leftRightArrow">
            <a:avLst>
              <a:gd name="adj1" fmla="val 50000"/>
              <a:gd name="adj2" fmla="val 43635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19720" y="2655720"/>
            <a:ext cx="207720" cy="1762200"/>
          </a:xfrm>
          <a:prstGeom prst="upDownArrow">
            <a:avLst>
              <a:gd name="adj1" fmla="val 50000"/>
              <a:gd name="adj2" fmla="val 168885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34200" y="2649600"/>
            <a:ext cx="207720" cy="1762200"/>
          </a:xfrm>
          <a:prstGeom prst="upDownArrow">
            <a:avLst>
              <a:gd name="adj1" fmla="val 50000"/>
              <a:gd name="adj2" fmla="val 168885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20515800">
            <a:off x="5386320" y="2587680"/>
            <a:ext cx="200160" cy="1860480"/>
          </a:xfrm>
          <a:prstGeom prst="upDownArrow">
            <a:avLst>
              <a:gd name="adj1" fmla="val 50000"/>
              <a:gd name="adj2" fmla="val 185039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rot="1084200">
            <a:off x="5380200" y="2608560"/>
            <a:ext cx="199800" cy="1860480"/>
          </a:xfrm>
          <a:prstGeom prst="upDownArrow">
            <a:avLst>
              <a:gd name="adj1" fmla="val 50000"/>
              <a:gd name="adj2" fmla="val 185372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50680" y="-102240"/>
            <a:ext cx="790884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6308640" y="620568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t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Helyzetelemzés /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746280" y="1938240"/>
            <a:ext cx="801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tervezési folyamat első szintje, amely a marketing kutatás eredményeire, illetve publikált és nem publikus adatokra alapozva elemzi a trende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helyzetelemzés részletezettsége, mélysége más-más lehet minden tervezési esetben, a tervezést végző szervezet méretétől, jelentőségétől függő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helyzetelemzés jellemzően nem szűkül le az éppen aktuális üzleti területekre, piacokra, termékekre, hanem kiterjed az ahhoz kapcsolódó más tevékenységekr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Helyzetelemzés /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190512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ikrokörnyezet helyzetelemzése az alábbi területek vizsgálatát foglalja magá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Forgalmi és bevételi /jövedelmi trend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 következő évekre, azonosítva a piacon megfigyelhető mozgásokat és az egyes szegmentumokban elérhető piaci részesedést a saját és a versenytársak termékei számá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aját és versenytársaink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vásárlóina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vizsgálata, mely kiterjed demográfiai, attitűd és viselkedési adatokra, trendek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ermékjellemzők és ár-trend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saját termékeink és versenytársaink vonatkozásában, vizsgálva termék-életgörbén megfigyelhető mozgások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Helyzetelemzés /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974880" y="2090880"/>
            <a:ext cx="786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akrokörnyezet helyzetelemzé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ülső környezetben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megfigyelhető változások vizsgálatát foglalja magába, mint például a társadalmi és politikai környezet, gazdasági feltételek változása, a technológiában, szabályozásban, árfolyamok mozgásában bekövetkező változások, 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Előrejelzé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593640" y="1676520"/>
            <a:ext cx="824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Jövő –orientált, várakozásokon alapul, a diagnózisban felsorolt  pontokra vonatkozó értékeléseket és előrejelzéseket tartalm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turisztikai termékek jövője és lehetőségei igen gyakran előrejelezhetetlenül változnak, ezért az előrejelzések nem tökéletesen megbízhatók és gyakori felülvizsgálatra szorul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ódszer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xtrapolálá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Delphi módszer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(kérdőí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WOT analízis / 1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669960" y="1752480"/>
            <a:ext cx="81691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trenghs, Weaknesses, Opportunities and Thr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rősség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belső, akár tervezett, akár véletlen forrásból származó előnyök, amely megjelenik a vállalkozás piac-termék portfóliójában, illetve a versenytársakkal való összehasonlításban (például dinamikusan fejlődő piacon magas piaci részesedéssel rendelkező termék, jó területi elhelyezkedés, stb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Gyengeség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belső forrásból származó hátrányok, amely megjelenik a vállalkozás piac-termék portfóliójában, illetve a versenytársakkal való összehasonlításban (rossz kilátással rendelkező piacon növekvő részesedésű termék, gyenge ország image, stb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Hasznosság, érték, elégedettsé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748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98560" y="1938240"/>
            <a:ext cx="7940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hasznossá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a fogyasztó becslése arra vonatkozólag, hogy a termék mennyire képes kielégíteni szükséglet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Ha egy termék több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értéket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képvisel egy másiknál, akkor többet tud nyújtani az áráért. Az értékelés azonban ma már több, mint szűk gazdasági megfontol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légedettség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mennyire felel meg a termék az elvárásoknak, az elvárt hasznosság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WOT analízis /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669960" y="2166840"/>
            <a:ext cx="809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Lehetőség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származhatnak egyrészt a szervezet által közvetlenül befolyásolt területekről, másrészt a külső marketing környezetből (például jelentősebb események, mint a BTF, növekvő érdeklődés a kulturális turisztikai termékek iránt, stb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Veszélye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származhat a szervezeten belülről, vagy a marketing környezetből (például új desztinációk megjelenése a turisztikai kínálatban, növekvő üzemanyag árak, stb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célok meghatározá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evékenysé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Piacok és termékek kijelölé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új vagy meglevő terméket új vagy meglevő piacon szeretnénk értékesíteni (Ansoff mátri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piaci szegmensek és a piaci részesedés meghatároz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nsoff mátr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182600" y="2055960"/>
          <a:ext cx="777240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2055960"/>
                    <a:ext cx="77724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tevékenység eredmény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Piaci szegmensek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kiválasztott termékek mennyisége és értéke a kiválasztott piacok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Tahoma"/>
              </a:rPr>
              <a:t>Vagyis azt határozzuk meg, hogy milyen termékeket és szolgáltatásokat állítson elő a vállalat és milyen piacokon értékesítse azok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célok hierarchiá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Hosszú, közép és rövid távú marketingcél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Magasabb és alacsonyabb szintű marketingcél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rketingcélok tartal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Termékek, célpiacok, piaci helyzet (piaci részesedés, forgalom nagysága, növekedése, vagy csökkenése, a vásárlók értékítélete, vállalat helyzete a konkurenciához képest), vállalat képe, arcul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Termékfejlesztés, a vezető termékek körének meghatározása, piaci szegmensek módosítása, piaci részesedés növelése, a turistákkal, a munkatársakkal, a partnervállalatokkal és a konkurensekkel kapcsolatos magatartá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arketing cél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905120"/>
            <a:ext cx="799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marketing céloknak az alábbi </a:t>
            </a: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ritériumoknak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kell megfeleln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szervezet stratégiájával és céljaival való összha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érhető formában kifejezett adat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ermékek és szegmentumok szerinti részletezettsé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ontos ütemezés (mely célokat mely időintervallum alatt lehet elérn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piaci trendeket és a rendelkezésre álló forrásokat figyelembe véve reálisak legyen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program megvalósításában résztvevői által egyeztetett és elfogadot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 Magyar Turizmus Rt. marketingcélj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Vízi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Misszi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Éves operatív marketingcél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Marketingstratégia meghatározása</a:t>
            </a: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0T16:40:53Z</dcterms:created>
  <dc:creator>Magyar Turizmus Rt.</dc:creator>
  <dc:description/>
  <dc:language>en-US</dc:language>
  <cp:lastModifiedBy>Magyar Turizmus Rt. </cp:lastModifiedBy>
  <dcterms:modified xsi:type="dcterms:W3CDTF">2003-12-08T17:18:16Z</dcterms:modified>
  <cp:revision>106</cp:revision>
  <dc:subject/>
  <dc:title>PowerPoint bemutató</dc:title>
</cp:coreProperties>
</file>