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7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38.xml.rels" ContentType="application/vnd.openxmlformats-package.relationships+xml"/>
  <Override PartName="/ppt/slides/_rels/slide52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13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57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110.xml" ContentType="application/vnd.openxmlformats-officedocument.presentationml.slide+xml"/>
  <Override PartName="/ppt/slides/slide14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C33B-1BB0-417A-AB9F-02E605E04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6D3F-9F2A-46AD-9F1A-68C416417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9202-657F-4F02-97B5-9508AD838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15AC-5717-4C7F-84EF-A4F6C66A5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DE3FD-B0A1-4B75-A980-346487F68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4AD03-9892-4183-B569-8EEF9B447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D2D07-AF2C-42F8-8696-B0E1E3A36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AA192-9CE1-4E77-AF30-6084D6E07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8F4F3-6AD5-4BA7-9BDE-1D98ACDD9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2D114-3EE9-48F6-86ED-B4663C22F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4BD2E-3B8A-4BB1-BB95-172ADFA7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36BD-4D4B-49B7-9522-748F1AC82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B74E3-0861-41E0-8CC3-EA84E79A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56B83-A6FC-4CEA-B14B-CEAB290B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C5EF1-E54C-483C-ACAA-73730A7F6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4FAEA-F3B4-487A-91F3-4627826FB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E0C85-3A28-47F2-9141-787FC7B58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C979-E375-4DEB-9108-26F3E3584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E6C1-162E-482A-BECB-B95309D03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491D-D6AA-473C-A696-373F13A7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5666-DDF5-47FD-9605-362984FFB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93C3-208B-43AD-BB8C-37C6F840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7453-9DCA-4A2B-B53F-CD216612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FC63-5176-4F04-B1D7-CD79715E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4C6FA-4A6D-4402-8324-D329A600C47F}" type="slidenum">
              <a:rPr b="0" lang="hu-H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CAF4F-F8DB-42B5-8EEC-9B51E353DF55}" type="slidenum">
              <a:rPr b="0" lang="hu-H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http://www.world-tourism.org/" TargetMode="External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hyperlink" Target="http://www.oecd.org/" TargetMode="External"/><Relationship Id="rId2" Type="http://schemas.openxmlformats.org/officeDocument/2006/relationships/hyperlink" Target="http://www.oecd.org/" TargetMode="External"/><Relationship Id="rId3" Type="http://schemas.openxmlformats.org/officeDocument/2006/relationships/hyperlink" Target="http://www.oecd.org/" TargetMode="External"/><Relationship Id="rId4" Type="http://schemas.openxmlformats.org/officeDocument/2006/relationships/hyperlink" Target="http://www.europe.eu.int/com/eurostat" TargetMode="External"/><Relationship Id="rId5" Type="http://schemas.openxmlformats.org/officeDocument/2006/relationships/hyperlink" Target="http://www.europe.eu.int/com/eurostat" TargetMode="External"/><Relationship Id="rId6" Type="http://schemas.openxmlformats.org/officeDocument/2006/relationships/hyperlink" Target="http://www.europe.eu.int/com/eurostat" TargetMode="External"/><Relationship Id="rId7" Type="http://schemas.openxmlformats.org/officeDocument/2006/relationships/hyperlink" Target="http://www.europe.eu.int/com/eurostat" TargetMode="External"/><Relationship Id="rId8" Type="http://schemas.openxmlformats.org/officeDocument/2006/relationships/hyperlink" Target="http://www.europe.eu.int/com/eurostat" TargetMode="External"/><Relationship Id="rId9" Type="http://schemas.openxmlformats.org/officeDocument/2006/relationships/hyperlink" Target="http://www.europe.eu.int/com/eurostat" TargetMode="External"/><Relationship Id="rId10" Type="http://schemas.openxmlformats.org/officeDocument/2006/relationships/hyperlink" Target="http://www.europe.eu.int/com/eurostat" TargetMode="External"/><Relationship Id="rId11" Type="http://schemas.openxmlformats.org/officeDocument/2006/relationships/hyperlink" Target="http://www.europe.eu.int/com/eurostat" TargetMode="External"/><Relationship Id="rId12" Type="http://schemas.openxmlformats.org/officeDocument/2006/relationships/hyperlink" Target="http://www.wttc.org/" TargetMode="External"/><Relationship Id="rId13" Type="http://schemas.openxmlformats.org/officeDocument/2006/relationships/hyperlink" Target="http://www.wttc.org/" TargetMode="External"/><Relationship Id="rId14" Type="http://schemas.openxmlformats.org/officeDocument/2006/relationships/hyperlink" Target="http://www.wttc.org/" TargetMode="External"/><Relationship Id="rId15" Type="http://schemas.openxmlformats.org/officeDocument/2006/relationships/hyperlink" Target="http://www.etc-europe-travel.org/" TargetMode="External"/><Relationship Id="rId16" Type="http://schemas.openxmlformats.org/officeDocument/2006/relationships/hyperlink" Target="http://www.etc-europe-travel.org/" TargetMode="External"/><Relationship Id="rId17" Type="http://schemas.openxmlformats.org/officeDocument/2006/relationships/hyperlink" Target="http://www.etc-europe-travel.org/" TargetMode="External"/><Relationship Id="rId18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hyperlink" Target="http://www.ksh.hu/" TargetMode="External"/><Relationship Id="rId2" Type="http://schemas.openxmlformats.org/officeDocument/2006/relationships/hyperlink" Target="http://www.ksh.hu/" TargetMode="External"/><Relationship Id="rId3" Type="http://schemas.openxmlformats.org/officeDocument/2006/relationships/hyperlink" Target="http://www.ksh.hu/" TargetMode="External"/><Relationship Id="rId4" Type="http://schemas.openxmlformats.org/officeDocument/2006/relationships/hyperlink" Target="http://www.ksh.hu/" TargetMode="External"/><Relationship Id="rId5" Type="http://schemas.openxmlformats.org/officeDocument/2006/relationships/hyperlink" Target="http://www.mnb.hu/" TargetMode="External"/><Relationship Id="rId6" Type="http://schemas.openxmlformats.org/officeDocument/2006/relationships/hyperlink" Target="http://www.mnb.hu/" TargetMode="External"/><Relationship Id="rId7" Type="http://schemas.openxmlformats.org/officeDocument/2006/relationships/hyperlink" Target="http://www.mnb.hu/" TargetMode="External"/><Relationship Id="rId8" Type="http://schemas.openxmlformats.org/officeDocument/2006/relationships/hyperlink" Target="http://www.mnb.hu/" TargetMode="External"/><Relationship Id="rId9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Turizmus marke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Összeállította: Kiss Kornélia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Csere, ügyletek, kapcsolatok / 1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898560" y="1938240"/>
            <a:ext cx="7940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csere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a megkívánt termék megszerzésének az a változata, amikor viszonzásképp felajánlunk érte valam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hhoz, hogy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a csere megtörténjen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Legalább két félre van szüksé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Mindegyik félnek rendelkeznie kell valamivel, ami a másik számára értéket hordoz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Mindegyik félnek kommunikációképesnek kell lenni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Mindegyik félnek rendelkeznie kell az ajánlat elfogadásának, illetve elutasításának jogáva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Mindkét félnek helyénvalónak vagy kívánatosnak kell tartania a másikkal való megállapodá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tevékenység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Piacelemzések alapján a 4P meghatározá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Minden termékre az ár, kommunikációs politika és az értékesítés módjának kialakítá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A költségek és a várható eredmények meghatározá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Marketing mix progra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5" name=""/>
          <p:cNvSpPr/>
          <p:nvPr/>
        </p:nvSpPr>
        <p:spPr>
          <a:xfrm>
            <a:off x="643680" y="2471760"/>
            <a:ext cx="6002280" cy="35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4 P / 7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 u="sng">
                <a:solidFill>
                  <a:srgbClr val="000000"/>
                </a:solidFill>
                <a:uFillTx/>
                <a:latin typeface="Tahoma"/>
              </a:rPr>
              <a:t>Termékpolit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Árpolit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Kommunikációs polit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Elosztási csatornákra vonatkozó polit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+3 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7" name=""/>
          <p:cNvSpPr/>
          <p:nvPr/>
        </p:nvSpPr>
        <p:spPr>
          <a:xfrm>
            <a:off x="746280" y="1905120"/>
            <a:ext cx="80168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Emberi tényező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az összes olyan szereplő, aki szerepet játszik a szolgáltatásügylet létrejöttében, és így hat az igénybe vevő által észleltekre, azaz a szolgáltató front-személyzete, maga az igénybe vevő, és a szolgáltatásügylet környezetében található más igénybe vevő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Tárgyi elemek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az a környezet, amelyben a szolgáltatást nyújtják és ahol az ügylet lezajlik, továbbá bármely olyan tárgyi elem, amely megkönnyíti a szolgáltatás teljesítését vagy kommunikációjá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Folyamat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azok az eljárások, mechanizmusok, tevékenységfolyamatok, melyek műveleti rendszere leszállítja a szolgáltatá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4P (Morisso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9" name=""/>
          <p:cNvSpPr/>
          <p:nvPr/>
        </p:nvSpPr>
        <p:spPr>
          <a:xfrm>
            <a:off x="822240" y="2243160"/>
            <a:ext cx="8016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Morisson (198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People – emberi erőforr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Packaging – csomaggá szervezé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Partnership – együttműköd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Programming – a mix koordinálása, az egyes elemek összehangol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Tipikus marketingkombináció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Kiemelkedő minőségű termé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Tömegár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tevékenység eredmény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A 4P (termékek, árak, elosztási csatornák, kommunikációs politik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Alternatívá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termékpolitik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lapfogalma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Kínálat, termék, desztináci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A turisztikai termék lehetséges eleme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A termék fogalma egy vállalat és egy desztináció szempontjábó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A termék összeállításának módj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A termék életciklus görbe, a desztinációs életciklus görb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Lehetséges termékstratégiá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Az Ansoff-mátrix alapjá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A piac kihasználá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Piacbővítés vagy piacteremté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Termékfejlesztés vagy a piaci rések feltárá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Diverzifikáci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BCG portfólió mátri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A piaci részesedés és a piaci növekedés alapjá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Csillagok, fejős tehenek, kérdőjelek, döglött kutyák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Csere, ügyletek, kapcsolatok / 2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06480" y="1981080"/>
            <a:ext cx="770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z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ügylet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a két fél között cserét jelen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Kapcsolat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ügyletek sorozata hosszabb időszakon keresztül ugyanazon szereplők között. A kapcsolat csökkenti az ügyletek költségét és időigényét, a kapcsolat speciális vállalati erőforrá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Kommunikációs politik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lapfogalma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5" name=""/>
          <p:cNvSpPr/>
          <p:nvPr/>
        </p:nvSpPr>
        <p:spPr>
          <a:xfrm>
            <a:off x="669960" y="2166840"/>
            <a:ext cx="8169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Promóció, kommunikáció, marketingkommunikáci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kommunikáció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azon része, amely a marketingfunkcióhoz tartozik. Az eladótól a vevő felé irányuló információ kibocsátást foglalja magába, annak érdekében, hogy a vásárló attitűdjét és magatartását befolyásol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kommunikációs folya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7" name=""/>
          <p:cNvSpPr/>
          <p:nvPr/>
        </p:nvSpPr>
        <p:spPr>
          <a:xfrm>
            <a:off x="517680" y="2166840"/>
            <a:ext cx="8321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Forrás </a:t>
            </a:r>
            <a:r>
              <a:rPr b="0" lang="hu-HU" sz="2400" spc="-1" strike="noStrike">
                <a:solidFill>
                  <a:srgbClr val="000000"/>
                </a:solidFill>
                <a:latin typeface="Marlett"/>
                <a:ea typeface="Marlett"/>
              </a:rPr>
              <a:t>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üzenet </a:t>
            </a:r>
            <a:r>
              <a:rPr b="0" lang="hu-HU" sz="2400" spc="-1" strike="noStrike">
                <a:solidFill>
                  <a:srgbClr val="000000"/>
                </a:solidFill>
                <a:latin typeface="Marlett"/>
                <a:ea typeface="Marlett"/>
              </a:rPr>
              <a:t>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kódolás </a:t>
            </a:r>
            <a:r>
              <a:rPr b="0" lang="hu-HU" sz="2400" spc="-1" strike="noStrike">
                <a:solidFill>
                  <a:srgbClr val="000000"/>
                </a:solidFill>
                <a:latin typeface="Marlett"/>
                <a:ea typeface="Marlett"/>
              </a:rPr>
              <a:t>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átvitel </a:t>
            </a:r>
            <a:r>
              <a:rPr b="0" lang="hu-HU" sz="2400" spc="-1" strike="noStrike">
                <a:solidFill>
                  <a:srgbClr val="000000"/>
                </a:solidFill>
                <a:latin typeface="Marlett"/>
                <a:ea typeface="Marlett"/>
              </a:rPr>
              <a:t>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zaj </a:t>
            </a:r>
            <a:r>
              <a:rPr b="0" lang="hu-HU" sz="2400" spc="-1" strike="noStrike">
                <a:solidFill>
                  <a:srgbClr val="000000"/>
                </a:solidFill>
                <a:latin typeface="Marlett"/>
                <a:ea typeface="Marlett"/>
              </a:rPr>
              <a:t>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befogadó </a:t>
            </a:r>
            <a:r>
              <a:rPr b="0" lang="hu-HU" sz="2400" spc="-1" strike="noStrike">
                <a:solidFill>
                  <a:srgbClr val="000000"/>
                </a:solidFill>
                <a:latin typeface="Marlett"/>
                <a:ea typeface="Marlett"/>
              </a:rPr>
              <a:t>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dekódolás </a:t>
            </a:r>
            <a:r>
              <a:rPr b="0" lang="hu-HU" sz="2400" spc="-1" strike="noStrike">
                <a:solidFill>
                  <a:srgbClr val="000000"/>
                </a:solidFill>
                <a:latin typeface="Marlett"/>
                <a:ea typeface="Marlett"/>
              </a:rPr>
              <a:t>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válasz </a:t>
            </a:r>
            <a:r>
              <a:rPr b="0" lang="hu-HU" sz="2400" spc="-1" strike="noStrike">
                <a:solidFill>
                  <a:srgbClr val="000000"/>
                </a:solidFill>
                <a:latin typeface="Marlett"/>
                <a:ea typeface="Marlett"/>
              </a:rPr>
              <a:t>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visszacsatol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vásárlási folyamat szakasz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Problémafelismer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Információgyűj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Információfeldolgozás és értékel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döntés megvalósítása, a vásárl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döntés utáni magatar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Reklám: nem személyes bemutatá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PR: nem személyes ösztönzés, hosszú. távon ha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Értékesítés ösztönzés: személyes ösztönzés, rövid távon ha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Személyes eladás: közvetlen szóbeli bemutatás vagy eladási szándék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marketingkommunikáció eszközrendsze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33520" y="2286000"/>
            <a:ext cx="8076960" cy="3597120"/>
            <a:chOff x="533520" y="2286000"/>
            <a:chExt cx="8076960" cy="3597120"/>
          </a:xfrm>
        </p:grpSpPr>
        <p:sp>
          <p:nvSpPr>
            <p:cNvPr id="362" name=""/>
            <p:cNvSpPr/>
            <p:nvPr/>
          </p:nvSpPr>
          <p:spPr>
            <a:xfrm>
              <a:off x="3657600" y="3230640"/>
              <a:ext cx="4952880" cy="26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800" spc="-1" strike="noStrike">
                  <a:solidFill>
                    <a:srgbClr val="000000"/>
                  </a:solidFill>
                  <a:latin typeface="Tahoma"/>
                </a:rPr>
                <a:t>Termék, minőség, ár, választék, csomagolás, forma, design, szerviz, garancia, vevőszolgálat, értékesítési hálózat, eladási feltételek, védjegy, stb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33520" y="3230640"/>
              <a:ext cx="3124080" cy="26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800" spc="-1" strike="noStrike">
                  <a:solidFill>
                    <a:srgbClr val="000000"/>
                  </a:solidFill>
                  <a:latin typeface="Tahoma"/>
                </a:rPr>
                <a:t>Reklám, hirdeté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800" spc="-1" strike="noStrike">
                  <a:solidFill>
                    <a:srgbClr val="000000"/>
                  </a:solidFill>
                  <a:latin typeface="Tahoma"/>
                </a:rPr>
                <a:t>Személyes eladá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800" spc="-1" strike="noStrike">
                  <a:solidFill>
                    <a:srgbClr val="000000"/>
                  </a:solidFill>
                  <a:latin typeface="Tahoma"/>
                </a:rPr>
                <a:t>Public relation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800" spc="-1" strike="noStrike">
                  <a:solidFill>
                    <a:srgbClr val="000000"/>
                  </a:solidFill>
                  <a:latin typeface="Tahoma"/>
                </a:rPr>
                <a:t>Eladásösztönzé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657600" y="2286000"/>
              <a:ext cx="495288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800" spc="-1" strike="noStrike">
                  <a:solidFill>
                    <a:srgbClr val="000000"/>
                  </a:solidFill>
                  <a:latin typeface="Tahoma"/>
                </a:rPr>
                <a:t>Csak a kommunikációval együtt eredmény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3520" y="2286000"/>
              <a:ext cx="312408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800" spc="-1" strike="noStrike">
                  <a:solidFill>
                    <a:srgbClr val="000000"/>
                  </a:solidFill>
                  <a:latin typeface="Tahoma"/>
                </a:rPr>
                <a:t>Eredetében kommunikáció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33520" y="2286000"/>
              <a:ext cx="80769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33520" y="3230640"/>
              <a:ext cx="8076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33520" y="5883120"/>
              <a:ext cx="80769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33520" y="2286000"/>
              <a:ext cx="0" cy="3597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657600" y="2286000"/>
              <a:ext cx="0" cy="359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610480" y="2286000"/>
              <a:ext cx="0" cy="3597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z eszközrendszer sajátosság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3" name=""/>
          <p:cNvSpPr/>
          <p:nvPr/>
        </p:nvSpPr>
        <p:spPr>
          <a:xfrm>
            <a:off x="746280" y="2166840"/>
            <a:ext cx="8092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Egy meghatározott cél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sokféle eszközzel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elérhető, az eszközök egymással helyettesíthető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Egy adott cél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egyszerre és egymás mellett többféle eszköz felhasználásával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valósítható meg, az eszközök egymással kombinálható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marketingkommunikáció egyrészt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önálló piacbefolyásoló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eszköz, másrészt minden marketingelem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kísérő jelensége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kommunikáció hatását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sohasem önmagában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fejti ki, hanem összekapcsolódva a vele párhuzamosan érvényesülő és ható makroszintű befolyásoló tevékenységg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Hirdetés / reklá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5" name=""/>
          <p:cNvSpPr/>
          <p:nvPr/>
        </p:nvSpPr>
        <p:spPr>
          <a:xfrm>
            <a:off x="669960" y="1905120"/>
            <a:ext cx="8093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reklám olyan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tájékoztató tevékenység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, amelyet kifejezetten gazdasági célból egy vagy több cég a potenciális fogyasztók befolyásolására meghatározott eszközökkel és hatékonyságra törekedve vége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reklám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tárgya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leh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termék tulajdonsága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kiegészítő szolgáltatáso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z á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beszerzési hel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z időbeosztá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z eladási kondíció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csomagolási egység, a védjegy, a vállalati logo, st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hirdetés funkció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7" name=""/>
          <p:cNvSpPr/>
          <p:nvPr/>
        </p:nvSpPr>
        <p:spPr>
          <a:xfrm>
            <a:off x="822240" y="2319480"/>
            <a:ext cx="7940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Igénykeltő és szükségletet befolyásoló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funkció (új igények ébresztése, a szükségletek módosítá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Piacteremtő funkció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, az új termékek megismertetése (új termékek fogyasztókkal való megismerteté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Piacstabilizáló és piacbővítő funkció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(amikor a kínálat előreszalad a kereslethez képest / a vásárlási szokások megváltoztatása, tájékoztatás az eladási feltételekről, az igénybe vehető szolgáltatásokról, stb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Reklámhordozó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9" name=""/>
          <p:cNvSpPr/>
          <p:nvPr/>
        </p:nvSpPr>
        <p:spPr>
          <a:xfrm>
            <a:off x="822240" y="2090880"/>
            <a:ext cx="7940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reklámhordozó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(médium, média) a reklámüzenetek hordozója, megjelenítője, működtetője, a reklámeszköz közlésének továbbítója, eljuttatója a célszemélyhe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Napilapok, hetilapok, képes lapok, szakfolyóiratok, újság mellékletek, hirdetési lapok, címjegyzékek, direct mail, rádió, tv, közterületi reklámhordozók, egyéb reklámhordozók (zárttéri reklámhordozó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Reklámeszközö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1" name=""/>
          <p:cNvSpPr/>
          <p:nvPr/>
        </p:nvSpPr>
        <p:spPr>
          <a:xfrm>
            <a:off x="669960" y="2243160"/>
            <a:ext cx="8169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reklám mondanivalóját a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reklámeszközzel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fejezzük k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legfontosabb reklámeszközök: élőszó/beszéd, sajtóhirdetés, reklámnyomtatványok, plakát, reklámtáblák, tűzfalhirdetés, fényreklám, rádióreklám, reklámfilm, tv-reklám, reklámajándék, kiállítás és vásár, kirakatreklám, csomagolás, védje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reklámhordozó és a reklámeszköz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egyes esetekben azonos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Piac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822240" y="1938240"/>
            <a:ext cx="801684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Piac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a tényleges és potenciális vevők és eladók, valamint azok cserekapcsolatainak rendszere, melynek legfőbb tényezői a kereslet és kínálat, az ár és jövede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Kereslet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azt fejezi ki, hogy a fogyasztó vagy felhasználó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hajlandó és képes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valamilyen terméket vagy szolgáltatást megvásárolni (egyéni vs. piaci keresle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Kínálat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azt jelenti,  hogy egy vállalat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képes és hajlandó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eladás céljából valamely terméket vagy szolgáltatást előállítani vagy teljesíteni (egyéni vs. piaci kínála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Reklámeszközök csoportosítás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3" name=""/>
          <p:cNvSpPr/>
          <p:nvPr/>
        </p:nvSpPr>
        <p:spPr>
          <a:xfrm>
            <a:off x="517680" y="2133720"/>
            <a:ext cx="8321400" cy="34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Közvetett és közvetlen eszközö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Látásra, hallásra, látásra és hallásra, egyéb érzékszervre is ható eszközö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Irányítható, részben irányítható és nem irányítható eszközö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Közterületi és zártterületi reklám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lapeszközök, kiegészítő eszközö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Teljes és részleges reklámeszközö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Public Rel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5" name=""/>
          <p:cNvSpPr/>
          <p:nvPr/>
        </p:nvSpPr>
        <p:spPr>
          <a:xfrm>
            <a:off x="822240" y="2243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46280" y="2166840"/>
            <a:ext cx="8092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PR célja, hogy a vállalat és közönsége, közvéleménye, illetve szűkebb és tágabb környezete között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megértést és bizalmat építsen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Olyan általános magatartásforma amely arra irányul, hogy a vállalat belső és külső kapcsolatainál megértést, támogatást, bizalmat szerezzen, s ezzel üzleti tevékenységének eredményességét HOSSZÚ távra alapozza me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PR funkció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8" name=""/>
          <p:cNvSpPr/>
          <p:nvPr/>
        </p:nvSpPr>
        <p:spPr>
          <a:xfrm>
            <a:off x="746280" y="2166840"/>
            <a:ext cx="7940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PR funkció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információadás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információk közvetítése a vállalat számára releváns célcsoportok felé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image-alakítás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a vállalat számára kívánatos kép felépítése, a meglevő kép megváltoztatás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vezetés/befolyásolás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a releváns közvélemény befolyásolás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kommunikáció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kapcsolatok létrehozása a vállalkozás és a vállalkozás számára fontos célcsoportok közöt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egzisztencia-megtartás: a vállalkozásra való utaltság folyamatos szükségességének hiteles bemutatá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PR területeinek rendszerezé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0" name=""/>
          <p:cNvSpPr/>
          <p:nvPr/>
        </p:nvSpPr>
        <p:spPr>
          <a:xfrm>
            <a:off x="822240" y="2243160"/>
            <a:ext cx="7940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kapcsolat szorossága sze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közvetlen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(személyes, rendezvény, esemény) 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közvetett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PR (média) kapcsolato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PR irányai sze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belső PR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a szervezeten belüli, a vezetők és alkalmazottak, valamint a szervezeti egységek közötti kölcsönös információáramlás, kommunikációs kapcsolattartá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külső PR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a szervezet külső környezetével kiépített kommunikációs kapcsolatainak összessé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Belső P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746280" y="2243160"/>
            <a:ext cx="8092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belső PR alapvető jelentőségű, m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fokozza a munka hatékonyságát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vállalatról kialakult kedvező vagy kedvezőtlen kép kialakításában gyakran az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alkalmazottak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tehetnek a legtöbbet, így elkötelezettségük alapvető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vállalat és alkalmazottainak megfelelő kapcsolata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pozitívan hat a HR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-re is (munkatársak toborzása, és megtartá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jól tájékozottság a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stratégiaalkotásnak és végrehajtásnak is alapkövetelmén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belső PR eszköze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4" name=""/>
          <p:cNvSpPr/>
          <p:nvPr/>
        </p:nvSpPr>
        <p:spPr>
          <a:xfrm>
            <a:off x="838080" y="2286000"/>
            <a:ext cx="63248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Formális és informális szóbeli információ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Formális és informális írásbeli információk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Formális és informális vizuális információ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Tahoma"/>
              </a:rPr>
              <a:t>(Példák??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Külső P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6" name=""/>
          <p:cNvSpPr/>
          <p:nvPr/>
        </p:nvSpPr>
        <p:spPr>
          <a:xfrm>
            <a:off x="746280" y="2243160"/>
            <a:ext cx="8092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vállalat külső érdekkapcsolatainak szféráját alapvetően 5 csoportra oszthatju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Üzleti kapcsolato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Kormányzati kapcsolato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Pénzintézeti, banki és beruházási kapcsolato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Általános (önkormányzatok, helyi képviselők, kerületek, stb.) kapcsolato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Tömegkommunikációs kapcsolato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külső PR eszköze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8" name=""/>
          <p:cNvSpPr/>
          <p:nvPr/>
        </p:nvSpPr>
        <p:spPr>
          <a:xfrm>
            <a:off x="746280" y="2319480"/>
            <a:ext cx="8092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külső PR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eszköztára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alapvetően megegyezik a rekláméval: a különbséget az információ tartalma, illetve célja jelen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Személyes kommunikáció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viták, párbeszédek, interjúk, előadások, levelek, feljegyzés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Csoportkommunikáció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konferenciák, szimpóziumok, kiállítások, prezentációk, értekezletek, fórumok, viták, speciális írásbeli közlemények, zártterületi tájékoztató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Tömegkommunikáció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közterületi objektumok, vásárok és kiállítások, film, sajtó, rádió, televízi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Eladásösztönzés (Sales Promotio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ahoma"/>
              </a:rPr>
              <a:t>Ösztönző eszközök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 (versenyek, utazások, bonus, díjak, hirdetési támogatás, ingyenes minták, költség átvállalá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ahoma"/>
              </a:rPr>
              <a:t>Árral kapcsolatos ösztönzők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 (kuponok, engedmények, visszatérítés, készpénzfizetési engedmén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ahoma"/>
              </a:rPr>
              <a:t>Információnyújtás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 (dm, kirakat, bemutatók, értékesítési szóróanyag, katalógus, reklámtárgy, vásáro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Személyes eladás (Personal Selling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Értékesítési bemutató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Értékesítési találkozó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Telemarke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Ösztönző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Ügynöki árumintá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Vásárok és kereskedelmi bemutató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Piaci szereplők és marke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822240" y="186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2014560"/>
            <a:ext cx="838188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Piaci szereplő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aki termeléssel vagy fogyasztással közvetlenül befolyásolja a piaci folyamatok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Marketing: 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piacokkal kapcsolatban végzett tevékenység, a potenciális cserék megvalósítása érdekéb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tervezésnek és a végrehajtásnak az a folyamata, melynek során elképzelések, áruk és szolgáltatások teremtése, árazása, ösztönzése és elosztása megy végbe annak érdekében, hogy  a cserén keresztül megvalósuljanak az egyéni és szervezeti célo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marketingkommunikáció folyam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Célközönség meghatározá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Kommunikáció célj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Üzenet megtervezé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Kommunikációs csatornák kiválasztá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Költségvetés felosztá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Kommunikációs eszközök kiválasztá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A kommunikáció eredményeinek becslé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A marketingkommunikációs folyamat irányítá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szolgáltatás minőség modellj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Szolgáltatásminőség</a:t>
            </a: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8" name=""/>
          <p:cNvSpPr/>
          <p:nvPr/>
        </p:nvSpPr>
        <p:spPr>
          <a:xfrm>
            <a:off x="746280" y="1447920"/>
            <a:ext cx="809280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minőségbiztosítás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kérdése az 1980-as évektől kulcskérdéssé vált. Definiálni elsőként a kézzelfogható termékek szektorában próbáltá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szolgáltatások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speciális tulajdonságai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(például megfoghatatlanság, ingadozás, egyidejűség) számos speciális problémát vetnek f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szolgáltatások tulajdonsága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Keresési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(olyan jellemző, amilynek minőségét a fogyasztó már a termék megvásárlása előtt is meg tudja határozni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Tapasztalati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(csak a vásárlás vagy fogyasztás után tudja meghatározn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Bizalmi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tulajdonságok (a vásárlást és fogyasztást követően sem biztos, hogy meg tudja határozn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Szolgáltatásminőség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0" name=""/>
          <p:cNvSpPr/>
          <p:nvPr/>
        </p:nvSpPr>
        <p:spPr>
          <a:xfrm>
            <a:off x="669960" y="2243160"/>
            <a:ext cx="8169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Három alapvető feltevé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fogyasztók számára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nehezebb megítélni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a szolgáltatások minőségét, mint a termékminőséget (megfoghatatlanság – tárgyiasult elemek!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szolgáltatások minőségéről kialakult fogyasztói vélemény a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kapott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(érzékelt) és a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várt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szolgáltatás összehasonlításának eredménye (irány és nagyság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minőség megítélésekor nem csupán a szolgáltatás eredményét, hanem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a szolgáltatásnyújtási folyamat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egészét is figyelembe kell venn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Szolgáltatások minősé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2" name=""/>
          <p:cNvSpPr/>
          <p:nvPr/>
        </p:nvSpPr>
        <p:spPr>
          <a:xfrm>
            <a:off x="669960" y="2090880"/>
            <a:ext cx="809316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Rés-modell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(Parasuramann-Zeitham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Rés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a fogyasztó igénye és annak megértése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közö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Rés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az igények megértése és a szolgáltatás minőségének meghatározása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közö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Rés a szolgáltatás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minőségének meghatározása és a szolgáltatás teljesítése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közö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Rés a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szolgáltatás teljesítése és a külső kommunikáció közö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Rés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a kapott és a várt szolgáltatás közö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szolgáltatás minőségét minden egyes rés nagysága és iránya befolyásol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szolgáltatások minőségét meghatározó tényezők / 1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4" name=""/>
          <p:cNvSpPr/>
          <p:nvPr/>
        </p:nvSpPr>
        <p:spPr>
          <a:xfrm>
            <a:off x="746280" y="2090880"/>
            <a:ext cx="8092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Hozzáju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Kommunikáció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a szolgáltatást a fogyasztó nyelvén kommunikálj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Kompetencia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az alkalmazottak rendelkeznek a pontos tudással és képzettségg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Udvariasság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barátságos, tisztelettudó és tapintatos alkalmazott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Felelősségtudat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felelősségteljes munkavégzés, a fogyasztó igényeinek szem előtt tart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Megbízhatóság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a szolgáltatás következetes és pontos végrehajt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szolgáltatások minőségét meghatározó tényezők / 2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6" name=""/>
          <p:cNvSpPr/>
          <p:nvPr/>
        </p:nvSpPr>
        <p:spPr>
          <a:xfrm>
            <a:off x="669960" y="2090880"/>
            <a:ext cx="816912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Figyelmesség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gyors és kreatív reagálás a fogyasztók kéréseire és problémá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Biztonság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a szolgáltatás veszély- és kockázatmentes, minden kétséget kizá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Kézzelfogható bizonyítékok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tükrözik a szolgáltatás minőségé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A fogyasztók megismerése és megértése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az alkalmazottak igyekeznek megismerni és megérteni a fogyasztók igényeit és személyes érdeklődést tanusítan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Tahoma"/>
              </a:rPr>
              <a:t>(Melyek a keresési, tapasztalati és bizalmi tényezők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Elosztási csatorna politik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Árpolitik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Marketing költségveté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2" name=""/>
          <p:cNvSpPr/>
          <p:nvPr/>
        </p:nvSpPr>
        <p:spPr>
          <a:xfrm>
            <a:off x="669960" y="2166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22240" y="2243160"/>
            <a:ext cx="7940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Meghatározza a kitűzött forgalom és bevétel eléréshez szükséges anyagi források nagyságát. A marketing költségvetés a marketingtervben szereplő célok megvalósításában alkalmazott egyedi marketing-mix elemek költségeinek össze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Költségvetés készítési módszer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Megengedhető móds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Forgalom/bevétel arányos móds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Kompetitív/versenytársak költéséhez igazodó móds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Feladat-cél módsz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vállalati marketingről alkotott elképzelések fejlődé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593640" y="2166840"/>
            <a:ext cx="8245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marketing mint egyenrangú funk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marketing mint lényeges funk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marketing mint legfőbb funk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fogyasztó mint meghatározó funk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fogyasztó mint meghatározó és a marketing mint integráló funk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Tahoma"/>
              </a:rPr>
              <a:t>(Lsd. ábra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Monitoring, értékelés, kontrol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5" name=""/>
          <p:cNvSpPr/>
          <p:nvPr/>
        </p:nvSpPr>
        <p:spPr>
          <a:xfrm>
            <a:off x="380880" y="1981080"/>
            <a:ext cx="8763120" cy="52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Értékelés: a meghatározott célok elérésének szintjét vizsgáló szisztematikus, periodikus vizsgálat. Általában évente történik és részét képezi a stratégiai tervezési folyamatna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Monitoring: szisztematikus napi, heti, havi, gyakoriságú teljesítményértékelés, amely az adott aktuális eredményeket és a kitűzött célokat veti össze. A monitoring eredményeit felhasználja a marketing-kontrol és azok megjelennek az éves vizsgálatokban 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Marketing kontroll: olyan taktikai, folyamatos marketing-management akciók, melyeket a monitoring adataira alapozva végeznek. Általában a taktikai árképzéssel, eladásösztönzéssel és reklámozással foglalkozó akció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Szolgáltatás- és turizmus marke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turisztikai keresl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746280" y="2166840"/>
            <a:ext cx="8092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Kereslet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(turista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motiváció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diszkrecionális jövedelem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szabadidő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turisztikai kínálat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669960" y="2166840"/>
            <a:ext cx="8169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Kínálat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(turisztikai termék): vonzerő, szállás, étkezés, közlekedés, egyéb infrastruktúra, szórakozási lehetőségek, kultúra, vendégszeretet, biztonság, higiéné, turisztikai szervezetek, árak, st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Tahoma"/>
              </a:rPr>
              <a:t>Termék vagy szolgáltatá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terméktől a szolgáltatási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898560" y="2243160"/>
            <a:ext cx="78645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termékek (fizikai javak) és a szolgáltatások piacának határvonala nem határozot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Problémamentes fogyasztási javak (péksüt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Magyarázatot igénylő fogyasztási javak (selyem blúz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Karbantartás/szervízigényes beruházási javak (autó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Számítógé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Nagyberendezések tervezése és építé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Ingatlanközvetíté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utójavítá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Hajvágás, piackutatá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Orvosi tanácsadás, pszichoteráp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Szolgáltatásmarketing / 1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762120" y="2133720"/>
            <a:ext cx="8076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A szolgáltatások tulajdonság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1. 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egfoghatatlan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ság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- A szolgáltatás nem fogható meg, nem mérhető vagy értékelhető az előállítás elő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választhatatlanság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- az előállítás és a fogyasztás szimultán történik, mely mind az előállítótól, mind pedig a fogyasztótól aktív közreműködést igényel.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lapfogalma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Szolgáltatásmarketing / 2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201456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terogenitás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- A szubjektum szerepe, minden fogyasztó más és másképpen ítélheti meg ugyanazt a szolgáltatá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4.  Raktározhatatlanság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hu-HU" sz="2400" spc="-1" strike="noStrike">
                <a:solidFill>
                  <a:srgbClr val="000000"/>
                </a:solidFill>
                <a:latin typeface="Tahoma"/>
              </a:rPr>
              <a:t>(hierarchi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Szolgáltatások sajátosságaiból adódó problémák / 1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09480" y="2286000"/>
          <a:ext cx="8229600" cy="3557520"/>
        </p:xfrm>
        <a:graphic>
          <a:graphicData uri="http://schemas.openxmlformats.org/drawingml/2006/table">
            <a:tbl>
              <a:tblPr/>
              <a:tblGrid>
                <a:gridCol w="2895840"/>
                <a:gridCol w="53337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zolgáltatás-jellemző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rketingproblém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gfoghatatlansá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szolgáltatások nem tárolhatók, nem védhetők szabadalommal, nem bemutathatók, nehéz őket beárazn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terogenitá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fogyasztó részt vesz a termelésben, más fogyasztók is részt vesznek a termelésben, a központosított tömeggyártás nem lehetség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Szolgáltatások sajátosságaiból adódó problémák / 2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609480" y="2286000"/>
          <a:ext cx="8229600" cy="3922560"/>
        </p:xfrm>
        <a:graphic>
          <a:graphicData uri="http://schemas.openxmlformats.org/drawingml/2006/table">
            <a:tbl>
              <a:tblPr/>
              <a:tblGrid>
                <a:gridCol w="3048120"/>
                <a:gridCol w="51814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zolgáltatás-jellemző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rketingproblém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lválaszthatatlanság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szabványosítást és a minőségellenőrzést nehéz elérni, a </a:t>
                      </a: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apacitások csak a fogyasztó jelenlétében használhatók k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ktározhatatlanság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m lehet raktározni a szolgáltatásokat, a </a:t>
                      </a: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apacitások csak a fogyasztó jelenlétében használhatók k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333399"/>
                </a:solidFill>
                <a:latin typeface="Tahoma"/>
              </a:rPr>
              <a:t>A turisztikai szolgáltatások jellemzői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turisztikai szolgáltatások további jellemző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Szezonalitá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z emberi erőforrás szerepe kiemelten fon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Egymásra épülő, egymástól függő termékelemek, komplexitá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Monopóliumok, oligopóliumok jelenlé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Magas állandó költsége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Turizmusmarketing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822240" y="2014560"/>
            <a:ext cx="7940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Nem önálló tudományág, hanem a marketing alkalmazása, a marketing alapelvek adaptációja a turizmus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4P / 7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1050840" y="2090880"/>
            <a:ext cx="7788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marketing mix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/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4 P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azoknak a marketingeszközöknek az összessége, amelyeket a vállalat a célpiacokra vonatkozó tervek megvalósításához használ f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Product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– termék,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Price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– ár,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Place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– elosztási vagy értékesítési csatornák,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Promotion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– promó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3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People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– emberi erőforrás, emberi tényez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Physical evidence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– tárgyi megjelen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Process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– a folyamat, amelyen keresztül a csere megvalós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+3 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746280" y="1905120"/>
            <a:ext cx="80168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Emberi tényező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az összes olyan szereplő, aki szerepet játszik a szolgáltatásügylet létrejöttében, és így hat az igénybe vevő által észleltekre, azaz a szolgáltató front-személyzete, maga az igénybe vevő, és a szolgáltatásügylet környezetében található más igénybe vevő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Tárgyi elemek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az a környezet, amelyben a szolgáltatást nyújtják és ahol az ügylet lezajlik, továbbá bármely olyan tárgyi elem, amely megkönnyíti a szolgáltatás teljesítését vagy kommunikációjá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Folyamat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azok az eljárások, mechanizmusok, tevékenységfolyamatok, melyek műveleti rendszere leszállítja a szolgáltatá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4P (Morisso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822240" y="2243160"/>
            <a:ext cx="8016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Morisson (198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People – emberi erőforr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Packaging – csomaggá szervezé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Partnership – együttműköd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Programming – a mix koordinálása, az egyes elemek összehangol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Tahoma"/>
              </a:rPr>
              <a:t>(Mennyiben új ez a fajta megközelítés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turizmus marketing szintje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Nemzetközi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Nemzet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Regionál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Vállalat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z igény és szükséglet fogalma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marketing helye a turizmus rendszeréb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A turizmus rendszerének alrendszere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A turizmus rendszer működése / vezérléstechnikák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Turizmuspolitik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Tervezés-fejleszté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Ösztönzé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Szabályozá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Market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szükségl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Szükséglet = ha a belső környezet állandósága megbomlik, akkor az egyensúly helyreállítására reflexes vagy motivációs folyamatok lépnek életb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Reflexes mechanizm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Motivációs mechanizm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Maslow szükségletpiramis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Fiziológiai szükséglete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Biztonság iránti vá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Valahová tartozni akará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Megbecsülés iránti szükséglete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Önmegvalósítással kapcsolatos szükséglete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Mill és Morris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Két további, intellektuális szükségl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Tudni és megérteni (ismeretszerzé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Esztétika (a szépség értékelés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szükségleteket befolyásoló tényező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Demográfiai változó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népességstatisztikával leírható változó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Pszichográfiai változó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az életstílussal, illetve a személyiségi jellemzőkkel összefüggő változó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z utazási motiváció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motiváció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A motiváció alapvető forrásai a biológiai szükséglete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Ha ezek kielégítetté válnak, a kutató-kereső tendenciák kerülnek előtérb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A szükségletből akkor lesz szándék, vagy motiváció, ha tudatosu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z utazási motivációk csoportosítás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Middlet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Horner és Swarbroo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Holloway és Robins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A motivációt meghatározó tényező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turisták típusai pszichológiai jellemzőik alapjá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Plo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Coh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Smi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családi életciklus model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turisztikai keresletet meghatározó további tényező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Szabadidő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Diszkrecionális jövedel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marketing fogalm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898560" y="2014560"/>
            <a:ext cx="7940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marketing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társadalmi és vezetési lépések láncolata, melynek során az egyének és csoportok termékeket és értékeket alkotnak és cserélnek ki egymás között, mialatt kielégítik szükségleteiket és igényeik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E meghatározás a következő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alapfogalmakra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épü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szükséglet, igény, keresle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terméke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hasznosság, értékek, elégedettsé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csere, ügyletek, kapcsolato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piaco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marketing és piaci szereplő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z utazási döntést befolyásoló tényező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Az utazás tényét meghatározó tényező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A vonzerőt, desztinációt meghatározó tényező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Fogyasztói</a:t>
            </a: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 magatartá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z utazási döntés modellj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Igény - Szándék - Keresés -  Döntés   Utazás - Üdülés a desztinációban - Visszautazás - Emlékek - A döntés megerősítése vagy elutasítá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822240" y="2319480"/>
            <a:ext cx="801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fogyasztói magatartás modellj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839880" y="1828800"/>
            <a:ext cx="8304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Külső ingerek </a:t>
            </a:r>
            <a:r>
              <a:rPr b="0" lang="hu-HU" sz="2400" spc="-1" strike="noStrike">
                <a:solidFill>
                  <a:srgbClr val="000000"/>
                </a:solidFill>
                <a:latin typeface="Marlett"/>
                <a:ea typeface="Marlett"/>
              </a:rPr>
              <a:t>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A vevő fekete doboza </a:t>
            </a:r>
            <a:r>
              <a:rPr b="0" lang="hu-HU" sz="2400" spc="-1" strike="noStrike">
                <a:solidFill>
                  <a:srgbClr val="000000"/>
                </a:solidFill>
                <a:latin typeface="Marlett"/>
                <a:ea typeface="Marlett"/>
              </a:rPr>
              <a:t>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A vásárlási dön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Külső inger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marketing – 4P (7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környezeti – gazdasági, politikai, technológiai, kulturális, st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fekete doboz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a vevő kulturális, társadalmi, személyes, pszichológia jellemzői és a vásárlási döntés folyamata határozza meg a végeredmény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vásárlási döntés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termék-, márka-, kereskedőválasztás, időzítés, a vásárlásra fordított össze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fogyasztói magatartást befolyásoló főbb tényezők / 1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>
            <a:off x="669960" y="2014560"/>
            <a:ext cx="8093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Kulturális jellemzők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a fogyasztói magatartást legmélyebben és legerősebben befolyásoló tényező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Kultúra: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értékek, felfogások, célok és magatartás-formák. Az ember a szocializáción keresztül a családban és a számára kulcsfontosságú intézményekben sajátítja el ezek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Szubkultúra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nemzetiségi, vallási, faji, földrajzi csoporto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Társadalmi osztály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a társadalom viszonylagosan homogén és tartós tagozódása, amely hierarchikus felépítésű, és az egyes osztályok tagjai hasonló érték-, érdek-, és magatartásnormákkal rendelkezne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Társadalmi osztályok Magyarország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988560" y="2243160"/>
            <a:ext cx="6674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Felső/alsó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felső rét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Felső/középső/alsó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középrét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Felső/alsó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alsó rét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Decimálisok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 (kiemelt az alsó és a felső tiz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fogyasztói magatartást befolyásoló főbb tényezők / 2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746280" y="2090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22240" y="2090880"/>
            <a:ext cx="794088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Társadalmi jellemző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Referenciacsoport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azok a csoportok, amelyek az ember attitűdjére vagy magatartására közvetlen vagy közvetett hatással vannak. Elsődleges és másodlagos csoport. Aspirációs és aszociális  csopor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Család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a legnagyobb hatású referenciacsoport, orientációs család és saját csalá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Társadalmi szerepek és státuszok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az ember számos csoportnak lesz tagja élete során, az ezekben elfoglalt pozícióját határozzuk meg ezekkel a fogalmakk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fogyasztói magatartást befolyásoló főbb tényezők / 3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669960" y="1905120"/>
            <a:ext cx="8169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Személyes jellemző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Kor- és életciklus szakas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Foglalkoz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Gazdasági körülmények: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befolyásolja a szabadon elkölthető jövedelem nagyságát, a hitelfelvételi lehetőségeket, az életmódot (költekező vagy takaréko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Életmód: 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z egyén tevékenységében, érdeklődési körében és nézeteiben tükröződi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Személyiség és én-kép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az egyén sajátos pszichológiai jellemzőinek összessége (önbizalom, dominancia, autonómia, tisztelet, szociabilitás, védekező- és alkalmazkodóképesség), én-kép: tényleges én-kép, ideális én-kép, mások által alkotott ké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fogyasztói magatartást befolyásoló főbb tényezők / 4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669960" y="1752480"/>
            <a:ext cx="8169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Pszichológiai jellemző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Motiváció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Maslow motivációelméle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Észlelés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a motivált egyén kész a cselekvésre, de cselekvésének jellegét meghatározza a helyzet észlelésének módja. Az észlelés olyan folyamat, amelyen keresztül az egyén osztályozza, rendszerezi és lefordítja a külvilágból érkező információk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Tanulás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az egyéni magatartás módosulása. Ha erős ösztönzéseket, motivációt befolyásoló hatásokat és pozitív megerősítéseket alkalmazunk, növelhető a termék iránti kereslet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Gondolkodásmód és attitűdök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értékelések, érzések, cselekvési tendenciá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Szegmentáció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762120" y="205740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piacok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vevőkből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állnak, melyek több szempontból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különböznek egymástól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igényeik, erőforrásaik, földrajzi elhelyezkedésük, vásárlási attitűdjük, stb. alapján. Ezek a csoportok többnyire különböző terméket és/vagy marketing-mixet igényeln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Piac-szegmentáció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a piac különböző csoportokra vagy vevőkre bontása. Lépése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Szegmentációs szempontok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meghatározása, és a piac szegmentáció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szegmentáció eredményeként megkülönböztethető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piaci szegmensek jellemzőinek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kialakítá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marketing fogalma 1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marketing szűkebb értelemben</a:t>
            </a:r>
            <a:r>
              <a:rPr b="0" lang="hu-H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lyan vállalati tevékenység, amely a vev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ő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k/felhasználók igényeinek kielégítése érdekében elemzi a piacot, meghatározza az eladni kívánt termékeket és szolgáltatásokat, megismerteti azokat a fogyasztókkal, kialakítja az árakat, megszervezi az értékesítést és a lehetséges vásárlókra irányuló kommunikáción keresztül befolyásolja a fogyasztói magatartást.</a:t>
            </a:r>
            <a:r>
              <a:rPr b="0" lang="hu-HU" sz="2400" spc="-1" strike="noStrike">
                <a:solidFill>
                  <a:srgbClr val="000000"/>
                </a:solidFill>
                <a:latin typeface="Ottaw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piacszegmentáció módszere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669960" y="1828800"/>
            <a:ext cx="81691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Homogén preferenciák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a piacon levő termékeknek közel azonosnak kell lenn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Szóródó preferenciák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a piac egymástól nagyon különböző preferenciákkal rendelkező egyénekből áll. „Középpontban” levő termék vagy nagyon különböző termék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Csoportosított preferenciák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a piac eltérő preferenciacsoportokból áll. Néhány márka kifejlesztése, és más-más szegmentumban való pozicionálása. Differenciált marketing.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szegmentálás alapjai a turizmusba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46280" y="2243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69960" y="2090880"/>
            <a:ext cx="8169120" cy="52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z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utazás célja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(belföld-külföld, hivatás-szabadidő) sze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Motivációk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, szükségletek (étkezés: gyorsan, gyerekekkel, stb.) sze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Vásárlói/felhasználói viselkedés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(egy főre jutó költés, vásárlói gyakoriság, médiahasználat, stb.) sze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Demográfiai jellemzők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(kor, nem, családnagyság, család életciklus, jövedelem, foglalkozás, képzettség, vallás, nemzetiség, stb.) sze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Geográfiai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jellemzők sze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Pszichográfiai jellemzők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életstílus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(például kockázatkerülők és kockázatvállalók, stb.) alapjá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hatékony szegmentáció követelménye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898560" y="2014560"/>
            <a:ext cx="78645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Mérhetőség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– az a mérték, ameddig a szegmentumok mérete és vásárlóereje mérhet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Méret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– az a mérték, amíg a szegmentum elég nagy és/vagy nyeresé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Elérhetőség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– az a mérték, ameddig a szegmentumok hatékonyan elérhetők és kiszolgálható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Kezelhetőség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– az az érték, amíg hatékony programok dolgozhatók ki a szegmentumok vonzására és kiszolgálásá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marketingtervezés folyam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marketingtervezés folyam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Marketingkutatás / MIR kialakítá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Marketingcélok meghatározá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Marketingstratégia kialakítá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Programok kidolgozá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Megvalósítá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Ellenőrzés és visszacsatolá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lapkérdése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746280" y="2166840"/>
            <a:ext cx="7864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Hol vagyunk mo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Hová akarunk eljutn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Hogyan juthatunk el od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Marketingkutatá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marketingkutatás fogalm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593640" y="2243160"/>
            <a:ext cx="8245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marketingkutatás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az információk folyamatos,, tervezett gyűjtése, elemzése, értékelése és a konkrét vállalati szituációra vonatkozó legjobb vállalati döntésvariációk kidolgozás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marketingkutatás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folyamata, lépései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probléma és a kutatás tárgyának meghatározás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Kutatási terv készítés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Információgyűjté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Információelemzé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kutatási eredmények összegzé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probléma és a kutatás tárgyának meghatározás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898560" y="2243160"/>
            <a:ext cx="7788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probléma pontos körvonalazása és a kutatási terület meghatározása. A kutatandó terület ne legyen túl szűk és túl tá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kutatási programok típusa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Felderítő: előzetes információgyűjtés valamely probléma, hipotézis vagy új ötlet valós természetének meghatározásár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Leíró: mennyiségi meghatározá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Kauzális: ok-okozati kapcsolatok vizsgál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Kutatási terv készíté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"/>
          <p:cNvSpPr/>
          <p:nvPr/>
        </p:nvSpPr>
        <p:spPr>
          <a:xfrm>
            <a:off x="822240" y="2243160"/>
            <a:ext cx="832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kutatási terv készítése során meghatározandó terület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Információ forráso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kutatási eljáráso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kutatási eszközö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mintavételi ter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megkérdezéses vizsgálatok módszere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marketing fogalma 2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ágabb értelemben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iszont a marketing a vállalat egészére kiterjed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ő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filozófiai szemléletmód: annak folyamatos felismerése, hogy az üzleti tevékenység középpontja a fogyasztók hosszú távú érdeke kell, hogy legyen, illetve egyensúly megteremtése a jelenlegi erőforrások felhasználásával történő profittermelés és a jövendő profittermelés érdekében történő alkalmazkodás között, figyelembe véve a társadalmi és környezeti korlátokat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Információ forráso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4" name=""/>
          <p:cNvSpPr/>
          <p:nvPr/>
        </p:nvSpPr>
        <p:spPr>
          <a:xfrm>
            <a:off x="898560" y="2319480"/>
            <a:ext cx="7940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Primer információk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az első kézből, konkrét céllal összegyűjtött adatok. Általában jóval költségesebb, mint a szekunder adatok beszerzé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Szekunder információ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a más célból már összegyűjtött, valahol elérhető adatok összesség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Típusa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Belső forráso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Hivatalos kiadványo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Időszakos kiadványok és könyve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Kereskedelmi információ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Másodlagos információ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udományos vs. vállalati kutatáso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éhány évtizede önálló kutatási tém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1930-as évektől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öldrajztudósok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közgazdász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1970-es évektől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ársadalomtudomány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1990-es évektől: önálló kutatási téma,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hatalmas mennyiségű információ, változatos kutatási területek: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történelem, földrajz, politika, környezetvédelem, antropológia,  közgazdaságtan, szociológia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, marketing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ilágturizmus Információs Adatbankja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 (WTO)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Szakmai kiadványo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Szakmai kiadványok / 1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811692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Annals of Tourism Research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: földrajz, antropológia, közgazdaságtan, szociológia, szabad idő, pszi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hológia, kereskedelem, politikai tudományok, erdőgazdaság, marketing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..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Journal of Leisure Research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erdőgazdaság,  üdülés és park, földrajz, tervezés, szabad idő, pszichológia,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szociológia,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közgazdaságtan,  családtanulmányok, erőforrásgazdálkodás,  egészség és testnevelés, kereskedelem, marketing,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politikai tudományok, antropológ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Tahoma"/>
              </a:rPr>
              <a:t>A t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urizmus enciklopédiája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 (Encyclopedia of Tourism, London, Routledge, 2000, 683 pp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Szakmai kiadványok / 2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453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Travel Industry Moni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Travel and Tourism Analy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Journal of Applied Recreation Re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Journal of International Hospitality, Leisure &amp; Tourism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Journal of Quality Assurance in Hospitality &amp; Tour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IEST; The Tourist Revi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Journal of Ecotou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International Journal of Hospitality &amp; Tourism Administ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Journal of Hospitality &amp; Leisure Marke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Journal of Convention &amp; Exhibition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Current Issues in Tour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Journal of Sustainable Tour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Tourism Geograph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Szakmai kiadványok / 4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Turizmus Bullet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www.hungarytourism.h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Nemzetközi szervezete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W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urizmus Világszervezet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e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(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World Tourism Organisation,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WTO), illetve 1975 előtt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 elődj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, a Hivatalos Idegenforgalmi Szervezetek Nemzetközi Szövetség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 (IUOT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 turizmus világstatisztikái, tanulmányok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, guideline-ok,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főbb témakörö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k: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 turizmuspolitika, oktatás és szakképzés, fenntartható fejlődés, minőség, biztonság, finanszírozás, marketing, piaci trendek és előrejelzések, informatik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1"/>
              </a:rPr>
              <a:t>www.world-tourism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Egyéb nemzetközi szervezete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040" y="2017800"/>
            <a:ext cx="407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 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OECD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1"/>
              </a:rPr>
              <a:t>www.</a:t>
            </a: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2"/>
              </a:rPr>
              <a:t>oecd</a:t>
            </a: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3"/>
              </a:rPr>
              <a:t>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ilágba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 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Európai Unió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4"/>
              </a:rPr>
              <a:t>www.</a:t>
            </a: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5"/>
              </a:rPr>
              <a:t>europe</a:t>
            </a: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6"/>
              </a:rPr>
              <a:t>.</a:t>
            </a: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7"/>
              </a:rPr>
              <a:t>eu</a:t>
            </a: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8"/>
              </a:rPr>
              <a:t>.</a:t>
            </a: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9"/>
              </a:rPr>
              <a:t>int</a:t>
            </a: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10"/>
              </a:rPr>
              <a:t>/com/</a:t>
            </a: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11"/>
              </a:rPr>
              <a:t>eurost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ES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O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TTC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12"/>
              </a:rPr>
              <a:t>www.</a:t>
            </a: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13"/>
              </a:rPr>
              <a:t>wttc</a:t>
            </a: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14"/>
              </a:rPr>
              <a:t>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TC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15"/>
              </a:rPr>
              <a:t>www.etc-</a:t>
            </a: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16"/>
              </a:rPr>
              <a:t>europe</a:t>
            </a: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17"/>
              </a:rPr>
              <a:t>-travel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I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H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Szükséglet, igény, keresl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746280" y="1981080"/>
            <a:ext cx="8092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Szükséglet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hiányérzet. Az emberi szükségletek bizonyos alapvető kielégítetlenség esetén hiányérzetként jelentkezn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z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igények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az ilyen alapvető szükségletek konkrét kielégítésére irányulna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kereslet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egy konkrét termék iránti olyan igény, ami mögött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vásárlóképesség és 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vásárlási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 hajlandóság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á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Országspecifikus adato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76312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39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urisztikai kormányszervek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:www.meh.h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39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nemzeti 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atisztikai hivatal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1"/>
              </a:rPr>
              <a:t>www.</a:t>
            </a: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2"/>
              </a:rPr>
              <a:t>ksh</a:t>
            </a: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3"/>
              </a:rPr>
              <a:t>.</a:t>
            </a: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4"/>
              </a:rPr>
              <a:t>h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39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mzeti bank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5"/>
              </a:rPr>
              <a:t>www.</a:t>
            </a: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6"/>
              </a:rPr>
              <a:t>mnb</a:t>
            </a: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7"/>
              </a:rPr>
              <a:t>.</a:t>
            </a: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8"/>
              </a:rPr>
              <a:t>h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39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urizmussal vagy azzal is foglalkozó kutatóintézete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39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elsőoktatási intézmények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39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zakmai lap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39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mzeti és regionális turisztikai szervezetek és szakmai szövetségek kiadványa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39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elentősebb turisztikai vállalkozások éves jelentései, hírlevelei és időszakos kiadványa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Elsődleges információ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Kutatási eljáráso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"/>
          <p:cNvSpPr/>
          <p:nvPr/>
        </p:nvSpPr>
        <p:spPr>
          <a:xfrm>
            <a:off x="822240" y="2090880"/>
            <a:ext cx="80168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Fókuszcsoportos interjú: 6-10 kiválasztott ember, jól képzett moderátorral beszélget egy kiválasztott témáró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Mélyinterjú: 1 kérdező – 1 válaszad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Megfigyelés: szereplők és helyszínek megfigyelése </a:t>
            </a:r>
            <a:r>
              <a:rPr b="0" i="1" lang="hu-HU" sz="2400" spc="-1" strike="noStrike">
                <a:solidFill>
                  <a:srgbClr val="000000"/>
                </a:solidFill>
                <a:latin typeface="Tahoma"/>
              </a:rPr>
              <a:t>(fotópontok kijelöléséhez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Megkérdezé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Kísérleti kutatás: a témában érintett csoportokat kiválogatják, majd a külső változókat kiszűrve különböző eljárásoknak vetik alá a megkérdezettek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Megkérdezéses módszere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4" name=""/>
          <p:cNvSpPr/>
          <p:nvPr/>
        </p:nvSpPr>
        <p:spPr>
          <a:xfrm>
            <a:off x="669960" y="2166840"/>
            <a:ext cx="8169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Omnibusz vagy ad-hoc kutatatás segítségével bonyolíto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Telefonos megkérdezés </a:t>
            </a:r>
            <a:r>
              <a:rPr b="0" i="1" lang="hu-HU" sz="2400" spc="-1" strike="noStrike">
                <a:solidFill>
                  <a:srgbClr val="000000"/>
                </a:solidFill>
                <a:latin typeface="Tahoma"/>
              </a:rPr>
              <a:t>(reprezentatív?, a megkérdezés időigénye?, a kérdések jellege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Postai úton kiküldött kérdőívek</a:t>
            </a:r>
            <a:r>
              <a:rPr b="0" i="1" lang="hu-HU" sz="2400" spc="-1" strike="noStrike">
                <a:solidFill>
                  <a:srgbClr val="000000"/>
                </a:solidFill>
                <a:latin typeface="Tahoma"/>
              </a:rPr>
              <a:t> (visszaküldési arány?, a visszaküldés gyorsaság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Személyes megkérdezés</a:t>
            </a:r>
            <a:r>
              <a:rPr b="0" i="1" lang="hu-HU" sz="2400" spc="-1" strike="noStrike">
                <a:solidFill>
                  <a:srgbClr val="000000"/>
                </a:solidFill>
                <a:latin typeface="Tahoma"/>
              </a:rPr>
              <a:t> (költségigény?, a kérdezőbiztos előítéletei és torzításai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Tahoma"/>
              </a:rPr>
              <a:t>Ad-hoc (utcai, bevásárlóhelyi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Tahoma"/>
              </a:rPr>
              <a:t>Tervezet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Kutatási eszközö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822240" y="2243160"/>
            <a:ext cx="8016840" cy="48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Kérdőív vagy technikai eszközök alkalmazá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Kérdőív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zárt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kérdések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– előre meghatározza a lehetséges válaszokat, a megkérdezett ezek közül válasz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nyitott kérdések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– lehetőséget adnak a válaszadónak, hogy saját szavaival fogalmazza meg a véleményé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Fontos a kérdések megfogalmazásának módja (egyszerűség és közvetlenség), a kérdések sorrendje és konzisztenciá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Technikai eszközök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például szemkame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mintavételi ter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746280" y="2090880"/>
            <a:ext cx="8016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Három fontos kérdé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Mintavételi egység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- Kit vizsgálun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A minta nagysága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– Hány ember vesz részt a vizsgálatb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A mintavétel folyamata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– Hogyan válasszuk meg a válaszolókat?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véletlen mintavétel (egyszerű véletlen, rétegzett, klasz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nem véletlen mintavétel (önkényes, becsült, 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kvótá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jó marketingkutatás jellemző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"/>
          <p:cNvSpPr/>
          <p:nvPr/>
        </p:nvSpPr>
        <p:spPr>
          <a:xfrm>
            <a:off x="593280" y="2166840"/>
            <a:ext cx="7892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Tudományos móds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Kreativi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Komplex módszer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z  információk értéke és költsége egymással arány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kutatás lehetséges hibá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842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Egy piackutatás eredményének pontosságát az esetek messze jelentősebb részében semmilyen módón nincs lehetőségünk a „valósággal” való összehasonlítás révén ellenőrizn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Még abban az esetben sem, ha ugyanabban a témában két vagy több cég is kutat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A kutatás során alkalmazott módszereket és eljárásokat kontrollálni kel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Ha a megfelelő módszereket alkalmazzuk és betartunk bizonyos eljárási szabályokat, akkor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eléggé nagy valószínűséggel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„a valóságoshoz” közeli eredményeket kapunk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hibák lehetséges típus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Megbízhatóság (Reliability)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zt jelenti, hogy a kapott eredmények statisztikai értelemben és/vagy üzleti értelemben mennyire megbízhatóak, mennyire lehet rájuk támaszkodni, rájuk üzleti döntéseket alapozn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Érvényesség (Validity) 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zt jelenti, hogy a nyújtott információk tényleg arról szólnak-e, tényleg arra a piacra, célcsoportra vonatkoznak-e, tényleg arra az üzleti problémára adnak-e választ, amiről a kutatásnak szólnia kellett (volna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Termé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1050840" y="1938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98560" y="1938240"/>
            <a:ext cx="7940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z emberek szükségleteiket és igényeiket termékekkel elégítik k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Termék: átfogja mindazt, ami valamely szükséglet vagy igény kielégítésére felkínálható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vagy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szokásos értelemben vett termékeket és szolgáltatásokat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kézzelfogható terméket is valamely szükséglet kielégítésére vásároljuk meg, nem a tárgy kedvéért önmagáért. A tárgy a szolgáltatás becsomagolásának eszkö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hibák lehetséges forrás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2017800"/>
            <a:ext cx="857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A piackutatások hibáinak négy forrását különböztethetjük me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tervezési (design) hiba: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a kutatás nem ad választ az üzleti problémára (ettől még technológiailag tökéletes leh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technológiai hiba: 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rosszul kivitelezett kutatás (mintavételi és nem mintavételi hib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interpretációs hiba: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a kutatási adatok és eredmények nem kielégítő, vagy félrevezető elemzése, értelmezé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implementációs hiba: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az eredmények nem adekvát módón kerülnek felhasználásra az üzleti gyakorlatba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Nem mintavételi hibá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vizsgálat módszerének megválasztás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kutatási design kialakítá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Kérdőívszerkezet, kérdések sorrendje és egymásra épülé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Kérdés-típusok kialakítá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z egyes kérdések megfogalmazása 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(nem érthető, nem egyértelmű, vagy sugalló kérdése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kérdezés megválasztott módja, helye és időpontj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kérdezőbiztosok kiválasztá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kérdezőbiztosok kiképzése és felkészíté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Marketing Információs Rendsz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Marketing Információs Rendsz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" name=""/>
          <p:cNvSpPr/>
          <p:nvPr/>
        </p:nvSpPr>
        <p:spPr>
          <a:xfrm>
            <a:off x="517680" y="1828800"/>
            <a:ext cx="8626320" cy="51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marketing információ rendszer: emberek, berendezések, és eljárások összessége, amelyek összegyűjtik, elemzik, értékelik és eljuttatják a szükséges, pontos és időszerű információt a marketing döntéshozóiho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Kott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Fela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- felbecsülje a menedzserek információs igényé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- létrehozza (beszerezze, feldolgozza) az igényelt információ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- időben eljuttassa az információt a menedzserekh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Eleme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- belső nyilvántartási rends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- marketing megfigyelési rends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- marketing- és piackutatási rends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603440" y="609480"/>
            <a:ext cx="5897520" cy="52070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2160" y="609480"/>
            <a:ext cx="1272960" cy="51944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arket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enedzser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lemz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ervez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égrehaj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llenőrz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709040" y="609480"/>
            <a:ext cx="1325520" cy="51944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arketing-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rny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Célpiac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arketing-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csatorn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ersenytársa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vélemé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akrokörnyezeti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hatá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004840" y="1862280"/>
            <a:ext cx="1351080" cy="7808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z információs</a:t>
            </a:r>
            <a:br>
              <a:rPr sz="1400"/>
            </a:b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gények</a:t>
            </a:r>
            <a:br>
              <a:rPr sz="1400"/>
            </a:b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ecsl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7" name=""/>
          <p:cNvCxnSpPr>
            <a:stCxn id="274" idx="2"/>
            <a:endCxn id="275" idx="2"/>
          </p:cNvCxnSpPr>
          <p:nvPr/>
        </p:nvCxnSpPr>
        <p:spPr>
          <a:xfrm flipH="1" rot="16200000">
            <a:off x="4548960" y="1982520"/>
            <a:ext cx="2160" cy="7644600"/>
          </a:xfrm>
          <a:prstGeom prst="bentConnector3">
            <a:avLst>
              <a:gd name="adj1" fmla="val 21080000"/>
            </a:avLst>
          </a:prstGeom>
          <a:ln w="76320">
            <a:solidFill>
              <a:srgbClr val="66ccff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2004840" y="4400640"/>
            <a:ext cx="1351080" cy="7808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z információ </a:t>
            </a:r>
            <a:br>
              <a:rPr sz="1400"/>
            </a:b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elosz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363680" y="4699080"/>
            <a:ext cx="649440" cy="199800"/>
          </a:xfrm>
          <a:prstGeom prst="leftRightArrow">
            <a:avLst>
              <a:gd name="adj1" fmla="val 50000"/>
              <a:gd name="adj2" fmla="val 64708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346040" y="2158920"/>
            <a:ext cx="649440" cy="160560"/>
          </a:xfrm>
          <a:prstGeom prst="leftRightArrow">
            <a:avLst>
              <a:gd name="adj1" fmla="val 50000"/>
              <a:gd name="adj2" fmla="val 80522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578400" y="1198440"/>
            <a:ext cx="3697200" cy="438624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833640" y="1862280"/>
            <a:ext cx="1378080" cy="7808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Belső</a:t>
            </a:r>
            <a:br>
              <a:rPr sz="1400"/>
            </a:b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nyilvántar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62520" y="1862280"/>
            <a:ext cx="1351080" cy="7808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Marketing</a:t>
            </a:r>
            <a:br>
              <a:rPr sz="1400"/>
            </a:b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megfigyelés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833640" y="4400640"/>
            <a:ext cx="1378080" cy="7808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Marketing</a:t>
            </a:r>
            <a:br>
              <a:rPr sz="1400"/>
            </a:b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döntéstámogató</a:t>
            </a:r>
            <a:br>
              <a:rPr sz="1400"/>
            </a:b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elemz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762520" y="4400640"/>
            <a:ext cx="1351080" cy="7808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Marketing-</a:t>
            </a:r>
            <a:br>
              <a:rPr sz="1400"/>
            </a:b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kuta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784960" y="5829480"/>
            <a:ext cx="31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arketingdöntések és kapcsol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352680" y="2147760"/>
            <a:ext cx="463680" cy="209520"/>
          </a:xfrm>
          <a:prstGeom prst="leftRightArrow">
            <a:avLst>
              <a:gd name="adj1" fmla="val 50000"/>
              <a:gd name="adj2" fmla="val 44056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348000" y="4686480"/>
            <a:ext cx="463680" cy="209520"/>
          </a:xfrm>
          <a:prstGeom prst="leftRightArrow">
            <a:avLst>
              <a:gd name="adj1" fmla="val 50000"/>
              <a:gd name="adj2" fmla="val 44056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227560" y="2147760"/>
            <a:ext cx="531720" cy="209520"/>
          </a:xfrm>
          <a:prstGeom prst="leftRightArrow">
            <a:avLst>
              <a:gd name="adj1" fmla="val 50000"/>
              <a:gd name="adj2" fmla="val 50521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232240" y="4686480"/>
            <a:ext cx="532080" cy="209520"/>
          </a:xfrm>
          <a:prstGeom prst="leftRightArrow">
            <a:avLst>
              <a:gd name="adj1" fmla="val 50000"/>
              <a:gd name="adj2" fmla="val 50555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384800" y="1285920"/>
            <a:ext cx="21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Információ feldolgoz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977560" y="733320"/>
            <a:ext cx="323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arketinginformáció-rendszer (MI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294680" y="2400480"/>
            <a:ext cx="411120" cy="187200"/>
          </a:xfrm>
          <a:prstGeom prst="leftRightArrow">
            <a:avLst>
              <a:gd name="adj1" fmla="val 50000"/>
              <a:gd name="adj2" fmla="val 43719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288200" y="4805280"/>
            <a:ext cx="411120" cy="187560"/>
          </a:xfrm>
          <a:prstGeom prst="leftRightArrow">
            <a:avLst>
              <a:gd name="adj1" fmla="val 50000"/>
              <a:gd name="adj2" fmla="val 43635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419720" y="2655720"/>
            <a:ext cx="207720" cy="1762200"/>
          </a:xfrm>
          <a:prstGeom prst="upDownArrow">
            <a:avLst>
              <a:gd name="adj1" fmla="val 50000"/>
              <a:gd name="adj2" fmla="val 168885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334200" y="2649600"/>
            <a:ext cx="207720" cy="1762200"/>
          </a:xfrm>
          <a:prstGeom prst="upDownArrow">
            <a:avLst>
              <a:gd name="adj1" fmla="val 50000"/>
              <a:gd name="adj2" fmla="val 168885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rot="20515800">
            <a:off x="5386320" y="2587680"/>
            <a:ext cx="200160" cy="1860480"/>
          </a:xfrm>
          <a:prstGeom prst="upDownArrow">
            <a:avLst>
              <a:gd name="adj1" fmla="val 50000"/>
              <a:gd name="adj2" fmla="val 185039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 rot="1084200">
            <a:off x="5380200" y="2608560"/>
            <a:ext cx="199800" cy="1860480"/>
          </a:xfrm>
          <a:prstGeom prst="upDownArrow">
            <a:avLst>
              <a:gd name="adj1" fmla="val 50000"/>
              <a:gd name="adj2" fmla="val 185372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50680" y="-102240"/>
            <a:ext cx="790884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"/>
          <p:cNvSpPr/>
          <p:nvPr/>
        </p:nvSpPr>
        <p:spPr>
          <a:xfrm>
            <a:off x="6308640" y="6205680"/>
            <a:ext cx="23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Kotl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Helyzetelemzés / 1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"/>
          <p:cNvSpPr/>
          <p:nvPr/>
        </p:nvSpPr>
        <p:spPr>
          <a:xfrm>
            <a:off x="746280" y="1938240"/>
            <a:ext cx="8016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tervezési folyamat első szintje, amely a marketing kutatás eredményeire, illetve publikált és nem publikus adatokra alapozva elemzi a trendek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helyzetelemzés részletezettsége, mélysége más-más lehet minden tervezési esetben, a tervezést végző szervezet méretétől, jelentőségétől függő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helyzetelemzés jellemzően nem szűkül le az éppen aktuális üzleti területekre, piacokra, termékekre, hanem kiterjed az ahhoz kapcsolódó más tevékenységekre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Helyzetelemzés / 2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"/>
          <p:cNvSpPr/>
          <p:nvPr/>
        </p:nvSpPr>
        <p:spPr>
          <a:xfrm>
            <a:off x="762120" y="190512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mikrokörnyezet helyzetelemzése az alábbi területek vizsgálatát foglalja magáb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Forgalmi és bevételi /jövedelmi trendek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a következő évekre, azonosítva a piacon megfigyelhető mozgásokat és az egyes szegmentumokban elérhető piaci részesedést a saját és a versenytársak termékei számá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Saját és versenytársaink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vásárlóinak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vizsgálata, mely kiterjed demográfiai, attitűd és viselkedési adatokra, trendek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Termékjellemzők és ár-trendek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saját termékeink és versenytársaink vonatkozásában, vizsgálva termék-életgörbén megfigyelhető mozgások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Helyzetelemzés / 3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"/>
          <p:cNvSpPr/>
          <p:nvPr/>
        </p:nvSpPr>
        <p:spPr>
          <a:xfrm>
            <a:off x="974880" y="2090880"/>
            <a:ext cx="7864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makrokörnyezet helyzetelemzé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külső környezetben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megfigyelhető változások vizsgálatát foglalja magába, mint például a társadalmi és politikai környezet, gazdasági feltételek változása, a technológiában, szabályozásban, árfolyamok mozgásában bekövetkező változások, st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Előrejelzé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593640" y="1676520"/>
            <a:ext cx="8245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Jövő –orientált, várakozásokon alapul, a diagnózisban felsorolt  pontokra vonatkozó értékeléseket és előrejelzéseket tartalma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turisztikai termékek jövője és lehetőségei igen gyakran előrejelezhetetlenül változnak, ezért az előrejelzések nem tökéletesen megbízhatók és gyakori felülvizsgálatra szorulna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Módszer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extrapolálá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Delphi módszer </a:t>
            </a:r>
            <a:r>
              <a:rPr b="0" i="1" lang="hu-HU" sz="2400" spc="-1" strike="noStrike">
                <a:solidFill>
                  <a:srgbClr val="000000"/>
                </a:solidFill>
                <a:latin typeface="Tahoma"/>
              </a:rPr>
              <a:t>(kérdőív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SWOT analízis / 1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0" name=""/>
          <p:cNvSpPr/>
          <p:nvPr/>
        </p:nvSpPr>
        <p:spPr>
          <a:xfrm>
            <a:off x="669960" y="1752480"/>
            <a:ext cx="816912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Strenghs, Weaknesses, Opportunities and Thre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Erősségek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belső, akár tervezett, akár véletlen forrásból származó előnyök, amely megjelenik a vállalkozás piac-termék portfóliójában, illetve a versenytársakkal való összehasonlításban (például dinamikusan fejlődő piacon magas piaci részesedéssel rendelkező termék, jó területi elhelyezkedés, stb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Gyengeségek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belső forrásból származó hátrányok, amely megjelenik a vállalkozás piac-termék portfóliójában, illetve a versenytársakkal való összehasonlításban (rossz kilátással rendelkező piacon növekvő részesedésű termék, gyenge ország image, stb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Hasznosság, érték, elégedettsé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74880" y="193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98560" y="1938240"/>
            <a:ext cx="7940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hasznosság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a fogyasztó becslése arra vonatkozólag, hogy a termék mennyire képes kielégíteni szükséglete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Ha egy termék több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értéket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képvisel egy másiknál, akkor többet tud nyújtani az áráért. Az értékelés azonban ma már több, mint szűk gazdasági megfontolá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Elégedettség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mennyire felel meg a termék az elvárásoknak, az elvárt hasznosságna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SWOT analízis / 2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2" name=""/>
          <p:cNvSpPr/>
          <p:nvPr/>
        </p:nvSpPr>
        <p:spPr>
          <a:xfrm>
            <a:off x="669960" y="2166840"/>
            <a:ext cx="8093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Lehetőségek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származhatnak egyrészt a szervezet által közvetlenül befolyásolt területekről, másrészt a külső marketing környezetből (például jelentősebb események, mint a BTF, növekvő érdeklődés a kulturális turisztikai termékek iránt, stb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Veszélyek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származhat a szervezeten belülről, vagy a marketing környezetből (például új desztinációk megjelenése a turisztikai kínálatban, növekvő üzemanyag árak, stb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marketingcélok meghatározás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tevékenysé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Piacok és termékek kijelölé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új vagy meglevő terméket új vagy meglevő piacon szeretnénk értékesíteni (Ansoff mátrix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A piaci szegmensek és a piaci részesedés meghatározá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nsoff mátri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1182600" y="2055960"/>
          <a:ext cx="7772400" cy="403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2600" y="2055960"/>
                    <a:ext cx="777240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tevékenység eredmény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Piaci szegmensek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A kiválasztott termékek mennyisége és értéke a kiválasztott piacok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000000"/>
                </a:solidFill>
                <a:latin typeface="Tahoma"/>
              </a:rPr>
              <a:t>Vagyis azt határozzuk meg, hogy milyen termékeket és szolgáltatásokat állítson elő a vállalat és milyen piacokon értékesítse azoka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marketingcélok hierarchiá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Hosszú, közép és rövid távú marketingcélo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Magasabb és alacsonyabb szintű marketingcélo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marketingcélok tartalm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Termékek, célpiacok, piaci helyzet (piaci részesedés, forgalom nagysága, növekedése, vagy csökkenése, a vásárlók értékítélete, vállalat helyzete a konkurenciához képest), vállalat képe, arcul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Termékfejlesztés, a vezető termékek körének meghatározása, piaci szegmensek módosítása, piaci részesedés növelése, a turistákkal, a munkatársakkal, a partnervállalatokkal és a konkurensekkel kapcsolatos magatartá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Marketing célo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"/>
          <p:cNvSpPr/>
          <p:nvPr/>
        </p:nvSpPr>
        <p:spPr>
          <a:xfrm>
            <a:off x="685800" y="1905120"/>
            <a:ext cx="7994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marketing céloknak az alábbi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kritériumoknak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kell megfeleln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szervezet stratégiájával és céljaival való összhan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Mérhető formában kifejezett adato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Termékek és szegmentumok szerinti részletezettsé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Pontos ütemezés (mely célokat mely időintervallum alatt lehet elérni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piaci trendeket és a rendelkezésre álló forrásokat figyelembe véve reálisak legyene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program megvalósításában résztvevői által egyeztetett és elfogadot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Magyar Turizmus Rt. marketingcélj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Vízi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Misszi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Éves operatív marketingcélo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Marketingstratégia meghatározása</a:t>
            </a: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83808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0T16:40:53Z</dcterms:created>
  <dc:creator>Magyar Turizmus Rt.</dc:creator>
  <dc:description/>
  <dc:language>en-US</dc:language>
  <cp:lastModifiedBy>Magyar Turizmus Rt. </cp:lastModifiedBy>
  <dcterms:modified xsi:type="dcterms:W3CDTF">2003-12-08T17:18:16Z</dcterms:modified>
  <cp:revision>106</cp:revision>
  <dc:subject/>
  <dc:title>PowerPoint bemutató</dc:title>
</cp:coreProperties>
</file>