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F1E3-13C6-447D-B51A-79E8C96C73E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luster elmélet! Effektivitás és erő energiafüggő – Dunham-pote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.: állatkísérleti adatok. Arányos az energiá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ödös elméletek helyett rájön a reguláció szerepé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Érzetet a hivatalos csak korlátozottan használja – angina pectoris. Ezenkívül fontos a dinamika 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ulcstünetek, paradox tünetek. Hepar-s – huzatérzékeny, Allium-c fogja a gégét köhögéskor. Camphora – ki akar takarózni, pedig jéghideg tapintat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ünetváltás – meg kell felelni a Hering-szabálynak. Orvos irányít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gyógyszer a hatás kifejtéséhez energiát mobilizál. Reagálni kell rá. Főleg krónikus bajokban kezdeti rosszabbodás lehet – fellángolnak a tünet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ai szóhasználattal felborult a homeosztázis. A tünetek szerepe – az egyedi eltérések mutatják meg a gyógyszert! Okok: napszúrás – szé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rintés kézzel, fémmel. Fogkrém! Rágó, cukor, st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entális, testi. Kezdeti rosszabbodást el akarjuk kerülni – bőr, öngyilkosság, st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övető szerek, st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etegség áthelyeződh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ógyszerkép fogal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-magas hígítású oldatok fiziká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976-BFFD-4405-9A91-10A75DFD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323-C314-4D13-9A22-5C176C8E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EA5-1BD9-43F5-BF2F-803ED1B7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5AC-7F8A-49F3-B2B2-B373D8B3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D51-FBC6-499D-8DCC-8948C89E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9DE-302F-4F10-A568-6A349626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1D4-7571-4B6A-959B-D3A6A1D6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8A0-AB13-4467-97FE-B3414387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0D6-8BDC-4432-93AB-3666380D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6B7-06F2-4930-A7E4-D4C06A78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FAF-8EE5-475E-B929-CDFEAC07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BA3-11E0-492B-9ACB-49A49D93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8599-9078-4065-8A5E-F85D445DF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5290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lapelvek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agolá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yógyszer-választá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440" y="0"/>
            <a:ext cx="5335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gyógyszerkészítés mene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64000" y="4941720"/>
            <a:ext cx="1469880" cy="1609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635280" y="3284640"/>
            <a:ext cx="1219320" cy="1447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8487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otenciálá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hígítási és dinamizálási lépések követik egymást felvál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á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turáció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3645000"/>
            <a:ext cx="3673440" cy="1922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z energiaközlés a fontosabb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dinamizálás szere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439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kus energiát közlünk a rendszerrel – kiindulási anyag, vivőany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vőanyag mindig dipólus molekula – alkohol, víz, cukr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ő az effektivit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ő a gyógyszer ere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j tulajdonságok jönnek el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j minőség keletke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 leggyakrabban használt potenciasoroz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ff0000"/>
                </a:solidFill>
                <a:uFillTx/>
                <a:latin typeface="Arial"/>
              </a:rPr>
              <a:t>C-potenciák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 (Jelölés: C vagy CH)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– centezimális (100-as hígítású soroza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ff0000"/>
                </a:solidFill>
                <a:uFillTx/>
                <a:latin typeface="Arial"/>
              </a:rPr>
              <a:t>D-potenciák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 (Jelölés: D vagy X)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– decimális (10-es hígítású soroza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LM-potenciák (Jelölés: LM)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– quinqueginta-millezimális (50 000-es hígítású soroza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Q-potenciák (Jelölés: Q)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– hasonló az LM-h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011800" cy="54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hu-HU" sz="3600" spc="-1" strike="noStrike">
                <a:solidFill>
                  <a:srgbClr val="ff0000"/>
                </a:solidFill>
                <a:latin typeface="Arial"/>
              </a:rPr>
              <a:t>a’ hasonszenvesen választott gyógyszernek adaga soha sem készítethetik olyan kicsinyen, hogy az a természetes betegségnél mégis erősebb nem volna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ORGANON, IV. 277.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295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szerek erőssé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133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276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4343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54450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716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5877000"/>
            <a:ext cx="10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3399480" y="3521520"/>
            <a:ext cx="4071960" cy="1295280"/>
          </a:xfrm>
          <a:custGeom>
            <a:avLst/>
            <a:gdLst>
              <a:gd name="textAreaLeft" fmla="*/ 636120 w 4071960"/>
              <a:gd name="textAreaRight" fmla="*/ 3563280 w 40719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3284640"/>
            <a:ext cx="2735280" cy="18104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atóanyag tarta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yagisá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393920" y="3653640"/>
            <a:ext cx="4103640" cy="1206360"/>
          </a:xfrm>
          <a:custGeom>
            <a:avLst/>
            <a:gdLst>
              <a:gd name="textAreaLeft" fmla="*/ 641160 w 4103640"/>
              <a:gd name="textAreaRight" fmla="*/ 3591000 w 4103640"/>
              <a:gd name="textAreaTop" fmla="*/ 301680 h 1206360"/>
              <a:gd name="textAreaBottom" fmla="*/ 905040 h 120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213000"/>
            <a:ext cx="2374920" cy="1810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rős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yógyító potenciá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yógyszerek elneve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Monokomponens készítmény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kiinduló anyag n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ígítási soroz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hígítás f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Arial"/>
              </a:rPr>
              <a:t>Belladonna C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Komplex homeopátiás gyógyszer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antáziané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indig több komponens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em a homeopátia alaptörvényei szerint használju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Arial"/>
              </a:rPr>
              <a:t>Vertigo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Arial"/>
              </a:rPr>
              <a:t>Luf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484280"/>
            <a:ext cx="0" cy="489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hasonlóság törvény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Similia similibus curantu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asonló a hasonló által gyógyíttati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039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törvény alkalmazá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84720" y="112536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1066680" cy="1447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164360" y="3716280"/>
            <a:ext cx="1066680" cy="1447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020000" y="1557360"/>
            <a:ext cx="1066680" cy="1681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16000" y="3645000"/>
            <a:ext cx="1219320" cy="1676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2700360" y="1844640"/>
            <a:ext cx="144000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844640"/>
            <a:ext cx="1440000" cy="43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3640" y="3213000"/>
            <a:ext cx="0" cy="525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96360" y="3141720"/>
            <a:ext cx="0" cy="523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411280" y="2781360"/>
            <a:ext cx="4537080" cy="1224000"/>
          </a:xfrm>
          <a:prstGeom prst="line">
            <a:avLst/>
          </a:prstGeom>
          <a:ln w="7632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2375640" y="4688640"/>
            <a:ext cx="504720" cy="1728720"/>
          </a:xfrm>
          <a:custGeom>
            <a:avLst/>
            <a:gdLst>
              <a:gd name="textAreaLeft" fmla="*/ 168120 w 504720"/>
              <a:gd name="textAreaRight" fmla="*/ 432360 w 504720"/>
              <a:gd name="textAreaTop" fmla="*/ 995760 h 1728720"/>
              <a:gd name="textAreaBottom" fmla="*/ 14806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156360" y="5229000"/>
            <a:ext cx="1535040" cy="647640"/>
          </a:xfrm>
          <a:custGeom>
            <a:avLst/>
            <a:gdLst>
              <a:gd name="textAreaLeft" fmla="*/ 0 w 1535040"/>
              <a:gd name="textAreaRight" fmla="*/ 1535400 w 15350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51280" y="5084640"/>
            <a:ext cx="1655640" cy="1295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5084640"/>
            <a:ext cx="1655640" cy="1295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ből áll a betegsé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daz, ami az előbbi egészséges állapot óta megváltozo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it a beteg maga ére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it a körülötte levők észrevesz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it az orvos tapasz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beteg panasza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ő panas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Saját szavaival leír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intha – as if” tünet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ellék panasz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ontosak az eset követésekor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ilyen hatások érté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ilyen kezeléseket kapot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Hogyan jön létre a betegség Hahnemann szerin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317760" cy="360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2565360"/>
            <a:ext cx="2232000" cy="1068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KIVÁLTÓ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533800">
            <a:off x="2822400" y="3181320"/>
            <a:ext cx="935280" cy="2664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5300640"/>
            <a:ext cx="914400" cy="914400"/>
          </a:xfrm>
          <a:prstGeom prst="irregularSeal1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6720" y="2637000"/>
            <a:ext cx="2303280" cy="581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ÜN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643280" y="3428640"/>
            <a:ext cx="2592720" cy="230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Kiegészítő kérdések – a tünettan individualizá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ünetek pontosítá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ljes értékű tünetek keresé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ünetek dinamiká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egészítő kérdés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zervezet alapvető működés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ágyak, averzió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gul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teljes értékű helyi tü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váltó ok (biztos, közvetle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kalizáció, kiterjed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z érzet jelle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alitások – csak természetes hatás lehet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idő, romlás, javulá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sugárzás (szomszédos hely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ísérő tünet (távolabbi hely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általános és mentális állapot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egalább három összetartozó szükség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tünettan – betegségké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eteg állapotának részletes megismeré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jes értékű helyi tünet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folyamat dinamiká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ísérő tünetek, általános állapot, viselked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llékpanasz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m patológiás tünet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aládi és egyéni betegség hajlam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őző betegségek, kezelés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341360"/>
            <a:ext cx="7991280" cy="230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557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kut betegség – jelenlegi ké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3789360"/>
            <a:ext cx="62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Krónikus betegsé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125360"/>
            <a:ext cx="8569080" cy="5183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Gyógyszerválasztás – tünetek hierachizálá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homeopátiás diagnózis = a megfelelő gyógyszer nevé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ff0000"/>
                </a:solidFill>
                <a:uFillTx/>
                <a:latin typeface="Arial"/>
              </a:rPr>
              <a:t>Egyedi, szokatlan, különleges tünet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ontosítani a klinikumra jellemzőt – teljes értékű helyi tüneteket talál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Megtalálni az egyedit az adott betegség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4869000"/>
            <a:ext cx="6337080" cy="1511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229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yógyszerké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4941720"/>
            <a:ext cx="5400360" cy="136692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522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eteg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5013360"/>
            <a:ext cx="3168360" cy="1224000"/>
          </a:xfrm>
          <a:prstGeom prst="ellips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084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özös tün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44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ering-szabály: a gyógyulás törvén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590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betegség tünet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ülről kifel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 életfontos szervek irányából a kevésbé fontos szervek irányába halad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ntről lefel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őben visszafel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zűnnek me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</a:rPr>
              <a:t>Posologia</a:t>
            </a:r>
            <a:br>
              <a:rPr sz="6000"/>
            </a:br>
            <a:br>
              <a:rPr sz="4000"/>
            </a:br>
            <a:r>
              <a:rPr b="1" lang="hu-HU" sz="6000" spc="-1" strike="noStrike">
                <a:solidFill>
                  <a:srgbClr val="ff0000"/>
                </a:solidFill>
                <a:latin typeface="Arial"/>
              </a:rPr>
              <a:t>Adagolást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otenciák felosz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341360"/>
          <a:ext cx="8496000" cy="518328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111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LACSO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ÖZEP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-D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-C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2-D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2-C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D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C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A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Á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ZI-MÁL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 panasz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 panasz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ti kezel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ális panas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ti kezel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Általános adagolás akut eset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24000" y="1557360"/>
          <a:ext cx="8491320" cy="5086440"/>
        </p:xfrm>
        <a:graphic>
          <a:graphicData uri="http://schemas.openxmlformats.org/drawingml/2006/table">
            <a:tbl>
              <a:tblPr/>
              <a:tblGrid>
                <a:gridCol w="2830320"/>
                <a:gridCol w="2830680"/>
                <a:gridCol w="2830320"/>
              </a:tblGrid>
              <a:tr h="88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ALACSO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ÖZEPES</a:t>
                      </a: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D3-D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C3-C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12-D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2-C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gt; D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gt; C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2-6X napon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(Ezt javaslom!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X napon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X napon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ezdetben: akár félóránként a hatás megjelenéséi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x: 4-5 alkalom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179280" y="1125360"/>
            <a:ext cx="3313080" cy="482472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Általános adagolás krónikus eset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1700280"/>
            <a:ext cx="8153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özepes és magas D és C esetén potenci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tástól függő ismétlés –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Várj és figyelj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dszeres ismételgetés, potenciavált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 adagolás ritkítá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4292640"/>
          <a:ext cx="8305920" cy="216036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8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30, D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00, D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gt; C1000 (1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1-2x het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1-2x havon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nap-tól 3-6 hó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i befolyásolhatja az adagolá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Heves, életveszélyes, beavatkozást igénylő tünet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l.: kruppos, asztmás roham, intenzív osztály, 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umoros fájdalom, görcsös menstruáció, vérzés, 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lyenkor néhány percenként ismétlés, hatás esetén nincs további gyógyszer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ndig tüneti szer a teljes értékű tünetek alapj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Csökkent vitalit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dős kor – (biológiai k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lyenkor óvatosan kell potenciát választa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Fogékony állapot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secsemők, terhesek, érzékeny beteg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itkán szükséges magas potenciát használni, gyakran ad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Csökkent reakciókészség: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gyakori ismétlés, magas potenciá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betegség Hahnemann szer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5554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 életerő zava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zervezet tünetekkel jelzi a baj természet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ünettan jellemző a kiváltó okra és az egyén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yógyítás az összes kóros, megváltozott tünet megszüntetése – totalitás szere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bevétel mód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olyócskák érintése til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elszívódás helye a nyálkahártya – 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m lenyeln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lyócskák, tablettá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epp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kritikus idő: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½ + ½ ó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ávé, illóolajok, füstölők, mentol, stb.  Csökkenthetik, gátolják hatásá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 ébresszük fel a beteget éjszak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ilyen potenciá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sődle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yógyszer kiválasztása 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yógyító anyag minősé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ásodlag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tencia 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yógyszer erőssé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as potencia nagy kezdeti rosszabbodást okozh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tára az alkalmazó tudásától kell függjö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folyásolja, hogy milyen betegséget kezelü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ány golyócskát egyszer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lsődle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evétel gyakorisága (hányszor ingereljük a szervezete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ásodlago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lyócskák szá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Általános séma (német 3-as golyóból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ecsemők – 1 - 2 golyócska felold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sgyerekek – 3 - 4 golyócs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lnőtt – 5 - 7 golyócs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ddig kell szedn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ff0000"/>
                </a:solidFill>
                <a:uFillTx/>
                <a:latin typeface="Arial"/>
              </a:rPr>
              <a:t>Míg a gyógyszer használatát indokló tünet jelen v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Jelentős javulás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– ritka emlékeztető dózis, majd abbahagy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Nincs változás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– vagy rossz a gyógyszer, vagy blokkolt a reakció. Értelmetlen a továbbad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Megváltozik a tünet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– gyógyszert kell vált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Ha tovább adju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Gyógyszertünet jelenhet m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Javulás helyett megerősödhetnek, megjelenhetnek tünet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yógyszerek táro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gbízható forrásból vásárol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ktromágneses sugar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árzó hő, hid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ős aromájú anyagoktól táv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zekrényben, vagy doboz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különítve az allopátiás gyógyszerektő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 tegyük vissza a szétgurult golyók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homeopátia határ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lentős anatómiai torzul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zervezet nem tud reagál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llap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oló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átló gyógykezel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dotáló hat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yógyszer hatástalanná vált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árolá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0000"/>
                </a:solidFill>
                <a:latin typeface="Arial"/>
              </a:rPr>
              <a:t>Az Organon jelmonda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</a:rPr>
              <a:t>Aude saper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</a:rPr>
              <a:t>Merd megismern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odern felfogá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499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-MENTÁLIS, ÉRZEL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DEG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-HORMONÁ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-IMM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3500280"/>
            <a:ext cx="914400" cy="3040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3500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494172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56610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42210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34136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 szabályozórendszerekben kialakult zav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 szervezet képtelen a homeosztázist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enntarta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z alk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 egyedi élőlény örökölt és szerze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ottsága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kciómintá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etegség „talaja” az individuális élőlé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yógyítás során figyelembe kell venni a betegség egyedi, sajátos jellegé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dividualizálni kell a tünete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gyógyszervizsgálat alaptörvény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gészséges emberen kell vizsgáln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gyógyszer tüneteit, különben a gyógyszer tünetei összekeverednek a betegség tünetei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záró ok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egsé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hesség, szoptat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yógyszerszed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ene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unkb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ttős vak, placebo kontrollál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izsgál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észtvevő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ísérlet vezető – szervez, összesí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ktorok – néhány emb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yógyszervizsgálatát felügyeli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felel a biztonságukért 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ísérleti alanyok – tünetek pontos megfigyel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potenciált gyógyszer készítésének törvén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omeopátia által kialakított eljár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ff0000"/>
                </a:solidFill>
                <a:uFillTx/>
                <a:latin typeface="Arial"/>
              </a:rPr>
              <a:t>Új minőségű gyógyító anyag keletkezik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rős méregből használható (Aconit - sisakvirá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emleges anyagból gyógyító (Silicea - kovasa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runkban a potenciák speciális eljárásokkal azonosítható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potenciált gyógyszerek hatásosságát mikrobiológiai, növénytani, állatkísérletek is bizonyítottá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gyógyszerké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den amit egy gyógyanyagról tudun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yógyszervizsgá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xikoló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linikai tapaszta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Ökológia, etológia, s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homeopata orvosok tapasztalat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mzetközi központ regisztrál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4:35:01Z</dcterms:created>
  <dc:creator>Dr. Tóth János</dc:creator>
  <dc:description/>
  <dc:language>en-US</dc:language>
  <cp:lastModifiedBy>Dr. Tóth János</cp:lastModifiedBy>
  <dcterms:modified xsi:type="dcterms:W3CDTF">2006-05-05T09:05:44Z</dcterms:modified>
  <cp:revision>35</cp:revision>
  <dc:subject/>
  <dc:title>Védőnő tanfolyam</dc:title>
</cp:coreProperties>
</file>