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F21-562B-4E6F-952C-16176233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1A7-45ED-437D-A7B6-21BEA3D8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83F-5538-4C90-9C8F-F3B37407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E5A-0E92-4519-AFE2-A5FEBC1E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582-5B34-4C01-B7CA-822364F4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A29-458B-4FDA-83DB-22ECDFC0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CA0-07FC-44EA-A5C7-218B309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445-ECAB-4B87-A20A-DE35DD0B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7D3-2D7B-4604-BF76-3C2F3E06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417-463C-488F-BB5F-AA4DD9F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06B-6544-445C-9C5A-3FB06AF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E59-9191-4312-A2AC-70F5201F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BE59-C952-4187-8766-A0056714B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05920" cy="1143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50000">
                <a:srgbClr val="c0c0c0"/>
              </a:gs>
              <a:gs pos="100000">
                <a:srgbClr val="aeae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DS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yan elemek összessége, melyekne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máshoz való viszonya meghatározott célt szolg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905120"/>
            <a:ext cx="3810240" cy="190476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50000">
                <a:srgbClr val="c0c0c0"/>
              </a:gs>
              <a:gs pos="100000">
                <a:srgbClr val="90909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észet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.: nap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905120"/>
            <a:ext cx="3810240" cy="190476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50000">
                <a:srgbClr val="c0c0c0"/>
              </a:gs>
              <a:gs pos="100000">
                <a:srgbClr val="90909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terség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.: Ipar területé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űszaki (gé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zociális (emb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zociotechnikai (ember-gé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4190760" cy="685800"/>
          </a:xfrm>
          <a:prstGeom prst="rect">
            <a:avLst/>
          </a:prstGeom>
          <a:gradFill rotWithShape="0">
            <a:gsLst>
              <a:gs pos="0">
                <a:srgbClr val="858585"/>
              </a:gs>
              <a:gs pos="50000">
                <a:srgbClr val="c0c0c0"/>
              </a:gs>
              <a:gs pos="100000">
                <a:srgbClr val="85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5105520"/>
            <a:ext cx="3809880" cy="137160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50000">
                <a:srgbClr val="c0c0c0"/>
              </a:gs>
              <a:gs pos="100000">
                <a:srgbClr val="90909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nkré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105520"/>
            <a:ext cx="3809880" cy="1371600"/>
          </a:xfrm>
          <a:prstGeom prst="rect">
            <a:avLst/>
          </a:prstGeom>
          <a:gradFill rotWithShape="0">
            <a:gsLst>
              <a:gs pos="0">
                <a:srgbClr val="909090"/>
              </a:gs>
              <a:gs pos="50000">
                <a:srgbClr val="c0c0c0"/>
              </a:gs>
              <a:gs pos="100000">
                <a:srgbClr val="90909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von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zámrendszere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gyenlet rendsz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07:09:14Z</dcterms:created>
  <dc:creator>Kissné</dc:creator>
  <dc:description/>
  <dc:language>en-US</dc:language>
  <cp:lastModifiedBy>Kissné</cp:lastModifiedBy>
  <dcterms:modified xsi:type="dcterms:W3CDTF">2002-10-05T15:11:28Z</dcterms:modified>
  <cp:revision>3</cp:revision>
  <dc:subject/>
  <dc:title>Nincs diacím</dc:title>
</cp:coreProperties>
</file>