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837-AFD3-4B46-AF42-06B863A0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1CD-BCD0-4CD2-BBE5-0B6AB2E2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808-A00D-4F0F-B0F0-38BFC97A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4FA-1F56-41D6-9ACC-AB2E493E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226-7DA9-41F5-97DA-B2E5F73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8ED-7347-4348-9093-B15503C3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172-21FA-40AC-A41A-B276CFBB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F26-A34E-4A11-A3C1-4E49ECD0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B61-330C-44C5-9BFC-0A926BB5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F72-0B18-479B-8D26-B953D536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1D6-64A8-4EE0-BC6C-C9BDEBF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560-293D-4009-B23F-FE38BBB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D7EA-786C-4B36-8B0C-F43E3AB44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05920" cy="1143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50000">
                <a:srgbClr val="c0c0c0"/>
              </a:gs>
              <a:gs pos="100000">
                <a:srgbClr val="aeae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yan elemek összessége, melyekne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máshoz való viszonya meghatározott célt szolg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05120"/>
            <a:ext cx="3810240" cy="190476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észet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.: nap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905120"/>
            <a:ext cx="3810240" cy="190476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terség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.: Ipar területé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űszaki (gé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zociális (emb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zociotechnikai (ember-gé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4190760" cy="685800"/>
          </a:xfrm>
          <a:prstGeom prst="rect">
            <a:avLst/>
          </a:prstGeom>
          <a:gradFill rotWithShape="0">
            <a:gsLst>
              <a:gs pos="0">
                <a:srgbClr val="858585"/>
              </a:gs>
              <a:gs pos="50000">
                <a:srgbClr val="c0c0c0"/>
              </a:gs>
              <a:gs pos="100000">
                <a:srgbClr val="85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5105520"/>
            <a:ext cx="3809880" cy="137160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nkré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105520"/>
            <a:ext cx="3809880" cy="137160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von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zámrendszere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gyenlet rendsz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07:09:14Z</dcterms:created>
  <dc:creator>Kissné</dc:creator>
  <dc:description/>
  <dc:language>en-US</dc:language>
  <cp:lastModifiedBy>Kissné</cp:lastModifiedBy>
  <dcterms:modified xsi:type="dcterms:W3CDTF">2002-10-05T15:11:28Z</dcterms:modified>
  <cp:revision>3</cp:revision>
  <dc:subject/>
  <dc:title>Nincs diacím</dc:title>
</cp:coreProperties>
</file>