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2C4-0BC2-47F9-B1EA-8BB290A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CC7-59D5-46CA-ABD8-7531283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59E-7510-42BD-A8D4-BB5353B6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B38-D7BE-4C8E-A6A7-264DFDE2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960-2B83-41A6-A69A-CF89C59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4680-8FA7-4ACC-A0A4-5AF1259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F804-149A-4631-93D2-D7F1C86B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D49F-0639-4FFA-9213-DA87BBC5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3E21-9ECE-4852-A304-2767D050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29BA-3750-46B0-B0FC-A40A8371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72C3-A39F-4B7D-A6D0-0B4297E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C87-DEBC-4344-82DE-CC87EE1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FF6-13AB-444D-9270-A6CC273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C2F4-CA86-452D-9156-463D682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3446-7C25-4A30-B4DB-DC3A8B6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7E2-D99D-4494-B883-78545C82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D1C-1FC0-40E4-824D-30B744B8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F02-E605-4000-B735-5842D3E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4C9-09FA-496C-AA12-88AFDF62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DCF-13D0-40B7-B48C-2B1043C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662-C6C7-42EE-ABFA-3704D24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697-9570-41DD-BF26-0E143EA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8AC-AB86-4670-BF5E-2E9D5AE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D5F-CA94-48F9-9099-FBFE086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493-E320-444F-B99F-37276BC300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68E4-CC22-40DC-B19C-9F90A296AC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762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ot7348" descr=""/>
          <p:cNvPicPr/>
          <p:nvPr/>
        </p:nvPicPr>
        <p:blipFill>
          <a:blip r:embed="rId1"/>
          <a:stretch/>
        </p:blipFill>
        <p:spPr>
          <a:xfrm>
            <a:off x="0" y="0"/>
            <a:ext cx="2349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90512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,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özölt információ természetét és a befogadóra tett hatását illető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ognitív és affektív-emocionális, vagy egy másik felosztás szerint praktikus (gyakorlati), irányító és szórakoztató kommunikáció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üldő-Befogadó szerint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asztalbene1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5398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satorna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levegő” (beszé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Papír-hordozó  (pl. levé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Rádióhullámok  (pl. morse távíró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Telekommunikáció (pl. telef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Számítógépes kommunikáció (pl. e-ma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Kódoltsága szer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Nyíl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titk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brille2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05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I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yakoriság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ándék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ysze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ndsze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m szándék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display_erg_rajz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28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V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dőbeli lefutás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zonnali lefolyású (promp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övid lefutás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sszú lefutás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ényévek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50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z emberi kommunikáció csatornáinak fejlődés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1219320"/>
            <a:ext cx="670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Idő (évtől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Módsz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 000 000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iabálás, mutoga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0 000 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Füstjel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3000 - 800 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épírás, rovásír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63 év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Írás betűkk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45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önyvnyomta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792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Optikai telegrá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837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rse távír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85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f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0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Elektroncső, rádi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37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vízi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6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tex, telefax, Bt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8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Integrált szolgáltatások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199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bil telefon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200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bil multimé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2003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-””- + extrák (GPS, érzékelők,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Beszé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cc"/>
                </a:solidFill>
                <a:latin typeface="Times New Roman"/>
              </a:rPr>
              <a:t>A verbális kommunikáció alapja a nyelv, melynek két formája a beszéd és az írás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beszélt nyelv jellegzetessége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vokális - audití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irányhoz nem kötött átvitel - irányhoz kötött percep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idő- és térbeli korlát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zonnali visszacsatol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 /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371600"/>
            <a:ext cx="876276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ommunikáció jelentést hordozó összetevő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erbális: beszé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elyes hangsúl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duláció, dinamika, sebesség, énekl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yakor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elyes fogalmazás, rövid mondatok, szünet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áltozatos stíl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zókinc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jó szerkezeti felépí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rtalmi hely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ggyőző erő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 /3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371600"/>
            <a:ext cx="861048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nem verbál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mimik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ekint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esttar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ávolságszabályoz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mozgások, gesztu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érin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vokáli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szubvokáli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szimbolik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külső megjelenés (bajusz, szakál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öltözet (vonatkozási csoport!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Megjelennek az alábbi kommunikációkb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Közvetett kommunikáció: nincs egyidejű jelenl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Közvetlen kommunikáci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5" name="homokora_emberrel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171432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on verbális 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1916280"/>
            <a:ext cx="7993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non verbális kommunikáció eszközei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látszólag csak másodlagos, kiegészítő kommunikációs eszközök, valójában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verbális kommunikáció eszközeivel egyenértékűek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imika  (arckifejezések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ekintet (szemkapcsola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okális kommunikáci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ozgásos kommunikáci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estbeszéd (gesztusok,testtartá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érköz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személyes tér, távolságtartá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aráti : 50-150 cm, üzleti : 120-350 c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Kulturális szignál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Érin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s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fogal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yértelmű kapcsolat egy A tér- és időbeli világ, adó és egy B tér- és időbeli világ, vevő között …, amely magába foglalja az értelmezés, átadás fogalmát, és amely egy rendszerbe foglalt esemény-mezőtől a jelmezőig zajlik l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braham Mo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kommunikáció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apvető jellemzője a kölcsönösség, visszahatáson-visszacsatoláson alapszik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eta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2637000"/>
            <a:ext cx="799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cc"/>
                </a:solidFill>
                <a:latin typeface="Times New Roman"/>
              </a:rPr>
              <a:t>A verbális és non verbális kommunikációs eszközök összehangoltságát</a:t>
            </a:r>
            <a:r>
              <a:rPr b="0" i="1" lang="en-US" sz="2700" spc="-1" strike="noStrike">
                <a:solidFill>
                  <a:srgbClr val="ffffcc"/>
                </a:solidFill>
                <a:latin typeface="Times New Roman"/>
              </a:rPr>
              <a:t> - a közlő és a befogadó attitűdjének, valamint az üzenet és a közvetítő csatorna sajátosságainak figyelembevételével alkalmazott kódrendszert - </a:t>
            </a:r>
            <a:r>
              <a:rPr b="1" i="1" lang="en-US" sz="2700" spc="-1" strike="noStrike">
                <a:solidFill>
                  <a:srgbClr val="ffffcc"/>
                </a:solidFill>
                <a:latin typeface="Times New Roman"/>
              </a:rPr>
              <a:t>nevezzük metakommunikációnak.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szé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371600"/>
            <a:ext cx="6705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rissen lépj a szónoki emelvényre, jól nyisd ki a szádat és gyorsan hallgass el!'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uther Márt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elkészü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 a beszéd célja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i a hallgató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 lesz a tartal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izikai körülmény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beszélő magatart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 hallgatóság megnyeré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rmészet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apcsolat a hallgatósággal (adás+vét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egjelenés (öltözet, kipihent, magabizto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um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3" name="wewantyou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124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z aktív hallgat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295280"/>
            <a:ext cx="67053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hallgató feladatai a hallgatás sor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eleélés a beszélő helyzeté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tartalom és érzelem figyelé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megértés ellenőrzé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isszajelzések a beszélő számá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z aktív hallgatást gátló tényező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llenséges beállítódás valamelyik fél részérő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megváltozás kockáz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zavaró, ellenséges kijelent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zitív beállítód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aját magunkra figye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írott formába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362320"/>
            <a:ext cx="76197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z írott nyelv jellegzetessége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vizuál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ukturált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rchiválható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érbeli kötetlensé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eprodukálható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eljesebb szellemi koncentr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i eszközö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1371600"/>
            <a:ext cx="67053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zöve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ago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tűtípus, méret, stíl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apbeállí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áblázat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áttekinthető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zerkez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gikus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rende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összehasonlítható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rafikon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agramtípu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zoftver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brá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üze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hatékony ír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1371600"/>
            <a:ext cx="67057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lyesírás: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„Valamely nyelv írásának közmegállapodáson alapuló és közérdekből szabályozott eljárásmódja, valamint az ezt rögzítő, visszatükröző és irányító szabályrendsze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lyesen írás, az stilisztikailag is hel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zóhasználat (ki lesz a befogadó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Körmondat, felsoro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Kérdés, meghökkentés, ellentétek használ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Üzenetek kiemelé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Jelentések írá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ntos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ömörsé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ilágos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hatékony olvas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1371600"/>
            <a:ext cx="670536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fut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észletes tanulmányoz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egyzete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gjegyz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érd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öntés, elfogadás, elve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lagos olvasás 160-250 szó/perc, 50-60% megér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önyv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ereső 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yorsolvasás 700 szó/perc, 70-80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széd vs. ír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981080"/>
          <a:ext cx="8991720" cy="4033800"/>
        </p:xfrm>
        <a:graphic>
          <a:graphicData uri="http://schemas.openxmlformats.org/drawingml/2006/table">
            <a:tbl>
              <a:tblPr/>
              <a:tblGrid>
                <a:gridCol w="1436760"/>
                <a:gridCol w="4014720"/>
                <a:gridCol w="354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lőn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átrán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eszé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özvetlen, gyor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zemélyes ráhat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 verbális eszközök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szély a témától való eltérésr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gatív személyes hat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Írá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Átgondolható, átfogalmaz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nulmányoz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ntes a viselkedési kötöttségektő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gőrizhető, számon kérhető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öbbekhez elju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hezen korrigál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élreérthető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incs kísérő informáci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lavul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lletéktelen kezekbe kerülhe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széd és az írás hasonlósága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98108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ndkettő jelrendszerként a nyelvet használj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ntos bizonyos szabályok betartás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zókincs fontossága mindkettőnél fon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megfogalmazás mindkét formában további jelentést hordoz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rejtett jelentéstartalom mindkettőben megjelenik. A beszédben a hangsúly, az írásban a központozás és egyéb írásjelek megfelelő használatával érhetjük 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 kommunikációs folyamat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16280"/>
            <a:ext cx="7993080" cy="40338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933720"/>
            <a:ext cx="7993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637000"/>
            <a:ext cx="1295640" cy="2736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637000"/>
            <a:ext cx="1368720" cy="2736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086600" y="3289320"/>
            <a:ext cx="1096560" cy="440280"/>
            <a:chOff x="7086600" y="3289320"/>
            <a:chExt cx="1096560" cy="440280"/>
          </a:xfrm>
        </p:grpSpPr>
        <p:sp>
          <p:nvSpPr>
            <p:cNvPr id="104" name=""/>
            <p:cNvSpPr/>
            <p:nvPr/>
          </p:nvSpPr>
          <p:spPr>
            <a:xfrm>
              <a:off x="7086600" y="328932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8040" y="330048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2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086600" y="4737240"/>
            <a:ext cx="1096560" cy="440280"/>
            <a:chOff x="7086600" y="4737240"/>
            <a:chExt cx="1096560" cy="440280"/>
          </a:xfrm>
        </p:grpSpPr>
        <p:sp>
          <p:nvSpPr>
            <p:cNvPr id="107" name=""/>
            <p:cNvSpPr/>
            <p:nvPr/>
          </p:nvSpPr>
          <p:spPr>
            <a:xfrm>
              <a:off x="7086600" y="47372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8040" y="474840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3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7640" y="3124080"/>
            <a:ext cx="1316160" cy="459720"/>
            <a:chOff x="3887640" y="3124080"/>
            <a:chExt cx="1316160" cy="459720"/>
          </a:xfrm>
        </p:grpSpPr>
        <p:sp>
          <p:nvSpPr>
            <p:cNvPr id="110" name=""/>
            <p:cNvSpPr/>
            <p:nvPr/>
          </p:nvSpPr>
          <p:spPr>
            <a:xfrm>
              <a:off x="3912840" y="3136680"/>
              <a:ext cx="122508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7640" y="31240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66680" y="27432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özl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40384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özl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120" y="4038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680" y="2743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2880" y="206064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ációátad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91360" y="530064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isszacsatol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4120" y="4648320"/>
            <a:ext cx="13255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85640" y="4648320"/>
            <a:ext cx="15238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4290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2360" y="30481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4290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7840" y="30481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86200" y="4495680"/>
            <a:ext cx="1337760" cy="459720"/>
            <a:chOff x="3886200" y="4495680"/>
            <a:chExt cx="1337760" cy="459720"/>
          </a:xfrm>
        </p:grpSpPr>
        <p:sp>
          <p:nvSpPr>
            <p:cNvPr id="125" name=""/>
            <p:cNvSpPr/>
            <p:nvPr/>
          </p:nvSpPr>
          <p:spPr>
            <a:xfrm>
              <a:off x="3914640" y="4508280"/>
              <a:ext cx="12942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4495680"/>
              <a:ext cx="133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640120" y="47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0960" y="47242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66680" y="4813200"/>
            <a:ext cx="1096560" cy="440280"/>
            <a:chOff x="1066680" y="4813200"/>
            <a:chExt cx="1096560" cy="440280"/>
          </a:xfrm>
        </p:grpSpPr>
        <p:sp>
          <p:nvSpPr>
            <p:cNvPr id="130" name=""/>
            <p:cNvSpPr/>
            <p:nvPr/>
          </p:nvSpPr>
          <p:spPr>
            <a:xfrm>
              <a:off x="1066680" y="481320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120" y="482436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4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66680" y="3365640"/>
            <a:ext cx="1096560" cy="440280"/>
            <a:chOff x="1066680" y="3365640"/>
            <a:chExt cx="1096560" cy="440280"/>
          </a:xfrm>
        </p:grpSpPr>
        <p:sp>
          <p:nvSpPr>
            <p:cNvPr id="133" name=""/>
            <p:cNvSpPr/>
            <p:nvPr/>
          </p:nvSpPr>
          <p:spPr>
            <a:xfrm>
              <a:off x="1066680" y="33656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120" y="337680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1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533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645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kommunikációt akadályozó tényező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4479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d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z üzenet bizonytalanság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ossz kivitele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megtévesz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csato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zav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hiányzó / hiányos csato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vevő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em érdekelt a kommunikációba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hiányos visszajel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véges befogadókép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ltérő nyelv, kultú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8000" y="2538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6668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problémáj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514600"/>
            <a:ext cx="106668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8320" y="5032440"/>
            <a:ext cx="13665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redeti üze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486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Értett üze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429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495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ovábbít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8769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809880"/>
            <a:ext cx="1295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26708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1676160"/>
            <a:ext cx="0" cy="434340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6019920"/>
            <a:ext cx="822960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825840" y="325836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formáció minősé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6019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809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267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952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920" y="6248520"/>
            <a:ext cx="83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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Zaj = Zaj 1+ Zaj 2+ Zaj 3 + (Kód és Dekód közötti nem megfelelés mérték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rim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77336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legegyszerűbb kommunikációs csatorna, ahol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az üzenet közvetítésében nem vesz részt egyetlen technikai eszköz sem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(az üzenettovábbító közeg csupán a levegő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4720" y="4746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6980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4360" y="4005360"/>
            <a:ext cx="7848360" cy="2016000"/>
            <a:chOff x="684360" y="4005360"/>
            <a:chExt cx="7848360" cy="2016000"/>
          </a:xfrm>
        </p:grpSpPr>
        <p:sp>
          <p:nvSpPr>
            <p:cNvPr id="164" name=""/>
            <p:cNvSpPr/>
            <p:nvPr/>
          </p:nvSpPr>
          <p:spPr>
            <a:xfrm>
              <a:off x="684360" y="4005360"/>
              <a:ext cx="7848360" cy="201600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58136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1640" y="458136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828800" y="4800600"/>
              <a:ext cx="1029240" cy="459720"/>
              <a:chOff x="1828800" y="4800600"/>
              <a:chExt cx="1029240" cy="459720"/>
            </a:xfrm>
          </p:grpSpPr>
          <p:sp>
            <p:nvSpPr>
              <p:cNvPr id="168" name=""/>
              <p:cNvSpPr/>
              <p:nvPr/>
            </p:nvSpPr>
            <p:spPr>
              <a:xfrm>
                <a:off x="1828800" y="4813200"/>
                <a:ext cx="1008000" cy="4320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29880" y="480060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Üzene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3920" y="4572000"/>
              <a:ext cx="1366560" cy="11397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3920" y="472428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: „levegő”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896920" y="4724280"/>
              <a:ext cx="814680" cy="770760"/>
              <a:chOff x="2896920" y="4724280"/>
              <a:chExt cx="814680" cy="770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2896920" y="4724280"/>
                <a:ext cx="814680" cy="360360"/>
                <a:chOff x="2896920" y="4724280"/>
                <a:chExt cx="814680" cy="360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68560" y="5084640"/>
                  <a:ext cx="7192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96920" y="4724280"/>
                  <a:ext cx="814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Times New Roman"/>
                    </a:rPr>
                    <a:t>kódolás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2966760" y="515772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1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181480" y="4724280"/>
              <a:ext cx="1081080" cy="697680"/>
              <a:chOff x="5181480" y="4724280"/>
              <a:chExt cx="1081080" cy="69768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181480" y="4724280"/>
                <a:ext cx="1081080" cy="360360"/>
                <a:chOff x="5181480" y="4724280"/>
                <a:chExt cx="1081080" cy="360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81480" y="5084640"/>
                  <a:ext cx="10810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82920" y="4724280"/>
                  <a:ext cx="1006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Times New Roman"/>
                    </a:rPr>
                    <a:t>dekódolás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328360" y="5084640"/>
                <a:ext cx="73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2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400800" y="4876920"/>
              <a:ext cx="1029240" cy="459720"/>
              <a:chOff x="6400800" y="4876920"/>
              <a:chExt cx="1029240" cy="459720"/>
            </a:xfrm>
          </p:grpSpPr>
          <p:sp>
            <p:nvSpPr>
              <p:cNvPr id="183" name=""/>
              <p:cNvSpPr/>
              <p:nvPr/>
            </p:nvSpPr>
            <p:spPr>
              <a:xfrm>
                <a:off x="6400800" y="4889520"/>
                <a:ext cx="1008000" cy="4320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01880" y="487692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Üzene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zekund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557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mer csatornánál bonyolultabb kommunikációs csatorna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közlőnek vagy a befogadónak valamilyen technikai eszközre van szüksége ahhoz, hogy a kommunikációs interakció létrejöjjön.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A szekunder csatorna esetében a kommunikációs aktus résztvevői többnyire térben és időben is távol vannak egymástól (tipikus szekunder csatorna: újság, plakát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149720"/>
            <a:ext cx="8424720" cy="20160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4419720"/>
            <a:ext cx="2951280" cy="165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4343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sator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47920" y="4965840"/>
            <a:ext cx="1008000" cy="440280"/>
            <a:chOff x="1447920" y="4965840"/>
            <a:chExt cx="1008000" cy="440280"/>
          </a:xfrm>
        </p:grpSpPr>
        <p:sp>
          <p:nvSpPr>
            <p:cNvPr id="191" name=""/>
            <p:cNvSpPr/>
            <p:nvPr/>
          </p:nvSpPr>
          <p:spPr>
            <a:xfrm>
              <a:off x="1447920" y="49658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9720" y="497700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39720" y="4876920"/>
            <a:ext cx="814680" cy="770400"/>
            <a:chOff x="2439720" y="4876920"/>
            <a:chExt cx="814680" cy="770400"/>
          </a:xfrm>
        </p:grpSpPr>
        <p:grpSp>
          <p:nvGrpSpPr>
            <p:cNvPr id="194" name=""/>
            <p:cNvGrpSpPr/>
            <p:nvPr/>
          </p:nvGrpSpPr>
          <p:grpSpPr>
            <a:xfrm>
              <a:off x="2439720" y="4876920"/>
              <a:ext cx="814680" cy="360000"/>
              <a:chOff x="2439720" y="4876920"/>
              <a:chExt cx="814680" cy="360000"/>
            </a:xfrm>
          </p:grpSpPr>
          <p:sp>
            <p:nvSpPr>
              <p:cNvPr id="195" name=""/>
              <p:cNvSpPr/>
              <p:nvPr/>
            </p:nvSpPr>
            <p:spPr>
              <a:xfrm>
                <a:off x="2511360" y="5236920"/>
                <a:ext cx="719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720" y="487692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509560" y="53100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1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172200" y="4876920"/>
            <a:ext cx="1008000" cy="697680"/>
            <a:chOff x="6172200" y="4876920"/>
            <a:chExt cx="1008000" cy="697680"/>
          </a:xfrm>
        </p:grpSpPr>
        <p:grpSp>
          <p:nvGrpSpPr>
            <p:cNvPr id="199" name=""/>
            <p:cNvGrpSpPr/>
            <p:nvPr/>
          </p:nvGrpSpPr>
          <p:grpSpPr>
            <a:xfrm>
              <a:off x="6172200" y="4876920"/>
              <a:ext cx="1008000" cy="360360"/>
              <a:chOff x="6172200" y="4876920"/>
              <a:chExt cx="1008000" cy="360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172200" y="5237280"/>
                <a:ext cx="8384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73640" y="4876920"/>
                <a:ext cx="100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de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286680" y="5237280"/>
              <a:ext cx="73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2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4726080"/>
            <a:ext cx="863640" cy="863640"/>
            <a:chOff x="541440" y="4726080"/>
            <a:chExt cx="863640" cy="863640"/>
          </a:xfrm>
        </p:grpSpPr>
        <p:sp>
          <p:nvSpPr>
            <p:cNvPr id="204" name=""/>
            <p:cNvSpPr/>
            <p:nvPr/>
          </p:nvSpPr>
          <p:spPr>
            <a:xfrm>
              <a:off x="541440" y="472608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880" y="4891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001000" y="4724280"/>
            <a:ext cx="863640" cy="863640"/>
            <a:chOff x="8001000" y="4724280"/>
            <a:chExt cx="863640" cy="863640"/>
          </a:xfrm>
        </p:grpSpPr>
        <p:sp>
          <p:nvSpPr>
            <p:cNvPr id="207" name=""/>
            <p:cNvSpPr/>
            <p:nvPr/>
          </p:nvSpPr>
          <p:spPr>
            <a:xfrm>
              <a:off x="8001000" y="472428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19160" y="4867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276720" y="4876920"/>
            <a:ext cx="1091160" cy="936360"/>
            <a:chOff x="3276720" y="4876920"/>
            <a:chExt cx="1091160" cy="936360"/>
          </a:xfrm>
        </p:grpSpPr>
        <p:sp>
          <p:nvSpPr>
            <p:cNvPr id="210" name=""/>
            <p:cNvSpPr/>
            <p:nvPr/>
          </p:nvSpPr>
          <p:spPr>
            <a:xfrm>
              <a:off x="327672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356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29200" y="5029200"/>
            <a:ext cx="1158480" cy="431640"/>
            <a:chOff x="5029200" y="5029200"/>
            <a:chExt cx="1158480" cy="431640"/>
          </a:xfrm>
        </p:grpSpPr>
        <p:sp>
          <p:nvSpPr>
            <p:cNvPr id="213" name=""/>
            <p:cNvSpPr/>
            <p:nvPr/>
          </p:nvSpPr>
          <p:spPr>
            <a:xfrm>
              <a:off x="5051880" y="5029200"/>
              <a:ext cx="1048680" cy="4316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9200" y="5049720"/>
              <a:ext cx="11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„</a:t>
              </a: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levegő”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43400" y="5257800"/>
            <a:ext cx="744480" cy="411840"/>
            <a:chOff x="4343400" y="5257800"/>
            <a:chExt cx="744480" cy="411840"/>
          </a:xfrm>
        </p:grpSpPr>
        <p:sp>
          <p:nvSpPr>
            <p:cNvPr id="216" name=""/>
            <p:cNvSpPr/>
            <p:nvPr/>
          </p:nvSpPr>
          <p:spPr>
            <a:xfrm>
              <a:off x="4416480" y="5257800"/>
              <a:ext cx="576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5332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3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86600" y="4952880"/>
            <a:ext cx="956880" cy="440280"/>
            <a:chOff x="7086600" y="4952880"/>
            <a:chExt cx="956880" cy="440280"/>
          </a:xfrm>
        </p:grpSpPr>
        <p:sp>
          <p:nvSpPr>
            <p:cNvPr id="219" name=""/>
            <p:cNvSpPr/>
            <p:nvPr/>
          </p:nvSpPr>
          <p:spPr>
            <a:xfrm>
              <a:off x="7086600" y="4952880"/>
              <a:ext cx="91368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88400" y="496404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erci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84464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legbonyolultabb kommunikációs csatorna: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mind a közlő, mind a befogadó technikai eszközt vesz igénybe az üzenet továbbításához, illetve fogadásához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(tipikus tercier csatorna: televízió, rádió)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450864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449568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149720"/>
            <a:ext cx="8353440" cy="20160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419720"/>
            <a:ext cx="3022560" cy="165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4343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sator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95280" y="4952880"/>
            <a:ext cx="1008000" cy="435600"/>
            <a:chOff x="1295280" y="4952880"/>
            <a:chExt cx="1008000" cy="435600"/>
          </a:xfrm>
        </p:grpSpPr>
        <p:sp>
          <p:nvSpPr>
            <p:cNvPr id="229" name=""/>
            <p:cNvSpPr/>
            <p:nvPr/>
          </p:nvSpPr>
          <p:spPr>
            <a:xfrm>
              <a:off x="1295280" y="495288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9896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87440" y="4876920"/>
            <a:ext cx="814680" cy="770400"/>
            <a:chOff x="2287440" y="4876920"/>
            <a:chExt cx="814680" cy="770400"/>
          </a:xfrm>
        </p:grpSpPr>
        <p:grpSp>
          <p:nvGrpSpPr>
            <p:cNvPr id="232" name=""/>
            <p:cNvGrpSpPr/>
            <p:nvPr/>
          </p:nvGrpSpPr>
          <p:grpSpPr>
            <a:xfrm>
              <a:off x="2287440" y="4876920"/>
              <a:ext cx="814680" cy="360000"/>
              <a:chOff x="2287440" y="4876920"/>
              <a:chExt cx="814680" cy="3600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59080" y="5236920"/>
                <a:ext cx="719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87440" y="487692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57280" y="53100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1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173640" y="4876920"/>
            <a:ext cx="1006560" cy="697680"/>
            <a:chOff x="6173640" y="4876920"/>
            <a:chExt cx="1006560" cy="697680"/>
          </a:xfrm>
        </p:grpSpPr>
        <p:sp>
          <p:nvSpPr>
            <p:cNvPr id="237" name=""/>
            <p:cNvSpPr/>
            <p:nvPr/>
          </p:nvSpPr>
          <p:spPr>
            <a:xfrm>
              <a:off x="6173640" y="48769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dekódolá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222600" y="5237280"/>
              <a:ext cx="788400" cy="337320"/>
              <a:chOff x="6222600" y="5237280"/>
              <a:chExt cx="78840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6222600" y="5237280"/>
                <a:ext cx="645840" cy="18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4080" y="5237280"/>
                <a:ext cx="73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2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33520" y="4800600"/>
            <a:ext cx="677880" cy="684360"/>
            <a:chOff x="533520" y="4800600"/>
            <a:chExt cx="677880" cy="684360"/>
          </a:xfrm>
        </p:grpSpPr>
        <p:sp>
          <p:nvSpPr>
            <p:cNvPr id="242" name=""/>
            <p:cNvSpPr/>
            <p:nvPr/>
          </p:nvSpPr>
          <p:spPr>
            <a:xfrm>
              <a:off x="533520" y="4800600"/>
              <a:ext cx="677880" cy="684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4880" y="4929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001000" y="4726080"/>
            <a:ext cx="747720" cy="760320"/>
            <a:chOff x="8001000" y="4726080"/>
            <a:chExt cx="747720" cy="760320"/>
          </a:xfrm>
        </p:grpSpPr>
        <p:sp>
          <p:nvSpPr>
            <p:cNvPr id="245" name=""/>
            <p:cNvSpPr/>
            <p:nvPr/>
          </p:nvSpPr>
          <p:spPr>
            <a:xfrm>
              <a:off x="8001000" y="4726080"/>
              <a:ext cx="747720" cy="7603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90360" y="4851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0400" y="4876920"/>
            <a:ext cx="1091160" cy="936360"/>
            <a:chOff x="3200400" y="4876920"/>
            <a:chExt cx="1091160" cy="936360"/>
          </a:xfrm>
        </p:grpSpPr>
        <p:sp>
          <p:nvSpPr>
            <p:cNvPr id="248" name=""/>
            <p:cNvSpPr/>
            <p:nvPr/>
          </p:nvSpPr>
          <p:spPr>
            <a:xfrm>
              <a:off x="320040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724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267080" y="5257800"/>
            <a:ext cx="744480" cy="411840"/>
            <a:chOff x="4267080" y="5257800"/>
            <a:chExt cx="744480" cy="411840"/>
          </a:xfrm>
        </p:grpSpPr>
        <p:sp>
          <p:nvSpPr>
            <p:cNvPr id="251" name=""/>
            <p:cNvSpPr/>
            <p:nvPr/>
          </p:nvSpPr>
          <p:spPr>
            <a:xfrm>
              <a:off x="4340160" y="5257800"/>
              <a:ext cx="576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5332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3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876920"/>
            <a:ext cx="1091160" cy="936360"/>
            <a:chOff x="4952880" y="4876920"/>
            <a:chExt cx="1091160" cy="936360"/>
          </a:xfrm>
        </p:grpSpPr>
        <p:sp>
          <p:nvSpPr>
            <p:cNvPr id="254" name=""/>
            <p:cNvSpPr/>
            <p:nvPr/>
          </p:nvSpPr>
          <p:spPr>
            <a:xfrm>
              <a:off x="495288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72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86600" y="4952880"/>
            <a:ext cx="888120" cy="435600"/>
            <a:chOff x="7086600" y="4952880"/>
            <a:chExt cx="888120" cy="435600"/>
          </a:xfrm>
        </p:grpSpPr>
        <p:sp>
          <p:nvSpPr>
            <p:cNvPr id="257" name=""/>
            <p:cNvSpPr/>
            <p:nvPr/>
          </p:nvSpPr>
          <p:spPr>
            <a:xfrm>
              <a:off x="7086600" y="4952880"/>
              <a:ext cx="8388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86960" y="49896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2286000"/>
            <a:ext cx="792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mmunikációban részt vevő személyek száma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zerint intraperszonális, interperszonális, csoport- és tömegkommunikációt;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Intraperszonális kommunikáció:  (belső monoló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z adó, a közlő konkrét személy,  a vevő, a címzett fiktív lény, információcser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, a tudattartalmak cseréj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incs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. A csatorna rövidre van zárva,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visszacsatolás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c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m tartják kommunikációs folyamatnak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a szakembere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üldő-Befogadó szerint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8:43:27Z</dcterms:created>
  <dc:creator>x</dc:creator>
  <dc:description/>
  <dc:language>en-US</dc:language>
  <cp:lastModifiedBy>x</cp:lastModifiedBy>
  <dcterms:modified xsi:type="dcterms:W3CDTF">2003-11-18T09:42:43Z</dcterms:modified>
  <cp:revision>20</cp:revision>
  <dc:subject/>
  <dc:title>Bürotika  1. előadás</dc:title>
</cp:coreProperties>
</file>