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4825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CF3D-A48B-44FB-8BBD-A55D65E23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693D-AD17-44A2-9766-C5A5CC25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6304-A5E2-4F5B-9F6E-BDF1A53B9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9144-8328-4333-86C2-17A88307E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7174-2624-4E45-8DDF-E46326A61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04AE-CF84-41E7-9594-A14D3864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FDA9-5249-4A31-8246-F403D1F6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AD6D-BC88-4C8B-8B06-A96C21FD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A1E4-60DB-4ED2-8B78-6893B983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6475-8126-41BC-A18E-D22FCC65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3F98-D518-4E30-AC59-3DD66A90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EE67-FB20-499D-8C83-E34D37C3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312F-E3E8-4C91-8082-6F6CEAAE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EFA2-4B90-4672-B7C7-FDAE2A15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5EDE-FCF1-477B-BA40-CAD73CCF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F347-CD01-4186-9E2A-449D819F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EED3-8648-4B6A-9BAA-D92EA1D34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4DE1-EAD7-40E5-A3F8-4B9269C3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0491-4405-46B4-8EC1-EB48B66D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90AD-C039-4088-A634-21E72D96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8E1D-CB83-4CB0-93AC-62438BE9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0EBD-DCC9-4EBE-957B-40BAB162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710F-D328-4F4E-B885-1460E482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1714-3872-4C17-93E5-CA52F06D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7BBD-FC58-401B-914B-E75483950A9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F31A-B9D6-46A0-8E4B-5E69B4818A7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ürotika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1. előadá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00200" y="762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 Black"/>
              </a:rPr>
              <a:t>Kommunikáció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Arial Black"/>
              </a:rPr>
              <a:t>A kommunikáció fogalm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Arial Black"/>
              </a:rPr>
              <a:t>A verbális kommunikáci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Arial Black"/>
              </a:rPr>
              <a:t>Beszé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Arial Black"/>
              </a:rPr>
              <a:t>Írá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4" name="ot7348" descr=""/>
          <p:cNvPicPr/>
          <p:nvPr/>
        </p:nvPicPr>
        <p:blipFill>
          <a:blip r:embed="rId1"/>
          <a:stretch/>
        </p:blipFill>
        <p:spPr>
          <a:xfrm>
            <a:off x="0" y="0"/>
            <a:ext cx="234936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09480" y="1905120"/>
            <a:ext cx="79250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,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özölt információ természetét és a befogadóra tett hatását illetőe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kognitív és affektív-emocionális, vagy egy másik felosztás szerint praktikus (gyakorlati), irányító és szórakoztató kommunikáció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Kommunikáció osztályozása I.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Küldő-Befogadó szerint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3" name="asztalbene1" descr=""/>
          <p:cNvPicPr/>
          <p:nvPr/>
        </p:nvPicPr>
        <p:blipFill>
          <a:blip r:embed="rId1"/>
          <a:stretch/>
        </p:blipFill>
        <p:spPr>
          <a:xfrm>
            <a:off x="3276720" y="4724280"/>
            <a:ext cx="25398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Kommunikáció osztályozása II.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satorna szerin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„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levegő” (beszéd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Papír-hordozó  (pl. levé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Rádióhullámok  (pl. morse távíró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Telekommunikáció (pl. telefo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Számítógépes kommunikáció (pl. e-mai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Kódoltsága szeri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Nyíl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titk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66" name="brille2" descr=""/>
          <p:cNvPicPr/>
          <p:nvPr/>
        </p:nvPicPr>
        <p:blipFill>
          <a:blip r:embed="rId1"/>
          <a:stretch/>
        </p:blipFill>
        <p:spPr>
          <a:xfrm>
            <a:off x="6781680" y="3581280"/>
            <a:ext cx="190512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Kommunikáció osztályozása III.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Gyakoriság szerin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zándék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gyszer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ndszer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m szándék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69" name="display_erg_rajz" descr=""/>
          <p:cNvPicPr/>
          <p:nvPr/>
        </p:nvPicPr>
        <p:blipFill>
          <a:blip r:embed="rId1"/>
          <a:stretch/>
        </p:blipFill>
        <p:spPr>
          <a:xfrm>
            <a:off x="5562720" y="2743200"/>
            <a:ext cx="228600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Kommunikáció osztályozása IV.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dőbeli lefutás szerin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zonnali lefolyású (prompt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övid lefutású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sszú lefutású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„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ényévek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5000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Az emberi kommunikáció csatornáinak fejlődése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2148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09680" y="1219320"/>
            <a:ext cx="6705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Idő (évtől)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Módsz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1 000 000 (Kr.e.)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Kiabálás, mutogatá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10 000  (Kr.e.)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Füstjele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3000 - 800  (Kr.e.)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Képírás, rovásírá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63 év (Kr.e.)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Írás betűkke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1450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Könyvnyomtatá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1792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Optikai telegráf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1837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Morse távíró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1850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Telef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1900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Elektroncső, rádió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1937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Televízió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1960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Teletex, telefax, Btx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1980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ISD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Arial"/>
              <a:buAutoNum type="arabicPlain" startAt="199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Integrált szolgáltatások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Arial"/>
              </a:rPr>
              <a:t>199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5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Mobil telefono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2000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  <a:ea typeface="Arial"/>
              </a:rPr>
              <a:t>Mobil multimédi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cc"/>
                </a:solidFill>
                <a:latin typeface="Arial"/>
              </a:rPr>
              <a:t>2003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ffffcc"/>
                </a:solidFill>
                <a:latin typeface="Arial"/>
              </a:rPr>
              <a:t>-””- + extrák (GPS, érzékelők,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ürotika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1. előadá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523880" y="6091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 Black"/>
              </a:rPr>
              <a:t>Kommunikáció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cc"/>
                </a:solidFill>
                <a:latin typeface="Arial Black"/>
              </a:rPr>
              <a:t>A kommunikáció fogalma</a:t>
            </a:r>
            <a:r>
              <a:rPr b="0" lang="hu-HU" sz="2800" spc="-1" strike="noStrike">
                <a:solidFill>
                  <a:srgbClr val="ffffcc"/>
                </a:solidFill>
                <a:latin typeface="Arial Black"/>
              </a:rPr>
              <a:t> </a:t>
            </a:r>
            <a:r>
              <a:rPr b="1" lang="hu-HU" sz="2800" spc="-1" strike="noStrike">
                <a:solidFill>
                  <a:srgbClr val="ffffcc"/>
                </a:solidFill>
                <a:latin typeface="Symbol"/>
                <a:ea typeface="Symbol"/>
              </a:rPr>
              <a:t>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Arial Black"/>
              </a:rPr>
              <a:t>A verbális kommunikáci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Arial Black"/>
              </a:rPr>
              <a:t>Beszé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Arial Black"/>
              </a:rPr>
              <a:t>Írá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3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Verbális kommunikáció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ffcc"/>
                </a:solidFill>
                <a:latin typeface="Times New Roman"/>
              </a:rPr>
              <a:t>A verbális kommunikáció alapja a nyelv, melynek két formája a beszéd és az írás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A beszélt nyelv jellegzetességei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vokális - auditív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irányhoz nem kötött átvitel - irányhoz kötött percepci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idő- és térbeli korláto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azonnali visszacsatolá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08660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rbális kommunikáció /2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148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920" y="1371600"/>
            <a:ext cx="8762760" cy="42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Kommunikáció jelentést hordozó összetevői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verbális: beszé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helyes hangsúl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moduláció, dinamika, sebesség, éneklé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gyakorlá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helyes fogalmazás, rövid mondatok, szünete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változatos stílu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zókinc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jó szerkezeti felépíté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artalmi helyessé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meggyőző erő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08660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Verbális kommunikáció /3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2148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1371600"/>
            <a:ext cx="8610480" cy="56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cc"/>
                </a:solidFill>
                <a:latin typeface="Arial"/>
              </a:rPr>
              <a:t>nem verbáli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cc"/>
                </a:solidFill>
                <a:latin typeface="Arial"/>
              </a:rPr>
              <a:t>mimik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cc"/>
                </a:solidFill>
                <a:latin typeface="Arial"/>
              </a:rPr>
              <a:t>tekinte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cc"/>
                </a:solidFill>
                <a:latin typeface="Arial"/>
              </a:rPr>
              <a:t>testtartá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cc"/>
                </a:solidFill>
                <a:latin typeface="Arial"/>
              </a:rPr>
              <a:t>távolságszabályozá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cc"/>
                </a:solidFill>
                <a:latin typeface="Arial"/>
              </a:rPr>
              <a:t>mozgások, gesztuso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cc"/>
                </a:solidFill>
                <a:latin typeface="Arial"/>
              </a:rPr>
              <a:t>érinté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cc"/>
                </a:solidFill>
                <a:latin typeface="Arial"/>
              </a:rPr>
              <a:t>vokáliso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cc"/>
                </a:solidFill>
                <a:latin typeface="Arial"/>
              </a:rPr>
              <a:t>szubvokáliso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cc"/>
                </a:solidFill>
                <a:latin typeface="Arial"/>
              </a:rPr>
              <a:t>szimboliku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cc"/>
                </a:solidFill>
                <a:latin typeface="Arial"/>
              </a:rPr>
              <a:t>külső megjelenés (bajusz, szakáll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ffffcc"/>
                </a:solidFill>
                <a:latin typeface="Arial"/>
              </a:rPr>
              <a:t>öltözet (vonatkozási csoport!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Arial"/>
              </a:rPr>
              <a:t>Megjelennek az alábbi kommunikációkba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Arial"/>
              </a:rPr>
              <a:t>Közvetett kommunikáció: nincs egyidejű jelenlé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cc"/>
                </a:solidFill>
                <a:latin typeface="Arial"/>
              </a:rPr>
              <a:t>Közvetlen kommunikáció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85" name="homokora_emberrel" descr=""/>
          <p:cNvPicPr/>
          <p:nvPr/>
        </p:nvPicPr>
        <p:blipFill>
          <a:blip r:embed="rId1"/>
          <a:stretch/>
        </p:blipFill>
        <p:spPr>
          <a:xfrm>
            <a:off x="6705720" y="2209680"/>
            <a:ext cx="171432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Non verbális kommunikáció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1280" y="1916280"/>
            <a:ext cx="7993080" cy="45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A non verbális kommunikáció eszközei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látszólag csak másodlagos, kiegészítő kommunikációs eszközök, valójában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a verbális kommunikáció eszközeivel egyenértékűek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01880" indent="-457200" algn="just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Mimika  (arckifejezések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01880" indent="-457200" algn="just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Tekintet (szemkapcsolat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01880" indent="-457200" algn="just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Vokális kommunikáció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01880" indent="-457200" algn="just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Mozgásos kommunikáció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01880" indent="-457200" algn="just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Testbeszéd (gesztusok,testtartá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01880" indent="-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Térköz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(személyes tér, távolságtartás 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baráti : 50-150 cm, üzleti : 120-350 cm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01880" indent="-457200" algn="just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Kulturális szignálo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01880" indent="-457200" algn="just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Érinté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01880" indent="-457200" algn="just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Csen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Kommunikáció fogalm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05740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yértelmű kapcsolat egy A tér- és időbeli világ, adó és egy B tér- és időbeli világ, vevő között …, amely magába foglalja az értelmezés, átadás fogalmát, és amely egy rendszerbe foglalt esemény-mezőtől a jelmezőig zajlik le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. 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Abraham Mole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 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kommunikáció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alapvető jellemzője a kölcsönösség, visszahatáson-visszacsatoláson alapszik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Metakommunikáció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1280" y="2637000"/>
            <a:ext cx="7993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cc"/>
                </a:solidFill>
                <a:latin typeface="Times New Roman"/>
              </a:rPr>
              <a:t>A verbális és non verbális kommunikációs eszközök összehangoltságát</a:t>
            </a:r>
            <a:r>
              <a:rPr b="0" i="1" lang="en-US" sz="2700" spc="-1" strike="noStrike">
                <a:solidFill>
                  <a:srgbClr val="ffffcc"/>
                </a:solidFill>
                <a:latin typeface="Times New Roman"/>
              </a:rPr>
              <a:t> - a közlő és a befogadó attitűdjének, valamint az üzenet és a közvetítő csatorna sajátosságainak figyelembevételével alkalmazott kódrendszert - </a:t>
            </a:r>
            <a:r>
              <a:rPr b="1" i="1" lang="en-US" sz="2700" spc="-1" strike="noStrike">
                <a:solidFill>
                  <a:srgbClr val="ffffcc"/>
                </a:solidFill>
                <a:latin typeface="Times New Roman"/>
              </a:rPr>
              <a:t>nevezzük metakommunikációnak.</a:t>
            </a:r>
            <a:r>
              <a:rPr b="0" lang="en-US" sz="27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eszé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148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447920" y="1371600"/>
            <a:ext cx="670536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Frissen lépj a szónoki emelvényre, jól nyisd ki a szádat és gyorsan hallgass el!'”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Luther Márt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elkészülé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mi a beszéd célja?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i a hallgatósá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mi lesz a tartal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fizikai körülménye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 beszélő magatartás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a hallgatóság megnyerés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természetessé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apcsolat a hallgatósággal (adás+vétel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megjelenés (öltözet, kipihent, magabiztos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humo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93" name="wewantyou" descr=""/>
          <p:cNvPicPr/>
          <p:nvPr/>
        </p:nvPicPr>
        <p:blipFill>
          <a:blip r:embed="rId1"/>
          <a:stretch/>
        </p:blipFill>
        <p:spPr>
          <a:xfrm>
            <a:off x="6172200" y="2590920"/>
            <a:ext cx="21240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z aktív hallgatá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148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47920" y="1295280"/>
            <a:ext cx="670536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 hallgató feladatai a hallgatás sorá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beleélés a beszélő helyzetéb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 tartalom és érzelem figyelé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 megértés ellenőrzé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visszajelzések a beszélő számá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z aktív hallgatást gátló tényező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llenséges beállítódás valamelyik fél részérő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 megváltozás kockáza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zavaró, ellenséges kijelentése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ozitív beállítódá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aját magunkra figyelé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ürotika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1. előadá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447920" y="6091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 Black"/>
              </a:rPr>
              <a:t>Kommunikáció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cc"/>
                </a:solidFill>
                <a:latin typeface="Arial Black"/>
              </a:rPr>
              <a:t>A kommunikáció fogalma</a:t>
            </a:r>
            <a:r>
              <a:rPr b="0" lang="hu-HU" sz="2800" spc="-1" strike="noStrike">
                <a:solidFill>
                  <a:srgbClr val="ffffcc"/>
                </a:solidFill>
                <a:latin typeface="Arial Black"/>
              </a:rPr>
              <a:t> </a:t>
            </a:r>
            <a:r>
              <a:rPr b="1" lang="hu-HU" sz="2800" spc="-1" strike="noStrike">
                <a:solidFill>
                  <a:srgbClr val="ffffcc"/>
                </a:solidFill>
                <a:latin typeface="Symbol"/>
                <a:ea typeface="Symbol"/>
              </a:rPr>
              <a:t>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Arial Black"/>
              </a:rPr>
              <a:t> </a:t>
            </a:r>
            <a:r>
              <a:rPr b="0" lang="hu-HU" sz="2800" spc="-1" strike="noStrike">
                <a:solidFill>
                  <a:srgbClr val="ffffcc"/>
                </a:solidFill>
                <a:latin typeface="Arial Black"/>
              </a:rPr>
              <a:t>A verbális kommunikáci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Arial Black"/>
              </a:rPr>
              <a:t>Beszéd </a:t>
            </a:r>
            <a:r>
              <a:rPr b="1" lang="hu-HU" sz="2400" spc="-1" strike="noStrike">
                <a:solidFill>
                  <a:srgbClr val="ffffcc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Arial Black"/>
              </a:rPr>
              <a:t>Írá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Verbális kommunikáció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írott formába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38080" y="22096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2362320"/>
            <a:ext cx="7619760" cy="30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Az írott nyelv jellegzetességei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vizuál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strukturáltsá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archiválhatósá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térbeli kötetlensé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reprodukálhatósá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teljesebb szellemi koncentráci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rmai eszközök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2148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362320" y="1371600"/>
            <a:ext cx="6705360" cy="49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zöve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tagolá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tűtípus, méret, stílu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lapbeállítá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áblázato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áttekinthetősé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szerkeze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logikussá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elrendezé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összehasonlíthatósá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rafikono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agramtípuso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szoftvere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ábrá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üzene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 hatékony írá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148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28800" y="1371600"/>
            <a:ext cx="6705720" cy="50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elyesírás: </a:t>
            </a: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„Valamely nyelv írásának közmegállapodáson alapuló és közérdekből szabályozott eljárásmódja, valamint az ezt rögzítő, visszatükröző és irányító szabályrendsze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elyesen írás, az stilisztikailag is hely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75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zóhasználat (ki lesz a befogadó)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75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Körmondat, felsorolá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75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Kérdés, meghökkentés, ellentétek használa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75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Üzenetek kiemelés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Jelentések írás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ontossá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ömörsé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világossá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 hatékony olvasá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148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62320" y="1371600"/>
            <a:ext cx="6705360" cy="48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átfutá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átolvasá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észletes tanulmányozá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jegyzetelé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megjegyzése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kérdése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döntés, elfogadás, elveté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Átlagos olvasás 160-250 szó/perc, 50-60% megérté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Könyvolvasá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Kereső olvasá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yorsolvasás 700 szó/perc, 70-80%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ffcc66"/>
                </a:solidFill>
                <a:latin typeface="Times New Roman"/>
              </a:rPr>
              <a:t>Beszéd vs. írá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148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0" y="1981080"/>
          <a:ext cx="8991720" cy="4033800"/>
        </p:xfrm>
        <a:graphic>
          <a:graphicData uri="http://schemas.openxmlformats.org/drawingml/2006/table">
            <a:tbl>
              <a:tblPr/>
              <a:tblGrid>
                <a:gridCol w="1436760"/>
                <a:gridCol w="4014720"/>
                <a:gridCol w="354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lőn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Hátrán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3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Beszé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Közvetlen, gyor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zemélyes ráhatá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on verbális eszközök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Veszély a témától való eltérésre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egatív személyes hatá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1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Írás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Átgondolható, átfogalmazható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anulmányozható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entes a viselkedési kötöttségektől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egőrizhető, számon kérhető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Többekhez eljut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ehezen korrigálható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Félreérthető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Nincs kísérő információ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lavulá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66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Illetéktelen kezekbe kerülhet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eszéd és az írás hasonlósága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1981080"/>
            <a:ext cx="82296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indkettő jelrendszerként a nyelvet használj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ntos bizonyos szabályok betartás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zókincs fontossága mindkettőnél fonto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megfogalmazás mindkét formában további jelentést hordoz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rejtett jelentéstartalom mindkettőben megjelenik. A beszédben a hangsúly, az írásban a központozás és egyéb írásjelek megfelelő használatával érhetjük el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A kommunikációs folyamat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1280" y="2205000"/>
            <a:ext cx="777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1916280"/>
            <a:ext cx="7993080" cy="403380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3933720"/>
            <a:ext cx="79930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2637000"/>
            <a:ext cx="1295640" cy="27367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637000"/>
            <a:ext cx="1368720" cy="27367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086600" y="3289320"/>
            <a:ext cx="1096560" cy="440280"/>
            <a:chOff x="7086600" y="3289320"/>
            <a:chExt cx="1096560" cy="440280"/>
          </a:xfrm>
        </p:grpSpPr>
        <p:sp>
          <p:nvSpPr>
            <p:cNvPr id="104" name=""/>
            <p:cNvSpPr/>
            <p:nvPr/>
          </p:nvSpPr>
          <p:spPr>
            <a:xfrm>
              <a:off x="7086600" y="3289320"/>
              <a:ext cx="1008000" cy="43200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88040" y="3300480"/>
              <a:ext cx="1095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cc"/>
                  </a:solidFill>
                  <a:latin typeface="Times New Roman"/>
                </a:rPr>
                <a:t>Üzenet2</a:t>
              </a:r>
              <a:endParaRPr b="0" lang="en-US" sz="2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7086600" y="4737240"/>
            <a:ext cx="1096560" cy="440280"/>
            <a:chOff x="7086600" y="4737240"/>
            <a:chExt cx="1096560" cy="440280"/>
          </a:xfrm>
        </p:grpSpPr>
        <p:sp>
          <p:nvSpPr>
            <p:cNvPr id="107" name=""/>
            <p:cNvSpPr/>
            <p:nvPr/>
          </p:nvSpPr>
          <p:spPr>
            <a:xfrm>
              <a:off x="7086600" y="4737240"/>
              <a:ext cx="1008000" cy="43200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88040" y="4748400"/>
              <a:ext cx="1095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cc"/>
                  </a:solidFill>
                  <a:latin typeface="Times New Roman"/>
                </a:rPr>
                <a:t>Üzenet3</a:t>
              </a:r>
              <a:endParaRPr b="0" lang="en-US" sz="2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887640" y="3124080"/>
            <a:ext cx="1316160" cy="459720"/>
            <a:chOff x="3887640" y="3124080"/>
            <a:chExt cx="1316160" cy="459720"/>
          </a:xfrm>
        </p:grpSpPr>
        <p:sp>
          <p:nvSpPr>
            <p:cNvPr id="110" name=""/>
            <p:cNvSpPr/>
            <p:nvPr/>
          </p:nvSpPr>
          <p:spPr>
            <a:xfrm>
              <a:off x="3912840" y="3136680"/>
              <a:ext cx="1225080" cy="43200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7640" y="312408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cc"/>
                  </a:solidFill>
                  <a:latin typeface="Times New Roman"/>
                </a:rPr>
                <a:t>Csatorn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066680" y="274320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Közlő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62920" y="4038480"/>
            <a:ext cx="9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Közlő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5120" y="403848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Befogadó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34680" y="27432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Befogadó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2880" y="2060640"/>
            <a:ext cx="24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nformációátadá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91360" y="530064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Visszacsatolá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334120" y="4648320"/>
            <a:ext cx="13255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285640" y="4648320"/>
            <a:ext cx="152388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3429000"/>
            <a:ext cx="1371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92360" y="304812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kódolá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4120" y="3429000"/>
            <a:ext cx="1371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87840" y="3048120"/>
            <a:ext cx="10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dekódolá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886200" y="4495680"/>
            <a:ext cx="1337760" cy="459720"/>
            <a:chOff x="3886200" y="4495680"/>
            <a:chExt cx="1337760" cy="459720"/>
          </a:xfrm>
        </p:grpSpPr>
        <p:sp>
          <p:nvSpPr>
            <p:cNvPr id="125" name=""/>
            <p:cNvSpPr/>
            <p:nvPr/>
          </p:nvSpPr>
          <p:spPr>
            <a:xfrm>
              <a:off x="3914640" y="4508280"/>
              <a:ext cx="1294200" cy="43200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86200" y="4495680"/>
              <a:ext cx="133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cc"/>
                  </a:solidFill>
                  <a:latin typeface="Times New Roman"/>
                </a:rPr>
                <a:t>Csatorn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5640120" y="472428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kódolá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20960" y="4724280"/>
            <a:ext cx="10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dekódolá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066680" y="4813200"/>
            <a:ext cx="1096560" cy="440280"/>
            <a:chOff x="1066680" y="4813200"/>
            <a:chExt cx="1096560" cy="440280"/>
          </a:xfrm>
        </p:grpSpPr>
        <p:sp>
          <p:nvSpPr>
            <p:cNvPr id="130" name=""/>
            <p:cNvSpPr/>
            <p:nvPr/>
          </p:nvSpPr>
          <p:spPr>
            <a:xfrm>
              <a:off x="1066680" y="4813200"/>
              <a:ext cx="1008000" cy="43200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68120" y="4824360"/>
              <a:ext cx="1095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cc"/>
                  </a:solidFill>
                  <a:latin typeface="Times New Roman"/>
                </a:rPr>
                <a:t>Üzenet4</a:t>
              </a:r>
              <a:endParaRPr b="0" lang="en-US" sz="2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066680" y="3365640"/>
            <a:ext cx="1096560" cy="440280"/>
            <a:chOff x="1066680" y="3365640"/>
            <a:chExt cx="1096560" cy="440280"/>
          </a:xfrm>
        </p:grpSpPr>
        <p:sp>
          <p:nvSpPr>
            <p:cNvPr id="133" name=""/>
            <p:cNvSpPr/>
            <p:nvPr/>
          </p:nvSpPr>
          <p:spPr>
            <a:xfrm>
              <a:off x="1066680" y="3365640"/>
              <a:ext cx="1008000" cy="43200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68120" y="3376800"/>
              <a:ext cx="1095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cc"/>
                  </a:solidFill>
                  <a:latin typeface="Times New Roman"/>
                </a:rPr>
                <a:t>Üzenet1</a:t>
              </a:r>
              <a:endParaRPr b="0" lang="en-US" sz="2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ürotika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1. előadá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600200" y="5335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 Black"/>
              </a:rPr>
              <a:t>Kommunikáció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cc"/>
                </a:solidFill>
                <a:latin typeface="Arial Black"/>
              </a:rPr>
              <a:t>A kommunikáció fogalma</a:t>
            </a:r>
            <a:r>
              <a:rPr b="0" lang="hu-HU" sz="2800" spc="-1" strike="noStrike">
                <a:solidFill>
                  <a:srgbClr val="ffffcc"/>
                </a:solidFill>
                <a:latin typeface="Arial Black"/>
              </a:rPr>
              <a:t> </a:t>
            </a:r>
            <a:r>
              <a:rPr b="1" lang="hu-HU" sz="2800" spc="-1" strike="noStrike">
                <a:solidFill>
                  <a:srgbClr val="ffffcc"/>
                </a:solidFill>
                <a:latin typeface="Symbol"/>
                <a:ea typeface="Symbol"/>
              </a:rPr>
              <a:t>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Arial Black"/>
              </a:rPr>
              <a:t> </a:t>
            </a:r>
            <a:r>
              <a:rPr b="0" lang="hu-HU" sz="2800" spc="-1" strike="noStrike">
                <a:solidFill>
                  <a:srgbClr val="ffffcc"/>
                </a:solidFill>
                <a:latin typeface="Arial Black"/>
              </a:rPr>
              <a:t>A verbális kommunikáci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Arial Black"/>
              </a:rPr>
              <a:t>Beszéd </a:t>
            </a:r>
            <a:r>
              <a:rPr b="1" lang="hu-HU" sz="2400" spc="-1" strike="noStrike">
                <a:solidFill>
                  <a:srgbClr val="ffffcc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Arial Black"/>
              </a:rPr>
              <a:t>Írás </a:t>
            </a:r>
            <a:r>
              <a:rPr b="1" lang="hu-HU" sz="2400" spc="-1" strike="noStrike">
                <a:solidFill>
                  <a:srgbClr val="ffffcc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64524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 kommunikációt akadályozó tényezők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1480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05120" y="1447920"/>
            <a:ext cx="6095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adó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az üzenet bizonytalanság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rossz kivitelezé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megtéveszté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csatorn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zava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hiányzó / hiányos csatorn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vevő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nem érdekelt a kommunikációban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hiányos visszajelzé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véges befogadóképessé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eltérő nyelv, kultúr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18000" y="25383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477120" y="3352680"/>
            <a:ext cx="266688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Kommunikáció problémáj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2514600"/>
            <a:ext cx="1066680" cy="5335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Küldő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8320" y="5032440"/>
            <a:ext cx="1366560" cy="4597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efogadó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29718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redeti üzene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86600" y="54864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Értett üzene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34290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Kódolá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4495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Dekódolá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39625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ovábbítá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15000" y="4876920"/>
            <a:ext cx="1143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3809880"/>
            <a:ext cx="12952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4267080"/>
            <a:ext cx="13716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1676160"/>
            <a:ext cx="0" cy="4343400"/>
          </a:xfrm>
          <a:prstGeom prst="line">
            <a:avLst/>
          </a:prstGeom>
          <a:ln w="19080">
            <a:solidFill>
              <a:srgbClr val="ffff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6019920"/>
            <a:ext cx="8229600" cy="0"/>
          </a:xfrm>
          <a:prstGeom prst="line">
            <a:avLst/>
          </a:prstGeom>
          <a:ln w="19080">
            <a:solidFill>
              <a:srgbClr val="ffff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-825840" y="325836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formáció minőség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05920" y="6019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dő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8120" y="38098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Zaj 1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42670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Zaj 2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49528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Zaj 3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1920" y="6248520"/>
            <a:ext cx="830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Symbol"/>
                <a:ea typeface="Symbol"/>
              </a:rPr>
              <a:t></a:t>
            </a: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Zaj = Zaj 1+ Zaj 2+ Zaj 3 + (Kód és Dekód közötti nem megfelelés mértéke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Primer csatorn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177336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A legegyszerűbb kommunikációs csatorna, ahol </a:t>
            </a: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az üzenet közvetítésében nem vesz részt egyetlen technikai eszköz sem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 (az üzenettovábbító közeg csupán a levegő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44720" y="4746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69800" y="4724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84360" y="4005360"/>
            <a:ext cx="7848360" cy="2016000"/>
            <a:chOff x="684360" y="4005360"/>
            <a:chExt cx="7848360" cy="2016000"/>
          </a:xfrm>
        </p:grpSpPr>
        <p:sp>
          <p:nvSpPr>
            <p:cNvPr id="164" name=""/>
            <p:cNvSpPr/>
            <p:nvPr/>
          </p:nvSpPr>
          <p:spPr>
            <a:xfrm>
              <a:off x="684360" y="4005360"/>
              <a:ext cx="7848360" cy="2016000"/>
            </a:xfrm>
            <a:prstGeom prst="rect">
              <a:avLst/>
            </a:prstGeom>
            <a:noFill/>
            <a:ln w="190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26920" y="4581360"/>
              <a:ext cx="863640" cy="86364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51640" y="4581360"/>
              <a:ext cx="863640" cy="86364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1828800" y="4800600"/>
              <a:ext cx="1029240" cy="459720"/>
              <a:chOff x="1828800" y="4800600"/>
              <a:chExt cx="1029240" cy="459720"/>
            </a:xfrm>
          </p:grpSpPr>
          <p:sp>
            <p:nvSpPr>
              <p:cNvPr id="168" name=""/>
              <p:cNvSpPr/>
              <p:nvPr/>
            </p:nvSpPr>
            <p:spPr>
              <a:xfrm>
                <a:off x="1828800" y="4813200"/>
                <a:ext cx="1008000" cy="432000"/>
              </a:xfrm>
              <a:prstGeom prst="rect">
                <a:avLst/>
              </a:prstGeom>
              <a:noFill/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829880" y="4800600"/>
                <a:ext cx="102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cc"/>
                    </a:solidFill>
                    <a:latin typeface="Times New Roman"/>
                  </a:rPr>
                  <a:t>Üzenet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3733920" y="4572000"/>
              <a:ext cx="1366560" cy="113976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33920" y="472428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cc"/>
                  </a:solidFill>
                  <a:latin typeface="Times New Roman"/>
                </a:rPr>
                <a:t>Csatorna: „levegő”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896920" y="4724280"/>
              <a:ext cx="814680" cy="770760"/>
              <a:chOff x="2896920" y="4724280"/>
              <a:chExt cx="814680" cy="77076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2896920" y="4724280"/>
                <a:ext cx="814680" cy="360360"/>
                <a:chOff x="2896920" y="4724280"/>
                <a:chExt cx="814680" cy="3603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2968560" y="5084640"/>
                  <a:ext cx="719280" cy="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896920" y="4724280"/>
                  <a:ext cx="8146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cc"/>
                      </a:solidFill>
                      <a:latin typeface="Times New Roman"/>
                    </a:rPr>
                    <a:t>kódolás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>
                <a:off x="2966760" y="5157720"/>
                <a:ext cx="74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cc"/>
                    </a:solidFill>
                    <a:latin typeface="Times New Roman"/>
                  </a:rPr>
                  <a:t>Zaj (1)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5181480" y="4724280"/>
              <a:ext cx="1081080" cy="697680"/>
              <a:chOff x="5181480" y="4724280"/>
              <a:chExt cx="1081080" cy="69768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5181480" y="4724280"/>
                <a:ext cx="1081080" cy="360360"/>
                <a:chOff x="5181480" y="4724280"/>
                <a:chExt cx="1081080" cy="3603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5181480" y="5084640"/>
                  <a:ext cx="1081080" cy="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182920" y="4724280"/>
                  <a:ext cx="10065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cc"/>
                      </a:solidFill>
                      <a:latin typeface="Times New Roman"/>
                    </a:rPr>
                    <a:t>dekódolás</a:t>
                  </a:r>
                  <a:endParaRPr b="0" lang="en-US" sz="1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" name=""/>
              <p:cNvSpPr/>
              <p:nvPr/>
            </p:nvSpPr>
            <p:spPr>
              <a:xfrm>
                <a:off x="5328360" y="5084640"/>
                <a:ext cx="736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cc"/>
                    </a:solidFill>
                    <a:latin typeface="Times New Roman"/>
                  </a:rPr>
                  <a:t>Zaj (2)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6400800" y="4876920"/>
              <a:ext cx="1029240" cy="459720"/>
              <a:chOff x="6400800" y="4876920"/>
              <a:chExt cx="1029240" cy="459720"/>
            </a:xfrm>
          </p:grpSpPr>
          <p:sp>
            <p:nvSpPr>
              <p:cNvPr id="183" name=""/>
              <p:cNvSpPr/>
              <p:nvPr/>
            </p:nvSpPr>
            <p:spPr>
              <a:xfrm>
                <a:off x="6400800" y="4889520"/>
                <a:ext cx="1008000" cy="432000"/>
              </a:xfrm>
              <a:prstGeom prst="rect">
                <a:avLst/>
              </a:prstGeom>
              <a:noFill/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401880" y="4876920"/>
                <a:ext cx="102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cc"/>
                    </a:solidFill>
                    <a:latin typeface="Times New Roman"/>
                  </a:rPr>
                  <a:t>Üzenet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Szekunder csatorn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8360" y="1557360"/>
            <a:ext cx="83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A primer csatornánál bonyolultabb kommunikációs csatorna: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a közlőnek vagy a befogadónak valamilyen technikai eszközre van szüksége ahhoz, hogy a kommunikációs interakció létrejöjjön.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A szekunder csatorna esetében a kommunikációs aktus résztvevői többnyire térben és időben is távol vannak egymástól (tipikus szekunder csatorna: újság, plakát)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4149720"/>
            <a:ext cx="8424720" cy="201600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4419720"/>
            <a:ext cx="2951280" cy="16570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43434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satorna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447920" y="4965840"/>
            <a:ext cx="1008000" cy="440280"/>
            <a:chOff x="1447920" y="4965840"/>
            <a:chExt cx="1008000" cy="440280"/>
          </a:xfrm>
        </p:grpSpPr>
        <p:sp>
          <p:nvSpPr>
            <p:cNvPr id="191" name=""/>
            <p:cNvSpPr/>
            <p:nvPr/>
          </p:nvSpPr>
          <p:spPr>
            <a:xfrm>
              <a:off x="1447920" y="4965840"/>
              <a:ext cx="1008000" cy="43200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49720" y="4977000"/>
              <a:ext cx="95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cc"/>
                  </a:solidFill>
                  <a:latin typeface="Times New Roman"/>
                </a:rPr>
                <a:t>Üzenet</a:t>
              </a:r>
              <a:endParaRPr b="0" lang="en-US" sz="2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2439720" y="4876920"/>
            <a:ext cx="814680" cy="770400"/>
            <a:chOff x="2439720" y="4876920"/>
            <a:chExt cx="814680" cy="770400"/>
          </a:xfrm>
        </p:grpSpPr>
        <p:grpSp>
          <p:nvGrpSpPr>
            <p:cNvPr id="194" name=""/>
            <p:cNvGrpSpPr/>
            <p:nvPr/>
          </p:nvGrpSpPr>
          <p:grpSpPr>
            <a:xfrm>
              <a:off x="2439720" y="4876920"/>
              <a:ext cx="814680" cy="360000"/>
              <a:chOff x="2439720" y="4876920"/>
              <a:chExt cx="814680" cy="360000"/>
            </a:xfrm>
          </p:grpSpPr>
          <p:sp>
            <p:nvSpPr>
              <p:cNvPr id="195" name=""/>
              <p:cNvSpPr/>
              <p:nvPr/>
            </p:nvSpPr>
            <p:spPr>
              <a:xfrm>
                <a:off x="2511360" y="5236920"/>
                <a:ext cx="71928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439720" y="4876920"/>
                <a:ext cx="814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cc"/>
                    </a:solidFill>
                    <a:latin typeface="Times New Roman"/>
                  </a:rPr>
                  <a:t>kódolá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2509560" y="531000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Times New Roman"/>
                </a:rPr>
                <a:t>Zaj (1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6172200" y="4876920"/>
            <a:ext cx="1008000" cy="697680"/>
            <a:chOff x="6172200" y="4876920"/>
            <a:chExt cx="1008000" cy="697680"/>
          </a:xfrm>
        </p:grpSpPr>
        <p:grpSp>
          <p:nvGrpSpPr>
            <p:cNvPr id="199" name=""/>
            <p:cNvGrpSpPr/>
            <p:nvPr/>
          </p:nvGrpSpPr>
          <p:grpSpPr>
            <a:xfrm>
              <a:off x="6172200" y="4876920"/>
              <a:ext cx="1008000" cy="360360"/>
              <a:chOff x="6172200" y="4876920"/>
              <a:chExt cx="1008000" cy="360360"/>
            </a:xfrm>
          </p:grpSpPr>
          <p:sp>
            <p:nvSpPr>
              <p:cNvPr id="200" name=""/>
              <p:cNvSpPr/>
              <p:nvPr/>
            </p:nvSpPr>
            <p:spPr>
              <a:xfrm>
                <a:off x="6172200" y="5237280"/>
                <a:ext cx="83844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173640" y="4876920"/>
                <a:ext cx="100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cc"/>
                    </a:solidFill>
                    <a:latin typeface="Times New Roman"/>
                  </a:rPr>
                  <a:t>dekódolá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6286680" y="5237280"/>
              <a:ext cx="73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Times New Roman"/>
                </a:rPr>
                <a:t>Zaj (2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41440" y="4726080"/>
            <a:ext cx="863640" cy="863640"/>
            <a:chOff x="541440" y="4726080"/>
            <a:chExt cx="863640" cy="863640"/>
          </a:xfrm>
        </p:grpSpPr>
        <p:sp>
          <p:nvSpPr>
            <p:cNvPr id="204" name=""/>
            <p:cNvSpPr/>
            <p:nvPr/>
          </p:nvSpPr>
          <p:spPr>
            <a:xfrm>
              <a:off x="541440" y="4726080"/>
              <a:ext cx="863640" cy="86364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8880" y="48913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cc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8001000" y="4724280"/>
            <a:ext cx="863640" cy="863640"/>
            <a:chOff x="8001000" y="4724280"/>
            <a:chExt cx="863640" cy="863640"/>
          </a:xfrm>
        </p:grpSpPr>
        <p:sp>
          <p:nvSpPr>
            <p:cNvPr id="207" name=""/>
            <p:cNvSpPr/>
            <p:nvPr/>
          </p:nvSpPr>
          <p:spPr>
            <a:xfrm>
              <a:off x="8001000" y="4724280"/>
              <a:ext cx="863640" cy="86364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219160" y="48672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3276720" y="4876920"/>
            <a:ext cx="1091160" cy="936360"/>
            <a:chOff x="3276720" y="4876920"/>
            <a:chExt cx="1091160" cy="936360"/>
          </a:xfrm>
        </p:grpSpPr>
        <p:sp>
          <p:nvSpPr>
            <p:cNvPr id="210" name=""/>
            <p:cNvSpPr/>
            <p:nvPr/>
          </p:nvSpPr>
          <p:spPr>
            <a:xfrm>
              <a:off x="3276720" y="4876920"/>
              <a:ext cx="1079280" cy="93636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283560" y="5021280"/>
              <a:ext cx="108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cc"/>
                  </a:solidFill>
                  <a:latin typeface="Times New Roman"/>
                </a:rPr>
                <a:t>Technikai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cc"/>
                  </a:solidFill>
                  <a:latin typeface="Times New Roman"/>
                </a:rPr>
                <a:t>eszköz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029200" y="5029200"/>
            <a:ext cx="1158480" cy="431640"/>
            <a:chOff x="5029200" y="5029200"/>
            <a:chExt cx="1158480" cy="431640"/>
          </a:xfrm>
        </p:grpSpPr>
        <p:sp>
          <p:nvSpPr>
            <p:cNvPr id="213" name=""/>
            <p:cNvSpPr/>
            <p:nvPr/>
          </p:nvSpPr>
          <p:spPr>
            <a:xfrm>
              <a:off x="5051880" y="5029200"/>
              <a:ext cx="1048680" cy="43164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29200" y="5049720"/>
              <a:ext cx="11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cc"/>
                  </a:solidFill>
                  <a:latin typeface="Times New Roman"/>
                </a:rPr>
                <a:t>„</a:t>
              </a:r>
              <a:r>
                <a:rPr b="0" i="1" lang="en-US" sz="1800" spc="-1" strike="noStrike">
                  <a:solidFill>
                    <a:srgbClr val="ffffcc"/>
                  </a:solidFill>
                  <a:latin typeface="Times New Roman"/>
                </a:rPr>
                <a:t>levegő”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343400" y="5257800"/>
            <a:ext cx="744480" cy="411840"/>
            <a:chOff x="4343400" y="5257800"/>
            <a:chExt cx="744480" cy="411840"/>
          </a:xfrm>
        </p:grpSpPr>
        <p:sp>
          <p:nvSpPr>
            <p:cNvPr id="216" name=""/>
            <p:cNvSpPr/>
            <p:nvPr/>
          </p:nvSpPr>
          <p:spPr>
            <a:xfrm>
              <a:off x="4416480" y="5257800"/>
              <a:ext cx="57636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343400" y="533232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Times New Roman"/>
                </a:rPr>
                <a:t>Zaj (3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7086600" y="4952880"/>
            <a:ext cx="956880" cy="440280"/>
            <a:chOff x="7086600" y="4952880"/>
            <a:chExt cx="956880" cy="440280"/>
          </a:xfrm>
        </p:grpSpPr>
        <p:sp>
          <p:nvSpPr>
            <p:cNvPr id="219" name=""/>
            <p:cNvSpPr/>
            <p:nvPr/>
          </p:nvSpPr>
          <p:spPr>
            <a:xfrm>
              <a:off x="7086600" y="4952880"/>
              <a:ext cx="913680" cy="43200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88400" y="4964040"/>
              <a:ext cx="95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ffffcc"/>
                  </a:solidFill>
                  <a:latin typeface="Times New Roman"/>
                </a:rPr>
                <a:t>Üzenet</a:t>
              </a:r>
              <a:endParaRPr b="0" lang="en-US" sz="2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Tercier csatorn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4360" y="1844640"/>
            <a:ext cx="7920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A legbonyolultabb kommunikációs csatorna: </a:t>
            </a: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mind a közlő, mind a befogadó technikai eszközt vesz igénybe az üzenet továbbításához, illetve fogadásához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(tipikus tercier csatorna: televízió, rádió)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26920" y="4508640"/>
            <a:ext cx="777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4495680"/>
            <a:ext cx="777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8360" y="4149720"/>
            <a:ext cx="8353440" cy="2016000"/>
          </a:xfrm>
          <a:prstGeom prst="rect">
            <a:avLst/>
          </a:prstGeom>
          <a:noFill/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124080" y="4419720"/>
            <a:ext cx="3022560" cy="16570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038480" y="43434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satorna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295280" y="4952880"/>
            <a:ext cx="1008000" cy="435600"/>
            <a:chOff x="1295280" y="4952880"/>
            <a:chExt cx="1008000" cy="435600"/>
          </a:xfrm>
        </p:grpSpPr>
        <p:sp>
          <p:nvSpPr>
            <p:cNvPr id="229" name=""/>
            <p:cNvSpPr/>
            <p:nvPr/>
          </p:nvSpPr>
          <p:spPr>
            <a:xfrm>
              <a:off x="1295280" y="4952880"/>
              <a:ext cx="1008000" cy="43200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95640" y="4989600"/>
              <a:ext cx="8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cc"/>
                  </a:solidFill>
                  <a:latin typeface="Times New Roman"/>
                </a:rPr>
                <a:t>Üzenet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2287440" y="4876920"/>
            <a:ext cx="814680" cy="770400"/>
            <a:chOff x="2287440" y="4876920"/>
            <a:chExt cx="814680" cy="770400"/>
          </a:xfrm>
        </p:grpSpPr>
        <p:grpSp>
          <p:nvGrpSpPr>
            <p:cNvPr id="232" name=""/>
            <p:cNvGrpSpPr/>
            <p:nvPr/>
          </p:nvGrpSpPr>
          <p:grpSpPr>
            <a:xfrm>
              <a:off x="2287440" y="4876920"/>
              <a:ext cx="814680" cy="360000"/>
              <a:chOff x="2287440" y="4876920"/>
              <a:chExt cx="814680" cy="360000"/>
            </a:xfrm>
          </p:grpSpPr>
          <p:sp>
            <p:nvSpPr>
              <p:cNvPr id="233" name=""/>
              <p:cNvSpPr/>
              <p:nvPr/>
            </p:nvSpPr>
            <p:spPr>
              <a:xfrm>
                <a:off x="2359080" y="5236920"/>
                <a:ext cx="71928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87440" y="4876920"/>
                <a:ext cx="814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cc"/>
                    </a:solidFill>
                    <a:latin typeface="Times New Roman"/>
                  </a:rPr>
                  <a:t>kódolá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2357280" y="531000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Times New Roman"/>
                </a:rPr>
                <a:t>Zaj (1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6173640" y="4876920"/>
            <a:ext cx="1006560" cy="697680"/>
            <a:chOff x="6173640" y="4876920"/>
            <a:chExt cx="1006560" cy="697680"/>
          </a:xfrm>
        </p:grpSpPr>
        <p:sp>
          <p:nvSpPr>
            <p:cNvPr id="237" name=""/>
            <p:cNvSpPr/>
            <p:nvPr/>
          </p:nvSpPr>
          <p:spPr>
            <a:xfrm>
              <a:off x="6173640" y="48769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Times New Roman"/>
                </a:rPr>
                <a:t>dekódolá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6222600" y="5237280"/>
              <a:ext cx="788400" cy="337320"/>
              <a:chOff x="6222600" y="5237280"/>
              <a:chExt cx="788400" cy="337320"/>
            </a:xfrm>
          </p:grpSpPr>
          <p:sp>
            <p:nvSpPr>
              <p:cNvPr id="239" name=""/>
              <p:cNvSpPr/>
              <p:nvPr/>
            </p:nvSpPr>
            <p:spPr>
              <a:xfrm>
                <a:off x="6222600" y="5237280"/>
                <a:ext cx="645840" cy="18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74080" y="5237280"/>
                <a:ext cx="736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cc"/>
                    </a:solidFill>
                    <a:latin typeface="Times New Roman"/>
                  </a:rPr>
                  <a:t>Zaj (2)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533520" y="4800600"/>
            <a:ext cx="677880" cy="684360"/>
            <a:chOff x="533520" y="4800600"/>
            <a:chExt cx="677880" cy="684360"/>
          </a:xfrm>
        </p:grpSpPr>
        <p:sp>
          <p:nvSpPr>
            <p:cNvPr id="242" name=""/>
            <p:cNvSpPr/>
            <p:nvPr/>
          </p:nvSpPr>
          <p:spPr>
            <a:xfrm>
              <a:off x="533520" y="4800600"/>
              <a:ext cx="677880" cy="68436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4880" y="49298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cc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001000" y="4726080"/>
            <a:ext cx="747720" cy="760320"/>
            <a:chOff x="8001000" y="4726080"/>
            <a:chExt cx="747720" cy="760320"/>
          </a:xfrm>
        </p:grpSpPr>
        <p:sp>
          <p:nvSpPr>
            <p:cNvPr id="245" name=""/>
            <p:cNvSpPr/>
            <p:nvPr/>
          </p:nvSpPr>
          <p:spPr>
            <a:xfrm>
              <a:off x="8001000" y="4726080"/>
              <a:ext cx="747720" cy="760320"/>
            </a:xfrm>
            <a:prstGeom prst="ellipse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190360" y="485172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200400" y="4876920"/>
            <a:ext cx="1091160" cy="936360"/>
            <a:chOff x="3200400" y="4876920"/>
            <a:chExt cx="1091160" cy="936360"/>
          </a:xfrm>
        </p:grpSpPr>
        <p:sp>
          <p:nvSpPr>
            <p:cNvPr id="248" name=""/>
            <p:cNvSpPr/>
            <p:nvPr/>
          </p:nvSpPr>
          <p:spPr>
            <a:xfrm>
              <a:off x="3200400" y="4876920"/>
              <a:ext cx="1079280" cy="93636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207240" y="5021280"/>
              <a:ext cx="108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cc"/>
                  </a:solidFill>
                  <a:latin typeface="Times New Roman"/>
                </a:rPr>
                <a:t>Technikai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cc"/>
                  </a:solidFill>
                  <a:latin typeface="Times New Roman"/>
                </a:rPr>
                <a:t>eszköz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4267080" y="5257800"/>
            <a:ext cx="744480" cy="411840"/>
            <a:chOff x="4267080" y="5257800"/>
            <a:chExt cx="744480" cy="411840"/>
          </a:xfrm>
        </p:grpSpPr>
        <p:sp>
          <p:nvSpPr>
            <p:cNvPr id="251" name=""/>
            <p:cNvSpPr/>
            <p:nvPr/>
          </p:nvSpPr>
          <p:spPr>
            <a:xfrm>
              <a:off x="4340160" y="5257800"/>
              <a:ext cx="57636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267080" y="533232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Times New Roman"/>
                </a:rPr>
                <a:t>Zaj (3)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4952880" y="4876920"/>
            <a:ext cx="1091160" cy="936360"/>
            <a:chOff x="4952880" y="4876920"/>
            <a:chExt cx="1091160" cy="936360"/>
          </a:xfrm>
        </p:grpSpPr>
        <p:sp>
          <p:nvSpPr>
            <p:cNvPr id="254" name=""/>
            <p:cNvSpPr/>
            <p:nvPr/>
          </p:nvSpPr>
          <p:spPr>
            <a:xfrm>
              <a:off x="4952880" y="4876920"/>
              <a:ext cx="1079280" cy="93636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959720" y="5021280"/>
              <a:ext cx="108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cc"/>
                  </a:solidFill>
                  <a:latin typeface="Times New Roman"/>
                </a:rPr>
                <a:t>Technikai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cc"/>
                  </a:solidFill>
                  <a:latin typeface="Times New Roman"/>
                </a:rPr>
                <a:t>eszköz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7086600" y="4952880"/>
            <a:ext cx="888120" cy="435600"/>
            <a:chOff x="7086600" y="4952880"/>
            <a:chExt cx="888120" cy="435600"/>
          </a:xfrm>
        </p:grpSpPr>
        <p:sp>
          <p:nvSpPr>
            <p:cNvPr id="257" name=""/>
            <p:cNvSpPr/>
            <p:nvPr/>
          </p:nvSpPr>
          <p:spPr>
            <a:xfrm>
              <a:off x="7086600" y="4952880"/>
              <a:ext cx="838800" cy="43200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86960" y="4989600"/>
              <a:ext cx="8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cc"/>
                  </a:solidFill>
                  <a:latin typeface="Times New Roman"/>
                </a:rPr>
                <a:t>Üzenet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09480" y="2286000"/>
            <a:ext cx="79250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i="1" lang="hu-H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ommunikációban részt vevő személyek száma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szerint intraperszonális, interperszonális, csoport- és tömegkommunikációt; 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Intraperszonális kommunikáció:  (belső monológ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 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az adó, a közlő konkrét személy,  a vevő, a címzett fiktív lény, információcser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, a tudattartalmak cseréj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 n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incs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. A csatorna rövidre van zárva, 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visszacsatolás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 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n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inc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N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  <a:ea typeface="Arial Unicode MS"/>
              </a:rPr>
              <a:t>em tartják kommunikációs folyamatnak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 a szakemberek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Kommunikáció osztályozása I.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Küldő-Befogadó szerint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6T08:43:27Z</dcterms:created>
  <dc:creator>x</dc:creator>
  <dc:description/>
  <dc:language>en-US</dc:language>
  <cp:lastModifiedBy>x</cp:lastModifiedBy>
  <dcterms:modified xsi:type="dcterms:W3CDTF">2003-11-18T09:42:43Z</dcterms:modified>
  <cp:revision>20</cp:revision>
  <dc:subject/>
  <dc:title>Bürotika  1. előadás</dc:title>
</cp:coreProperties>
</file>