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5A8A-6348-41B8-8DEE-2303B4B1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AC7-22FC-448C-94F9-1040D999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20CD-3F9F-4F09-81F3-99CB831B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5AC1-B2AB-442E-802B-26AE7716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192A-9754-4D3E-AC0E-79BE60A1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1666-31F6-45EE-9142-D7624C8B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172B-064C-4A67-8821-B70F5F2D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0BB3-02AA-49EB-82D0-2BBCA0B3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8D0E-2B83-49FF-B129-D8320391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E08B-6F4C-422B-944D-AD2964A9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DAEF-ACC6-4D92-9E83-1FC1FB28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3150-F20E-49A4-8499-26C00212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1393-8463-4753-8240-8DDBAC33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2908-25F7-48C7-B8F0-1BDFA654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C6EB-0ACD-4609-B6A0-056EADE3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38E3-E5D1-439D-993C-DB06775B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FAEA-A0B0-4946-8E71-6AA53F22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C804-2182-41CC-8234-3EA05F2F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1EB-715F-4938-960C-7105463A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054-D873-44A2-A7A7-60C79FBD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80F-93F9-4A6C-A99C-81CA5597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219-4A29-42E8-9FD4-D5EC1BA1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75F-A5EB-44D8-B478-4F9571C8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698-083F-452F-A067-3120E070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cc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AFBC-700B-4335-8592-44D3660C7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cc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040E-26EF-445E-941A-F55BA71CE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99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cc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Üzleti kommunikáció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90512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állalat bármely tevékenysége a kommunikáció közvetítésével valósul m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eri lények közti alapvető kölcsönhatási folyam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élja: változás végrehajtása, egy cselekvés befolyásolá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selekvések kenőanyag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atartás /érzelmek /viselkedés /vélemény befolyásolá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egváltoztatá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kommunikáció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 legfőb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zkö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nek elérésé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asztalzoldkornyezetben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82880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 CE"/>
              </a:rPr>
              <a:t>A vállalati kommunikáció célcsoportjai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olgozó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ulajdonos(ok), befektető(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ügyfel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é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ormányz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zakmai-társadalmi szervezet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iaci szereplők (versenytársak, partnere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Hogyan kommunikáljunk a dolgozókkal?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828800"/>
            <a:ext cx="86104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zető-beosztott személyes kapcsol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ezetőnek kell kezdeményezni a kommunikációt, dinamikusnak kell lenn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öbbieket tájékoztatni kell , konzultálni kell velük a munka/feladat hatékony elvégzése érdeké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g kell hallgatnia a beosztottjait. Meghallgatni és pontosan megérteni éppoly fontos, mint beszélni és megértetni magá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 kell fejteni az emberek szándékát, indítékait, hogy mit miért mondta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ett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Kommunikáció a dolgozókk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73120"/>
            <a:ext cx="777240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vállalati újsá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özlemény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ndezvény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ranet st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embercsoport" descr=""/>
          <p:cNvPicPr/>
          <p:nvPr/>
        </p:nvPicPr>
        <p:blipFill>
          <a:blip r:embed="rId1"/>
          <a:stretch/>
        </p:blipFill>
        <p:spPr>
          <a:xfrm>
            <a:off x="5602320" y="2286000"/>
            <a:ext cx="2585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 CE"/>
              </a:rPr>
              <a:t>Kommunikáció a tulajdonosokkal, befektetőkke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373120"/>
            <a:ext cx="777240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 CE"/>
              </a:rPr>
              <a:t>negyedéves jelentés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 CE"/>
              </a:rPr>
              <a:t>éves jelentés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 CE"/>
              </a:rPr>
              <a:t>közgyűl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Times New Roman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 CE"/>
              </a:rPr>
              <a:t>befektetői közlemények st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 CE"/>
              </a:rPr>
              <a:t>Kommunikáció az ügyfelekke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klám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vásárlásösztönzé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ügyfélkapcsolati kommunikáci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zemélyes eladá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webkommunikáci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rculat st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Kommunikáció a médiáv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529000"/>
            <a:ext cx="77724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jtótájékoztatók, háttérbeszélgetés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jtóközlemény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júk st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967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 CE"/>
              </a:rPr>
              <a:t>A vállalati kommunikáció tipikus belső területei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lkotó techniká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Értekezlet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zentáció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nokiaTARGYalo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8102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75880" y="609480"/>
            <a:ext cx="7513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Alkotó technikák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1905120"/>
            <a:ext cx="6705720" cy="33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rain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rdított brainsto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lphi mó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635 mó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86736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Értekezletek, konferenciák lebonyolítása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209680"/>
            <a:ext cx="6705360" cy="33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őzetes tervez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övetelmények az értekezlettel szem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bonyol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jelentkezés találkozó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ítő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gyzőkönyvek, emlékeztetők, level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rtéke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68677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Előzetes tervezé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447920"/>
            <a:ext cx="670572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zdés és befeje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résztvevők szá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remigé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dőbeoszt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llásigé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tkezés (reggeli, ebéd, vacsora, svédasztal, büfé, banke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ülönleges berendezések (írásvetítő, diavetítő, video-kivetítő, LCD kivetítő, episzkóp, hangosítás, tolmácskészülék, magnetofon, flipchart, filmvetítő, tv- és videokészülék, személyi számítógép, tábla, stb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résztvevők adat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hacker1" descr=""/>
          <p:cNvPicPr/>
          <p:nvPr/>
        </p:nvPicPr>
        <p:blipFill>
          <a:blip r:embed="rId1"/>
          <a:stretch/>
        </p:blipFill>
        <p:spPr>
          <a:xfrm>
            <a:off x="6248520" y="685800"/>
            <a:ext cx="2286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Bürotika 2. előadá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Üzleti kommunikáció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-425880"/>
            <a:ext cx="671508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Az értekezlet célja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előre meg kell határozni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133720"/>
            <a:ext cx="670572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émafeltárás, meghallga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émamegoldás, ötletgyűj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öntés-előkészí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ö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ációszerzés, informá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á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671400"/>
            <a:ext cx="686736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Az értekezlet menet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2057400"/>
            <a:ext cx="6705720" cy="40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él, napir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készü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á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szerezés, levez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sszegz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gyzőköny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szacsatolás, emlékezt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671400"/>
            <a:ext cx="68677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A hallgatóság figyelmének fenntartása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1905120"/>
            <a:ext cx="670572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ktassunk be szüne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lezzük előre a szüne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vékenység, aktivizál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edjünk be levegő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orikai kérdé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övid mondat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apjunk zaj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emkontak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alvó (szomszédja) felszól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671400"/>
            <a:ext cx="68677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Kérdések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1752480"/>
            <a:ext cx="6705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kré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állít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ntosít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yomatékosító, felszólít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ételked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orik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általá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zemélyhez intéze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özbekérde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szakérde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rezentáció készítés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219320"/>
            <a:ext cx="853452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vezető – témák – összegzés (ill. ezek ismétlése a témákon belü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ználjuk ki a vizuális hatás fontosságát, hiszen 1 kép felér 1000 szó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-hoz adjunk ki emlékeztetőket a hallgatóságnak (előadás vázlata, ábra/kép másol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métlés mindig legyen a mondandónkb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glényegesebb dolgot hagyjuk a végé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vezzünk 20-40 perc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allgatóságot biztassuk, hogy tegyenek fel kérdéseket (szóban vagy írásban) (esetleg beépített emberekk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mételjük meg a kérdést a hallhatóság mia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érdőív-visszacsatol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Informális kommunikáció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676520"/>
            <a:ext cx="8686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tos: szemkontak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felelő „póz” felvét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felelő távolság felvétel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felelő gesztusok használ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észetes viselked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ugodt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abiztos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Szekekfejlodesekeats1" descr=""/>
          <p:cNvPicPr/>
          <p:nvPr/>
        </p:nvPicPr>
        <p:blipFill>
          <a:blip r:embed="rId1"/>
          <a:stretch/>
        </p:blipFill>
        <p:spPr>
          <a:xfrm>
            <a:off x="5181480" y="3733920"/>
            <a:ext cx="3524400" cy="2571480"/>
          </a:xfrm>
          <a:prstGeom prst="rect">
            <a:avLst/>
          </a:prstGeom>
          <a:ln w="0">
            <a:noFill/>
          </a:ln>
        </p:spPr>
      </p:pic>
      <p:pic>
        <p:nvPicPr>
          <p:cNvPr id="178" name="SCL_0155" descr=""/>
          <p:cNvPicPr/>
          <p:nvPr/>
        </p:nvPicPr>
        <p:blipFill>
          <a:blip r:embed="rId2"/>
          <a:stretch/>
        </p:blipFill>
        <p:spPr>
          <a:xfrm>
            <a:off x="5562720" y="1676520"/>
            <a:ext cx="29257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A vezetés és a kommunikáció viszonya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8040" y="2881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1614600" cy="1629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37000" y="29574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365760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Egy vezetőnek miért fontos kommunikatívnak lenni?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209680"/>
            <a:ext cx="8382240" cy="44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t meg kell értetnie magát azokkal, akikkel kapcsolatba kerül. E nélkül nem lenne megfelelő hatékonyságú a munkája. Ezért a hibás kommunikáció minden más hiányosságnál jobban érinti a vezetői eredményessé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zetőnek közölnie kell a többiekkel mindent, amit szükséges ismerniük, gondolniuk, vagy cselekedniük az együttműködés során. De kölcsönösen meg kell ismernie a többiek gondolatmeneteit is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őnké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vezetőne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ll elindítania a folyamat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lébe menni a kom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kációna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68673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A vezetés célja a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kommunikációv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1828800"/>
            <a:ext cx="670572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ációszerz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é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yam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as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ájékozta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ál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IM005579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36705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9480" y="2133720"/>
            <a:ext cx="76964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 CE"/>
              </a:rPr>
              <a:t>A vállalati kommunikáció mindig egységes legy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 CE"/>
              </a:rPr>
              <a:t>Ez csak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 CE"/>
              </a:rPr>
              <a:t>integrált kommunikáci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 CE"/>
              </a:rPr>
              <a:t>val valósítható meg (mind tartalmi, mind szervezeti értelembe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1752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Hogyan készítsünk kommunikációs tervet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22510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rtalmi elemek (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2852640"/>
            <a:ext cx="6553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3366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z alaphelyzet leírása (a kommunikációs probléma megfogalmazá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3366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célcsoportok meghatároz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3366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kommunikációs célok és az alapelvek meghatároz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1752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Hogyan készítsünk kommunikációs tervet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9162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rtalmi elemek (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2492280"/>
            <a:ext cx="60483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008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z üzenetek (elsődleges, másodlagos stb.) megfogalmaz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kommunikációs eszközök (pl. médiamegjelenések, webkommunikáció, hirdetések, közvetlen elérés stb.) meghatározása célcsoportonké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3008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z erőforrásigény és a várható költségek meghatároz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33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Szabályok és javaslatok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752480"/>
            <a:ext cx="861048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őször tisztázd magadban, amit mondani fogsz vagy tenni akarsz. Ne beszélj és ne cselekedj a pillanat hatására vagy a gondolatot, tisztánlátást és tettet megzavaró erős érzelmek hatásár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merni kell a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efogadót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így tudni fogjuk, hogyan kell hozzájuk szólni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embereket jobban foglalkoztatja a jelen, mint a jövő.  Azonnali nyereség orientáltak az ember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it akarunk mond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érdeklődés felkel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egfelelő megértés elősegítése (megfelelő és minőségű információ, megfelelő megfogalmazá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smétlés, ha szüksé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visszacsatolás (megfelelő kérdésekk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végrehajt(at)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10:29:45Z</dcterms:created>
  <dc:creator>x</dc:creator>
  <dc:description/>
  <dc:language>en-US</dc:language>
  <cp:lastModifiedBy>x</cp:lastModifiedBy>
  <dcterms:modified xsi:type="dcterms:W3CDTF">2003-11-18T10:47:25Z</dcterms:modified>
  <cp:revision>11</cp:revision>
  <dc:subject/>
  <dc:title>PowerPoint bemutató</dc:title>
</cp:coreProperties>
</file>