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392-EB82-42A0-AE10-99694523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980-9F3A-4339-AEDD-1925B876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CD6-EB81-410D-B731-1A908AAC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8DD-9BFB-4772-B8B0-03BB5079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035E-2D10-4217-AD32-D8B4568E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CEB3-0308-4484-BFB9-A861680B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DECC-946B-4330-99E1-8D49C33B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FA62-F2CD-47BB-9FC3-FB9C55C1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F210-7A47-43E7-90C0-BE7C6A6B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65EE-80D2-4742-943D-749C9511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7C76-5FD9-4B20-9C8A-173C7411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BA7-301E-4211-A416-7FA6F0C8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7155-9C21-495F-B314-BF61ED8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ACD3-B03B-41DD-BDEA-CEDF979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1A9B-E246-4FE3-90D3-6D16DEE5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BB83-5336-4562-8D67-3F2F136C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D54E-1EF0-463D-BAB2-68B9565E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760-0DFD-49D4-B644-EF08C420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340-A9EF-4E60-A797-FF50B730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DDC-6C9F-486E-B076-6F840623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90D-0535-4F46-BA98-8C62CB70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DF4-3A41-40C2-B685-565829C4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67F-D180-4052-A708-B0292D62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7EA-4B37-46F8-AE0D-EDCD463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E0A6-08FD-4C50-85CB-EF0C03A5A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6088-2164-4291-9756-127A15663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Üzleti kommunikáció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állalat bármely tevékenysége a kommunikáció közvetítésével valósul m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ri lények közti alapvető kölcsönhatási folyam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ja: változás végrehajtása, egy cselekvés befolyásolá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selekvések kenőanya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atartás /érzelmek /viselkedés /vélemény befolyásolá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egváltoztatá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kommunikáció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 legfőb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zkö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nek elérésé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sztalzoldkornyezetben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288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 CE"/>
              </a:rPr>
              <a:t>A vállalati kommunikáció célcsoportjai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olgoz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ulajdonos(ok), befektető(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ügyfel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ormányz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zakmai-társadalmi szerveze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iaci szereplők (versenytársak, partnere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Hogyan kommunikáljunk a dolgozókkal?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828800"/>
            <a:ext cx="8610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zető-beosztott személyes kapcsol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zetőnek kell kezdeményezni a kommunikációt, dinamikusnak kell len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öbbieket tájékoztatni kell , konzultálni kell velük a munka/feladat hatékony elvégzése érdeké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g kell hallgatnia a beosztottjait. Meghallgatni és pontosan megérteni éppoly fontos, mint beszélni és megértetni magá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 kell fejteni az emberek szándékát, indítékait, hogy mit miért mondt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ett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Kommunikáció a dolgozókk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73120"/>
            <a:ext cx="77724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állalati újsá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özlemény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ndezvény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ranet s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embercsoport" descr=""/>
          <p:cNvPicPr/>
          <p:nvPr/>
        </p:nvPicPr>
        <p:blipFill>
          <a:blip r:embed="rId1"/>
          <a:stretch/>
        </p:blipFill>
        <p:spPr>
          <a:xfrm>
            <a:off x="5602320" y="2286000"/>
            <a:ext cx="2585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 CE"/>
              </a:rPr>
              <a:t>Kommunikáció a tulajdonosokkal, befektetőkke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373120"/>
            <a:ext cx="77724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</a:rPr>
              <a:t>negyedéves jelentés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</a:rPr>
              <a:t>éves jelentés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</a:rPr>
              <a:t>közgyűl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</a:rPr>
              <a:t>befektetői közlemények s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 CE"/>
              </a:rPr>
              <a:t>Kommunikáció az ügyfelekke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klám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ásárlásösztönz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ügyfélkapcsolati kommunikác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zemélyes elad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ebkommunikác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rculat s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Kommunikáció a médiáv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529000"/>
            <a:ext cx="77724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jtótájékoztatók, háttérbeszélgetés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jtóközlemény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júk s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 CE"/>
              </a:rPr>
              <a:t>A vállalati kommunikáció tipikus belső területei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kotó techniká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Értekezle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zentáci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nokiaTARGYalo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8102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5880" y="609480"/>
            <a:ext cx="7513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lkotó technikák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905120"/>
            <a:ext cx="670572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rain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dított brainsto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lphi mó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635 mó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867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Értekezletek, konferenciák lebonyolítás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209680"/>
            <a:ext cx="67053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őzetes terv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vetelmények az értekezlettel szem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bonyol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jelentkezés találkozó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ítő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gyzőkönyvek, emlékeztetők, leve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68677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lőzetes tervezé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447920"/>
            <a:ext cx="670572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zdés és befeje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észtvevők szá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emigé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dőbeosz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llásigé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tkezés (reggeli, ebéd, vacsora, svédasztal, büfé, banke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leges berendezések (írásvetítő, diavetítő, video-kivetítő, LCD kivetítő, episzkóp, hangosítás, tolmácskészülék, magnetofon, flipchart, filmvetítő, tv- és videokészülék, személyi számítógép, tábla, st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észtvevők adat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hacker1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ürotika 2. előadá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Üzleti kommunikáci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-425880"/>
            <a:ext cx="671508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z értekezlet célja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lőre meg kell határozni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133720"/>
            <a:ext cx="670572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émafeltárás, meghallg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émamegoldás, ötletgyűj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öntés-előkészí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ö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ciószerzés, inform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671400"/>
            <a:ext cx="6867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z értekezlet menet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057400"/>
            <a:ext cx="670572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él, napir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készü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szerezés, leve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sszeg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gyzőköny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szacsatolás, emlékezt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671400"/>
            <a:ext cx="68677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 hallgatóság figyelmének fenntartás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905120"/>
            <a:ext cx="670572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ktassunk be szüne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lezzük előre a szüne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vékenység, aktivizá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edjünk be levegő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orikai kérd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övid mond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apjunk zaj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mkontak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alvó (szomszédja) felszól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671400"/>
            <a:ext cx="68677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Kérdések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1752480"/>
            <a:ext cx="670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kré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llí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tosí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omatékosító, felszólí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ételked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orik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ltalá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mélyhez intéz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özbekérde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szakérde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rezentáció készítés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219320"/>
            <a:ext cx="853452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zető – témák – összegzés (ill. ezek ismétlése a témákon belü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ználjuk ki a vizuális hatás fontosságát, hiszen 1 kép felér 1000 szó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-hoz adjunk ki emlékeztetőket a hallgatóságnak (előadás vázlata, ábra/kép másol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étlés mindig legyen a mondandónk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glényegesebb dolgot hagyjuk a végé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vezzünk 20-40 perc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allgatóságot biztassuk, hogy tegyenek fel kérdéseket (szóban vagy írásban) (esetleg beépített emberekk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ételjük meg a kérdést a hallhatóság mi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rdőív-visszacsato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nformális kommunikáció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os: szemkontak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felelő „póz” felvét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felelő távolság felvétel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felelő gesztusok haszná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észetes viselke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ugodt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abiztos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Szekekfejlodesekeats1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3524400" cy="2571480"/>
          </a:xfrm>
          <a:prstGeom prst="rect">
            <a:avLst/>
          </a:prstGeom>
          <a:ln w="0">
            <a:noFill/>
          </a:ln>
        </p:spPr>
      </p:pic>
      <p:pic>
        <p:nvPicPr>
          <p:cNvPr id="178" name="SCL_0155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29257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 vezetés és a kommunikáció viszony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8040" y="2881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1614600" cy="1629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37000" y="2957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65760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gy vezetőnek miért fontos kommunikatívnak lenni?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209680"/>
            <a:ext cx="838224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 meg kell értetnie magát azokkal, akikkel kapcsolatba kerül. E nélkül nem lenne megfelelő hatékonyságú a munkája. Ezért a hibás kommunikáció minden más hiányosságnál jobban érinti a vezetői eredményessé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zetőnek közölnie kell a többiekkel mindent, amit szükséges ismerniük, gondolniuk, vagy cselekedniük az együttműködés során. De kölcsönösen meg kell ismernie a többiek gondolatmeneteit is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őnké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vezetőne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ll elindítania a folyamat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ébe menni a ko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káción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6867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 vezetés célja a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kommunikációv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1828800"/>
            <a:ext cx="670572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ciószer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é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yam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jékozt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IM005579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670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133720"/>
            <a:ext cx="7696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 CE"/>
              </a:rPr>
              <a:t>A vállalati kommunikáció mindig egységes legy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 CE"/>
              </a:rPr>
              <a:t>Ez csa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</a:rPr>
              <a:t>integrált kommunikáci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 CE"/>
              </a:rPr>
              <a:t>val valósítható meg (mind tartalmi, mind szervezeti értelembe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1752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Hogyan készítsünk kommunikációs tervet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251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rtalmi elemek (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2852640"/>
            <a:ext cx="6553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3366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 alaphelyzet leírása (a kommunikációs probléma megfogalmazá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3366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célcsoportok meghatár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3366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kommunikációs célok és az alapelvek meghatár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1752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Hogyan készítsünk kommunikációs tervet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9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rtalmi elemek (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2492280"/>
            <a:ext cx="6048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 üzenetek (elsődleges, másodlagos stb.) megfogalma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kommunikációs eszközök (pl. médiamegjelenések, webkommunikáció, hirdetések, közvetlen elérés stb.) meghatározása célcsoporton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 erőforrásigény és a várható költségek meghatár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Szabályok és javaslatok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752480"/>
            <a:ext cx="86104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őször tisztázd magadban, amit mondani fogsz vagy tenni akarsz. Ne beszélj és ne cselekedj a pillanat hatására vagy a gondolatot, tisztánlátást és tettet megzavaró erős érzelmek hatásár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erni kell a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efogadó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így tudni fogjuk, hogyan kell hozzájuk szóln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mbereket jobban foglalkoztatja a jelen, mint a jövő.  Azonnali nyereség orientáltak az ember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it akarunk mond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deklődés felkel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egfelelő megértés elősegítése (megfelelő és minőségű információ, megfelelő megfogalmaz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smétlés, ha szüksé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isszacsatolás (megfelelő kérdésekk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égrehajt(at)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10:29:45Z</dcterms:created>
  <dc:creator>x</dc:creator>
  <dc:description/>
  <dc:language>en-US</dc:language>
  <cp:lastModifiedBy>x</cp:lastModifiedBy>
  <dcterms:modified xsi:type="dcterms:W3CDTF">2003-11-18T10:47:25Z</dcterms:modified>
  <cp:revision>11</cp:revision>
  <dc:subject/>
  <dc:title>PowerPoint bemutató</dc:title>
</cp:coreProperties>
</file>