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AA0-E47A-40A0-9EA0-847631B1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0A0-D8EB-4D41-9FEC-1D69CE85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AC6-EDAA-4B01-8853-A2AFE079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610-8AEC-48D0-9B0B-4F481D7D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89B96-BCE7-495B-A541-3944090E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FC18A-A2E4-4CAB-8126-F76CDAD9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04A27-ED31-454F-8459-A2B07812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6A06B-B966-49D5-8D68-C89BA264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192B0-D2E7-4740-9689-4E70BF34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1A08E-F948-4B45-95AA-EB8F623F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6D730-0DEE-4B37-A406-840C6313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23B-7D74-4CB1-B1D8-E5FA0480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F7A35-70E5-48E0-B638-107FE51D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FA3BA-A132-4440-8254-FF174A7F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FC0AB-4B44-44CC-82A7-2489AA54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BA422-BFD5-4B14-90B2-9AA4119A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15225-2691-41A3-A1BB-78B2225A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66A-68B7-4293-89F7-5E4367CA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4B9C-3F73-424C-9173-D006520D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A6E-215A-46B1-83D7-1E00B842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1C8-5221-4961-9EDE-9AFE780A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604-CECA-42DE-9384-A1B4A72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AE8-4677-432F-8648-FD3760F1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8FB-798C-4F9C-848A-D18EF768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F7CD-7BB4-4D99-9EEE-4036F80AFE73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F06-7D71-43A2-BA6C-204C4031A19C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elezé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irő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fogun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beszéln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 a levé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velek csoportos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evél tartalma, formai követelmén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z elkülden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evelek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eérkezett levelek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ektronikus iktatás (IQtat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onikus levelek sajátosságai (beveze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jó levél ismérvei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övidség, lényegre törő fogalma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gyilagosság és tapintatos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ímzett (vevő!) áll a középpontban, empatik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zitív hozzáállású (még a 12. reklamáció 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kus érv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logenek, klisék kerü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 vádaskodjunk, ne sértegessen másoka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Letter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9144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jó levél készítésének folyamata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ázlat készítés (mi a cél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ogikai sorrend felépí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ogalma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emelések kiválasztása (arányok, formai kiemelés, fogalmaz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 ellenőrz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ejesírás ellenőrzé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yomtatásban való ellenőr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vélminták haszná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why_here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328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Borítékolás,elküldés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09320" y="1218960"/>
            <a:ext cx="67755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íték kiválasz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ríték felirat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lad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ély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ézbesítés mód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észítés aláírás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összehaj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/x mé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1 c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ragasztá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ás / postaköny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cimzes1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30481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hboritek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2743200" cy="17240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borítékok és tasakok méret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057400" y="3124080"/>
            <a:ext cx="6477120" cy="2971800"/>
            <a:chOff x="2057400" y="3124080"/>
            <a:chExt cx="6477120" cy="2971800"/>
          </a:xfrm>
        </p:grpSpPr>
        <p:grpSp>
          <p:nvGrpSpPr>
            <p:cNvPr id="330" name=""/>
            <p:cNvGrpSpPr/>
            <p:nvPr/>
          </p:nvGrpSpPr>
          <p:grpSpPr>
            <a:xfrm>
              <a:off x="2059560" y="3125880"/>
              <a:ext cx="6472440" cy="2967120"/>
              <a:chOff x="2059560" y="3125880"/>
              <a:chExt cx="6472440" cy="29671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2059560" y="3125880"/>
                <a:ext cx="2176920" cy="438840"/>
                <a:chOff x="2059560" y="3125880"/>
                <a:chExt cx="2176920" cy="4388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059560" y="3125880"/>
                  <a:ext cx="2176920" cy="4388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2059560" y="3125880"/>
                  <a:ext cx="2176920" cy="387000"/>
                  <a:chOff x="2059560" y="3125880"/>
                  <a:chExt cx="2176920" cy="38700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2072880" y="3138480"/>
                    <a:ext cx="2149920" cy="36108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Típu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059560" y="3125880"/>
                    <a:ext cx="2176920" cy="387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6" name=""/>
              <p:cNvGrpSpPr/>
              <p:nvPr/>
            </p:nvGrpSpPr>
            <p:grpSpPr>
              <a:xfrm>
                <a:off x="4236480" y="3125880"/>
                <a:ext cx="4295520" cy="438840"/>
                <a:chOff x="4236480" y="3125880"/>
                <a:chExt cx="4295520" cy="438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236480" y="3125880"/>
                  <a:ext cx="4295520" cy="4388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8" name=""/>
                <p:cNvGrpSpPr/>
                <p:nvPr/>
              </p:nvGrpSpPr>
              <p:grpSpPr>
                <a:xfrm>
                  <a:off x="4236480" y="3125880"/>
                  <a:ext cx="4295520" cy="387000"/>
                  <a:chOff x="4236480" y="3125880"/>
                  <a:chExt cx="4295520" cy="3870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4249800" y="3138480"/>
                    <a:ext cx="4268520" cy="36108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Méret mm-be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(magasság x szélesség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236480" y="3125880"/>
                    <a:ext cx="4295520" cy="3870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1" name=""/>
              <p:cNvGrpSpPr/>
              <p:nvPr/>
            </p:nvGrpSpPr>
            <p:grpSpPr>
              <a:xfrm>
                <a:off x="2059560" y="3538800"/>
                <a:ext cx="2176920" cy="386640"/>
                <a:chOff x="2059560" y="3538800"/>
                <a:chExt cx="2176920" cy="3866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059560" y="3538800"/>
                  <a:ext cx="2176920" cy="38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3" name=""/>
                <p:cNvGrpSpPr/>
                <p:nvPr/>
              </p:nvGrpSpPr>
              <p:grpSpPr>
                <a:xfrm>
                  <a:off x="2059560" y="3538800"/>
                  <a:ext cx="2176920" cy="335160"/>
                  <a:chOff x="2059560" y="3538800"/>
                  <a:chExt cx="2176920" cy="335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072880" y="3551400"/>
                    <a:ext cx="21499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C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059560" y="353880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236480" y="3538800"/>
                <a:ext cx="4295520" cy="386640"/>
                <a:chOff x="4236480" y="3538800"/>
                <a:chExt cx="4295520" cy="3866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236480" y="3538800"/>
                  <a:ext cx="4295520" cy="38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4236480" y="3538800"/>
                  <a:ext cx="4295520" cy="335160"/>
                  <a:chOff x="4236480" y="3538800"/>
                  <a:chExt cx="4295520" cy="33516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249800" y="3551400"/>
                    <a:ext cx="42685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114x162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236480" y="353880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1" name=""/>
              <p:cNvGrpSpPr/>
              <p:nvPr/>
            </p:nvGrpSpPr>
            <p:grpSpPr>
              <a:xfrm>
                <a:off x="2059560" y="3899880"/>
                <a:ext cx="2176920" cy="387000"/>
                <a:chOff x="2059560" y="3899880"/>
                <a:chExt cx="2176920" cy="387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059560" y="3899880"/>
                  <a:ext cx="2176920" cy="38700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2059560" y="3899880"/>
                  <a:ext cx="2176920" cy="335160"/>
                  <a:chOff x="2059560" y="3899880"/>
                  <a:chExt cx="2176920" cy="3351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072880" y="3912480"/>
                    <a:ext cx="21499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C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059560" y="389988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6" name=""/>
              <p:cNvGrpSpPr/>
              <p:nvPr/>
            </p:nvGrpSpPr>
            <p:grpSpPr>
              <a:xfrm>
                <a:off x="4236480" y="3899880"/>
                <a:ext cx="4295520" cy="387000"/>
                <a:chOff x="4236480" y="3899880"/>
                <a:chExt cx="4295520" cy="3870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236480" y="3899880"/>
                  <a:ext cx="4295520" cy="38700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" name=""/>
                <p:cNvGrpSpPr/>
                <p:nvPr/>
              </p:nvGrpSpPr>
              <p:grpSpPr>
                <a:xfrm>
                  <a:off x="4236480" y="3899880"/>
                  <a:ext cx="4295520" cy="335160"/>
                  <a:chOff x="4236480" y="3899880"/>
                  <a:chExt cx="4295520" cy="3351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4249800" y="3912480"/>
                    <a:ext cx="42685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229x162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4236480" y="389988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" name=""/>
              <p:cNvGrpSpPr/>
              <p:nvPr/>
            </p:nvGrpSpPr>
            <p:grpSpPr>
              <a:xfrm>
                <a:off x="2059560" y="4261320"/>
                <a:ext cx="2176920" cy="387000"/>
                <a:chOff x="2059560" y="4261320"/>
                <a:chExt cx="2176920" cy="387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059560" y="4261320"/>
                  <a:ext cx="2176920" cy="387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2059560" y="4261320"/>
                  <a:ext cx="2176920" cy="335160"/>
                  <a:chOff x="2059560" y="4261320"/>
                  <a:chExt cx="2176920" cy="3351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2072880" y="4273920"/>
                    <a:ext cx="21499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A4 (DL</a:t>
                    </a: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ahoma"/>
                      </a:rPr>
                      <a:t>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059560" y="426132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6" name=""/>
              <p:cNvGrpSpPr/>
              <p:nvPr/>
            </p:nvGrpSpPr>
            <p:grpSpPr>
              <a:xfrm>
                <a:off x="4236480" y="4261320"/>
                <a:ext cx="4295520" cy="387000"/>
                <a:chOff x="4236480" y="4261320"/>
                <a:chExt cx="4295520" cy="3870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236480" y="4261320"/>
                  <a:ext cx="4295520" cy="387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4236480" y="4261320"/>
                  <a:ext cx="4295520" cy="335160"/>
                  <a:chOff x="4236480" y="4261320"/>
                  <a:chExt cx="4295520" cy="3351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4249800" y="4273920"/>
                    <a:ext cx="42685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110x220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4236480" y="426132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059560" y="4622400"/>
                <a:ext cx="2176920" cy="386640"/>
                <a:chOff x="2059560" y="4622400"/>
                <a:chExt cx="2176920" cy="3866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059560" y="4622400"/>
                  <a:ext cx="2176920" cy="3866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2059560" y="4622400"/>
                  <a:ext cx="2176920" cy="335160"/>
                  <a:chOff x="2059560" y="4622400"/>
                  <a:chExt cx="2176920" cy="33516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2072880" y="4635000"/>
                    <a:ext cx="21499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C6/LC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2059560" y="462240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6" name=""/>
              <p:cNvGrpSpPr/>
              <p:nvPr/>
            </p:nvGrpSpPr>
            <p:grpSpPr>
              <a:xfrm>
                <a:off x="4236480" y="4622400"/>
                <a:ext cx="4295520" cy="386640"/>
                <a:chOff x="4236480" y="4622400"/>
                <a:chExt cx="4295520" cy="3866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236480" y="4622400"/>
                  <a:ext cx="4295520" cy="3866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8" name=""/>
                <p:cNvGrpSpPr/>
                <p:nvPr/>
              </p:nvGrpSpPr>
              <p:grpSpPr>
                <a:xfrm>
                  <a:off x="4236480" y="4622400"/>
                  <a:ext cx="4295520" cy="335160"/>
                  <a:chOff x="4236480" y="4622400"/>
                  <a:chExt cx="4295520" cy="3351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4249800" y="4635000"/>
                    <a:ext cx="42685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114x229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236480" y="462240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1" name=""/>
              <p:cNvGrpSpPr/>
              <p:nvPr/>
            </p:nvGrpSpPr>
            <p:grpSpPr>
              <a:xfrm>
                <a:off x="2059560" y="4983480"/>
                <a:ext cx="2176920" cy="387000"/>
                <a:chOff x="2059560" y="4983480"/>
                <a:chExt cx="2176920" cy="3870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059560" y="4983480"/>
                  <a:ext cx="2176920" cy="387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3" name=""/>
                <p:cNvGrpSpPr/>
                <p:nvPr/>
              </p:nvGrpSpPr>
              <p:grpSpPr>
                <a:xfrm>
                  <a:off x="2059560" y="4983480"/>
                  <a:ext cx="2176920" cy="335160"/>
                  <a:chOff x="2059560" y="4983480"/>
                  <a:chExt cx="2176920" cy="3351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2072880" y="4996080"/>
                    <a:ext cx="21499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LC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059560" y="498348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4236480" y="4983480"/>
                <a:ext cx="4295520" cy="387000"/>
                <a:chOff x="4236480" y="4983480"/>
                <a:chExt cx="4295520" cy="3870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236480" y="4983480"/>
                  <a:ext cx="4295520" cy="387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4236480" y="4983480"/>
                  <a:ext cx="4295520" cy="335160"/>
                  <a:chOff x="4236480" y="4983480"/>
                  <a:chExt cx="4295520" cy="33516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249800" y="4996080"/>
                    <a:ext cx="42685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229x324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4236480" y="498348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1" name=""/>
              <p:cNvGrpSpPr/>
              <p:nvPr/>
            </p:nvGrpSpPr>
            <p:grpSpPr>
              <a:xfrm>
                <a:off x="2059560" y="5344920"/>
                <a:ext cx="2176920" cy="387000"/>
                <a:chOff x="2059560" y="5344920"/>
                <a:chExt cx="2176920" cy="3870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059560" y="5344920"/>
                  <a:ext cx="2176920" cy="38700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" name=""/>
                <p:cNvGrpSpPr/>
                <p:nvPr/>
              </p:nvGrpSpPr>
              <p:grpSpPr>
                <a:xfrm>
                  <a:off x="2059560" y="5344920"/>
                  <a:ext cx="2176920" cy="335160"/>
                  <a:chOff x="2059560" y="5344920"/>
                  <a:chExt cx="2176920" cy="3351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2072880" y="5357520"/>
                    <a:ext cx="21499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TC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059560" y="534492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"/>
              <p:cNvGrpSpPr/>
              <p:nvPr/>
            </p:nvGrpSpPr>
            <p:grpSpPr>
              <a:xfrm>
                <a:off x="4236480" y="5344920"/>
                <a:ext cx="4295520" cy="387000"/>
                <a:chOff x="4236480" y="5344920"/>
                <a:chExt cx="4295520" cy="38700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236480" y="5344920"/>
                  <a:ext cx="4295520" cy="38700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8" name=""/>
                <p:cNvGrpSpPr/>
                <p:nvPr/>
              </p:nvGrpSpPr>
              <p:grpSpPr>
                <a:xfrm>
                  <a:off x="4236480" y="5344920"/>
                  <a:ext cx="4295520" cy="335160"/>
                  <a:chOff x="4236480" y="5344920"/>
                  <a:chExt cx="4295520" cy="33516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>
                    <a:off x="4249800" y="5357520"/>
                    <a:ext cx="4268520" cy="3092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229x324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236480" y="534492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2059560" y="5706360"/>
                <a:ext cx="2176920" cy="386640"/>
                <a:chOff x="2059560" y="5706360"/>
                <a:chExt cx="2176920" cy="3866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059560" y="5706360"/>
                  <a:ext cx="2176920" cy="38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2059560" y="5706360"/>
                  <a:ext cx="2176920" cy="335160"/>
                  <a:chOff x="2059560" y="5706360"/>
                  <a:chExt cx="2176920" cy="33516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2072880" y="5718960"/>
                    <a:ext cx="21499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TB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059560" y="5706360"/>
                    <a:ext cx="21769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4236480" y="5706360"/>
                <a:ext cx="4295520" cy="386640"/>
                <a:chOff x="4236480" y="5706360"/>
                <a:chExt cx="4295520" cy="386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236480" y="5706360"/>
                  <a:ext cx="4295520" cy="386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4236480" y="5706360"/>
                  <a:ext cx="4295520" cy="335160"/>
                  <a:chOff x="4236480" y="5706360"/>
                  <a:chExt cx="4295520" cy="335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4249800" y="5718960"/>
                    <a:ext cx="4268520" cy="3092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imes New Roman"/>
                      </a:rPr>
                      <a:t>250x353 m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236480" y="5706360"/>
                    <a:ext cx="4295520" cy="33516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1" name=""/>
            <p:cNvSpPr/>
            <p:nvPr/>
          </p:nvSpPr>
          <p:spPr>
            <a:xfrm>
              <a:off x="2057400" y="3124080"/>
              <a:ext cx="6477120" cy="2971800"/>
            </a:xfrm>
            <a:prstGeom prst="rect">
              <a:avLst/>
            </a:prstGeom>
            <a:noFill/>
            <a:ln cap="sq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hboritek" descr=""/>
          <p:cNvPicPr/>
          <p:nvPr/>
        </p:nvPicPr>
        <p:blipFill>
          <a:blip r:embed="rId2"/>
          <a:stretch/>
        </p:blipFill>
        <p:spPr>
          <a:xfrm>
            <a:off x="2057400" y="1295280"/>
            <a:ext cx="2743200" cy="17240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79200" y="3116160"/>
            <a:ext cx="8229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boritek4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2743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ostázás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905120" y="1676160"/>
            <a:ext cx="67752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ostai szabályozás és eljár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éltípus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somago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lföldi levé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lad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 tömeges felad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384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ostakicsi" descr=""/>
          <p:cNvPicPr/>
          <p:nvPr/>
        </p:nvPicPr>
        <p:blipFill>
          <a:blip r:embed="rId1"/>
          <a:stretch/>
        </p:blipFill>
        <p:spPr>
          <a:xfrm>
            <a:off x="4191120" y="4343400"/>
            <a:ext cx="16002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Kategóriá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jánlott, expres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értivevé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égi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r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yomtatvá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íjmentes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ülönleges kezelés (csom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: A postai díjszabás tábláz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NVTech_busi0495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5640" y="151920"/>
            <a:ext cx="66387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stai díjszabás 1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üldemények súlyhatára és terjedelme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40" y="64087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40" y="7037280"/>
            <a:ext cx="9144000" cy="158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240" y="70563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1" action="ppaction://hlinksldjump"/>
              </a:rPr>
              <a:t>[1]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postafiókra vagy postán maradóra címzett levélé 2000 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240" y="5646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09680" y="1447920"/>
            <a:ext cx="6553080" cy="4038480"/>
            <a:chOff x="2209680" y="1447920"/>
            <a:chExt cx="6553080" cy="4038480"/>
          </a:xfrm>
        </p:grpSpPr>
        <p:grpSp>
          <p:nvGrpSpPr>
            <p:cNvPr id="428" name=""/>
            <p:cNvGrpSpPr/>
            <p:nvPr/>
          </p:nvGrpSpPr>
          <p:grpSpPr>
            <a:xfrm>
              <a:off x="2215440" y="1451520"/>
              <a:ext cx="6540840" cy="4030560"/>
              <a:chOff x="2215440" y="1451520"/>
              <a:chExt cx="6540840" cy="403056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215440" y="1451520"/>
                <a:ext cx="1526400" cy="985680"/>
                <a:chOff x="2215440" y="1451520"/>
                <a:chExt cx="1526400" cy="9856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270880" y="1451520"/>
                  <a:ext cx="1415160" cy="98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 küldemény megnevezé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15440" y="1451520"/>
                  <a:ext cx="1526400" cy="985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742200" y="1451520"/>
                <a:ext cx="2350080" cy="498600"/>
                <a:chOff x="3742200" y="1451520"/>
                <a:chExt cx="2350080" cy="4986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798360" y="1451520"/>
                  <a:ext cx="2237760" cy="49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úlyhatá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742200" y="1451520"/>
                  <a:ext cx="2350080" cy="4986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092640" y="1451520"/>
                <a:ext cx="2663640" cy="985680"/>
                <a:chOff x="6092640" y="1451520"/>
                <a:chExt cx="2663640" cy="9856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148080" y="1451520"/>
                  <a:ext cx="2552400" cy="98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erjedele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092640" y="1451520"/>
                  <a:ext cx="2663640" cy="985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742200" y="1950120"/>
                <a:ext cx="1382760" cy="487080"/>
                <a:chOff x="3742200" y="1950120"/>
                <a:chExt cx="1382760" cy="4870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798360" y="1950120"/>
                  <a:ext cx="127044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lföld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742200" y="1950120"/>
                  <a:ext cx="1382760" cy="487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5125320" y="1950120"/>
                <a:ext cx="966600" cy="487080"/>
                <a:chOff x="5125320" y="1950120"/>
                <a:chExt cx="966600" cy="4870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180760" y="1950120"/>
                  <a:ext cx="85464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ülföld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125320" y="1950120"/>
                  <a:ext cx="966600" cy="4870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215440" y="2437200"/>
                <a:ext cx="1526400" cy="852480"/>
                <a:chOff x="2215440" y="2437200"/>
                <a:chExt cx="1526400" cy="8524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270880" y="2437200"/>
                  <a:ext cx="141516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zabvány levé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215440" y="2437200"/>
                  <a:ext cx="152640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3742200" y="2437200"/>
                <a:ext cx="1382760" cy="852480"/>
                <a:chOff x="3742200" y="2437200"/>
                <a:chExt cx="1382760" cy="8524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3798360" y="2437200"/>
                  <a:ext cx="127044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0 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42200" y="2437200"/>
                  <a:ext cx="138276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5125320" y="2437200"/>
                <a:ext cx="966600" cy="852480"/>
                <a:chOff x="5125320" y="2437200"/>
                <a:chExt cx="966600" cy="8524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5180760" y="2437200"/>
                  <a:ext cx="85464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 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125320" y="2437200"/>
                  <a:ext cx="96660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6092640" y="2437200"/>
                <a:ext cx="2663640" cy="852480"/>
                <a:chOff x="6092640" y="2437200"/>
                <a:chExt cx="2663640" cy="852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148080" y="2437200"/>
                  <a:ext cx="255240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4x162 mm-es vagy 110x220mm-es borítékban feladott küldemény (10 mm-es eltérés megengedet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092640" y="2437200"/>
                  <a:ext cx="266364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215440" y="3290040"/>
                <a:ext cx="1526400" cy="1339560"/>
                <a:chOff x="2215440" y="3290040"/>
                <a:chExt cx="1526400" cy="13395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270880" y="3290040"/>
                  <a:ext cx="1415160" cy="13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gyéb levé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215440" y="3290040"/>
                  <a:ext cx="1526400" cy="133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742200" y="3290040"/>
                <a:ext cx="1382760" cy="1339560"/>
                <a:chOff x="3742200" y="3290040"/>
                <a:chExt cx="1382760" cy="133956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3798360" y="3290040"/>
                  <a:ext cx="1270440" cy="13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0 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742200" y="3290040"/>
                  <a:ext cx="1382760" cy="133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5125320" y="3290040"/>
                <a:ext cx="966600" cy="1339560"/>
                <a:chOff x="5125320" y="3290040"/>
                <a:chExt cx="966600" cy="13395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180760" y="3290040"/>
                  <a:ext cx="854640" cy="13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000 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5125320" y="3290040"/>
                  <a:ext cx="966600" cy="133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092640" y="3290040"/>
                <a:ext cx="2663640" cy="1339560"/>
                <a:chOff x="6092640" y="3290040"/>
                <a:chExt cx="2663640" cy="13395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148080" y="3290040"/>
                  <a:ext cx="2552400" cy="13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)  Legkisebb mérete 90x140 mm, +-2 mm eltérés megengedett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)  Legnagyobb mérete (hosszúság+szélesség+magasság) 900 mm, de leghosszabb mérete 600 mm-nél nem lehet nagyobb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92640" y="3290040"/>
                  <a:ext cx="2663640" cy="1339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215440" y="4629600"/>
                <a:ext cx="1526400" cy="852480"/>
                <a:chOff x="2215440" y="4629600"/>
                <a:chExt cx="1526400" cy="8524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270880" y="4629600"/>
                  <a:ext cx="141516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velezőlap, képes levelezőla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215440" y="4629600"/>
                  <a:ext cx="152640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3742200" y="4629600"/>
                <a:ext cx="1382760" cy="852480"/>
                <a:chOff x="3742200" y="4629600"/>
                <a:chExt cx="1382760" cy="8524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3798360" y="4629600"/>
                  <a:ext cx="127044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742200" y="4629600"/>
                  <a:ext cx="138276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125320" y="4629600"/>
                <a:ext cx="966600" cy="852480"/>
                <a:chOff x="5125320" y="4629600"/>
                <a:chExt cx="966600" cy="8524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180760" y="4629600"/>
                  <a:ext cx="85464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125320" y="4629600"/>
                  <a:ext cx="96660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092640" y="4629600"/>
                <a:ext cx="2663640" cy="852480"/>
                <a:chOff x="6092640" y="4629600"/>
                <a:chExt cx="2663640" cy="8524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148080" y="4629600"/>
                  <a:ext cx="2552400" cy="85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gkisebb mérete 90x140 mm. Legnagyobb mérete 105x150 mm, +-2mm eltérés megengedet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092640" y="4629600"/>
                  <a:ext cx="2663640" cy="852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0" name=""/>
            <p:cNvSpPr/>
            <p:nvPr/>
          </p:nvSpPr>
          <p:spPr>
            <a:xfrm>
              <a:off x="2209680" y="1447920"/>
              <a:ext cx="6553080" cy="40384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3240" y="53276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27664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stai díjszabás 2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demények díj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911240" y="1374840"/>
            <a:ext cx="1204560" cy="453960"/>
            <a:chOff x="1911240" y="1374840"/>
            <a:chExt cx="1204560" cy="453960"/>
          </a:xfrm>
        </p:grpSpPr>
        <p:sp>
          <p:nvSpPr>
            <p:cNvPr id="484" name=""/>
            <p:cNvSpPr/>
            <p:nvPr/>
          </p:nvSpPr>
          <p:spPr>
            <a:xfrm>
              <a:off x="1973520" y="1374840"/>
              <a:ext cx="1079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Arial"/>
                </a:rPr>
                <a:t>Levél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11240" y="1374840"/>
              <a:ext cx="12045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116160" y="1374840"/>
            <a:ext cx="2027160" cy="453960"/>
            <a:chOff x="3116160" y="1374840"/>
            <a:chExt cx="2027160" cy="453960"/>
          </a:xfrm>
        </p:grpSpPr>
        <p:sp>
          <p:nvSpPr>
            <p:cNvPr id="487" name=""/>
            <p:cNvSpPr/>
            <p:nvPr/>
          </p:nvSpPr>
          <p:spPr>
            <a:xfrm>
              <a:off x="3178800" y="1374840"/>
              <a:ext cx="1901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lföl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16160" y="1374840"/>
              <a:ext cx="20271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143680" y="1374840"/>
            <a:ext cx="3688920" cy="453960"/>
            <a:chOff x="5143680" y="1374840"/>
            <a:chExt cx="3688920" cy="453960"/>
          </a:xfrm>
        </p:grpSpPr>
        <p:sp>
          <p:nvSpPr>
            <p:cNvPr id="490" name=""/>
            <p:cNvSpPr/>
            <p:nvPr/>
          </p:nvSpPr>
          <p:spPr>
            <a:xfrm>
              <a:off x="5205960" y="1374840"/>
              <a:ext cx="3563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ülföl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43680" y="1374840"/>
              <a:ext cx="36889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911240" y="1828800"/>
            <a:ext cx="1204560" cy="647640"/>
            <a:chOff x="1911240" y="1828800"/>
            <a:chExt cx="1204560" cy="647640"/>
          </a:xfrm>
        </p:grpSpPr>
        <p:sp>
          <p:nvSpPr>
            <p:cNvPr id="493" name=""/>
            <p:cNvSpPr/>
            <p:nvPr/>
          </p:nvSpPr>
          <p:spPr>
            <a:xfrm>
              <a:off x="1973520" y="182880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11240" y="1828800"/>
              <a:ext cx="120456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116160" y="1828800"/>
            <a:ext cx="1012680" cy="647640"/>
            <a:chOff x="3116160" y="1828800"/>
            <a:chExt cx="1012680" cy="647640"/>
          </a:xfrm>
        </p:grpSpPr>
        <p:sp>
          <p:nvSpPr>
            <p:cNvPr id="496" name=""/>
            <p:cNvSpPr/>
            <p:nvPr/>
          </p:nvSpPr>
          <p:spPr>
            <a:xfrm>
              <a:off x="3178800" y="1828800"/>
              <a:ext cx="8874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ly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16160" y="1828800"/>
              <a:ext cx="101268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4129200" y="1828800"/>
            <a:ext cx="1014120" cy="647640"/>
            <a:chOff x="4129200" y="1828800"/>
            <a:chExt cx="1014120" cy="647640"/>
          </a:xfrm>
        </p:grpSpPr>
        <p:sp>
          <p:nvSpPr>
            <p:cNvPr id="499" name=""/>
            <p:cNvSpPr/>
            <p:nvPr/>
          </p:nvSpPr>
          <p:spPr>
            <a:xfrm>
              <a:off x="4191840" y="1828800"/>
              <a:ext cx="8881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ávolság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29200" y="1828800"/>
              <a:ext cx="101412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143680" y="1828800"/>
            <a:ext cx="1521720" cy="647640"/>
            <a:chOff x="5143680" y="1828800"/>
            <a:chExt cx="1521720" cy="647640"/>
          </a:xfrm>
        </p:grpSpPr>
        <p:sp>
          <p:nvSpPr>
            <p:cNvPr id="502" name=""/>
            <p:cNvSpPr/>
            <p:nvPr/>
          </p:nvSpPr>
          <p:spPr>
            <a:xfrm>
              <a:off x="5205960" y="1828800"/>
              <a:ext cx="1396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ö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rnyező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szág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3680" y="1828800"/>
              <a:ext cx="152172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665760" y="1828800"/>
            <a:ext cx="1083960" cy="647640"/>
            <a:chOff x="6665760" y="1828800"/>
            <a:chExt cx="1083960" cy="647640"/>
          </a:xfrm>
        </p:grpSpPr>
        <p:sp>
          <p:nvSpPr>
            <p:cNvPr id="505" name=""/>
            <p:cNvSpPr/>
            <p:nvPr/>
          </p:nvSpPr>
          <p:spPr>
            <a:xfrm>
              <a:off x="6728400" y="1828800"/>
              <a:ext cx="9579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gyéb európai ország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65760" y="1828800"/>
              <a:ext cx="108396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7750080" y="1828800"/>
            <a:ext cx="1082520" cy="647640"/>
            <a:chOff x="7750080" y="1828800"/>
            <a:chExt cx="1082520" cy="647640"/>
          </a:xfrm>
        </p:grpSpPr>
        <p:sp>
          <p:nvSpPr>
            <p:cNvPr id="508" name=""/>
            <p:cNvSpPr/>
            <p:nvPr/>
          </p:nvSpPr>
          <p:spPr>
            <a:xfrm>
              <a:off x="7812360" y="1828800"/>
              <a:ext cx="9572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gyéb külföl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750080" y="1828800"/>
              <a:ext cx="1082520" cy="647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911240" y="2476440"/>
            <a:ext cx="1204560" cy="432000"/>
            <a:chOff x="1911240" y="2476440"/>
            <a:chExt cx="1204560" cy="432000"/>
          </a:xfrm>
        </p:grpSpPr>
        <p:sp>
          <p:nvSpPr>
            <p:cNvPr id="511" name=""/>
            <p:cNvSpPr/>
            <p:nvPr/>
          </p:nvSpPr>
          <p:spPr>
            <a:xfrm>
              <a:off x="1973520" y="2476440"/>
              <a:ext cx="10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44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zabván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449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11240" y="2476440"/>
              <a:ext cx="12045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3116160" y="2476440"/>
            <a:ext cx="1012680" cy="432000"/>
            <a:chOff x="3116160" y="2476440"/>
            <a:chExt cx="1012680" cy="432000"/>
          </a:xfrm>
        </p:grpSpPr>
        <p:sp>
          <p:nvSpPr>
            <p:cNvPr id="514" name=""/>
            <p:cNvSpPr/>
            <p:nvPr/>
          </p:nvSpPr>
          <p:spPr>
            <a:xfrm>
              <a:off x="3178800" y="2476440"/>
              <a:ext cx="887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16160" y="2476440"/>
              <a:ext cx="101268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129200" y="2476440"/>
            <a:ext cx="1014120" cy="432000"/>
            <a:chOff x="4129200" y="2476440"/>
            <a:chExt cx="1014120" cy="432000"/>
          </a:xfrm>
        </p:grpSpPr>
        <p:sp>
          <p:nvSpPr>
            <p:cNvPr id="517" name=""/>
            <p:cNvSpPr/>
            <p:nvPr/>
          </p:nvSpPr>
          <p:spPr>
            <a:xfrm>
              <a:off x="4191840" y="2476440"/>
              <a:ext cx="888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29200" y="2476440"/>
              <a:ext cx="10141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5143680" y="2476440"/>
            <a:ext cx="1521720" cy="432000"/>
            <a:chOff x="5143680" y="2476440"/>
            <a:chExt cx="1521720" cy="432000"/>
          </a:xfrm>
        </p:grpSpPr>
        <p:sp>
          <p:nvSpPr>
            <p:cNvPr id="520" name=""/>
            <p:cNvSpPr/>
            <p:nvPr/>
          </p:nvSpPr>
          <p:spPr>
            <a:xfrm>
              <a:off x="5205960" y="2476440"/>
              <a:ext cx="1396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43680" y="2476440"/>
              <a:ext cx="15217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665760" y="2476440"/>
            <a:ext cx="1083960" cy="432000"/>
            <a:chOff x="6665760" y="2476440"/>
            <a:chExt cx="1083960" cy="432000"/>
          </a:xfrm>
        </p:grpSpPr>
        <p:sp>
          <p:nvSpPr>
            <p:cNvPr id="523" name=""/>
            <p:cNvSpPr/>
            <p:nvPr/>
          </p:nvSpPr>
          <p:spPr>
            <a:xfrm>
              <a:off x="6728400" y="2476440"/>
              <a:ext cx="957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65760" y="2476440"/>
              <a:ext cx="10839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7750080" y="2476440"/>
            <a:ext cx="1082520" cy="432000"/>
            <a:chOff x="7750080" y="2476440"/>
            <a:chExt cx="1082520" cy="432000"/>
          </a:xfrm>
        </p:grpSpPr>
        <p:sp>
          <p:nvSpPr>
            <p:cNvPr id="526" name=""/>
            <p:cNvSpPr/>
            <p:nvPr/>
          </p:nvSpPr>
          <p:spPr>
            <a:xfrm>
              <a:off x="7812360" y="2476440"/>
              <a:ext cx="957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50080" y="2476440"/>
              <a:ext cx="10825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1911240" y="2908440"/>
            <a:ext cx="1204560" cy="452160"/>
            <a:chOff x="1911240" y="2908440"/>
            <a:chExt cx="1204560" cy="452160"/>
          </a:xfrm>
        </p:grpSpPr>
        <p:sp>
          <p:nvSpPr>
            <p:cNvPr id="529" name=""/>
            <p:cNvSpPr/>
            <p:nvPr/>
          </p:nvSpPr>
          <p:spPr>
            <a:xfrm>
              <a:off x="1973520" y="2908440"/>
              <a:ext cx="10796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gyéb  2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11240" y="2908440"/>
              <a:ext cx="120456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116160" y="2908440"/>
            <a:ext cx="1012680" cy="452160"/>
            <a:chOff x="3116160" y="2908440"/>
            <a:chExt cx="1012680" cy="452160"/>
          </a:xfrm>
        </p:grpSpPr>
        <p:sp>
          <p:nvSpPr>
            <p:cNvPr id="532" name=""/>
            <p:cNvSpPr/>
            <p:nvPr/>
          </p:nvSpPr>
          <p:spPr>
            <a:xfrm>
              <a:off x="3178800" y="2908440"/>
              <a:ext cx="88740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16160" y="2908440"/>
              <a:ext cx="101268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129200" y="2908440"/>
            <a:ext cx="1014120" cy="452160"/>
            <a:chOff x="4129200" y="2908440"/>
            <a:chExt cx="1014120" cy="452160"/>
          </a:xfrm>
        </p:grpSpPr>
        <p:sp>
          <p:nvSpPr>
            <p:cNvPr id="535" name=""/>
            <p:cNvSpPr/>
            <p:nvPr/>
          </p:nvSpPr>
          <p:spPr>
            <a:xfrm>
              <a:off x="4191840" y="2908440"/>
              <a:ext cx="88812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29200" y="2908440"/>
              <a:ext cx="101412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143680" y="2908440"/>
            <a:ext cx="1521720" cy="452160"/>
            <a:chOff x="5143680" y="2908440"/>
            <a:chExt cx="1521720" cy="452160"/>
          </a:xfrm>
        </p:grpSpPr>
        <p:sp>
          <p:nvSpPr>
            <p:cNvPr id="538" name=""/>
            <p:cNvSpPr/>
            <p:nvPr/>
          </p:nvSpPr>
          <p:spPr>
            <a:xfrm>
              <a:off x="5205960" y="2908440"/>
              <a:ext cx="139680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43680" y="2908440"/>
              <a:ext cx="152172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665760" y="2908440"/>
            <a:ext cx="1083960" cy="452160"/>
            <a:chOff x="6665760" y="2908440"/>
            <a:chExt cx="1083960" cy="452160"/>
          </a:xfrm>
        </p:grpSpPr>
        <p:sp>
          <p:nvSpPr>
            <p:cNvPr id="541" name=""/>
            <p:cNvSpPr/>
            <p:nvPr/>
          </p:nvSpPr>
          <p:spPr>
            <a:xfrm>
              <a:off x="6728400" y="2908440"/>
              <a:ext cx="9579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665760" y="2908440"/>
              <a:ext cx="108396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7750080" y="2908440"/>
            <a:ext cx="1082520" cy="452160"/>
            <a:chOff x="7750080" y="2908440"/>
            <a:chExt cx="1082520" cy="452160"/>
          </a:xfrm>
        </p:grpSpPr>
        <p:sp>
          <p:nvSpPr>
            <p:cNvPr id="544" name=""/>
            <p:cNvSpPr/>
            <p:nvPr/>
          </p:nvSpPr>
          <p:spPr>
            <a:xfrm>
              <a:off x="7812360" y="2908440"/>
              <a:ext cx="9572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50080" y="2908440"/>
              <a:ext cx="1082520" cy="4521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911240" y="3360600"/>
            <a:ext cx="1204560" cy="432000"/>
            <a:chOff x="1911240" y="3360600"/>
            <a:chExt cx="1204560" cy="432000"/>
          </a:xfrm>
        </p:grpSpPr>
        <p:sp>
          <p:nvSpPr>
            <p:cNvPr id="547" name=""/>
            <p:cNvSpPr/>
            <p:nvPr/>
          </p:nvSpPr>
          <p:spPr>
            <a:xfrm>
              <a:off x="1973520" y="3360600"/>
              <a:ext cx="10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11240" y="3360600"/>
              <a:ext cx="12045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116160" y="3360600"/>
            <a:ext cx="1012680" cy="432000"/>
            <a:chOff x="3116160" y="3360600"/>
            <a:chExt cx="1012680" cy="432000"/>
          </a:xfrm>
        </p:grpSpPr>
        <p:sp>
          <p:nvSpPr>
            <p:cNvPr id="550" name=""/>
            <p:cNvSpPr/>
            <p:nvPr/>
          </p:nvSpPr>
          <p:spPr>
            <a:xfrm>
              <a:off x="3178800" y="3360600"/>
              <a:ext cx="887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16160" y="3360600"/>
              <a:ext cx="101268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129200" y="3360600"/>
            <a:ext cx="1014120" cy="432000"/>
            <a:chOff x="4129200" y="3360600"/>
            <a:chExt cx="1014120" cy="432000"/>
          </a:xfrm>
        </p:grpSpPr>
        <p:sp>
          <p:nvSpPr>
            <p:cNvPr id="553" name=""/>
            <p:cNvSpPr/>
            <p:nvPr/>
          </p:nvSpPr>
          <p:spPr>
            <a:xfrm>
              <a:off x="4191840" y="3360600"/>
              <a:ext cx="888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70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29200" y="3360600"/>
              <a:ext cx="10141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143680" y="3360600"/>
            <a:ext cx="1521720" cy="432000"/>
            <a:chOff x="5143680" y="3360600"/>
            <a:chExt cx="1521720" cy="432000"/>
          </a:xfrm>
        </p:grpSpPr>
        <p:sp>
          <p:nvSpPr>
            <p:cNvPr id="556" name=""/>
            <p:cNvSpPr/>
            <p:nvPr/>
          </p:nvSpPr>
          <p:spPr>
            <a:xfrm>
              <a:off x="5205960" y="3360600"/>
              <a:ext cx="1396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43680" y="3360600"/>
              <a:ext cx="15217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665760" y="3360600"/>
            <a:ext cx="1083960" cy="432000"/>
            <a:chOff x="6665760" y="3360600"/>
            <a:chExt cx="1083960" cy="432000"/>
          </a:xfrm>
        </p:grpSpPr>
        <p:sp>
          <p:nvSpPr>
            <p:cNvPr id="559" name=""/>
            <p:cNvSpPr/>
            <p:nvPr/>
          </p:nvSpPr>
          <p:spPr>
            <a:xfrm>
              <a:off x="6728400" y="3360600"/>
              <a:ext cx="957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65760" y="3360600"/>
              <a:ext cx="10839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7750080" y="3360600"/>
            <a:ext cx="1082520" cy="432000"/>
            <a:chOff x="7750080" y="3360600"/>
            <a:chExt cx="1082520" cy="432000"/>
          </a:xfrm>
        </p:grpSpPr>
        <p:sp>
          <p:nvSpPr>
            <p:cNvPr id="562" name=""/>
            <p:cNvSpPr/>
            <p:nvPr/>
          </p:nvSpPr>
          <p:spPr>
            <a:xfrm>
              <a:off x="7812360" y="3360600"/>
              <a:ext cx="957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33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50080" y="3360600"/>
              <a:ext cx="10825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911240" y="3792600"/>
            <a:ext cx="1204560" cy="453960"/>
            <a:chOff x="1911240" y="3792600"/>
            <a:chExt cx="1204560" cy="453960"/>
          </a:xfrm>
        </p:grpSpPr>
        <p:sp>
          <p:nvSpPr>
            <p:cNvPr id="565" name=""/>
            <p:cNvSpPr/>
            <p:nvPr/>
          </p:nvSpPr>
          <p:spPr>
            <a:xfrm>
              <a:off x="1973520" y="3792600"/>
              <a:ext cx="1079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11240" y="3792600"/>
              <a:ext cx="12045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116160" y="3792600"/>
            <a:ext cx="1012680" cy="453960"/>
            <a:chOff x="3116160" y="3792600"/>
            <a:chExt cx="1012680" cy="453960"/>
          </a:xfrm>
        </p:grpSpPr>
        <p:sp>
          <p:nvSpPr>
            <p:cNvPr id="568" name=""/>
            <p:cNvSpPr/>
            <p:nvPr/>
          </p:nvSpPr>
          <p:spPr>
            <a:xfrm>
              <a:off x="3178800" y="3792600"/>
              <a:ext cx="887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16160" y="3792600"/>
              <a:ext cx="101268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129200" y="3792600"/>
            <a:ext cx="1014120" cy="453960"/>
            <a:chOff x="4129200" y="3792600"/>
            <a:chExt cx="1014120" cy="453960"/>
          </a:xfrm>
        </p:grpSpPr>
        <p:sp>
          <p:nvSpPr>
            <p:cNvPr id="571" name=""/>
            <p:cNvSpPr/>
            <p:nvPr/>
          </p:nvSpPr>
          <p:spPr>
            <a:xfrm>
              <a:off x="4191840" y="3792600"/>
              <a:ext cx="888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29200" y="3792600"/>
              <a:ext cx="10141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143680" y="3792600"/>
            <a:ext cx="1521720" cy="453960"/>
            <a:chOff x="5143680" y="3792600"/>
            <a:chExt cx="1521720" cy="453960"/>
          </a:xfrm>
        </p:grpSpPr>
        <p:sp>
          <p:nvSpPr>
            <p:cNvPr id="574" name=""/>
            <p:cNvSpPr/>
            <p:nvPr/>
          </p:nvSpPr>
          <p:spPr>
            <a:xfrm>
              <a:off x="5205960" y="3792600"/>
              <a:ext cx="1396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43680" y="3792600"/>
              <a:ext cx="15217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665760" y="3792600"/>
            <a:ext cx="1083960" cy="453960"/>
            <a:chOff x="6665760" y="3792600"/>
            <a:chExt cx="1083960" cy="453960"/>
          </a:xfrm>
        </p:grpSpPr>
        <p:sp>
          <p:nvSpPr>
            <p:cNvPr id="577" name=""/>
            <p:cNvSpPr/>
            <p:nvPr/>
          </p:nvSpPr>
          <p:spPr>
            <a:xfrm>
              <a:off x="6728400" y="3792600"/>
              <a:ext cx="957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665760" y="3792600"/>
              <a:ext cx="10839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750080" y="3792600"/>
            <a:ext cx="1082520" cy="453960"/>
            <a:chOff x="7750080" y="3792600"/>
            <a:chExt cx="1082520" cy="453960"/>
          </a:xfrm>
        </p:grpSpPr>
        <p:sp>
          <p:nvSpPr>
            <p:cNvPr id="580" name=""/>
            <p:cNvSpPr/>
            <p:nvPr/>
          </p:nvSpPr>
          <p:spPr>
            <a:xfrm>
              <a:off x="7812360" y="3792600"/>
              <a:ext cx="957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71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50080" y="3792600"/>
              <a:ext cx="10825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911240" y="4246560"/>
            <a:ext cx="1204560" cy="452520"/>
            <a:chOff x="1911240" y="4246560"/>
            <a:chExt cx="1204560" cy="452520"/>
          </a:xfrm>
        </p:grpSpPr>
        <p:sp>
          <p:nvSpPr>
            <p:cNvPr id="583" name=""/>
            <p:cNvSpPr/>
            <p:nvPr/>
          </p:nvSpPr>
          <p:spPr>
            <a:xfrm>
              <a:off x="1973520" y="4246560"/>
              <a:ext cx="10796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11240" y="4246560"/>
              <a:ext cx="120456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116160" y="4246560"/>
            <a:ext cx="1012680" cy="452520"/>
            <a:chOff x="3116160" y="4246560"/>
            <a:chExt cx="1012680" cy="452520"/>
          </a:xfrm>
        </p:grpSpPr>
        <p:sp>
          <p:nvSpPr>
            <p:cNvPr id="586" name=""/>
            <p:cNvSpPr/>
            <p:nvPr/>
          </p:nvSpPr>
          <p:spPr>
            <a:xfrm>
              <a:off x="3178800" y="4246560"/>
              <a:ext cx="887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116160" y="4246560"/>
              <a:ext cx="101268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129200" y="4246560"/>
            <a:ext cx="1014120" cy="452520"/>
            <a:chOff x="4129200" y="4246560"/>
            <a:chExt cx="1014120" cy="452520"/>
          </a:xfrm>
        </p:grpSpPr>
        <p:sp>
          <p:nvSpPr>
            <p:cNvPr id="589" name=""/>
            <p:cNvSpPr/>
            <p:nvPr/>
          </p:nvSpPr>
          <p:spPr>
            <a:xfrm>
              <a:off x="4191840" y="4246560"/>
              <a:ext cx="8881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95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29200" y="4246560"/>
              <a:ext cx="101412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143680" y="4246560"/>
            <a:ext cx="1521720" cy="452520"/>
            <a:chOff x="5143680" y="4246560"/>
            <a:chExt cx="1521720" cy="452520"/>
          </a:xfrm>
        </p:grpSpPr>
        <p:sp>
          <p:nvSpPr>
            <p:cNvPr id="592" name=""/>
            <p:cNvSpPr/>
            <p:nvPr/>
          </p:nvSpPr>
          <p:spPr>
            <a:xfrm>
              <a:off x="5205960" y="4246560"/>
              <a:ext cx="13968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43680" y="4246560"/>
              <a:ext cx="152172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665760" y="4246560"/>
            <a:ext cx="1083960" cy="452520"/>
            <a:chOff x="6665760" y="4246560"/>
            <a:chExt cx="1083960" cy="452520"/>
          </a:xfrm>
        </p:grpSpPr>
        <p:sp>
          <p:nvSpPr>
            <p:cNvPr id="595" name=""/>
            <p:cNvSpPr/>
            <p:nvPr/>
          </p:nvSpPr>
          <p:spPr>
            <a:xfrm>
              <a:off x="6728400" y="4246560"/>
              <a:ext cx="9579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65760" y="4246560"/>
              <a:ext cx="108396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7750080" y="4246560"/>
            <a:ext cx="1082520" cy="452520"/>
            <a:chOff x="7750080" y="4246560"/>
            <a:chExt cx="1082520" cy="452520"/>
          </a:xfrm>
        </p:grpSpPr>
        <p:sp>
          <p:nvSpPr>
            <p:cNvPr id="598" name=""/>
            <p:cNvSpPr/>
            <p:nvPr/>
          </p:nvSpPr>
          <p:spPr>
            <a:xfrm>
              <a:off x="7812360" y="4246560"/>
              <a:ext cx="9572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750080" y="4246560"/>
              <a:ext cx="1082520" cy="45252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911240" y="4699080"/>
            <a:ext cx="1204560" cy="431640"/>
            <a:chOff x="1911240" y="4699080"/>
            <a:chExt cx="1204560" cy="431640"/>
          </a:xfrm>
        </p:grpSpPr>
        <p:sp>
          <p:nvSpPr>
            <p:cNvPr id="601" name=""/>
            <p:cNvSpPr/>
            <p:nvPr/>
          </p:nvSpPr>
          <p:spPr>
            <a:xfrm>
              <a:off x="1973520" y="4699080"/>
              <a:ext cx="1079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911240" y="4699080"/>
              <a:ext cx="120456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3116160" y="4699080"/>
            <a:ext cx="1012680" cy="431640"/>
            <a:chOff x="3116160" y="4699080"/>
            <a:chExt cx="1012680" cy="431640"/>
          </a:xfrm>
        </p:grpSpPr>
        <p:sp>
          <p:nvSpPr>
            <p:cNvPr id="604" name=""/>
            <p:cNvSpPr/>
            <p:nvPr/>
          </p:nvSpPr>
          <p:spPr>
            <a:xfrm>
              <a:off x="3178800" y="4699080"/>
              <a:ext cx="8874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120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16160" y="4699080"/>
              <a:ext cx="101268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129200" y="4699080"/>
            <a:ext cx="1014120" cy="431640"/>
            <a:chOff x="4129200" y="4699080"/>
            <a:chExt cx="1014120" cy="431640"/>
          </a:xfrm>
        </p:grpSpPr>
        <p:sp>
          <p:nvSpPr>
            <p:cNvPr id="607" name=""/>
            <p:cNvSpPr/>
            <p:nvPr/>
          </p:nvSpPr>
          <p:spPr>
            <a:xfrm>
              <a:off x="4191840" y="4699080"/>
              <a:ext cx="8881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120 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29200" y="4699080"/>
              <a:ext cx="101412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143680" y="4699080"/>
            <a:ext cx="1521720" cy="431640"/>
            <a:chOff x="5143680" y="4699080"/>
            <a:chExt cx="1521720" cy="431640"/>
          </a:xfrm>
        </p:grpSpPr>
        <p:sp>
          <p:nvSpPr>
            <p:cNvPr id="610" name=""/>
            <p:cNvSpPr/>
            <p:nvPr/>
          </p:nvSpPr>
          <p:spPr>
            <a:xfrm>
              <a:off x="5205960" y="4699080"/>
              <a:ext cx="13968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43680" y="4699080"/>
              <a:ext cx="152172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665760" y="4699080"/>
            <a:ext cx="1083960" cy="431640"/>
            <a:chOff x="6665760" y="4699080"/>
            <a:chExt cx="1083960" cy="431640"/>
          </a:xfrm>
        </p:grpSpPr>
        <p:sp>
          <p:nvSpPr>
            <p:cNvPr id="613" name=""/>
            <p:cNvSpPr/>
            <p:nvPr/>
          </p:nvSpPr>
          <p:spPr>
            <a:xfrm>
              <a:off x="6728400" y="4699080"/>
              <a:ext cx="9579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6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65760" y="4699080"/>
              <a:ext cx="108396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750080" y="4699080"/>
            <a:ext cx="1082520" cy="431640"/>
            <a:chOff x="7750080" y="4699080"/>
            <a:chExt cx="1082520" cy="431640"/>
          </a:xfrm>
        </p:grpSpPr>
        <p:sp>
          <p:nvSpPr>
            <p:cNvPr id="616" name=""/>
            <p:cNvSpPr/>
            <p:nvPr/>
          </p:nvSpPr>
          <p:spPr>
            <a:xfrm>
              <a:off x="7812360" y="4699080"/>
              <a:ext cx="9572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37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750080" y="4699080"/>
              <a:ext cx="1082520" cy="43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1911240" y="5130720"/>
            <a:ext cx="1204560" cy="453960"/>
            <a:chOff x="1911240" y="5130720"/>
            <a:chExt cx="1204560" cy="453960"/>
          </a:xfrm>
        </p:grpSpPr>
        <p:sp>
          <p:nvSpPr>
            <p:cNvPr id="619" name=""/>
            <p:cNvSpPr/>
            <p:nvPr/>
          </p:nvSpPr>
          <p:spPr>
            <a:xfrm>
              <a:off x="1973520" y="5130720"/>
              <a:ext cx="1079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11240" y="5130720"/>
              <a:ext cx="12045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116160" y="5130720"/>
            <a:ext cx="1012680" cy="453960"/>
            <a:chOff x="3116160" y="5130720"/>
            <a:chExt cx="1012680" cy="453960"/>
          </a:xfrm>
        </p:grpSpPr>
        <p:sp>
          <p:nvSpPr>
            <p:cNvPr id="622" name=""/>
            <p:cNvSpPr/>
            <p:nvPr/>
          </p:nvSpPr>
          <p:spPr>
            <a:xfrm>
              <a:off x="3178800" y="5130720"/>
              <a:ext cx="8874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16160" y="5130720"/>
              <a:ext cx="101268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129200" y="5130720"/>
            <a:ext cx="1014120" cy="453960"/>
            <a:chOff x="4129200" y="5130720"/>
            <a:chExt cx="1014120" cy="453960"/>
          </a:xfrm>
        </p:grpSpPr>
        <p:sp>
          <p:nvSpPr>
            <p:cNvPr id="625" name=""/>
            <p:cNvSpPr/>
            <p:nvPr/>
          </p:nvSpPr>
          <p:spPr>
            <a:xfrm>
              <a:off x="4191840" y="5130720"/>
              <a:ext cx="888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29200" y="5130720"/>
              <a:ext cx="10141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143680" y="5130720"/>
            <a:ext cx="1521720" cy="453960"/>
            <a:chOff x="5143680" y="5130720"/>
            <a:chExt cx="1521720" cy="453960"/>
          </a:xfrm>
        </p:grpSpPr>
        <p:sp>
          <p:nvSpPr>
            <p:cNvPr id="628" name=""/>
            <p:cNvSpPr/>
            <p:nvPr/>
          </p:nvSpPr>
          <p:spPr>
            <a:xfrm>
              <a:off x="5205960" y="5130720"/>
              <a:ext cx="1396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F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43680" y="5130720"/>
              <a:ext cx="15217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665760" y="5130720"/>
            <a:ext cx="1083960" cy="453960"/>
            <a:chOff x="6665760" y="5130720"/>
            <a:chExt cx="1083960" cy="453960"/>
          </a:xfrm>
        </p:grpSpPr>
        <p:sp>
          <p:nvSpPr>
            <p:cNvPr id="631" name=""/>
            <p:cNvSpPr/>
            <p:nvPr/>
          </p:nvSpPr>
          <p:spPr>
            <a:xfrm>
              <a:off x="6728400" y="5130720"/>
              <a:ext cx="9579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210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665760" y="5130720"/>
              <a:ext cx="108396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750080" y="5130720"/>
            <a:ext cx="1082520" cy="453960"/>
            <a:chOff x="7750080" y="5130720"/>
            <a:chExt cx="1082520" cy="453960"/>
          </a:xfrm>
        </p:grpSpPr>
        <p:sp>
          <p:nvSpPr>
            <p:cNvPr id="634" name=""/>
            <p:cNvSpPr/>
            <p:nvPr/>
          </p:nvSpPr>
          <p:spPr>
            <a:xfrm>
              <a:off x="7812360" y="5130720"/>
              <a:ext cx="9572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69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50080" y="5130720"/>
              <a:ext cx="1082520" cy="45396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1911240" y="5584680"/>
            <a:ext cx="1204560" cy="432000"/>
            <a:chOff x="1911240" y="5584680"/>
            <a:chExt cx="1204560" cy="432000"/>
          </a:xfrm>
        </p:grpSpPr>
        <p:sp>
          <p:nvSpPr>
            <p:cNvPr id="637" name=""/>
            <p:cNvSpPr/>
            <p:nvPr/>
          </p:nvSpPr>
          <p:spPr>
            <a:xfrm>
              <a:off x="1973520" y="5584680"/>
              <a:ext cx="1079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0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1240" y="5584680"/>
              <a:ext cx="12045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116160" y="5584680"/>
            <a:ext cx="2027160" cy="432000"/>
            <a:chOff x="3116160" y="5584680"/>
            <a:chExt cx="2027160" cy="432000"/>
          </a:xfrm>
        </p:grpSpPr>
        <p:sp>
          <p:nvSpPr>
            <p:cNvPr id="640" name=""/>
            <p:cNvSpPr/>
            <p:nvPr/>
          </p:nvSpPr>
          <p:spPr>
            <a:xfrm>
              <a:off x="3178800" y="5584680"/>
              <a:ext cx="19015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80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16160" y="5584680"/>
              <a:ext cx="20271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5143680" y="5584680"/>
            <a:ext cx="1521720" cy="432000"/>
            <a:chOff x="5143680" y="5584680"/>
            <a:chExt cx="1521720" cy="432000"/>
          </a:xfrm>
        </p:grpSpPr>
        <p:sp>
          <p:nvSpPr>
            <p:cNvPr id="643" name=""/>
            <p:cNvSpPr/>
            <p:nvPr/>
          </p:nvSpPr>
          <p:spPr>
            <a:xfrm>
              <a:off x="5205960" y="5584680"/>
              <a:ext cx="13968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36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143680" y="5584680"/>
              <a:ext cx="15217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6665760" y="5584680"/>
            <a:ext cx="1083960" cy="432000"/>
            <a:chOff x="6665760" y="5584680"/>
            <a:chExt cx="1083960" cy="432000"/>
          </a:xfrm>
        </p:grpSpPr>
        <p:sp>
          <p:nvSpPr>
            <p:cNvPr id="646" name=""/>
            <p:cNvSpPr/>
            <p:nvPr/>
          </p:nvSpPr>
          <p:spPr>
            <a:xfrm>
              <a:off x="6728400" y="5584680"/>
              <a:ext cx="9579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60 F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665760" y="5584680"/>
              <a:ext cx="108396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7750080" y="5584680"/>
            <a:ext cx="1082520" cy="432000"/>
            <a:chOff x="7750080" y="5584680"/>
            <a:chExt cx="1082520" cy="432000"/>
          </a:xfrm>
        </p:grpSpPr>
        <p:sp>
          <p:nvSpPr>
            <p:cNvPr id="649" name=""/>
            <p:cNvSpPr/>
            <p:nvPr/>
          </p:nvSpPr>
          <p:spPr>
            <a:xfrm>
              <a:off x="7812360" y="5584680"/>
              <a:ext cx="9572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750080" y="5584680"/>
              <a:ext cx="1082520" cy="43200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905120" y="1371600"/>
            <a:ext cx="6933960" cy="4648320"/>
          </a:xfrm>
          <a:prstGeom prst="rect">
            <a:avLst/>
          </a:prstGeom>
          <a:noFill/>
          <a:ln cap="sq"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81480" y="42670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ostai díjszabás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924680" y="5994360"/>
            <a:ext cx="76320" cy="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1905120"/>
            <a:ext cx="685800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ö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rnyező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ország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vátország, Románia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erbia-Montenegró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zlovákia, Szlovénia, Ukraj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gyéb európai orszá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bánia, Andorra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usztri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lgium, Bosznia-Hercegovina, Bulgária, Ciprus, Csehország, Dánia, Észtország, Fehéroroszország, Finnország, Franciaország, Görögország, Hollandia, Írország, Izland, Lengyelország, Lettország, Liechtenstein, Litvánia, Luxemburg, Macedónia, Málta, Moldova, Monaco, Nagy-Britannia, Németország, Norvégia, Olaszország, Oroszország, Portugália, San Marino, Spanyolország, Svájc, Svédország, Törökország, Vatik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6867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ostai díjszabás 4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demények díj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09680" y="1927080"/>
            <a:ext cx="502920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velezőlap, képes levelező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133720" y="2666880"/>
            <a:ext cx="6324120" cy="3124080"/>
            <a:chOff x="2133720" y="2666880"/>
            <a:chExt cx="6324120" cy="3124080"/>
          </a:xfrm>
        </p:grpSpPr>
        <p:grpSp>
          <p:nvGrpSpPr>
            <p:cNvPr id="659" name=""/>
            <p:cNvGrpSpPr/>
            <p:nvPr/>
          </p:nvGrpSpPr>
          <p:grpSpPr>
            <a:xfrm>
              <a:off x="2140560" y="2673720"/>
              <a:ext cx="6308640" cy="3109320"/>
              <a:chOff x="2140560" y="2673720"/>
              <a:chExt cx="6308640" cy="310932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2140560" y="2673720"/>
                <a:ext cx="2264760" cy="838800"/>
                <a:chOff x="2140560" y="2673720"/>
                <a:chExt cx="2264760" cy="8388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2207880" y="2673720"/>
                  <a:ext cx="2129400" cy="83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elföld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140560" y="2673720"/>
                  <a:ext cx="2264760" cy="838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4405680" y="2673720"/>
                <a:ext cx="4043520" cy="838800"/>
                <a:chOff x="4405680" y="2673720"/>
                <a:chExt cx="4043520" cy="8388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4473000" y="2673720"/>
                  <a:ext cx="3908520" cy="83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ülföld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405680" y="2673720"/>
                  <a:ext cx="4043520" cy="8388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140560" y="3512880"/>
                <a:ext cx="1094760" cy="1361520"/>
                <a:chOff x="2140560" y="3512880"/>
                <a:chExt cx="1094760" cy="13615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207880" y="3512880"/>
                  <a:ext cx="95940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ely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140560" y="3512880"/>
                  <a:ext cx="109476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3235680" y="3512880"/>
                <a:ext cx="1169280" cy="1361520"/>
                <a:chOff x="3235680" y="3512880"/>
                <a:chExt cx="1169280" cy="13615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303000" y="3512880"/>
                  <a:ext cx="103392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ávolság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3235680" y="3512880"/>
                  <a:ext cx="116928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4405680" y="3512880"/>
                <a:ext cx="1435320" cy="1361520"/>
                <a:chOff x="4405680" y="3512880"/>
                <a:chExt cx="1435320" cy="13615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4473000" y="3512880"/>
                  <a:ext cx="130032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ö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rnyező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ország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ok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405680" y="3512880"/>
                  <a:ext cx="143532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841360" y="3512880"/>
                <a:ext cx="1437840" cy="1361520"/>
                <a:chOff x="5841360" y="3512880"/>
                <a:chExt cx="1437840" cy="136152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909040" y="3512880"/>
                  <a:ext cx="130248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gyéb európai országb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841360" y="3512880"/>
                  <a:ext cx="143784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7279560" y="3512880"/>
                <a:ext cx="1169280" cy="1361520"/>
                <a:chOff x="7279560" y="3512880"/>
                <a:chExt cx="1169280" cy="13615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7347240" y="3512880"/>
                  <a:ext cx="1033920" cy="136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gyéb külföld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279560" y="3512880"/>
                  <a:ext cx="1169280" cy="1361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2140560" y="4875120"/>
                <a:ext cx="1094760" cy="907920"/>
                <a:chOff x="2140560" y="4875120"/>
                <a:chExt cx="1094760" cy="9079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2207880" y="4875120"/>
                  <a:ext cx="95940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2140560" y="4875120"/>
                  <a:ext cx="109476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3235680" y="4875120"/>
                <a:ext cx="1169280" cy="907920"/>
                <a:chOff x="3235680" y="4875120"/>
                <a:chExt cx="1169280" cy="9079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3303000" y="4875120"/>
                  <a:ext cx="1033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35680" y="4875120"/>
                  <a:ext cx="116928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405680" y="4875120"/>
                <a:ext cx="1435320" cy="907920"/>
                <a:chOff x="4405680" y="4875120"/>
                <a:chExt cx="1435320" cy="907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473000" y="4875120"/>
                  <a:ext cx="13003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05680" y="4875120"/>
                  <a:ext cx="143532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5841360" y="4875120"/>
                <a:ext cx="1437840" cy="907920"/>
                <a:chOff x="5841360" y="4875120"/>
                <a:chExt cx="1437840" cy="9079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909040" y="4875120"/>
                  <a:ext cx="130248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841360" y="4875120"/>
                  <a:ext cx="143784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7279560" y="4875120"/>
                <a:ext cx="1169280" cy="907920"/>
                <a:chOff x="7279560" y="4875120"/>
                <a:chExt cx="1169280" cy="907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7347240" y="4875120"/>
                  <a:ext cx="1033920" cy="90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0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 F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279560" y="4875120"/>
                  <a:ext cx="1169280" cy="907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6" name=""/>
            <p:cNvSpPr/>
            <p:nvPr/>
          </p:nvSpPr>
          <p:spPr>
            <a:xfrm>
              <a:off x="2133720" y="2666880"/>
              <a:ext cx="6324120" cy="312408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i a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é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09320" y="1523880"/>
            <a:ext cx="6775560" cy="455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gáltalánosabb írásbeli kommunikáció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zó elszáll, az írás megmarad.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ba volant, scripta ma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z irodai munka egyik legnehezebb része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0 kg TNT vagy 10 papírla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darat tolláról, dolgozót levelé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gyel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 Tartal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 Környezet (mikor, ki, hogyan kézbesíti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quite" descr=""/>
          <p:cNvPicPr/>
          <p:nvPr/>
        </p:nvPicPr>
        <p:blipFill>
          <a:blip r:embed="rId1"/>
          <a:stretch/>
        </p:blipFill>
        <p:spPr>
          <a:xfrm>
            <a:off x="6400800" y="4114800"/>
            <a:ext cx="190512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továbbítás egyéb módjai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yorsposta DHL, Fe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ját futá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ül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utár (Hajtás Pajtás, Call C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brid továbbítások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yors tájékoztató + lassú formális: fax + levél, e-mail + levé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sak a lényeg + teljeskö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ű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ájékoztatás: ajánlat + teljes anyag referenciákkal és árumintá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running_man" descr=""/>
          <p:cNvPicPr/>
          <p:nvPr/>
        </p:nvPicPr>
        <p:blipFill>
          <a:blip r:embed="rId1"/>
          <a:stretch/>
        </p:blipFill>
        <p:spPr>
          <a:xfrm>
            <a:off x="6705720" y="1905120"/>
            <a:ext cx="1542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Ügyviteli munka (bürotika)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gyintézés, ügykez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kezelés (SzMSz, Iratkezelési Szabályz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ralizá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entralizá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g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beérkez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levelek kezelése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09320" y="1676520"/>
            <a:ext cx="6775560" cy="44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üldemények fogad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stabontás (titkos, saját ke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ű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rkeztetés  (a fontos levelek felismerése, a norm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velek kezelése,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rkeztetési dátum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ás !!! (kez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 vagy van 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mény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ó bélyeg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lhelyezése és kitöl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ókönyvbe törté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ejegy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továbbí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ro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rolás/archiv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 iktatókönyv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beérkez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levelek kezelése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Két fontos fogalom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rkezteté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beérkező küldeményre elvégez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ortirozás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ntos levelek felismerése, a norm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velek kezelése,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rkeztetési dátumoz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kronologikus csoportosítá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á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z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 vagy van 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mény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ó bélyeg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lhelyezése és kitöl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ókönyvbe törté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ejegy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lcsönösen egyértelmű azonosítás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ktatási rendszere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zervezeti egységenké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nd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m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bejöv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émakör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élda: Az iktatókönyv egy old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E01616_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30652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zámítógéppel segített iktatás 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7431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66600" y="838080"/>
            <a:ext cx="3591000" cy="11541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733920" y="8380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Qtató® Titkársági Információkezelő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gy programrendszer, amely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mplex megoldást nyúj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z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rodai adminisztráció gyors és pontos elvégzésére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676520" y="2362320"/>
            <a:ext cx="6933960" cy="44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program moduláris felépítésű. Létezi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általános célú (univerzális) iktatókönyv modul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ostai feladójegyzék készítő modul, é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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specializált, önkormányzati iktató modu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Előnyei a hagyományos iktatással szemb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etárolt adatok több ezer irat esetén i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azonna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elérhetők. Az elektronikus keresés lehetővé teszi, hogy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kár adattöredék, fél szó esetén i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program pillanatok alatt megtalálja a keresett iratot, nevet, céget, telefonszámo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z iktatókönyvek egyes rovatai átnevezhetők. Tetszőleges számú új rovatot lehet definiálni. Minden rovatnak saját törzsadattára lehet. A törzsadattárak használata révén rendkívül gyors és hibamentes az adatok rögzíté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zámítógéppel segített iktatás 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7431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66600" y="838080"/>
            <a:ext cx="3591000" cy="11541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733920" y="914400"/>
            <a:ext cx="5105160" cy="58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Az IQtató® program fő szolgáltatása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Levelek, faxok, egyéb iratok elektronikus iktatása tetszőleges bontásban, csoportosításb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Elektronikus, „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Postai feladójegyzék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” készítő modul.  (önállóan is rendelhető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Önkormányzati modul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, amely kezeli az „A” adatlapokat, elkészíti az éves statisztikai jelentések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Nevek, címek, telefonszámok nyilvántartás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Határidőnapló; napi teendők nyilvántartása, automatikus figyelé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Közel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százféle,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menüből választható lista és egy önálló listagenerá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Átnevezhető, bővíthető iktatókönyvi rovat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Iratkapcsolás különböző időszakú iratok közö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Többszintű, jelszavas hozzáférés védelem menükre és műveletekre lebont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17880" y="0"/>
            <a:ext cx="6867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zámítógéppel segített iktatás 3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onk004" descr=""/>
          <p:cNvPicPr/>
          <p:nvPr/>
        </p:nvPicPr>
        <p:blipFill>
          <a:blip r:embed="rId1"/>
          <a:stretch/>
        </p:blipFill>
        <p:spPr>
          <a:xfrm>
            <a:off x="1143000" y="1090440"/>
            <a:ext cx="71629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117880" y="0"/>
            <a:ext cx="68673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Számítógéppel segített iktatás 4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0193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6720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onk014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Nyilvántartások vezetése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057040" y="1523880"/>
            <a:ext cx="65530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tár feláll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ok előkészítése tárolás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z irattartók elrendez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erakott iratok elér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„kivettem” kárt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ereszthivatkozá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veszett dokumentum keres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rakott (iktatott) irat tovább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em papír jellegű anyagok kezelé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floppy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krofilm, minták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helyezés (témakör, földrajzi, kódol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NVTech_vc005289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114300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elek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soportosítása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l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--- Kül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m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-- Beérke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ális --- Informá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zleti ---- kapcsolattartás ----- mag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apcsolattartás – nem kötelező, de nagyon sokat segí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gköszö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ó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án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tul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files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2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rattározás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904760" y="1904760"/>
            <a:ext cx="6629400" cy="340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visszakeresés gyakorisága határozza meg az irattáro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s formájá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ldolgozás köz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áro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chivá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éltá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jtez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officeandbusiness016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1154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it tartalmaz az iratkezelési szabályzat?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285640" y="1927080"/>
            <a:ext cx="6699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 a fele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 szervez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 felügyeli a szervezetet/iratkezelé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ly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ok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onatkozik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zabályozáson kívül e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ő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kumentumok (pl.: METRO katalógus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len szabályozás alá vont irat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ás (szigorúbb) szabályozás alá vont dokumentumok meghatározás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it tartalmaz az iratkezelési szabályzat?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133360" y="1676160"/>
            <a:ext cx="61722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érkez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datok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nyilvántartás, iktatás szabály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gyintézéssel összefüg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ela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ime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ratok kezel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attározás/archíválá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lejtezés    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zabályzat felülvizsgálati rend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rások biztosításának rend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éltito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dolgozó saját nevére érkező levelekre vonatkozik a levélti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 alól kivétel csak az előzetes írásos hozzájáru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nkaszerződés vagy titoktartási része is le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levél tartalma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á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dvözlés, megszólítás (beosztás, személynév, n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 megszólítása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evél törzse (hármas tagolás: bevezetés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árgyalás, befejezés/összefoglal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köszön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áí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-360"/>
            <a:ext cx="654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ódosított levélformá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09320" y="837720"/>
            <a:ext cx="6775560" cy="524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á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ktatási információ, azono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vatkozási informác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ügyintéz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ásolatot kik kapn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éges levélpapí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cs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öbb aláír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éges aláí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oldal szigná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lékle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tói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Általános követelménye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érthet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gya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bát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 egy levél el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lvasatban nem érthe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kkor azt újra kell fogalmazni, mivel így nem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mmunikációkép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rjedelme ne haladja meg a feltétlenül indokolta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NVTech_peop3614" descr=""/>
          <p:cNvPicPr/>
          <p:nvPr/>
        </p:nvPicPr>
        <p:blipFill>
          <a:blip r:embed="rId1"/>
          <a:stretch/>
        </p:blipFill>
        <p:spPr>
          <a:xfrm>
            <a:off x="6477120" y="1295280"/>
            <a:ext cx="1993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Formai követelmények</a:t>
            </a: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rányos elhelyezés hosszában és kereszt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olsó „maradvány” old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aptörések elhelyez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tűméret 10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tűtípus olvasható legy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engedni a WORD csábításainak (WordArt Brrr!!!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038480" y="4724280"/>
            <a:ext cx="11718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zt ne!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Tahoma"/>
              </a:rPr>
              <a:t>Papírformátumok és -méret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09320" y="1927080"/>
          <a:ext cx="6775560" cy="4151520"/>
        </p:xfrm>
        <a:graphic>
          <a:graphicData uri="http://schemas.openxmlformats.org/drawingml/2006/table"/>
        </a:graphic>
      </p:graphicFrame>
      <p:grpSp>
        <p:nvGrpSpPr>
          <p:cNvPr id="115" name=""/>
          <p:cNvGrpSpPr/>
          <p:nvPr/>
        </p:nvGrpSpPr>
        <p:grpSpPr>
          <a:xfrm>
            <a:off x="2057400" y="1523880"/>
            <a:ext cx="6400080" cy="4343400"/>
            <a:chOff x="2057400" y="1523880"/>
            <a:chExt cx="6400080" cy="4343400"/>
          </a:xfrm>
        </p:grpSpPr>
        <p:grpSp>
          <p:nvGrpSpPr>
            <p:cNvPr id="116" name=""/>
            <p:cNvGrpSpPr/>
            <p:nvPr/>
          </p:nvGrpSpPr>
          <p:grpSpPr>
            <a:xfrm>
              <a:off x="2066400" y="1526400"/>
              <a:ext cx="6379560" cy="4337640"/>
              <a:chOff x="2066400" y="1526400"/>
              <a:chExt cx="6379560" cy="43376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066400" y="1526400"/>
                <a:ext cx="1450080" cy="515520"/>
                <a:chOff x="2066400" y="1526400"/>
                <a:chExt cx="1450080" cy="5155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066400" y="1526400"/>
                  <a:ext cx="1450080" cy="5155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2066400" y="1526400"/>
                  <a:ext cx="1449360" cy="455040"/>
                  <a:chOff x="2066400" y="1526400"/>
                  <a:chExt cx="1449360" cy="45504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2121120" y="1541520"/>
                    <a:ext cx="1339560" cy="4244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Formátu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066400" y="1526400"/>
                    <a:ext cx="1449360" cy="455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3517200" y="1526400"/>
                <a:ext cx="1606320" cy="515520"/>
                <a:chOff x="3517200" y="1526400"/>
                <a:chExt cx="1606320" cy="5155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517200" y="1526400"/>
                  <a:ext cx="1606320" cy="5155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3517200" y="1526400"/>
                  <a:ext cx="1605600" cy="455040"/>
                  <a:chOff x="3517200" y="1526400"/>
                  <a:chExt cx="1605600" cy="4550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3571920" y="1541520"/>
                    <a:ext cx="1495800" cy="4244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A</a:t>
                    </a:r>
                    <a:br>
                      <a:rPr sz="1200"/>
                    </a:b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(mm-ben)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517200" y="1526400"/>
                    <a:ext cx="1605600" cy="455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" name=""/>
              <p:cNvGrpSpPr/>
              <p:nvPr/>
            </p:nvGrpSpPr>
            <p:grpSpPr>
              <a:xfrm>
                <a:off x="5124600" y="1526400"/>
                <a:ext cx="1715040" cy="515520"/>
                <a:chOff x="5124600" y="1526400"/>
                <a:chExt cx="1715040" cy="5155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124600" y="1526400"/>
                  <a:ext cx="1715040" cy="5155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5124600" y="1526400"/>
                  <a:ext cx="1714320" cy="455040"/>
                  <a:chOff x="5124600" y="1526400"/>
                  <a:chExt cx="1714320" cy="4550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5178240" y="1541520"/>
                    <a:ext cx="1605600" cy="4244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B</a:t>
                    </a:r>
                    <a:br>
                      <a:rPr sz="1200"/>
                    </a:b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(mm-ben)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124600" y="1526400"/>
                    <a:ext cx="1714320" cy="455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6840720" y="1526400"/>
                <a:ext cx="1605240" cy="515520"/>
                <a:chOff x="6840720" y="1526400"/>
                <a:chExt cx="1605240" cy="515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40720" y="1526400"/>
                  <a:ext cx="1605240" cy="51552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6840720" y="1526400"/>
                  <a:ext cx="1604520" cy="455040"/>
                  <a:chOff x="6840720" y="1526400"/>
                  <a:chExt cx="1604520" cy="4550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894360" y="1541520"/>
                    <a:ext cx="1495800" cy="42444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C</a:t>
                    </a:r>
                    <a:br>
                      <a:rPr sz="1200"/>
                    </a:br>
                    <a:r>
                      <a:rPr b="1" lang="en-GB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(mm-ben)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840720" y="1526400"/>
                    <a:ext cx="1604520" cy="45504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7" name=""/>
              <p:cNvGrpSpPr/>
              <p:nvPr/>
            </p:nvGrpSpPr>
            <p:grpSpPr>
              <a:xfrm>
                <a:off x="2066400" y="2011680"/>
                <a:ext cx="1450080" cy="455040"/>
                <a:chOff x="2066400" y="2011680"/>
                <a:chExt cx="1450080" cy="455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066400" y="2011680"/>
                  <a:ext cx="145008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" name=""/>
                <p:cNvGrpSpPr/>
                <p:nvPr/>
              </p:nvGrpSpPr>
              <p:grpSpPr>
                <a:xfrm>
                  <a:off x="2066400" y="2011680"/>
                  <a:ext cx="1449360" cy="394200"/>
                  <a:chOff x="2066400" y="2011680"/>
                  <a:chExt cx="1449360" cy="3942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2121120" y="202680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2066400" y="201168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3517200" y="2011680"/>
                <a:ext cx="1606320" cy="455040"/>
                <a:chOff x="3517200" y="2011680"/>
                <a:chExt cx="1606320" cy="4550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517200" y="2011680"/>
                  <a:ext cx="160632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3517200" y="2011680"/>
                  <a:ext cx="1605600" cy="394200"/>
                  <a:chOff x="3517200" y="2011680"/>
                  <a:chExt cx="1605600" cy="3942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571920" y="202680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841x1,18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517200" y="201168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7" name=""/>
              <p:cNvGrpSpPr/>
              <p:nvPr/>
            </p:nvGrpSpPr>
            <p:grpSpPr>
              <a:xfrm>
                <a:off x="5124600" y="2011680"/>
                <a:ext cx="1715040" cy="455040"/>
                <a:chOff x="5124600" y="2011680"/>
                <a:chExt cx="1715040" cy="4550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124600" y="2011680"/>
                  <a:ext cx="17150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5124600" y="2011680"/>
                  <a:ext cx="1714320" cy="394200"/>
                  <a:chOff x="5124600" y="2011680"/>
                  <a:chExt cx="1714320" cy="39420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5178240" y="202680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.000x1,41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124600" y="201168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40720" y="2011680"/>
                <a:ext cx="1605240" cy="455040"/>
                <a:chOff x="6840720" y="2011680"/>
                <a:chExt cx="1605240" cy="4550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40720" y="2011680"/>
                  <a:ext cx="16052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6840720" y="2011680"/>
                  <a:ext cx="1604520" cy="394200"/>
                  <a:chOff x="6840720" y="2011680"/>
                  <a:chExt cx="1604520" cy="3942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894360" y="202680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917x1,29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840720" y="201168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2066400" y="2436480"/>
                <a:ext cx="1450080" cy="455040"/>
                <a:chOff x="2066400" y="2436480"/>
                <a:chExt cx="1450080" cy="4550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66400" y="2436480"/>
                  <a:ext cx="145008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2066400" y="2436480"/>
                  <a:ext cx="1449360" cy="394200"/>
                  <a:chOff x="2066400" y="2436480"/>
                  <a:chExt cx="1449360" cy="3942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2121120" y="2451600"/>
                    <a:ext cx="133956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066400" y="243648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3517200" y="2436480"/>
                <a:ext cx="1606320" cy="455040"/>
                <a:chOff x="3517200" y="2436480"/>
                <a:chExt cx="1606320" cy="455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517200" y="2436480"/>
                  <a:ext cx="160632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517200" y="2436480"/>
                  <a:ext cx="1605600" cy="394200"/>
                  <a:chOff x="3517200" y="2436480"/>
                  <a:chExt cx="1605600" cy="3942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571920" y="245160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94x84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517200" y="243648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5124600" y="2436480"/>
                <a:ext cx="1715040" cy="455040"/>
                <a:chOff x="5124600" y="2436480"/>
                <a:chExt cx="1715040" cy="455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124600" y="2436480"/>
                  <a:ext cx="17150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5124600" y="2436480"/>
                  <a:ext cx="1714320" cy="394200"/>
                  <a:chOff x="5124600" y="2436480"/>
                  <a:chExt cx="1714320" cy="39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178240" y="2451600"/>
                    <a:ext cx="16056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707x1.0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124600" y="243648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6840720" y="2436480"/>
                <a:ext cx="1605240" cy="455040"/>
                <a:chOff x="6840720" y="2436480"/>
                <a:chExt cx="1605240" cy="4550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840720" y="2436480"/>
                  <a:ext cx="16052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6840720" y="2436480"/>
                  <a:ext cx="1604520" cy="394200"/>
                  <a:chOff x="6840720" y="2436480"/>
                  <a:chExt cx="1604520" cy="3942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894360" y="245160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648x91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840720" y="243648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2066400" y="2861280"/>
                <a:ext cx="1450080" cy="454680"/>
                <a:chOff x="2066400" y="2861280"/>
                <a:chExt cx="1450080" cy="454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066400" y="2861280"/>
                  <a:ext cx="145008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2066400" y="2861280"/>
                  <a:ext cx="1449360" cy="394200"/>
                  <a:chOff x="2066400" y="2861280"/>
                  <a:chExt cx="1449360" cy="3942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2121120" y="287640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2066400" y="286128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3517200" y="2861280"/>
                <a:ext cx="1606320" cy="454680"/>
                <a:chOff x="3517200" y="2861280"/>
                <a:chExt cx="1606320" cy="4546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517200" y="2861280"/>
                  <a:ext cx="160632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17200" y="2861280"/>
                  <a:ext cx="1605600" cy="394200"/>
                  <a:chOff x="3517200" y="2861280"/>
                  <a:chExt cx="1605600" cy="394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71920" y="287640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420x59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17200" y="286128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5124600" y="2861280"/>
                <a:ext cx="1715040" cy="454680"/>
                <a:chOff x="5124600" y="2861280"/>
                <a:chExt cx="1715040" cy="4546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24600" y="2861280"/>
                  <a:ext cx="171504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5124600" y="2861280"/>
                  <a:ext cx="1714320" cy="394200"/>
                  <a:chOff x="5124600" y="2861280"/>
                  <a:chExt cx="1714320" cy="3942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5178240" y="287640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00x70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124600" y="286128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6840720" y="2861280"/>
                <a:ext cx="1605240" cy="454680"/>
                <a:chOff x="6840720" y="2861280"/>
                <a:chExt cx="1605240" cy="4546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840720" y="2861280"/>
                  <a:ext cx="160524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6840720" y="2861280"/>
                  <a:ext cx="1604520" cy="394200"/>
                  <a:chOff x="6840720" y="2861280"/>
                  <a:chExt cx="1604520" cy="394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894360" y="287640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458x64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840720" y="286128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2066400" y="3285720"/>
                <a:ext cx="1450080" cy="455040"/>
                <a:chOff x="2066400" y="3285720"/>
                <a:chExt cx="1450080" cy="4550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066400" y="3285720"/>
                  <a:ext cx="145008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2066400" y="3285720"/>
                  <a:ext cx="1449360" cy="394200"/>
                  <a:chOff x="2066400" y="3285720"/>
                  <a:chExt cx="1449360" cy="3942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2121120" y="3300840"/>
                    <a:ext cx="133956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2066400" y="328572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3517200" y="3285720"/>
                <a:ext cx="1606320" cy="455040"/>
                <a:chOff x="3517200" y="3285720"/>
                <a:chExt cx="1606320" cy="4550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517200" y="3285720"/>
                  <a:ext cx="160632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3517200" y="3285720"/>
                  <a:ext cx="1605600" cy="394200"/>
                  <a:chOff x="3517200" y="3285720"/>
                  <a:chExt cx="1605600" cy="3942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571920" y="330084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97x42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517200" y="328572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5124600" y="3285720"/>
                <a:ext cx="1715040" cy="455040"/>
                <a:chOff x="5124600" y="3285720"/>
                <a:chExt cx="1715040" cy="4550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124600" y="3285720"/>
                  <a:ext cx="17150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5124600" y="3285720"/>
                  <a:ext cx="1714320" cy="394200"/>
                  <a:chOff x="5124600" y="3285720"/>
                  <a:chExt cx="1714320" cy="3942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5178240" y="3300840"/>
                    <a:ext cx="16056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353x5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124600" y="328572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6840720" y="3285720"/>
                <a:ext cx="1605240" cy="455040"/>
                <a:chOff x="6840720" y="3285720"/>
                <a:chExt cx="1605240" cy="455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840720" y="3285720"/>
                  <a:ext cx="16052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6840720" y="3285720"/>
                  <a:ext cx="1604520" cy="394200"/>
                  <a:chOff x="6840720" y="3285720"/>
                  <a:chExt cx="1604520" cy="39420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6894360" y="330084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324x45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840720" y="328572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2066400" y="3710520"/>
                <a:ext cx="1450080" cy="455040"/>
                <a:chOff x="2066400" y="3710520"/>
                <a:chExt cx="1450080" cy="455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2066400" y="3710520"/>
                  <a:ext cx="145008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" name=""/>
                <p:cNvGrpSpPr/>
                <p:nvPr/>
              </p:nvGrpSpPr>
              <p:grpSpPr>
                <a:xfrm>
                  <a:off x="2066400" y="3710520"/>
                  <a:ext cx="1449360" cy="394200"/>
                  <a:chOff x="2066400" y="3710520"/>
                  <a:chExt cx="1449360" cy="39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2121120" y="372564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066400" y="371052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" name=""/>
              <p:cNvGrpSpPr/>
              <p:nvPr/>
            </p:nvGrpSpPr>
            <p:grpSpPr>
              <a:xfrm>
                <a:off x="3517200" y="3710520"/>
                <a:ext cx="1606320" cy="455040"/>
                <a:chOff x="3517200" y="3710520"/>
                <a:chExt cx="1606320" cy="4550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517200" y="3710520"/>
                  <a:ext cx="160632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" name=""/>
                <p:cNvGrpSpPr/>
                <p:nvPr/>
              </p:nvGrpSpPr>
              <p:grpSpPr>
                <a:xfrm>
                  <a:off x="3517200" y="3710520"/>
                  <a:ext cx="1605600" cy="394200"/>
                  <a:chOff x="3517200" y="3710520"/>
                  <a:chExt cx="1605600" cy="3942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3571920" y="372564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10x29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517200" y="371052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7" name=""/>
              <p:cNvGrpSpPr/>
              <p:nvPr/>
            </p:nvGrpSpPr>
            <p:grpSpPr>
              <a:xfrm>
                <a:off x="5124600" y="3710520"/>
                <a:ext cx="1715040" cy="455040"/>
                <a:chOff x="5124600" y="3710520"/>
                <a:chExt cx="1715040" cy="4550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124600" y="3710520"/>
                  <a:ext cx="17150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"/>
                <p:cNvGrpSpPr/>
                <p:nvPr/>
              </p:nvGrpSpPr>
              <p:grpSpPr>
                <a:xfrm>
                  <a:off x="5124600" y="3710520"/>
                  <a:ext cx="1714320" cy="394200"/>
                  <a:chOff x="5124600" y="3710520"/>
                  <a:chExt cx="1714320" cy="3942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>
                    <a:off x="5178240" y="372564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50x35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124600" y="371052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6840720" y="3710520"/>
                <a:ext cx="1605240" cy="455040"/>
                <a:chOff x="6840720" y="3710520"/>
                <a:chExt cx="1605240" cy="4550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840720" y="3710520"/>
                  <a:ext cx="16052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" name=""/>
                <p:cNvGrpSpPr/>
                <p:nvPr/>
              </p:nvGrpSpPr>
              <p:grpSpPr>
                <a:xfrm>
                  <a:off x="6840720" y="3710520"/>
                  <a:ext cx="1604520" cy="394200"/>
                  <a:chOff x="6840720" y="3710520"/>
                  <a:chExt cx="1604520" cy="39420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6894360" y="372564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229x32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840720" y="371052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" name=""/>
              <p:cNvGrpSpPr/>
              <p:nvPr/>
            </p:nvGrpSpPr>
            <p:grpSpPr>
              <a:xfrm>
                <a:off x="2066400" y="4135320"/>
                <a:ext cx="1450080" cy="454680"/>
                <a:chOff x="2066400" y="4135320"/>
                <a:chExt cx="1450080" cy="4546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066400" y="4135320"/>
                  <a:ext cx="1450080" cy="454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2066400" y="4135320"/>
                  <a:ext cx="1449360" cy="394200"/>
                  <a:chOff x="2066400" y="4135320"/>
                  <a:chExt cx="1449360" cy="39420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2121120" y="4150440"/>
                    <a:ext cx="133956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2066400" y="413532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3517200" y="4135320"/>
                <a:ext cx="1606320" cy="454680"/>
                <a:chOff x="3517200" y="4135320"/>
                <a:chExt cx="1606320" cy="4546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517200" y="4135320"/>
                  <a:ext cx="1606320" cy="454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4" name=""/>
                <p:cNvGrpSpPr/>
                <p:nvPr/>
              </p:nvGrpSpPr>
              <p:grpSpPr>
                <a:xfrm>
                  <a:off x="3517200" y="4135320"/>
                  <a:ext cx="1605600" cy="394200"/>
                  <a:chOff x="3517200" y="4135320"/>
                  <a:chExt cx="1605600" cy="39420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3571920" y="415044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48x21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517200" y="413532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5124600" y="4135320"/>
                <a:ext cx="1715040" cy="454680"/>
                <a:chOff x="5124600" y="4135320"/>
                <a:chExt cx="1715040" cy="4546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124600" y="4135320"/>
                  <a:ext cx="1715040" cy="454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5124600" y="4135320"/>
                  <a:ext cx="1714320" cy="394200"/>
                  <a:chOff x="5124600" y="4135320"/>
                  <a:chExt cx="1714320" cy="39420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5178240" y="4150440"/>
                    <a:ext cx="16056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76x25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5124600" y="413532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2" name=""/>
              <p:cNvGrpSpPr/>
              <p:nvPr/>
            </p:nvGrpSpPr>
            <p:grpSpPr>
              <a:xfrm>
                <a:off x="6840720" y="4135320"/>
                <a:ext cx="1605240" cy="454680"/>
                <a:chOff x="6840720" y="4135320"/>
                <a:chExt cx="1605240" cy="454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840720" y="4135320"/>
                  <a:ext cx="1605240" cy="454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6840720" y="4135320"/>
                  <a:ext cx="1604520" cy="394200"/>
                  <a:chOff x="6840720" y="4135320"/>
                  <a:chExt cx="1604520" cy="3942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6894360" y="415044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62x229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840720" y="413532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7" name=""/>
              <p:cNvGrpSpPr/>
              <p:nvPr/>
            </p:nvGrpSpPr>
            <p:grpSpPr>
              <a:xfrm>
                <a:off x="2066400" y="4559760"/>
                <a:ext cx="1450080" cy="455040"/>
                <a:chOff x="2066400" y="4559760"/>
                <a:chExt cx="1450080" cy="4550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066400" y="4559760"/>
                  <a:ext cx="145008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2066400" y="4559760"/>
                  <a:ext cx="1449360" cy="394200"/>
                  <a:chOff x="2066400" y="4559760"/>
                  <a:chExt cx="1449360" cy="39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2121120" y="457488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066400" y="455976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2" name=""/>
              <p:cNvGrpSpPr/>
              <p:nvPr/>
            </p:nvGrpSpPr>
            <p:grpSpPr>
              <a:xfrm>
                <a:off x="3517200" y="4559760"/>
                <a:ext cx="1606320" cy="455040"/>
                <a:chOff x="3517200" y="4559760"/>
                <a:chExt cx="1606320" cy="4550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517200" y="4559760"/>
                  <a:ext cx="160632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3517200" y="4559760"/>
                  <a:ext cx="1605600" cy="394200"/>
                  <a:chOff x="3517200" y="4559760"/>
                  <a:chExt cx="1605600" cy="39420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3571920" y="457488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05x14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517200" y="455976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5124600" y="4559760"/>
                <a:ext cx="1715040" cy="455040"/>
                <a:chOff x="5124600" y="4559760"/>
                <a:chExt cx="1715040" cy="4550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5124600" y="4559760"/>
                  <a:ext cx="17150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5124600" y="4559760"/>
                  <a:ext cx="1714320" cy="394200"/>
                  <a:chOff x="5124600" y="4559760"/>
                  <a:chExt cx="1714320" cy="39420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178240" y="457488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25x17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124600" y="455976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6840720" y="4559760"/>
                <a:ext cx="1605240" cy="455040"/>
                <a:chOff x="6840720" y="4559760"/>
                <a:chExt cx="1605240" cy="4550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840720" y="4559760"/>
                  <a:ext cx="1605240" cy="4550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6840720" y="4559760"/>
                  <a:ext cx="1604520" cy="394200"/>
                  <a:chOff x="6840720" y="4559760"/>
                  <a:chExt cx="1604520" cy="39420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6894360" y="457488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114x16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840720" y="455976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2066400" y="4984560"/>
                <a:ext cx="1450080" cy="455040"/>
                <a:chOff x="2066400" y="4984560"/>
                <a:chExt cx="1450080" cy="4550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66400" y="4984560"/>
                  <a:ext cx="145008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2066400" y="4984560"/>
                  <a:ext cx="1449360" cy="394200"/>
                  <a:chOff x="2066400" y="4984560"/>
                  <a:chExt cx="1449360" cy="3942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2121120" y="4999680"/>
                    <a:ext cx="133956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66400" y="498456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3517200" y="4984560"/>
                <a:ext cx="1606320" cy="455040"/>
                <a:chOff x="3517200" y="4984560"/>
                <a:chExt cx="1606320" cy="455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517200" y="4984560"/>
                  <a:ext cx="160632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3517200" y="4984560"/>
                  <a:ext cx="1605600" cy="394200"/>
                  <a:chOff x="3517200" y="4984560"/>
                  <a:chExt cx="1605600" cy="39420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3571920" y="499968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74x10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17200" y="498456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" name=""/>
              <p:cNvGrpSpPr/>
              <p:nvPr/>
            </p:nvGrpSpPr>
            <p:grpSpPr>
              <a:xfrm>
                <a:off x="5124600" y="4984560"/>
                <a:ext cx="1715040" cy="455040"/>
                <a:chOff x="5124600" y="4984560"/>
                <a:chExt cx="1715040" cy="4550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124600" y="4984560"/>
                  <a:ext cx="17150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5124600" y="4984560"/>
                  <a:ext cx="1714320" cy="394200"/>
                  <a:chOff x="5124600" y="4984560"/>
                  <a:chExt cx="1714320" cy="3942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5178240" y="4999680"/>
                    <a:ext cx="16056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88x12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124600" y="498456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" name=""/>
              <p:cNvGrpSpPr/>
              <p:nvPr/>
            </p:nvGrpSpPr>
            <p:grpSpPr>
              <a:xfrm>
                <a:off x="6840720" y="4984560"/>
                <a:ext cx="1605240" cy="455040"/>
                <a:chOff x="6840720" y="4984560"/>
                <a:chExt cx="1605240" cy="4550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840720" y="4984560"/>
                  <a:ext cx="1605240" cy="45504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6840720" y="4984560"/>
                  <a:ext cx="1604520" cy="394200"/>
                  <a:chOff x="6840720" y="4984560"/>
                  <a:chExt cx="1604520" cy="39420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6894360" y="4999680"/>
                    <a:ext cx="1495800" cy="363600"/>
                  </a:xfrm>
                  <a:prstGeom prst="rect">
                    <a:avLst/>
                  </a:prstGeom>
                  <a:solidFill>
                    <a:srgbClr val="d2d2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81x11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6840720" y="498456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7" name=""/>
              <p:cNvGrpSpPr/>
              <p:nvPr/>
            </p:nvGrpSpPr>
            <p:grpSpPr>
              <a:xfrm>
                <a:off x="2066400" y="5409360"/>
                <a:ext cx="1450080" cy="454680"/>
                <a:chOff x="2066400" y="5409360"/>
                <a:chExt cx="1450080" cy="4546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066400" y="5409360"/>
                  <a:ext cx="145008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2066400" y="5409360"/>
                  <a:ext cx="1449360" cy="394200"/>
                  <a:chOff x="2066400" y="5409360"/>
                  <a:chExt cx="1449360" cy="394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2121120" y="5424480"/>
                    <a:ext cx="133956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066400" y="5409360"/>
                    <a:ext cx="144936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2" name=""/>
              <p:cNvGrpSpPr/>
              <p:nvPr/>
            </p:nvGrpSpPr>
            <p:grpSpPr>
              <a:xfrm>
                <a:off x="3517200" y="5409360"/>
                <a:ext cx="1606320" cy="454680"/>
                <a:chOff x="3517200" y="5409360"/>
                <a:chExt cx="1606320" cy="4546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517200" y="5409360"/>
                  <a:ext cx="160632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4" name=""/>
                <p:cNvGrpSpPr/>
                <p:nvPr/>
              </p:nvGrpSpPr>
              <p:grpSpPr>
                <a:xfrm>
                  <a:off x="3517200" y="5409360"/>
                  <a:ext cx="1605600" cy="394200"/>
                  <a:chOff x="3517200" y="5409360"/>
                  <a:chExt cx="1605600" cy="39420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3571920" y="542448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2x7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517200" y="5409360"/>
                    <a:ext cx="160560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" name=""/>
              <p:cNvGrpSpPr/>
              <p:nvPr/>
            </p:nvGrpSpPr>
            <p:grpSpPr>
              <a:xfrm>
                <a:off x="5124600" y="5409360"/>
                <a:ext cx="1715040" cy="454680"/>
                <a:chOff x="5124600" y="5409360"/>
                <a:chExt cx="1715040" cy="4546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124600" y="5409360"/>
                  <a:ext cx="171504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5124600" y="5409360"/>
                  <a:ext cx="1714320" cy="394200"/>
                  <a:chOff x="5124600" y="5409360"/>
                  <a:chExt cx="1714320" cy="3942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178240" y="5424480"/>
                    <a:ext cx="16056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62x8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124600" y="5409360"/>
                    <a:ext cx="17143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" name=""/>
              <p:cNvGrpSpPr/>
              <p:nvPr/>
            </p:nvGrpSpPr>
            <p:grpSpPr>
              <a:xfrm>
                <a:off x="6840720" y="5409360"/>
                <a:ext cx="1605240" cy="454680"/>
                <a:chOff x="6840720" y="5409360"/>
                <a:chExt cx="1605240" cy="4546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840720" y="5409360"/>
                  <a:ext cx="1605240" cy="454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6840720" y="5409360"/>
                  <a:ext cx="1604520" cy="394200"/>
                  <a:chOff x="6840720" y="5409360"/>
                  <a:chExt cx="1604520" cy="3942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6894360" y="5424480"/>
                    <a:ext cx="1495800" cy="3636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ahoma"/>
                        <a:ea typeface="Tahoma"/>
                      </a:rPr>
                      <a:t>57x8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6840720" y="5409360"/>
                    <a:ext cx="1604520" cy="394200"/>
                  </a:xfrm>
                  <a:prstGeom prst="rect">
                    <a:avLst/>
                  </a:prstGeom>
                  <a:noFill/>
                  <a:ln cap="sq"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7" name=""/>
            <p:cNvSpPr/>
            <p:nvPr/>
          </p:nvSpPr>
          <p:spPr>
            <a:xfrm>
              <a:off x="2057400" y="1523880"/>
              <a:ext cx="6400080" cy="4343400"/>
            </a:xfrm>
            <a:prstGeom prst="rect">
              <a:avLst/>
            </a:prstGeom>
            <a:noFill/>
            <a:ln cap="sq" w="792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8:58:51Z</dcterms:created>
  <dc:creator>Gasparetz András</dc:creator>
  <dc:description/>
  <dc:language>en-US</dc:language>
  <cp:lastModifiedBy>...</cp:lastModifiedBy>
  <dcterms:modified xsi:type="dcterms:W3CDTF">2003-11-16T22:20:19Z</dcterms:modified>
  <cp:revision>101</cp:revision>
  <dc:subject/>
  <dc:title>Bürotika</dc:title>
</cp:coreProperties>
</file>