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482-5A2A-4D12-AE41-D8027BB6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F0E-284B-4837-B4EC-E575F2C6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CAF-71A5-48A3-8D26-0A3F3634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B31-1D83-48F1-BB0D-2BD6F0CC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40F3-2C36-453C-8BA1-6BF4CA7A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C49C5-F977-40E5-BCD6-0741055F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07A6F-1CCA-4BC9-8354-31129B15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8D8B8-07B6-41AE-AA33-B9297AB3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8C217-B80A-46E1-A83B-B2B1E854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CE030-6273-4B95-BE04-34D64A1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D211C-F189-415D-B8CC-35605F1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FAC-8578-493B-BB0D-6F50AC0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966A3-BAEB-451F-966C-E76BBC7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067C0-BCF0-46D2-8E90-DD2BCDD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635EB-3846-44C6-85E0-151390D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2DC0A-C74C-4096-A021-E036FBC2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E327E-E1BF-42C0-A8F4-845F069A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EA1-26A1-4394-9404-B9D64BFA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8E0-8A1F-447E-8BAB-E35F620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CFE-B37A-4650-9519-CEE1F6FC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F48-CA0F-4282-B488-06AF0E2F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260-A344-4E55-B244-D68C72B6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AE4-0622-4BA1-A547-5C437F9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D06-77AA-4B02-B154-BB63799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2D1E-64ED-4783-9C84-22F109C762D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FB7E-4FCC-4765-B04E-32BFC091F44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elezé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irő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fogun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beszéln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 a levé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velek csoport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evél tartalma, formai követelm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z elkülden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vele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eérkezett levele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iktatás (IQtat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onikus levelek sajátosságai (beveze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jó levél ismérvei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övidség, lényegre törő fogalma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gyilagosság és tapintatos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ímzett (vevő!) áll a középpontban, empatik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hozzáállású (még a 12. reklamáció 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us ér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logenek, klisék kerü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 vádaskodjunk, ne sértegessen másoka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Letter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9144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jó levél készítésének folyamata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zlat készítés (mi a cél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ai sorrend felépí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galma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emelések kiválasztása (arányok, formai kiemelés, fogalmaz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ellenőrz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jesírás ellenőrzé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ásban való ellenőr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vélminták haszná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why_here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328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Borítékolás,elküldés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09320" y="1218960"/>
            <a:ext cx="67755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íték kiválasz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ríték felirat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lad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ély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ézbesítés mód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észítés aláír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összehaj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/x mé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 c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ragaszt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 / postaköny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cimzes1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0481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hboritek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borítékok és tasakok méret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057400" y="3124080"/>
            <a:ext cx="6477120" cy="2971800"/>
            <a:chOff x="2057400" y="3124080"/>
            <a:chExt cx="6477120" cy="2971800"/>
          </a:xfrm>
        </p:grpSpPr>
        <p:grpSp>
          <p:nvGrpSpPr>
            <p:cNvPr id="330" name=""/>
            <p:cNvGrpSpPr/>
            <p:nvPr/>
          </p:nvGrpSpPr>
          <p:grpSpPr>
            <a:xfrm>
              <a:off x="2059560" y="3125880"/>
              <a:ext cx="6472440" cy="2967120"/>
              <a:chOff x="2059560" y="3125880"/>
              <a:chExt cx="6472440" cy="29671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059560" y="3125880"/>
                <a:ext cx="2176920" cy="438840"/>
                <a:chOff x="2059560" y="3125880"/>
                <a:chExt cx="2176920" cy="438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059560" y="3125880"/>
                  <a:ext cx="2176920" cy="4388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2059560" y="3125880"/>
                  <a:ext cx="2176920" cy="387000"/>
                  <a:chOff x="2059560" y="3125880"/>
                  <a:chExt cx="2176920" cy="3870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2072880" y="3138480"/>
                    <a:ext cx="2149920" cy="36108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ípu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059560" y="3125880"/>
                    <a:ext cx="2176920" cy="387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" name=""/>
              <p:cNvGrpSpPr/>
              <p:nvPr/>
            </p:nvGrpSpPr>
            <p:grpSpPr>
              <a:xfrm>
                <a:off x="4236480" y="3125880"/>
                <a:ext cx="4295520" cy="438840"/>
                <a:chOff x="4236480" y="3125880"/>
                <a:chExt cx="4295520" cy="438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236480" y="3125880"/>
                  <a:ext cx="4295520" cy="4388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4236480" y="3125880"/>
                  <a:ext cx="4295520" cy="387000"/>
                  <a:chOff x="4236480" y="3125880"/>
                  <a:chExt cx="4295520" cy="3870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249800" y="3138480"/>
                    <a:ext cx="4268520" cy="36108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Méret mm-be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(magasság x szélesség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236480" y="3125880"/>
                    <a:ext cx="4295520" cy="387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" name=""/>
              <p:cNvGrpSpPr/>
              <p:nvPr/>
            </p:nvGrpSpPr>
            <p:grpSpPr>
              <a:xfrm>
                <a:off x="2059560" y="3538800"/>
                <a:ext cx="2176920" cy="386640"/>
                <a:chOff x="2059560" y="3538800"/>
                <a:chExt cx="2176920" cy="3866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059560" y="3538800"/>
                  <a:ext cx="21769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2059560" y="3538800"/>
                  <a:ext cx="2176920" cy="335160"/>
                  <a:chOff x="2059560" y="3538800"/>
                  <a:chExt cx="2176920" cy="335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072880" y="355140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059560" y="353880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236480" y="3538800"/>
                <a:ext cx="4295520" cy="386640"/>
                <a:chOff x="4236480" y="3538800"/>
                <a:chExt cx="4295520" cy="3866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236480" y="3538800"/>
                  <a:ext cx="42955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236480" y="3538800"/>
                  <a:ext cx="4295520" cy="335160"/>
                  <a:chOff x="4236480" y="3538800"/>
                  <a:chExt cx="4295520" cy="33516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249800" y="355140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14x162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236480" y="353880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2059560" y="3899880"/>
                <a:ext cx="2176920" cy="387000"/>
                <a:chOff x="2059560" y="3899880"/>
                <a:chExt cx="2176920" cy="387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059560" y="3899880"/>
                  <a:ext cx="21769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2059560" y="3899880"/>
                  <a:ext cx="2176920" cy="335160"/>
                  <a:chOff x="2059560" y="3899880"/>
                  <a:chExt cx="2176920" cy="3351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72880" y="3912480"/>
                    <a:ext cx="21499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059560" y="389988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4236480" y="3899880"/>
                <a:ext cx="4295520" cy="387000"/>
                <a:chOff x="4236480" y="3899880"/>
                <a:chExt cx="4295520" cy="3870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236480" y="3899880"/>
                  <a:ext cx="42955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4236480" y="3899880"/>
                  <a:ext cx="4295520" cy="335160"/>
                  <a:chOff x="4236480" y="3899880"/>
                  <a:chExt cx="4295520" cy="3351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4249800" y="3912480"/>
                    <a:ext cx="42685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29x162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4236480" y="389988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2059560" y="4261320"/>
                <a:ext cx="2176920" cy="387000"/>
                <a:chOff x="2059560" y="4261320"/>
                <a:chExt cx="2176920" cy="387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059560" y="4261320"/>
                  <a:ext cx="21769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2059560" y="4261320"/>
                  <a:ext cx="2176920" cy="335160"/>
                  <a:chOff x="2059560" y="4261320"/>
                  <a:chExt cx="2176920" cy="3351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2072880" y="427392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A4 (DL</a:t>
                    </a: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059560" y="426132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4236480" y="4261320"/>
                <a:ext cx="4295520" cy="387000"/>
                <a:chOff x="4236480" y="4261320"/>
                <a:chExt cx="4295520" cy="387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236480" y="4261320"/>
                  <a:ext cx="42955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4236480" y="4261320"/>
                  <a:ext cx="4295520" cy="335160"/>
                  <a:chOff x="4236480" y="4261320"/>
                  <a:chExt cx="4295520" cy="3351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249800" y="427392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10x220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236480" y="426132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059560" y="4622400"/>
                <a:ext cx="2176920" cy="386640"/>
                <a:chOff x="2059560" y="4622400"/>
                <a:chExt cx="2176920" cy="3866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59560" y="4622400"/>
                  <a:ext cx="2176920" cy="3866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2059560" y="4622400"/>
                  <a:ext cx="2176920" cy="335160"/>
                  <a:chOff x="2059560" y="4622400"/>
                  <a:chExt cx="2176920" cy="3351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2072880" y="4635000"/>
                    <a:ext cx="21499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6/LC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059560" y="462240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4236480" y="4622400"/>
                <a:ext cx="4295520" cy="386640"/>
                <a:chOff x="4236480" y="4622400"/>
                <a:chExt cx="4295520" cy="3866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236480" y="4622400"/>
                  <a:ext cx="4295520" cy="3866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" name=""/>
                <p:cNvGrpSpPr/>
                <p:nvPr/>
              </p:nvGrpSpPr>
              <p:grpSpPr>
                <a:xfrm>
                  <a:off x="4236480" y="4622400"/>
                  <a:ext cx="4295520" cy="335160"/>
                  <a:chOff x="4236480" y="4622400"/>
                  <a:chExt cx="4295520" cy="33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4249800" y="4635000"/>
                    <a:ext cx="42685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14x229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236480" y="462240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059560" y="4983480"/>
                <a:ext cx="2176920" cy="387000"/>
                <a:chOff x="2059560" y="4983480"/>
                <a:chExt cx="2176920" cy="3870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059560" y="4983480"/>
                  <a:ext cx="21769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2059560" y="4983480"/>
                  <a:ext cx="2176920" cy="335160"/>
                  <a:chOff x="2059560" y="4983480"/>
                  <a:chExt cx="2176920" cy="3351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2072880" y="499608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59560" y="498348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4236480" y="4983480"/>
                <a:ext cx="4295520" cy="387000"/>
                <a:chOff x="4236480" y="4983480"/>
                <a:chExt cx="4295520" cy="387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236480" y="4983480"/>
                  <a:ext cx="42955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4236480" y="4983480"/>
                  <a:ext cx="4295520" cy="335160"/>
                  <a:chOff x="4236480" y="4983480"/>
                  <a:chExt cx="4295520" cy="33516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249800" y="499608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29x324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236480" y="498348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2059560" y="5344920"/>
                <a:ext cx="2176920" cy="387000"/>
                <a:chOff x="2059560" y="5344920"/>
                <a:chExt cx="2176920" cy="3870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059560" y="5344920"/>
                  <a:ext cx="21769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2059560" y="5344920"/>
                  <a:ext cx="2176920" cy="335160"/>
                  <a:chOff x="2059560" y="5344920"/>
                  <a:chExt cx="2176920" cy="335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072880" y="5357520"/>
                    <a:ext cx="21499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C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059560" y="534492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"/>
              <p:cNvGrpSpPr/>
              <p:nvPr/>
            </p:nvGrpSpPr>
            <p:grpSpPr>
              <a:xfrm>
                <a:off x="4236480" y="5344920"/>
                <a:ext cx="4295520" cy="387000"/>
                <a:chOff x="4236480" y="5344920"/>
                <a:chExt cx="4295520" cy="3870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236480" y="5344920"/>
                  <a:ext cx="42955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4236480" y="5344920"/>
                  <a:ext cx="4295520" cy="335160"/>
                  <a:chOff x="4236480" y="5344920"/>
                  <a:chExt cx="4295520" cy="3351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4249800" y="5357520"/>
                    <a:ext cx="42685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29x324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236480" y="534492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2059560" y="5706360"/>
                <a:ext cx="2176920" cy="386640"/>
                <a:chOff x="2059560" y="5706360"/>
                <a:chExt cx="2176920" cy="3866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059560" y="5706360"/>
                  <a:ext cx="21769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2059560" y="5706360"/>
                  <a:ext cx="2176920" cy="335160"/>
                  <a:chOff x="2059560" y="5706360"/>
                  <a:chExt cx="2176920" cy="3351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2072880" y="571896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B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059560" y="570636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4236480" y="5706360"/>
                <a:ext cx="4295520" cy="386640"/>
                <a:chOff x="4236480" y="5706360"/>
                <a:chExt cx="4295520" cy="386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236480" y="5706360"/>
                  <a:ext cx="42955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4236480" y="5706360"/>
                  <a:ext cx="4295520" cy="335160"/>
                  <a:chOff x="4236480" y="5706360"/>
                  <a:chExt cx="4295520" cy="335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249800" y="571896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50x353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236480" y="570636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1" name=""/>
            <p:cNvSpPr/>
            <p:nvPr/>
          </p:nvSpPr>
          <p:spPr>
            <a:xfrm>
              <a:off x="2057400" y="3124080"/>
              <a:ext cx="6477120" cy="2971800"/>
            </a:xfrm>
            <a:prstGeom prst="rect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hboritek" descr=""/>
          <p:cNvPicPr/>
          <p:nvPr/>
        </p:nvPicPr>
        <p:blipFill>
          <a:blip r:embed="rId2"/>
          <a:stretch/>
        </p:blipFill>
        <p:spPr>
          <a:xfrm>
            <a:off x="2057400" y="129528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9200" y="31161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boritek4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743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ostázás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67752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ostai szabályozás és eljá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éltípu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somago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lföldi lev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lad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 tömeges felad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ostakicsi" descr=""/>
          <p:cNvPicPr/>
          <p:nvPr/>
        </p:nvPicPr>
        <p:blipFill>
          <a:blip r:embed="rId1"/>
          <a:stretch/>
        </p:blipFill>
        <p:spPr>
          <a:xfrm>
            <a:off x="4191120" y="4343400"/>
            <a:ext cx="16002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Kategóriá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jánlott, expres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értivev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égi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yomtatvá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íjmentes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ülönleges kezelés (csom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 A postai díjszabás tábláz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NVTech_busi0495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5640" y="151920"/>
            <a:ext cx="66387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stai díjszabás 1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üldemények súlyhatára és terjedelme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40" y="6408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40" y="7037280"/>
            <a:ext cx="9144000" cy="158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40" y="7056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" action="ppaction://hlinksldjump"/>
              </a:rPr>
              <a:t>[1]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postafiókra vagy postán maradóra címzett levélé 2000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40" y="5646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09680" y="1447920"/>
            <a:ext cx="6553080" cy="4038480"/>
            <a:chOff x="2209680" y="1447920"/>
            <a:chExt cx="6553080" cy="4038480"/>
          </a:xfrm>
        </p:grpSpPr>
        <p:grpSp>
          <p:nvGrpSpPr>
            <p:cNvPr id="428" name=""/>
            <p:cNvGrpSpPr/>
            <p:nvPr/>
          </p:nvGrpSpPr>
          <p:grpSpPr>
            <a:xfrm>
              <a:off x="2215440" y="1451520"/>
              <a:ext cx="6540840" cy="4030560"/>
              <a:chOff x="2215440" y="1451520"/>
              <a:chExt cx="6540840" cy="40305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215440" y="1451520"/>
                <a:ext cx="1526400" cy="985680"/>
                <a:chOff x="2215440" y="1451520"/>
                <a:chExt cx="1526400" cy="9856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70880" y="1451520"/>
                  <a:ext cx="1415160" cy="98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küldemény megnevezé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15440" y="1451520"/>
                  <a:ext cx="1526400" cy="985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742200" y="1451520"/>
                <a:ext cx="2350080" cy="498600"/>
                <a:chOff x="3742200" y="1451520"/>
                <a:chExt cx="2350080" cy="498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798360" y="1451520"/>
                  <a:ext cx="2237760" cy="49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úlyhatá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742200" y="1451520"/>
                  <a:ext cx="2350080" cy="49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640" y="1451520"/>
                <a:ext cx="2663640" cy="985680"/>
                <a:chOff x="6092640" y="1451520"/>
                <a:chExt cx="2663640" cy="9856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48080" y="1451520"/>
                  <a:ext cx="2552400" cy="98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rjedele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640" y="1451520"/>
                  <a:ext cx="2663640" cy="985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742200" y="1950120"/>
                <a:ext cx="1382760" cy="487080"/>
                <a:chOff x="3742200" y="1950120"/>
                <a:chExt cx="1382760" cy="4870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798360" y="1950120"/>
                  <a:ext cx="12704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lföld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42200" y="1950120"/>
                  <a:ext cx="1382760" cy="48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125320" y="1950120"/>
                <a:ext cx="966600" cy="487080"/>
                <a:chOff x="5125320" y="1950120"/>
                <a:chExt cx="966600" cy="487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180760" y="1950120"/>
                  <a:ext cx="8546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ülföld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25320" y="1950120"/>
                  <a:ext cx="966600" cy="48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215440" y="2437200"/>
                <a:ext cx="1526400" cy="852480"/>
                <a:chOff x="2215440" y="2437200"/>
                <a:chExt cx="1526400" cy="852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270880" y="2437200"/>
                  <a:ext cx="141516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zabvány levé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215440" y="2437200"/>
                  <a:ext cx="15264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3742200" y="2437200"/>
                <a:ext cx="1382760" cy="852480"/>
                <a:chOff x="3742200" y="2437200"/>
                <a:chExt cx="1382760" cy="852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798360" y="2437200"/>
                  <a:ext cx="12704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42200" y="2437200"/>
                  <a:ext cx="138276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125320" y="2437200"/>
                <a:ext cx="966600" cy="852480"/>
                <a:chOff x="5125320" y="2437200"/>
                <a:chExt cx="966600" cy="8524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5180760" y="2437200"/>
                  <a:ext cx="8546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125320" y="2437200"/>
                  <a:ext cx="9666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092640" y="2437200"/>
                <a:ext cx="2663640" cy="852480"/>
                <a:chOff x="6092640" y="2437200"/>
                <a:chExt cx="2663640" cy="852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148080" y="2437200"/>
                  <a:ext cx="255240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4x162 mm-es vagy 110x220mm-es borítékban feladott küldemény (10 mm-es eltérés megengedet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092640" y="2437200"/>
                  <a:ext cx="266364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215440" y="3290040"/>
                <a:ext cx="1526400" cy="1339560"/>
                <a:chOff x="2215440" y="3290040"/>
                <a:chExt cx="1526400" cy="13395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270880" y="3290040"/>
                  <a:ext cx="141516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yéb levé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15440" y="3290040"/>
                  <a:ext cx="152640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742200" y="3290040"/>
                <a:ext cx="1382760" cy="1339560"/>
                <a:chOff x="3742200" y="3290040"/>
                <a:chExt cx="1382760" cy="1339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798360" y="3290040"/>
                  <a:ext cx="127044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42200" y="3290040"/>
                  <a:ext cx="138276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125320" y="3290040"/>
                <a:ext cx="966600" cy="1339560"/>
                <a:chOff x="5125320" y="3290040"/>
                <a:chExt cx="966600" cy="13395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180760" y="3290040"/>
                  <a:ext cx="85464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125320" y="3290040"/>
                  <a:ext cx="96660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640" y="3290040"/>
                <a:ext cx="2663640" cy="1339560"/>
                <a:chOff x="6092640" y="3290040"/>
                <a:chExt cx="2663640" cy="13395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48080" y="3290040"/>
                  <a:ext cx="255240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)  Legkisebb mérete 90x140 mm, +-2 mm eltérés megengedett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)  Legnagyobb mérete (hosszúság+szélesség+magasság) 900 mm, de leghosszabb mérete 600 mm-nél nem lehet nagyobb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640" y="3290040"/>
                  <a:ext cx="266364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215440" y="4629600"/>
                <a:ext cx="1526400" cy="852480"/>
                <a:chOff x="2215440" y="4629600"/>
                <a:chExt cx="1526400" cy="852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270880" y="4629600"/>
                  <a:ext cx="141516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velezőlap, képes levelezőla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215440" y="4629600"/>
                  <a:ext cx="15264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3742200" y="4629600"/>
                <a:ext cx="1382760" cy="852480"/>
                <a:chOff x="3742200" y="4629600"/>
                <a:chExt cx="1382760" cy="852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3798360" y="4629600"/>
                  <a:ext cx="12704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742200" y="4629600"/>
                  <a:ext cx="138276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125320" y="4629600"/>
                <a:ext cx="966600" cy="852480"/>
                <a:chOff x="5125320" y="4629600"/>
                <a:chExt cx="966600" cy="8524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180760" y="4629600"/>
                  <a:ext cx="8546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25320" y="4629600"/>
                  <a:ext cx="9666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092640" y="4629600"/>
                <a:ext cx="2663640" cy="852480"/>
                <a:chOff x="6092640" y="4629600"/>
                <a:chExt cx="2663640" cy="852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148080" y="4629600"/>
                  <a:ext cx="255240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gkisebb mérete 90x140 mm. Legnagyobb mérete 105x150 mm, +-2mm eltérés megengedet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092640" y="4629600"/>
                  <a:ext cx="266364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2209680" y="1447920"/>
              <a:ext cx="6553080" cy="40384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240" y="53276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7664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stai díjszabás 2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demények díj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911240" y="1374840"/>
            <a:ext cx="1204560" cy="453960"/>
            <a:chOff x="1911240" y="1374840"/>
            <a:chExt cx="1204560" cy="453960"/>
          </a:xfrm>
        </p:grpSpPr>
        <p:sp>
          <p:nvSpPr>
            <p:cNvPr id="484" name=""/>
            <p:cNvSpPr/>
            <p:nvPr/>
          </p:nvSpPr>
          <p:spPr>
            <a:xfrm>
              <a:off x="1973520" y="1374840"/>
              <a:ext cx="1079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Levél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11240" y="1374840"/>
              <a:ext cx="12045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16160" y="1374840"/>
            <a:ext cx="2027160" cy="453960"/>
            <a:chOff x="3116160" y="1374840"/>
            <a:chExt cx="2027160" cy="453960"/>
          </a:xfrm>
        </p:grpSpPr>
        <p:sp>
          <p:nvSpPr>
            <p:cNvPr id="487" name=""/>
            <p:cNvSpPr/>
            <p:nvPr/>
          </p:nvSpPr>
          <p:spPr>
            <a:xfrm>
              <a:off x="3178800" y="1374840"/>
              <a:ext cx="1901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lföl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16160" y="1374840"/>
              <a:ext cx="20271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143680" y="1374840"/>
            <a:ext cx="3688920" cy="453960"/>
            <a:chOff x="5143680" y="1374840"/>
            <a:chExt cx="3688920" cy="453960"/>
          </a:xfrm>
        </p:grpSpPr>
        <p:sp>
          <p:nvSpPr>
            <p:cNvPr id="490" name=""/>
            <p:cNvSpPr/>
            <p:nvPr/>
          </p:nvSpPr>
          <p:spPr>
            <a:xfrm>
              <a:off x="5205960" y="1374840"/>
              <a:ext cx="3563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ülföl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43680" y="1374840"/>
              <a:ext cx="36889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911240" y="1828800"/>
            <a:ext cx="1204560" cy="647640"/>
            <a:chOff x="1911240" y="1828800"/>
            <a:chExt cx="1204560" cy="647640"/>
          </a:xfrm>
        </p:grpSpPr>
        <p:sp>
          <p:nvSpPr>
            <p:cNvPr id="493" name=""/>
            <p:cNvSpPr/>
            <p:nvPr/>
          </p:nvSpPr>
          <p:spPr>
            <a:xfrm>
              <a:off x="1973520" y="182880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1828800"/>
              <a:ext cx="120456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116160" y="1828800"/>
            <a:ext cx="1012680" cy="647640"/>
            <a:chOff x="3116160" y="1828800"/>
            <a:chExt cx="1012680" cy="647640"/>
          </a:xfrm>
        </p:grpSpPr>
        <p:sp>
          <p:nvSpPr>
            <p:cNvPr id="496" name=""/>
            <p:cNvSpPr/>
            <p:nvPr/>
          </p:nvSpPr>
          <p:spPr>
            <a:xfrm>
              <a:off x="3178800" y="1828800"/>
              <a:ext cx="887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ly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16160" y="1828800"/>
              <a:ext cx="101268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129200" y="1828800"/>
            <a:ext cx="1014120" cy="647640"/>
            <a:chOff x="4129200" y="1828800"/>
            <a:chExt cx="1014120" cy="647640"/>
          </a:xfrm>
        </p:grpSpPr>
        <p:sp>
          <p:nvSpPr>
            <p:cNvPr id="499" name=""/>
            <p:cNvSpPr/>
            <p:nvPr/>
          </p:nvSpPr>
          <p:spPr>
            <a:xfrm>
              <a:off x="4191840" y="1828800"/>
              <a:ext cx="888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volsá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29200" y="1828800"/>
              <a:ext cx="101412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43680" y="1828800"/>
            <a:ext cx="1521720" cy="647640"/>
            <a:chOff x="5143680" y="1828800"/>
            <a:chExt cx="1521720" cy="647640"/>
          </a:xfrm>
        </p:grpSpPr>
        <p:sp>
          <p:nvSpPr>
            <p:cNvPr id="502" name=""/>
            <p:cNvSpPr/>
            <p:nvPr/>
          </p:nvSpPr>
          <p:spPr>
            <a:xfrm>
              <a:off x="5205960" y="1828800"/>
              <a:ext cx="1396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ö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rnyező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szág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3680" y="1828800"/>
              <a:ext cx="152172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665760" y="1828800"/>
            <a:ext cx="1083960" cy="647640"/>
            <a:chOff x="6665760" y="1828800"/>
            <a:chExt cx="1083960" cy="647640"/>
          </a:xfrm>
        </p:grpSpPr>
        <p:sp>
          <p:nvSpPr>
            <p:cNvPr id="505" name=""/>
            <p:cNvSpPr/>
            <p:nvPr/>
          </p:nvSpPr>
          <p:spPr>
            <a:xfrm>
              <a:off x="6728400" y="1828800"/>
              <a:ext cx="957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gyéb európai ország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65760" y="1828800"/>
              <a:ext cx="108396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750080" y="1828800"/>
            <a:ext cx="1082520" cy="647640"/>
            <a:chOff x="7750080" y="1828800"/>
            <a:chExt cx="1082520" cy="647640"/>
          </a:xfrm>
        </p:grpSpPr>
        <p:sp>
          <p:nvSpPr>
            <p:cNvPr id="508" name=""/>
            <p:cNvSpPr/>
            <p:nvPr/>
          </p:nvSpPr>
          <p:spPr>
            <a:xfrm>
              <a:off x="7812360" y="1828800"/>
              <a:ext cx="9572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gyéb külföl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50080" y="1828800"/>
              <a:ext cx="108252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911240" y="2476440"/>
            <a:ext cx="1204560" cy="432000"/>
            <a:chOff x="1911240" y="2476440"/>
            <a:chExt cx="1204560" cy="432000"/>
          </a:xfrm>
        </p:grpSpPr>
        <p:sp>
          <p:nvSpPr>
            <p:cNvPr id="511" name=""/>
            <p:cNvSpPr/>
            <p:nvPr/>
          </p:nvSpPr>
          <p:spPr>
            <a:xfrm>
              <a:off x="1973520" y="247644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abván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11240" y="2476440"/>
              <a:ext cx="12045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116160" y="2476440"/>
            <a:ext cx="1012680" cy="432000"/>
            <a:chOff x="3116160" y="2476440"/>
            <a:chExt cx="1012680" cy="432000"/>
          </a:xfrm>
        </p:grpSpPr>
        <p:sp>
          <p:nvSpPr>
            <p:cNvPr id="514" name=""/>
            <p:cNvSpPr/>
            <p:nvPr/>
          </p:nvSpPr>
          <p:spPr>
            <a:xfrm>
              <a:off x="3178800" y="2476440"/>
              <a:ext cx="887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16160" y="2476440"/>
              <a:ext cx="101268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129200" y="2476440"/>
            <a:ext cx="1014120" cy="432000"/>
            <a:chOff x="4129200" y="2476440"/>
            <a:chExt cx="1014120" cy="432000"/>
          </a:xfrm>
        </p:grpSpPr>
        <p:sp>
          <p:nvSpPr>
            <p:cNvPr id="517" name=""/>
            <p:cNvSpPr/>
            <p:nvPr/>
          </p:nvSpPr>
          <p:spPr>
            <a:xfrm>
              <a:off x="4191840" y="2476440"/>
              <a:ext cx="888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29200" y="2476440"/>
              <a:ext cx="10141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143680" y="2476440"/>
            <a:ext cx="1521720" cy="432000"/>
            <a:chOff x="5143680" y="2476440"/>
            <a:chExt cx="1521720" cy="432000"/>
          </a:xfrm>
        </p:grpSpPr>
        <p:sp>
          <p:nvSpPr>
            <p:cNvPr id="520" name=""/>
            <p:cNvSpPr/>
            <p:nvPr/>
          </p:nvSpPr>
          <p:spPr>
            <a:xfrm>
              <a:off x="5205960" y="2476440"/>
              <a:ext cx="13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43680" y="2476440"/>
              <a:ext cx="15217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665760" y="2476440"/>
            <a:ext cx="1083960" cy="432000"/>
            <a:chOff x="6665760" y="2476440"/>
            <a:chExt cx="1083960" cy="432000"/>
          </a:xfrm>
        </p:grpSpPr>
        <p:sp>
          <p:nvSpPr>
            <p:cNvPr id="523" name=""/>
            <p:cNvSpPr/>
            <p:nvPr/>
          </p:nvSpPr>
          <p:spPr>
            <a:xfrm>
              <a:off x="6728400" y="2476440"/>
              <a:ext cx="957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65760" y="2476440"/>
              <a:ext cx="10839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750080" y="2476440"/>
            <a:ext cx="1082520" cy="432000"/>
            <a:chOff x="7750080" y="2476440"/>
            <a:chExt cx="1082520" cy="432000"/>
          </a:xfrm>
        </p:grpSpPr>
        <p:sp>
          <p:nvSpPr>
            <p:cNvPr id="526" name=""/>
            <p:cNvSpPr/>
            <p:nvPr/>
          </p:nvSpPr>
          <p:spPr>
            <a:xfrm>
              <a:off x="7812360" y="2476440"/>
              <a:ext cx="957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50080" y="2476440"/>
              <a:ext cx="10825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911240" y="2908440"/>
            <a:ext cx="1204560" cy="452160"/>
            <a:chOff x="1911240" y="2908440"/>
            <a:chExt cx="1204560" cy="452160"/>
          </a:xfrm>
        </p:grpSpPr>
        <p:sp>
          <p:nvSpPr>
            <p:cNvPr id="529" name=""/>
            <p:cNvSpPr/>
            <p:nvPr/>
          </p:nvSpPr>
          <p:spPr>
            <a:xfrm>
              <a:off x="1973520" y="2908440"/>
              <a:ext cx="10796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gyéb  2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11240" y="2908440"/>
              <a:ext cx="120456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116160" y="2908440"/>
            <a:ext cx="1012680" cy="452160"/>
            <a:chOff x="3116160" y="2908440"/>
            <a:chExt cx="1012680" cy="452160"/>
          </a:xfrm>
        </p:grpSpPr>
        <p:sp>
          <p:nvSpPr>
            <p:cNvPr id="532" name=""/>
            <p:cNvSpPr/>
            <p:nvPr/>
          </p:nvSpPr>
          <p:spPr>
            <a:xfrm>
              <a:off x="3178800" y="2908440"/>
              <a:ext cx="8874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16160" y="2908440"/>
              <a:ext cx="101268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129200" y="2908440"/>
            <a:ext cx="1014120" cy="452160"/>
            <a:chOff x="4129200" y="2908440"/>
            <a:chExt cx="1014120" cy="452160"/>
          </a:xfrm>
        </p:grpSpPr>
        <p:sp>
          <p:nvSpPr>
            <p:cNvPr id="535" name=""/>
            <p:cNvSpPr/>
            <p:nvPr/>
          </p:nvSpPr>
          <p:spPr>
            <a:xfrm>
              <a:off x="4191840" y="2908440"/>
              <a:ext cx="888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29200" y="2908440"/>
              <a:ext cx="101412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143680" y="2908440"/>
            <a:ext cx="1521720" cy="452160"/>
            <a:chOff x="5143680" y="2908440"/>
            <a:chExt cx="1521720" cy="452160"/>
          </a:xfrm>
        </p:grpSpPr>
        <p:sp>
          <p:nvSpPr>
            <p:cNvPr id="538" name=""/>
            <p:cNvSpPr/>
            <p:nvPr/>
          </p:nvSpPr>
          <p:spPr>
            <a:xfrm>
              <a:off x="5205960" y="2908440"/>
              <a:ext cx="13968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43680" y="2908440"/>
              <a:ext cx="152172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665760" y="2908440"/>
            <a:ext cx="1083960" cy="452160"/>
            <a:chOff x="6665760" y="2908440"/>
            <a:chExt cx="1083960" cy="452160"/>
          </a:xfrm>
        </p:grpSpPr>
        <p:sp>
          <p:nvSpPr>
            <p:cNvPr id="541" name=""/>
            <p:cNvSpPr/>
            <p:nvPr/>
          </p:nvSpPr>
          <p:spPr>
            <a:xfrm>
              <a:off x="6728400" y="2908440"/>
              <a:ext cx="9579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65760" y="2908440"/>
              <a:ext cx="108396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750080" y="2908440"/>
            <a:ext cx="1082520" cy="452160"/>
            <a:chOff x="7750080" y="2908440"/>
            <a:chExt cx="1082520" cy="452160"/>
          </a:xfrm>
        </p:grpSpPr>
        <p:sp>
          <p:nvSpPr>
            <p:cNvPr id="544" name=""/>
            <p:cNvSpPr/>
            <p:nvPr/>
          </p:nvSpPr>
          <p:spPr>
            <a:xfrm>
              <a:off x="7812360" y="2908440"/>
              <a:ext cx="9572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50080" y="2908440"/>
              <a:ext cx="108252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11240" y="3360600"/>
            <a:ext cx="1204560" cy="432000"/>
            <a:chOff x="1911240" y="3360600"/>
            <a:chExt cx="1204560" cy="432000"/>
          </a:xfrm>
        </p:grpSpPr>
        <p:sp>
          <p:nvSpPr>
            <p:cNvPr id="547" name=""/>
            <p:cNvSpPr/>
            <p:nvPr/>
          </p:nvSpPr>
          <p:spPr>
            <a:xfrm>
              <a:off x="1973520" y="336060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11240" y="3360600"/>
              <a:ext cx="12045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116160" y="3360600"/>
            <a:ext cx="1012680" cy="432000"/>
            <a:chOff x="3116160" y="3360600"/>
            <a:chExt cx="1012680" cy="432000"/>
          </a:xfrm>
        </p:grpSpPr>
        <p:sp>
          <p:nvSpPr>
            <p:cNvPr id="550" name=""/>
            <p:cNvSpPr/>
            <p:nvPr/>
          </p:nvSpPr>
          <p:spPr>
            <a:xfrm>
              <a:off x="3178800" y="3360600"/>
              <a:ext cx="887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16160" y="3360600"/>
              <a:ext cx="101268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129200" y="3360600"/>
            <a:ext cx="1014120" cy="432000"/>
            <a:chOff x="4129200" y="3360600"/>
            <a:chExt cx="1014120" cy="432000"/>
          </a:xfrm>
        </p:grpSpPr>
        <p:sp>
          <p:nvSpPr>
            <p:cNvPr id="553" name=""/>
            <p:cNvSpPr/>
            <p:nvPr/>
          </p:nvSpPr>
          <p:spPr>
            <a:xfrm>
              <a:off x="4191840" y="3360600"/>
              <a:ext cx="888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9200" y="3360600"/>
              <a:ext cx="10141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143680" y="3360600"/>
            <a:ext cx="1521720" cy="432000"/>
            <a:chOff x="5143680" y="3360600"/>
            <a:chExt cx="1521720" cy="432000"/>
          </a:xfrm>
        </p:grpSpPr>
        <p:sp>
          <p:nvSpPr>
            <p:cNvPr id="556" name=""/>
            <p:cNvSpPr/>
            <p:nvPr/>
          </p:nvSpPr>
          <p:spPr>
            <a:xfrm>
              <a:off x="5205960" y="3360600"/>
              <a:ext cx="13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43680" y="3360600"/>
              <a:ext cx="15217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665760" y="3360600"/>
            <a:ext cx="1083960" cy="432000"/>
            <a:chOff x="6665760" y="3360600"/>
            <a:chExt cx="1083960" cy="432000"/>
          </a:xfrm>
        </p:grpSpPr>
        <p:sp>
          <p:nvSpPr>
            <p:cNvPr id="559" name=""/>
            <p:cNvSpPr/>
            <p:nvPr/>
          </p:nvSpPr>
          <p:spPr>
            <a:xfrm>
              <a:off x="6728400" y="3360600"/>
              <a:ext cx="957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65760" y="3360600"/>
              <a:ext cx="10839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7750080" y="3360600"/>
            <a:ext cx="1082520" cy="432000"/>
            <a:chOff x="7750080" y="3360600"/>
            <a:chExt cx="1082520" cy="432000"/>
          </a:xfrm>
        </p:grpSpPr>
        <p:sp>
          <p:nvSpPr>
            <p:cNvPr id="562" name=""/>
            <p:cNvSpPr/>
            <p:nvPr/>
          </p:nvSpPr>
          <p:spPr>
            <a:xfrm>
              <a:off x="7812360" y="3360600"/>
              <a:ext cx="957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33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50080" y="3360600"/>
              <a:ext cx="10825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911240" y="3792600"/>
            <a:ext cx="1204560" cy="453960"/>
            <a:chOff x="1911240" y="3792600"/>
            <a:chExt cx="1204560" cy="453960"/>
          </a:xfrm>
        </p:grpSpPr>
        <p:sp>
          <p:nvSpPr>
            <p:cNvPr id="565" name=""/>
            <p:cNvSpPr/>
            <p:nvPr/>
          </p:nvSpPr>
          <p:spPr>
            <a:xfrm>
              <a:off x="1973520" y="3792600"/>
              <a:ext cx="1079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11240" y="3792600"/>
              <a:ext cx="12045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116160" y="3792600"/>
            <a:ext cx="1012680" cy="453960"/>
            <a:chOff x="3116160" y="3792600"/>
            <a:chExt cx="1012680" cy="453960"/>
          </a:xfrm>
        </p:grpSpPr>
        <p:sp>
          <p:nvSpPr>
            <p:cNvPr id="568" name=""/>
            <p:cNvSpPr/>
            <p:nvPr/>
          </p:nvSpPr>
          <p:spPr>
            <a:xfrm>
              <a:off x="3178800" y="3792600"/>
              <a:ext cx="887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6160" y="3792600"/>
              <a:ext cx="101268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129200" y="3792600"/>
            <a:ext cx="1014120" cy="453960"/>
            <a:chOff x="4129200" y="3792600"/>
            <a:chExt cx="1014120" cy="453960"/>
          </a:xfrm>
        </p:grpSpPr>
        <p:sp>
          <p:nvSpPr>
            <p:cNvPr id="571" name=""/>
            <p:cNvSpPr/>
            <p:nvPr/>
          </p:nvSpPr>
          <p:spPr>
            <a:xfrm>
              <a:off x="4191840" y="3792600"/>
              <a:ext cx="888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29200" y="3792600"/>
              <a:ext cx="10141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143680" y="3792600"/>
            <a:ext cx="1521720" cy="453960"/>
            <a:chOff x="5143680" y="3792600"/>
            <a:chExt cx="1521720" cy="453960"/>
          </a:xfrm>
        </p:grpSpPr>
        <p:sp>
          <p:nvSpPr>
            <p:cNvPr id="574" name=""/>
            <p:cNvSpPr/>
            <p:nvPr/>
          </p:nvSpPr>
          <p:spPr>
            <a:xfrm>
              <a:off x="5205960" y="3792600"/>
              <a:ext cx="139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43680" y="3792600"/>
              <a:ext cx="15217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665760" y="3792600"/>
            <a:ext cx="1083960" cy="453960"/>
            <a:chOff x="6665760" y="3792600"/>
            <a:chExt cx="1083960" cy="453960"/>
          </a:xfrm>
        </p:grpSpPr>
        <p:sp>
          <p:nvSpPr>
            <p:cNvPr id="577" name=""/>
            <p:cNvSpPr/>
            <p:nvPr/>
          </p:nvSpPr>
          <p:spPr>
            <a:xfrm>
              <a:off x="6728400" y="3792600"/>
              <a:ext cx="957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65760" y="3792600"/>
              <a:ext cx="10839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750080" y="3792600"/>
            <a:ext cx="1082520" cy="453960"/>
            <a:chOff x="7750080" y="3792600"/>
            <a:chExt cx="1082520" cy="453960"/>
          </a:xfrm>
        </p:grpSpPr>
        <p:sp>
          <p:nvSpPr>
            <p:cNvPr id="580" name=""/>
            <p:cNvSpPr/>
            <p:nvPr/>
          </p:nvSpPr>
          <p:spPr>
            <a:xfrm>
              <a:off x="7812360" y="3792600"/>
              <a:ext cx="957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1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50080" y="3792600"/>
              <a:ext cx="10825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911240" y="4246560"/>
            <a:ext cx="1204560" cy="452520"/>
            <a:chOff x="1911240" y="4246560"/>
            <a:chExt cx="1204560" cy="452520"/>
          </a:xfrm>
        </p:grpSpPr>
        <p:sp>
          <p:nvSpPr>
            <p:cNvPr id="583" name=""/>
            <p:cNvSpPr/>
            <p:nvPr/>
          </p:nvSpPr>
          <p:spPr>
            <a:xfrm>
              <a:off x="1973520" y="4246560"/>
              <a:ext cx="10796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1240" y="4246560"/>
              <a:ext cx="120456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116160" y="4246560"/>
            <a:ext cx="1012680" cy="452520"/>
            <a:chOff x="3116160" y="4246560"/>
            <a:chExt cx="1012680" cy="452520"/>
          </a:xfrm>
        </p:grpSpPr>
        <p:sp>
          <p:nvSpPr>
            <p:cNvPr id="586" name=""/>
            <p:cNvSpPr/>
            <p:nvPr/>
          </p:nvSpPr>
          <p:spPr>
            <a:xfrm>
              <a:off x="3178800" y="4246560"/>
              <a:ext cx="887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16160" y="4246560"/>
              <a:ext cx="101268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129200" y="4246560"/>
            <a:ext cx="1014120" cy="452520"/>
            <a:chOff x="4129200" y="4246560"/>
            <a:chExt cx="1014120" cy="452520"/>
          </a:xfrm>
        </p:grpSpPr>
        <p:sp>
          <p:nvSpPr>
            <p:cNvPr id="589" name=""/>
            <p:cNvSpPr/>
            <p:nvPr/>
          </p:nvSpPr>
          <p:spPr>
            <a:xfrm>
              <a:off x="4191840" y="4246560"/>
              <a:ext cx="8881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95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29200" y="4246560"/>
              <a:ext cx="101412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143680" y="4246560"/>
            <a:ext cx="1521720" cy="452520"/>
            <a:chOff x="5143680" y="4246560"/>
            <a:chExt cx="1521720" cy="452520"/>
          </a:xfrm>
        </p:grpSpPr>
        <p:sp>
          <p:nvSpPr>
            <p:cNvPr id="592" name=""/>
            <p:cNvSpPr/>
            <p:nvPr/>
          </p:nvSpPr>
          <p:spPr>
            <a:xfrm>
              <a:off x="5205960" y="4246560"/>
              <a:ext cx="1396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43680" y="4246560"/>
              <a:ext cx="152172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665760" y="4246560"/>
            <a:ext cx="1083960" cy="452520"/>
            <a:chOff x="6665760" y="4246560"/>
            <a:chExt cx="1083960" cy="452520"/>
          </a:xfrm>
        </p:grpSpPr>
        <p:sp>
          <p:nvSpPr>
            <p:cNvPr id="595" name=""/>
            <p:cNvSpPr/>
            <p:nvPr/>
          </p:nvSpPr>
          <p:spPr>
            <a:xfrm>
              <a:off x="6728400" y="4246560"/>
              <a:ext cx="9579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65760" y="4246560"/>
              <a:ext cx="108396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750080" y="4246560"/>
            <a:ext cx="1082520" cy="452520"/>
            <a:chOff x="7750080" y="4246560"/>
            <a:chExt cx="1082520" cy="452520"/>
          </a:xfrm>
        </p:grpSpPr>
        <p:sp>
          <p:nvSpPr>
            <p:cNvPr id="598" name=""/>
            <p:cNvSpPr/>
            <p:nvPr/>
          </p:nvSpPr>
          <p:spPr>
            <a:xfrm>
              <a:off x="7812360" y="4246560"/>
              <a:ext cx="9572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50080" y="4246560"/>
              <a:ext cx="108252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911240" y="4699080"/>
            <a:ext cx="1204560" cy="431640"/>
            <a:chOff x="1911240" y="4699080"/>
            <a:chExt cx="1204560" cy="431640"/>
          </a:xfrm>
        </p:grpSpPr>
        <p:sp>
          <p:nvSpPr>
            <p:cNvPr id="601" name=""/>
            <p:cNvSpPr/>
            <p:nvPr/>
          </p:nvSpPr>
          <p:spPr>
            <a:xfrm>
              <a:off x="1973520" y="4699080"/>
              <a:ext cx="1079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11240" y="4699080"/>
              <a:ext cx="120456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116160" y="4699080"/>
            <a:ext cx="1012680" cy="431640"/>
            <a:chOff x="3116160" y="4699080"/>
            <a:chExt cx="1012680" cy="431640"/>
          </a:xfrm>
        </p:grpSpPr>
        <p:sp>
          <p:nvSpPr>
            <p:cNvPr id="604" name=""/>
            <p:cNvSpPr/>
            <p:nvPr/>
          </p:nvSpPr>
          <p:spPr>
            <a:xfrm>
              <a:off x="3178800" y="4699080"/>
              <a:ext cx="88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120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16160" y="4699080"/>
              <a:ext cx="101268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129200" y="4699080"/>
            <a:ext cx="1014120" cy="431640"/>
            <a:chOff x="4129200" y="4699080"/>
            <a:chExt cx="1014120" cy="431640"/>
          </a:xfrm>
        </p:grpSpPr>
        <p:sp>
          <p:nvSpPr>
            <p:cNvPr id="607" name=""/>
            <p:cNvSpPr/>
            <p:nvPr/>
          </p:nvSpPr>
          <p:spPr>
            <a:xfrm>
              <a:off x="4191840" y="4699080"/>
              <a:ext cx="888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120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29200" y="4699080"/>
              <a:ext cx="101412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143680" y="4699080"/>
            <a:ext cx="1521720" cy="431640"/>
            <a:chOff x="5143680" y="4699080"/>
            <a:chExt cx="1521720" cy="431640"/>
          </a:xfrm>
        </p:grpSpPr>
        <p:sp>
          <p:nvSpPr>
            <p:cNvPr id="610" name=""/>
            <p:cNvSpPr/>
            <p:nvPr/>
          </p:nvSpPr>
          <p:spPr>
            <a:xfrm>
              <a:off x="5205960" y="4699080"/>
              <a:ext cx="1396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3680" y="4699080"/>
              <a:ext cx="152172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665760" y="4699080"/>
            <a:ext cx="1083960" cy="431640"/>
            <a:chOff x="6665760" y="4699080"/>
            <a:chExt cx="1083960" cy="431640"/>
          </a:xfrm>
        </p:grpSpPr>
        <p:sp>
          <p:nvSpPr>
            <p:cNvPr id="613" name=""/>
            <p:cNvSpPr/>
            <p:nvPr/>
          </p:nvSpPr>
          <p:spPr>
            <a:xfrm>
              <a:off x="6728400" y="4699080"/>
              <a:ext cx="957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6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65760" y="4699080"/>
              <a:ext cx="108396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750080" y="4699080"/>
            <a:ext cx="1082520" cy="431640"/>
            <a:chOff x="7750080" y="4699080"/>
            <a:chExt cx="1082520" cy="431640"/>
          </a:xfrm>
        </p:grpSpPr>
        <p:sp>
          <p:nvSpPr>
            <p:cNvPr id="616" name=""/>
            <p:cNvSpPr/>
            <p:nvPr/>
          </p:nvSpPr>
          <p:spPr>
            <a:xfrm>
              <a:off x="7812360" y="4699080"/>
              <a:ext cx="9572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37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50080" y="4699080"/>
              <a:ext cx="108252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911240" y="5130720"/>
            <a:ext cx="1204560" cy="453960"/>
            <a:chOff x="1911240" y="5130720"/>
            <a:chExt cx="1204560" cy="453960"/>
          </a:xfrm>
        </p:grpSpPr>
        <p:sp>
          <p:nvSpPr>
            <p:cNvPr id="619" name=""/>
            <p:cNvSpPr/>
            <p:nvPr/>
          </p:nvSpPr>
          <p:spPr>
            <a:xfrm>
              <a:off x="1973520" y="5130720"/>
              <a:ext cx="1079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11240" y="5130720"/>
              <a:ext cx="12045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116160" y="5130720"/>
            <a:ext cx="1012680" cy="453960"/>
            <a:chOff x="3116160" y="5130720"/>
            <a:chExt cx="1012680" cy="453960"/>
          </a:xfrm>
        </p:grpSpPr>
        <p:sp>
          <p:nvSpPr>
            <p:cNvPr id="622" name=""/>
            <p:cNvSpPr/>
            <p:nvPr/>
          </p:nvSpPr>
          <p:spPr>
            <a:xfrm>
              <a:off x="3178800" y="5130720"/>
              <a:ext cx="887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16160" y="5130720"/>
              <a:ext cx="101268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129200" y="5130720"/>
            <a:ext cx="1014120" cy="453960"/>
            <a:chOff x="4129200" y="5130720"/>
            <a:chExt cx="1014120" cy="453960"/>
          </a:xfrm>
        </p:grpSpPr>
        <p:sp>
          <p:nvSpPr>
            <p:cNvPr id="625" name=""/>
            <p:cNvSpPr/>
            <p:nvPr/>
          </p:nvSpPr>
          <p:spPr>
            <a:xfrm>
              <a:off x="4191840" y="5130720"/>
              <a:ext cx="888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29200" y="5130720"/>
              <a:ext cx="10141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143680" y="5130720"/>
            <a:ext cx="1521720" cy="453960"/>
            <a:chOff x="5143680" y="5130720"/>
            <a:chExt cx="1521720" cy="453960"/>
          </a:xfrm>
        </p:grpSpPr>
        <p:sp>
          <p:nvSpPr>
            <p:cNvPr id="628" name=""/>
            <p:cNvSpPr/>
            <p:nvPr/>
          </p:nvSpPr>
          <p:spPr>
            <a:xfrm>
              <a:off x="5205960" y="5130720"/>
              <a:ext cx="139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43680" y="5130720"/>
              <a:ext cx="15217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665760" y="5130720"/>
            <a:ext cx="1083960" cy="453960"/>
            <a:chOff x="6665760" y="5130720"/>
            <a:chExt cx="1083960" cy="453960"/>
          </a:xfrm>
        </p:grpSpPr>
        <p:sp>
          <p:nvSpPr>
            <p:cNvPr id="631" name=""/>
            <p:cNvSpPr/>
            <p:nvPr/>
          </p:nvSpPr>
          <p:spPr>
            <a:xfrm>
              <a:off x="6728400" y="5130720"/>
              <a:ext cx="957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65760" y="5130720"/>
              <a:ext cx="10839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750080" y="5130720"/>
            <a:ext cx="1082520" cy="453960"/>
            <a:chOff x="7750080" y="5130720"/>
            <a:chExt cx="1082520" cy="453960"/>
          </a:xfrm>
        </p:grpSpPr>
        <p:sp>
          <p:nvSpPr>
            <p:cNvPr id="634" name=""/>
            <p:cNvSpPr/>
            <p:nvPr/>
          </p:nvSpPr>
          <p:spPr>
            <a:xfrm>
              <a:off x="7812360" y="5130720"/>
              <a:ext cx="957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9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50080" y="5130720"/>
              <a:ext cx="10825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1911240" y="5584680"/>
            <a:ext cx="1204560" cy="432000"/>
            <a:chOff x="1911240" y="5584680"/>
            <a:chExt cx="1204560" cy="432000"/>
          </a:xfrm>
        </p:grpSpPr>
        <p:sp>
          <p:nvSpPr>
            <p:cNvPr id="637" name=""/>
            <p:cNvSpPr/>
            <p:nvPr/>
          </p:nvSpPr>
          <p:spPr>
            <a:xfrm>
              <a:off x="1973520" y="558468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1240" y="5584680"/>
              <a:ext cx="12045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116160" y="5584680"/>
            <a:ext cx="2027160" cy="432000"/>
            <a:chOff x="3116160" y="5584680"/>
            <a:chExt cx="2027160" cy="432000"/>
          </a:xfrm>
        </p:grpSpPr>
        <p:sp>
          <p:nvSpPr>
            <p:cNvPr id="640" name=""/>
            <p:cNvSpPr/>
            <p:nvPr/>
          </p:nvSpPr>
          <p:spPr>
            <a:xfrm>
              <a:off x="3178800" y="5584680"/>
              <a:ext cx="19015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0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16160" y="5584680"/>
              <a:ext cx="20271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143680" y="5584680"/>
            <a:ext cx="1521720" cy="432000"/>
            <a:chOff x="5143680" y="5584680"/>
            <a:chExt cx="1521720" cy="432000"/>
          </a:xfrm>
        </p:grpSpPr>
        <p:sp>
          <p:nvSpPr>
            <p:cNvPr id="643" name=""/>
            <p:cNvSpPr/>
            <p:nvPr/>
          </p:nvSpPr>
          <p:spPr>
            <a:xfrm>
              <a:off x="5205960" y="5584680"/>
              <a:ext cx="13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36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43680" y="5584680"/>
              <a:ext cx="15217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6665760" y="5584680"/>
            <a:ext cx="1083960" cy="432000"/>
            <a:chOff x="6665760" y="5584680"/>
            <a:chExt cx="1083960" cy="432000"/>
          </a:xfrm>
        </p:grpSpPr>
        <p:sp>
          <p:nvSpPr>
            <p:cNvPr id="646" name=""/>
            <p:cNvSpPr/>
            <p:nvPr/>
          </p:nvSpPr>
          <p:spPr>
            <a:xfrm>
              <a:off x="6728400" y="5584680"/>
              <a:ext cx="957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60 F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65760" y="5584680"/>
              <a:ext cx="10839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750080" y="5584680"/>
            <a:ext cx="1082520" cy="432000"/>
            <a:chOff x="7750080" y="5584680"/>
            <a:chExt cx="1082520" cy="432000"/>
          </a:xfrm>
        </p:grpSpPr>
        <p:sp>
          <p:nvSpPr>
            <p:cNvPr id="649" name=""/>
            <p:cNvSpPr/>
            <p:nvPr/>
          </p:nvSpPr>
          <p:spPr>
            <a:xfrm>
              <a:off x="7812360" y="5584680"/>
              <a:ext cx="957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50080" y="5584680"/>
              <a:ext cx="10825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905120" y="1371600"/>
            <a:ext cx="6933960" cy="4648320"/>
          </a:xfrm>
          <a:prstGeom prst="rect">
            <a:avLst/>
          </a:prstGeom>
          <a:noFill/>
          <a:ln cap="sq"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81480" y="4267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ostai díjszabás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924680" y="5994360"/>
            <a:ext cx="76320" cy="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1905120"/>
            <a:ext cx="68580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ö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rnyező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ország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vátország, Románia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rbia-Montenegró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lovákia, Szlovénia, Ukraj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gyéb európai orszá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bánia, Andorra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sztri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gium, Bosznia-Hercegovina, Bulgária, Ciprus, Csehország, Dánia, Észtország, Fehéroroszország, Finnország, Franciaország, Görögország, Hollandia, Írország, Izland, Lengyelország, Lettország, Liechtenstein, Litvánia, Luxemburg, Macedónia, Málta, Moldova, Monaco, Nagy-Britannia, Németország, Norvégia, Olaszország, Oroszország, Portugália, San Marino, Spanyolország, Svájc, Svédország, Törökország, Vatik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6867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stai díjszabás 4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demények díj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09680" y="1927080"/>
            <a:ext cx="50292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velezőlap, képes levelező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133720" y="2666880"/>
            <a:ext cx="6324120" cy="3124080"/>
            <a:chOff x="2133720" y="2666880"/>
            <a:chExt cx="6324120" cy="3124080"/>
          </a:xfrm>
        </p:grpSpPr>
        <p:grpSp>
          <p:nvGrpSpPr>
            <p:cNvPr id="659" name=""/>
            <p:cNvGrpSpPr/>
            <p:nvPr/>
          </p:nvGrpSpPr>
          <p:grpSpPr>
            <a:xfrm>
              <a:off x="2140560" y="2673720"/>
              <a:ext cx="6308640" cy="3109320"/>
              <a:chOff x="2140560" y="2673720"/>
              <a:chExt cx="6308640" cy="310932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140560" y="2673720"/>
                <a:ext cx="2264760" cy="838800"/>
                <a:chOff x="2140560" y="2673720"/>
                <a:chExt cx="2264760" cy="8388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207880" y="2673720"/>
                  <a:ext cx="212940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lföld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40560" y="2673720"/>
                  <a:ext cx="2264760" cy="838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4405680" y="2673720"/>
                <a:ext cx="4043520" cy="838800"/>
                <a:chOff x="4405680" y="2673720"/>
                <a:chExt cx="4043520" cy="8388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4473000" y="2673720"/>
                  <a:ext cx="390852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ülföld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405680" y="2673720"/>
                  <a:ext cx="4043520" cy="838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140560" y="3512880"/>
                <a:ext cx="1094760" cy="1361520"/>
                <a:chOff x="2140560" y="3512880"/>
                <a:chExt cx="1094760" cy="13615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207880" y="3512880"/>
                  <a:ext cx="95940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ely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140560" y="3512880"/>
                  <a:ext cx="109476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235680" y="3512880"/>
                <a:ext cx="1169280" cy="1361520"/>
                <a:chOff x="3235680" y="3512880"/>
                <a:chExt cx="1169280" cy="13615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303000" y="3512880"/>
                  <a:ext cx="103392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ávolság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235680" y="3512880"/>
                  <a:ext cx="116928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405680" y="3512880"/>
                <a:ext cx="1435320" cy="1361520"/>
                <a:chOff x="4405680" y="3512880"/>
                <a:chExt cx="1435320" cy="13615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473000" y="3512880"/>
                  <a:ext cx="130032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ö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rnyező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ország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ok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5680" y="3512880"/>
                  <a:ext cx="143532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841360" y="3512880"/>
                <a:ext cx="1437840" cy="1361520"/>
                <a:chOff x="5841360" y="3512880"/>
                <a:chExt cx="1437840" cy="13615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909040" y="3512880"/>
                  <a:ext cx="130248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gyéb európai országb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841360" y="3512880"/>
                  <a:ext cx="143784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7279560" y="3512880"/>
                <a:ext cx="1169280" cy="1361520"/>
                <a:chOff x="7279560" y="3512880"/>
                <a:chExt cx="1169280" cy="1361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347240" y="3512880"/>
                  <a:ext cx="103392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gyéb külföld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279560" y="3512880"/>
                  <a:ext cx="116928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2140560" y="4875120"/>
                <a:ext cx="1094760" cy="907920"/>
                <a:chOff x="2140560" y="4875120"/>
                <a:chExt cx="1094760" cy="9079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2207880" y="4875120"/>
                  <a:ext cx="95940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140560" y="4875120"/>
                  <a:ext cx="109476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3235680" y="4875120"/>
                <a:ext cx="1169280" cy="907920"/>
                <a:chOff x="3235680" y="4875120"/>
                <a:chExt cx="1169280" cy="907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303000" y="4875120"/>
                  <a:ext cx="1033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35680" y="4875120"/>
                  <a:ext cx="116928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405680" y="4875120"/>
                <a:ext cx="1435320" cy="907920"/>
                <a:chOff x="4405680" y="4875120"/>
                <a:chExt cx="1435320" cy="907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473000" y="4875120"/>
                  <a:ext cx="13003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05680" y="4875120"/>
                  <a:ext cx="143532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841360" y="4875120"/>
                <a:ext cx="1437840" cy="907920"/>
                <a:chOff x="5841360" y="4875120"/>
                <a:chExt cx="1437840" cy="907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909040" y="4875120"/>
                  <a:ext cx="13024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841360" y="4875120"/>
                  <a:ext cx="143784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7279560" y="4875120"/>
                <a:ext cx="1169280" cy="907920"/>
                <a:chOff x="7279560" y="4875120"/>
                <a:chExt cx="1169280" cy="907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7347240" y="4875120"/>
                  <a:ext cx="1033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279560" y="4875120"/>
                  <a:ext cx="116928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6" name=""/>
            <p:cNvSpPr/>
            <p:nvPr/>
          </p:nvSpPr>
          <p:spPr>
            <a:xfrm>
              <a:off x="2133720" y="2666880"/>
              <a:ext cx="6324120" cy="31240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i 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é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09320" y="1523880"/>
            <a:ext cx="6775560" cy="455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gáltalánosabb írásbeli kommunikáció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zó elszáll, az írás megmarad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ba volant, scripta ma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z irodai munka egyik legnehezebb része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0 kg TNT vagy 10 papírla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darat tolláról, dolgozót levelé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gyel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Tartal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Környezet (mikor, ki, hogyan kézbesíti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quite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9051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továbbítás egyéb módjai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yorsposta DHL, Fe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ját fut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ü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tár (Hajtás Pajtás, Call C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brid továbbításo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yors tájékoztató + lassú formális: fax + levél, e-mail + lev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sak a lényeg + teljeskö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ájékoztatás: ajánlat + teljes anyag referenciákkal és árumintá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running_man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542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Ügyviteli munka (bürotika)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gyintézés, ügy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kezelés (SzMSz, Iratkezelési Szabályz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ralizá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entralizá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beérkez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levelek kezelése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677556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üldemények fogad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tabontás (titkos, saját ke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  (a fontos levelek felismerése, a norm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velek kezelése,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i dátum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 !!! (kez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 vagy van 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mény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 bélyeg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helyezése és kitöl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könyvbe törté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ejegy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tovább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r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rolás/archiv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iktatókönyv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beérkez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levelek kezelése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Két fontos fogalom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beérkező küldeményre elvégez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ortirozás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ntos levelek felismerése, a norm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velek kezelése,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i dátumoz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kronologikus csoportosítá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z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 vagy van 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mény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 bélyeg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helyezése és kitöl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könyvbe törté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ejegy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csönösen egyértelmű azonosítás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ktatási rendszere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zervezeti egységenké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nd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bejöv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émakör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 Az iktatókönyv egy old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E01616_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3065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7431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6600" y="838080"/>
            <a:ext cx="3591000" cy="11541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733920" y="8380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Qtató® Titkársági Információkezel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gy programrendszer, amel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plex megoldást nyúj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rodai adminisztráció gyors és pontos elvégzésére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2362320"/>
            <a:ext cx="693396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program moduláris felépítésű. Létez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általános célú (univerzális) iktatókönyv modul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ostai feladójegyzék készítő modul, 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specializált, önkormányzati iktató modu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Előnyei a hagyományos iktatással szemb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etárolt adatok több ezer irat esetén i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azonna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elérhetők. Az elektronikus keresés lehetővé teszi, hog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kár adattöredék, fél szó esetén i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program pillanatok alatt megtalálja a keresett iratot, nevet, céget, telefonszámo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z iktatókönyvek egyes rovatai átnevezhetők. Tetszőleges számú új rovatot lehet definiálni. Minden rovatnak saját törzsadattára lehet. A törzsadattárak használata révén rendkívül gyors és hibamentes az adatok rögzíté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431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6600" y="838080"/>
            <a:ext cx="3591000" cy="11541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733920" y="914400"/>
            <a:ext cx="510516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Qtató® program fő szolgáltatása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Levelek, faxok, egyéb iratok elektronikus iktatása tetszőleges bontásban, csoportosításb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Elektronikus, „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ostai feladójegyzék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” készítő modul.  (önállóan is rendelhető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Önkormányzati modu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, amely kezeli az „A” adatlapokat, elkészíti az éves statisztikai jelentése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Nevek, címek, telefonszámok nyilvántartás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atáridőnapló; napi teendők nyilvántartása, automatikus figyelé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özel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ázféle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menüből választható lista és egy önálló listagenerá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Átnevezhető, bővíthető iktatókönyvi rovat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ratkapcsolás különböző időszakú iratok közö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Többszintű, jelszavas hozzáférés védelem menükre és műveletekre lebont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onk004" descr=""/>
          <p:cNvPicPr/>
          <p:nvPr/>
        </p:nvPicPr>
        <p:blipFill>
          <a:blip r:embed="rId1"/>
          <a:stretch/>
        </p:blipFill>
        <p:spPr>
          <a:xfrm>
            <a:off x="1143000" y="1090440"/>
            <a:ext cx="71629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6720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onk014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yilvántartások vezetése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040" y="1523880"/>
            <a:ext cx="6553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tár felál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ok előkészítése tárol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z irattartók elrendez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erakott iratok elér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„kivettem” 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reszthivatkoz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veszett dokumentum keres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rakott (iktatott) irat tovább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em papír jellegű anyagok kezel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floppy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rofilm, minták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helyezés (témakör, földrajzi, kódo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NVTech_vc00528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1143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ele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soportosítása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--- Kü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-- Beérke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ális --- Informá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zleti ---- kapcsolattartás ----- mag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pcsolattartás – nem kötelező, de nagyon sokat seg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gköszö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ó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án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tul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iles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rattározás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6629400" cy="34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visszakeresés gyakorisága határozza meg az irattáro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s formájá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ldolgozás köz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áro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ivá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éltá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jt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officeandbusiness016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1154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it tartalmaz az iratkezelési szabályzat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5640" y="1927080"/>
            <a:ext cx="6699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 a fel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 szervez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 felügyeli a szervezetet/iratkezelé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ly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ok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natkozi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abályozáson kívül 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umok (pl.: METRO katalógus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len szabályozás alá vont irat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ás (szigorúbb) szabályozás alá vont dokumentumok meghatároz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it tartalmaz az iratkezelési szabályzat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133360" y="1676160"/>
            <a:ext cx="61722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érke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ato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nyilvántartás, iktatás szabály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gyintézéssel összefüg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el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rato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tározás/archívál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ejtezés    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zabályzat felülvizsgálati rend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rások biztosításának rend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éltito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olgozó saját nevére érkező levelekre vonatkozik a levélti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lól kivétel csak az előzetes írásos hozzájáru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nkaszerződés vagy titoktartási része is le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él tartalma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á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dvözlés, megszólítás (beosztás, személynév, 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 megszólítása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evél törzse (hármas tagolás: bevezetés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árgyalás, befejezés/összefogla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köszö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áí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54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ódosított levélformá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837720"/>
            <a:ext cx="6775560" cy="524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á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i információ, azono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vatkozási inform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ügyinté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ásolatot kik kap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éges levélpapí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cs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öbb aláí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éges aláí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oldal szigná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lékl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tói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Általános követelménye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érth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ya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bát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 egy levél e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lvasatban nem érth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kkor azt újra kell fogalmazni, mivel így nem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mmunikációké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jedelme ne haladja meg a feltétlenül indokolt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NVTech_peop3614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99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Formai követelménye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rányos elhelyezés hosszában és kereszt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olsó „maradvány” ol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aptörések elhelyez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méret 10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típus olvasható legy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engedni a WORD csábításainak (WordArt Brrr!!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038480" y="4724280"/>
            <a:ext cx="1171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zt ne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Tahoma"/>
              </a:rPr>
              <a:t>Papírformátumok és -mér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09320" y="1927080"/>
          <a:ext cx="6775560" cy="4151520"/>
        </p:xfrm>
        <a:graphic>
          <a:graphicData uri="http://schemas.openxmlformats.org/drawingml/2006/table"/>
        </a:graphic>
      </p:graphicFrame>
      <p:grpSp>
        <p:nvGrpSpPr>
          <p:cNvPr id="115" name=""/>
          <p:cNvGrpSpPr/>
          <p:nvPr/>
        </p:nvGrpSpPr>
        <p:grpSpPr>
          <a:xfrm>
            <a:off x="2057400" y="1523880"/>
            <a:ext cx="6400080" cy="4343400"/>
            <a:chOff x="2057400" y="1523880"/>
            <a:chExt cx="6400080" cy="4343400"/>
          </a:xfrm>
        </p:grpSpPr>
        <p:grpSp>
          <p:nvGrpSpPr>
            <p:cNvPr id="116" name=""/>
            <p:cNvGrpSpPr/>
            <p:nvPr/>
          </p:nvGrpSpPr>
          <p:grpSpPr>
            <a:xfrm>
              <a:off x="2066400" y="1526400"/>
              <a:ext cx="6379560" cy="4337640"/>
              <a:chOff x="2066400" y="1526400"/>
              <a:chExt cx="6379560" cy="43376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066400" y="1526400"/>
                <a:ext cx="1450080" cy="515520"/>
                <a:chOff x="2066400" y="1526400"/>
                <a:chExt cx="1450080" cy="515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066400" y="1526400"/>
                  <a:ext cx="145008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2066400" y="1526400"/>
                  <a:ext cx="1449360" cy="455040"/>
                  <a:chOff x="2066400" y="1526400"/>
                  <a:chExt cx="1449360" cy="4550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2121120" y="1541520"/>
                    <a:ext cx="133956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Formát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066400" y="1526400"/>
                    <a:ext cx="144936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3517200" y="1526400"/>
                <a:ext cx="1606320" cy="515520"/>
                <a:chOff x="3517200" y="1526400"/>
                <a:chExt cx="1606320" cy="5155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517200" y="1526400"/>
                  <a:ext cx="160632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3517200" y="1526400"/>
                  <a:ext cx="1605600" cy="455040"/>
                  <a:chOff x="3517200" y="1526400"/>
                  <a:chExt cx="1605600" cy="4550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571920" y="1541520"/>
                    <a:ext cx="149580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A</a:t>
                    </a:r>
                    <a:br>
                      <a:rPr sz="1200"/>
                    </a:b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(mm-ben)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517200" y="1526400"/>
                    <a:ext cx="160560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" name=""/>
              <p:cNvGrpSpPr/>
              <p:nvPr/>
            </p:nvGrpSpPr>
            <p:grpSpPr>
              <a:xfrm>
                <a:off x="5124600" y="1526400"/>
                <a:ext cx="1715040" cy="515520"/>
                <a:chOff x="5124600" y="1526400"/>
                <a:chExt cx="1715040" cy="515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24600" y="1526400"/>
                  <a:ext cx="171504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5124600" y="1526400"/>
                  <a:ext cx="1714320" cy="455040"/>
                  <a:chOff x="5124600" y="1526400"/>
                  <a:chExt cx="1714320" cy="4550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178240" y="1541520"/>
                    <a:ext cx="160560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B</a:t>
                    </a:r>
                    <a:br>
                      <a:rPr sz="1200"/>
                    </a:b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(mm-ben)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124600" y="1526400"/>
                    <a:ext cx="171432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840720" y="1526400"/>
                <a:ext cx="1605240" cy="515520"/>
                <a:chOff x="6840720" y="1526400"/>
                <a:chExt cx="1605240" cy="515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40720" y="1526400"/>
                  <a:ext cx="160524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840720" y="1526400"/>
                  <a:ext cx="1604520" cy="455040"/>
                  <a:chOff x="6840720" y="1526400"/>
                  <a:chExt cx="1604520" cy="4550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894360" y="1541520"/>
                    <a:ext cx="149580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C</a:t>
                    </a:r>
                    <a:br>
                      <a:rPr sz="1200"/>
                    </a:b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(mm-ben)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840720" y="1526400"/>
                    <a:ext cx="160452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2066400" y="2011680"/>
                <a:ext cx="1450080" cy="455040"/>
                <a:chOff x="2066400" y="2011680"/>
                <a:chExt cx="1450080" cy="455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066400" y="2011680"/>
                  <a:ext cx="145008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2066400" y="2011680"/>
                  <a:ext cx="1449360" cy="394200"/>
                  <a:chOff x="2066400" y="2011680"/>
                  <a:chExt cx="1449360" cy="3942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2121120" y="202680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066400" y="201168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3517200" y="2011680"/>
                <a:ext cx="1606320" cy="455040"/>
                <a:chOff x="3517200" y="2011680"/>
                <a:chExt cx="1606320" cy="455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517200" y="2011680"/>
                  <a:ext cx="160632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3517200" y="2011680"/>
                  <a:ext cx="1605600" cy="394200"/>
                  <a:chOff x="3517200" y="2011680"/>
                  <a:chExt cx="1605600" cy="3942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571920" y="20268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41x1,18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517200" y="201168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5124600" y="2011680"/>
                <a:ext cx="1715040" cy="455040"/>
                <a:chOff x="5124600" y="2011680"/>
                <a:chExt cx="1715040" cy="4550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124600" y="2011680"/>
                  <a:ext cx="17150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5124600" y="2011680"/>
                  <a:ext cx="1714320" cy="394200"/>
                  <a:chOff x="5124600" y="2011680"/>
                  <a:chExt cx="1714320" cy="394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5178240" y="202680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.000x1,41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124600" y="201168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40720" y="2011680"/>
                <a:ext cx="1605240" cy="455040"/>
                <a:chOff x="6840720" y="2011680"/>
                <a:chExt cx="1605240" cy="4550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40720" y="2011680"/>
                  <a:ext cx="16052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840720" y="2011680"/>
                  <a:ext cx="1604520" cy="394200"/>
                  <a:chOff x="6840720" y="2011680"/>
                  <a:chExt cx="1604520" cy="3942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894360" y="20268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917x1,29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840720" y="201168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2066400" y="2436480"/>
                <a:ext cx="1450080" cy="455040"/>
                <a:chOff x="2066400" y="2436480"/>
                <a:chExt cx="1450080" cy="4550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66400" y="2436480"/>
                  <a:ext cx="145008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2066400" y="2436480"/>
                  <a:ext cx="1449360" cy="394200"/>
                  <a:chOff x="2066400" y="2436480"/>
                  <a:chExt cx="1449360" cy="3942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121120" y="245160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66400" y="243648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517200" y="2436480"/>
                <a:ext cx="1606320" cy="455040"/>
                <a:chOff x="3517200" y="2436480"/>
                <a:chExt cx="1606320" cy="455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517200" y="2436480"/>
                  <a:ext cx="160632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17200" y="2436480"/>
                  <a:ext cx="1605600" cy="394200"/>
                  <a:chOff x="3517200" y="2436480"/>
                  <a:chExt cx="1605600" cy="3942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571920" y="245160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94x84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17200" y="243648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5124600" y="2436480"/>
                <a:ext cx="1715040" cy="455040"/>
                <a:chOff x="5124600" y="2436480"/>
                <a:chExt cx="1715040" cy="455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124600" y="2436480"/>
                  <a:ext cx="17150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5124600" y="2436480"/>
                  <a:ext cx="1714320" cy="394200"/>
                  <a:chOff x="5124600" y="2436480"/>
                  <a:chExt cx="1714320" cy="39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178240" y="245160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707x1.0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124600" y="243648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6840720" y="2436480"/>
                <a:ext cx="1605240" cy="455040"/>
                <a:chOff x="6840720" y="2436480"/>
                <a:chExt cx="1605240" cy="455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840720" y="2436480"/>
                  <a:ext cx="16052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840720" y="2436480"/>
                  <a:ext cx="1604520" cy="394200"/>
                  <a:chOff x="6840720" y="2436480"/>
                  <a:chExt cx="1604520" cy="394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894360" y="245160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648x91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840720" y="243648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066400" y="2861280"/>
                <a:ext cx="1450080" cy="454680"/>
                <a:chOff x="2066400" y="2861280"/>
                <a:chExt cx="1450080" cy="454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066400" y="2861280"/>
                  <a:ext cx="145008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2066400" y="2861280"/>
                  <a:ext cx="1449360" cy="394200"/>
                  <a:chOff x="2066400" y="2861280"/>
                  <a:chExt cx="1449360" cy="3942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2121120" y="287640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066400" y="286128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3517200" y="2861280"/>
                <a:ext cx="1606320" cy="454680"/>
                <a:chOff x="3517200" y="2861280"/>
                <a:chExt cx="1606320" cy="454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517200" y="2861280"/>
                  <a:ext cx="160632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17200" y="2861280"/>
                  <a:ext cx="1605600" cy="394200"/>
                  <a:chOff x="3517200" y="2861280"/>
                  <a:chExt cx="1605600" cy="394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71920" y="28764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420x59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17200" y="286128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5124600" y="2861280"/>
                <a:ext cx="1715040" cy="454680"/>
                <a:chOff x="5124600" y="2861280"/>
                <a:chExt cx="1715040" cy="4546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24600" y="2861280"/>
                  <a:ext cx="17150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5124600" y="2861280"/>
                  <a:ext cx="1714320" cy="394200"/>
                  <a:chOff x="5124600" y="2861280"/>
                  <a:chExt cx="1714320" cy="3942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5178240" y="287640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00x70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124600" y="286128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840720" y="2861280"/>
                <a:ext cx="1605240" cy="454680"/>
                <a:chOff x="6840720" y="2861280"/>
                <a:chExt cx="1605240" cy="4546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840720" y="2861280"/>
                  <a:ext cx="16052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6840720" y="2861280"/>
                  <a:ext cx="1604520" cy="394200"/>
                  <a:chOff x="6840720" y="2861280"/>
                  <a:chExt cx="1604520" cy="394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894360" y="28764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458x64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840720" y="286128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2066400" y="3285720"/>
                <a:ext cx="1450080" cy="455040"/>
                <a:chOff x="2066400" y="3285720"/>
                <a:chExt cx="1450080" cy="455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66400" y="3285720"/>
                  <a:ext cx="145008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2066400" y="3285720"/>
                  <a:ext cx="1449360" cy="394200"/>
                  <a:chOff x="2066400" y="3285720"/>
                  <a:chExt cx="1449360" cy="3942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121120" y="330084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66400" y="328572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3517200" y="3285720"/>
                <a:ext cx="1606320" cy="455040"/>
                <a:chOff x="3517200" y="3285720"/>
                <a:chExt cx="1606320" cy="4550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517200" y="3285720"/>
                  <a:ext cx="160632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3517200" y="3285720"/>
                  <a:ext cx="1605600" cy="394200"/>
                  <a:chOff x="3517200" y="3285720"/>
                  <a:chExt cx="1605600" cy="3942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571920" y="33008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97x42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517200" y="328572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5124600" y="3285720"/>
                <a:ext cx="1715040" cy="455040"/>
                <a:chOff x="5124600" y="3285720"/>
                <a:chExt cx="1715040" cy="4550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124600" y="3285720"/>
                  <a:ext cx="17150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124600" y="3285720"/>
                  <a:ext cx="1714320" cy="394200"/>
                  <a:chOff x="5124600" y="3285720"/>
                  <a:chExt cx="1714320" cy="3942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178240" y="330084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353x5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124600" y="328572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6840720" y="3285720"/>
                <a:ext cx="1605240" cy="455040"/>
                <a:chOff x="6840720" y="3285720"/>
                <a:chExt cx="1605240" cy="455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40720" y="3285720"/>
                  <a:ext cx="16052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6840720" y="3285720"/>
                  <a:ext cx="1604520" cy="394200"/>
                  <a:chOff x="6840720" y="3285720"/>
                  <a:chExt cx="1604520" cy="394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894360" y="33008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324x45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40720" y="328572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2066400" y="3710520"/>
                <a:ext cx="1450080" cy="455040"/>
                <a:chOff x="2066400" y="3710520"/>
                <a:chExt cx="1450080" cy="455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066400" y="3710520"/>
                  <a:ext cx="145008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2066400" y="3710520"/>
                  <a:ext cx="1449360" cy="394200"/>
                  <a:chOff x="2066400" y="3710520"/>
                  <a:chExt cx="1449360" cy="39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2121120" y="372564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66400" y="371052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3517200" y="3710520"/>
                <a:ext cx="1606320" cy="455040"/>
                <a:chOff x="3517200" y="3710520"/>
                <a:chExt cx="1606320" cy="4550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517200" y="3710520"/>
                  <a:ext cx="160632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3517200" y="3710520"/>
                  <a:ext cx="1605600" cy="394200"/>
                  <a:chOff x="3517200" y="3710520"/>
                  <a:chExt cx="1605600" cy="394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71920" y="372564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10x29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17200" y="371052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5124600" y="3710520"/>
                <a:ext cx="1715040" cy="455040"/>
                <a:chOff x="5124600" y="3710520"/>
                <a:chExt cx="1715040" cy="455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124600" y="3710520"/>
                  <a:ext cx="17150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5124600" y="3710520"/>
                  <a:ext cx="1714320" cy="394200"/>
                  <a:chOff x="5124600" y="3710520"/>
                  <a:chExt cx="1714320" cy="3942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178240" y="372564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50x35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124600" y="371052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6840720" y="3710520"/>
                <a:ext cx="1605240" cy="455040"/>
                <a:chOff x="6840720" y="3710520"/>
                <a:chExt cx="1605240" cy="4550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840720" y="3710520"/>
                  <a:ext cx="16052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6840720" y="3710520"/>
                  <a:ext cx="1604520" cy="394200"/>
                  <a:chOff x="6840720" y="3710520"/>
                  <a:chExt cx="1604520" cy="3942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6894360" y="372564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29x32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840720" y="371052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2066400" y="4135320"/>
                <a:ext cx="1450080" cy="454680"/>
                <a:chOff x="2066400" y="4135320"/>
                <a:chExt cx="1450080" cy="454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066400" y="4135320"/>
                  <a:ext cx="145008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2066400" y="4135320"/>
                  <a:ext cx="1449360" cy="394200"/>
                  <a:chOff x="2066400" y="4135320"/>
                  <a:chExt cx="1449360" cy="3942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2121120" y="415044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66400" y="413532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3517200" y="4135320"/>
                <a:ext cx="1606320" cy="454680"/>
                <a:chOff x="3517200" y="4135320"/>
                <a:chExt cx="1606320" cy="4546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517200" y="4135320"/>
                  <a:ext cx="160632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3517200" y="4135320"/>
                  <a:ext cx="1605600" cy="394200"/>
                  <a:chOff x="3517200" y="4135320"/>
                  <a:chExt cx="1605600" cy="3942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571920" y="41504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48x21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517200" y="413532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5124600" y="4135320"/>
                <a:ext cx="1715040" cy="454680"/>
                <a:chOff x="5124600" y="4135320"/>
                <a:chExt cx="1715040" cy="4546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124600" y="4135320"/>
                  <a:ext cx="171504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5124600" y="4135320"/>
                  <a:ext cx="1714320" cy="394200"/>
                  <a:chOff x="5124600" y="4135320"/>
                  <a:chExt cx="1714320" cy="3942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5178240" y="415044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76x25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124600" y="413532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6840720" y="4135320"/>
                <a:ext cx="1605240" cy="454680"/>
                <a:chOff x="6840720" y="4135320"/>
                <a:chExt cx="1605240" cy="454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840720" y="4135320"/>
                  <a:ext cx="160524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6840720" y="4135320"/>
                  <a:ext cx="1604520" cy="394200"/>
                  <a:chOff x="6840720" y="4135320"/>
                  <a:chExt cx="1604520" cy="394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6894360" y="41504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62x22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840720" y="413532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2066400" y="4559760"/>
                <a:ext cx="1450080" cy="455040"/>
                <a:chOff x="2066400" y="4559760"/>
                <a:chExt cx="1450080" cy="4550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066400" y="4559760"/>
                  <a:ext cx="145008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2066400" y="4559760"/>
                  <a:ext cx="1449360" cy="394200"/>
                  <a:chOff x="2066400" y="4559760"/>
                  <a:chExt cx="1449360" cy="39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121120" y="457488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66400" y="455976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3517200" y="4559760"/>
                <a:ext cx="1606320" cy="455040"/>
                <a:chOff x="3517200" y="4559760"/>
                <a:chExt cx="1606320" cy="4550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517200" y="4559760"/>
                  <a:ext cx="160632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3517200" y="4559760"/>
                  <a:ext cx="1605600" cy="394200"/>
                  <a:chOff x="3517200" y="4559760"/>
                  <a:chExt cx="1605600" cy="3942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571920" y="45748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05x14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517200" y="455976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5124600" y="4559760"/>
                <a:ext cx="1715040" cy="455040"/>
                <a:chOff x="5124600" y="4559760"/>
                <a:chExt cx="1715040" cy="455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124600" y="4559760"/>
                  <a:ext cx="17150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5124600" y="4559760"/>
                  <a:ext cx="1714320" cy="394200"/>
                  <a:chOff x="5124600" y="4559760"/>
                  <a:chExt cx="1714320" cy="3942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178240" y="457488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25x17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124600" y="455976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6840720" y="4559760"/>
                <a:ext cx="1605240" cy="455040"/>
                <a:chOff x="6840720" y="4559760"/>
                <a:chExt cx="1605240" cy="4550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840720" y="4559760"/>
                  <a:ext cx="16052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6840720" y="4559760"/>
                  <a:ext cx="1604520" cy="394200"/>
                  <a:chOff x="6840720" y="4559760"/>
                  <a:chExt cx="1604520" cy="3942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6894360" y="45748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14x16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840720" y="455976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2066400" y="4984560"/>
                <a:ext cx="1450080" cy="455040"/>
                <a:chOff x="2066400" y="4984560"/>
                <a:chExt cx="1450080" cy="455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66400" y="4984560"/>
                  <a:ext cx="145008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2066400" y="4984560"/>
                  <a:ext cx="1449360" cy="394200"/>
                  <a:chOff x="2066400" y="4984560"/>
                  <a:chExt cx="1449360" cy="3942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2121120" y="499968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66400" y="498456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3517200" y="4984560"/>
                <a:ext cx="1606320" cy="455040"/>
                <a:chOff x="3517200" y="4984560"/>
                <a:chExt cx="1606320" cy="455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517200" y="4984560"/>
                  <a:ext cx="160632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3517200" y="4984560"/>
                  <a:ext cx="1605600" cy="394200"/>
                  <a:chOff x="3517200" y="4984560"/>
                  <a:chExt cx="1605600" cy="3942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571920" y="499968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74x10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17200" y="498456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5124600" y="4984560"/>
                <a:ext cx="1715040" cy="455040"/>
                <a:chOff x="5124600" y="4984560"/>
                <a:chExt cx="1715040" cy="4550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124600" y="4984560"/>
                  <a:ext cx="17150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5124600" y="4984560"/>
                  <a:ext cx="1714320" cy="394200"/>
                  <a:chOff x="5124600" y="4984560"/>
                  <a:chExt cx="1714320" cy="3942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5178240" y="499968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8x1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124600" y="498456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6840720" y="4984560"/>
                <a:ext cx="1605240" cy="455040"/>
                <a:chOff x="6840720" y="4984560"/>
                <a:chExt cx="1605240" cy="4550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840720" y="4984560"/>
                  <a:ext cx="16052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6840720" y="4984560"/>
                  <a:ext cx="1604520" cy="394200"/>
                  <a:chOff x="6840720" y="4984560"/>
                  <a:chExt cx="1604520" cy="3942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894360" y="499968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1x11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840720" y="498456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2066400" y="5409360"/>
                <a:ext cx="1450080" cy="454680"/>
                <a:chOff x="2066400" y="5409360"/>
                <a:chExt cx="1450080" cy="454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066400" y="5409360"/>
                  <a:ext cx="145008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2066400" y="5409360"/>
                  <a:ext cx="1449360" cy="394200"/>
                  <a:chOff x="2066400" y="5409360"/>
                  <a:chExt cx="1449360" cy="394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2121120" y="542448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066400" y="540936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3517200" y="5409360"/>
                <a:ext cx="1606320" cy="454680"/>
                <a:chOff x="3517200" y="5409360"/>
                <a:chExt cx="1606320" cy="454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517200" y="5409360"/>
                  <a:ext cx="160632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517200" y="5409360"/>
                  <a:ext cx="1605600" cy="394200"/>
                  <a:chOff x="3517200" y="5409360"/>
                  <a:chExt cx="1605600" cy="394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571920" y="54244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2x7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517200" y="540936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5124600" y="5409360"/>
                <a:ext cx="1715040" cy="454680"/>
                <a:chOff x="5124600" y="5409360"/>
                <a:chExt cx="1715040" cy="4546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124600" y="5409360"/>
                  <a:ext cx="17150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5124600" y="5409360"/>
                  <a:ext cx="1714320" cy="394200"/>
                  <a:chOff x="5124600" y="5409360"/>
                  <a:chExt cx="1714320" cy="3942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178240" y="542448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62x8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124600" y="540936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6840720" y="5409360"/>
                <a:ext cx="1605240" cy="454680"/>
                <a:chOff x="6840720" y="5409360"/>
                <a:chExt cx="1605240" cy="454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840720" y="5409360"/>
                  <a:ext cx="16052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6840720" y="5409360"/>
                  <a:ext cx="1604520" cy="394200"/>
                  <a:chOff x="6840720" y="5409360"/>
                  <a:chExt cx="1604520" cy="3942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6894360" y="54244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7x8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840720" y="540936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7" name=""/>
            <p:cNvSpPr/>
            <p:nvPr/>
          </p:nvSpPr>
          <p:spPr>
            <a:xfrm>
              <a:off x="2057400" y="1523880"/>
              <a:ext cx="6400080" cy="4343400"/>
            </a:xfrm>
            <a:prstGeom prst="rect">
              <a:avLst/>
            </a:prstGeom>
            <a:noFill/>
            <a:ln cap="sq"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8:58:51Z</dcterms:created>
  <dc:creator>Gasparetz András</dc:creator>
  <dc:description/>
  <dc:language>en-US</dc:language>
  <cp:lastModifiedBy>...</cp:lastModifiedBy>
  <dcterms:modified xsi:type="dcterms:W3CDTF">2003-11-16T22:20:19Z</dcterms:modified>
  <cp:revision>101</cp:revision>
  <dc:subject/>
  <dc:title>Bürotika</dc:title>
</cp:coreProperties>
</file>