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EC2C-0FB3-41D8-B1FE-CB788AA54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CC7-A990-495A-95BF-DD92464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A18-0810-49E2-A8E4-4D81D1DD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DC5-AE79-407E-A495-50B5C828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1B8A-FD40-4975-BF57-54418533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2BEF-A1CD-479F-A97E-4450C5C7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13D7-20E3-447A-8589-F5C3EE07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7A51-AE19-4DC9-B1BB-04414BDD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BFB5-4879-49FC-91DC-137E543F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B937-192C-4396-9A02-AD7AD65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DFFB-BA11-42C5-BB70-4CED51F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D83-B0CD-431E-A919-3B585E42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3FED-1C74-4C42-9921-757D1FA5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4458-31D7-461F-B8AA-8388685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6100-FC6F-4B4E-A66E-E76C7CD3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9A7F-2B3D-420E-9A77-23D171A7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0EC5-4510-404E-9E3F-451F6BBD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09E-18B6-48BD-9A5A-D6C38E5B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879-04C6-480E-99FD-CABEBFCC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2E2-AF83-4643-BB68-FE9D3DAD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C3B-F341-4CCB-88F3-A0848BE2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3AE-B6F8-425F-9218-E753260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777-9160-43AA-88CE-0A2EBC05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20E-C0EF-4FBD-AFF9-059F6B6F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5BCD-E726-42D7-B461-36C30D35CA3A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C2B4-C492-43CB-BD2D-C84D0AEEF2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38F6-4416-4AFA-A4A9-34CD589B0E28}" type="datetime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3B82-C5F8-4448-A3F1-0EB07A04A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z informatika fejlődése a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felhasználó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szemszögébő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181120" y="3200400"/>
            <a:ext cx="3962520" cy="96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asparetz Andr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0282-1162-487B-8559-32DD6431BE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9003B55-87B5-409A-96A8-80C7F069F25C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Fejlődési stádiumo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55560" y="1803240"/>
            <a:ext cx="7765920" cy="4372200"/>
            <a:chOff x="655560" y="1803240"/>
            <a:chExt cx="7765920" cy="4372200"/>
          </a:xfrm>
        </p:grpSpPr>
        <p:sp>
          <p:nvSpPr>
            <p:cNvPr id="117" name=""/>
            <p:cNvSpPr/>
            <p:nvPr/>
          </p:nvSpPr>
          <p:spPr>
            <a:xfrm>
              <a:off x="1423800" y="1814400"/>
              <a:ext cx="1440" cy="436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15640" y="5861160"/>
              <a:ext cx="727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72280" y="5518080"/>
              <a:ext cx="506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kicsi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49080" y="5167440"/>
              <a:ext cx="2189160" cy="49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4360" y="5253120"/>
              <a:ext cx="10303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14360" y="5268960"/>
              <a:ext cx="1116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5440" y="5268960"/>
              <a:ext cx="1338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53640" y="5286240"/>
              <a:ext cx="1340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Technológia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66840" y="4424400"/>
              <a:ext cx="263196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6240" y="4573440"/>
              <a:ext cx="1401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76240" y="4589640"/>
              <a:ext cx="14889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93640" y="4557600"/>
              <a:ext cx="21528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2920" y="4575240"/>
              <a:ext cx="2155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Termék/szolgáltatás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01640" y="3597120"/>
              <a:ext cx="2824200" cy="53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30400" y="2817720"/>
              <a:ext cx="3146400" cy="53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14680" y="2043000"/>
              <a:ext cx="3125520" cy="56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4360" y="2955960"/>
              <a:ext cx="1234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4360" y="2976480"/>
              <a:ext cx="13888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4000" y="2928960"/>
              <a:ext cx="2050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49600" y="2946240"/>
              <a:ext cx="193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Üzletközpontúság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28920" y="3754440"/>
              <a:ext cx="13842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8920" y="3765600"/>
              <a:ext cx="14684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0440" y="3735360"/>
              <a:ext cx="22831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86840" y="3700440"/>
              <a:ext cx="2164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Ügyfélközpontúság 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200000">
              <a:off x="-499680" y="3696120"/>
              <a:ext cx="2631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100" spc="-1" strike="noStrike">
                  <a:solidFill>
                    <a:srgbClr val="000000"/>
                  </a:solidFill>
                  <a:latin typeface="Times New Roman"/>
                </a:rPr>
                <a:t>Befolyás az üzletvitelre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8600" y="1803240"/>
              <a:ext cx="522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nagy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06840" y="2166840"/>
              <a:ext cx="11253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06840" y="2184480"/>
              <a:ext cx="11826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01800" y="2184480"/>
              <a:ext cx="3051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81560" y="2187720"/>
              <a:ext cx="148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Értékteremtés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32120" y="5167440"/>
              <a:ext cx="2187360" cy="490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79680" y="5267160"/>
              <a:ext cx="695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79680" y="5283360"/>
              <a:ext cx="11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77880" y="530064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1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86200" y="4419720"/>
              <a:ext cx="2187360" cy="531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33760" y="4519440"/>
              <a:ext cx="695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3760" y="4535640"/>
              <a:ext cx="11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1960" y="455292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2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2600" y="3595680"/>
              <a:ext cx="2187720" cy="53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70520" y="3693960"/>
              <a:ext cx="693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70520" y="3710160"/>
              <a:ext cx="11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68720" y="372744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3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60960" y="2822760"/>
              <a:ext cx="2039760" cy="529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59480" y="2921040"/>
              <a:ext cx="6966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59480" y="2936880"/>
              <a:ext cx="1116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57680" y="295452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4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6960" y="2038320"/>
              <a:ext cx="1784520" cy="571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2176560"/>
              <a:ext cx="695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2192400"/>
              <a:ext cx="1116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79880" y="2211480"/>
              <a:ext cx="1116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100" spc="-1" strike="noStrike">
                  <a:solidFill>
                    <a:srgbClr val="000000"/>
                  </a:solidFill>
                  <a:latin typeface="Times New Roman"/>
                </a:rPr>
                <a:t>5. stádium</a:t>
              </a:r>
              <a:endParaRPr b="0" lang="en-US" sz="2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AE0-AD9D-41F1-BA83-8782F2C0EC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26E41-B862-44DA-98DF-E47597C2AF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2560" y="228600"/>
            <a:ext cx="80805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offler viszonylag egyszer</a:t>
            </a:r>
            <a:r>
              <a:rPr b="0" lang="hu-HU" sz="3200" spc="-1" strike="noStrike">
                <a:solidFill>
                  <a:srgbClr val="ffcc66"/>
                </a:solidFill>
                <a:latin typeface="Arial"/>
              </a:rPr>
              <a:t>ű </a:t>
            </a:r>
            <a:r>
              <a:rPr b="0" lang="hu-HU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hálózatképe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256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üzlet sikerét oly nagy mértékben az információáramlás határozza meg, a cégek világszerte arra törekszenek, hogy elektronikus hálózattal kössék össze alkalmazottai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yetlen integrált hurkot, amely a                            vásárlótól vezet a gyártóhoz, a keresked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öz, az árumegrendel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zolgálathoz s végül vissza a vásárló otthoná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D5F-37FC-4533-87B1-EE5642B584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0CAC4-05F6-4A95-A9DD-15197A873C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hu-HU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Toffler</a:t>
            </a:r>
            <a:r>
              <a:rPr b="0" lang="hu-HU" sz="3600" spc="-1" strike="noStrike">
                <a:solidFill>
                  <a:srgbClr val="ffcc66"/>
                </a:solidFill>
                <a:latin typeface="Arial"/>
              </a:rPr>
              <a:t>:</a:t>
            </a:r>
            <a:r>
              <a:rPr b="0" lang="hu-HU" sz="3600" spc="-1" strike="noStrike">
                <a:solidFill>
                  <a:srgbClr val="ffcc66"/>
                </a:solidFill>
                <a:latin typeface="Arial"/>
                <a:ea typeface="Times New Roman"/>
              </a:rPr>
              <a:t> eszes és "esztelen" vállalat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Hol és milyen arányban van szükség magas intelligenciahányadossal és szimbólumkezel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szakértelemmel rendelkez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mberekre?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Vajon a Chrysler munkásai értelmesebbek, mint a Ford vagy a Toyota dolgozói?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ord 2000 tavaszán 300 ezer dolgozójának adott gyakorlatilag ingyen PC-t, nyomtatót és Interne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satlakozás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d tudatosan igyekszik "eszessé" formálni magá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án a legfontosabb ezredvégi üzene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088-DBCE-40A2-8F3C-E4711F05A4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F13F2-7F5F-492E-9AA7-9B08875692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Az új gazdaság szépen megjutalmazta azokat, akik el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ént vették észre a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zületését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lvin Toffler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pari korszakból az információs korszakba való átmenet legolvasottabb és legnagyobb hatású újságíró-teoretikusa minden bizonnyal Alvin Toffler a Jöv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kk cím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ű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önyvével  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19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BD9-0BB8-4D38-87D8-6E1D609106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0EA20-2914-4CF5-9EFF-057384694F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Toffler hálózattörténete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846144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koza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els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ő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ávíró- és telefonvonalak - primitív, intelligencia nélküli hálózatok.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ásodik fokoza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álózat kezdi áttekinteni saját m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ű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ödésé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madik fokoza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Idegrendszer típusú hálózatok" - tanulnak saját tapasztalataikból, és szükség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tén önmaguk végeznek el korrekciókat.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traintelligens hálózat (EXI)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mzik, összekapcsolják, újraosztályozzák vagy módosítják az üzeneteket, s eközben új információkat is létrehoznak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N - Value Added Network).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AAF-70C4-4E59-8A00-382C72FA28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089A2-1C63-4840-A228-61BB3CF60E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2560" y="22824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A hangyaboly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846144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PC 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hálóz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Hálózat = számítógé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Jól leírt szervezet és működés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komplex rendszer, sok kölcsönhatá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Olajozott gép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lkalmazkodó organizm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Hosszú távú tervezés </a:t>
            </a:r>
            <a:r>
              <a:rPr b="0" lang="hu-HU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ffffff"/>
                </a:solidFill>
                <a:latin typeface="Times New Roman"/>
              </a:rPr>
              <a:t>azonnali reagálá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DA7-E749-4702-9837-A08F9499B6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EE06A-AF34-43E7-8B12-E4A7441E40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Magyar Információs Társadalom Stratégia - MIT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Cél a Tudásalapú információs társadalom kialakítása néhány év ala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Az Informatikai és Hírközlési Minisztérium és a 25 tagú Információs Társadalom Koordinációs Tárcaközi Bizottság látja el a koordinációs és szervezési feladatok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inisztériumonként külön intézményi stratégiá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Ezeken felül ágazati stratégiá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-aláír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-esé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-kárty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e-önkormányz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A8C-1FF6-42BE-995C-1D81931F38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9A5E9-F51F-4AD9-8C52-EAE2CF39B8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2560" y="151920"/>
            <a:ext cx="80805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MITS – Informatikai és </a:t>
            </a:r>
            <a:br>
              <a:rPr sz="4000"/>
            </a:br>
            <a:r>
              <a:rPr b="0" lang="hu-HU" sz="4000" spc="-1" strike="noStrike">
                <a:solidFill>
                  <a:srgbClr val="ffcc66"/>
                </a:solidFill>
                <a:latin typeface="Arial"/>
              </a:rPr>
              <a:t>Hírközlési Minisztériu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ITS pénzügyi forrásai: központi költségvetés és EU forrás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Felada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Életminőség javít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ársadalmi és területi esélyegyenlőség biztosít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humán erőforrás felkészítése az információs társadalom kihívásai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e-gazdaság fejleszt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közszféra további demokratizálása és hatékonyságának növel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z információs társadalom infrastrukturális alapjainak megteremt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 társadalmi innovációs tevékenység ösztönzé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199-61E6-4AA6-A8D1-85F7D66424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B4662-1CBF-4B7E-BBEC-716D8B2583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256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lasszikus elméleti isko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használó szem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onv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724280" y="0"/>
            <a:ext cx="3876480" cy="3276360"/>
            <a:chOff x="4724280" y="0"/>
            <a:chExt cx="3876480" cy="3276360"/>
          </a:xfrm>
        </p:grpSpPr>
        <p:sp>
          <p:nvSpPr>
            <p:cNvPr id="183" name="Gear"/>
            <p:cNvSpPr/>
            <p:nvPr/>
          </p:nvSpPr>
          <p:spPr>
            <a:xfrm>
              <a:off x="6873480" y="0"/>
              <a:ext cx="1727280" cy="1502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4280" y="619200"/>
              <a:ext cx="2065320" cy="1796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63840" y="1281600"/>
              <a:ext cx="2295360" cy="199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5638680" y="3124080"/>
            <a:ext cx="6192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K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3A8-5051-4DEE-A0E8-D5A2AA990B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9F377-EEC1-4986-A13D-077ABC80940D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C – personal computer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O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almas lépés a mainframe-ek után mivel ledöntötte a „misztérium”-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OS – mindenki megcsinálhatta a saját felada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övegszerkesztés, kalkulációk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05F-E374-4A68-A945-5F54772A4B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77577-FAA1-4416-9216-7EC5AA89E345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z informatika fejlődése a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felhasználó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szemszögébő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em a műszaki tartalom, hanem a betöltött szerep vizsgálata az elsődle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88B-D933-410A-91B9-FBC8537B70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BB0A3-583B-4E57-BD82-CFF1B437C72A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C – personal computer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OS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ultitask futtatás (3.31, DR, Novell,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OS – integrált alkalmazások (Framework,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Windows – grafikus felület, multimédia, Wintel sprirá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85E-7A17-47F5-84B4-A325268A686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2BEBF-8C54-45C2-8157-A41DAF42F180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PC – personal computer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(?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LAN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zös erőforrás kezelés (HDD, printerek,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jesítmény – multimédia, Wintel spirá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 – cyber-tér, új gazdasá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181480"/>
            <a:ext cx="6705360" cy="1676520"/>
          </a:xfrm>
          <a:prstGeom prst="rightArrow">
            <a:avLst>
              <a:gd name="adj1" fmla="val 50000"/>
              <a:gd name="adj2" fmla="val 99989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14600" y="52578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>
                    <a:alpha val="50000"/>
                  </a:srgbClr>
                </a:solidFill>
                <a:latin typeface="Times New Roman"/>
              </a:rPr>
              <a:t>GroupWare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>
                  <a:alpha val="50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DCF-0997-4BE7-8F2E-FFE7FB7516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7DFA1-2A6A-4B1A-8B2D-A43E4BDF7D24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133720"/>
            <a:ext cx="8305920" cy="1523880"/>
          </a:xfrm>
          <a:prstGeom prst="wedgeRoundRectCallout">
            <a:avLst>
              <a:gd name="adj1" fmla="val -53037"/>
              <a:gd name="adj2" fmla="val 114064"/>
              <a:gd name="adj3" fmla="val 1666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4419720"/>
            <a:ext cx="8153640" cy="1371600"/>
          </a:xfrm>
          <a:prstGeom prst="wedgeRoundRectCallout">
            <a:avLst>
              <a:gd name="adj1" fmla="val 41412"/>
              <a:gd name="adj2" fmla="val 120949"/>
              <a:gd name="adj3" fmla="val 1666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PC – áldás és/vagy át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Tévedni emberi dolog, de igazán elrontani valamit csak számítógéppel lehet.”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„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Ha Murphy számítógépet használt volna törvényei kidolgozására, azok valószinűleg elvesztek volna egy rendszerösszeomlás során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E2D-53D3-4D2E-9DC0-2C3B068894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B6B43-9B05-40A1-8791-56407DB1503C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felhasználó szeméve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PC – áldás és/vagy áto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Kedvező ROI érték – (Compaq-Modus 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Az eredmények egyértelműen azt mutatják, hogy a vezetők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hu-HU" sz="2000" spc="-1" strike="noStrike">
                <a:solidFill>
                  <a:srgbClr val="ffff00"/>
                </a:solidFill>
                <a:latin typeface="Times New Roman"/>
              </a:rPr>
              <a:t>korábbiaknál fontosabb területként kezelik az  informatikát és gazdaságossági, hatékonysági szempontokat figyelembe véve jövedelmező befektetésnek tartják a korszerű informatikai rendszerek, megoldások kialakítását, fejlesztésé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Szakembereket igényel (külsős számára nehezen átláthat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Nehezen számszerüsíthető a mérleg két oldala </a:t>
            </a:r>
            <a:br>
              <a:rPr sz="2800"/>
            </a:b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      (TCO </a:t>
            </a:r>
            <a:r>
              <a:rPr b="0" lang="hu-HU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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 eredménye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377-8D88-4896-BA20-07EEED24BE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DB62E-F7BE-47DF-8E4E-3F8033D144A4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lasszikus elméleti isko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használó szem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onv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724280" y="0"/>
            <a:ext cx="3876480" cy="3276360"/>
            <a:chOff x="4724280" y="0"/>
            <a:chExt cx="3876480" cy="3276360"/>
          </a:xfrm>
        </p:grpSpPr>
        <p:sp>
          <p:nvSpPr>
            <p:cNvPr id="204" name="Gear"/>
            <p:cNvSpPr/>
            <p:nvPr/>
          </p:nvSpPr>
          <p:spPr>
            <a:xfrm>
              <a:off x="6873480" y="0"/>
              <a:ext cx="1727280" cy="1502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24280" y="619200"/>
              <a:ext cx="2065320" cy="1796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63840" y="1281600"/>
              <a:ext cx="2295360" cy="199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5638680" y="3124080"/>
            <a:ext cx="619200" cy="84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K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62720" y="4114800"/>
            <a:ext cx="618840" cy="8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K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AA4F-0826-4E12-9A9C-3FD23BE3F3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67CF3-8621-4E1B-9F10-9E63AA8A36DD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"/>
              </a:rPr>
              <a:t>Infokommunikációs értéklánc</a:t>
            </a:r>
            <a:br>
              <a:rPr sz="2400"/>
            </a:br>
            <a:r>
              <a:rPr b="0" lang="hu-HU" sz="2000" spc="-1" strike="noStrike">
                <a:solidFill>
                  <a:srgbClr val="ffcc66"/>
                </a:solidFill>
                <a:latin typeface="Arial"/>
              </a:rPr>
              <a:t>A konvergálodó területek értéklánca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752480"/>
            <a:ext cx="1828800" cy="60984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artal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lőállí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2438280"/>
            <a:ext cx="1828800" cy="68580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Szerkeszté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csomagol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200400"/>
            <a:ext cx="1828800" cy="76212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Szolgáltatá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nyúj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080" y="4038480"/>
            <a:ext cx="1905120" cy="76212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Továbbítá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eloszt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4876920"/>
            <a:ext cx="2057400" cy="761760"/>
          </a:xfrm>
          <a:prstGeom prst="flowChartOffpageConnector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Megjelení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(terminá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5715000"/>
            <a:ext cx="213372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Times New Roman"/>
              </a:rPr>
              <a:t>Felhasznál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167652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HORIZONTÁ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ÁTRENDEZŐD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2590920"/>
            <a:ext cx="1905120" cy="761760"/>
          </a:xfrm>
          <a:prstGeom prst="leftRightArrow">
            <a:avLst>
              <a:gd name="adj1" fmla="val 50000"/>
              <a:gd name="adj2" fmla="val 4978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3505320"/>
            <a:ext cx="4419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elemeken belü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(Pl.távközlő hálozatok működésb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876920"/>
            <a:ext cx="1066680" cy="10666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4343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VERTIKÁLIS INTEGRÁ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6172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Az infokom lánc menté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EF2-4877-4DC1-858F-D1464A6FC31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63223-1999-42C0-8B4A-6BE1E3EC94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66"/>
                </a:solidFill>
                <a:latin typeface="Arial"/>
              </a:rPr>
              <a:t>A konvergencia alapja a digitális technológia fejlődése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19520" y="12193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játszma lényege</a:t>
            </a: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190512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tárolni egy bite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feldolgozni egy bit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utaztatni egy bite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15238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Mi az olcsóbb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0481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Hogyan változnak a költségek időben és arányba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990720" y="3505320"/>
          <a:ext cx="662940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66294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838080" y="4724280"/>
            <a:ext cx="65534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De: a technológia csak a lehetőséget adja meg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jövőt az üzleti modell sikeressége szabja me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Nem lehet dogmatikus szabályokat alkot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felhasználó-barát, egyszerűbb technológiák nyer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F04-4C23-480E-B029-C0850C8E2AA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8F6C6-3DA4-4319-9659-916FB10517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"/>
              </a:rPr>
              <a:t>Távközlés, informatika és média konvergenciája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838080"/>
          <a:ext cx="89154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915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657600" y="2666880"/>
            <a:ext cx="1676520" cy="1143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1240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I&amp;T&amp;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25312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A távközlés infokommunikációvá szélesed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CT=Information and Communication Technologies(IT,T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Times New Roman"/>
              </a:rPr>
              <a:t>IST=Information Society Technologies(IT,Tk,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467600">
            <a:off x="2742480" y="3809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ff"/>
                </a:solidFill>
                <a:latin typeface="Times New Roman"/>
              </a:rPr>
              <a:t>INFOKOMMUNIKÁCI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C9B6-79C1-4E05-B049-876E8C8B391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8A6D1-3C56-4C5E-A755-9D70C09FB4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66"/>
                </a:solidFill>
                <a:latin typeface="Arial"/>
              </a:rPr>
              <a:t>Fix és mobil távbeszélő, Internet:1997 és 2001</a:t>
            </a:r>
            <a:r>
              <a:rPr b="0" lang="hu-HU" sz="2400" spc="-1" strike="noStrike">
                <a:solidFill>
                  <a:srgbClr val="ffcc66"/>
                </a:solidFill>
                <a:latin typeface="Arial"/>
              </a:rPr>
              <a:t>[ITU]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6520" y="1295280"/>
          <a:ext cx="579600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95280"/>
                    <a:ext cx="5796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98108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5334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5334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209680" y="2819520"/>
            <a:ext cx="3429000" cy="220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2057040"/>
            <a:ext cx="5257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2286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09680" y="1905120"/>
            <a:ext cx="518184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286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7339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1447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200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057400"/>
            <a:ext cx="7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00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5830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741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29718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35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200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0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3733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6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464832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6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0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4800600"/>
            <a:ext cx="1295280" cy="5335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4800600"/>
            <a:ext cx="1600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0,3 host/100lakos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6,5 host/100P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3505320"/>
            <a:ext cx="13716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host/100 lako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5host/100P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8880" y="3497400"/>
            <a:ext cx="14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2438280"/>
            <a:ext cx="167652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2438280"/>
            <a:ext cx="1447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2010 körü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Kb. 1400 millióná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A mobilok túllépik a fix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Tb. Előfizetők számá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14600" y="1447920"/>
            <a:ext cx="3124080" cy="609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1447920"/>
            <a:ext cx="4114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ix vonalak száma eléri az 1 milliárdo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A mobiloké a 400 millió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1048600">
            <a:off x="2590920" y="21337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ix telef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750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1083400">
            <a:off x="2362320" y="25142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4,7%/é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20782200">
            <a:off x="3352680" y="243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Mobil öss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651400">
            <a:off x="3429360" y="28191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12%/é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19678200">
            <a:off x="2438640" y="41907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Internet h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19693800">
            <a:off x="2929320" y="4233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47%/é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209320" y="50292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028840" y="320004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7391520" y="2057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05740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14800" y="205740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1447920"/>
            <a:ext cx="144756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Mobil várható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880milli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3352680"/>
            <a:ext cx="1218960" cy="6858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Várható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3886200"/>
            <a:ext cx="1371600" cy="8380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Internet h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Várható:160 millió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6200000">
            <a:off x="317520" y="3796560"/>
            <a:ext cx="18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Log   ská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2286000"/>
            <a:ext cx="759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C57-FAF4-440D-8692-68C6A4904B7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B8660-4E7E-4B0A-B568-BA924273FA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lasszikus elméleti isko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használó szem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onv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724280" y="0"/>
            <a:ext cx="3876480" cy="3276360"/>
            <a:chOff x="4724280" y="0"/>
            <a:chExt cx="3876480" cy="3276360"/>
          </a:xfrm>
        </p:grpSpPr>
        <p:sp>
          <p:nvSpPr>
            <p:cNvPr id="284" name="Gear"/>
            <p:cNvSpPr/>
            <p:nvPr/>
          </p:nvSpPr>
          <p:spPr>
            <a:xfrm>
              <a:off x="6873480" y="0"/>
              <a:ext cx="1727280" cy="1502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280" y="619200"/>
              <a:ext cx="2065320" cy="1796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63840" y="1281600"/>
              <a:ext cx="2295360" cy="199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 txBox="1"/>
          <p:nvPr/>
        </p:nvSpPr>
        <p:spPr>
          <a:xfrm>
            <a:off x="5410080" y="2362320"/>
            <a:ext cx="3057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K.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59436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DE NINCS VÉ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CD4-34C8-47A8-B558-488BF898957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02180-170F-4E83-A9E1-E45CE631352B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lasszikus elméleti iskolá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lhasználó szem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konverg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724280" y="0"/>
            <a:ext cx="3876480" cy="3276360"/>
            <a:chOff x="4724280" y="0"/>
            <a:chExt cx="3876480" cy="3276360"/>
          </a:xfrm>
        </p:grpSpPr>
        <p:sp>
          <p:nvSpPr>
            <p:cNvPr id="95" name="Gear"/>
            <p:cNvSpPr/>
            <p:nvPr/>
          </p:nvSpPr>
          <p:spPr>
            <a:xfrm>
              <a:off x="6873480" y="0"/>
              <a:ext cx="1727280" cy="15022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24280" y="619200"/>
              <a:ext cx="2065320" cy="1796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63840" y="1281600"/>
              <a:ext cx="2295360" cy="199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279-7C10-4EEF-9D2A-75509984D0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8B5B5-E7D6-4967-8848-1A8CFF064920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Mátrix ?  Különvélemén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410080" y="228600"/>
            <a:ext cx="3428640" cy="3352320"/>
            <a:chOff x="5410080" y="228600"/>
            <a:chExt cx="3428640" cy="3352320"/>
          </a:xfrm>
        </p:grpSpPr>
        <p:sp>
          <p:nvSpPr>
            <p:cNvPr id="291" name="Puzzle3"/>
            <p:cNvSpPr/>
            <p:nvPr/>
          </p:nvSpPr>
          <p:spPr>
            <a:xfrm>
              <a:off x="7079760" y="228600"/>
              <a:ext cx="1347480" cy="1781640"/>
            </a:xfrm>
            <a:prstGeom prst="pie">
              <a:avLst/>
            </a:prstGeom>
            <a:solidFill>
              <a:srgbClr val="ffbe7d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Puzzle2"/>
            <p:cNvSpPr/>
            <p:nvPr/>
          </p:nvSpPr>
          <p:spPr>
            <a:xfrm>
              <a:off x="6687720" y="1526400"/>
              <a:ext cx="2151000" cy="1622520"/>
            </a:xfrm>
            <a:prstGeom prst="pie">
              <a:avLst/>
            </a:prstGeom>
            <a:solidFill>
              <a:srgbClr val="ffffcc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Puzzle4"/>
            <p:cNvSpPr/>
            <p:nvPr/>
          </p:nvSpPr>
          <p:spPr>
            <a:xfrm>
              <a:off x="5855400" y="1506240"/>
              <a:ext cx="1296720" cy="2074680"/>
            </a:xfrm>
            <a:prstGeom prst="pie">
              <a:avLst/>
            </a:prstGeom>
            <a:solidFill>
              <a:srgbClr val="d8ebb3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Puzzle1"/>
            <p:cNvSpPr/>
            <p:nvPr/>
          </p:nvSpPr>
          <p:spPr>
            <a:xfrm>
              <a:off x="5410080" y="767520"/>
              <a:ext cx="2178000" cy="1236600"/>
            </a:xfrm>
            <a:prstGeom prst="pie">
              <a:avLst/>
            </a:prstGeom>
            <a:solidFill>
              <a:srgbClr val="cccc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256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 fejlődés „mozaikjai” veszélyes egésszé állhatnak öss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Wintel spirá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Kifejezetten nagy és mindenhol elérhető sávszéles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Mesterséges intelligencia kutatások (hadi ipa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azdasági érdekeltség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emélyes felelős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matrix" descr=""/>
          <p:cNvPicPr/>
          <p:nvPr/>
        </p:nvPicPr>
        <p:blipFill>
          <a:blip r:embed="rId1"/>
          <a:stretch/>
        </p:blipFill>
        <p:spPr>
          <a:xfrm>
            <a:off x="4656240" y="4992840"/>
            <a:ext cx="4487760" cy="186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4183-60C0-49CA-BBC6-A7417049CD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9E77B-319F-4FCB-9A59-1D766F6B5169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cc66"/>
                </a:solidFill>
                <a:latin typeface="Arial"/>
              </a:rPr>
              <a:t>Az informatika fejlődésének 10 következménye</a:t>
            </a:r>
            <a:br>
              <a:rPr sz="24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1143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Times New Roman"/>
              </a:rPr>
              <a:t>A jó hír az, hogy az informatika fejlődése hatékonyabbá teszi a cégeket - </a:t>
            </a:r>
            <a:br>
              <a:rPr sz="2000"/>
            </a:br>
            <a:r>
              <a:rPr b="0" lang="hu-HU" sz="2000" spc="-1" strike="noStrike">
                <a:solidFill>
                  <a:srgbClr val="ffcc66"/>
                </a:solidFill>
                <a:latin typeface="Times New Roman"/>
              </a:rPr>
              <a:t>rossz: kevesebb dolgozóra lesz szüksé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0574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A Gartner Symposium/Itxpo 2002-es konferenciáján ez azonban csak az egyik prognózis volt Carl Claunch, a Gartner kutatási igazgatója 9 további pontban foglalta össze intézményeinek előrejelzése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3276720"/>
            <a:ext cx="723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1752480" y="2666880"/>
            <a:ext cx="1104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860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2743200"/>
            <a:ext cx="853416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1. A sávszélesség bővítése költség-hatékonyabb lesz,mint új számítógépeket venni: az optikai sávszélesség képességei évente 100%-kal nőnek, míg a számítási kapacitás csak 60%-kal.  Így kevesebb,de sokkal centralizáltabb adatközpontok jöhetnek létre, a számítási kapacitást pedig az alkalmazásszolgáltatói modell osztják me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2.  A legtöbb új rendszer vállalatközi rendszer lesz,mert gyors fejlődésnek indulnak azok a technológiák,amelyek révén összefoghatók lesznek az ellátó lánci rendszerek és egyéb alkalmazáso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3.  Bonyolultságuk ellenére a vállalatközi rendszerek makroökonómiai szempontból lökést adnak a vállalatoknak,hiszen a felhasználók gyorsabban tudnak reagálni az üzleti körülmények változásá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75A-2872-475C-9F96-A7C109A17D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B256C-5743-407A-80D8-E505E68504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0"/>
            <a:ext cx="8458200" cy="64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olytatá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4.  Folytatódik a konszolidáció az informatikai piac sok szegmensében. Az informatikai beruházások visszafogása továbbra is akadályozza a szolgáltatásokat, a kötesszoftver-gyártókat és a rendszer és hálózati berendezésgyártókat. A mai szoftvercégek fele 2004-re eltűni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5. Az évtized végéig még érvényben marad a Moore-törvény </a:t>
            </a:r>
            <a:br>
              <a:rPr sz="1400"/>
            </a:b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- hat év múlva egy átlagos PC 40 GHz-es processzorral, 1,5 terabájtos tárolóval</a:t>
            </a:r>
            <a:br>
              <a:rPr sz="1400"/>
            </a:b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4-12 gigabájt RAM-mal és lapkánként 4-8 CPU-val rendelkezik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6. 2007-re a bankok lesznek az információk őrzői és nem az Internet szolgáltatók, mert ma már </a:t>
            </a:r>
            <a:br>
              <a:rPr sz="1400"/>
            </a:b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egyre több személyes és pénzügyi információt osztanak meg onlin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7.  Az üzleti tevékenység nyomon követése öt éven belül a fősodorba kerül. Az üzletek fürgébbé válhatnak az informatika fejlődésével az új lehetőségek kiaknázásába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8. Az alkalmazásokkal kapcsolatos döntéseket az üzleti részlegek hozzák,és nem informatikai központ. A részlegek közötti kapcsolat és szinkronizálás a mainál jobb les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9. Végül, 2004-re az inga visszalendül a decentralizált informatikai működés felé. Sok cég most a költségcsökkentés miatt centralizál, de a javuló gazdasági körülmények hatására a cégek újból felismerik a decentralizáltság előnyeit,mert így gyorsabban tudnak alkalmazkodni az üzleti feltételek változásáho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5776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moore_gordon" descr="Gordon Moore"/>
          <p:cNvPicPr/>
          <p:nvPr/>
        </p:nvPicPr>
        <p:blipFill>
          <a:blip r:embed="rId1"/>
          <a:stretch/>
        </p:blipFill>
        <p:spPr>
          <a:xfrm>
            <a:off x="7715160" y="114300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4F0-59E3-41B9-A341-B8EAECFC6CC8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BB40F-F9DF-4C7C-AE11-B12228288C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Gates szerint a jövő (200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"Azt hiszem, még mindig álmodozom arról a PC-ről, amely nagyon, nagyon jól fog működni valamikor; egy új Microsoft terméket fogok használni és nem kell majd mailt küldenem a fejlesztőknek azzal, hogy 'Ezt most miért csináltátok?'"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ates hozzátette: ez az álom tartj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issza attól, hogy visszavonulj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jö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echnológiáit illetően szerinte e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ő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ödni fog a számítógépek és a biológia közötti kapcsol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rcRect l="17970" t="26154" r="61722" b="46345"/>
          <a:stretch/>
        </p:blipFill>
        <p:spPr>
          <a:xfrm>
            <a:off x="6934320" y="2743200"/>
            <a:ext cx="2209680" cy="21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43E-A5F4-40A2-BDE5-DDD0D1C787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D97C9-ABAD-477C-A767-1887B5170960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A leggazdagabb fiatal amerikaia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04920" y="1447920"/>
          <a:ext cx="7162560" cy="4638600"/>
        </p:xfrm>
        <a:graphic>
          <a:graphicData uri="http://schemas.openxmlformats.org/drawingml/2006/table">
            <a:tbl>
              <a:tblPr/>
              <a:tblGrid>
                <a:gridCol w="533160"/>
                <a:gridCol w="2133360"/>
                <a:gridCol w="609840"/>
                <a:gridCol w="2895480"/>
                <a:gridCol w="99072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é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állal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rd $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chael De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erre Omidy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B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ff Bez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mazon.co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ff Sko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oll Found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8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vid Fi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ah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rry Ya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ah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rgey Br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o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arry P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oog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9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n Snyd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shington Redski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en Grif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itadel Invest. Grou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2" name="dell6_72" descr=""/>
          <p:cNvPicPr/>
          <p:nvPr/>
        </p:nvPicPr>
        <p:blipFill>
          <a:blip r:embed="rId1"/>
          <a:stretch/>
        </p:blipFill>
        <p:spPr>
          <a:xfrm>
            <a:off x="7499520" y="1676520"/>
            <a:ext cx="1644480" cy="204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48D-F04F-47D9-A702-7AAD72AB65F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50834-BD61-49EF-8728-0BB80F32BC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Nolan  – hatlépcsős 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1, kezdeménye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2, megfertő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3, ellenőrzés, szabály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4, integrá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5, adatkez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6, érett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3B6-79E1-484F-A810-EF0887BC5D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6438D-6DF5-46A1-A409-229BBB2511CA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Nolan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2133720"/>
            <a:ext cx="7772400" cy="18288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4191120"/>
            <a:ext cx="7696440" cy="1981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1, kezdeményez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2, megfertő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3, ellenőrzés, szabályoz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4, integrál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5, adatkez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6, érettsé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2590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zámítógép menedzsmen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87692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információ menedzsment</a:t>
            </a: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8120" y="2666880"/>
            <a:ext cx="3124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1979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7F1-BD9F-4D07-8EAB-F4DF33D44B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88A42-7023-4B5D-AC25-5798B59BF8BF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iseman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háromlépc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ő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 model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1, alapvető, már klasszikus m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ű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etek automatizál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da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feldolgozás (D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60-as évektő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űködés hatékonysá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érszámfejtés, számlázás,…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F93-C68C-4172-AE90-DCA33C4D9E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FE337-EFF5-4593-A171-C8C5DE7A1325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iseman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három lépcsős model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7845480" cy="3657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2, vezetés hatékonyságának n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ö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Ve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tői információs rendszerek (M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70-es évektő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zetői hatásossá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galomelemzés, lineáris programozás, pénzügyi modellez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C9F-265A-4048-9A0F-5F21A5D1C1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E47BD-2988-4920-A4A7-9145CB3F6BDE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iseman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háromlépcsős model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7845480" cy="3657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u-H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versenyképesség erősítése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égiai információs rendszerek (S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80-as évektő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zleti elő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51C-902D-41AD-BDA1-7C64E6F6BC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88113-AA10-4D2E-868D-A14EF5C4A6F4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Klasszikus elméleti iskolák – 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Wiseman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 -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 háromlépcs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</a:rPr>
              <a:t>ő</a:t>
            </a:r>
            <a:r>
              <a:rPr b="0" lang="hu-HU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s modell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hu-H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versenyképesség erősítése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.1 – fő értéknövelő tevékenységekbe történő hatékonyabb integrá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ált forgalmazói, logisztikai rendsze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.2 fő partnerekkel való hatékonyabb összekö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.3 új vagy korszerűbb termékek fejlesztése, piacra dob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Bank, szelektív gyomírtó kiválasztás, festékkever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3.4 emelt szintű vezetői támogatás EIS executive information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ülső (on-line információkat, trendeket is beilleszt a belső információk közé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-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DE3-4AE4-4044-911D-0CE2C1796E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D66A5-03B7-44DB-8439-B98E5F31382C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07:10:39Z</dcterms:created>
  <dc:creator/>
  <dc:description/>
  <dc:language>en-US</dc:language>
  <cp:lastModifiedBy>...</cp:lastModifiedBy>
  <cp:lastPrinted>2003-09-26T07:10:39Z</cp:lastPrinted>
  <dcterms:modified xsi:type="dcterms:W3CDTF">2003-11-16T22:13:35Z</dcterms:modified>
  <cp:revision>67</cp:revision>
  <dc:subject/>
  <dc:title>PowerPoint Presentation</dc:title>
</cp:coreProperties>
</file>