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333-FA04-4019-A43E-54D458D8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A11-384A-4F6A-8718-1B755A45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642-2956-4AE7-A1F8-90AE4D87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AC1-D0AE-4004-9CAC-0FB0D25A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2010-D62B-4EEB-AE01-2468C7A1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934-722A-4A95-8FC8-6AB86EC1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875-079F-477D-A958-F2FBA50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B2FD-0F58-442F-9B65-891E1A25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B89-B145-4727-ADE3-F102757B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C751-831A-40BE-A099-F510567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402-A1A3-471C-BAD9-ECD9DD1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23A-4E03-48CE-A6E2-06C60302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B527-1797-4F78-9CBC-A3DE0A5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8AE-407D-4264-BF3A-F88955C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BE35-0F47-43E6-9D7C-F9EED53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21A8-17DA-455C-B11A-5BCA035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5075-F219-4ED6-94B4-C7290AB1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02E-6EFB-400C-9935-20DCB073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8B6-2379-47C5-9694-B953DDE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AF9-751B-4C77-A0EE-53322057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371-ABBB-4738-A535-2FF5687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982-2360-490E-A5ED-CCEB66E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F28-27BD-481D-8052-E041BEE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F92-1C27-475E-B184-2CA1362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01D-374C-4611-BE3E-FC8B8C18B3B2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B3C0-0076-46D3-A81A-8BBEA6973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60E-3E6A-42E7-85AB-C4AE32A5FEA0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D0E-C0F9-4177-93A3-88A201FBC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z informatika fejlődése a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lhasználó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szemszögébő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81120" y="3200400"/>
            <a:ext cx="396252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asparetz Andr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76B0-A3A2-436E-9E5C-6FCBC196AC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98B9BA-2912-49B9-B8BD-51D53F87299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jlődési stádium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55560" y="1803240"/>
            <a:ext cx="7765920" cy="4372200"/>
            <a:chOff x="655560" y="1803240"/>
            <a:chExt cx="7765920" cy="4372200"/>
          </a:xfrm>
        </p:grpSpPr>
        <p:sp>
          <p:nvSpPr>
            <p:cNvPr id="117" name=""/>
            <p:cNvSpPr/>
            <p:nvPr/>
          </p:nvSpPr>
          <p:spPr>
            <a:xfrm>
              <a:off x="1423800" y="1814400"/>
              <a:ext cx="1440" cy="43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5640" y="5861160"/>
              <a:ext cx="727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2280" y="5518080"/>
              <a:ext cx="506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kicsi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9080" y="5167440"/>
              <a:ext cx="218916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360" y="5253120"/>
              <a:ext cx="1030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360" y="5268960"/>
              <a:ext cx="1116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5440" y="5268960"/>
              <a:ext cx="1338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53640" y="5286240"/>
              <a:ext cx="1340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Technológi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6840" y="4424400"/>
              <a:ext cx="263196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6240" y="4573440"/>
              <a:ext cx="140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76240" y="4589640"/>
              <a:ext cx="14889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3640" y="4557600"/>
              <a:ext cx="21528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2920" y="4575240"/>
              <a:ext cx="2155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Termék/szolgáltatá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1640" y="3597120"/>
              <a:ext cx="282420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0400" y="2817720"/>
              <a:ext cx="314640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4680" y="2043000"/>
              <a:ext cx="312552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4360" y="2955960"/>
              <a:ext cx="1234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4360" y="2976480"/>
              <a:ext cx="1388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4000" y="2928960"/>
              <a:ext cx="20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49600" y="2946240"/>
              <a:ext cx="193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Üzletközpontúság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28920" y="3754440"/>
              <a:ext cx="1384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3765600"/>
              <a:ext cx="1468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0440" y="3735360"/>
              <a:ext cx="22831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86840" y="3700440"/>
              <a:ext cx="216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Ügyfélközpontúság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499680" y="3696120"/>
              <a:ext cx="2631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100" spc="-1" strike="noStrike">
                  <a:solidFill>
                    <a:srgbClr val="000000"/>
                  </a:solidFill>
                  <a:latin typeface="Times New Roman"/>
                </a:rPr>
                <a:t>Befolyás az üzletvitelr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8600" y="1803240"/>
              <a:ext cx="522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nagy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6840" y="2166840"/>
              <a:ext cx="11253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6840" y="2184480"/>
              <a:ext cx="11826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01800" y="2184480"/>
              <a:ext cx="3051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1560" y="2187720"/>
              <a:ext cx="148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Értékteremté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2120" y="5167440"/>
              <a:ext cx="2187360" cy="49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9680" y="5267160"/>
              <a:ext cx="695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9680" y="528336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77880" y="530064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1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6200" y="4419720"/>
              <a:ext cx="2187360" cy="531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3760" y="4519440"/>
              <a:ext cx="695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453564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1960" y="455292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2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2600" y="3595680"/>
              <a:ext cx="2187720" cy="53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70520" y="3693960"/>
              <a:ext cx="693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70520" y="371016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720" y="372744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3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60960" y="2822760"/>
              <a:ext cx="2039760" cy="529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59480" y="2921040"/>
              <a:ext cx="6966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9480" y="293688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57680" y="295452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4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6960" y="2038320"/>
              <a:ext cx="1784520" cy="571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2176560"/>
              <a:ext cx="695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2192400"/>
              <a:ext cx="1116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79880" y="221148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5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223-C07F-4FDF-886A-2D3ABFA75C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4619-6984-4689-929E-A64748BF9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 viszonylag egyszer</a:t>
            </a: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ű </a:t>
            </a:r>
            <a:r>
              <a:rPr b="0" lang="hu-H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álózatképe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üzlet sikerét oly nagy mértékben az információáramlás határozza meg, a cégek világszerte arra törekszenek, hogy elektronikus hálózattal kössék össze alkalmazottai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etlen integrált hurkot, amely a                            vásárlótól vezet a gyártóhoz, a keresked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öz, az árumegrendel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zolgálathoz s végül vissza a vásárló otthoná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7FA-F144-4603-B73C-5EE4CF8B1C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D958-7845-450B-B7D8-F8DA521E1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eszes és "esztelen" vállalat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Hol és milyen arányban van szükség magas intelligenciahányadossal és szimbólumkezel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szakértelemmel rendelkez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mberekre?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Vajon a Chrysler munkásai értelmesebbek, mint a Ford vagy a Toyota dolgozói?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rd 2000 tavaszán 300 ezer dolgozójának adott gyakorlatilag ingyen PC-t, nyomtatót és Interne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tlakozá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d tudatosan igyekszik "eszessé" formálni magá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án a legfontosabb ezredvégi üze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FE8-DF71-4E02-AF78-73979ED796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E5535-DC1B-49A9-9D68-80C8C2CE9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Az új gazdaság szépen megjutalmazta azokat, akik el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ént vették észre 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ületését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lvin Toffler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pari korszakból az információs korszakba való átmenet legolvasottabb és legnagyobb hatású újságíró-teoretikusa minden bizonnyal Alvin Toffler a Jöv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kk cím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ű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önyvével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19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454-BFEA-4E82-916E-C08964DF98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7E478-9FA6-470F-A9A4-4CBCDAFF7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 hálózattörténete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846144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ávíró- és telefonvonalak - primitív, intelligencia nélküli hálózatok.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ásodik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álózat kezdi áttekinteni saját m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ű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désé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madik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degrendszer típusú hálózatok" - tanulnak saját tapasztalataikból, és szükség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tén önmaguk végeznek el korrekciókat.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traintelligens hálózat (EX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zik, összekapcsolják, újraosztályozzák vagy módosítják az üzeneteket, s eközben új információkat is létrehoznak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N - Value Added Network).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FAB-178C-4314-BE8A-F3689D0B7D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979AA-DC92-43EE-90CB-E6241C157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A hangyaboly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846144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PC 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hálóz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álózat = számítógé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Jól leírt szervezet és működés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komplex rendszer, sok kölcsönhat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Olajozott gép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lkalmazkodó organizm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osszú távú tervezés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zonnali reagál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0F4-A3F2-409B-B7FA-864D7939B4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EE28F-A5A0-4626-8FD4-580C412CC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Magyar Információs Társadalom Stratégia - MIT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él a Tudásalapú információs társadalom kialakítása néhány év al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Informatikai és Hírközlési Minisztérium és a 25 tagú Információs Társadalom Koordinációs Tárcaközi Bizottság látja el a koordinációs és szervezési felada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nisztériumonként külön intézményi stratégi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en felül ágazati stratégiá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aláír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esé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kárt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önkormány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45F-0A17-41E9-B63D-BBC5F07364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1EA9-60D0-4330-B40E-0E3B6679C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MITS – Informatikai és </a:t>
            </a:r>
            <a:br>
              <a:rPr sz="4000"/>
            </a:b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Hírközlési Minisztériu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TS pénzügyi forrásai: központi költségvetés és EU forr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elada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Életminőség javít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sadalmi és területi esélyegyenlőség biztosít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umán erőforrás felkészítése az információs társadalom kihívása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-gazdaság fejleszt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özszféra további demokratizálása és hatékonyságának növ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nformációs társadalom infrastrukturális alapjainak megteremt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sadalmi innovációs tevékenység ösztönz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741-CB9D-4B23-94E2-17A2C9A5DD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AF54A-5A11-4E8D-8A8B-E982EF6D5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256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183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638680" y="3124080"/>
            <a:ext cx="6192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9E0-9EC3-4324-A3E9-A995893302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CA788-14B9-4A54-9293-C9C5BE451562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almas lépés a mainframe-ek után mivel ledöntötte a „misztérium”-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 – mindenki megcsinálhatta a saját felada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övegszerkesztés, kalkulációk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E00-DF84-4958-AAFE-85BF8E7132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E7537-16DF-4B5E-9600-B80FC85790CF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z informatika fejlődése a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lhasználó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szemszögébő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a műszaki tartalom, hanem a betöltött szerep vizsgálata az elsőd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6B4-C334-4C05-AF6A-A2436CD527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6D470-70BF-4746-AF36-75C096302871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ultitask futtatás (3.31, DR, Novell,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 – integrált alkalmazások (Framework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Windows – grafikus felület, multimédia, Wintel sprirá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174-0C25-4CF8-95C1-02C255403F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712B6-42BE-4EB0-9CE1-2D80D9343DC6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(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LAN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ös erőforrás kezelés (HDD, printerek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jesítmény – multimédia, Wintel spirá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 – cyber-tér, új gazda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181480"/>
            <a:ext cx="6705360" cy="1676520"/>
          </a:xfrm>
          <a:prstGeom prst="rightArrow">
            <a:avLst>
              <a:gd name="adj1" fmla="val 50000"/>
              <a:gd name="adj2" fmla="val 99989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14600" y="52578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>
                    <a:alpha val="50000"/>
                  </a:srgbClr>
                </a:solidFill>
                <a:latin typeface="Times New Roman"/>
              </a:rPr>
              <a:t>GroupWare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D46-6B38-4B50-B3DA-D761390ED0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59E51-D260-49FE-9932-F441DFFABDD4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133720"/>
            <a:ext cx="8305920" cy="1523880"/>
          </a:xfrm>
          <a:prstGeom prst="wedgeRoundRectCallout">
            <a:avLst>
              <a:gd name="adj1" fmla="val -53037"/>
              <a:gd name="adj2" fmla="val 114064"/>
              <a:gd name="adj3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419720"/>
            <a:ext cx="8153640" cy="1371600"/>
          </a:xfrm>
          <a:prstGeom prst="wedgeRoundRectCallout">
            <a:avLst>
              <a:gd name="adj1" fmla="val 41412"/>
              <a:gd name="adj2" fmla="val 120949"/>
              <a:gd name="adj3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C – áldás és/vagy á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Tévedni emberi dolog, de igazán elrontani valamit csak számítógéppel lehet.”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Ha Murphy számítógépet használt volna törvényei kidolgozására, azok valószinűleg elvesztek volna egy rendszerösszeomlás sorá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24B-4BA6-44E9-A8CA-8BC209E478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1565D-6A93-4B4E-ACDD-A41FA8FA53B3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C – áldás és/vagy á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edvező ROI érték – (Compaq-Modus 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Az eredmények egyértelműen azt mutatják, hogy a vezetők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korábbiaknál fontosabb területként kezelik az  informatikát és gazdaságossági, hatékonysági szempontokat figyelembe véve jövedelmező befektetésnek tartják a korszerű informatikai rendszerek, megoldások kialakítását, fejlesztésé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Szakembereket igényel (külsős számára nehezen átláthat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Nehezen számszerüsíthető a mérleg két oldala </a:t>
            </a:r>
            <a:br>
              <a:rPr sz="2800"/>
            </a:b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      (TCO </a:t>
            </a:r>
            <a:r>
              <a:rPr b="0" lang="hu-HU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eredmény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63E-5C2F-42B5-A863-9579D51AC5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27069-519C-42E3-ADDB-B9D519EC4243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204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5638680" y="3124080"/>
            <a:ext cx="6192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62720" y="4114800"/>
            <a:ext cx="61884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C54-A5DB-4DBB-BD43-6F62103D78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7288B-53A7-4B8C-8A48-632BCE428B35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Infokommunikációs értéklánc</a:t>
            </a:r>
            <a:br>
              <a:rPr sz="2400"/>
            </a:br>
            <a:r>
              <a:rPr b="0" lang="hu-HU" sz="2000" spc="-1" strike="noStrike">
                <a:solidFill>
                  <a:srgbClr val="ffcc66"/>
                </a:solidFill>
                <a:latin typeface="Arial"/>
              </a:rPr>
              <a:t>A konvergálodó területek értéklánca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752480"/>
            <a:ext cx="1828800" cy="60984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rtal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lőáll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438280"/>
            <a:ext cx="1828800" cy="68580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erkeszté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somago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200400"/>
            <a:ext cx="1828800" cy="76212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olgáltatá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yúj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038480"/>
            <a:ext cx="1905120" cy="76212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ovábbítá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losz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2057400" cy="76176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egjelení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terminá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715000"/>
            <a:ext cx="213372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Felhaszn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167652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ORIZONT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ÁTRENDEZŐD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2590920"/>
            <a:ext cx="1905120" cy="761760"/>
          </a:xfrm>
          <a:prstGeom prst="leftRightArrow">
            <a:avLst>
              <a:gd name="adj1" fmla="val 50000"/>
              <a:gd name="adj2" fmla="val 4978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3505320"/>
            <a:ext cx="4419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elemeken belü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(Pl.távközlő hálozatok működésb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76920"/>
            <a:ext cx="1066680" cy="10666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4343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RTIKÁLIS INTEGR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fokom lánc men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0A9-CD3B-44E4-A482-82A4D14634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CC4BB-B6DD-48F9-ADB0-5F3BAF3A08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66"/>
                </a:solidFill>
                <a:latin typeface="Arial"/>
              </a:rPr>
              <a:t>A konvergencia alapja a digitális technológia fejlődése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1219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játszma lényeg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19051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tárolni egy bite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dolgozni egy bit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utaztatni egy bite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523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i az olcsóbb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0481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Hogyan változnak a költségek időben és arányba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90720" y="3505320"/>
          <a:ext cx="662940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629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838080" y="4724280"/>
            <a:ext cx="65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e: a technológia csak a lehetőséget adja me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jövőt az üzleti modell sikeressége szabja me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em lehet dogmatikus szabályokat alkot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felhasználó-barát, egyszerűbb technológiák nyer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E72-EF71-4D3B-9A83-7E333798210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50061-F518-4E85-BE5D-7E476B40EB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Távközlés, informatika és média konvergenciája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838080"/>
          <a:ext cx="89154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915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657600" y="2666880"/>
            <a:ext cx="16765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1240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I&amp;T&amp;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253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távközlés infokommunikációvá szélesed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CT=Information and Communication Technologies(IT,T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ST=Information Society Technologies(IT,Tk,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467600">
            <a:off x="2742480" y="3809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ff"/>
                </a:solidFill>
                <a:latin typeface="Times New Roman"/>
              </a:rPr>
              <a:t>INFOKOMMUNIKÁ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584-11BB-4A77-9BAC-CA4EA08C84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D43B3-12C9-4E9E-A646-B2A03CA03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Fix és mobil távbeszélő, Internet:1997 és 2001</a:t>
            </a: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[ITU]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1295280"/>
          <a:ext cx="57960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6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8108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209680" y="2819520"/>
            <a:ext cx="342900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2057040"/>
            <a:ext cx="5257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2286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09680" y="1905120"/>
            <a:ext cx="518184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7339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447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200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05740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0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583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74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971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35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733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6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46483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4800600"/>
            <a:ext cx="12952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800600"/>
            <a:ext cx="1600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0,3 host/100lakos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6,5 host/100P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505320"/>
            <a:ext cx="1371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host/100 lako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5host/100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8880" y="3497400"/>
            <a:ext cx="14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2438280"/>
            <a:ext cx="167652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243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2010 körü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Kb. 1400 millióná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A mobilok túllépik a fix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Tb. Előfizetők számá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1447920"/>
            <a:ext cx="31240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1447920"/>
            <a:ext cx="4114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ix vonalak száma eléri az 1 milliárdo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A mobiloké a 400 millió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1048600">
            <a:off x="2590920" y="2133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ix telef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750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083400">
            <a:off x="2362320" y="25142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,7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0782200">
            <a:off x="3352680" y="243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obil öss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651400">
            <a:off x="3429360" y="28191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2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9678200">
            <a:off x="2438640" y="41907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Internet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93800">
            <a:off x="2929320" y="4233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7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209320" y="5029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028840" y="3200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91520" y="2057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05740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0574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1447920"/>
            <a:ext cx="144756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obil várható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880milli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352680"/>
            <a:ext cx="1218960" cy="68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Várható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886200"/>
            <a:ext cx="137160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Internet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Várható:160 milli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317520" y="379656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Log   ská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22860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196-97E9-42D6-9718-652D003274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E3A0-8C25-4813-9556-C794C669F7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284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5410080" y="2362320"/>
            <a:ext cx="3057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59436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NINCS VÉ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BC3-5354-4175-9C08-BADA7A3887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07660-6908-4B72-BEA3-C2771D781924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95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324-4256-46C9-8B52-7A51958148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DD12-0805-412F-808C-A223C966E5E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Mátrix ?  Különvélemén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410080" y="228600"/>
            <a:ext cx="3428640" cy="3352320"/>
            <a:chOff x="5410080" y="228600"/>
            <a:chExt cx="3428640" cy="3352320"/>
          </a:xfrm>
        </p:grpSpPr>
        <p:sp>
          <p:nvSpPr>
            <p:cNvPr id="291" name="Puzzle3"/>
            <p:cNvSpPr/>
            <p:nvPr/>
          </p:nvSpPr>
          <p:spPr>
            <a:xfrm>
              <a:off x="7079760" y="228600"/>
              <a:ext cx="1347480" cy="1781640"/>
            </a:xfrm>
            <a:prstGeom prst="pie">
              <a:avLst/>
            </a:prstGeom>
            <a:solidFill>
              <a:srgbClr val="ffbe7d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Puzzle2"/>
            <p:cNvSpPr/>
            <p:nvPr/>
          </p:nvSpPr>
          <p:spPr>
            <a:xfrm>
              <a:off x="6687720" y="1526400"/>
              <a:ext cx="2151000" cy="1622520"/>
            </a:xfrm>
            <a:prstGeom prst="pi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Puzzle4"/>
            <p:cNvSpPr/>
            <p:nvPr/>
          </p:nvSpPr>
          <p:spPr>
            <a:xfrm>
              <a:off x="5855400" y="1506240"/>
              <a:ext cx="1296720" cy="2074680"/>
            </a:xfrm>
            <a:prstGeom prst="pie">
              <a:avLst/>
            </a:prstGeom>
            <a:solidFill>
              <a:srgbClr val="d8ebb3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Puzzle1"/>
            <p:cNvSpPr/>
            <p:nvPr/>
          </p:nvSpPr>
          <p:spPr>
            <a:xfrm>
              <a:off x="5410080" y="767520"/>
              <a:ext cx="2178000" cy="1236600"/>
            </a:xfrm>
            <a:prstGeom prst="pie">
              <a:avLst/>
            </a:prstGeom>
            <a:solidFill>
              <a:srgbClr val="cc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jlődés „mozaikjai” veszélyes egésszé állhatnak öss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intel spirá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ifejezetten nagy és mindenhol elérhető 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sterséges intelligencia kutatások (hadi ip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zdasági érdekelt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mélyes felelős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matrix" descr=""/>
          <p:cNvPicPr/>
          <p:nvPr/>
        </p:nvPicPr>
        <p:blipFill>
          <a:blip r:embed="rId1"/>
          <a:stretch/>
        </p:blipFill>
        <p:spPr>
          <a:xfrm>
            <a:off x="4656240" y="4992840"/>
            <a:ext cx="4487760" cy="18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41F-7A15-4D55-A402-72C8DB2065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CCA31-4C30-42FE-9F93-F94A8F55B36D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Az informatika fejlődésének 10 következménye</a:t>
            </a:r>
            <a:br>
              <a:rPr sz="24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143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Times New Roman"/>
              </a:rPr>
              <a:t>A jó hír az, hogy az informatika fejlődése hatékonyabbá teszi a cégeket - </a:t>
            </a:r>
            <a:br>
              <a:rPr sz="2000"/>
            </a:br>
            <a:r>
              <a:rPr b="0" lang="hu-HU" sz="2000" spc="-1" strike="noStrike">
                <a:solidFill>
                  <a:srgbClr val="ffcc66"/>
                </a:solidFill>
                <a:latin typeface="Times New Roman"/>
              </a:rPr>
              <a:t>rossz: kevesebb dolgozóra lesz szüksé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0574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Gartner Symposium/Itxpo 2002-es konferenciáján ez azonban csak az egyik prognózis volt Carl Claunch, a Gartner kutatási igazgatója 9 további pontban foglalta össze intézményeinek előrejelzése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2767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1752480" y="2666880"/>
            <a:ext cx="1104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2743200"/>
            <a:ext cx="853416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A sávszélesség bővítése költség-hatékonyabb lesz,mint új számítógépeket venni: az optikai sávszélesség képességei évente 100%-kal nőnek, míg a számítási kapacitás csak 60%-kal.  Így kevesebb,de sokkal centralizáltabb adatközpontok jöhetnek létre, a számítási kapacitást pedig az alkalmazásszolgáltatói modell osztják me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 A legtöbb új rendszer vállalatközi rendszer lesz,mert gyors fejlődésnek indulnak azok a technológiák,amelyek révén összefoghatók lesznek az ellátó lánci rendszerek és egyéb alkalmazáso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 Bonyolultságuk ellenére a vállalatközi rendszerek makroökonómiai szempontból lökést adnak a vállalatoknak,hiszen a felhasználók gyorsabban tudnak reagálni az üzleti körülmények változásá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46C-9B29-4A94-A72E-469140B55A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CA546-C565-480A-8734-40D49587F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0"/>
            <a:ext cx="845820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olytatá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.  Folytatódik a konszolidáció az informatikai piac sok szegmensében. Az informatikai beruházások visszafogása továbbra is akadályozza a szolgáltatásokat, a kötesszoftver-gyártókat és a rendszer és hálózati berendezésgyártókat. A mai szoftvercégek fele 2004-re eltűni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5. Az évtized végéig még érvényben marad a Moore-törvény 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- hat év múlva egy átlagos PC 40 GHz-es processzorral, 1,5 terabájtos tárolóval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4-12 gigabájt RAM-mal és lapkánként 4-8 CPU-val rendelkezi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6. 2007-re a bankok lesznek az információk őrzői és nem az Internet szolgáltatók, mert ma már 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egyre több személyes és pénzügyi információt osztanak meg on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7.  Az üzleti tevékenység nyomon követése öt éven belül a fősodorba kerül. Az üzletek fürgébbé válhatnak az informatika fejlődésével az új lehetőségek kiaknázásába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8. Az alkalmazásokkal kapcsolatos döntéseket az üzleti részlegek hozzák,és nem informatikai központ. A részlegek közötti kapcsolat és szinkronizálás a mainál jobb les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9. Végül, 2004-re az inga visszalendül a decentralizált informatikai működés felé. Sok cég most a költségcsökkentés miatt centralizál, de a javuló gazdasági körülmények hatására a cégek újból felismerik a decentralizáltság előnyeit,mert így gyorsabban tudnak alkalmazkodni az üzleti feltételek változásáho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57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moore_gordon" descr="Gordon Moore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709-D292-41E3-A45C-5FD5715FBA8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512C1-1352-424A-9748-CED28D83E5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Gates szerint a jövő (200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Azt hiszem, még mindig álmodozom arról a PC-ről, amely nagyon, nagyon jól fog működni valamikor; egy új Microsoft terméket fogok használni és nem kell majd mailt küldenem a fejlesztőknek azzal, hogy 'Ezt most miért csináltátok?'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ates hozzátette: ez az álom tart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ssza attól, hogy visszavonulj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jö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echnológiáit illetően szerinte e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ödni fog a számítógépek és a biológia közötti kapcsol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17970" t="26154" r="61722" b="46345"/>
          <a:stretch/>
        </p:blipFill>
        <p:spPr>
          <a:xfrm>
            <a:off x="6934320" y="2743200"/>
            <a:ext cx="2209680" cy="21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956-6B48-499D-B9E0-B55F3B6967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7EA27-5954-4E0B-8331-736EC333B2A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leggazdagabb fiatal amerikai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1447920"/>
          <a:ext cx="7162560" cy="4638600"/>
        </p:xfrm>
        <a:graphic>
          <a:graphicData uri="http://schemas.openxmlformats.org/drawingml/2006/table">
            <a:tbl>
              <a:tblPr/>
              <a:tblGrid>
                <a:gridCol w="533160"/>
                <a:gridCol w="2133360"/>
                <a:gridCol w="609840"/>
                <a:gridCol w="2895480"/>
                <a:gridCol w="99072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é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állal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rd $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hael D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erre Omidy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B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ff Bez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azon.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ff Sko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oll Found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vid Fi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ah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rry Ya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ah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ey Br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o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rry P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o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 Sny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shington Redsk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n Grif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tadel Invest.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dell6_72" descr=""/>
          <p:cNvPicPr/>
          <p:nvPr/>
        </p:nvPicPr>
        <p:blipFill>
          <a:blip r:embed="rId1"/>
          <a:stretch/>
        </p:blipFill>
        <p:spPr>
          <a:xfrm>
            <a:off x="7499520" y="1676520"/>
            <a:ext cx="1644480" cy="204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52C-E2DD-4399-8EAC-7D857342328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29268-114D-417E-B313-A708F1263E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Nolan  – hatlépcsős 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1, kezdeménye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2, megfertő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3, ellenőrzés, szabály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4, integ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5, adat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6, érett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97F-F776-47B6-B25B-9788B616AE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18A6-1590-4B89-8FE4-D4F434998560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Nolan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133720"/>
            <a:ext cx="7772400" cy="182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191120"/>
            <a:ext cx="7696440" cy="1981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1, kezdeménye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2, megfertő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3, ellenőrzés, szabály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4, integ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5, adat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6, érett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zámítógép menedzsmen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8769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formáció menedzsment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8120" y="26668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1979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AF3-023A-4A09-BB76-8A4F63E95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4AE00-BC26-4333-8D95-4EEE3FD907DC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ő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1, alapvető, már klasszikus m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ű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etek automatizál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feldolgozás (D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0-as évektő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űködés hatékonysá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érszámfejtés, számlázás,…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6B6-8082-4D9D-8963-6409988286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4BF96-ED5D-4021-8759-78110ABE87B2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 lépcső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84548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2, vezetés hatékonyságának n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ö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tői információs rendszerek (M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70-es évektő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etői hatásoss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galomelemzés, lineáris programozás, pénzügyi modell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4FE-7DA6-4010-9609-B546A2A957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2C7F9-1EC4-4560-95A2-0149F1C8C4A8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ő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84548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ersenyképesség erősíté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égiai információs rendszerek (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0-as évektő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zleti elő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0FE-234B-435B-9C7E-EF7226AC81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E6F6-F49C-4813-8E94-0C88F0ACCEB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ő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ersenyképesség erősítés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1 – fő értéknövelő tevékenységekbe történő hatékonyabb integr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ált forgalmazói, logisztikai rendsze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2 fő partnerekkel való hatékonyabb összekö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3 új vagy korszerűbb termékek fejlesztése, piacra dob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Bank, szelektív gyomírtó kiválasztás, festékkever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4 emelt szintű vezetői támogatás EIS executive 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ülső (on-line információkat, trendeket is beilleszt a belső információk közé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B73-E982-4155-8ABB-2DF6C3F588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D990-1FF2-4462-B87E-5D1FCBBA1AA6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7:10:39Z</dcterms:created>
  <dc:creator/>
  <dc:description/>
  <dc:language>en-US</dc:language>
  <cp:lastModifiedBy>...</cp:lastModifiedBy>
  <cp:lastPrinted>2003-09-26T07:10:39Z</cp:lastPrinted>
  <dcterms:modified xsi:type="dcterms:W3CDTF">2003-11-16T22:13:35Z</dcterms:modified>
  <cp:revision>67</cp:revision>
  <dc:subject/>
  <dc:title>PowerPoint Presentation</dc:title>
</cp:coreProperties>
</file>