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6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7.png" ContentType="image/png"/>
  <Override PartName="/ppt/media/image8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B973-D052-4B7C-8AE6-2BC167597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5767-D6FD-448F-8630-EA6F9FDB3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F4DA-2D4F-498E-8D16-6F02770B1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7D38-D0B8-4706-842C-527390A50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6077D-BCFE-4F6B-A718-E59713D6C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8A71A-D016-4759-B978-5ABBEAF5E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78833-CC3D-4DB0-B4D5-769A9C26C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EEFDF-61A7-41CA-B9AE-8EFC26541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D57A8-BA48-4316-8717-C417FC862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72482-D151-41E6-900A-A996B1C1D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BB38B-578B-4233-A859-E58C4A97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72CA-1FE3-4A65-B297-355A511DE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75E36-C501-4302-8F3F-190736AD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56BA9-67B5-42A3-9D93-28A32BBD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F7675-8B8A-4187-9CC0-54FD499F8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D26F3-0F94-46AA-92BE-C64BA502E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C4301-179C-431D-9242-A79D27373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500B-7383-4671-B87A-6F2CA1243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0B8F-58AA-482F-A117-12CE28F54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83D5-C6E0-4827-A8A3-526068EA8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F816-1F6E-4860-BB46-6CAC5A34B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6A9C-FFD1-49B7-86F9-8A2F3BF3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DCC6-1BAA-4B1C-8E5C-91786AB5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4AAF-401D-4413-B7C9-87DC0EB1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A29E8-5099-4717-AAC0-24032237F99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EF268-EC05-4E3E-A61E-A1A0B0E19F1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9680" y="837720"/>
            <a:ext cx="891396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6600" spc="-1" strike="noStrike">
                <a:solidFill>
                  <a:srgbClr val="ffffcc"/>
                </a:solidFill>
                <a:latin typeface="Arial Narrow"/>
              </a:rPr>
              <a:t>Képernyő el</a:t>
            </a:r>
            <a:r>
              <a:rPr b="1" i="1" lang="hu-HU" sz="6600" spc="-1" strike="noStrike">
                <a:solidFill>
                  <a:srgbClr val="ffffcc"/>
                </a:solidFill>
                <a:latin typeface="Arial Narrow"/>
              </a:rPr>
              <a:t>ő</a:t>
            </a:r>
            <a:r>
              <a:rPr b="1" i="1" lang="en-GB" sz="6600" spc="-1" strike="noStrike">
                <a:solidFill>
                  <a:srgbClr val="ffffcc"/>
                </a:solidFill>
                <a:latin typeface="Arial Narrow"/>
              </a:rPr>
              <a:t>tti </a:t>
            </a:r>
            <a:r>
              <a:rPr b="1" i="1" lang="hu-HU" sz="66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1" i="1" lang="hu-HU" sz="66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1" i="1" lang="hu-HU" sz="66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1" i="1" lang="hu-HU" sz="66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1" i="1" lang="hu-HU" sz="66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1" i="1" lang="hu-HU" sz="66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1" i="1" lang="hu-HU" sz="66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1" i="1" lang="hu-HU" sz="66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1" i="1" lang="hu-HU" sz="66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1" i="1" lang="en-GB" sz="6600" spc="-1" strike="noStrike">
                <a:solidFill>
                  <a:srgbClr val="ffffcc"/>
                </a:solidFill>
                <a:latin typeface="Arial Narrow"/>
              </a:rPr>
              <a:t>munkavégzés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943240" y="4343400"/>
            <a:ext cx="3048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ffffff"/>
                </a:solidFill>
                <a:latin typeface="Times New Roman"/>
              </a:rPr>
              <a:t>Gasparetz Andr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ffffff"/>
                </a:solidFill>
                <a:latin typeface="Times New Roman"/>
              </a:rPr>
              <a:t>20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scene1" descr=""/>
          <p:cNvPicPr/>
          <p:nvPr/>
        </p:nvPicPr>
        <p:blipFill>
          <a:blip r:embed="rId1"/>
          <a:stretch/>
        </p:blipFill>
        <p:spPr>
          <a:xfrm>
            <a:off x="0" y="4530600"/>
            <a:ext cx="2971800" cy="232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64890-CB08-46FC-B448-B3E17B0A835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ffcc"/>
                </a:solidFill>
                <a:latin typeface="Arial Narrow"/>
              </a:rPr>
              <a:t>Teendők kockázatok felismerése után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Veszélyek elkerülé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Nem elkerülhetőek értékelé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mberi tényező figyelembevéte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űszaki fejlődés eredményeinek használ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Átfogó megelőzési stratég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egfelelő utasítás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7609-DD8D-4996-938F-A20EA80DE4C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ffcc"/>
                </a:solidFill>
                <a:latin typeface="Arial Narrow"/>
              </a:rPr>
              <a:t>Wieland és Koller ajánlása</a:t>
            </a:r>
            <a:br>
              <a:rPr sz="4800"/>
            </a:br>
            <a:r>
              <a:rPr b="1" lang="hu-HU" sz="2800" spc="-1" strike="noStrike">
                <a:solidFill>
                  <a:srgbClr val="ffffcc"/>
                </a:solidFill>
                <a:latin typeface="Arial Narrow"/>
              </a:rPr>
              <a:t>képernyős munkahelyek létesítéséhez és/vagy minősítéséhez</a:t>
            </a:r>
            <a:br>
              <a:rPr sz="2800"/>
            </a:br>
            <a:r>
              <a:rPr b="1" lang="hu-HU" sz="2800" spc="-1" strike="noStrike">
                <a:solidFill>
                  <a:srgbClr val="ffffcc"/>
                </a:solidFill>
                <a:latin typeface="Arial Narrow"/>
              </a:rPr>
              <a:t>figyelembe veendő területekről</a:t>
            </a:r>
            <a:endParaRPr b="1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819160" y="243828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hardver és bútorz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Szoftver ergonóm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unkakörnyez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Szem és vázizomzat megterhelé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Pszichikai megterhel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unkafolyamat szervezettsé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A3E2-21AF-4952-A950-5E922956EC6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cc"/>
                </a:solidFill>
                <a:latin typeface="Arial Narrow"/>
              </a:rPr>
              <a:t>Ajánlás képernyős munkahelyek kialakításának minimálisan figyelembe veendő területeiről az 50/1999 EüM alapján</a:t>
            </a:r>
            <a:endParaRPr b="1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895480" y="1371240"/>
            <a:ext cx="60199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Berendezés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Általános elrendezé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Képernyő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Billentyűze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Munkaaszt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Munkaszé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Környez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Térkövetelménye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Megvilágítá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Tükröződé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Zaj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Klím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Sugárzá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mber – gép kapcsol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25E1-B59B-4523-8746-01B3283578F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ffcc"/>
                </a:solidFill>
                <a:latin typeface="Arial Narrow"/>
              </a:rPr>
              <a:t>Max. napi 6 óra ?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2514600"/>
            <a:ext cx="861048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munkáltató a munkafolyamatokat úgy szervezi meg, hogy a folyamatos képernyő előtti munkavégzést óránként legalább tízperces – össze nem vonható – szünetek szakítsák meg, továbbá a képernyő előtti tényleges munkavégzés összes ideje a napi hat órát ne haladja me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9929-E5B9-43E0-8072-1F4C174D850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2560" y="228600"/>
            <a:ext cx="80805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ffcc"/>
                </a:solidFill>
                <a:latin typeface="Arial Narrow"/>
              </a:rPr>
              <a:t>Szemészeti vizsgál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256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z eredeti rendelkezéssel ellentétben immáron nem csak biztosítania kell a munkáltatónak a látásvizsgálatot, hanem el is kell küldenie a dolgozóját, legalább kétévente, aki ráadásul köteles a vizsgálaton részt venni.</a:t>
            </a:r>
            <a:r>
              <a:rPr b="0" lang="hu-HU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Bizonyított látásromlás esetén a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munkáltatónak biztosítania kell a minimálisan szükséges, a képernyő előtti munkavégzéshez éleslátást biztosító szemüveget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      „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unkavégzéshez szükséges szemüveglencse, és ennek a lencsének a rendeltetésszerű használatához szükséges keret, ide nem értve a munkavállaló által a képernyő előtti munkavégzéstől függetlenül egyébként is használt szemüveget vagy kontaktlencsét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„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      „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harmadik szemüveg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nincs értékhatá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7D34-06A8-43E3-B181-060E17AD960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ffcc"/>
                </a:solidFill>
                <a:latin typeface="Arial Narrow"/>
              </a:rPr>
              <a:t>Gyakorlati teendők</a:t>
            </a:r>
            <a:r>
              <a:rPr b="1" lang="en-GB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819160" y="1904760"/>
            <a:ext cx="609588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rendelet ismerete és megismerteté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Orvosi vizsgálatok betartá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Dokumentáció a kockázatok számbavételérő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Speciális számítógépes torna ismer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00FC-D6FB-4D19-BF30-898F135C2E0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Arial Narrow"/>
                <a:ea typeface="Times New Roman"/>
              </a:rPr>
              <a:t>Adatlap</a:t>
            </a:r>
            <a:r>
              <a:rPr b="0" lang="hu-HU" sz="3200" spc="-1" strike="noStrike">
                <a:solidFill>
                  <a:srgbClr val="ffffcc"/>
                </a:solidFill>
                <a:latin typeface="Arial Narrow"/>
              </a:rPr>
              <a:t> a</a:t>
            </a:r>
            <a:r>
              <a:rPr b="1" lang="hu-HU" sz="32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0" lang="hu-HU" sz="3200" spc="-1" strike="noStrike">
                <a:solidFill>
                  <a:srgbClr val="ffffcc"/>
                </a:solidFill>
                <a:latin typeface="Arial Narrow"/>
                <a:ea typeface="Times New Roman"/>
              </a:rPr>
              <a:t>50/1999. (XI.3.) EüM rendelet szerinti képerny</a:t>
            </a:r>
            <a:r>
              <a:rPr b="0" lang="hu-HU" sz="3200" spc="-1" strike="noStrike">
                <a:solidFill>
                  <a:srgbClr val="ffffcc"/>
                </a:solidFill>
                <a:latin typeface="Arial Narrow"/>
              </a:rPr>
              <a:t>ő</a:t>
            </a:r>
            <a:r>
              <a:rPr b="0" lang="hu-HU" sz="3200" spc="-1" strike="noStrike">
                <a:solidFill>
                  <a:srgbClr val="ffffcc"/>
                </a:solidFill>
                <a:latin typeface="Arial Narrow"/>
                <a:ea typeface="Times New Roman"/>
              </a:rPr>
              <a:t>s munkahely vizsgálatához</a:t>
            </a:r>
            <a:r>
              <a:rPr b="1" lang="hu-HU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Berendezés minimum követelménye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Igen     N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Képernyő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elfordítható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dönthet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éz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ő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vonalszög megfelel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ő </a:t>
            </a: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(0</a:t>
            </a:r>
            <a:r>
              <a:rPr b="0" lang="hu-HU" sz="1200" spc="-1" strike="noStrike" baseline="30000">
                <a:solidFill>
                  <a:srgbClr val="ffffff"/>
                </a:solidFill>
                <a:latin typeface="Arial"/>
              </a:rPr>
              <a:t>o </a:t>
            </a: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- 60</a:t>
            </a:r>
            <a:r>
              <a:rPr b="0" lang="hu-HU" sz="12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 között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éz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ő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ávolság megfelel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ő </a:t>
            </a: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(400 - 650 m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ükröz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ő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és észlelhet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ha igen, ennek o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bla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világító t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erendezési tá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illenty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ű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et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ialakítása, elhelyezése megfelel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osztott billenty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ű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66688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543800" y="266688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297180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543800" y="297180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781680" y="327672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43800" y="327672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81680" y="358128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543800" y="358128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81680" y="388620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543800" y="388620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81680" y="449568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43800" y="449568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81680" y="480060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543800" y="480060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781680" y="510552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543800" y="510552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81680" y="571500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543800" y="571500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81680" y="601992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43800" y="601992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D30B-BA71-4A9A-8D64-CB501496AB8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Arial Narrow"/>
                <a:ea typeface="Times New Roman"/>
              </a:rPr>
              <a:t>Adatlap</a:t>
            </a:r>
            <a:r>
              <a:rPr b="0" lang="hu-HU" sz="3200" spc="-1" strike="noStrike">
                <a:solidFill>
                  <a:srgbClr val="ffffcc"/>
                </a:solidFill>
                <a:latin typeface="Arial Narrow"/>
              </a:rPr>
              <a:t> a</a:t>
            </a:r>
            <a:r>
              <a:rPr b="1" lang="hu-HU" sz="32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0" lang="hu-HU" sz="3200" spc="-1" strike="noStrike">
                <a:solidFill>
                  <a:srgbClr val="ffffcc"/>
                </a:solidFill>
                <a:latin typeface="Arial Narrow"/>
                <a:ea typeface="Times New Roman"/>
              </a:rPr>
              <a:t>50/1999. (XI.3.) EüM rendelet szerinti képerny</a:t>
            </a:r>
            <a:r>
              <a:rPr b="0" lang="hu-HU" sz="3200" spc="-1" strike="noStrike">
                <a:solidFill>
                  <a:srgbClr val="ffffcc"/>
                </a:solidFill>
                <a:latin typeface="Arial Narrow"/>
              </a:rPr>
              <a:t>ő</a:t>
            </a:r>
            <a:r>
              <a:rPr b="0" lang="hu-HU" sz="3200" spc="-1" strike="noStrike">
                <a:solidFill>
                  <a:srgbClr val="ffffcc"/>
                </a:solidFill>
                <a:latin typeface="Arial Narrow"/>
                <a:ea typeface="Times New Roman"/>
              </a:rPr>
              <a:t>s munkahely vizsgálatához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Igen     Nem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unkaasztal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agassága megfelel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állítható magasság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egfelel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ő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elrendezés biztosíthat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ormális munkazóna biztosítot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aximális munkazóna biztosítot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aptartó van-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unkaszék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tab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állítható magasság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görg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ő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ön mozgathat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ámla magassága állíthat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ámla dönthet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ábtartó van-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0" y="236232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88620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0" y="358128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0" y="327672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0" y="297180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0" y="266688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0" y="480060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0" y="449568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20120" y="388620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358128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0120" y="327672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0120" y="297180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20120" y="266688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20120" y="236232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20120" y="541008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0120" y="510552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480060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0120" y="449568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0120" y="571500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0" y="571500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0" y="541008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0" y="510552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0120" y="601992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0" y="601992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2204-13D2-4BAE-A0EF-169A8F2B2EE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Arial Narrow"/>
                <a:ea typeface="Times New Roman"/>
              </a:rPr>
              <a:t>Adatlap</a:t>
            </a:r>
            <a:r>
              <a:rPr b="0" lang="hu-HU" sz="3200" spc="-1" strike="noStrike">
                <a:solidFill>
                  <a:srgbClr val="ffffcc"/>
                </a:solidFill>
                <a:latin typeface="Arial Narrow"/>
              </a:rPr>
              <a:t> a</a:t>
            </a:r>
            <a:r>
              <a:rPr b="1" lang="hu-HU" sz="32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0" lang="hu-HU" sz="3200" spc="-1" strike="noStrike">
                <a:solidFill>
                  <a:srgbClr val="ffffcc"/>
                </a:solidFill>
                <a:latin typeface="Arial Narrow"/>
                <a:ea typeface="Times New Roman"/>
              </a:rPr>
              <a:t>50/1999. (XI.3.) EüM rendelet szerinti képerny</a:t>
            </a:r>
            <a:r>
              <a:rPr b="0" lang="hu-HU" sz="3200" spc="-1" strike="noStrike">
                <a:solidFill>
                  <a:srgbClr val="ffffcc"/>
                </a:solidFill>
                <a:latin typeface="Arial Narrow"/>
              </a:rPr>
              <a:t>ő</a:t>
            </a:r>
            <a:r>
              <a:rPr b="0" lang="hu-HU" sz="3200" spc="-1" strike="noStrike">
                <a:solidFill>
                  <a:srgbClr val="ffffcc"/>
                </a:solidFill>
                <a:latin typeface="Arial Narrow"/>
                <a:ea typeface="Times New Roman"/>
              </a:rPr>
              <a:t>s munkahely vizsgálatához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örnyezet minimum követelménye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gen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érkövetelmény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legend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ő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tér áll-e rendelkezés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unkahelyi szeparáció biztosított-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ábak mozgása biztosított-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egvilágítás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általános világítás megfelel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ő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-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helyi világítás biztosított-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ha igen, megfelel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ő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-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fényforrások elhelyezése megfelel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ő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-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blakok takarása megfelel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ő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-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aj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ajszint elfogadható-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líma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 használó védett-e a h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ő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hatástó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huzathatás van-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0" y="266688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0120" y="449568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20120" y="419112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419112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20120" y="388620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0120" y="327672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0120" y="297180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20120" y="266688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0" y="327672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0" y="297180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0120" y="601992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20120" y="571500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620120" y="632448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20120" y="510552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20120" y="480060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0" y="388620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0" y="449568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0" y="571500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0" y="510552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0" y="480060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0" y="632448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0" y="601992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22BB-AE8F-42DC-8F7F-5E402B0EB30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Arial Narrow"/>
                <a:ea typeface="Times New Roman"/>
              </a:rPr>
              <a:t>Adatlap</a:t>
            </a:r>
            <a:r>
              <a:rPr b="0" lang="hu-HU" sz="3200" spc="-1" strike="noStrike">
                <a:solidFill>
                  <a:srgbClr val="ffffcc"/>
                </a:solidFill>
                <a:latin typeface="Arial Narrow"/>
              </a:rPr>
              <a:t> a</a:t>
            </a:r>
            <a:r>
              <a:rPr b="1" lang="hu-HU" sz="32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0" lang="hu-HU" sz="3200" spc="-1" strike="noStrike">
                <a:solidFill>
                  <a:srgbClr val="ffffcc"/>
                </a:solidFill>
                <a:latin typeface="Arial Narrow"/>
                <a:ea typeface="Times New Roman"/>
              </a:rPr>
              <a:t>50/1999. (XI.3.) EüM rendelet szerinti képerny</a:t>
            </a:r>
            <a:r>
              <a:rPr b="0" lang="hu-HU" sz="3200" spc="-1" strike="noStrike">
                <a:solidFill>
                  <a:srgbClr val="ffffcc"/>
                </a:solidFill>
                <a:latin typeface="Arial Narrow"/>
              </a:rPr>
              <a:t>ő</a:t>
            </a:r>
            <a:r>
              <a:rPr b="0" lang="hu-HU" sz="3200" spc="-1" strike="noStrike">
                <a:solidFill>
                  <a:srgbClr val="ffffcc"/>
                </a:solidFill>
                <a:latin typeface="Arial Narrow"/>
                <a:ea typeface="Times New Roman"/>
              </a:rPr>
              <a:t>s munkahely vizsgálatához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zervezési intézkedés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Igen     N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unkáltatói intézkedés történt-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 munkaközi szünetek biztosítása véget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ha igen, az intézkedés jellege (beírandó)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……………………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 maximálisan napi 6 órás képerny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ő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unka betartatása véget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ha igen, az intézkedés jellege (beírandó)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……………………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gyéb feljegyzések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(Megjegyzés: az adatlap javaslatnak, illet</a:t>
            </a: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ő</a:t>
            </a:r>
            <a:r>
              <a:rPr b="0" lang="hu-H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leg tervezetnek tekintend</a:t>
            </a: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ő</a:t>
            </a:r>
            <a:r>
              <a:rPr b="0" lang="hu-H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, igény szerint</a:t>
            </a: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módosítható)</a:t>
            </a: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543800" y="304812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0" y="304812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0" y="373392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543800" y="3733920"/>
            <a:ext cx="228600" cy="2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A800-E4D4-467A-BB36-6CD5370D6FA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ffcc"/>
                </a:solidFill>
                <a:latin typeface="Arial Narrow"/>
              </a:rPr>
              <a:t>Ergonómia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352680" y="1371240"/>
            <a:ext cx="55627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ergonómia az ember és munka összehangolásának tudomány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1800" indent="-26820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Hatékonyabb és komfortosabb munkavégzé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1800" indent="-26820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Jobb minőségű munka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1800" indent="-26820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Biztonságosabb körülmények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1800" indent="-26820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Egészségi ártalmak kiküszöbölés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1800" indent="-26820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Munkavégző képesség növekedés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1800" indent="-26820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Munkatársak általános közérzetének javulása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1800" indent="-26820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Konkrét felhasználási területe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1800" indent="-26820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Arial"/>
              </a:rPr>
              <a:t>Meglévő munkahelyek ergonómiai átvilágítása, észszerű változtatások stb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ergoag" descr=""/>
          <p:cNvPicPr/>
          <p:nvPr/>
        </p:nvPicPr>
        <p:blipFill>
          <a:blip r:embed="rId1"/>
          <a:stretch/>
        </p:blipFill>
        <p:spPr>
          <a:xfrm>
            <a:off x="0" y="3986280"/>
            <a:ext cx="3276720" cy="287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024B-792C-4667-8766-42ECD8CC04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cc"/>
                </a:solidFill>
                <a:latin typeface="Arial Narrow"/>
                <a:ea typeface="Times New Roman"/>
              </a:rPr>
              <a:t>Hogyan ellenőrzik a jogszabály betartását?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256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 rendelet előírásainak betartását az Állami Népegészségügyi és Tisztiorvosi Szolgálat területi szervei ellenőrzi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z ÁNTSZ munkatársai a helyszíni vizsgálat során jegyzőkönyvet vesznek fel, s amennyiben mulasztást tapasztalnak, határidő tűzésével felszólítják a munkáltatót a hiányosságok pótlásár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mennyiben azonban a felszólítás ellenére sem teremtik meg a megfelelő munkakörülményeket a munkáltatók, és ezzel veszélyeztetik munkavállalóik egészségét, 50 000 forinttól 10 millió forintig terjedő munkavédelmi bírságot szabhatnak ki velük szemben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6E10-7163-444E-A008-8A5BC7B740B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ffcc"/>
                </a:solidFill>
                <a:latin typeface="Arial Narrow"/>
              </a:rPr>
              <a:t>50/1999. (XI.3.) EüM rendelet megtartása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llenőrzés: munkavédelmi hatóságok: ÁNTSZ</a:t>
            </a:r>
            <a:br>
              <a:rPr sz="2800"/>
            </a:b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Intézkedések: figyelemfelhívás, hiányosság megszüntető határozat, tevékenység felfüggesztése, dolgozó eltiltása, ...</a:t>
            </a:r>
            <a:br>
              <a:rPr sz="2800"/>
            </a:b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Szankciók : végrehajtási bírságolás (100eFt ismételten is), munkavédelmi bírság (3 mFt több munkavállaló veszélyeztetése esetén),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8BDE-0F18-4C18-AD44-19A8EE8EDBF1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ffcc"/>
                </a:solidFill>
                <a:latin typeface="Arial Narrow"/>
              </a:rPr>
              <a:t>Időszakos pihentető torna ajánlot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28240" y="4618080"/>
            <a:ext cx="4343400" cy="17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Arial"/>
              </a:rPr>
              <a:t>A pihenő beiktatása</a:t>
            </a:r>
            <a:br>
              <a:rPr sz="3600"/>
            </a:br>
            <a:r>
              <a:rPr b="0" lang="hu-HU" sz="3600" spc="-1" strike="noStrike">
                <a:solidFill>
                  <a:srgbClr val="ffffff"/>
                </a:solidFill>
                <a:latin typeface="Arial"/>
              </a:rPr>
              <a:t>most már kötelező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295280" y="1676520"/>
          <a:ext cx="6212160" cy="167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676520"/>
                    <a:ext cx="621216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4724280" y="3817800"/>
            <a:ext cx="4419720" cy="304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B95C-CB47-414B-8092-D2108A290DA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ffcc"/>
                </a:solidFill>
                <a:latin typeface="Arial Narrow"/>
              </a:rPr>
              <a:t>Speciális számítógépes torna 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torna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8153280" cy="518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667C-656A-4F84-AB19-DCBCBF787291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ffcc"/>
                </a:solidFill>
                <a:latin typeface="Arial Narrow"/>
              </a:rPr>
              <a:t>A tibeti 12 képernyős</a:t>
            </a:r>
            <a:r>
              <a:rPr b="1" lang="en-GB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211" name="kep" descr=""/>
          <p:cNvPicPr/>
          <p:nvPr/>
        </p:nvPicPr>
        <p:blipFill>
          <a:blip r:embed="rId1"/>
          <a:stretch/>
        </p:blipFill>
        <p:spPr>
          <a:xfrm>
            <a:off x="2408400" y="1343160"/>
            <a:ext cx="4449600" cy="5133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183D-BD51-430A-97C6-99571730B5B0}" type="slidenum">
              <a:t>24</a:t>
            </a:fld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1048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ffcc"/>
                </a:solidFill>
                <a:latin typeface="Arial Narrow"/>
              </a:rPr>
              <a:t>Az egészségügyi miniszter</a:t>
            </a:r>
            <a:br>
              <a:rPr sz="4800"/>
            </a:br>
            <a:r>
              <a:rPr b="1" lang="hu-HU" sz="4800" spc="-1" strike="noStrike">
                <a:solidFill>
                  <a:srgbClr val="ffffcc"/>
                </a:solidFill>
                <a:latin typeface="Arial Narrow"/>
              </a:rPr>
              <a:t>50/1999. (XI.3.) EüM rendelete</a:t>
            </a:r>
            <a:br>
              <a:rPr sz="4800"/>
            </a:br>
            <a:r>
              <a:rPr b="1" lang="hu-HU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1" lang="hu-HU" sz="2000" spc="-1" strike="noStrike">
                <a:solidFill>
                  <a:srgbClr val="ffffcc"/>
                </a:solidFill>
                <a:latin typeface="Verdana"/>
                <a:ea typeface="Times New Roman"/>
              </a:rPr>
              <a:t>módosította</a:t>
            </a:r>
            <a:r>
              <a:rPr b="1" lang="hu-HU" sz="2000" spc="-1" strike="noStrike">
                <a:solidFill>
                  <a:srgbClr val="ffffcc"/>
                </a:solidFill>
                <a:latin typeface="Arial Narrow"/>
              </a:rPr>
              <a:t>  a </a:t>
            </a:r>
            <a:r>
              <a:rPr b="1" lang="hu-HU" sz="2000" spc="-1" strike="noStrike">
                <a:solidFill>
                  <a:srgbClr val="ffffcc"/>
                </a:solidFill>
                <a:latin typeface="Verdana"/>
                <a:ea typeface="Times New Roman"/>
              </a:rPr>
              <a:t>3/2002. (VIII. 30.) EszCsM-rendelet</a:t>
            </a:r>
            <a:endParaRPr b="1" lang="en-US" sz="2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358092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ff9966"/>
                </a:solidFill>
                <a:latin typeface="Arial"/>
              </a:rPr>
              <a:t>A képernyő előtti munkavégzés minimális egészségügyi és biztonsági követelményeirő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00C7-F349-461D-99DD-8CD1B1B9837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ffcc"/>
                </a:solidFill>
                <a:latin typeface="Arial Narrow"/>
              </a:rPr>
              <a:t>50/1999. (XI.3.) EüM rendelet hatálya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, képernyős eszköz: számjegy-, betű-, grafikus képsorokat képernyőn megjelenítő készülék, függetlenül az alkalmazott megjelenítési folyamattól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B, képernyős munkahely: olyan munkaeszközök együttese, amelyhez a képernyős eszközön kívül csatlakozhat adatbeviteli eszköz, egyéb perifériák, esetleges tartozékok, ember-gép kapcsolatot meghatározó szoftver, irattartó, munkaszék, munkaasztal vagy munkafelület, telefon, valamint a közvetlen munkakörnyez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660C-D8FF-4BC7-953B-9DCAE4CCEF0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ffcc"/>
                </a:solidFill>
                <a:latin typeface="Arial Narrow"/>
              </a:rPr>
              <a:t>50/1999. (XI.3.) EüM rendelet hatálya nem terjed ki: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22093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Járművek vezető-, illetve kezelőfülkéi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Szállítóeszközökön lévő számítógépes rendszerek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lsősorban közhasználatra szánt számítógépes rendszerek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Hordozható rendszerek, amelyeket a munkahelyen nem tartósan használnak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Számológépek, pénztárgépe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0D2A-D29D-4751-95EA-B89D7E21409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ffcc"/>
                </a:solidFill>
                <a:latin typeface="Arial Narrow"/>
              </a:rPr>
              <a:t>Kockázatbecslés, értékelé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unkáltató rendszeres ellenőrzés alkalmával folyamatosan vizsgálja az alábbi kockázatok előfordulásá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Látásromlást előidéző tényezők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Pszichés (mentális) megterhelé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Fizikai állapotromlást előidéző tényező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C750-CEAA-4F4B-8EA5-B7B358E174B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ffcc"/>
                </a:solidFill>
                <a:latin typeface="Arial Narrow"/>
              </a:rPr>
              <a:t>Látásromlást előidéző tényezők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819160" y="2590920"/>
            <a:ext cx="609588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Nem megfelelő moni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Rosszul beállított moni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Túl kontrasztos környezetben használt moni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Nem megfelelő szoftver ergonóm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vismain" descr=""/>
          <p:cNvPicPr/>
          <p:nvPr/>
        </p:nvPicPr>
        <p:blipFill>
          <a:blip r:embed="rId1"/>
          <a:stretch/>
        </p:blipFill>
        <p:spPr>
          <a:xfrm>
            <a:off x="0" y="5440320"/>
            <a:ext cx="3505320" cy="141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2ABF-A952-4353-8D9E-ED6F62DBC40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ffcc"/>
                </a:solidFill>
                <a:latin typeface="Arial Narrow"/>
              </a:rPr>
              <a:t>Pszichés (mentális) megterhelé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Feladatból adódó kihív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tevékenység kiterjedtsége</a:t>
            </a:r>
            <a:br>
              <a:rPr sz="2800"/>
            </a:b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túlzott vagy elégtel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Szabályozottságból adódó korlátozottsá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Teljesítménykontro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Kooperáció/kommunikáció</a:t>
            </a:r>
            <a:br>
              <a:rPr sz="2800"/>
            </a:b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szükség, lehetőség, hiá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ws" descr=""/>
          <p:cNvPicPr/>
          <p:nvPr/>
        </p:nvPicPr>
        <p:blipFill>
          <a:blip r:embed="rId1"/>
          <a:stretch/>
        </p:blipFill>
        <p:spPr>
          <a:xfrm>
            <a:off x="0" y="4830840"/>
            <a:ext cx="2895480" cy="202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3BC9-5762-4A28-B8C5-12C4AB7AE80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ffcc"/>
                </a:solidFill>
                <a:latin typeface="Arial Narrow"/>
              </a:rPr>
              <a:t>Fizikai állapotromlást előidéző tényezők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09588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Nem megfelelő ergonóm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Tartós terhel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Sugárz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hmPg_feat_mouseworks_02" descr=""/>
          <p:cNvPicPr/>
          <p:nvPr/>
        </p:nvPicPr>
        <p:blipFill>
          <a:blip r:embed="rId1"/>
          <a:stretch/>
        </p:blipFill>
        <p:spPr>
          <a:xfrm>
            <a:off x="0" y="4400640"/>
            <a:ext cx="2590920" cy="245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A8F2-C12D-47A4-9481-4FC4D81EC81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...</cp:lastModifiedBy>
  <dcterms:modified xsi:type="dcterms:W3CDTF">2003-11-16T21:53:24Z</dcterms:modified>
  <cp:revision>25</cp:revision>
  <dc:subject/>
  <dc:title>PowerPoint Presentation</dc:title>
</cp:coreProperties>
</file>