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A42-BB9F-4D40-B6E9-A00BA3AD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8FD-A333-4516-B34D-41558EA1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372-6C5A-488C-AADF-9055D798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114-9D5F-4A92-928A-57CFF240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4023-2A59-4C8C-A4D0-99CD94C0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2CD7-2E0A-49E0-87F5-900BC3A8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D936-EF7E-4733-A939-6FF8801B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8E31-ABFE-4613-9210-1DCF57D5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5F36-B47E-4B81-88BA-6C7E7FD1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715A-5821-4FC9-B135-876165BD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FB3D-11A2-46E7-B17E-5851D6EE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7CC-1329-4818-B127-A3796FE8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B2C6-7147-40A1-972F-4BA91128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548D-E4E4-4E92-A43B-5016B039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1F07-36D8-4E62-9B6A-76B1A796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42A0-E8D4-4A20-8B74-62D00F36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7CBA-1678-42F2-90A9-03356CC3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E9F-2EE1-41FF-BD9B-B2220835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1B9-DB40-4D20-B0F0-7F863043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6EF-50DB-4A95-A1EE-ECF39F05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E4C-28D8-4B64-B785-BE8F11C9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37C6-792A-4C17-9CEC-91CCE1F9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C48-D461-420D-9AF9-5296DB4C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89E-5F7D-4400-A3DE-85667CBA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B1D6-D780-4C67-97CB-CD8B45F3B9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AA84-7531-439E-8B48-F991C3CB4D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9680" y="837720"/>
            <a:ext cx="89139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600" spc="-1" strike="noStrike">
                <a:solidFill>
                  <a:srgbClr val="ffffcc"/>
                </a:solidFill>
                <a:latin typeface="Arial Narrow"/>
              </a:rPr>
              <a:t>Képernyő el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ő</a:t>
            </a:r>
            <a:r>
              <a:rPr b="1" i="1" lang="en-GB" sz="6600" spc="-1" strike="noStrike">
                <a:solidFill>
                  <a:srgbClr val="ffffcc"/>
                </a:solidFill>
                <a:latin typeface="Arial Narrow"/>
              </a:rPr>
              <a:t>tti 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i="1" lang="en-GB" sz="6600" spc="-1" strike="noStrike">
                <a:solidFill>
                  <a:srgbClr val="ffffcc"/>
                </a:solidFill>
                <a:latin typeface="Arial Narrow"/>
              </a:rPr>
              <a:t>munkavégzé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943240" y="434340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Times New Roman"/>
              </a:rPr>
              <a:t>Gasparetz Andr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Times New Roman"/>
              </a:rPr>
              <a:t>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scene1" descr=""/>
          <p:cNvPicPr/>
          <p:nvPr/>
        </p:nvPicPr>
        <p:blipFill>
          <a:blip r:embed="rId1"/>
          <a:stretch/>
        </p:blipFill>
        <p:spPr>
          <a:xfrm>
            <a:off x="0" y="4530600"/>
            <a:ext cx="2971800" cy="232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539A-C235-4D5A-9937-19BEFC5F5B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Arial Narrow"/>
              </a:rPr>
              <a:t>Teendők kockázatok felismerése utá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eszélyek elkerü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elkerülhetőek értéke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mberi tényező figyelembevé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űszaki fejlődés eredményeinek használ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tfogó megelőzési straté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gfelelő utasítá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897-24E8-4D65-92F0-34832841F7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Wieland és Koller ajánlása</a:t>
            </a:r>
            <a:br>
              <a:rPr sz="4800"/>
            </a:br>
            <a:r>
              <a:rPr b="1" lang="hu-HU" sz="2800" spc="-1" strike="noStrike">
                <a:solidFill>
                  <a:srgbClr val="ffffcc"/>
                </a:solidFill>
                <a:latin typeface="Arial Narrow"/>
              </a:rPr>
              <a:t>képernyős munkahelyek létesítéséhez és/vagy minősítéséhez</a:t>
            </a:r>
            <a:br>
              <a:rPr sz="2800"/>
            </a:br>
            <a:r>
              <a:rPr b="1" lang="hu-HU" sz="2800" spc="-1" strike="noStrike">
                <a:solidFill>
                  <a:srgbClr val="ffffcc"/>
                </a:solidFill>
                <a:latin typeface="Arial Narrow"/>
              </a:rPr>
              <a:t>figyelembe veendő területekről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ardver és bútorz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oftver ergonó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unkakörnyez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em és vázizomzat megterhe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szichikai megterh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unkafolyamat szervezett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CED-5318-474F-BD20-92C6869D31F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 Narrow"/>
              </a:rPr>
              <a:t>Ajánlás képernyős munkahelyek kialakításának minimálisan figyelembe veendő területeiről az 50/1999 EüM alapján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95480" y="1371240"/>
            <a:ext cx="6019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erendezé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Általános elrendezé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Képernyő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Billentyűz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Munkaasz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Munkaszé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rnye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Térkövetelmény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Megvilágítá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Tükröződé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Za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Klí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Sugárzá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mber – gép kapcsol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871-3DA3-47E7-969A-51F33E2A4CD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Max. napi 6 óra 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unkáltató a munkafolyamatokat úgy szervezi meg, hogy a folyamatos képernyő előtti munkavégzést óránként legalább tízperces – össze nem vonható – szünetek szakítsák meg, továbbá a képernyő előtti tényleges munkavégzés összes ideje a napi hat órát ne haladja me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31E-ABDB-4A81-AB9A-C2F40D9F772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228600"/>
            <a:ext cx="8080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Szemészeti vizsgál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z eredeti rendelkezéssel ellentétben immáron nem csak biztosítania kell a munkáltatónak a látásvizsgálatot, hanem el is kell küldenie a dolgozóját, legalább kétévente, aki ráadásul köteles a vizsgálaton részt venni.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izonyított látásromlás esetén a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unkáltatónak biztosítania kell a minimálisan szükséges, a képernyő előtti munkavégzéshez éleslátást biztosító szemüvege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    „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unkavégzéshez szükséges szemüveglencse, és ennek a lencsének a rendeltetésszerű használatához szükséges keret, ide nem értve a munkavállaló által a képernyő előtti munkavégzéstől függetlenül egyébként is használt szemüveget vagy kontaktlencsé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„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    „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harmadik szemüveg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nincs értékhatá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ABF-E2D0-4D42-93C8-7553388766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Gyakorlati teendők</a:t>
            </a:r>
            <a:r>
              <a:rPr b="1" lang="en-GB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rendelet ismerete és megismerte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Orvosi vizsgálatok betar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okumentáció a kockázatok számbavételérő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peciális számítógépes torna isme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839-6A67-40A4-A8A9-1C94EE080CD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Adatlap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</a:rPr>
              <a:t> a</a:t>
            </a:r>
            <a:r>
              <a:rPr b="1" lang="hu-HU" sz="32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50/1999. (XI.3.) EüM rendelet szerinti képerny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</a:rPr>
              <a:t>ő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s munkahely vizsgálatához</a:t>
            </a: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rendezés minimum követelmény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gen     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épernyő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lfordítható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önthet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éz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onalszög 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 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(0</a:t>
            </a:r>
            <a:r>
              <a:rPr b="0" lang="hu-HU" sz="1200" spc="-1" strike="noStrike" baseline="30000">
                <a:solidFill>
                  <a:srgbClr val="ffffff"/>
                </a:solidFill>
                <a:latin typeface="Arial"/>
              </a:rPr>
              <a:t>o 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- 60</a:t>
            </a:r>
            <a:r>
              <a:rPr b="0" lang="hu-HU" sz="1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közöt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éz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ávolság 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 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(400 - 650 m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ükröz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és észlelhet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 igen, ennek o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l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ilágító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rendezési tá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lenty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ű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et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ialakítása, elhelyezése 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sztott billenty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ű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6668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26668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29718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29718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767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32767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35812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35812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38862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43800" y="38862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44956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44956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48006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8006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51055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43800" y="51055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57150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57150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60199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60199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E58-4711-4387-B5D8-CDB007B80D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Adatlap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</a:rPr>
              <a:t> a</a:t>
            </a:r>
            <a:r>
              <a:rPr b="1" lang="hu-HU" sz="32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50/1999. (XI.3.) EüM rendelet szerinti képerny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</a:rPr>
              <a:t>ő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s munkahely vizsgálatához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gen     Nem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unkaasztal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gassága 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állítható magasság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elrendezés biztosíth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ormális munkazóna biztosíto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ximális munkazóna biztosíto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ptartó van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unkaszék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tab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állítható magasság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örg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ön mozgath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ámla magassága állíth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ámla dönthet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ábtartó van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23623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8862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35812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32767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29718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26668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48006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44956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38862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35812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32767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0120" y="29718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26668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23623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54100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0120" y="51055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48006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4956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57150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0" y="57150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54100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51055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60199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0" y="60199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EA65-86EE-4D99-8E80-9BA046CA28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Adatlap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</a:rPr>
              <a:t> a</a:t>
            </a:r>
            <a:r>
              <a:rPr b="1" lang="hu-HU" sz="32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50/1999. (XI.3.) EüM rendelet szerinti képerny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</a:rPr>
              <a:t>ő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s munkahely vizsgálatához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örnyezet minimum követelménye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gen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érkövetelmény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legend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ér áll-e rendelkezés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unkahelyi szeparáció biztosított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ábak mozgása biztosított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gvilágítás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általános világítás 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lyi világítás biztosított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 igen, 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ényforrások elhelyezése 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lakok takarása 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j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jszint elfogadható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íma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 használó védett-e a h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ástó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uzathatás van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0" y="26668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0120" y="44956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0120" y="41911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41911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38862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32767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29718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0120" y="26668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32767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29718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60199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57150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0120" y="63244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51055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0120" y="48006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8862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44956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57150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51055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48006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63244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60199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86B-10CF-4991-BB60-B16B69DFC4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Adatlap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</a:rPr>
              <a:t> a</a:t>
            </a:r>
            <a:r>
              <a:rPr b="1" lang="hu-HU" sz="32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50/1999. (XI.3.) EüM rendelet szerinti képerny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</a:rPr>
              <a:t>ő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s munkahely vizsgálatához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zervezési intézkedés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gen     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unkáltatói intézkedés történt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 munkaközi szünetek biztosítása vég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 igen, az intézkedés jellege (beírandó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…………………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 maximálisan napi 6 órás képerny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unka betartatása vég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 igen, az intézkedés jellege (beírandó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…………………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gyéb feljegyzések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Megjegyzés: az adatlap javaslatnak, illet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eg tervezetnek tekintend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, igény szerint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módosítható)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30481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30481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37339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37339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C527-BA58-40F9-BF50-2ABEF35D87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Ergonómi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52680" y="1371240"/>
            <a:ext cx="5562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gonómia az ember és munka összehangolásának tudomány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68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Hatékonyabb és komfortosabb munkavégzé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68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Jobb minőségű munk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68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Biztonságosabb körülménye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68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Egészségi ártalmak kiküszöbölé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68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Munkavégző képesség növekedé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68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Munkatársak általános közérzetének javulás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68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Konkrét felhasználási terület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68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Meglévő munkahelyek ergonómiai átvilágítása, észszerű változtatások stb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ergoag" descr=""/>
          <p:cNvPicPr/>
          <p:nvPr/>
        </p:nvPicPr>
        <p:blipFill>
          <a:blip r:embed="rId1"/>
          <a:stretch/>
        </p:blipFill>
        <p:spPr>
          <a:xfrm>
            <a:off x="0" y="3986280"/>
            <a:ext cx="3276720" cy="28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0B5-9226-4386-BF5F-2E725B530E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Hogyan ellenőrzik a jogszabály betartását?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256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rendelet előírásainak betartását az Állami Népegészségügyi és Tisztiorvosi Szolgálat területi szervei ellenőrz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z ÁNTSZ munkatársai a helyszíni vizsgálat során jegyzőkönyvet vesznek fel, s amennyiben mulasztást tapasztalnak, határidő tűzésével felszólítják a munkáltatót a hiányosságok pótlásá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mennyiben azonban a felszólítás ellenére sem teremtik meg a megfelelő munkakörülményeket a munkáltatók, és ezzel veszélyeztetik munkavállalóik egészségét, 50 000 forinttól 10 millió forintig terjedő munkavédelmi bírságot szabhatnak ki velük szembe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064-580D-4284-91B0-8A5E940BA4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cc"/>
                </a:solidFill>
                <a:latin typeface="Arial Narrow"/>
              </a:rPr>
              <a:t>50/1999. (XI.3.) EüM rendelet megtartása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lenőrzés: munkavédelmi hatóságok: ÁNTSZ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tézkedések: figyelemfelhívás, hiányosság megszüntető határozat, tevékenység felfüggesztése, dolgozó eltiltása, ...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ankciók : végrehajtási bírságolás (100eFt ismételten is), munkavédelmi bírság (3 mFt több munkavállaló veszélyeztetése esetén),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F6F-A04F-49A5-979A-EC582774378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Időszakos pihentető torna ajánlot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4618080"/>
            <a:ext cx="4343400" cy="17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A pihenő beiktatása</a:t>
            </a:r>
            <a:br>
              <a:rPr sz="3600"/>
            </a:b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most már kötelező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295280" y="1676520"/>
          <a:ext cx="621216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2121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724280" y="3817800"/>
            <a:ext cx="4419720" cy="30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C81-4A90-4D12-BC23-876C8F7EA2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Arial Narrow"/>
              </a:rPr>
              <a:t>Speciális számítógépes torna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torna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8153280" cy="518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1AF-80A5-4850-A345-2B4B7C864A2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A tibeti 12 képernyős</a:t>
            </a:r>
            <a:r>
              <a:rPr b="1" lang="en-GB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11" name="kep" descr=""/>
          <p:cNvPicPr/>
          <p:nvPr/>
        </p:nvPicPr>
        <p:blipFill>
          <a:blip r:embed="rId1"/>
          <a:stretch/>
        </p:blipFill>
        <p:spPr>
          <a:xfrm>
            <a:off x="2408400" y="1343160"/>
            <a:ext cx="4449600" cy="513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859-3ADC-44C6-9561-982C9EFE974B}" type="slidenum">
              <a:t>24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Az egészségügyi miniszter</a:t>
            </a:r>
            <a:br>
              <a:rPr sz="4800"/>
            </a:b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50/1999. (XI.3.) EüM rendelete</a:t>
            </a:r>
            <a:br>
              <a:rPr sz="4800"/>
            </a:b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hu-HU" sz="2000" spc="-1" strike="noStrike">
                <a:solidFill>
                  <a:srgbClr val="ffffcc"/>
                </a:solidFill>
                <a:latin typeface="Verdana"/>
                <a:ea typeface="Times New Roman"/>
              </a:rPr>
              <a:t>módosította</a:t>
            </a:r>
            <a:r>
              <a:rPr b="1" lang="hu-HU" sz="2000" spc="-1" strike="noStrike">
                <a:solidFill>
                  <a:srgbClr val="ffffcc"/>
                </a:solidFill>
                <a:latin typeface="Arial Narrow"/>
              </a:rPr>
              <a:t>  a </a:t>
            </a:r>
            <a:r>
              <a:rPr b="1" lang="hu-HU" sz="2000" spc="-1" strike="noStrike">
                <a:solidFill>
                  <a:srgbClr val="ffffcc"/>
                </a:solidFill>
                <a:latin typeface="Verdana"/>
                <a:ea typeface="Times New Roman"/>
              </a:rPr>
              <a:t>3/2002. (VIII. 30.) EszCsM-rendelet</a:t>
            </a: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9966"/>
                </a:solidFill>
                <a:latin typeface="Arial"/>
              </a:rPr>
              <a:t>A képernyő előtti munkavégzés minimális egészségügyi és biztonsági követelményeirő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B9F-59BA-4F36-8E64-DEAF93B3088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cc"/>
                </a:solidFill>
                <a:latin typeface="Arial Narrow"/>
              </a:rPr>
              <a:t>50/1999. (XI.3.) EüM rendelet hatálya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, képernyős eszköz: számjegy-, betű-, grafikus képsorokat képernyőn megjelenítő készülék, függetlenül az alkalmazott megjelenítési folyamattó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, képernyős munkahely: olyan munkaeszközök együttese, amelyhez a képernyős eszközön kívül csatlakozhat adatbeviteli eszköz, egyéb perifériák, esetleges tartozékok, ember-gép kapcsolatot meghatározó szoftver, irattartó, munkaszék, munkaasztal vagy munkafelület, telefon, valamint a közvetlen munkakörnyez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10C-E88A-4203-9783-8C1905120CB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cc"/>
                </a:solidFill>
                <a:latin typeface="Arial Narrow"/>
              </a:rPr>
              <a:t>50/1999. (XI.3.) EüM rendelet hatálya nem terjed ki: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árművek vezető-, illetve kezelőfülkéi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állítóeszközökön lévő számítógépes rendszere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sősorban közhasználatra szánt számítógépes rendszere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ordozható rendszerek, amelyeket a munkahelyen nem tartósan használna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ámológépek, pénztárgép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0B2-1539-4758-B37A-16FE5505382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Kockázatbecslés, értékelé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unkáltató rendszeres ellenőrzés alkalmával folyamatosan vizsgálja az alábbi kockázatok előfordulásá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átásromlást előidéző tényező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szichés (mentális) megterhelé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izikai állapotromlást előidéző tényező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A14-053D-4565-BF52-9A6A7702DAC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Látásromlást előidéző tényező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2590920"/>
            <a:ext cx="60958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megfelelő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osszul beállított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úl kontrasztos környezetben használt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megfelelő szoftver ergonóm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vismain" descr=""/>
          <p:cNvPicPr/>
          <p:nvPr/>
        </p:nvPicPr>
        <p:blipFill>
          <a:blip r:embed="rId1"/>
          <a:stretch/>
        </p:blipFill>
        <p:spPr>
          <a:xfrm>
            <a:off x="0" y="5440320"/>
            <a:ext cx="3505320" cy="14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828E-2E5F-4707-9C09-4B37A17EF9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Pszichés (mentális) megterhelé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ladatból adódó kihív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evékenység kiterjedtsége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úlzott vagy elégt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abályozottságból adódó korlátozott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ljesítménykontro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ooperáció/kommunikáció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ükség, lehetőség, hi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ws" descr=""/>
          <p:cNvPicPr/>
          <p:nvPr/>
        </p:nvPicPr>
        <p:blipFill>
          <a:blip r:embed="rId1"/>
          <a:stretch/>
        </p:blipFill>
        <p:spPr>
          <a:xfrm>
            <a:off x="0" y="4830840"/>
            <a:ext cx="2895480" cy="202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F39-B73F-47F8-BB39-10295930CF7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Arial Narrow"/>
              </a:rPr>
              <a:t>Fizikai állapotromlást előidéző tényezők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095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megfelelő ergonó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artós terh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ugár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hmPg_feat_mouseworks_02" descr=""/>
          <p:cNvPicPr/>
          <p:nvPr/>
        </p:nvPicPr>
        <p:blipFill>
          <a:blip r:embed="rId1"/>
          <a:stretch/>
        </p:blipFill>
        <p:spPr>
          <a:xfrm>
            <a:off x="0" y="4400640"/>
            <a:ext cx="2590920" cy="24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B22-12E6-441F-9BA2-B6119AA29FB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..</cp:lastModifiedBy>
  <dcterms:modified xsi:type="dcterms:W3CDTF">2003-11-16T21:53:24Z</dcterms:modified>
  <cp:revision>25</cp:revision>
  <dc:subject/>
  <dc:title>PowerPoint Presentation</dc:title>
</cp:coreProperties>
</file>