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9BAC-408C-4DEE-981C-3EA7A3549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C418-1C3E-45CA-881A-4DE60A0F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13FD-4F12-468A-AFBA-FC3CA6C46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17DA-07B9-4B6A-BBA3-D4038F59E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1BE7-DFF7-419D-A78C-E4DD8869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112A-E06E-4E2D-830F-B6C904B1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7B80-F98C-46E5-AFB1-B671999A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8F65-BD50-4954-8677-55234F14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7E2E-0EEB-4905-8B86-E6B114F6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F75D-D249-48CE-8373-BEC34CBB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A6CE-F170-49C2-A5DD-81DFDF97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4BC2-E2A8-47ED-863D-6CF0325A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586800" indent="-22572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902880" indent="-18036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263960" indent="-18036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1625040" indent="-18036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1625040" indent="-180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1625040" indent="-180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5492-3BC0-4F3B-A92F-CFBF01DDF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33520" y="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45720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04920" y="68580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45720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52280" y="106668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295280" y="9684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1828800" y="15228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1143000" y="53352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20520" y="160020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533520" y="121932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228600" y="205740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0" y="274320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2438280" y="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914400" y="76212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CDL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European Computer Driving Licen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z ECDL moduljai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T alapismerete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perációs rendszere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zövegszerkeszté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áblázatkezelé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datbázis-kezelé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ezentáció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1981080"/>
            <a:ext cx="1828800" cy="685800"/>
          </a:xfrm>
          <a:prstGeom prst="rightArrow">
            <a:avLst>
              <a:gd name="adj1" fmla="val 50000"/>
              <a:gd name="adj2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ff00"/>
                </a:solidFill>
                <a:latin typeface="Times New Roman"/>
              </a:rPr>
              <a:t>Szövegszerkeszté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ff00"/>
                </a:solidFill>
                <a:latin typeface="Times New Roman"/>
              </a:rPr>
              <a:t>Adatbázis-kezelé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ff00"/>
                </a:solidFill>
                <a:latin typeface="Times New Roman"/>
              </a:rPr>
              <a:t>Prezentáció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ff00"/>
                </a:solidFill>
                <a:latin typeface="Times New Roman"/>
              </a:rPr>
              <a:t>Operációs rendszerek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ff00"/>
                </a:solidFill>
                <a:latin typeface="Times New Roman"/>
              </a:rPr>
              <a:t>Információ és kommunikáció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ff00"/>
                </a:solidFill>
                <a:latin typeface="Times New Roman"/>
              </a:rPr>
              <a:t>IT alapismeretek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ff00"/>
                </a:solidFill>
                <a:latin typeface="Times New Roman"/>
              </a:rPr>
              <a:t>Táblázatkezelé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2T22:47:14Z</dcterms:created>
  <dc:creator>.</dc:creator>
  <dc:description/>
  <dc:language>en-US</dc:language>
  <cp:lastModifiedBy>.</cp:lastModifiedBy>
  <dcterms:modified xsi:type="dcterms:W3CDTF">2003-03-11T19:02:59Z</dcterms:modified>
  <cp:revision>4</cp:revision>
  <dc:subject/>
  <dc:title>ECDL</dc:title>
</cp:coreProperties>
</file>