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75B-1E1B-4C78-A9B2-CE9A901E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2FC-D8E6-49F8-B71B-C12185DB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C0F-BC69-45FC-92CD-96F949A7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FB5-8433-4816-8DA0-AA66A7BE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E5D6-06BB-4B61-B2B2-20E45ACA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06C3-CE5B-4405-97A3-D52DC90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DC2F-0EBE-4A71-B3A8-72EA5008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3D86-46FE-4539-99E7-3A263C30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85D6-7CB8-47EC-9E54-6FCF94B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2C3A-30A7-4219-A62C-B82954F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0AEC-B585-4041-9FA5-6B0AC4F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C2B-1053-4A23-A048-53880ABD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F642-19E3-4F3E-A564-DBECDF9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F490-8B49-40F5-AF34-13C2A5D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545A-633E-479B-9C58-624EADE9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9141-88A8-41E1-8C16-94283D7C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45D4-2FE9-40A0-8E72-71CC8065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98A-C3C9-4D07-82FC-52A1B123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A46-3E57-4E33-950A-AB9DF9E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5FC-12EB-4D80-956E-4623E261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36E-1DB4-4FCA-9E93-08F44A33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E09-85C2-437A-8E7B-A209F81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47D-A45F-4DC5-9EC5-2F3B974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5C0-7E38-493A-A20D-55E81E2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39AA-A173-4258-8C44-3D6DB2CD9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78FF-ED59-4E1C-8E2E-AFF1F6228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fgm.gov.hu/" TargetMode="External"/><Relationship Id="rId2" Type="http://schemas.openxmlformats.org/officeDocument/2006/relationships/hyperlink" Target="http://www.khem.gov.hu/" TargetMode="External"/><Relationship Id="rId3" Type="http://schemas.openxmlformats.org/officeDocument/2006/relationships/hyperlink" Target="http://www2.pm.gov.hu/" TargetMode="External"/><Relationship Id="rId4" Type="http://schemas.openxmlformats.org/officeDocument/2006/relationships/hyperlink" Target="http://www.kulugyminiszterium.hu/kum/hu/bal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ki.hu/hu/index.html" TargetMode="External"/><Relationship Id="rId2" Type="http://schemas.openxmlformats.org/officeDocument/2006/relationships/hyperlink" Target="http://www.gki.hu/hu/index.html" TargetMode="External"/><Relationship Id="rId3" Type="http://schemas.openxmlformats.org/officeDocument/2006/relationships/hyperlink" Target="http://www.gki.hu/hu/index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Gazdasági előrejelzések és elemzések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84360" y="5733720"/>
            <a:ext cx="4424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óth Bé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0899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gyes országok közötti verseny, a növekedés és a fejlettség mennyiségi mutatóinak mérőszá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tisztikai mérőszám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 főre jutó bruttó hazai (nemzeti) termék – GDP/GN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 főre jutó nemzeti jövedelem volumenének növeke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namikus mutatószám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es területeken foglalkoztatottak ará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es ágazatok teljesítménye, részarány változás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 főre eső GDP növekedési rátája st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161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dasági és nem gazdasági ismérvek együttes alkalmazásának mutató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azdaság ágazati struktúrá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infrastruktúra állapo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ársadalmon belüli jövedelemkülönbsé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áplálkozás, kalóriafogy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házkodá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ásellátás viszony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ociális ellá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özokt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özegészségügy színvon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81612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zdasági fejlődés, elemzés információforrás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ormányzati információforrás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zdasági és Közlekedési Minisztér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emzeti Fejlesztési és Gazdasági Minisztérium (NFGM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Közlekedési, Hírközlési és Energiaügyi Minisztérium (KHEM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énzügyminiszté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Külügyminiszté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iszterelnöki Hivatal Stratégiai Elemző Közp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7082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Állami szervezet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zponti Statisztikai Hiv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gyar Nemzeti 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Hazai kutatóműhely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udapesti Közgazdaságtudományi éd Államigazgatási Egye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costat Gazdaságelemző és Informatikai Intéz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GKI Gazdaságkutató </a:t>
            </a:r>
            <a:r>
              <a:rPr b="0" lang="hu-H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Zrt</a:t>
            </a:r>
            <a:r>
              <a:rPr b="0" lang="hu-H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2420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Fontosabb fogalmak tisztázása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őrejelzés (forecasting) a jövőbeni események megjósolásának tudomán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őrejelzés típusai alkalmazási terület szerint: gazdasági-, műszaki- és igényelőrejelzé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azdasági előrejelzés: pl.:gazdasági növekedés, infláció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nformáció: adatok, tények a gazdaság aktuális helyzeté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őrejelzés: adatokon, tényeken alapuló várható események, következmén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zések: ok-okozati összefügéseket találhatunk ben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. A gazdasági előrejelzé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186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ezdetben misztikus formában megjelenő jövőkutatás, a futurológia napjainkra használható tudománnyá fejlődött. Szerényebb változata az előrejelzés, a prognosztika, amely az üzleti tervezés nélkülözhetetlen alapjává vá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uitív (SOFT) mó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ktív (HARD) statisztikán alapuló módsz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k-okozati kapcsolatokat feltáró, tisztán csak az idősorok elemzésén alapul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7802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vel a gazdaságpolitika csak nagy késéssel befolyásolja a gazdaságot, a sikeres gazdaságpolitika szükségessé teszi a jövőbeni gazdasági feltételek pontos előrejelzésé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nózisokban a bizonytalansági tényező kiküszöbölhetetl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bízhatósága több módszer együttes alkalmazása alapján, komplex megbízhatósági vizsgálatokra építve ítélhető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4502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cenárió-elemz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intuitív módszerek egy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él: a lehetséges változatok szemlélte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5832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594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ersenyképes gazdaság számára elengedhetetlen kellék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zcenárió-elemzéss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észült jövőké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ialakításához feltétlenül szük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jelenlegi helyzet alapos, tényeken alapuló ismer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zekből kialakított konzisztens elemeket tartalmazó jövőkép-változatok felvázolás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objektív elemeken kívül számításba kell venni a világ általános társadalmi, szociális, környezeti és gazdasági trendjei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ekövetkező eseményeket és a véletlen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gnehezebben előre jelezhető tényezők lehetnek a legfontosabbak: az önbeteljesítő hiedelmek és várakozáso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. A gazdasági elemzé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8018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él: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rmelési folyamat és a termelési-gazdálkodási tevékenység eredményeinek ill. hatékonyságának tanulmányozása ( a racionális gazdálkodás elvéből kiindulva), azért, hogy feltárják a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ökéletesíté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és a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fejleszté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hetősége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ilyen irányú elemzések iránti igény a vállalkozásoktól a világgazdaságig minden szinten megmutatkoz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adata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vantitatív döntés-elkészít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gazdaság alsóbb szegmenseinek viselkedését, érdekeit, döntéseit, tranzakcióit a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mikroökonómi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nemzetgazdaság egészének működését a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makroökonómi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izsgálja.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8089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akroökonómi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ltal elemzett folyamat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Nemzetgazdasági szin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DP, fogyasztás, megtakarí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sszes beruházás, a kereslet és kíná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Kizárólag nemzetgazdasági szinten vizsgálható kategóriá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azdasági egyensúly, növekedés, pénz, árszínv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fláció, valuta-árfolyam, vám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oglalkoztatottság, munkanélküli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ülkereskedelem, nemzetközi fizetési mérl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34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gazdasági elemzések legjellemzőbb mutató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zeti jöve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gyasz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inőségi mutató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glalkoztatott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ktú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zolgálta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gazdasági fejlődéshez, növekedéshez kapcsolódó kutatási témá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enntartható gazdaság fejlődé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rsenyképes növeked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azdasági növekedés, eredményessé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22:12:12Z</dcterms:created>
  <dc:creator>Tóth Béla</dc:creator>
  <dc:description/>
  <dc:language>en-US</dc:language>
  <cp:lastModifiedBy>Tóth Béla</cp:lastModifiedBy>
  <dcterms:modified xsi:type="dcterms:W3CDTF">2008-11-18T06:37:39Z</dcterms:modified>
  <cp:revision>19</cp:revision>
  <dc:subject/>
  <dc:title>1. dia</dc:title>
</cp:coreProperties>
</file>