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D6A-9B65-47A9-8D42-A0BEAC7C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992-22E1-4FAD-9868-46F2F5D3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FEE-6474-4CB5-9358-1288BAD0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487-26D4-45AA-95C6-2A0F023A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1C5A-D2DE-47A9-A209-D1636DCE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5D1D-A372-4104-A05D-6665ED81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2F39-6860-4E62-8752-6A3C60D1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2295-E766-4056-8CC4-FA8337CA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5B8C-BC0D-4524-BDAF-47EA3124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6DE0-A7F6-499C-A2C0-4FCB1B78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E178-B587-49FA-8D8A-8EB1DE1E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577-C29D-4DF0-B4C8-5714B8D9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DCF4-1415-412B-A802-AF0995C5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449D-8962-406F-B991-E381A7A0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83E6-02EA-48FA-95A3-F00ABC54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BFA2-B8A3-4F76-9F41-513C810B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6289-8C34-425A-B0E4-CEF8C506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154-F1F7-4CC5-9EBD-5A28EB8D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ADC-DFF8-41A4-A72A-1F839E6C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B40-ADC4-4A90-90FF-FB2AF3ED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29C-9F6B-42D5-A6DC-66AC3BE4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411-7AF3-498F-9563-7D3EF273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C41-DB88-42CF-871C-20702BF6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DE8-14A1-493C-8BAB-04870C6C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2268-EE75-45A1-B939-A65769A9A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3A59-896E-42AB-9AA2-7B503B8E6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fgm.gov.hu/" TargetMode="External"/><Relationship Id="rId2" Type="http://schemas.openxmlformats.org/officeDocument/2006/relationships/hyperlink" Target="http://www.khem.gov.hu/" TargetMode="External"/><Relationship Id="rId3" Type="http://schemas.openxmlformats.org/officeDocument/2006/relationships/hyperlink" Target="http://www2.pm.gov.hu/" TargetMode="External"/><Relationship Id="rId4" Type="http://schemas.openxmlformats.org/officeDocument/2006/relationships/hyperlink" Target="http://www.kulugyminiszterium.hu/kum/hu/bal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ki.hu/hu/index.html" TargetMode="External"/><Relationship Id="rId2" Type="http://schemas.openxmlformats.org/officeDocument/2006/relationships/hyperlink" Target="http://www.gki.hu/hu/index.html" TargetMode="External"/><Relationship Id="rId3" Type="http://schemas.openxmlformats.org/officeDocument/2006/relationships/hyperlink" Target="http://www.gki.hu/hu/index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Gazdasági előrejelzések és elemzések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84360" y="5733720"/>
            <a:ext cx="4424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óth Bé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80899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gyes országok közötti verseny, a növekedés és a fejlettség mennyiségi mutatóinak mérőszám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atisztikai mérőszám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 főre jutó bruttó hazai (nemzeti) termék – GDP/GN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 főre jutó nemzeti jövedelem volumenének növeked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namikus mutatószám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es területeken foglalkoztatottak ará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es ágazatok teljesítménye, részarány változás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 főre eső GDP növekedési rátája st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1612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zdasági és nem gazdasági ismérvek együttes alkalmazásának mutató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azdaság ágazati struktúrá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infrastruktúra állapo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ársadalmon belüli jövedelemkülönbsé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áplálkozás, kalóriafogyasz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házkodá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ásellátás viszony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ociális ellá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özokta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özegészségügy színvon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81612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zdasági fejlődés, elemzés információforrás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ormányzati információforrás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zdasági és Közlekedési Minisztér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emzeti Fejlesztési és Gazdasági Minisztérium (NFGM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Közlekedési, Hírközlési és Energiaügyi Minisztérium (KHEM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énzügyminiszté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Külügyminiszté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niszterelnöki Hivatal Stratégiai Elemző Közpo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7082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Állami szervezet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zponti Statisztikai Hiv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gyar Nemzeti B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Hazai kutatóműhely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udapesti Közgazdaságtudományi éd Államigazgatási Egye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costat Gazdaságelemző és Informatikai Intéz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GKI Gazdaságkutató </a:t>
            </a:r>
            <a:r>
              <a:rPr b="0" lang="hu-H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Zrt</a:t>
            </a:r>
            <a:r>
              <a:rPr b="0" lang="hu-H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2420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Fontosabb fogalmak tisztázása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őrejelzés (forecasting) a jövőbeni események megjósolásának tudomán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őrejelzés típusai alkalmazási terület szerint: gazdasági-, műszaki- és igényelőrejelzé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azdasági előrejelzés: pl.:gazdasági növekedés, infláció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nformáció: adatok, tények a gazdaság aktuális helyzeté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őrejelzés: adatokon, tényeken alapuló várható események, következmény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zések: ok-okozati összefügéseket találhatunk ben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. A gazdasági előrejelzé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80186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kezdetben misztikus formában megjelenő jövőkutatás, a futurológia napjainkra használható tudománnyá fejlődött. Szerényebb változata az előrejelzés, a prognosztika, amely az üzleti tervezés nélkülözhetetlen alapjává vá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uitív (SOFT) mód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ktív (HARD) statisztikán alapuló módsz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k-okozati kapcsolatokat feltáró, tisztán csak az idősorok elemzésén alapul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7802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vel a gazdaságpolitika csak nagy késéssel befolyásolja a gazdaságot, a sikeres gazdaságpolitika szükségessé teszi a jövőbeni gazdasági feltételek pontos előrejelzésé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nózisokban a bizonytalansági tényező kiküszöbölhetetl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bízhatósága több módszer együttes alkalmazása alapján, komplex megbízhatósági vizsgálatokra építve ítélhető me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4502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Scenárió-elemz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intuitív módszerek egy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él: a lehetséges változatok szemlélte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58327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5946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ersenyképes gazdaság számára elengedhetetlen kellék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zcenárió-elemzéss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észült jövőké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ialakításához feltétlenül szüksé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jelenlegi helyzet alapos, tényeken alapuló ismer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zekből kialakított konzisztens elemeket tartalmazó jövőkép-változatok felvázolás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objektív elemeken kívül számításba kell venni a világ általános társadalmi, szociális, környezeti és gazdasági trendjei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ekövetkező eseményeket és a véletlen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gnehezebben előre jelezhető tényezők lehetnek a legfontosabbak: az önbeteljesítő hiedelmek és várakozáso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. A gazdasági elemzé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8018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él: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ermelési folyamat és a termelési-gazdálkodási tevékenység eredményeinek ill. hatékonyságának tanulmányozása ( a racionális gazdálkodás elvéből kiindulva), azért, hogy feltárják a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ökéletesíté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és a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fejlesztés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ehetősége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ilyen irányú elemzések iránti igény a vállalkozásoktól a világgazdaságig minden szinten megmutatkoz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adata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vantitatív döntés-elkészít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gazdaság alsóbb szegmenseinek viselkedését, érdekeit, döntéseit, tranzakcióit a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mikroökonómi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nemzetgazdaság egészének működését a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makroökonómi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izsgálja.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549000"/>
            <a:ext cx="8089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akroökonómia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ltal elemzett folyamat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Nemzetgazdasági szin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DP, fogyasztás, megtakarí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sszes beruházás, a kereslet és kíná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Kizárólag nemzetgazdasági szinten vizsgálható kategóriá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azdasági egyensúly, növekedés, pénz, árszínv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fláció, valuta-árfolyam, vám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oglalkoztatottság, munkanélkülisé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ülkereskedelem, nemzetközi fizetési mérl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2342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gazdasági elemzések legjellemzőbb mutató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zeti jövede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gyasz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inőségi mutató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glalkoztatott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rastruktú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zolgálta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gazdasági fejlődéshez, növekedéshez kapcsolódó kutatási témá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enntartható gazdaság fejlődé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ersenyképes növeked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azdasági növekedés, eredményessé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22:12:12Z</dcterms:created>
  <dc:creator>Tóth Béla</dc:creator>
  <dc:description/>
  <dc:language>en-US</dc:language>
  <cp:lastModifiedBy>Tóth Béla</cp:lastModifiedBy>
  <dcterms:modified xsi:type="dcterms:W3CDTF">2008-11-18T06:37:39Z</dcterms:modified>
  <cp:revision>19</cp:revision>
  <dc:subject/>
  <dc:title>1. dia</dc:title>
</cp:coreProperties>
</file>