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B23D-C20A-4BFA-BC31-20F9E5EAF1D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A7F-8934-486D-B867-5E7DD37B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0EA-3CAD-408F-A582-74CC95A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631-C1D5-4F58-AB1D-41E7A62E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335-A4EA-41E0-B5CF-894C2EC4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B9B-2E35-4C61-A3AF-574B8A90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F7B-B9BB-4580-BE81-0D08F222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5AB-FC33-485C-B860-8091A3A5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630-D035-431F-87C6-B031FD8D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DA6-7700-49A9-8708-BF8F8584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A33-8C83-4FC9-906D-A5101F9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2F6-68AC-4900-9BF8-F3D0A56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420-B4B1-400A-9340-5D47C84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79BC-ECEF-40F5-BBD1-B959548F8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KL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an, nem személyes, fizetett kommunikációs tevékenység, amelynek célja a kiválasztott célcsoport befolyásolása, attitűdjeik megváltoztatá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klám funkció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jékoz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lyá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lékez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erős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ird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klám megjelenési formája. Személytelen vállalati üzenet, amelyért a megrendelő fizet és ami tömegkommunikációs eszközökön keresztül jut el a befogadó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ai: nyomtatott – elektron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NYOMTAT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yomatatott rekl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ajtó hird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klám nyomtatv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éb nyomdai eljárással készült reklám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z- és zártterületi reklá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Direct mail személyre szóló reklá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EKTRON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V, rádió,mozi,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ZÉKSZERVÜNKRE 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PORT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UÁLIS (sajtó, szabadtéri eszközö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ÍV ( rádió, hangosbemondó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VIZUÁLIS (TV, internet,mo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klámhordoz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vetítő eszköz, vagy csatorna, a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ámüzenet továbbítására alkal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ő kiválasztásával irányítható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ámeszköz hatásterülete. Pl.: országos lap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gész ország területére elér a sajtó hird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klámeszköz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enet, a mondanivaló, tárgyiasított, adott csatornán való továbbítására alkalmassá tett megfogalmaz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atorna:TV,sajt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zenet: reklámfilm, sajtóhird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édia - 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ommunikációs csatornáknak egy adott információ közvetítéséhez felhasznált konkrét összeállítását nevezzük íg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z optimális  média-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ljes célcsoportot és csak a célcsoportot fogja át. Nem csak egy érzékszervre ható csatornát szabad választ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SALES PROMOTION -ELADÁSÖSZTÖN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azok a marketing tevékenységek, amelyek ösztönzik a fogyasztó vásárlásait, és a kereskedelmi tevékenységek hatékonyságát, de nem tartoznak a személyes eladás, reklám és PR fogalmá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lógrafika, kiállítás, DM levél, kirakat, kóstol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ponok, ajándékozási akciók, bolti bemutató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, POP anyagok ( állványo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űtőpultok,hamutartó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-PERSONAL SEL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MÉLYES EL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 tevékenység, amikor szóban közvetlen kapcsolat felvétellel kívánjuk a célcsoportot meggyőzni az értékesítés érdeké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adó és a vevő között közvetlen, kölcsönös kapcsolat alakul ki. A vevő befolyásolása közvetlenül valósul m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őny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mélyes meggyőzés hatékony eszkö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adó a célpiacra koncentr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fogásokat kezel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ckutatási feladatokat lát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ácsokat a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trány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őigén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lt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 típu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z értékesítés központú eladói mu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áru érdemeit hangsúlyo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tenként becsmérli a versenytár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őre betanult szöveget mond vevő érdeklődésétől független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sárlásra akarja bírni a vevő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sárlást követően nem törődik a vev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vásárlói központú eladói mu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ék előnyeit a vevő szempontjából ismert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dönt a vevő hely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rdezhet a vevő ( kifogást kez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sárlás után ápolja a kapcsolatot a vev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adóval szemben támasztott követel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mélyiség jeg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énisége van, józan gondolkodású, vevő szívesen találkozna vele üzleten kívül is, jó társalgó, megérti a vevő problémáját, kiegyensúlyozott, energikus, udvarias, segítőké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kmailag felkészü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meri a terméket, a piacot, tudja kik veszik a terméket, szokatlan érvekkel győzi meg a vevő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ülső megjelenése kifogást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 higiénia, tiszta ruházat, gondozott, munkaeszközök tiszt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emélye eladás foly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tenciális ügyfél azon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készü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közel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mutatás, szemlélt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nérvek kez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rgya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beszélés lezár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ógond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marketing fogalma szűkebb értelem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an vállalati tevékenység, amely a vevők/felhasználók igényeinek kielégítése érdekében elemzi a piacot, meghatározza az eladni kívánt termékeket és szolgáltatásokat, megismerteti azokat a fogyasztókkal, kialakítja az árakat, megszervezi az értékesítést és befolyásolja a vásárló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marketing alkalmazási terület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ztar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la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lam ( rendőrség, iskolá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i szervezetek (választás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házak, alapítvány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észségügyi intéz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tatási intéz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 – PUCLIC RELATION -VEVŐKAPCSOL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ődlegesen nem eladási célokat szolgáló, vállalati üzene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ülső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gazati kapcsolatok ( beszállítók, partnerek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nzügyi kapcsolatok ( részvényesek, pénzintézetek, tulajdonos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kmai kapcsolatok ( kutatási és oktatási intézmények, egyesületek, kamará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mányzati és közösségi kapcsolatok ( szakszervez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sadalmi kapcsolatok ( a társadalom egészét vagy csoportjai foglalkoztató kérdések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SŐ PR eszköz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ügyekben való részvétel ( helyi problémák megoldásához hozzájárul a cég pl. árvíz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ílt ház politika ( az érdeklődők a saját szemükkel tekintsék meg a belső élete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mogatás ( kultúra, művésze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ponzorálás ( pénzben vagy más formában eszközölt befektetés valamely tevékenységbe, amiért cserébe az invesztáló a fél tevékenységéhez kapcsolódó üzletileg kiaknázható kereskedelmi potenciálhoz j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jtó kapcsol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ízis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ső 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lalaton belüli 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portj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katársak, szervezeti egységek,(osztályok) érdekvédelmi szervez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lső PR által használt eszközö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ezés, értekezlet, vállalati folyóirat, rendezvények s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-CORPORATE IDENTITY-VÁLALATI ARCUL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éges vállalati arculat.  A cég tudatosan alakít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.I. h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útávon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zitív benyomás, bizalomép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ood-will ( jó hírné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apatszellem erős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 kép, amely a vállalatról kialakult, többnyire szubjektív értékítéletek összessé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ajtá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: self – image, (önmagunkról kialakított kép) brand-image ( a termékről a célcsoportban kialakult kép ) product- image ( a termékfajtáról ált.ban kialakult kép ) vállalati –CI image ( a vállalatról kialakult kép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FPOP1-W9"/>
              </a:rPr>
              <a:t>V é g e</a:t>
            </a:r>
            <a:r>
              <a:rPr b="0" lang="en-US" sz="3200" spc="-1" strike="noStrike">
                <a:solidFill>
                  <a:srgbClr val="000000"/>
                </a:solidFill>
                <a:latin typeface="DFPOP1-W9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rketing –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rketingeszközök mindazon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evékenysége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amelyekkel a vállalat a fogyasztóra hatást gyakorol. A marketingeszközök különböző helyzetekben alkalmazott kombinációját marketing-mixnek nevezz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rketing-mix elemei: 4 P+1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ékpolitika ( Produc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rpolitika ( Pric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értékesítési utak politikája ( Plac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mmunikációs politika ( Promotion )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emélyes eladás ( Personal Sell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Marketing stratég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ában foglalja a marketing célokat é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valósításukhoz szükséges elvek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vékenységeket, eszközö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rketing stratégiák kialakítása aszerint változik, hogy a cég milyen helyzetet foglal el az adott szektorban a versenytársaihoz képest. Ezek lehet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acvezető vállalat (Coca-cola,IB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aci kihívók (Pe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ackövető vállalatok (CB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húzódó vállalkozások (Fagyi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r a termék ( szolgáltatás) pénzben kifejezett ellenértéke, az a pénzmennyiség, amennyiért az adott áru megvehető, elad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r funkció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zze a költségeket és profitot termel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ükrözze a piaci viszony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jezze ki a társadalmi preferenciá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álja a vásárló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r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által kínált termékek, szolgáltatások árának meghatározása és a piaci ár eseményekre való reagálásra vonatkozó elvek és módszerek összessé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rpolitikai cél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nyereségét szolgáló árpolitikai cé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piacrészesedésére épülő árpolitikai cé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stabilitását szolgáló árpolitikai cé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rképzési típus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ltségelvű ár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tt a költségek kapnak kiemelt szerepet az ár kialakítás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ereslethez igazodó ár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lalat itt a kereslet alakulásától teszi függővé az ár kialakulását. Kell hozzá marketing kutatás, a kialakított árat folyamatosan ellenőrzik, módosítják.Ha nő a kereslet, nő az ár és fordít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rsenytársakhoz igazodó ár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rainak kialakításakor itt a cég a versenytársak árait veszi alapul. Akkor alkalmazzák, ha új termék jelenik meg a piacon, ha alacsony a cég piaci részesed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TAKTIK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differenciál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 szerint, ( d.u.-i síbérlet) elhelyezkedés szerint  (színházi ülések ) földrajzi távolság szerint ( üzletek kiszállítása 10km-es körzeten belül ingyenes ) szegmensenként ( nyugdíjas bérlet,csoport kedvezmény ) kivitelezés szerint ( nagy mennyiség olcsóbb ) saját márka  ( Tesco olcsób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enged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konto ( azonnali kp fizetésér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batt ( nagy tételben vásárlásér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unkcionális áreng ( bizonyos feladatok elvégzéséé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ják: adatnyilvántartás, csomagolá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zonlális árengedm. ( last minute uta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móciós ár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leszállítások,hitelre történő vásárlás,csereakció,törzsvásárlókártya,árgarancia,( ha máshol olcsóbb, visszafizetik )kuponok, új vevő árengedmény, árucsomag ( bundling ) kötegben olcsóbb pl szoftver csomag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ARKETING KOMMUNIKÁ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azon piacbefolyásoló eszközök gyűjtőn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ol a befolyásolás a kommunikáción kereszt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rténi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kommunikációs –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klá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emélyes eladás (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ladás ösztönzés (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önségkapcsolatok (P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3:29:14Z</dcterms:created>
  <dc:creator>Pálffy Miklós Kereskedelmi Szki.</dc:creator>
  <dc:description/>
  <dc:language>en-US</dc:language>
  <cp:lastModifiedBy>Pálffy Miklós Kereskedelmi Szki.</cp:lastModifiedBy>
  <dcterms:modified xsi:type="dcterms:W3CDTF">2010-04-23T14:29:55Z</dcterms:modified>
  <cp:revision>12</cp:revision>
  <dc:subject/>
  <dc:title>MARKETING</dc:title>
</cp:coreProperties>
</file>