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9A2A-7AEB-4BA9-BF0F-FA627558020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3D7-B56A-446B-9848-32D6D0E8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70A-CB0E-4A97-9336-53C92344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66C-CDF2-4C52-B729-1F0264B2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D62-E7BB-4B88-BC3E-15210410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822-4998-453D-A306-F0FC7994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378-BCB3-4856-BA53-70D244DF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2C1-3E63-4FA6-B172-CECBDD23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54D-E070-44C2-93D9-F5B95A84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AF1-4616-402A-8832-73C67004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AD0-4986-4582-A0EE-45CBCDD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551-8789-40E6-A213-1F5674F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8FC-7AF2-4E7F-8F9C-502D514A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D0D2-1DC0-4D72-ADC9-E55890D1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KL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yan, nem személyes, fizetett kommunikációs tevékenység, amelynek célja a kiválasztott célcsoport befolyásolása, attitűdjeik megváltoztatá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klám funkció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jékoz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lyá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lékez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erős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hird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klám megjelenési formája. Személytelen vállalati üzenet, amelyért a megrendelő fizet és ami tömegkommunikációs eszközökön keresztül jut el a befogadóh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ípusai: nyomtatott – elektroni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NYOMTAT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yomatatott rekl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ajtó hird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klám nyomtatvá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yéb nyomdai eljárással készült reklám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öz- és zártterületi reklá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Direct mail személyre szóló reklá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ELEKTRONI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V, rádió,mozi,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RZÉKSZERVÜNKRE 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OPORTOS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UÁLIS (sajtó, szabadtéri eszközö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ÍV ( rádió, hangosbemondó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VIZUÁLIS (TV, internet,mo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klámhordoz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vetítő eszköz, vagy csatorna, a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klámüzenet továbbítására alkal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felelő kiválasztásával irányítható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klámeszköz hatásterülete. Pl.: országos lap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gész ország területére elér a sajtó hird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klámeszközö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enet, a mondanivaló, tárgyiasított, adott csatornán való továbbítására alkalmassá tett megfogalmazá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atorna:TV,sajt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zenet: reklámfilm, sajtóhird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édia - 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ommunikációs csatornáknak egy adott információ közvetítéséhez felhasznált konkrét összeállítását nevezzük íg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z optimális  média-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ljes célcsoportot és csak a célcsoportot fogja át. Nem csak egy érzékszervre ható csatornát szabad választ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SALES PROMOTION -ELADÁSÖSZTÖNZ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azok a marketing tevékenységek, amelyek ösztönzik a fogyasztó vásárlásait, és a kereskedelmi tevékenységek hatékonyságát, de nem tartoznak a személyes eladás, reklám és PR fogalmá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lógrafika, kiállítás, DM levél, kirakat, kóstol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ponok, ajándékozási akciók, bolti bemutató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, POP anyagok ( állványo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űtőpultok,hamutartó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-PERSONAL SELL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MÉLYES EL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 tevékenység, amikor szóban közvetlen kapcsolat felvétellel kívánjuk a célcsoportot meggyőzni az értékesítés érdekéb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ladó és a vevő között közvetlen, kölcsönös kapcsolat alakul ki. A vevő befolyásolása közvetlenül valósul me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őny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emélyes meggyőzés hatékony eszkö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ladó a célpiacra koncentr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fogásokat kezel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ackutatási feladatokat lát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ácsokat ad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trány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őigén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ltsé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 típus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z értékesítés központú eladói mu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áru érdemeit hangsúlyo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tenként becsmérli a versenytár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őre betanult szöveget mond vevő érdeklődésétől független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sárlásra akarja bírni a vevő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sárlást követően nem törődik a vevő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vásárlói központú eladói mu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mék előnyeit a vevő szempontjából ismert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dönt a vevő hely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rdezhet a vevő ( kifogást kez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sárlás után ápolja a kapcsolatot a vevő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ladóval szemben támasztott követel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emélyiség jeg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énisége van, józan gondolkodású, vevő szívesen találkozna vele üzleten kívül is, jó társalgó, megérti a vevő problémáját, kiegyensúlyozott, energikus, udvarias, segítőké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akmailag felkészü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meri a terméket, a piacot, tudja kik veszik a terméket, szokatlan érvekkel győzi meg a vevő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ülső megjelenése kifogásta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 higiénia, tiszta ruházat, gondozott, munkaeszközök tiszt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emélye eladás folya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tenciális ügyfél azon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készü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közel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mutatás, szemlélt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nérvek keze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rgya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beszélés lezár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ógond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marketing fogalma szűkebb értelem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yan vállalati tevékenység, amely a vevők/felhasználók igényeinek kielégítése érdekében elemzi a piacot, meghatározza az eladni kívánt termékeket és szolgáltatásokat, megismerteti azokat a fogyasztókkal, kialakítja az árakat, megszervezi az értékesítést és befolyásolja a vásárló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marketing alkalmazási terület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ztart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la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llam ( rendőrség, iskolá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kai szervezetek (választás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házak, alapítvány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észségügyi intéz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tatási intéz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 – PUCLIC RELATION -VEVŐKAPCSOL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ődlegesen nem eladási célokat szolgáló, vállalati üzenet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ülső 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gazati kapcsolatok ( beszállítók, partnerek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énzügyi kapcsolatok ( részvényesek, pénzintézetek, tulajdonos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akmai kapcsolatok ( kutatási és oktatási intézmények, egyesületek, kamarák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mányzati és közösségi kapcsolatok ( szakszerveze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rsadalmi kapcsolatok ( a társadalom egészét vagy csoportjai foglalkoztató kérdések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SŐ PR eszköz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ügyekben való részvétel ( helyi problémák megoldásához hozzájárul a cég pl. árvíz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ílt ház politika ( az érdeklődők a saját szemükkel tekintsék meg a belső élete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mogatás ( kultúra, művésze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ponzorálás ( pénzben vagy más formában eszközölt befektetés valamely tevékenységbe, amiért cserébe az invesztáló a fél tevékenységéhez kapcsolódó üzletileg kiaknázható kereskedelmi potenciálhoz j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jtó kapcsol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íziskommunik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ső 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llalaton belüli kommunik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oportj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nkatársak, szervezeti egységek,(osztályok) érdekvédelmi szervez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lső PR által használt eszközö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ezés, értekezlet, vállalati folyóirat, rendezvények st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-CORPORATE IDENTITY-VÁLALATI ARCUL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éges vállalati arculat.  A cég tudatosan alakít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.I. h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sszútávon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zitív benyomás, bizalomép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ood-will ( jó hírnév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apatszellem erős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 kép, amely a vállalatról kialakult, többnyire szubjektív értékítéletek összessé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ajtá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: self – image, (önmagunkról kialakított kép) brand-image ( a termékről a célcsoportban kialakult kép ) product- image ( a termékfajtáról ált.ban kialakult kép ) vállalati –CI image ( a vállalatról kialakult kép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FPOP1-W9"/>
              </a:rPr>
              <a:t>V é g e</a:t>
            </a:r>
            <a:r>
              <a:rPr b="0" lang="en-US" sz="3200" spc="-1" strike="noStrike">
                <a:solidFill>
                  <a:srgbClr val="000000"/>
                </a:solidFill>
                <a:latin typeface="DFPOP1-W9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rketing –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arketingeszközök mindazon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evékenysége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amelyekkel a vállalat a fogyasztóra hatást gyakorol. A marketingeszközök különböző helyzetekben alkalmazott kombinációját marketing-mixnek nevezzü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arketing-mix elemei: 4 P+1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mékpolitika ( Produc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rpolitika ( Pric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értékesítési utak politikája ( Plac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mmunikációs politika ( Promotion )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emélyes eladás ( Personal Sell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Marketing stratég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ában foglalja a marketing célokat é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valósításukhoz szükséges elvek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vékenységeket, eszközö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arketing stratégiák kialakítása aszerint változik, hogy a cég milyen helyzetet foglal el az adott szektorban a versenytársaihoz képest. Ezek lehetn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iacvezető vállalat (Coca-cola,IB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iaci kihívók (Pep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iackövető vállalatok (CB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húzódó vállalkozások (Fagyi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Á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r a termék ( szolgáltatás) pénzben kifejezett ellenértéke, az a pénzmennyiség, amennyiért az adott áru megvehető, eladhat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r funkció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zze a költségeket és profitot termel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ükrözze a piaci viszonyo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jezze ki a társadalmi preferenciá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álja a vásárló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rpoli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at által kínált termékek, szolgáltatások árának meghatározása és a piaci ár eseményekre való reagálásra vonatkozó elvek és módszerek összessé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rpolitikai cél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at nyereségét szolgáló árpolitikai cé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at piacrészesedésére épülő árpolitikai cé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at stabilitását szolgáló árpolitikai cél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rképzési típus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ltségelvű árkép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tt a költségek kapnak kiemelt szerepet az ár kialakításak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ereslethez igazodó árkép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lalat itt a kereslet alakulásától teszi függővé az ár kialakulását. Kell hozzá marketing kutatás, a kialakított árat folyamatosan ellenőrzik, módosítják.Ha nő a kereslet, nő az ár és fordít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rsenytársakhoz igazodó árkép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árainak kialakításakor itt a cég a versenytársak árait veszi alapul. Akkor alkalmazzák, ha új termék jelenik meg a piacon, ha alacsony a cég piaci részesed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RTAKTIK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rdifferenciál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ő szerint, ( d.u.-i síbérlet) elhelyezkedés szerint  (színházi ülések ) földrajzi távolság szerint ( üzletek kiszállítása 10km-es körzeten belül ingyenes ) szegmensenként ( nyugdíjas bérlet,csoport kedvezmény ) kivitelezés szerint ( nagy mennyiség olcsóbb ) saját márka  ( Tesco olcsóbb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renged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konto ( azonnali kp fizetésér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abatt ( nagy tételben vásárlásér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unkcionális áreng ( bizonyos feladatok elvégzéséé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ják: adatnyilvántartás, csomagolá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zonlális árengedm. ( last minute uta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móciós árkép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rleszállítások,hitelre történő vásárlás,csereakció,törzsvásárlókártya,árgarancia,( ha máshol olcsóbb, visszafizetik )kuponok, új vevő árengedmény, árucsomag ( bundling ) kötegben olcsóbb pl szoftver csomag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ARKETING KOMMUNIKÁC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azon piacbefolyásoló eszközök gyűjtőn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ol a befolyásolás a kommunikáción kereszt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rténi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kommunikációs –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klá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emélyes eladás (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ladás ösztönzés (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önségkapcsolatok (P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3:29:14Z</dcterms:created>
  <dc:creator>Pálffy Miklós Kereskedelmi Szki.</dc:creator>
  <dc:description/>
  <dc:language>en-US</dc:language>
  <cp:lastModifiedBy>Pálffy Miklós Kereskedelmi Szki.</cp:lastModifiedBy>
  <dcterms:modified xsi:type="dcterms:W3CDTF">2010-04-23T14:29:55Z</dcterms:modified>
  <cp:revision>12</cp:revision>
  <dc:subject/>
  <dc:title>MARKETING</dc:title>
</cp:coreProperties>
</file>