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D91-7E1F-4419-BCDB-AF167A61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845-0748-4FF0-A37A-5DA1D30C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202-55DA-4961-803A-D18503FE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0C8-2ECC-40D3-A6B1-3431C5E3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21B-DE1C-4A02-8FC9-096B7805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F31-E710-4FC3-B7FD-9BD0DE28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498-9084-406A-80E5-2A923047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5C7-E48B-4D88-B819-C6FAD555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F29-E453-4320-BA05-B9418746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23B-8F66-444B-8A91-3E6687C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427-A8CE-4B0D-B733-9BD3816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225-F37B-4A7E-9154-6E82DBE9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2936-7EB3-43AA-8D74-DB668CEFFD4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050920" y="836640"/>
            <a:ext cx="5113440" cy="5183280"/>
            <a:chOff x="2050920" y="836640"/>
            <a:chExt cx="5113440" cy="5183280"/>
          </a:xfrm>
        </p:grpSpPr>
        <p:sp>
          <p:nvSpPr>
            <p:cNvPr id="44" name=""/>
            <p:cNvSpPr/>
            <p:nvPr/>
          </p:nvSpPr>
          <p:spPr>
            <a:xfrm>
              <a:off x="4356000" y="836640"/>
              <a:ext cx="43200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1280" y="1989000"/>
              <a:ext cx="43200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03640" y="1125360"/>
              <a:ext cx="43164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50920" y="3176640"/>
              <a:ext cx="43200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68360" y="4149720"/>
              <a:ext cx="43200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5157720"/>
              <a:ext cx="43200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56000" y="5516640"/>
              <a:ext cx="43200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08720" y="5229360"/>
              <a:ext cx="43164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00720" y="4292640"/>
              <a:ext cx="43200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32720" y="3176640"/>
              <a:ext cx="43164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72360" y="2133720"/>
              <a:ext cx="43164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80000" y="1197000"/>
              <a:ext cx="432000" cy="503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ccff"/>
                </a:solidFill>
                <a:latin typeface="Arial"/>
              </a:rPr>
              <a:t>Az EU jelké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ccff"/>
                </a:solidFill>
                <a:latin typeface="Arial"/>
              </a:rPr>
              <a:t>Európai himnusz</a:t>
            </a:r>
            <a:r>
              <a:rPr b="0" lang="hu-HU" sz="44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9960" y="1600200"/>
            <a:ext cx="36115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cffff"/>
                </a:solidFill>
                <a:latin typeface="Arial"/>
              </a:rPr>
              <a:t>Ludwig van Beetho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cffff"/>
                </a:solidFill>
                <a:latin typeface="Arial"/>
              </a:rPr>
              <a:t>IX. szimfóniájának Örömódá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ccffff"/>
                </a:solidFill>
                <a:latin typeface="Arial"/>
              </a:rPr>
              <a:t>„</a:t>
            </a:r>
            <a:r>
              <a:rPr b="0" i="1" lang="hu-HU" sz="2000" spc="-1" strike="noStrike">
                <a:solidFill>
                  <a:srgbClr val="ccffff"/>
                </a:solidFill>
                <a:latin typeface="Arial"/>
              </a:rPr>
              <a:t>Lángolj fel a lelkünkben szé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ccffff"/>
                </a:solidFill>
                <a:latin typeface="Arial"/>
              </a:rPr>
              <a:t>Égi szikra szent örö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ccffff"/>
                </a:solidFill>
                <a:latin typeface="Arial"/>
              </a:rPr>
              <a:t>Térj be hozzánk drága vendé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ccffff"/>
                </a:solidFill>
                <a:latin typeface="Arial"/>
              </a:rPr>
              <a:t>Tündökölj ránk fényözön.</a:t>
            </a:r>
            <a:r>
              <a:rPr b="0" i="1" lang="hu-HU" sz="2000" spc="-1" strike="noStrike">
                <a:solidFill>
                  <a:srgbClr val="ccffff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80360" y="404640"/>
            <a:ext cx="1439640" cy="1366560"/>
            <a:chOff x="7380360" y="404640"/>
            <a:chExt cx="1439640" cy="1366560"/>
          </a:xfrm>
        </p:grpSpPr>
        <p:sp>
          <p:nvSpPr>
            <p:cNvPr id="64" name=""/>
            <p:cNvSpPr/>
            <p:nvPr/>
          </p:nvSpPr>
          <p:spPr>
            <a:xfrm>
              <a:off x="8029440" y="40464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81520" y="7084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04720" y="4806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80360" y="10216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41560" y="127836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84560" y="15444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29440" y="16387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53800" y="15631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77000" y="131616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98680" y="10216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97160" y="74664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73960" y="4996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ccff"/>
                </a:solidFill>
                <a:latin typeface="Arial"/>
              </a:rPr>
              <a:t>Európai zászló</a:t>
            </a:r>
            <a:r>
              <a:rPr b="0" lang="hu-HU" sz="44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ff"/>
              </a:buClr>
              <a:buSzPct val="50000"/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ffff"/>
                </a:solidFill>
                <a:latin typeface="Arial"/>
              </a:rPr>
              <a:t>Kék zászló, melyen 12 ötágú aranycsillag helyezkedik el körb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SzPct val="50000"/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ffff"/>
                </a:solidFill>
                <a:latin typeface="Arial"/>
              </a:rPr>
              <a:t>A tizenkettes szám a tökéletességet, teljességet szimbolizálj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50000"/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ffff"/>
                </a:solidFill>
                <a:latin typeface="Arial"/>
              </a:rPr>
              <a:t>A kék alapszín a nemzetközi együttműködést jelképezi.</a:t>
            </a:r>
            <a:r>
              <a:rPr b="0" lang="hu-HU" sz="32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380360" y="333360"/>
            <a:ext cx="1439640" cy="1366560"/>
            <a:chOff x="7380360" y="333360"/>
            <a:chExt cx="1439640" cy="1366560"/>
          </a:xfrm>
        </p:grpSpPr>
        <p:sp>
          <p:nvSpPr>
            <p:cNvPr id="81" name=""/>
            <p:cNvSpPr/>
            <p:nvPr/>
          </p:nvSpPr>
          <p:spPr>
            <a:xfrm>
              <a:off x="8029440" y="33336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81520" y="6372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04720" y="4093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80360" y="9504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41560" y="12070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84560" y="14731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29440" y="156744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53800" y="149184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7000" y="12448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98680" y="9504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97160" y="67536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73960" y="4284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ccff"/>
                </a:solidFill>
                <a:latin typeface="Arial"/>
              </a:rPr>
              <a:t>Európa nap</a:t>
            </a:r>
            <a:r>
              <a:rPr b="0" lang="hu-HU" sz="44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ffff"/>
                </a:solidFill>
                <a:latin typeface="Arial"/>
              </a:rPr>
              <a:t>Az Európai Unió hivatalos ünnepe május 9-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ffff"/>
                </a:solidFill>
                <a:latin typeface="Arial"/>
              </a:rPr>
              <a:t>1950. május 9-én tartotta meg Robert Schuman francia külügyminiszter híressé vált beszédét egy integrált, egységes Európa megteremtéséről.</a:t>
            </a:r>
            <a:r>
              <a:rPr b="0" lang="hu-HU" sz="32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380360" y="476280"/>
            <a:ext cx="1439640" cy="1366560"/>
            <a:chOff x="7380360" y="476280"/>
            <a:chExt cx="1439640" cy="1366560"/>
          </a:xfrm>
        </p:grpSpPr>
        <p:sp>
          <p:nvSpPr>
            <p:cNvPr id="98" name=""/>
            <p:cNvSpPr/>
            <p:nvPr/>
          </p:nvSpPr>
          <p:spPr>
            <a:xfrm>
              <a:off x="8029440" y="4762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81520" y="7801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04720" y="55224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0360" y="10933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41560" y="13500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84560" y="161604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29440" y="171036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53800" y="163476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7000" y="13878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8680" y="10933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97160" y="8182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73960" y="5713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c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ccff"/>
                </a:solidFill>
                <a:latin typeface="Arial"/>
              </a:rPr>
              <a:t>Az egységes valuta</a:t>
            </a:r>
            <a:r>
              <a:rPr b="0" lang="hu-HU" sz="44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ff"/>
              </a:buClr>
              <a:buSzPct val="50000"/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ffff"/>
                </a:solidFill>
                <a:latin typeface="Arial"/>
              </a:rPr>
              <a:t>Az euró bankjegyek és érmék 2002. január 1-én kerültek forgalomb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SzPct val="50000"/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ccffff"/>
                </a:solidFill>
                <a:latin typeface="Arial"/>
              </a:rPr>
              <a:t>Hétféle címletben (5, 10, 20, 50, 100, 200, 500) nyomtatják a papírpénz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380360" y="404640"/>
            <a:ext cx="1439640" cy="1366560"/>
            <a:chOff x="7380360" y="404640"/>
            <a:chExt cx="1439640" cy="1366560"/>
          </a:xfrm>
        </p:grpSpPr>
        <p:sp>
          <p:nvSpPr>
            <p:cNvPr id="115" name=""/>
            <p:cNvSpPr/>
            <p:nvPr/>
          </p:nvSpPr>
          <p:spPr>
            <a:xfrm>
              <a:off x="8029440" y="40464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1520" y="7084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04720" y="4806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80360" y="10216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41560" y="127836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84560" y="154440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29440" y="16387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53800" y="156312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77000" y="131616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98680" y="10216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97160" y="74664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73960" y="499680"/>
              <a:ext cx="121320" cy="132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3483000" cy="1798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03640" y="4508640"/>
            <a:ext cx="34830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4:45:04Z</dcterms:created>
  <dc:creator>SieglerGábor</dc:creator>
  <dc:description/>
  <dc:language>en-US</dc:language>
  <cp:lastModifiedBy>SieglerGábor</cp:lastModifiedBy>
  <dcterms:modified xsi:type="dcterms:W3CDTF">2004-03-08T16:00:25Z</dcterms:modified>
  <cp:revision>7</cp:revision>
  <dc:subject/>
  <dc:title>1. dia</dc:title>
</cp:coreProperties>
</file>