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DAD-26FB-4C61-B27E-9B2A123F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B29-CF9D-4D3F-9B22-7498D1E3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901-5D5A-4B2B-91BE-C28E5DC7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947-AF52-409D-9536-DDC31E50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E5E-7717-4CF8-ABDB-24BE328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53A-EEDC-417B-9571-D0336A5E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ED8-4A55-4FE6-A812-07BC0E7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3BB-87E6-4B77-A314-20FB058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DC8-B71A-4A8B-91CA-E7D9658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FCE-FD9A-451C-8AD1-DB3126B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7E5-9DED-4711-9D74-3ACAB63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773-55A9-4A66-A8FB-7C7B5C3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C789-80C3-4A27-9AAF-FEA1D6C9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zőrnövési és hajrendellenesség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jszálel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richoptilosi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a hajszálak szárazak, törékenyek, végükön felrostozódt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richorrhexis nodos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 hajszálakon fehér vagy sárga pontként feltűnő megvastagodások láthatók. Ezeken a helyeken a szőrszál felrostozódott, törékeny, gyakran letö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8560" y="2421000"/>
            <a:ext cx="371016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röklött hajszálelváltoz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nilethrix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a szőrszál vastagsága 0,5 - 0,5 mm periódusokban változik, így vékonyabb és vastagabb részek gyöngyfüzérszerűen követik egym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ili anulat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a hajszálon ráeső fényben világos és sötét csíkok váltakoznak, alapja egy sajátságos keratinizációs zavar, a keratinrostok között kisebb-nagyobb léghólyagok vann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atinképződés során valamilyen egynemű anyag termelődik, amely a haj növekedése folyamán megszárad, és zsugorodása miatt keletkeznek levegővel telt hólyagok. Ezek látszanak világosnak a ráeső fény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456000" cy="568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1716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richorrhexis invaginata (bambuszhaj) –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hább és keményebb keratinból álló hajrészletek váltakoznak, innen a hajszálak bambusznádra emlékeztető alak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816360" cy="46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Őszülés (can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30-40 évek között jelentkezik a halántékon, és innen terjed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váb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szüléssel együtt csökken a hajszál vastagsága, rugalmassága, szakítási szilárdsága és nyújthatósá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lanociták a fehér hajszál mátrixából csaknem teljesen eltűntek, a tirozináz aktivitás csökk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váltások következtében a működő melanociták száma egyre csökken, a pigmentgranulátumok is finomabbak és kisebb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gyéb hajrendellenes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elváltozások, amelyeket gombás fertőzések, és hajtetű okoz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crosp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as fejbőr illetve a piheszőrös bőr felületes gombás betegsé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-3 cm átmérőjű, kerek vagy ovális, finoman hámló, szürkésfehér színű plakkok keletkeznek, melyen a hajszálak letöredez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get, maradandó kopaszságot nem hagy há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avus (fejkos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as fejbőr maradandó kopaszsággal járó, felületes gombás betegsé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ermekkorban kezdődik, de spontán nem gyógyul meg, hanem felnőttkorban is megmar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tövén sárga színű, lefelé konvex, fölfelé a szőrtüszőbe nyomuló, pajzsra emlékeztető „képletek” láthatók, melyek gombafonalakból, spórákból, szarupikkelyekből és leukocitákból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nem töredeznek le, szürkés színűek, fénytele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ellemző egérvizeletszag a gomba által képzett acetamidtól származ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őrtüszőt a képletek tartós nyomása és a gomba által termelt toxinok elpusztítják, atrophia és maradandó kopaszság a következmén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311640" cy="39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16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 capitis superficial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erekek hajas fejbőrének felületes fertőzése, kórokozói a trichophyton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ejbőrön 1-2 cm átmérőjű területen mérsékelt hiperaemia és finom hámlás láthat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hajszálak nem egyenlő magasságban törnek, az elváltozáson belül maradnak ép hajszálak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ycosis barbae profu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érfiak szakálltájékán, ritkábban a bajusztájon vagy a tarkón folliculáris pustulák keletkeznek, amelyek összefolyhatnak és lividvörös, gennyet ürítő csomók képződn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őrszálak részben kihullan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olyamat heggel gyógy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órokozói a trichophyton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Állatgondozók foglalkozási betegsége, régen „borbély” betegség volt, nem fertőtlenített borotvával terjesztetté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9512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827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ediculosis (tetves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Óvodai, iskolai közösségekben gyakrabban, rossz higiénes körülmények között élő felnőtteken ritkábban fordul el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ccipitalis és a fül mögötti területen lehet a rovarokat a hajszálak között megtalá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nyebb a kórjelző serkéket (szürkés, tojásdad alakú, fél mm hosszú képletek) megtalálni, amelyeket a tetvek a hajszálakra ragaszta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29480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lope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opecia a haj illetve a test szőrzetének kihullását vagy hiányát jel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eleszületett – a szőrtüszők hiányo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erz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rreverzibilis – a szőrtüszők elpusztuln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verzibilis – a szőrtüszők átmenetileg tevékenységüket beszünte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iffú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ol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Irreverzibilis alopec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egesedő alopeciá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zúzódás, égés, forrázás, savmarás eredményeként alakulnak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érfiak androgén alopeciá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androgének hatására genetikusan bekövetkező hajvesztés, nem betegség, az alopeciák 90-95% tartozik ebbe a csoport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lyamat felnőttkorban kezdődik a halántékon, és folyamatosan terjed hátrafe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ők androgén típusú alopeciá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– ritkán alakul ki, komoly pszichés problémát ok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íg férfiakban az androgén alopecia nem nevezhető betegségnek, addig ugyanez a kórkép nőknél kórosnak tekinthető, mivel a megszaporodott androgén hormonoknak egyéb, rendellenes endokrin hatása le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őrnövési rendellenességeket két nagy csoportra oszt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lanugószálak változásaiból származó rendellenességek, melynek során megváltozik a lanugószál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í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stag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ajrendellenesség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szálat létrehozó mátrix sejtek osztódása lelassul, vagy megszű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szál szerkezetében történik változ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608720" cy="674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Reverzibilis alopeciá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321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ffúz alopeci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matogén úton odakerült toxikus anyagok okozzá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lyenek lehet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ytosztatikus (sejtosztódást gátló) kezelés gyógysze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ktériumok, vírusos betegségek toxinjai (tifusz, influenza, szifili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érgek (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sszú ideig kontroll nélkül szedett A-vitamin és származé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alakul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lés ut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gamzásgátlók szedését követően (progeszteron túlsúlyú szerekné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rónikus betegségekben (diabetes, AI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 hiány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métlődő stressz eseté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232000" cy="26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as fejbőr területén bárhol megjelenő kerek, reakciómentes, kopasz fo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ban fájdalmatlan, szubjektív panaszt nem ok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setek legnagyobb részében gyulladásos góc található a szervezetben (pl. fog, orrmelléküreg, prosztata,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álltáji és a szemöldökre, szempillára is kiterjedő alopecia nehezen befolyásolható, megléte rossz prognosztikai j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736720" cy="47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0280" y="1197000"/>
            <a:ext cx="368280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lanugoszálak változásaiból származó rendellene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4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ypertrichosisba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- a szőrzet eloszlásának feminin jellege megtartott, a szőrszálak azonban vastagabbak és hosszabb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rülírt hipertrich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het naevoid jellegű (naevus pigmentosus pilosus, mongolfolt,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letkezhet irritáció hatására (zsákhordók vállán, súrolóasszonyok térdé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rtós gyulladásos ingerekre (tartós napozástó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eneralizált hipertrich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őkön familiárisan már a pubertáskor megkezdőd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ormonális eltérést többnyire nem sikerült kimutatni. Klimaxban a felső ajkon és az álltájon gyakori a pamacsszerű bajusz és szakállnöveked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448000" cy="2905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08480" y="3284640"/>
            <a:ext cx="368460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244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irsutismus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rfias típusú szőrzetnövekedés nőkön (alhason a köldökig háromszög alakban húzódó fanszőrzet, erőteljesebb szakáll, bajusz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b férfias jelleggel kombinálódhat, pl. mély hang, péniszszerű clitoris, visszafejlődő mell, stb., amit az androgén hormonok fokozott szintézise okoz. Enyhe hirsutismus előfordulhat a terhesség alatt a hipofízis elülső lebenyének hiperfunkciója miatt, ez szülés után spontán visszafejlő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74328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997360"/>
            <a:ext cx="2879640" cy="36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333360"/>
          <a:ext cx="8280360" cy="6251760"/>
        </p:xfrm>
        <a:graphic>
          <a:graphicData uri="http://schemas.openxmlformats.org/drawingml/2006/table">
            <a:tbl>
              <a:tblPr/>
              <a:tblGrid>
                <a:gridCol w="1656000"/>
                <a:gridCol w="1871640"/>
                <a:gridCol w="2089080"/>
                <a:gridCol w="2663640"/>
              </a:tblGrid>
              <a:tr h="40572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kezelé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őkítés = Blans-por +H</a:t>
                      </a:r>
                      <a:r>
                        <a:rPr b="0" lang="hu-H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hu-H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ilác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iglenes szőreltávolítás, a szőrszálakat a bőrfelszínről vagy a szőrtüszőből távolítjuk el, a mátrixsejtek osztódása nem szűnik m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ka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otva, oll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pe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anta- hideg, mel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ta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y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úgos kémhatású 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m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láci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leges szőreltávolítás, megszűntetjük a mátrixsejtek működésé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koaguláció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hullámú Diatermiá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z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líz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ván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talános kezelé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ógyszer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monkezelé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jrendellenes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rendellenességek több csoportba osztható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faggyúmirigyeinek rendellenes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sírhiányos (alipikus) fejbő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jbőr olajo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jbőr korpá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jszálel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jhullás (alope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ejbőr faggyúmirigyeinek rendellenes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fejbőrön a faggyúmirigyek működése a normálistól eltér, a fejbőr kozmetikai rendellenességei alakulnak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zsírhiányos (alipikus) fejbő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ünet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jbőr és a hajszálak száraz tapintású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 fényt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jszálak töredez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sírhiányos fejbőrt okozó tény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4437000"/>
          <a:ext cx="8435880" cy="1717560"/>
        </p:xfrm>
        <a:graphic>
          <a:graphicData uri="http://schemas.openxmlformats.org/drawingml/2006/table">
            <a:tbl>
              <a:tblPr/>
              <a:tblGrid>
                <a:gridCol w="2811240"/>
                <a:gridCol w="2813040"/>
                <a:gridCol w="281160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lső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ső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röklött tényező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yi anyag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tós hullámosító sz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jfesté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ztrogén hormonok túltermelőd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jzsmirigyzav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zív öröklődés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és célja a zsírhiány pótlása hámképző, jól felszívódó növényi zsírokból, olajokból álló, hidratáló hajápoló kozmetikumok segítségével, amelyek jelentős mennyiségű zsírkísérő anyagot tartalmaz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olajo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ün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j csillogó, zsíros fény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jmosás után a hajszálak gyorsan ismét zsíros tapintásúvá, tapadóssá v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ejbőr korpás szeborrhoe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áraz korpás fej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rpalemezek nem zsíros tapintású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rpalemezek állandóan hullanak, a ruházatot is befe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síros korpás fejbő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palemezek zsíros tapintású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adnak a fejbőrhö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zkető érzés alakul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rparéteg alatt a bőr gyull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zsírral átitatott korparéteg hosszabb ideig a fejbőrön marad, a bőrlégzés lelassul, amely a hajnövést gát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8:59:14Z</dcterms:created>
  <dc:creator>Nóri és Tomi</dc:creator>
  <dc:description/>
  <dc:language>en-US</dc:language>
  <cp:lastModifiedBy>Nóra</cp:lastModifiedBy>
  <dcterms:modified xsi:type="dcterms:W3CDTF">2006-12-14T21:46:38Z</dcterms:modified>
  <cp:revision>10</cp:revision>
  <dc:subject/>
  <dc:title>Szőrnövési és hajrendellenességek </dc:title>
</cp:coreProperties>
</file>