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270-DD5E-4D83-AE48-3EA715DE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476B-E879-4295-A52E-2252501A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191E-C796-4C8D-B76F-73F6A8E6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F3B-95E5-4C55-B1E0-F1E234CC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732-0762-4916-8C5B-B81F584A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82B-4934-4B39-B0F0-272BD1E2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A53A-2FEA-4878-8E02-BE9AE511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FDEA-09BC-4873-B38D-2FCD9C14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531-F944-421A-86CF-9F826F0D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D9E-F652-482E-9CDE-A7A6F5C4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8852-EDC1-44D8-AC96-8B9698A6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957-B373-43D7-BBE1-40C43697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C85C-6CF6-46AA-8AC9-E718E0585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zőrnövési és hajrendellenessége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ajszálelváltoz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richoptilosi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– a hajszálak szárazak, törékenyek, végükön felrostozódt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richorrhexis nodosa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– hajszálakon fehér vagy sárga pontként feltűnő megvastagodások láthatók. Ezeken a helyeken a szőrszál felrostozódott, törékeny, gyakran letör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1871640" cy="1873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38560" y="2421000"/>
            <a:ext cx="3710160" cy="37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Öröklött hajszálelváltozá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onilethrix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a szőrszál vastagsága 0,5 - 0,5 mm periódusokban változik, így vékonyabb és vastagabb részek gyöngyfüzérszerűen követik egymá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Pili anulat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a hajszálon ráeső fényben világos és sötét csíkok váltakoznak, alapja egy sajátságos keratinizációs zavar, a keratinrostok között kisebb-nagyobb léghólyagok vanna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eratinképződés során valamilyen egynemű anyag termelődik, amely a haj növekedése folyamán megszárad, és zsugorodása miatt keletkeznek levegővel telt hólyagok. Ezek látszanak világosnak a ráeső fény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64000" y="404640"/>
            <a:ext cx="3456000" cy="568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41716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Trichorrhexis invaginata (bambuszhaj) –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uhább és keményebb keratinból álló hajrészletek váltakoznak, innen a hajszálak bambusznádra emlékeztető alak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788000" y="1052640"/>
            <a:ext cx="3816360" cy="468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Őszülés (caniti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talában 30-40 évek között jelentkezik a halántékon, és innen terjed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ováb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Őszüléssel együtt csökken a hajszál vastagsága, rugalmassága, szakítási szilárdsága és nyújthatóság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elanociták a fehér hajszál mátrixából csaknem teljesen eltűntek, a tirozináz aktivitás csökk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ajváltások következtében a működő melanociták száma egyre csökken, a pigmentgranulátumok is finomabbak és kisebb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gyéb hajrendellenesség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lyan elváltozások, amelyeket gombás fertőzések, és hajtetű okoz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icrosp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ajas fejbőr illetve a piheszőrös bőr felületes gombás betegsé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-3 cm átmérőjű, kerek vagy ovális, finoman hámló, szürkésfehér színű plakkok keletkeznek, melyen a hajszálak letöredez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eget, maradandó kopaszságot nem hagy há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avus (fejkos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ajas fejbőr maradandó kopaszsággal járó, felületes gombás betegsé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ermekkorban kezdődik, de spontán nem gyógyul meg, hanem felnőttkorban is megmar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ajszálak tövén sárga színű, lefelé konvex, fölfelé a szőrtüszőbe nyomuló, pajzsra emlékeztető „képletek” láthatók, melyek gombafonalakból, spórákból, szarupikkelyekből és leukocitákból áll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ajszálak nem töredeznek le, szürkés színűek, fénytele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ellemző egérvizeletszag a gomba által képzett acetamidtól származi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őrtüszőt a képletek tartós nyomása és a gomba által termelt toxinok elpusztítják, atrophia és maradandó kopaszság a következmény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959280" cy="431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311640" cy="396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43164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yc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ycosis capitis superficial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Gyerekek hajas fejbőrének felületes fertőzése, kórokozói a trichophyton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fejbőrön 1-2 cm átmérőjű területen mérsékelt hiperaemia és finom hámlás láthat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hajszálak nem egyenlő magasságban törnek, az elváltozáson belül maradnak ép hajszálak 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ycosis barbae profu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érfiak szakálltájékán, ritkábban a bajusztájon vagy a tarkón folliculáris pustulák keletkeznek, amelyek összefolyhatnak és lividvörös, gennyet ürítő csomók képződn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szőrszálak részben kihullan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folyamat heggel gyógyu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órokozói a trichophyton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Állatgondozók foglalkozási betegsége, régen „borbély” betegség volt, nem fertőtlenített borotvával terjesztetté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24360" y="3860640"/>
            <a:ext cx="295128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38275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ediculosis (tetvessé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Óvodai, iskolai közösségekben gyakrabban, rossz higiénes körülmények között élő felnőtteken ritkábban fordul el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occipitalis és a fül mögötti területen lehet a rovarokat a hajszálak között megtalál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nnyebb a kórjelző serkéket (szürkés, tojásdad alakú, fél mm hosszú képletek) megtalálni, amelyeket a tetvek a hajszálakra ragaszta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580000" y="0"/>
            <a:ext cx="294804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424836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Alopec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lopecia a haj illetve a test szőrzetének kihullását vagy hiányát jel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h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Veleszületett – a szőrtüszők hiányoz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Szerzet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Irreverzibilis – a szőrtüszők elpusztuln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Reverzibilis – a szőrtüszők átmenetileg tevékenységüket beszüntet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Diffú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ol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Irreverzibilis alopeci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egesedő alopeciá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– zúzódás, égés, forrázás, savmarás eredményeként alakulnak 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érfiak androgén alopeciáj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– androgének hatására genetikusan bekövetkező hajvesztés, nem betegség, az alopeciák 90-95% tartozik ebbe a csoportb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olyamat felnőttkorban kezdődik a halántékon, és folyamatosan terjed hátrafel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ők androgén típusú alopeciáj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– ritkán alakul ki, komoly pszichés problémát oko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íg férfiakban az androgén alopecia nem nevezhető betegségnek, addig ugyanez a kórkép nőknél kórosnak tekinthető, mivel a megszaporodott androgén hormonoknak egyéb, rendellenes endokrin hatása leh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őrnövési rendellenességeket két nagy csoportra osztju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 lanugószálak változásaiból származó rendellenességek, melynek során megváltozik a lanugószála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os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í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stagsá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Hajrendellenesség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ajszálat létrehozó mátrix sejtek osztódása lelassul, vagy megszű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ajszál szerkezetében történik változ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608720" cy="674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Reverzibilis alopeciá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4321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Diffúz alopeci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ematogén úton odakerült toxikus anyagok okozzá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lyenek lehetn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ytosztatikus (sejtosztódást gátló) kezelés gyógysze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ktériumok, vírusos betegségek toxinjai (tifusz, influenza, szifilis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érgek (T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osszú ideig kontroll nélkül szedett A-vitamin és származék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alakulh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ülés ut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ogamzásgátlók szedését követően (progeszteron túlsúlyú szerekné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rónikus betegségekben (diabetes, AID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e hiányb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smétlődő stressz eseté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940360" y="2276640"/>
            <a:ext cx="2232000" cy="266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lopecia are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ajas fejbőr területén bárhol megjelenő kerek, reakciómentes, kopasz fo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talában fájdalmatlan, szubjektív panaszt nem oko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setek legnagyobb részében gyulladásos góc található a szervezetben (pl. fog, orrmelléküreg, prosztata, st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akálltáji és a szemöldökre, szempillára is kiterjedő alopecia nehezen befolyásolható, megléte rossz prognosztikai j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2736720" cy="4752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10280" y="1197000"/>
            <a:ext cx="3682800" cy="431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lanugoszálak változásaiból származó rendellenes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42447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ypertrichosisban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- a szőrzet eloszlásának feminin jellege megtartott, a szőrszálak azonban vastagabbak és hosszabb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rülírt hipertrich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Lehet naevoid jellegű (naevus pigmentosus pilosus, mongolfolt,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eletkezhet irritáció hatására (zsákhordók vállán, súrolóasszonyok térdé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artós gyulladásos ingerekre (tartós napozástó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eneralizált hipertrich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őkön familiárisan már a pubertáskor megkezdőd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ormonális eltérést többnyire nem sikerült kimutatni. Klimaxban a felső ajkon és az álltájon gyakori a pamacsszerű bajusz és szakállnövekedé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227640" y="189000"/>
            <a:ext cx="2448000" cy="2905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08480" y="3284640"/>
            <a:ext cx="3684600" cy="32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4244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irsutismus-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érfias típusú szőrzetnövekedés nőkön (alhason a köldökig háromszög alakban húzódó fanszőrzet, erőteljesebb szakáll, bajusz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éb férfias jelleggel kombinálódhat, pl. mély hang, péniszszerű clitoris, visszafejlődő mell, stb., amit az androgén hormonok fokozott szintézise okoz. Enyhe hirsutismus előfordulhat a terhesség alatt a hipofízis elülső lebenyének hiperfunkciója miatt, ez szülés után spontán visszafejlőd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76720" y="333360"/>
            <a:ext cx="3743280" cy="2590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96000" y="2997360"/>
            <a:ext cx="2879640" cy="367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39640" y="333360"/>
          <a:ext cx="8280360" cy="6251760"/>
        </p:xfrm>
        <a:graphic>
          <a:graphicData uri="http://schemas.openxmlformats.org/drawingml/2006/table">
            <a:tbl>
              <a:tblPr/>
              <a:tblGrid>
                <a:gridCol w="1656000"/>
                <a:gridCol w="1871640"/>
                <a:gridCol w="2089080"/>
                <a:gridCol w="2663640"/>
              </a:tblGrid>
              <a:tr h="40572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yi kezelé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őkítés = Blans-por +H</a:t>
                      </a:r>
                      <a:r>
                        <a:rPr b="0" lang="hu-HU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hu-HU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iláci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iglenes szőreltávolítás, a szőrszálakat a bőrfelszínről vagy a szőrtüszőből távolítjuk el, a mátrixsejtek osztódása nem szűnik me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ka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otva, oll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ipe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anta- hideg, mel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g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ptat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gy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úgos kémhatású any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om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láci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égleges szőreltávolítás, megszűntetjük a mátrixsejtek működésé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okoaguláció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övidhullámú Diatermiá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éze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olíz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ván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ltalános kezelé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ógyszere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monkezelé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jrendellenesség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ajrendellenességek több csoportba osztható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fejbőr faggyúmirigyeinek rendellenes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zsírhiányos (alipikus) fejbő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ejbőr olajos szeborrhoeá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ejbőr korpás szeborrhoeá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ajszálelváltoz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ajhullás (alope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fejbőr faggyúmirigyeinek rendellenes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 a fejbőrön a faggyúmirigyek működése a normálistól eltér, a fejbőr kozmetikai rendellenességei alakulnak 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zsírhiányos (alipikus) fejbő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ünete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ejbőr és a hajszálak száraz tapintású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aj fényt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ajszálak töredez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Zsírhiányos fejbőrt okozó tényező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4437000"/>
          <a:ext cx="8435880" cy="1717560"/>
        </p:xfrm>
        <a:graphic>
          <a:graphicData uri="http://schemas.openxmlformats.org/drawingml/2006/table">
            <a:tbl>
              <a:tblPr/>
              <a:tblGrid>
                <a:gridCol w="2811240"/>
                <a:gridCol w="2813040"/>
                <a:gridCol w="2811600"/>
              </a:tblGrid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ülső tényező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ső tényező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röklött tényező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gyi anyag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tós hullámosító szer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jfesté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sztrogén hormonok túltermelődé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jzsmirigyzav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sszív öröklődés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ezelés célja a zsírhiány pótlása hámképző, jól felszívódó növényi zsírokból, olajokból álló, hidratáló hajápoló kozmetikumok segítségével, amelyek jelentős mennyiségű zsírkísérő anyagot tartalmazn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fejbőr olajos szeborrhoeá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ünete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aj csillogó, zsíros fény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jmosás után a hajszálak gyorsan ismét zsíros tapintásúvá, tapadóssá vál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fejbőr korpás szeborrhoeá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áraz korpás fejbő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orpalemezek nem zsíros tapintású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orpalemezek állandóan hullanak, a ruházatot is befed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síros korpás fejbő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palemezek zsíros tapintású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adnak a fejbőrhö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zkető érzés alakul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orparéteg alatt a bőr gyulla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a zsírral átitatott korparéteg hosszabb ideig a fejbőrön marad, a bőrlégzés lelassul, amely a hajnövést gátol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8:59:14Z</dcterms:created>
  <dc:creator>Nóri és Tomi</dc:creator>
  <dc:description/>
  <dc:language>en-US</dc:language>
  <cp:lastModifiedBy>Nóra</cp:lastModifiedBy>
  <dcterms:modified xsi:type="dcterms:W3CDTF">2006-12-14T21:46:38Z</dcterms:modified>
  <cp:revision>10</cp:revision>
  <dc:subject/>
  <dc:title>Szőrnövési és hajrendellenességek </dc:title>
</cp:coreProperties>
</file>