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32B-FDCA-44E5-998E-BD914A30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593-9D58-49C9-9DE4-519A4158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D8F-B74B-40E4-AB68-59B9FBC1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934-F64E-4A7B-A7B0-E6DD8B06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054-4466-49C9-9B1D-1F241BC8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037-58CA-4F1B-A51B-909F24D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323-8F29-4BDF-BFC9-31FC2CE9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AAD-C8F9-4021-AA15-A9718C2B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53A-D64B-463A-A361-8D3FB2D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FA5-383B-4026-A914-E9D02CB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E55-8A25-403B-8D8D-8BC4B6A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391-D48E-4AC4-9418-E02CA22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0D2-6338-4B77-85DD-D7FFBF04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idegrendszer zavarai okozta kozmetikai hibá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gi izgalmak hatására kialakuló kozmetikai hib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rticar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– vegetatív idegrendszeri labilitás hatására alakul 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leg idegi izgalmak, szorongás váltja ki a nagyfokú savókiszivárg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ruritus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pubertás, klimax feszült idegállapotában gyakori minden külső jel nélküli viszket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vakarás irritálja a bőrt, és még erősebb viszketéshez vezet, így kialakul a viszketés-vakarás-viszketés "ördögi kör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őteljes vakarás bőrpírt és mély vakarási nyomokat hagyhat maga ut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seknél, már gyenge vakarás is kiemelkedő, piros bőrcsíkokat eredményez, melyek erőteljesen viszket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rtós vakarás és dörzsölés a bőr megvastagodásához és hegesedéséhez vezet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ülső elválasztású mirigyek szekréció fokozódás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 idegi izgalmak hatására következik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lemző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rejték- és faggyúmirigy szekréciófokozó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cne kialak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ngioneurózis (éridegesség)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egrendszeri labilitás miatt jelentkez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gioneurózis alatt a véredénymozgató idegek működési (funkcionális) megbetegedé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idegek behatása alatt a vérerek tágulnak, illetőleg szűkülnek, miáltal a megfelelő véredényterületek vérrel túl bőven láttatnak el és kipirulnak, illetőleg vérszegényekké és így halványakká vál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állapotok néha nagy fájdalmakkal járnak, pl. migrén, féloldali fejfáj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ellemzőj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- sűrűn váltakozó hirtelen elpirulás, majd elsápad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ertáskorban gyak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opecia neur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irtelen őszü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ényszercselekv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ömrág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jrág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rzékenyebb idegrendszerű vendégek kozmetikai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elésükkor a következő szabályokat kell figyelembe ven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akkor kezelhetjük, ha orvosa nem ellenzi e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őződjünk meg a bőr mechanikai hatásokkal szemben tanúsított érzékenységének mértéké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gyes éles tárgy hatására a bőr elfehéredik, majd pirosodik, csalánköbszerűen ki is emelkedh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él érzékenyebb egy vendég idegrendszere, annál hevesebb a reakció, annál óvatosabban kell eljárni a kezelés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ztosítsuk a vendég nyugalmát, kerüljük a hangosabb beszédet, a szélsőséges inger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ugodt lassú, folyamatos mozdulatokkal dolgozzu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rzékeny, gyulladásra hajlamos bőrök kezelésénél használt kozmetikumokat alkalmazzu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8180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040360" cy="525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176720" cy="550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egrendszer két fő részre tagolód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omatikus, akaratunktól függő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getatív, akaratunktól független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szomatikus idegrendsz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natómiailag két részből á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ponti rész: agy és gerincvel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nyéki rész: agy- és gerincvelői ide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gy- és gerincvelő a feltétlen és feltételes reflextevékenység, a magasabb idegtevékenység központja, a környéki rész motoros idegek útján ingerületeket küld a vázizmokhoz és érző idegek útján a periféria felől ingerületet szállít a központi idegszervek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vegetatív idegrendsz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natómiailag központi és környéki részből áll, de funkcionálisan két részre tagol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impatikus ideg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araszimpatikus ideg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getatív idegrendszer elsősorban a belső szervek tevékenységét szabályozza, továbbá a mirigyeket, simaizmokat, ereket idegzi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t rendszer általában ellentétes hatású és idegvégződéseikben az ingerületátvivő anyag is eltér egymást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impatikus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impatikus idegrendszert a gerinc két oldalán húzódó dúclánc képviseli (paravertebrális dúcok), amely összeköttetésben áll a gerincvelővel és a célszervekk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impatikus preganglionáris neuronok sejttestjei a gerincvelő oldalszarvában (Th1- L3) helyezkednek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stjaik az elülső gyökéren lépnek ki a gerincvelőből, majd mint önálló velőhüvelyes rostok jutnak be a határlánc ganglionjaiba vagy a viscerális ganglionokba, ahol a posztganglionáris neuronokkal szinaptizá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sztganglionáris, velőhüvely nélküli rost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omatikus idegekhez csatlakoznak és beidegzik a különböző testtájak ereit, a bőr mirigyeit, szőrszálakat merevítő izomrosto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t önálló viscerális szimpatikus idegek a különböző zsigereket idegzik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zsigeri érző rostok a gerincvelői idegek érző rostjaival együtt lépnek be a gerincvelő hátsó szarvába és közvetlenül válaszreakciót váltanak ki, vagy a vegetatív ingerület feljut az agyvelőbe és ott zsigeri érzést ok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raszimpatikus ideg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pontjai részben az agytörzsben (szív, tüdő, hasüregi szervek, sugártest izma, pupillaszűkítő izom, könnymirigyek és nyálmirigyek beidegzése), részben a sacralis gerincvelőben (húgyhólyag, nemi szervek, vastagbél, végbél beidegzése) helyezkednek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szimpatikus preganglionáris rostok a célszervek falában kapcsolódnak át, a postganglionáris neuron, ezért nagyon röv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ngerületátvivő 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patikus idegrendszer- noredren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araszimpatikus idegrendszer – acetilko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63272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04640"/>
          <a:ext cx="8229600" cy="5976720"/>
        </p:xfrm>
        <a:graphic>
          <a:graphicData uri="http://schemas.openxmlformats.org/drawingml/2006/table">
            <a:tbl>
              <a:tblPr/>
              <a:tblGrid>
                <a:gridCol w="2098800"/>
                <a:gridCol w="2952720"/>
                <a:gridCol w="3178080"/>
              </a:tblGrid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r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impatikus hatá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zimpatikus ha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észtőmirigy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összehúzód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kréciófokozód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ejtékmirigy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kré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ívizo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 aktivi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ökkent aktivi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őr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szűkület, értágu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i 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összehúzód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om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águ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g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űkü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lizomz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ökkent perisztaltika, fokozott szfinktertó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 perisztaltika, csökkent szfinktertó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3284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rszabályozó központok zavaraiból származó kozmetikai hib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rek tágulását és szűkülését a vegetatív idegrendszer szabályozza. Ha a szabályozásban zavar támad, rendellenességek jelentkez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os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rocianó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rványozott 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gydaga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484280"/>
          <a:ext cx="8229600" cy="1554120"/>
        </p:xfrm>
        <a:graphic>
          <a:graphicData uri="http://schemas.openxmlformats.org/drawingml/2006/table">
            <a:tbl>
              <a:tblPr/>
              <a:tblGrid>
                <a:gridCol w="2170080"/>
                <a:gridCol w="3673440"/>
                <a:gridCol w="238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ülső tényez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ső tényez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röklött tényez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sszhatás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rbeidegzési zav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egyensúly felborulása pubertásban, klimaxba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zmetikai rendellenességet kiváltó idegi tényezők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9:31:41Z</dcterms:created>
  <dc:creator>Nóri és Tomi</dc:creator>
  <dc:description/>
  <dc:language>en-US</dc:language>
  <cp:lastModifiedBy>IHM ITP-19 Nyertes</cp:lastModifiedBy>
  <dcterms:modified xsi:type="dcterms:W3CDTF">2004-05-11T20:02:45Z</dcterms:modified>
  <cp:revision>7</cp:revision>
  <dc:subject/>
  <dc:title>Az idegrendszer zavarai okozta kozmetikai hibák</dc:title>
</cp:coreProperties>
</file>