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D30-C52B-4F97-837F-9F148DEF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B87-6E15-49D1-9F4C-A96C14E3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AE6-B23A-417C-8B9B-CF8BFD96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6EB-43DA-4B12-9C7A-FFF5CBED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B9A-7EF5-4783-B8ED-90CCF315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F2B-9369-41BD-9122-154316A8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0C3-B827-4D06-BB8A-67C5049E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316-1E44-4BC8-B475-4CBA0C16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8BB-83D4-46DD-B2D4-E21150EF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428-A0AA-43E9-9394-A5BC34BC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F42-2583-4870-855E-53581C6D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6C9-9104-4421-8216-3C60A170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D6BF-9938-47F2-BB3E-0BF684E44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z idegrendszer zavarai okozta kozmetikai hibá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gi izgalmak hatására kialakuló kozmetikai hib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Urticari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– vegetatív idegrendszeri labilitás hatására alakul 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őleg idegi izgalmak, szorongás váltja ki a nagyfokú savókiszivárgá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Pruritusz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pubertás, klimax feszült idegállapotában gyakori minden külső jel nélküli viszketé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vakarás irritálja a bőrt, és még erősebb viszketéshez vezet, így kialakul a viszketés-vakarás-viszketés "ördögi köre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rőteljes vakarás bőrpírt és mély vakarási nyomokat hagyhat maga ut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eseknél, már gyenge vakarás is kiemelkedő, piros bőrcsíkokat eredményez, melyek erőteljesen viszketn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artós vakarás és dörzsölés a bőr megvastagodásához és hegesedéséhez vezeth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3276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ülső elválasztású mirigyek szekréció fokozódás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– idegi izgalmak hatására következik 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lemző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rejték- és faggyúmirigy szekréciófokozó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cne kialaku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ngioneurózis (éridegesség) –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degrendszeri labilitás miatt jelentkezh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ngioneurózis alatt a véredénymozgató idegek működési (funkcionális) megbetegedé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 idegek behatása alatt a vérerek tágulnak, illetőleg szűkülnek, miáltal a megfelelő véredényterületek vérrel túl bőven láttatnak el és kipirulnak, illetőleg vérszegényekké és így halványakká válna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 állapotok néha nagy fájdalmakkal járnak, pl. migrén, féloldali fejfáj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Jellemzőj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- sűrűn váltakozó hirtelen elpirulás, majd elsápad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ertáskorban gyak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lopecia neur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Hirtelen őszü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Kényszercselekvé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römrág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jrág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rzékenyebb idegrendszerű vendégek kozmetikai kezel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zelésükkor a következő szabályokat kell figyelembe ven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ak akkor kezelhetjük, ha orvosa nem ellenzi e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yőződjünk meg a bőr mechanikai hatásokkal szemben tanúsított érzékenységének mértékér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gyes éles tárgy hatására a bőr elfehéredik, majd pirosodik, csalánköbszerűen ki is emelkedh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él érzékenyebb egy vendég idegrendszere, annál hevesebb a reakció, annál óvatosabban kell eljárni a kezelés sor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ztosítsuk a vendég nyugalmát, kerüljük a hangosabb beszédet, a szélsőséges ingere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ugodt lassú, folyamatos mozdulatokkal dolgozzu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érzékeny, gyulladásra hajlamos bőrök kezelésénél használt kozmetikumokat alkalmazzu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681800" cy="666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5040360" cy="5257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4176720" cy="550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degrendszer két fő részre tagolódi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omatikus, akaratunktól függő ideg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egetatív, akaratunktól független ideg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szomatikus idegrendsze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natómiailag két részből á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0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ponti rész: agy és gerincvel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0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rnyéki rész: agy- és gerincvelői ide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gy- és gerincvelő a feltétlen és feltételes reflextevékenység, a magasabb idegtevékenység központja, a környéki rész motoros idegek útján ingerületeket küld a vázizmokhoz és érző idegek útján a periféria felől ingerületet szállít a központi idegszervek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vegetatív idegrendsze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natómiailag központi és környéki részből áll, de funkcionálisan két részre tagolju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0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impatikus idegrends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0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araszimpatikus idegrends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egetatív idegrendszer elsősorban a belső szervek tevékenységét szabályozza, továbbá a mirigyeket, simaizmokat, ereket idegzi 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ét rendszer általában ellentétes hatású és idegvégződéseikben az ingerületátvivő anyag is eltér egymástó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impatikus ideg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impatikus idegrendszert a gerinc két oldalán húzódó dúclánc képviseli (paravertebrális dúcok), amely összeköttetésben áll a gerincvelővel és a célszervekk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impatikus preganglionáris neuronok sejttestjei a gerincvelő oldalszarvában (Th1- L3) helyezkednek 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ostjaik az elülső gyökéren lépnek ki a gerincvelőből, majd mint önálló velőhüvelyes rostok jutnak be a határlánc ganglionjaiba vagy a viscerális ganglionokba, ahol a posztganglionáris neuronokkal szinaptizál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osztganglionáris, velőhüvely nélküli rost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omatikus idegekhez csatlakoznak és beidegzik a különböző testtájak ereit, a bőr mirigyeit, szőrszálakat merevítő izomrostok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t önálló viscerális szimpatikus idegek a különböző zsigereket idegzik 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zsigeri érző rostok a gerincvelői idegek érző rostjaival együtt lépnek be a gerincvelő hátsó szarvába és közvetlenül válaszreakciót váltanak ki, vagy a vegetatív ingerület feljut az agyvelőbe és ott zsigeri érzést oko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raszimpatikus ideg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pontjai részben az agytörzsben (szív, tüdő, hasüregi szervek, sugártest izma, pupillaszűkítő izom, könnymirigyek és nyálmirigyek beidegzése), részben a sacralis gerincvelőben (húgyhólyag, nemi szervek, vastagbél, végbél beidegzése) helyezkednek 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araszimpatikus preganglionáris rostok a célszervek falában kapcsolódnak át, a postganglionáris neuron, ezért nagyon röv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ngerületátvivő any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mpatikus idegrendszer- noredren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araszimpatikus idegrendszer – acetilko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632720" cy="666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404640"/>
          <a:ext cx="8229600" cy="5976720"/>
        </p:xfrm>
        <a:graphic>
          <a:graphicData uri="http://schemas.openxmlformats.org/drawingml/2006/table">
            <a:tbl>
              <a:tblPr/>
              <a:tblGrid>
                <a:gridCol w="2098800"/>
                <a:gridCol w="2952720"/>
                <a:gridCol w="3178080"/>
              </a:tblGrid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r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impatikus hatá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szimpatikus ha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észtőmirigye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összehúzódá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kréciófokozódá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ejtékmirigy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kréci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ívizo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kozott aktivi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ökkent aktivi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őre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szűkület, értágu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i e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összehúzód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ome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águ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p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g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űkü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élizomz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ökkent perisztaltika, fokozott szfinktertó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kozott perisztaltika, csökkent szfinktertó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8920" y="3284280"/>
            <a:ext cx="8713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Érszabályozó központok zavaraiból származó kozmetikai hib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erek tágulását és szűkülését a vegetatív idegrendszer szabályozza. Ha a szabályozásban zavar támad, rendellenességek jelentkezn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osac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krocianóz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árványozott bő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agydaga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484280"/>
          <a:ext cx="8229600" cy="1554120"/>
        </p:xfrm>
        <a:graphic>
          <a:graphicData uri="http://schemas.openxmlformats.org/drawingml/2006/table">
            <a:tbl>
              <a:tblPr/>
              <a:tblGrid>
                <a:gridCol w="2170080"/>
                <a:gridCol w="3673440"/>
                <a:gridCol w="238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ülső tényező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ső tényező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Öröklött tényező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sszhatáso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rbeidegzési zav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monegyensúly felborulása pubertásban, klimaxba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zmetikai rendellenességet kiváltó idegi tényezők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9:31:41Z</dcterms:created>
  <dc:creator>Nóri és Tomi</dc:creator>
  <dc:description/>
  <dc:language>en-US</dc:language>
  <cp:lastModifiedBy>IHM ITP-19 Nyertes</cp:lastModifiedBy>
  <dcterms:modified xsi:type="dcterms:W3CDTF">2004-05-11T20:02:45Z</dcterms:modified>
  <cp:revision>7</cp:revision>
  <dc:subject/>
  <dc:title>Az idegrendszer zavarai okozta kozmetikai hibák</dc:title>
</cp:coreProperties>
</file>