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E74-EF07-4A5B-8A12-54824756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60C-7976-499B-9C64-C5D4197D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AD7-3750-48C3-8B12-745A2960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152-D6FD-4B1A-8F14-17312C5E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BD8-F5C5-401F-BB8A-6449F54B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0CB-90FA-44F9-AF49-E84474FA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BF2-27B4-4E03-AF9B-D427D3D2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D6AE-74BE-4EEB-B1F4-F87B3BE1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BBE-8FBA-48ED-96BD-19F6C7BF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A72-4ED9-4D18-86E2-A4E3F5E7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ABC-B6A4-42CA-B318-A0D99493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882-2B43-449C-8F16-DFEB43C4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4302-0D6A-4B88-B15A-B716D5D91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imax kozmetikai problémá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zelés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164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ip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zsírszövetének körülírt dagan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-5 cm átmérőjű kerek, tömött tapintatú, elmozdítható, szoliter vagy többszörös csomó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Xanthelesma palpebra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emhéjakon kialakuló, sokszor szimmetrikus, a bőrfelszínből laposan kiemelkedő, sárgásfehér színű puha tapintatú pla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40-50 év közötti személyeknél gyakran alakul ki, akiknek 50%-ában emelkedett lipoprotein szérumszint mutatható 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kszor súlyos érbetegség jele lehet, míg máskor nincs mögötte koleszterinanyagcsere-zav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3527280" cy="273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64000" y="3357720"/>
            <a:ext cx="3600720" cy="30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3164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Atheroma (faggyúcisz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ülönböző méretű, néha 2-3 cm átmérőjű, sárgás színű, puha tapintású, rugalmas képletek. Közepükön rendszerint comedo találhat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itkán érik el a csecsemőökölnyi nagyságot, a felettük lévő bőr atrphiás és a hajszálak rendszerint nincsenek felettü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őrtüsző külső gyökérhüvelyéből indul 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fordul: szeborrhoeás testtájakon, hajas fejbőrön, halántéktájon, herezacskó és pénisz tövének bőré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aggyúmirigy kivezető csövének végleges elzáródása miatt jön lét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664000" cy="309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44956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eratosis senilis (Keratoma sen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élet folyamán elszenvedett krónikus napfénykárosodás hatására létrejött praecancerosus körülírt hám-hyperpl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vagy több 0,5-3 cm átmérőjű, halványvörös vagy sárgásbarna, kerek vagy ovális, lapos, mérsékelten éles szélű, kissé kiemelkedő, tömött tapintatú, egyenetlen, hyperkeratotikus felszínű pap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557360"/>
            <a:ext cx="4316400" cy="40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43164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erruca seborrhoica (Verruca senilis, öregkori szemöl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-5 cm átmérőjű, halványbarna- fekete, lapos papilomatosus, éles szélű, hiperkeratotikus felszínű, ártalmatlan növedékek, sokszor kocsányszerű keskenyebb nyéllel ülnek a bőrö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ulladásos udvar általában nem övezi a jelensé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50. életév körül kezdenek fokozatosan megjelenni és szaporodni, nagyon gyako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itkán szinte az egész törzs bőrét ellep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övettani képe acanthosist, papilomatosist, mérsékelt hiperketathosist mu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1773360"/>
            <a:ext cx="4316400" cy="361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limaxban a szeborrhoea és az acne nagyon rit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ebontó anyagcsere-folyamatok túlsúlyba kerülése miatt a faggyúmirigy tevékenysége is csök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őr zsírhiányossá vál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mbetűnő a szemkörnyék zsírhiánya, amely gyakran párosul mélyrétegi vízhiánny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aggyúkiválasztás csökkenése a szeborrhoeás bőrtípúsoknál is észrevehető, gyakran a klimaxban – zsírtartalom szempontjából- normalizálód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Bőr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lváltozás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is bekövetkeznek az öregedési folyamatok miat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bőr atrophiás és száraz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ökkent hidratáció a bőr rugalmasságának, turgorának csökkenésében is megmutatko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ökken a kollagén és az elasztikus rostok mennyi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ökken az alapállomány PG és GAG molekuláinak mennyi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dehidratáció a papillák ellaposodását, a hám degenerációját okoz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aruréteg megvastagszik, a hám alsó rétegei elvékonyod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generációs ráncok alakulnak ki, a mimikai ráncok mélyülésével, az életkor előrehaladtával (leghamarabb a nyakon jelentkezn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147920" cy="2880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4105080" cy="2880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716360" y="3573360"/>
            <a:ext cx="4176720" cy="2951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50920" y="3500280"/>
            <a:ext cx="4105080" cy="309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mikai ránc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ok a barázdák, amelyek a mimikai izmok átlagosnál erőteljesebb és többszöri összehúzódására keletkez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nk arcjá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ertelen neve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kolt rövidlá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ős fényh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r fiatal korban megjelennek és fokozatosan mélyül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zel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lzott arcjáték mellő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záz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szesítő pak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. paraffin pakolás, lifting, gipsz masz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egenerációs ránc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ok a ráncok, amelyek a bőr katabolikus folyamatai során alakulnak 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Ok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asztikus rostok elfaju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rha papilláinak elsimu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jtes és sejtközötti állomány dehidratáció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zomtónus csökken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Zsírszövet lebom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ősebb korban alakulnak ki az öregedés jeleké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ezelésü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sszáz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őrtápláló regeneráló anya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limax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climacteriu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 a gonad-működések élettani alkonya, amely a szexualis érettségtől az öregkorig tart, és kb. 10-20 évet foglal magá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nstruációs ciklusok megszűnése rendszerint fokozatosan következik be; csak a nők kis hányadánál marad ki egyszerre a vérz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áltozás korát vagy klimaxot időben a legjobban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enopausá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l lehet jellemezn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nopausa alatt értjük a menstruációs vérzés kimaradását legalább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1 év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időtartam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45-55 éves kor közt bármikor jelentkezhet, európai átlagban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51 év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letkorra es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626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4537080" cy="612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ndropausán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férfi climax) értjük a hereműködés fokozatos csökkenését, majd megszűnését, melyet a here élettani involutiója okoz, az életkor előrehaladása folytá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tmeneti időszakot képez az érett felnőttkor és az időskor közöt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ametogenesis és a tesztoszteron- termelés megszűnése fokozatosan, néha több évtized leforgása alatt következik be, és nem köthető egy biztos dátumhoz, mint a menopau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zdete 55-60 éves korra tehet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limax létrejöttének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mechanizmus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nem teljesen tisztázot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öbbség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perifériá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redetűnek tartja (a primer, fejlődőképes tüszők csökkenésével, majd eltűnésével magyarázzák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ások inkább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központi szabályozá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k tulajdonítanak benne szerepet (a hypothalamo-hypophysealis mechanizmusok elégtelensége váltaná 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lószínűleg mindkét mechanizmus szerepel kialakulásáb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nopaus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primer élettani petefészek-elégtelenség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vetkezménye, ami a nemi hormonok csökkenésére és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gonadotropin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secretiójának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fokozódásá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a vezet. Menopausában az FSH sokkal jobban emelkedik, mint az L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ásik ok: a hypothalamicus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gonadotropin-oscillato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involuciój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mely már nem képes cyclikus LHRH-secretio biztosításá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nopa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nopausáról akkor beszélünk, ha a ciklus legalább egy évre kimarad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étrejötte arra utal, hogy az ö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ztrogén-szekréci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egszűnőbe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v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ellemző tünete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hőhullámo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amelyek az arc és a törzs szintjén hirtelen kialakuló értágulat következményei, és izzadással, szív-ritmuszavarokkal jár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tételezik, hogy a hőhullámok a nemi hormonok – elsősorban az ösztrogének – hiánya miatt jönnek létre, valószínűleg direkt hypothalamicus mechanizmus útján, vagy indirekt módon, a központi idegrendszeri struktúrákon keresztü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azomotoros és idegrendszeri zavaro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így éjszakai izzadás, szívdobogás, fejfájás, ingerlékenység, szorongás, depresszió is jelentkezh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ruritu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zek a tünetek jól válaszolnak ösztrogén-kezelésre, ezért az első választandó terápia a hormonpótló-kezelés és nem a trankvillánsok (nyugtatók) vagy antidepresszív szer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Postmenopau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ö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sztrogén-hián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mia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mlők, a méh, a méhnyak, a hüvely visszafejlődése következik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őrnövési rendellenesség alakul ki, a mellékvesekéreg androgénjeinek túlsúlya rév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3429000"/>
          <a:ext cx="8713800" cy="297036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ertásban a szőrszálakra jellemző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imaxban a szőrszálakra jellemző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sza, színe megváltoz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vastagsz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gtagokon alakul ki változá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usz, szakáll vonalában alakul ki változ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ndellenesség átmeneti jelleg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ndellenesség állandósu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őkítés javaso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iláció és epiláció javaso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3164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jrendellenességek alakulnak 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Őszülés (can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jvégek töredezése (Trichoptilo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jszálak sorva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jhul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igmentrendellenes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Öregkori szeplő (ephelides senile)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ervezet disszimilációs anyagcsere-folyamatainak túlsúlyba jutásával magyarázhat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ötétebb foltok felett a hám sorvadása (atrophia) figyelhető me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8320" y="1197000"/>
            <a:ext cx="4316400" cy="397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hloasma (májfolt)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különböző okokra visszavezethető, szimmetrikusan az arcon jelentkező összefolyásra hajlamos barnás foltok, melyek nyáron a fokozott UV sugárzás miatt sötétedn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etegség oka a melanociták fokozott pigment-termelé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lanózisok –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egyi hatások által okozott pigment-rendellenességek. Létrejöttét minden esetben enyhébb vagy súlyosabb mértékű bőrgyulladás előzheti meg.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bőr daganatos elváltozá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ösztrogén hormonok jelenléte a szervezetben bizonyítottan a daganatok képződésének lehetőségeit csökk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limaxban azonban az ösztrogének termelődése folyamatosan csökken, majd megszűnik, ezért a daganatos elváltozások veszélye is folyamatosan növekedh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ibroma (rostdagan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ibroma durum (kemény fibroma) -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vastagodott kollagén nyalábok által alkotott, tömött tapintású félgömbszerű dagan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ibroma pedulum (lágy fibroma) –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tőszövetes sejtekből és kollagén rostokból áll, puha tapintású, gyakran kocsányon lógó kötőszöveti burjánzás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33:34Z</dcterms:created>
  <dc:creator>Nóri és Tomi</dc:creator>
  <dc:description/>
  <dc:language>en-US</dc:language>
  <cp:lastModifiedBy>Nóri és Tomi</cp:lastModifiedBy>
  <dcterms:modified xsi:type="dcterms:W3CDTF">2007-01-27T07:29:22Z</dcterms:modified>
  <cp:revision>14</cp:revision>
  <dc:subject/>
  <dc:title>Klimax és menopausa </dc:title>
</cp:coreProperties>
</file>