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1F8A-1CAC-4E68-A81C-77B306239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1274-8921-477F-99FE-0373D595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7B82-C605-4902-A15F-F1C9246F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1F1B-4E68-4411-9947-EF7042A7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52CB-7E86-4475-A521-EB744F61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77AC-079E-4139-9276-2E05FCD5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830F-C6D3-44D7-9ABF-C440ED06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E934-04E6-491A-8F91-880EFE62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313C-2598-42BB-ACC5-9469860A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607F-49A1-40F5-996A-1238818C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BDF4-92C8-4FD1-9D81-EA87A870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93A9-F26D-4AB3-8843-640BA291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EBEF-C41F-492A-9E4F-F69DE34D5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imax kozmetikai problémá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zelésü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43164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ip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zsírszövetének körülírt dagan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2-5 cm átmérőjű kerek, tömött tapintatú, elmozdítható, szoliter vagy többszörös csomó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Xanthelesma palpebra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zemhéjakon kialakuló, sokszor szimmetrikus, a bőrfelszínből laposan kiemelkedő, sárgásfehér színű puha tapintatú pla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40-50 év közötti személyeknél gyakran alakul ki, akiknek 50%-ában emelkedett lipoprotein szérumszint mutatható 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okszor súlyos érbetegség jele lehet, míg máskor nincs mögötte koleszterinanyagcsere-zav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292720" y="260280"/>
            <a:ext cx="3527280" cy="2737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64000" y="3357720"/>
            <a:ext cx="3600720" cy="302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43164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Atheroma (faggyúcisz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ülönböző méretű, néha 2-3 cm átmérőjű, sárgás színű, puha tapintású, rugalmas képletek. Közepükön rendszerint comedo találhat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itkán érik el a csecsemőökölnyi nagyságot, a felettük lévő bőr atrphiás és a hajszálak rendszerint nincsenek felettü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zőrtüsző külső gyökérhüvelyéből indul 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fordul: szeborrhoeás testtájakon, hajas fejbőrön, halántéktájon, herezacskó és pénisz tövének bőré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faggyúmirigy kivezető csövének végleges elzáródása miatt jön lét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84720" y="765000"/>
            <a:ext cx="2664000" cy="309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44956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eratosis senilis (Keratoma sen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élet folyamán elszenvedett krónikus napfénykárosodás hatására létrejött praecancerosus körülírt hám-hyperpla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 vagy több 0,5-3 cm átmérőjű, halványvörös vagy sárgásbarna, kerek vagy ovális, lapos, mérsékelten éles szélű, kissé kiemelkedő, tömött tapintatú, egyenetlen, hyperkeratotikus felszínű pap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8320" y="1557360"/>
            <a:ext cx="4316400" cy="403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43164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Verruca seborrhoica (Verruca senilis, öregkori szemöl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1-5 cm átmérőjű, halványbarna- fekete, lapos papilomatosus, éles szélű, hiperkeratotikus felszínű, ártalmatlan növedékek, sokszor kocsányszerű keskenyebb nyéllel ülnek a bőrö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yulladásos udvar általában nem övezi a jelensé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50. életév körül kezdenek fokozatosan megjelenni és szaporodni, nagyon gyakor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itkán szinte az egész törzs bőrét ellepi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övettani képe acanthosist, papilomatosist, mérsékelt hiperketathosist mut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48320" y="1773360"/>
            <a:ext cx="4316400" cy="3611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713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limaxban a szeborrhoea és az acne nagyon rit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lebontó anyagcsere-folyamatok túlsúlyba kerülése miatt a faggyúmirigy tevékenysége is csökk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bőr zsírhiányossá vál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embetűnő a szemkörnyék zsírhiánya, amely gyakran párosul mélyrétegi vízhiánny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faggyúkiválasztás csökkenése a szeborrhoeás bőrtípúsoknál is észrevehető, gyakran a klimaxban – zsírtartalom szempontjából- normalizálód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Bőr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elváltozáso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is bekövetkeznek az öregedési folyamatok miat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bőr atrophiás és száraz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csökkent hidratáció a bőr rugalmasságának, turgorának csökkenésében is megmutatkoz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sökken a kollagén és az elasztikus rostok mennyisé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sökken az alapállomány PG és GAG molekuláinak mennyisé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dehidratáció a papillák ellaposodását, a hám degenerációját okoz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zaruréteg megvastagszik, a hám alsó rétegei elvékonyod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egenerációs ráncok alakulnak ki, a mimikai ráncok mélyülésével, az életkor előrehaladtával (leghamarabb a nyakon jelentkezn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4147920" cy="2880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788000" y="404640"/>
            <a:ext cx="4105080" cy="2880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716360" y="3573360"/>
            <a:ext cx="4176720" cy="2951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50920" y="3500280"/>
            <a:ext cx="4105080" cy="309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43588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mikai ránc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ok a barázdák, amelyek a mimikai izmok átlagosnál erőteljesebb és többszöri összehúzódására keletkezn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nk arcjáté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zertelen neve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kolt rövidlá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ős fényha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r fiatal korban megjelennek és fokozatosan mélyüln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zelé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úlzott arcjáték mellőz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záz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szesítő pako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. paraffin pakolás, lifting, gipsz masz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5075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Degenerációs ránc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ok a ráncok, amelyek a bőr katabolikus folyamatai során alakulnak 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Ok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asztikus rostok elfajul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rha papilláinak elsimul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ejtes és sejtközötti állomány dehidratáció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zomtónus csökken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Zsírszövet leboml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dősebb korban alakulnak ki az öregedés jeleké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ezelésü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asszáz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őrtápláló regeneráló anyag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climax (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climacterium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) a gonad-működések élettani alkonya, amely a szexualis érettségtől az öregkorig tart, és kb. 10-20 évet foglal magáb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enstruációs ciklusok megszűnése rendszerint fokozatosan következik be; csak a nők kis hányadánál marad ki egyszerre a vérz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változás korát vagy klimaxot időben a legjobban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menopausá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al lehet jellemezn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nopausa alatt értjük a menstruációs vérzés kimaradását legalább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1 év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időtartamr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z 45-55 éves kor közt bármikor jelentkezhet, európai átlagban az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51 éve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életkorra es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6264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427640" y="404640"/>
            <a:ext cx="4537080" cy="612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Andropausán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férfi climax) értjük a hereműködés fokozatos csökkenését, majd megszűnését, melyet a here élettani involutiója okoz, az életkor előrehaladása folytá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Átmeneti időszakot képez az érett felnőttkor és az időskor közöt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gametogenesis és a tesztoszteron- termelés megszűnése fokozatosan, néha több évtized leforgása alatt következik be, és nem köthető egy biztos dátumhoz, mint a menopau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ezdete 55-60 éves korra tehet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climax létrejöttének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mechanizmusa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nem teljesen tisztázot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többség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perifériá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eredetűnek tartja (a primer, fejlődőképes tüszők csökkenésével, majd eltűnésével magyarázzák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ások inkább 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központi szabályozá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ak tulajdonítanak benne szerepet (a hypothalamo-hypophysealis mechanizmusok elégtelensége váltaná 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alószínűleg mindkét mechanizmus szerepel kialakulásáb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menopaus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primer élettani petefészek-elégtelenség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vetkezménye, ami a nemi hormonok csökkenésére és 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gonadotropino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secretiójának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fokozódásá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a vezet. Menopausában az FSH sokkal jobban emelkedik, mint az L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ásik ok: a hypothalamicus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gonadotropin-oscillator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involuciója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, mely már nem képes cyclikus LHRH-secretio biztosításá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enopa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enopausáról akkor beszélünk, ha a ciklus legalább egy évre kimarad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étrejötte arra utal, hogy az ö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sztrogén-szekréció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megszűnőben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va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Jellemző tünete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hőhullámo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amelyek az arc és a törzs szintjén hirtelen kialakuló értágulat következményei, és izzadással, szív-ritmuszavarokkal járn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ltételezik, hogy a hőhullámok a nemi hormonok – elsősorban az ösztrogének – hiánya miatt jönnek létre, valószínűleg direkt hypothalamicus mechanizmus útján, vagy indirekt módon, a központi idegrendszeri struktúrákon keresztü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vazomotoros és idegrendszeri zavaro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így éjszakai izzadás, szívdobogás, fejfájás, ingerlékenység, szorongás, depresszió is jelentkezh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ruritus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dezek a tünetek jól válaszolnak ösztrogén-kezelésre, ezért az első választandó terápia a hormonpótló-kezelés és nem a trankvillánsok (nyugtatók) vagy antidepresszív szer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Postmenopaus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ö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sztrogén-hiány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miat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mlők, a méh, a méhnyak, a hüvely visszafejlődése következik 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őrnövési rendellenesség alakul ki, a mellékvesekéreg androgénjeinek túlsúlya révé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50920" y="3429000"/>
          <a:ext cx="8713800" cy="297036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ertásban a szőrszálakra jellemző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imaxban a szőrszálakra jellemző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sza, színe megváltoz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vastagsz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égtagokon alakul ki változá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jusz, szakáll vonalában alakul ki változ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rendellenesség átmeneti jelleg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rendellenesség állandósu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őkítés javaso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iláció és epiláció javaso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43164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jrendellenességek alakulnak k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Őszülés (can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jvégek töredezése (Trichoptilo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jszálak sorvad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jhul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igmentrendellenesség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Öregkori szeplő (ephelides senile)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zervezet disszimilációs anyagcsere-folyamatainak túlsúlyba jutásával magyarázhat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ötétebb foltok felett a hám sorvadása (atrophia) figyelhető me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48320" y="1197000"/>
            <a:ext cx="4316400" cy="397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Chloasma (májfolt)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különböző okokra visszavezethető, szimmetrikusan az arcon jelentkező összefolyásra hajlamos barnás foltok, melyek nyáron a fokozott UV sugárzás miatt sötétedne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betegség oka a melanociták fokozott pigment-termelé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Melanózisok –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vegyi hatások által okozott pigment-rendellenességek. Létrejöttét minden esetben enyhébb vagy súlyosabb mértékű bőrgyulladás előzheti meg.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bőr daganatos elváltozás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ösztrogén hormonok jelenléte a szervezetben bizonyítottan a daganatok képződésének lehetőségeit csökken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limaxban azonban az ösztrogének termelődése folyamatosan csökken, majd megszűnik, ezért a daganatos elváltozások veszélye is folyamatosan növekedh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Fibroma (rostdagan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Fibroma durum (kemény fibroma) -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vastagodott kollagén nyalábok által alkotott, tömött tapintású félgömbszerű dagan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Fibroma pedulum (lágy fibroma) –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tőszövetes sejtekből és kollagén rostokból áll, puha tapintású, gyakran kocsányon lógó kötőszöveti burjánzás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633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5:33:34Z</dcterms:created>
  <dc:creator>Nóri és Tomi</dc:creator>
  <dc:description/>
  <dc:language>en-US</dc:language>
  <cp:lastModifiedBy>Nóri és Tomi</cp:lastModifiedBy>
  <dcterms:modified xsi:type="dcterms:W3CDTF">2007-01-27T07:29:22Z</dcterms:modified>
  <cp:revision>14</cp:revision>
  <dc:subject/>
  <dc:title>Klimax és menopausa </dc:title>
</cp:coreProperties>
</file>