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1AB7A-A560-44C7-AB9B-6280C49FC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5D9E2-5031-45EE-8FA3-856145CAE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586AB-DCFD-49C5-90DA-FDF8702AF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BF66D-DB5B-4599-A1BC-65980FB62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879F9-023A-4BCF-9DF9-7220973F0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E7247-DA49-4CF3-9336-7B18294B0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F2BF5-36BB-42FD-A992-54735DE91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679A4-ED7A-478D-A161-1A2C02730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D053C-D5FF-46B5-B7D4-CCF14E319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4A7FA-7676-47F5-A562-7191C04F9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6CCBC-41EE-41EA-8699-0B386E862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45AF4-8319-4441-8709-FFDD93452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01467-DF32-452B-8C38-744A8D9D8E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000" y="2130120"/>
            <a:ext cx="842652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BŐRTÍPUSOK JELLEMZÉ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9280" y="333000"/>
            <a:ext cx="8715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A bőr zsírtartalmát a termelt faggyú és a ceramidok mennyisége határozza me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0" y="1773360"/>
          <a:ext cx="8964720" cy="4037040"/>
        </p:xfrm>
        <a:graphic>
          <a:graphicData uri="http://schemas.openxmlformats.org/drawingml/2006/table">
            <a:tbl>
              <a:tblPr/>
              <a:tblGrid>
                <a:gridCol w="1778040"/>
                <a:gridCol w="1968480"/>
                <a:gridCol w="1836720"/>
                <a:gridCol w="1692360"/>
                <a:gridCol w="1689120"/>
              </a:tblGrid>
              <a:tr h="155160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GGYÚTERMELŐDÉS SZERINT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452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RMÁL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IPIKUS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ZEBORREÁ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40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ÉRSÉKELTEN ALIPIKUS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KOZOTTAN ALIPIKU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LAJOS SZEBORRE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RPÁS SZEBORRE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435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bőr alaptípusainak jellemzése zsír és víztartalom alapjá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179280" y="907920"/>
          <a:ext cx="8713800" cy="5545080"/>
        </p:xfrm>
        <a:graphic>
          <a:graphicData uri="http://schemas.openxmlformats.org/drawingml/2006/table">
            <a:tbl>
              <a:tblPr/>
              <a:tblGrid>
                <a:gridCol w="1871640"/>
                <a:gridCol w="2486160"/>
                <a:gridCol w="2178000"/>
                <a:gridCol w="2178000"/>
              </a:tblGrid>
              <a:tr h="1462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bőrtípus ne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faggyúmirigyek tevékenysége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hám víztartalma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z irha víztartalma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rmál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timáli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timáli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timáli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4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ipikus</a:t>
                      </a:r>
                      <a:r>
                        <a:rPr b="0" lang="hu-H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sökkent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vesebb a normálisnál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gfelelő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zeborreás</a:t>
                      </a:r>
                      <a:r>
                        <a:rPr b="0" lang="hu-H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kozott, a faggyú minősége is eltér a normálistól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vesebb a normálisnál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gfelelő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hidratált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gfelelő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vesebb a normálisnál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vesebb a normálisnál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perhidra-tált</a:t>
                      </a:r>
                      <a:r>
                        <a:rPr b="0" lang="hu-H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áltoz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áltoz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öbb a normálisná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179280" y="260280"/>
            <a:ext cx="878544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bőr szarurétegében található bőrfelszíni emulzió (bőrfelszíni lipid), hidrofób, védő szerepet játszik az egyes anyagok fellazító hatásával szemben, de gátolja a hám nagymértékű láthatatlan vízleadásá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Ha a keratin hidratációja nem tökéletes, az optimális összetételű bőrfelszíni lipid kialakulása – a nem megfelelő faggyútermelődés és szaruképzés miatt – gátolt, </a:t>
            </a: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felszíni vízhiányos bőrök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keletkeznek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Felszíni vízhiány kialakulhat a normál bőrtípus kivételével bármelyik bőrtípus kísérőjeként, de kialakulásának okai eltérők lehetne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250560" y="333360"/>
            <a:ext cx="871380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Kozmetikai készítmény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: minden olyan anyag vagy készítmény, amely állandó összetételű és rendeltetésszerű felhasználás körülményei közöt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z emberi egészségre ártalmatl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z emberi testtel (bőr, szőrzet, köröm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szemkörnyéke, ajak) külsőleg kerül érintkezésb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tisztít, illatosít, véd, ápol és szépí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kellemetlen tünetek enyhítését, a regenerációs folyamatok gyorsítását, egyes egészségi ártalmak megelőzését, esztétikai jellegű bőrelváltozások ápolását szolgálj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179280" y="259920"/>
            <a:ext cx="878544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kozmetikai készítményekkel nemcsak a normálbőr és járulékos képletek karbantartása oldható meg, hanem bizonyos kozmetikai jellegű kóros állapotok javítása, gyógyítása 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vízhiányos, zsíros, száraz, seborrhoeás, öregedő bő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c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rosac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lopé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stria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vitili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pigmentfolt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kozmetikai iparban a legkülönbözőbb </a:t>
            </a: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vegyi anyagok 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kerülnek felhasználásr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ví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savak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(bórkősav, citromsav, csersav, ecetsav, tejsav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alkáliá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178920" y="189000"/>
            <a:ext cx="871380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lúg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oxidáló anyagok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(H2O2, benzoil peroxi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konzerváló szer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antiszeptikumok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(bórsav, béta naftol, klioklinolin, hexakloroform, rezorcin, szalicilsav stb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zsírok és zsírszerű anyagok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(avokádo-, búzacsíra-, földimogyoró-, jojoba-, kukorica-, len-, mandula-, olíva-, ricinus-, szezám-, cet-, csukamáj-olaj, kókuszzsír, kakaóvaj, faggyú, lanolin, méhviasz, propolisz, sertészsír), ásványi zsiradékok (paraffin, vazelin), zsíralkoholok (laurin-alkohol, palmitinsav), szintetikus zsíranyagok (szkvalán, izopropil-mirisztá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szilícium-vegyületek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(bentonit, kaolin, szilikonok, illékony szilikon olajok, talk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fémvegyületek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(alumínium, bizmut, vas-klori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itaminok 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(A, B, C, D, E, F, D-panteno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fehérjék</a:t>
            </a:r>
            <a:r>
              <a:rPr b="0" lang="hu-HU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(elasztin, kollagén, zselati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szénhidrát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alkoholok 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(etanol, propil-alkohol, gliceri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bőrtípusok általános jellemzé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8715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z emberi bőr anatómiai és élettani tulajdonságai alapjaiban mindenkinél azonosa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gyakorlatban tapasztalható, hogy a bőr külső adottságai (pl. színe, fénye, tapintása, stb.) egyénenként igen változatosak lehetne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mechanikai-, vegyi-, hő- és fényhatásokkal szemben a különböző emberek bőre különböző módon viselkedi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pasztalható, hogy a kisebb-nagyobb mértékű eltérések ellenére, számos egyén bőrének lényeges tulajdonságai megegyeznek egymáss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zeket a rokon tulajdonságaik miatt közös csoportba sorolható bőröket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aptípusokna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evezzü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AGNOSZTIZÁLÁ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79280" y="1268280"/>
            <a:ext cx="8715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agnosztizálá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- 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ünete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egállapítását követő alap-bőrtípusok  megkülönbözteté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ünet -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z adott bőrtípusra jellemző, bőrön látható, és vendég által tapasztalt, de nem látható elváltozások összességé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tünetek lehetne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jektív tünet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zubjektív tünet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79280" y="259920"/>
            <a:ext cx="8715600" cy="619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Objektív tünetek – 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zok a tünetek, amelyeket a kozmetikus látás és tapintás útján önmaga is észle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Ha látással való vizsgálat nagyító, Wood-lámpa használatával történik, sokkal biztonságosabban végezhető az egyes bőrtípusok egymástól való elkülöníté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800" spc="-1" strike="noStrike">
                <a:solidFill>
                  <a:srgbClr val="000000"/>
                </a:solidFill>
                <a:latin typeface="Arial"/>
              </a:rPr>
              <a:t>Wood-lámp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Csökkentett fényerősségű UV sugarakat bocsát k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Nagyítót tartalmaz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Segítségével jobban látszanak a bőr pórusai, a mélyen ülő komedók, a bőrben lejátszódó, de szabad szemmel nem észlelhető gyulladásos folyamato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252000" y="189000"/>
            <a:ext cx="889164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800" spc="-1" strike="noStrike" u="sng">
                <a:solidFill>
                  <a:srgbClr val="000000"/>
                </a:solidFill>
                <a:uFillTx/>
                <a:latin typeface="Arial"/>
              </a:rPr>
              <a:t>Látással észlelhető tünetek</a:t>
            </a:r>
            <a:r>
              <a:rPr b="0" i="1" lang="hu-HU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Pórusok átmérő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bőr szí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bőr fény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Komedó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Gyulladásos folyamat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Szőrnövési rendellenesség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Szaruképzési rendellenesség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Pigment rendellenesség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Keringési zavar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Elsődleges-, másodlagos elemi elváltozás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Szövetszaporulat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79280" y="404280"/>
            <a:ext cx="8785440" cy="619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 u="sng">
                <a:solidFill>
                  <a:srgbClr val="000000"/>
                </a:solidFill>
                <a:uFillTx/>
                <a:latin typeface="Arial"/>
              </a:rPr>
              <a:t>Tapintással észlelhető tünetek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Bársonyos, sima vagy érdes, durva tapintású – a keratin hidratáltsága határozza me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Hidratáltsága- az apró ráncok megjelenésekor nem tökéle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Rugalmassága – a faggyú- és szarutermeléstől függ, a bőrfelszíni emulzió biztosítj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Ha nagyobb területen befogjuk a bőrt vagy rugalmas vagy kocsonyásan nyúlós, mivel az irha papillái eltérő tömöttségűek, az izomtónus és az irha víztartalma eltérő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Szőrnövési rendellenessége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Tum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252000" y="333000"/>
            <a:ext cx="871236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zubjektív tünete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zok a tünetek, amelyeket a kozmetikus célirányos kérdéseire a vendég maga mond 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gyan viselkedik a bőr a környezeti hatásokra (időjárás, mosdás)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lyen kozmetikumokat haszná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gyan reagál a bőre ezekr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nyit tartózkodik szabad levegő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lyen a munkahely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áltozatos-e az étrendj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lyen az egészségi állapot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zik-e elegendő folyadéko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kérdésekre adott válaszok alapján kiválaszthatja az adott bőrtípus ápolásához a megfelelő és elvégezhető műveleteket, tanácsot adhat a bőr házi ápolására, a vendég életmódjának változtatására, egészségi állapotának gyógyászati ellenőrzésé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 bőrtípusok csoportosítás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79280" y="1412640"/>
            <a:ext cx="87156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 tipizálásnak mindig meg van az a veszélye, hogy utána mereven ragaszkodunk a felállított kategóriákhoz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indenek előtt tudatosítanunk kell, hogy a bőr típusánál nem elégedhetünk meg az egyszeri meghatározás eredményével, mivel mindig a bőr aktuális állapotát kell figyelembe venni, ami az egészségi állapottól, az évszakoktól és egyéb környezeti hatásoktól, továbbá az életkortól is füg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em is beszélve arról, hogy ugyanazon ember különböző testtájain is lehet a bőr más és más tulajdonság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2000" y="188640"/>
            <a:ext cx="871236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bőr víztartalmát a bőr sejtjeinek és rostjainak vízmegkötő képessége, hidratációja határozza meg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324000" y="2637000"/>
          <a:ext cx="8569080" cy="2611440"/>
        </p:xfrm>
        <a:graphic>
          <a:graphicData uri="http://schemas.openxmlformats.org/drawingml/2006/table">
            <a:tbl>
              <a:tblPr/>
              <a:tblGrid>
                <a:gridCol w="1726920"/>
                <a:gridCol w="2449800"/>
                <a:gridCol w="2158920"/>
                <a:gridCol w="2233440"/>
              </a:tblGrid>
              <a:tr h="71748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DRATÁCIÓ SZERINT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018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RMÁL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HIDRATÁLT (VÍZHIÁNYO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PERHIDRATÁLT (ÖDÉMÁS)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2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LSZÍNI VÍZHIÁNYO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ÉLYRÉTEGI VÍZHIÁNYO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25T20:41:02Z</dcterms:created>
  <dc:creator>Nóri és Tomi</dc:creator>
  <dc:description/>
  <dc:language>en-US</dc:language>
  <cp:lastModifiedBy>Nóri és Tomi</cp:lastModifiedBy>
  <dcterms:modified xsi:type="dcterms:W3CDTF">2006-09-29T17:06:28Z</dcterms:modified>
  <cp:revision>12</cp:revision>
  <dc:subject/>
  <dc:title>A BŐRTÍPUSOK JELLEMZÉSE</dc:title>
</cp:coreProperties>
</file>