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8AB-FE6C-4FE6-8052-1C216E36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515-9592-4746-A9F3-3E261255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729-9544-4047-B313-6EBC5A68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395-8A1D-41EE-ACEE-522D7C40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8D7-8C49-41A3-8E59-C929A41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CC3-EDCA-4D5C-9EAE-3019864E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091-BCA0-439A-A009-FF69630F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BDC-D252-4448-8127-35018244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43C-D086-4A95-AB7D-B0A28841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B1A-D0E2-4446-838A-FD1DDEC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57D-0451-48EA-8DE2-EDA8E3E2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7CD-BAC5-4A8A-A902-4429A621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1C28-5905-49F9-A99E-E3558930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26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ŐRTÍPUSOK JELLEM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15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őr zsírtartalmát a termelt faggyú és a ceramidok mennyisége határozza m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773360"/>
          <a:ext cx="8964720" cy="4037040"/>
        </p:xfrm>
        <a:graphic>
          <a:graphicData uri="http://schemas.openxmlformats.org/drawingml/2006/table">
            <a:tbl>
              <a:tblPr/>
              <a:tblGrid>
                <a:gridCol w="1778040"/>
                <a:gridCol w="1968480"/>
                <a:gridCol w="1836720"/>
                <a:gridCol w="1692360"/>
                <a:gridCol w="1689120"/>
              </a:tblGrid>
              <a:tr h="1551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GGYÚTERMELŐDÉS SZERI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5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IKU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BORRE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RSÉKELTEN ALIPIKU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AN ALIPIK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AJOS SZEBOR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PÁS SZEBOR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őr alaptípusainak jellemzése zsír és víztartalom alapj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9280" y="907920"/>
          <a:ext cx="8713800" cy="5545080"/>
        </p:xfrm>
        <a:graphic>
          <a:graphicData uri="http://schemas.openxmlformats.org/drawingml/2006/table">
            <a:tbl>
              <a:tblPr/>
              <a:tblGrid>
                <a:gridCol w="1871640"/>
                <a:gridCol w="2486160"/>
                <a:gridCol w="2178000"/>
                <a:gridCol w="2178000"/>
              </a:tblGrid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őrtípus n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ggyúmirigyek tevékenység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ám víztartalm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irha víztartalm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ikus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ökk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felel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borreás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, a faggyú minősége is eltér a normálistó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felel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idratál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felel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hidra-tált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toz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toz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öbb a normális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szarurétegében található bőrfelszíni emulzió (bőrfelszíni lipid), hidrofób, védő szerepet játszik az egyes anyagok fellazító hatásával szemben, de gátolja a hám nagymértékű láthatatlan vízlead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 keratin hidratációja nem tökéletes, az optimális összetételű bőrfelszíni lipid kialakulása – a nem megfelelő faggyútermelődés és szaruképzés miatt – gátolt,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lszíni vízhiányos bőrö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eletkez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színi vízhiány kialakulhat a normál bőrtípus kivételével bármelyik bőrtípus kísérőjeként, de kialakulásának okai eltérők lehet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ozmetikai készítmé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minden olyan anyag vagy készítmény, amely állandó összetételű és rendeltetésszerű felhasználás körülményei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beri egészségre ártalmat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beri testtel (bőr, szőrzet, körö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környéke, ajak) külsőleg kerül érintkezés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sztít, illatosít, véd, ápol és szép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llemetlen tünetek enyhítését, a regenerációs folyamatok gyorsítását, egyes egészségi ártalmak megelőzését, esztétikai jellegű bőrelváltozások ápolását szolgál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zmetikai készítményekkel nemcsak a normálbőr és járulékos képletek karbantartása oldható meg, hanem bizonyos kozmetikai jellegű kóros állapotok javítása, gyógyítása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ízhiányos, zsíros, száraz, seborrhoeás, öregedő 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c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s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opé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i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til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gmentfol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zmetikai iparban a legkülönbözőbb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gyi anyago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rülnek felhasználás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ava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bórkősav, citromsav, csersav, ecetsav, tejsav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kál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ú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xidáló anyag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H2O2, benzoil per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zerváló 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ntiszeptikum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bórsav, béta naftol, klioklinolin, hexakloroform, rezorcin, szalicilsav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zsírok és zsírszerű anyag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vokádo-, búzacsíra-, földimogyoró-, jojoba-, kukorica-, len-, mandula-, olíva-, ricinus-, szezám-, cet-, csukamáj-olaj, kókuszzsír, kakaóvaj, faggyú, lanolin, méhviasz, propolisz, sertészsír), ásványi zsiradékok (paraffin, vazelin), zsíralkoholok (laurin-alkohol, palmitinsav), szintetikus zsíranyagok (szkvalán, izopropil-miriszt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ilícium-vegyület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bentonit, kaolin, szilikonok, illékony szilikon olajok, talk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émvegyület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umínium, bizmut, vas-klo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tamino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A, B, C, D, E, F, D-panten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ehérjék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elasztin, kollagén, zselat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énhidrá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koholo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etanol, propil-alkohol, glicer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őrtípusok általános jellemz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15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mberi bőr anatómiai és élettani tulajdonságai alapjaiban mindenkinél azonos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yakorlatban tapasztalható, hogy a bőr külső adottságai (pl. színe, fénye, tapintása, stb.) egyénenként igen változatosak lehet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kai-, vegyi-, hő- és fényhatásokkal szemben a különböző emberek bőre különböző módon viselke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asztalható, hogy a kisebb-nagyobb mértékű eltérések ellenére, számos egyén bőrének lényeges tulajdonságai megegyeznek egym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eket a rokon tulajdonságaik miatt közös csoportba sorolható bőrök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ptípusok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zz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ZTIZ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15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ztizál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ünet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gállapítását követő alap-bőrtípusok  megkülönböztet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ünet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z adott bőrtípusra jellemző, bőrön látható, és vendég által tapasztalt, de nem látható elváltozások összesség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ünetek lehet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ktív 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ubjektív 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15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Objektív tünetek –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ok a tünetek, amelyeket a kozmetikus látás és tapintás útján önmaga is ész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látással való vizsgálat nagyító, Wood-lámpa használatával történik, sokkal biztonságosabban végezhető az egyes bőrtípusok egymástól való elkülönít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Wood-lá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ökkentett fényerősségű UV sugarakat bocsát 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ítót tartal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ítségével jobban látszanak a bőr pórusai, a mélyen ülő komedók, a bőrben lejátszódó, de szabad szemmel nem észlelhető gyulladásos folyama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891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Látással észlelhető tünetek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órusok átmérő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szí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fén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ed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ulladásos folyam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őrnövési 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ruképzési 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igment 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ringési zava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sődleges-, másodlagos elemi elváltoz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övetszaporu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apintással észlelhető tün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ársonyos, sima vagy érdes, durva tapintású – a keratin hidratáltsága határozza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dratáltsága- az apró ráncok megjelenésekor nem tökél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ugalmassága – a faggyú- és szarutermeléstől függ, a bőrfelszíni emulzió biztosít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nagyobb területen befogjuk a bőrt vagy rugalmas vagy kocsonyásan nyúlós, mivel az irha papillái eltérő tömöttségűek, az izomtónus és az irha víztartalma eltér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őrnövési rendellenesség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2000" y="333000"/>
            <a:ext cx="871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ubjektív tünet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zok a tünetek, amelyeket a kozmetikus célirányos kérdéseire a vendég maga mond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gyan viselkedik a bőr a környezeti hatásokra (időjárás, mosdá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kozmetikumokat haszná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gyan reagál a bőre ezek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nyit tartózkodik szabad levegő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a munkahely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áltozatos-e az étrend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az egészségi állapo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zik-e elegendő folyadék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érdésekre adott válaszok alapján kiválaszthatja az adott bőrtípus ápolásához a megfelelő és elvégezhető műveleteket, tanácsot adhat a bőr házi ápolására, a vendég életmódjának változtatására, egészségi állapotának gyógyászati ellenőrzésé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bőrtípusok csoporto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15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tipizálásnak mindig meg van az a veszélye, hogy utána mereven ragaszkodunk a felállított kategóriákh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denek előtt tudatosítanunk kell, hogy a bőr típusánál nem elégedhetünk meg az egyszeri meghatározás eredményével, mivel mindig a bőr aktuális állapotát kell figyelembe venni, ami az egészségi állapottól, az évszakoktól és egyéb környezeti hatásoktól, továbbá az életkortól is füg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m is beszélve arról, hogy ugyanazon ember különböző testtájain is lehet a bőr más és más tulajdonság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88640"/>
            <a:ext cx="8712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őr víztartalmát a bőr sejtjeinek és rostjainak vízmegkötő képessége, hidratációja határozza meg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2637000"/>
          <a:ext cx="8569080" cy="2611440"/>
        </p:xfrm>
        <a:graphic>
          <a:graphicData uri="http://schemas.openxmlformats.org/drawingml/2006/table">
            <a:tbl>
              <a:tblPr/>
              <a:tblGrid>
                <a:gridCol w="1726920"/>
                <a:gridCol w="2449800"/>
                <a:gridCol w="2158920"/>
                <a:gridCol w="2233440"/>
              </a:tblGrid>
              <a:tr h="71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ATÁCIÓ SZERINT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IDRATÁLT (VÍZHIÁNY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HIDRATÁLT (ÖDÉMÁS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SZÍNI VÍZHIÁNY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LYRÉTEGI VÍZHIÁNY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41:02Z</dcterms:created>
  <dc:creator>Nóri és Tomi</dc:creator>
  <dc:description/>
  <dc:language>en-US</dc:language>
  <cp:lastModifiedBy>Nóri és Tomi</cp:lastModifiedBy>
  <dcterms:modified xsi:type="dcterms:W3CDTF">2006-09-29T17:06:28Z</dcterms:modified>
  <cp:revision>12</cp:revision>
  <dc:subject/>
  <dc:title>A BŐRTÍPUSOK JELLEMZÉSE</dc:title>
</cp:coreProperties>
</file>