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101-9492-4AD9-A207-E58EE62E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52D-8368-46EE-BBCA-FF713168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EEB-02B2-48AD-9EF8-B9B4F02B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DCC-06DE-418E-BE3D-9247AC3E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88E-D61D-4B0E-9343-7E915515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289-9B43-4696-B919-BC913F2A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475-94DA-4B05-8D3E-5904C077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742-7B46-4A8B-B534-EB35095D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4D7-83FF-4E55-93EE-41DFCDDF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B46-F93F-490A-96EB-65C8F50C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B58-8F9B-4B23-80F9-6234F0C5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AF2-1797-436B-AC1A-420EADB5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1143-AF09-46AA-B17F-5A6C93A84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őr öregedésével járó elváltoz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4248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Cornu cutan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42447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aecancerosus állap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ép bőr felszínéből kiemelkedő 2-3 cm keratotikus növedék (az állatok szarvára emlékeztet, innen a ne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ő előfordulási területek: fülek, fejtető, kézfej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övettanilag hyperkeratózis és parakeratózis jellemzi, az epdermisz megvastagodott, atípiás sejteket tartalm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kszor squamosus sejtproliferáció figyelhető meg a hámb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7480" y="2421000"/>
            <a:ext cx="327816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eratoacanthoma (molluscum sebace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aecancerosis álla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-2 cm átmérőjű, gyorsan növő, félgömbszerűen kiemelkedő, közepén kráter módjára besüppedt, szarumasszát tartalmazó tumor, rendszerint szo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ig fedetlen testrészen fordul el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0-20 %-uk átalakul carcinomáv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arucsapot körülvevő bőrlebeny hegesedése révén, 4-6 héten belül spontán is gyógyul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zelése: sebészi kimetsz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79200"/>
            <a:ext cx="8713800" cy="658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4316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bbszörös, 0,5 cm átmérőjű, enyhén kiemelkedő, középen behúzódott sárga színű göbcsé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borrhoeás idősebb (60  év feletti) férfiak homlokán gyak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Naevus sebaceus seni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2808360" cy="25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Arial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ngiomák (érdaganat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ubin naevus (angioma sen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őleg idősebb korban leggyakrabban a törzsön nagyobb számban kialakuló rubinpiros képlet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les határú, 1-3 mm átmérőjű, mérsékelten kiemelkedő, sima felszínű tumorocská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ág kapillárisokból kialakult vérrel telt üreg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jbetegséghez is társul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eprűvénák (csillag alakú véná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középső tágultabb, felületes bőr-vénába csillag alakban összefutó hajszálvékony bőr-vénácská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ulajdonképpen apró varixok, főleg a lábszáron és a combon helyezkednek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regkorban főleg nőkön jellemzőek, nincs jelentőségü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aevus araneusnál nagyobbak és kék színű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961080" cy="666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ervezet öregedésével a bőrön számos olyan elváltozás jön létre, amelyek kisebb-nagyobb foltokban minden 70. életéven túl levő egyénen megtalálhatók, sőt sokszor jóval előbb jelentkezne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zek fiziológiásnak tekinthető jelenség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nak továbbá olyan bőrbetegségek, melyek csaknem kizárólag idősebb korban fordulnak el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Arial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Elastosi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lastosis cystica et comed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emhéjakon és periorbitálisan nagyszámú fekete comedo alakul ki, köztük néhány sárgásan áttűnő faggyú-cy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őr ezeken a területeken megvastagodott, egyenetlen felszín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cne ezeket a comedokat soha nem kísé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élet folyamán a bőrt ért UV sugárzás késői következményeként fellépő degeneratív elváltoz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63440"/>
            <a:ext cx="8964720" cy="646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Bőrsorvadás (Atroph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trophia cutis seni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ám és az irha elvékonyodik. A bőr sima, fénylő, finoman ráncolható, cigarettapapírszerűen elvékonyodo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iziológiásnak tekinthető, mindennapos jelensé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bőr víztartalma nagymértékben csökken. A verejték-elválasztás csökken, a bőrfelszín száraz, néha finoman korpázva háml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áraz bőr kínzóan viszket (pruritus senilis), ez télen száraz levegőjű szobában fokozód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áraz bőr alól a vénák jól előtűnnek, sokszor kötélszerű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rpurák kis traumára könnyen kialakulhat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akoriak a pigmentzavarok: körülírt vagy diffúz, hiperpigmentált vagy depigmentált foltok váltakoznak, főleg kézháton vagy az alka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őrzet erősen megritkul vagy teljesen ki is hull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11280" y="1749600"/>
            <a:ext cx="4465800" cy="3265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4358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övettanila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ám néhány sejtsornyira elvékonyodot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paillák lapos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rugalmas rostrendszer megritk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ollagénrostok elvékonyodn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ullámos lefutású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faggyúmirigyek és a follikulusok atrophiásak vagy hiányzan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Öregkori dagan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erruca seborrhoica (Verruca senilis, öregkori szemö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-5 cm átmérőjű, halványbarna- fekete, lapos papilomatosus, éles szélű, hiperkeratotikus felszínű, ártalmatlan növedékek, sokszor kocsányszerű keskenyebb nyéllel ülnek a bőr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ulladásos udvar általában nem övezi a jelensé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50. életév körül kezdenek fokozatosan megjelenni és szaporodni, nagyon gyako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itkán szinte az egész törzs bőrét ellep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övettani képe acanthosist, papilomatosist, mérsékelt hiperketathosist mu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08000"/>
            <a:ext cx="8713800" cy="65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eratosis senilis (Keratoma sen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élet folyamán elszenvedett krónikus napfénykárosodás hatására létrejött praecancerosus körülírt hám-hyperpl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vagy több 0,5-3 cm átmérőjű, halványvörös vagy sárgásbarna, kerek vagy ovális, lapos, mérsékelten éles szélű, kissé kiemelkedő, tömött tapintatú, egyenetlen, hyperkeratotikus felszínű pap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pidermis alsó részében atípusos sejtproliferációt figyelhetünk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találhatók a homlokon, fejtetőn, orrháton, fülkagylón, orcák, nyakkivágás, dekoltázs, kézhá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666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17:46:38Z</dcterms:created>
  <dc:creator>Nóri és Tomi</dc:creator>
  <dc:description/>
  <dc:language>en-US</dc:language>
  <cp:lastModifiedBy>Nóri és Tomi</cp:lastModifiedBy>
  <dcterms:modified xsi:type="dcterms:W3CDTF">2006-12-16T22:03:01Z</dcterms:modified>
  <cp:revision>9</cp:revision>
  <dc:subject/>
  <dc:title>A bőr öregedésével járó elváltozások</dc:title>
</cp:coreProperties>
</file>