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77DAB-4305-43C5-9F7C-5FEB53E26194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hyperlink" Target="http://hu.wikipedia.org/w/index.php?title=Tulajdon&amp;action=edit" TargetMode="External"/><Relationship Id="rId2" Type="http://schemas.openxmlformats.org/officeDocument/2006/relationships/hyperlink" Target="http://hu.wikipedia.org/w/index.php?title=Termel&#337;szk&#246;z&amp;action=edit" TargetMode="External"/><Relationship Id="rId3" Type="http://schemas.openxmlformats.org/officeDocument/2006/relationships/hyperlink" Target="http://hu.wikipedia.org/wiki/&#193;llam" TargetMode="External"/><Relationship Id="rId4" Type="http://schemas.openxmlformats.org/officeDocument/2006/relationships/hyperlink" Target="http://hu.wikipedia.org/wiki/Isten" TargetMode="External"/><Relationship Id="rId5" Type="http://schemas.openxmlformats.org/officeDocument/2006/relationships/hyperlink" Target="http://hu.wikipedia.org/wiki/1846" TargetMode="External"/><Relationship Id="rId6" Type="http://schemas.openxmlformats.org/officeDocument/2006/relationships/hyperlink" Target="http://hu.wikipedia.org/wiki/Gazdas&#225;g" TargetMode="External"/><Relationship Id="rId7" Type="http://schemas.openxmlformats.org/officeDocument/2006/relationships/slide" Target="../slides/slide16.xml"/><Relationship Id="rId8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hyperlink" Target="http://hu.wikipedia.org/wiki/1983" TargetMode="External"/><Relationship Id="rId2" Type="http://schemas.openxmlformats.org/officeDocument/2006/relationships/hyperlink" Target="http://hu.wikipedia.org/wiki/1984" TargetMode="External"/><Relationship Id="rId3" Type="http://schemas.openxmlformats.org/officeDocument/2006/relationships/hyperlink" Target="http://hu.wikipedia.org/wiki/1983" TargetMode="External"/><Relationship Id="rId4" Type="http://schemas.openxmlformats.org/officeDocument/2006/relationships/hyperlink" Target="http://hu.wikipedia.org/wiki/1984" TargetMode="External"/><Relationship Id="rId5" Type="http://schemas.openxmlformats.org/officeDocument/2006/relationships/slide" Target="../slides/slide17.xml"/><Relationship Id="rId6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hyperlink" Target="http://hu.wikipedia.org/wiki/Evol&#250;ci&#243;" TargetMode="External"/><Relationship Id="rId2" Type="http://schemas.openxmlformats.org/officeDocument/2006/relationships/hyperlink" Target="http://hu.wikipedia.org/w/index.php?title=Kommuna&amp;action=edit" TargetMode="External"/><Relationship Id="rId3" Type="http://schemas.openxmlformats.org/officeDocument/2006/relationships/hyperlink" Target="http://hu.wikipedia.org/wiki/Tudom&#225;ny" TargetMode="External"/><Relationship Id="rId4" Type="http://schemas.openxmlformats.org/officeDocument/2006/relationships/slide" Target="../slides/slide18.xml"/><Relationship Id="rId5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z anarchizmus az a társadalmi elmélet, amely az egyéni felelősségtudat szerepét állítja előtérbe bármifajta uralommal szemb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uralomnélkülisé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mely alatt "azon társadalmi rendet kell értenünk, mely minden külső hatalom és erőszak nélkül, tisztán az emberek szabad, testvéri együttélésén alapul. Az erőszakon épülő uralmi rendszer helyett, mely a tulajdon, a jog és állam kényszerintézményeiben nyer kifejezést, az anarchikus társadalom formái az emberek természetében rejlő szolidaritás és az ebből folyó szabadság, egyenlőség és önkéntes összeműködés által jönnek létre."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z anarchizmus politikai ideológiaként a 18. század végén jelent meg Európába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d a 19. század első felében bontakozott ki, terjedt el nagyobb mértékben, s a száza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özepére már jelentős hatást gyakorolt a politikai életre. Eszmetörténetileg elsősorban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lvilágosodásból (racionalizmus), a romantikából, a pozitivizmusból és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eszténységből merített, később hatott rá az evolucionizmus 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z anarchizmus a konzervativizmus elleni harcban született meg, későb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zembekerült a kor más ideológiáival is. Első képviselői számára eszmeileg a franc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radalom hármas jelszava, a Szabadság, Egyenlőség, Testvériség jelentette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indulópont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William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Godwin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(1756–1836), az első anarchista, 1793-ban megjelent könyvében [Vizsgálódás a politika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igazságosságról és annak a közerkölcsre és a boldogságra gyakorolt hatásáról] fejtette 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először a kibontakozó új ideológia alapjait, s vette védelmébe a kormányzati hatal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ellen fellázadó forradalmárokat. Nézeteiben ugyanakkor már megtalálhatók azok az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elemek is, amelyek az anarchizmust később a liberalizmussal is szembefordítják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Godwin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 a felvilágosodás racionalista eszméinek hatása alatt rendkívül radikáli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következtetésekre jutott: elutasította az állami erőszakot az egyén szab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véleményalkotásával szemben, mivel a szabadság, az önkibontakoztatás egyik f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akadályát látta benne. A társadalmat a jogi-politikai elnyomó hatalommal szemben ki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közösségek, autonóm egységek laza konglomerátumává szerette volna változtatni. Eg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évvel könyve megjelenése után, 1794-ben egy kicsiny csoport Észak-Amerikába utazo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(közöttük a két neves költő: Wordsworth és Coleridge), hogy elképzeléseit valóra válts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vállalkozásuk azonban kudarcot vallot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": az anarchizmus elméletének egyik megalkotója és legnagyobb hatású képviselőj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1840-ben megjelent „Mi a tulajdon?” című könyve. Szerinte a </a:t>
            </a:r>
            <a:r>
              <a:rPr b="0" lang="hu-HU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ulajdon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lopás, mivel nem saját munkán és a méltányos cserén alapul, hanem a </a:t>
            </a:r>
            <a:r>
              <a:rPr b="0" lang="hu-HU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ermelőszközök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tulajdonosainak monopolhelyzetén, amely az idegen munka jogtalan kisajátítását eredményezi, és egyenlőtlen cserét tesz lehetővé. A magántulajdon elutasításának gondolatából következik minden tekintély, főként az </a:t>
            </a:r>
            <a:r>
              <a:rPr b="0" lang="hu-HU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állam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és </a:t>
            </a:r>
            <a:r>
              <a:rPr b="0" lang="hu-HU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Isten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elutasítása. Proudhon szerint a kormányzás valódi formája az anarch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1846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-ban jelent meg a </a:t>
            </a:r>
            <a:r>
              <a:rPr b="0" lang="hu-HU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gazdasági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kérdésekkel foglalkozó „A gazdasági ellentmondások rendszere vagy a nyomor filozófiája” című köny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Proudhon szavaival - amely számunkra József Attila költői megfogalmazásában ismerős - a "szabadság szüli a rendet", nem pedig a rend teremti a szabadság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Gyóná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Európa,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1983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Államiság és anarchi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Két párt harca a Nemzetközi Munkásszövetségben (Gondolat,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1984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)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Gyóná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Európa,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1983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Államiság és anarchi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Két párt harca a Nemzetközi Munkásszövetségben (Gondolat,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1984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ézetei szerint az államhatalom a kényszer és erőszak megtestesítője, pedig a kölcsönös segítségnyújtáson alapuló társulások nemcsak lehetségesek, de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volúciós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szempontból magasabb rendűek is. Olyan decentralizált társadalom volt az eszmeképe, amelyben önálló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kommunák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egyesítik a városi civilizáció és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tudományos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alapú mezőgazdaság előnye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modern társadalom kialakulásától kezdődően 3 fő eszmeáramlat és rájuk épülő politikai ideológia hordozza magában a társadalomalakítás lehetőségeinek a koncepcióját: a liberalizmus, a konzervativizmus és a szocializm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De a domináló politikai eszmerendszerek nem merítik ki a modern politikai eszmék történetét. A modern kor gazdag „izmusokban”. Ezek az „izmusok” vagy áthatják a többieket valamilyen mértékben (nacionalizmus) , vagy pedig olyan partikuláris jelenségek, amelyek sajátos helyzetben lévő társadalmi csoportok ideológiájaként lépnek fel.  Anarchizmus, elit elmélet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z egyetlen és tulajdona" című könyv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vallásos anarchizmus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képviselői közül </a:t>
            </a: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Tolsztoj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az evangéliumi őskereszténység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Schmitt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Jenő Henrik a gnoszticizmus eszméit aktualizálta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míg Martin </a:t>
            </a: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Buber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nek az anarchizmus gondolatkörével érintkező társadalomfilozófiája a judaizmu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Gandhi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é a hinduizmus hagyományát újította me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E törekvések közös jellemzője a teljes erőszaknélküliség hangsúlyozása - szemben más anarchista irányzatokkal, amelyek nem feltétlenül utasítják el a forradalmi erőszak használatá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vallásos anarchizmus erőszaknélküliségét a különböző időszakokban jelentkező pacifista és békemozgalmak is magukévá tették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fogalom az 1920-as és 30-as években közkedveltté vál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nem kis részben annak köszönhetően, hogy alkalmasabbnak látszott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fasiszta mozgalmak uralomra jutásának értelmezésére, mint a marxi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ihletésű osztályelmélet. Ez a magyarázata annak, hogy az elit-teóriá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szülőhazájának mindenekelőtt Olaszország és Németország tekinthet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Maga a szó francia eredetű: az </a:t>
            </a: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élite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kifejezés a 17. században a kitűnő mi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nőségű dolgok jellemzésére szolgált, és csak később nevezték így a társadalom felső, vezető pozícióban levő csoportja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kifejezés társadalomtudományi használatát Gaetano Mosca alapoz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ta meg az 1896-ban megjelent </a:t>
            </a: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Elementi di scienza politica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című könyvé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ben. Kiindulópontja ugyanaz volt, mint a többi elitelmélet szerzőjéé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minden társadalom kisebbségre és többségre, elitekre és tömegekre vá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lik szét. Az előbbiek vezetnek, az utóbbiak engedelmeskednek. A gazda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sági és kulturális pozíciók birtoklásán túl az eliteké a politikai hatalom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elit változást a társadalom új rétegeinek felbukkanása és szerepvállalása okozz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Minden társadalom 2 részre osztható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Kormányzók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Ők monopolizálják a hatalmat, létszámuk kicsi, de előnyökkel rendelkeznek ezért ők az uralkodó osztá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Kormányzottak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Ők vannak többek. A kormányzók irányítása alatt állnak, ez a kormányzás történhet törvényes/erőszakos/önkényes mód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kisebbség azért képes hatalmat gyakorolni, mert szervezett és egységes + mert tagja anyagilag, szellemileg és erkölcsileg előnyösebb helyzetben v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Politikai formula: minden hatalmon lévő csoport legitimációt készít. Az elit erkölcsi és törvényes alapon uralkodi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z elitelmélet másik klasszikusa Vilfredo Pareto volt, aki az 1910-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években írott szociológiai munkájában fejtette ki nézete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Nála az el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fogalmának kettős jelentése van: egyfelől valamely kiemelkedő embe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teljesítmény alanyának minőségét jelzi, másfelől pedig szűkebb ért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lemben az emberi társadalmakat vezető csoportok megnevezése. Pare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ezeknek a csoportoknak a természetét és összetételét, hatalomra kerülé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sük, kormányzásuk és bukásuk okait, valamint törvényszerűségeit k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res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Elveti marxi gazdasági meghatározottságot, tagadja az osztálynélküliség lehetőségé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Elveti a zárt elitcsoportok létét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társadalom egy egyensúlyban lévő rendszer, amelyet a fellépő különböző erők tartanak fen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képességek (= rezíduumok) nem egyenlően oszlanak el egy társadalomban. Minden társ kettéosztható: elitre (ezen belül kormányzó és nem kormányzó elitre) és nem elit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társ tagozódása nem merev, az adott elit nem állandó.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 kontra elit (amelyik képessége alapján tagja lehetne) mindig a hatalom felé tör. Uralmát egyik elit sem őrizheti meg a végtelenségig. Különösen akkor, ha erőteljesen zá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egfogalmazza az elitek cirkulációjának elvét. Az elit körforgása örök törvény.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történelem az arisztokrácia temetőj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Karl Marx és Friedrich Engels közös műve, mely 1848. február 21-én jelent meg először. A világtörténelem legnagyobb hatású és legismertebb politikai szövegei közé tartozik. A kiáltvány szerint a társadalom proletariátusra és burzsoáziára oszlik, a két nagy osztály között pedig feloldhatatlan az ellentét, és ez az osztálynélküli társadalomhoz elvezető forradalom kirobbantója les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Engels később úgy nyilatkozott, hogy a kiáltvány sokkal inkább Marx munkája, mint az övé, és a kutatók feltételezései is inkább e felé hajlanak, ugyanakkor ezzel érdekes ellentmondásban a szövegben utalások találhatóak arra, hogy a több ország kommunistái együtt dolgoztak a művö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Egyik, ma már elhalványult jelentése az az érzelmi kötődés, amelyet az ember a családja, az általa használt és alakított környezete, a faluja, a városa, a megyéje, a hazája iránt érez, a patriotizmu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2.Másik jelentése a nemzetépítés feladatára utal, amely az ideológia megalkotásával, a kultúra egységesítésével és érzelmi élmények átélésével a közös nemzeti identitás kitalálását és megteremtését célozz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3.Harmadszor értelmében nemcsak a programot, hanem magát a nemzetépítés folyamatát is jelent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4.Végül, de nem utolsósorban a nacionalizmus a a saját közösség mások felettiségét, a kirekesztést, a másokkal szembeni agressziót, a szabadságellenes közösséget, a közösség ügyét a szabadság ügyével szembeállítva jelöl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EA24-D150-4C04-9021-B7F1F2C83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3F6B-BCC6-499A-B0CB-14CC6BDFB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3E3B-547F-4B15-B75A-072AB90FE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3935-FD56-494A-8EE7-0BDB0C3B6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1A60F-AC49-4BBB-A239-F30874E52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CF16C-80F0-410C-A0DA-75DCC77E8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186EF-FE2A-48D7-BE8F-6D2E07024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ABC95-D9C4-4B3A-9480-310250F77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8791B-0978-4A89-A66A-1C1F99F59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1090E-41F5-4EDC-88DA-D42F05D51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B6AFF-854C-4447-91D0-43424EE0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982D-1355-4E4D-B984-14674469D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D6E74-2DC0-40B6-AECC-AF3BB267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C2356-5E78-4686-AB55-85784693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0D738-D2E6-49AA-9E70-58ED04DFA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A20F0-B484-4F5C-A84E-48D998929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BA3CE-61DA-48F5-9342-DF09B3126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FAE6-7BB9-4E36-870B-34F358AA0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0DBF-813D-408C-B9CB-503E841C5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31D4-36D4-4327-B521-BA68126D7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5D2F-CA58-4929-9A9E-5F1DFC95F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0697-66F6-44CE-AF6F-417759DF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26EC-34AE-4345-ABAA-F62E5EED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B0EC-C5D9-4B61-8BC5-475FD026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B1E51-76B6-4587-AE06-9AB9761B817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6A652-1932-4C2A-96E3-6AE0B3F53F7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hu.wikipedia.org/wiki/Pierre-Joseph_Proudhon" TargetMode="External"/><Relationship Id="rId3" Type="http://schemas.openxmlformats.org/officeDocument/2006/relationships/hyperlink" Target="http://hu.wikipedia.org/wiki/Pierre-Joseph_Proudhon" TargetMode="External"/><Relationship Id="rId4" Type="http://schemas.openxmlformats.org/officeDocument/2006/relationships/hyperlink" Target="http://hu.wikipedia.org/wiki/Pierre-Joseph_Proudhon" TargetMode="External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hu.wikipedia.org/wiki/Mihail_Bakunyin" TargetMode="External"/><Relationship Id="rId3" Type="http://schemas.openxmlformats.org/officeDocument/2006/relationships/hyperlink" Target="http://hu.wikipedia.org/wiki/Mihail_Bakunyin" TargetMode="External"/><Relationship Id="rId4" Type="http://schemas.openxmlformats.org/officeDocument/2006/relationships/hyperlink" Target="http://hu.wikipedia.org/wiki/Mihail_Bakunyin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hu.wikipedia.org/wiki/Pjotr_Kropotkin" TargetMode="External"/><Relationship Id="rId3" Type="http://schemas.openxmlformats.org/officeDocument/2006/relationships/hyperlink" Target="http://hu.wikipedia.org/wiki/Pjotr_Kropotkin" TargetMode="External"/><Relationship Id="rId4" Type="http://schemas.openxmlformats.org/officeDocument/2006/relationships/hyperlink" Target="http://hu.wikipedia.org/wiki/Pjotr_Kropotkin" TargetMode="External"/><Relationship Id="rId5" Type="http://schemas.openxmlformats.org/officeDocument/2006/relationships/hyperlink" Target="http://hu.wikipedia.org/wiki/Pjotr_Kropotkin" TargetMode="External"/><Relationship Id="rId6" Type="http://schemas.openxmlformats.org/officeDocument/2006/relationships/hyperlink" Target="http://hu.wikipedia.org/wiki/Pjotr_Kropotkin" TargetMode="External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hu.wikipedia.org/wiki/Max_Stirner" TargetMode="External"/><Relationship Id="rId3" Type="http://schemas.openxmlformats.org/officeDocument/2006/relationships/hyperlink" Target="http://hu.wikipedia.org/wiki/Max_Stirner" TargetMode="External"/><Relationship Id="rId4" Type="http://schemas.openxmlformats.org/officeDocument/2006/relationships/hyperlink" Target="http://hu.wikipedia.org/wiki/Max_Stirner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 </a:t>
            </a: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AZ ÚJKOR NAGY POLITIKAI ESZMEÁRAMLÁSA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ovács Bea 3/5/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A nacionalizmus eredete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nacionalizmus történelmileg alapvetően a liberalizmus egyik eleme. A feudális rend lebontásán és a kapitalizmus megvalósításán munkálkodó polgárság a nacionalizmust használta fel egyik fő ideológiájaké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XIX. század második felében azonban a nacionalizmus önálló ideológiává vált, a liberalizmus áttért az antinacionalizmusra, a nacionalizmus pedig a liberális kapitalizmust ellenző erők egy részének ideológiájává vál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9efee"/>
                </a:solidFill>
                <a:latin typeface="Garamond"/>
              </a:rPr>
              <a:t>A nacionalizmus problémái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nemzeteket megilleti az államalkotás joga, a nacionalizmus a nemzetté válás folyamatának nélkülözhetetlen eleme. A nacionalizmus szélsőséges irányzatai gyakran vallják a kisebbségekkel szembeni tolerancia hiányát. További problémát okoz annak megállapítása, hogy mi a különbség a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nacionalizmu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a sovinizmus és a patriotizmus közöt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Anarchizmu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z egyéni felelősségtudat szerepét állítja előtérbe bármifajta uralommal szemben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uralomnélküliség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amely alatt "azon társadalmi rendet kell értenünk, mely minden külső hatalom és erőszak nélkül, tisztán az emberek szabad, testvéri együttélésén alapul. Az erőszakon épülő uralmi rendszer helyett, mely a tulajdon, a jog és állam kényszerintézményeiben nyer kifejezést, az anarchikus társadalom formái az emberek természetében rejlő szolidaritás és az ebből folyó szabadság, egyenlőség és önkéntes összeműködés által jönnek létre."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9efee"/>
                </a:solidFill>
                <a:latin typeface="Garamond"/>
              </a:rPr>
              <a:t>Anarchista gondolkodók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7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William Godwi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(1756-1836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i="1" lang="hu-HU" sz="2800" spc="-1" strike="noStrike">
                <a:solidFill>
                  <a:srgbClr val="ffffff"/>
                </a:solidFill>
                <a:latin typeface="Garamond"/>
              </a:rPr>
              <a:t>Vizsgálódás a politikai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i="1" lang="hu-HU" sz="2800" spc="-1" strike="noStrike">
                <a:solidFill>
                  <a:srgbClr val="ffffff"/>
                </a:solidFill>
                <a:latin typeface="Garamond"/>
              </a:rPr>
              <a:t>igazságosságról és annak a közerkölcsre és a boldogságra gyakorolt hatásáró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143680" y="1943280"/>
            <a:ext cx="304776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Anarchizmus típusai: a kollektivista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kollektivista típuson belüli irányzato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özelebb állnak a szocializmushoz: egyaránt lázadnak a kizsákmányolás és az uralom intézményei ellen.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Anarchizmus típusai: a kollektivista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ffffff"/>
                </a:solidFill>
                <a:latin typeface="Garamond"/>
              </a:rPr>
              <a:t>Proudhon, Bakunyin, Kropotkin 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és mások érvelése szerint a kapitalizmus gazdaságilag kisajátította a liberalizmus örökségét, aminek lényege pedig a szabadság eszmény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Ezt az eszményt elérni, s egy szabad társadalmat létrehozni csak az uralmi formák lerombolásával lehet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9efee"/>
                </a:solidFill>
                <a:latin typeface="Garamond"/>
              </a:rPr>
              <a:t>Kollektivista anarchista gondolkodók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7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ff99"/>
                </a:solidFill>
                <a:uFillTx/>
                <a:latin typeface="Garamond"/>
                <a:hlinkClick r:id="rId2"/>
              </a:rPr>
              <a:t>Pierre-Joseph</a:t>
            </a:r>
            <a:r>
              <a:rPr b="0" lang="hu-HU" sz="2800" spc="-1" strike="noStrike" u="sng">
                <a:solidFill>
                  <a:srgbClr val="00ff99"/>
                </a:solidFill>
                <a:uFillTx/>
                <a:latin typeface="Garamond"/>
                <a:hlinkClick r:id="rId3"/>
              </a:rPr>
              <a:t> </a:t>
            </a:r>
            <a:r>
              <a:rPr b="0" lang="hu-HU" sz="2800" spc="-1" strike="noStrike" u="sng">
                <a:solidFill>
                  <a:srgbClr val="00ff99"/>
                </a:solidFill>
                <a:uFillTx/>
                <a:latin typeface="Garamond"/>
                <a:hlinkClick r:id="rId4"/>
              </a:rPr>
              <a:t>Proudh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(1809-186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i="1" lang="hu-HU" sz="2800" spc="-1" strike="noStrike">
                <a:solidFill>
                  <a:srgbClr val="ffffff"/>
                </a:solidFill>
                <a:latin typeface="Garamond"/>
              </a:rPr>
              <a:t>Mi a tulajdon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i="1" lang="hu-HU" sz="2800" spc="-1" strike="noStrike">
                <a:solidFill>
                  <a:srgbClr val="ffffff"/>
                </a:solidFill>
                <a:latin typeface="Garamond"/>
              </a:rPr>
              <a:t>A gazdasági ellentmondások rendszere vagy a nyomor filozófiáj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5102280" y="1893960"/>
            <a:ext cx="3132000" cy="367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9efee"/>
                </a:solidFill>
                <a:latin typeface="Garamond"/>
              </a:rPr>
              <a:t>Kollektivista anarchista gondolkodók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7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ff99"/>
                </a:solidFill>
                <a:uFillTx/>
                <a:latin typeface="Garamond"/>
                <a:hlinkClick r:id="rId2"/>
              </a:rPr>
              <a:t>Mihail </a:t>
            </a:r>
            <a:r>
              <a:rPr b="0" lang="hu-HU" sz="2800" spc="-1" strike="noStrike" u="sng">
                <a:solidFill>
                  <a:srgbClr val="00ff99"/>
                </a:solidFill>
                <a:uFillTx/>
                <a:latin typeface="Garamond"/>
                <a:hlinkClick r:id="rId3"/>
              </a:rPr>
              <a:t>Alekszandrovics</a:t>
            </a:r>
            <a:r>
              <a:rPr b="0" lang="hu-HU" sz="2800" spc="-1" strike="noStrike" u="sng">
                <a:solidFill>
                  <a:srgbClr val="00ff99"/>
                </a:solidFill>
                <a:uFillTx/>
                <a:latin typeface="Garamond"/>
                <a:hlinkClick r:id="rId4"/>
              </a:rPr>
              <a:t> Bakunyi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(1814-1876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i="1" lang="hu-HU" sz="2800" spc="-1" strike="noStrike">
                <a:solidFill>
                  <a:srgbClr val="ffffff"/>
                </a:solidFill>
                <a:latin typeface="Garamond"/>
              </a:rPr>
              <a:t>Gyónás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i="1" lang="hu-HU" sz="2800" spc="-1" strike="noStrike">
                <a:solidFill>
                  <a:srgbClr val="ffffff"/>
                </a:solidFill>
                <a:latin typeface="Garamond"/>
              </a:rPr>
              <a:t>Államiság és anarchia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5078520" y="1844640"/>
            <a:ext cx="3095640" cy="417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9efee"/>
                </a:solidFill>
                <a:latin typeface="Garamond"/>
              </a:rPr>
              <a:t>Kollektivista anarchista gondolkodók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7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ff99"/>
                </a:solidFill>
                <a:uFillTx/>
                <a:latin typeface="Garamond"/>
                <a:hlinkClick r:id="rId2"/>
              </a:rPr>
              <a:t>Pjotr</a:t>
            </a:r>
            <a:r>
              <a:rPr b="0" lang="hu-HU" sz="2800" spc="-1" strike="noStrike" u="sng">
                <a:solidFill>
                  <a:srgbClr val="00ff99"/>
                </a:solidFill>
                <a:uFillTx/>
                <a:latin typeface="Garamond"/>
                <a:hlinkClick r:id="rId3"/>
              </a:rPr>
              <a:t> </a:t>
            </a:r>
            <a:r>
              <a:rPr b="0" lang="hu-HU" sz="2800" spc="-1" strike="noStrike" u="sng">
                <a:solidFill>
                  <a:srgbClr val="00ff99"/>
                </a:solidFill>
                <a:uFillTx/>
                <a:latin typeface="Garamond"/>
                <a:hlinkClick r:id="rId4"/>
              </a:rPr>
              <a:t>Alekszejevics</a:t>
            </a:r>
            <a:r>
              <a:rPr b="0" lang="hu-HU" sz="2800" spc="-1" strike="noStrike" u="sng">
                <a:solidFill>
                  <a:srgbClr val="00ff99"/>
                </a:solidFill>
                <a:uFillTx/>
                <a:latin typeface="Garamond"/>
                <a:hlinkClick r:id="rId5"/>
              </a:rPr>
              <a:t> </a:t>
            </a:r>
            <a:r>
              <a:rPr b="0" lang="hu-HU" sz="2800" spc="-1" strike="noStrike" u="sng">
                <a:solidFill>
                  <a:srgbClr val="00ff99"/>
                </a:solidFill>
                <a:uFillTx/>
                <a:latin typeface="Garamond"/>
                <a:hlinkClick r:id="rId6"/>
              </a:rPr>
              <a:t>Kropotkin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(1842-1921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i="1" lang="hu-HU" sz="2800" spc="-1" strike="noStrike">
                <a:solidFill>
                  <a:srgbClr val="ffffff"/>
                </a:solidFill>
                <a:latin typeface="Garamond"/>
              </a:rPr>
              <a:t>Egy forradalmár feljegyzése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7"/>
          <a:stretch/>
        </p:blipFill>
        <p:spPr>
          <a:xfrm>
            <a:off x="5143680" y="1943280"/>
            <a:ext cx="304776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Anarchizmus típusai: 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az individualista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z </a:t>
            </a:r>
            <a:r>
              <a:rPr b="0" i="1" lang="hu-HU" sz="3200" spc="-1" strike="noStrike">
                <a:solidFill>
                  <a:srgbClr val="ffffff"/>
                </a:solidFill>
                <a:latin typeface="Garamond"/>
              </a:rPr>
              <a:t>individualista anarchizmusban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 a liberalizmus hagyományának öröksége erősebb. Az individualista anarchista </a:t>
            </a:r>
            <a:r>
              <a:rPr b="0" i="1" lang="hu-HU" sz="3200" spc="-1" strike="noStrike">
                <a:solidFill>
                  <a:srgbClr val="ffffff"/>
                </a:solidFill>
                <a:latin typeface="Garamond"/>
              </a:rPr>
              <a:t>Stirner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 "egoista" felfogása az önérdeket, az önérvényesítést, a minden kötöttségtől mentes szabadság fontosságát hangsúlyozza az állam és a politikai rendszer illegitim követelményeivel szembe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476360" y="1268280"/>
            <a:ext cx="6400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Fő eszmeáramlatok: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                                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Liberalizm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                                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Konzervativizm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                                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Szocializm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Egyéb ideológiák: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                                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Nacionalizm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                                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narchizm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                                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Elit elmélete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mb dir="horz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9efee"/>
                </a:solidFill>
                <a:latin typeface="Garamond"/>
              </a:rPr>
              <a:t>Individualista anarchista gondolkodó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708440" y="1770120"/>
            <a:ext cx="382752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ff99"/>
                </a:solidFill>
                <a:uFillTx/>
                <a:latin typeface="Garamond"/>
                <a:hlinkClick r:id="rId2"/>
              </a:rPr>
              <a:t>Max</a:t>
            </a:r>
            <a:r>
              <a:rPr b="0" lang="hu-HU" sz="2800" spc="-1" strike="noStrike" u="sng">
                <a:solidFill>
                  <a:srgbClr val="00ff99"/>
                </a:solidFill>
                <a:uFillTx/>
                <a:latin typeface="Garamond"/>
                <a:hlinkClick r:id="rId3"/>
              </a:rPr>
              <a:t> </a:t>
            </a:r>
            <a:r>
              <a:rPr b="0" lang="hu-HU" sz="2800" spc="-1" strike="noStrike" u="sng">
                <a:solidFill>
                  <a:srgbClr val="00ff99"/>
                </a:solidFill>
                <a:uFillTx/>
                <a:latin typeface="Garamond"/>
                <a:hlinkClick r:id="rId4"/>
              </a:rPr>
              <a:t>Stirn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(1806-1831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i="1" lang="hu-HU" sz="2800" spc="-1" strike="noStrike">
                <a:solidFill>
                  <a:srgbClr val="ffffff"/>
                </a:solidFill>
                <a:latin typeface="Garamond"/>
              </a:rPr>
              <a:t>Az egyetlen és tulajdon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539640" y="2062080"/>
            <a:ext cx="3237120" cy="38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Anarchizmus típusai: 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a </a:t>
            </a:r>
            <a:r>
              <a:rPr b="1" i="1" lang="en-US" sz="4000" spc="-1" strike="noStrike">
                <a:solidFill>
                  <a:srgbClr val="b9efee"/>
                </a:solidFill>
                <a:latin typeface="Garamond"/>
              </a:rPr>
              <a:t>vallásos anarchizmus</a:t>
            </a: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vallási gyökere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z, általában a nagy világvallások tradícióihoz nyúl vissz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z az irányzat az emberi lények egyenlőségét hangsúlyozza, és vallásos vagy misztikus hagyományok alapján mutatja ki a politikai hatalom és mindenfajta elnyomás jogosulatlanságát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Anarchizmus típusai: 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a </a:t>
            </a:r>
            <a:r>
              <a:rPr b="1" i="1" lang="en-US" sz="4000" spc="-1" strike="noStrike">
                <a:solidFill>
                  <a:srgbClr val="b9efee"/>
                </a:solidFill>
                <a:latin typeface="Garamond"/>
              </a:rPr>
              <a:t>vallásos anarchizmus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Tolsztoj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Schmitt Jenő Henrik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Martin Bubernek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Gandh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Elit elméletek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z 1990-es évektől kezdve a társadalomtudományokban ismét szalonképessé, sőt divatossá vált az addig ritkán használt elitfogalom, amely valamikor a 19. század végén, a 20. század elején kezdett elterjedni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mindenekelőtt Gaetano Mosca, Vilfredo Pareto munkássága révé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Gaetano Mosc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755640" y="1844640"/>
            <a:ext cx="315756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elit változást a társadalom új rétegeinek felbukkanása és szerepvállalása okozz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Minden társadalom 2 részre osztható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kormányzók és kormányzottak.</a:t>
            </a:r>
            <a:r>
              <a:rPr b="1" lang="hu-H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Politikai formula: minden hatalmon lévő csoport legitimációt készít. Az elit erkölcsi és törvényes alapon uralkodik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Vilfredo Paret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929120" y="1600200"/>
            <a:ext cx="34750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Tagadja az osztálynélküliség lehetőségé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Elveti a zárt elitcsoportok létét i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 társadalom: egyensúlyban lévő rendsz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Minden társ kettéosztható: elitre és nem elit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 társ tagozódása nem merev, az adott elit nem állandó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Megfogalmazza az elitek cirkulációjának elvét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b9efee"/>
                </a:solidFill>
                <a:latin typeface="Garamond"/>
              </a:rPr>
              <a:t>Elitek csoportosítása reziduumai alapján: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5280" indent="-4852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oroszlánok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8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radalmi szakító elit, túl merev, ideologikus, nagyelvek alapján kívánja a társadalmat átalakítani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8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atalmát előbb- utóbb kénytelen átadni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Garamond"/>
              </a:rPr>
              <a:t>rókák: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pragmatikus gondolkodásmód jellemzi őket, szakértelemmel rendelkeznek, kompromisszumkészek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FELHASZNÁLT IRODALOM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szog.com/pdf/molnar_anarchizmus.pdf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Bayer József: </a:t>
            </a:r>
            <a:r>
              <a:rPr b="0" i="1" lang="hu-HU" sz="3200" spc="-1" strike="noStrike">
                <a:solidFill>
                  <a:srgbClr val="ffffff"/>
                </a:solidFill>
                <a:latin typeface="Garamond"/>
              </a:rPr>
              <a:t>A politikai gondolkodás története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 (Osiris, 1998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Garamond"/>
              </a:rPr>
              <a:t>ANARCHIZMUS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 (MODERN IDEOLÓGIÁK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193.6.201.253/02000/02003/html/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hu.wikipedia.or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Szocializmu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szocializmus politikai ideológia, illetve társadalmi és gazdasági rendszer, amelynek alapjai a 19. századi gondolkodásban bukkantak fel, válaszul az ipari forradalom miatt megváltozott viszonyokra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 </a:t>
            </a:r>
            <a:r>
              <a:rPr b="0" i="1" lang="hu-HU" sz="2800" spc="-1" strike="noStrike">
                <a:solidFill>
                  <a:srgbClr val="ffffff"/>
                </a:solidFill>
                <a:latin typeface="Garamond"/>
              </a:rPr>
              <a:t>szocializmust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, mint kifejezést az utópista szocialista Robert Owen használta először a XIX. század elején. Ő a társadalmi igazságtalanságok megszüntetését értett alatta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572000" y="155736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572000" y="907920"/>
            <a:ext cx="40323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Szocializmu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szocializmus a társadalmi egyenlőtlenségeke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magántulajdon és a kizsákmányolás megszüntetésével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termelőeszközök kollektív tulajdonával kívánja orvosolni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szocialista rendszerben ideális esetben a kormány ellenőrzi a termelő folyamatokat a piac teljes kiiktatásával, a politikai hatalmat pedig a proletariátus gyakorolja. Eltűnik a vagyoni egyenlőtlenség, a szegénység és a diszkrimináció; előtérbe kerül az együttműködés és a szolidaritá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rx, a szocializmus legfőbb ideológusa szerint a szocializmus átmeneti állapot a kommunizmushoz vezető történelmi átalakulási folyamatban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79480" y="1600200"/>
            <a:ext cx="31939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tők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867, Hamburg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Kommunista Párt kiáltványa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848. február 2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68360" y="620640"/>
            <a:ext cx="3933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Nacionalizmu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nacionalizmus a nemzetek kialakulásának, a nemzetté válás folyamatának ideológiája. Az egyik legtöbbet vitatott politikai eszmerendsz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A nacionalizmus kifejezés jelentéstartalma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patriotizmus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mzeti identitás kitalálása és megteremtése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mzetépítés folyamata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saját közösség mások felettisége, a kirekesztés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4T10:48:44Z</dcterms:created>
  <dc:creator>Beáta</dc:creator>
  <dc:description/>
  <dc:language>en-US</dc:language>
  <cp:lastModifiedBy>Beáta</cp:lastModifiedBy>
  <dcterms:modified xsi:type="dcterms:W3CDTF">2007-11-29T16:00:47Z</dcterms:modified>
  <cp:revision>24</cp:revision>
  <dc:subject/>
  <dc:title> AZ ÚJKOR NAGY POLITIKAI ESZMEÁRAMLÁSA</dc:title>
</cp:coreProperties>
</file>