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A14F-9AE9-468A-B087-5856C145161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http://hu.wikipedia.org/w/index.php?title=Tulajdon&amp;action=edit" TargetMode="External"/><Relationship Id="rId2" Type="http://schemas.openxmlformats.org/officeDocument/2006/relationships/hyperlink" Target="http://hu.wikipedia.org/w/index.php?title=Termel&#337;szk&#246;z&amp;action=edit" TargetMode="External"/><Relationship Id="rId3" Type="http://schemas.openxmlformats.org/officeDocument/2006/relationships/hyperlink" Target="http://hu.wikipedia.org/wiki/&#193;llam" TargetMode="External"/><Relationship Id="rId4" Type="http://schemas.openxmlformats.org/officeDocument/2006/relationships/hyperlink" Target="http://hu.wikipedia.org/wiki/Isten" TargetMode="External"/><Relationship Id="rId5" Type="http://schemas.openxmlformats.org/officeDocument/2006/relationships/hyperlink" Target="http://hu.wikipedia.org/wiki/1846" TargetMode="External"/><Relationship Id="rId6" Type="http://schemas.openxmlformats.org/officeDocument/2006/relationships/hyperlink" Target="http://hu.wikipedia.org/wiki/Gazdas&#225;g" TargetMode="External"/><Relationship Id="rId7" Type="http://schemas.openxmlformats.org/officeDocument/2006/relationships/slide" Target="../slides/slide16.xml"/><Relationship Id="rId8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hu.wikipedia.org/wiki/1983" TargetMode="External"/><Relationship Id="rId2" Type="http://schemas.openxmlformats.org/officeDocument/2006/relationships/hyperlink" Target="http://hu.wikipedia.org/wiki/1984" TargetMode="External"/><Relationship Id="rId3" Type="http://schemas.openxmlformats.org/officeDocument/2006/relationships/hyperlink" Target="http://hu.wikipedia.org/wiki/1983" TargetMode="External"/><Relationship Id="rId4" Type="http://schemas.openxmlformats.org/officeDocument/2006/relationships/hyperlink" Target="http://hu.wikipedia.org/wiki/1984" TargetMode="External"/><Relationship Id="rId5" Type="http://schemas.openxmlformats.org/officeDocument/2006/relationships/slide" Target="../slides/slide17.xml"/><Relationship Id="rId6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http://hu.wikipedia.org/wiki/Evol&#250;ci&#243;" TargetMode="External"/><Relationship Id="rId2" Type="http://schemas.openxmlformats.org/officeDocument/2006/relationships/hyperlink" Target="http://hu.wikipedia.org/w/index.php?title=Kommuna&amp;action=edit" TargetMode="External"/><Relationship Id="rId3" Type="http://schemas.openxmlformats.org/officeDocument/2006/relationships/hyperlink" Target="http://hu.wikipedia.org/wiki/Tudom&#225;ny" TargetMode="External"/><Relationship Id="rId4" Type="http://schemas.openxmlformats.org/officeDocument/2006/relationships/slide" Target="../slides/slide18.xml"/><Relationship Id="rId5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 anarchizmus az a társadalmi elmélet, amely az egyéni felelősségtudat szerepét állítja előtérbe bármifajta uralommal szemb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ralomnélkülisé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mely alatt "azon társadalmi rendet kell értenünk, mely minden külső hatalom és erőszak nélkül, tisztán az emberek szabad, testvéri együttélésén alapul. Az erőszakon épülő uralmi rendszer helyett, mely a tulajdon, a jog és állam kényszerintézményeiben nyer kifejezést, az anarchikus társadalom formái az emberek természetében rejlő szolidaritás és az ebből folyó szabadság, egyenlőség és önkéntes összeműködés által jönnek létre."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 anarchizmus politikai ideológiaként a 18. század végén jelent meg Európába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d a 19. század első felében bontakozott ki, terjedt el nagyobb mértékben, s a száz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özepére már jelentős hatást gyakorolt a politikai életre. Eszmetörténetileg elsősorba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világosodásból (racionalizmus), a romantikából, a pozitivizmusból é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eszténységből merített, később hatott rá az evolucionizmus 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 anarchizmus a konzervativizmus elleni harcban született meg, későb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zembekerült a kor más ideológiáival is. Első képviselői számára eszmeileg a fran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radalom hármas jelszava, a Szabadság, Egyenlőség, Testvériség jelentett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indulópont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William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Godwin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(1756–1836), az első anarchista, 1793-ban megjelent könyvében [Vizsgálódás a politika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igazságosságról és annak a közerkölcsre és a boldogságra gyakorolt hatásáról] fejtette 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először a kibontakozó új ideológia alapjait, s vette védelmébe a kormányzati hatal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ellen fellázadó forradalmárokat. Nézeteiben ugyanakkor már megtalálhatók azok az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elemek is, amelyek az anarchizmust később a liberalizmussal is szembefordítják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Godwin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a felvilágosodás racionalista eszméinek hatása alatt rendkívül radikál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övetkeztetésekre jutott: elutasította az állami erőszakot az egyén szab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véleményalkotásával szemben, mivel a szabadság, az önkibontakoztatás egyik f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akadályát látta benne. A társadalmat a jogi-politikai elnyomó hatalommal szemben k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özösségek, autonóm egységek laza konglomerátumává szerette volna változtatni. E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évvel könyve megjelenése után, 1794-ben egy kicsiny csoport Észak-Amerikába utazo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(közöttük a két neves költő: Wordsworth és Coleridge), hogy elképzeléseit valóra válts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vállalkozásuk azonban kudarcot vallo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": az anarchizmus elméletének egyik megalkotója és legnagyobb hatású képviselőj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840-ben megjelent „Mi a tulajdon?” című könyve. Szerinte a </a:t>
            </a:r>
            <a:r>
              <a:rPr b="0" lang="hu-H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ulajdon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lopás, mivel nem saját munkán és a méltányos cserén alapul, hanem a </a:t>
            </a:r>
            <a:r>
              <a:rPr b="0" lang="hu-H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rmelőszközök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tulajdonosainak monopolhelyzetén, amely az idegen munka jogtalan kisajátítását eredményezi, és egyenlőtlen cserét tesz lehetővé. A magántulajdon elutasításának gondolatából következik minden tekintély, főként az </a:t>
            </a:r>
            <a:r>
              <a:rPr b="0" lang="hu-H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állam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0" lang="hu-H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sten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elutasítása. Proudhon szerint a kormányzás valódi formája az anarch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846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-ban jelent meg a </a:t>
            </a:r>
            <a:r>
              <a:rPr b="0" lang="hu-H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gazdasági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kérdésekkel foglalkozó „A gazdasági ellentmondások rendszere vagy a nyomor filozófiája” című köny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Proudhon szavaival - amely számunkra József Attila költői megfogalmazásában ismerős - a "szabadság szüli a rendet", nem pedig a rend teremti a szabadság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yóná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Európa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983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Államiság és anarch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Két párt harca a Nemzetközi Munkásszövetségben (Gondolat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984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yóná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Európa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983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Államiság és anarch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Két párt harca a Nemzetközi Munkásszövetségben (Gondolat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984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ézetei szerint az államhatalom a kényszer és erőszak megtestesítője, pedig a kölcsönös segítségnyújtáson alapuló társulások nemcsak lehetségesek, d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volúció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szempontból magasabb rendűek is. Olyan decentralizált társadalom volt az eszmeképe, amelyben önálló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ommunák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egyesítik a városi civilizáció és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udományo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alapú mezőgazdaság előnye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modern társadalom kialakulásától kezdődően 3 fő eszmeáramlat és rájuk épülő politikai ideológia hordozza magában a társadalomalakítás lehetőségeinek a koncepcióját: a liberalizmus, a konzervativizmus és a szocializ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 a domináló politikai eszmerendszerek nem merítik ki a modern politikai eszmék történetét. A modern kor gazdag „izmusokban”. Ezek az „izmusok” vagy áthatják a többieket valamilyen mértékben (nacionalizmus) , vagy pedig olyan partikuláris jelenségek, amelyek sajátos helyzetben lévő társadalmi csoportok ideológiájaként lépnek fel.  Anarchizmus, elit elmélet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 egyetlen és tulajdona" című köny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vallásos anarchizmus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képviselői közül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olsztoj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az evangéliumi őskereszténység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chmitt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Jenő Henrik a gnoszticizmus eszméit aktualizált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íg Martin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uber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ek az anarchizmus gondolatkörével érintkező társadalomfilozófiája a judaizmu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Gandhi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é a hinduizmus hagyományát újította me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 törekvések közös jellemzője a teljes erőszaknélküliség hangsúlyozása - szemben más anarchista irányzatokkal, amelyek nem feltétlenül utasítják el a forradalmi erőszak használatá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vallásos anarchizmus erőszaknélküliségét a különböző időszakokban jelentkező pacifista és békemozgalmak is magukévá tették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fogalom az 1920-as és 30-as években közkedveltté vál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em kis részben annak köszönhetően, hogy alkalmasabbnak látszot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asiszta mozgalmak uralomra jutásának értelmezésére, mint a marx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hletésű osztályelmélet. Ez a magyarázata annak, hogy az elit-teóriá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szülőhazájának mindenekelőtt Olaszország és Németország tekinthet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aga a szó francia eredetű: az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élite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ifejezés a 17. században a kitűnő mi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őségű dolgok jellemzésére szolgált, és csak később nevezték így a társadalom felső, vezető pozícióban levő csoportj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kifejezés társadalomtudományi használatát Gaetano Mosca alapoz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a meg az 1896-ban megjelent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Elementi di scienza politica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ímű könyvé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en. Kiindulópontja ugyanaz volt, mint a többi elitelmélet szerzőjéé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inden társadalom kisebbségre és többségre, elitekre és tömegekre vá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ik szét. Az előbbiek vezetnek, az utóbbiak engedelmeskednek. A gazda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sági és kulturális pozíciók birtoklásán túl az eliteké a politikai hatalo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lit változást a társadalom új rétegeinek felbukkanása és szerepvállalása okoz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inden társadalom 2 részre oszthat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ormányzók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Ők monopolizálják a hatalmat, létszámuk kicsi, de előnyökkel rendelkeznek ezért ők az uralkodó osztá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ormányzottak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Ők vannak többek. A kormányzók irányítása alatt állnak, ez a kormányzás történhet törvényes/erőszakos/önkényes mód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kisebbség azért képes hatalmat gyakorolni, mert szervezett és egységes + mert tagja anyagilag, szellemileg és erkölcsileg előnyösebb helyzetben v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Politikai formula: minden hatalmon lévő csoport legitimációt készít. Az elit erkölcsi és törvényes alapon uralkodi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litelmélet másik klasszikusa Vilfredo Pareto volt, aki az 1910-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években írott szociológiai munkájában fejtette ki nézete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ála az e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ogalmának kettős jelentése van: egyfelől valamely kiemelkedő emb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eljesítmény alanyának minőségét jelzi, másfelől pedig szűkebb ért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emben az emberi társadalmakat vezető csoportok megnevezése. Par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zeknek a csoportoknak a természetét és összetételét, hatalomra kerülé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sük, kormányzásuk és bukásuk okait, valamint törvényszerűségeit k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e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lveti marxi gazdasági meghatározottságot, tagadja az osztálynélküliség lehetőségé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lveti a zárt elitcsoportok lété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társadalom egy egyensúlyban lévő rendszer, amelyet a fellépő különböző erők tartanak fen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képességek (= rezíduumok) nem egyenlően oszlanak el egy társadalomban. Minden társ kettéosztható: elitre (ezen belül kormányzó és nem kormányzó elitre) és nem elit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társ tagozódása nem merev, az adott elit nem állandó.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 kontra elit (amelyik képessége alapján tagja lehetne) mindig a hatalom felé tör. Uralmát egyik elit sem őrizheti meg a végtelenségig. Különösen akkor, ha erőteljesen zá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gfogalmazza az elitek cirkulációjának elvét. Az elit körforgása örök törvény.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történelem az arisztokrácia temető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arl Marx és Friedrich Engels közös műve, mely 1848. február 21-én jelent meg először. A világtörténelem legnagyobb hatású és legismertebb politikai szövegei közé tartozik. A kiáltvány szerint a társadalom proletariátusra és burzsoáziára oszlik, a két nagy osztály között pedig feloldhatatlan az ellentét, és ez az osztálynélküli társadalomhoz elvezető forradalom kirobbantója les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ngels később úgy nyilatkozott, hogy a kiáltvány sokkal inkább Marx munkája, mint az övé, és a kutatók feltételezései is inkább e felé hajlanak, ugyanakkor ezzel érdekes ellentmondásban a szövegben utalások találhatóak arra, hogy a több ország kommunistái együtt dolgoztak a művö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gyik, ma már elhalványult jelentése az az érzelmi kötődés, amelyet az ember a családja, az általa használt és alakított környezete, a faluja, a városa, a megyéje, a hazája iránt érez, a patriotizm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2.Másik jelentése a nemzetépítés feladatára utal, amely az ideológia megalkotásával, a kultúra egységesítésével és érzelmi élmények átélésével a közös nemzeti identitás kitalálását és megteremtését célozz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3.Harmadszor értelmében nemcsak a programot, hanem magát a nemzetépítés folyamatát is jelen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4.Végül, de nem utolsósorban a nacionalizmus a a saját közösség mások felettiségét, a kirekesztést, a másokkal szembeni agressziót, a szabadságellenes közösséget, a közösség ügyét a szabadság ügyével szembeállítva jelöl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915-B934-42BA-93D0-B2CFD83E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792-B97B-40B5-8C89-086CFD77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EDDC-0FF8-416B-8563-A20FD640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634-1A1B-4289-9FE0-81F3296F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6B6F-3D34-4A4D-93A8-7A396539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C1C3-F485-44E1-8282-1FC57AD2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5058-3E51-4286-8016-610A6611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377D-FEF7-4CBA-A1D1-50D3793C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4DE4-D654-4FF0-BEE3-A423F560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AF48-195C-484E-82D3-64DF4748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0A8B-93DA-4EE7-AC9C-EDFF92DB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23A-FECA-4BC2-A89C-73A822D8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FD85-BC1D-44A7-AFA1-ACFCC26D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3E2F-165F-4EC4-8244-AB723C34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A330-CE57-48C0-95DA-38619770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65E2-96F5-4EC5-A6EA-1FFFBC83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6FDB-FAB8-4CE8-8A4E-FCE3F192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76F-A758-41FC-AAB7-A276FD93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2010-E3CA-46D5-AACB-2EA5368F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B23-550A-4AFC-9731-51F055A1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24E-6514-46AE-8459-41CFA171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4282-FDC5-41C7-8CCD-6C5DB770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35C-161B-447B-974A-FE68A238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67E1-2CAC-440C-9DD9-C6AAA907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4CCE-B012-4E11-AF21-0AA4CE5D427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CE36-3C11-46A1-87CA-A29B08DCA4B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hu.wikipedia.org/wiki/Pierre-Joseph_Proudhon" TargetMode="External"/><Relationship Id="rId3" Type="http://schemas.openxmlformats.org/officeDocument/2006/relationships/hyperlink" Target="http://hu.wikipedia.org/wiki/Pierre-Joseph_Proudhon" TargetMode="External"/><Relationship Id="rId4" Type="http://schemas.openxmlformats.org/officeDocument/2006/relationships/hyperlink" Target="http://hu.wikipedia.org/wiki/Pierre-Joseph_Proudhon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hu.wikipedia.org/wiki/Mihail_Bakunyin" TargetMode="External"/><Relationship Id="rId3" Type="http://schemas.openxmlformats.org/officeDocument/2006/relationships/hyperlink" Target="http://hu.wikipedia.org/wiki/Mihail_Bakunyin" TargetMode="External"/><Relationship Id="rId4" Type="http://schemas.openxmlformats.org/officeDocument/2006/relationships/hyperlink" Target="http://hu.wikipedia.org/wiki/Mihail_Bakunyin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hu.wikipedia.org/wiki/Pjotr_Kropotkin" TargetMode="External"/><Relationship Id="rId3" Type="http://schemas.openxmlformats.org/officeDocument/2006/relationships/hyperlink" Target="http://hu.wikipedia.org/wiki/Pjotr_Kropotkin" TargetMode="External"/><Relationship Id="rId4" Type="http://schemas.openxmlformats.org/officeDocument/2006/relationships/hyperlink" Target="http://hu.wikipedia.org/wiki/Pjotr_Kropotkin" TargetMode="External"/><Relationship Id="rId5" Type="http://schemas.openxmlformats.org/officeDocument/2006/relationships/hyperlink" Target="http://hu.wikipedia.org/wiki/Pjotr_Kropotkin" TargetMode="External"/><Relationship Id="rId6" Type="http://schemas.openxmlformats.org/officeDocument/2006/relationships/hyperlink" Target="http://hu.wikipedia.org/wiki/Pjotr_Kropotkin" TargetMode="Externa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hu.wikipedia.org/wiki/Max_Stirner" TargetMode="External"/><Relationship Id="rId3" Type="http://schemas.openxmlformats.org/officeDocument/2006/relationships/hyperlink" Target="http://hu.wikipedia.org/wiki/Max_Stirner" TargetMode="External"/><Relationship Id="rId4" Type="http://schemas.openxmlformats.org/officeDocument/2006/relationships/hyperlink" Target="http://hu.wikipedia.org/wiki/Max_Stirner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AZ ÚJKOR NAGY POLITIKAI ESZMEÁRAMLÁSA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vács Bea 3/5/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 nacionalizmus eredete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nacionalizmus történelmileg alapvetően a liberalizmus egyik eleme. A feudális rend lebontásán és a kapitalizmus megvalósításán munkálkodó polgárság a nacionalizmust használta fel egyik fő ideológiájaké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XIX. század második felében azonban a nacionalizmus önálló ideológiává vált, a liberalizmus áttért az antinacionalizmusra, a nacionalizmus pedig a liberális kapitalizmust ellenző erők egy részének ideológiájává vál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A nacionalizmus problémái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nemzeteket megilleti az államalkotás joga, a nacionalizmus a nemzetté válás folyamatának nélkülözhetetlen eleme. A nacionalizmus szélsőséges irányzatai gyakran vallják a kisebbségekkel szembeni tolerancia hiányát. További problémát okoz annak megállapítása, hogy mi a különbség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acionalizmu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 sovinizmus és a patriotizmus közöt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narchiz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z egyéni felelősségtudat szerepét állítja előtérbe bármifajta uralommal szembe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uralomnélkülisé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amely alatt "azon társadalmi rendet kell értenünk, mely minden külső hatalom és erőszak nélkül, tisztán az emberek szabad, testvéri együttélésén alapul. Az erőszakon épülő uralmi rendszer helyett, mely a tulajdon, a jog és állam kényszerintézményeiben nyer kifejezést, az anarchikus társadalom formái az emberek természetében rejlő szolidaritás és az ebből folyó szabadság, egyenlőség és önkéntes összeműködés által jönnek létre."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Anarchista gondolkodó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William Godw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(1756-183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Vizsgálódás a politika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igazságosságról és annak a közerkölcsre és a boldogságra gyakorolt hatásáró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43680" y="1943280"/>
            <a:ext cx="30477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narchizmus típusai: a kollektivist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kollektivista típuson belüli irányzat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özelebb állnak a szocializmushoz: egyaránt lázadnak a kizsákmányolás és az uralom intézményei ellen.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narchizmus típusai: a kollektivist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Garamond"/>
              </a:rPr>
              <a:t>Proudhon, Bakunyin, Kropotkin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és mások érvelése szerint a kapitalizmus gazdaságilag kisajátította a liberalizmus örökségét, aminek lényege pedig a szabadság eszmény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zt az eszményt elérni, s egy szabad társadalmat létrehozni csak az uralmi formák lerombolásával lehe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Kollektivista anarchista gondolkodók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Pierre-Joseph</a:t>
            </a: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 </a:t>
            </a: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4"/>
              </a:rPr>
              <a:t>Proudh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(1809-186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Mi a tulajdo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A gazdasági ellentmondások rendszere vagy a nyomor filozófiá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102280" y="1893960"/>
            <a:ext cx="3132000" cy="36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Kollektivista anarchista gondolkodók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Mihail </a:t>
            </a: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Alekszandrovics</a:t>
            </a: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4"/>
              </a:rPr>
              <a:t> Bakuny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(1814-187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Gyónás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Államiság és anarchia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078520" y="1844640"/>
            <a:ext cx="309564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Kollektivista anarchista gondolkodók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Pjotr</a:t>
            </a: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 </a:t>
            </a: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4"/>
              </a:rPr>
              <a:t>Alekszejevics</a:t>
            </a: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5"/>
              </a:rPr>
              <a:t> </a:t>
            </a: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6"/>
              </a:rPr>
              <a:t>Kropotkin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(1842-192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Egy forradalmár feljegyzése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5143680" y="1943280"/>
            <a:ext cx="30477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narchizmus típusai: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z individualista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</a:t>
            </a:r>
            <a:r>
              <a:rPr b="0" i="1" lang="hu-HU" sz="3200" spc="-1" strike="noStrike">
                <a:solidFill>
                  <a:srgbClr val="ffffff"/>
                </a:solidFill>
                <a:latin typeface="Garamond"/>
              </a:rPr>
              <a:t>individualista anarchizmusban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a liberalizmus hagyományának öröksége erősebb. Az individualista anarchista </a:t>
            </a:r>
            <a:r>
              <a:rPr b="0" i="1" lang="hu-HU" sz="3200" spc="-1" strike="noStrike">
                <a:solidFill>
                  <a:srgbClr val="ffffff"/>
                </a:solidFill>
                <a:latin typeface="Garamond"/>
              </a:rPr>
              <a:t>Stirner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"egoista" felfogása az önérdeket, az önérvényesítést, a minden kötöttségtől mentes szabadság fontosságát hangsúlyozza az állam és a politikai rendszer illegitim követelményeivel szembe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76360" y="1268280"/>
            <a:ext cx="640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Fő eszmeáramlatok: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Liberaliz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onzervativiz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ocializ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gyéb ideológiák: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acionalizm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narchiz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lit elmélet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Individualista anarchista gondolkodó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708440" y="1770120"/>
            <a:ext cx="38275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Max</a:t>
            </a: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 </a:t>
            </a: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4"/>
              </a:rPr>
              <a:t>Stirn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(1806-183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Az egyetlen és tulajdo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539640" y="2062080"/>
            <a:ext cx="3237120" cy="38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narchizmus típusai: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</a:t>
            </a: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vallásos anarchizmus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vallási gyökere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z, általában a nagy világvallások tradícióihoz nyúl viss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z az irányzat az emberi lények egyenlőségét hangsúlyozza, és vallásos vagy misztikus hagyományok alapján mutatja ki a politikai hatalom és mindenfajta elnyomás jogosulatlanságá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narchizmus típusai: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</a:t>
            </a: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vallásos anarchizmu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olszto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chmitt Jenő Henri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artin Buberne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Gandh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lit elmélete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1990-es évektől kezdve a társadalomtudományokban ismét szalonképessé, sőt divatossá vált az addig ritkán használt elitfogalom, amely valamikor a 19. század végén, a 20. század elején kezdett elterjedni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indenekelőtt Gaetano Mosca, Vilfredo Pareto munkássága révé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Gaetano Mos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31575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lit változást a társadalom új rétegeinek felbukkanása és szerepvállalása okoz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inden társadalom 2 részre osztható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ormányzók és kormányzottak.</a:t>
            </a:r>
            <a:r>
              <a:rPr b="1" lang="hu-H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Politikai formula: minden hatalmon lévő csoport legitimációt készít. Az elit erkölcsi és törvényes alapon uralkodi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Vilfredo Pare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929120" y="1600200"/>
            <a:ext cx="3475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agadja az osztálynélküliség lehetőségé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lveti a zárt elitcsoportok létét 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ársadalom: egyensúlyban lévő rendsz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inden társ kettéosztható: elitre és nem elit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árs tagozódása nem merev, az adott elit nem álland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Megfogalmazza az elitek cirkulációjának elvé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Elitek csoportosítása reziduumai alapján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roszlánok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radalmi szakító elit, túl merev, ideologikus, nagyelvek alapján kívánja a társadalmat átalakítani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talmát előbb- utóbb kénytelen átadn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rókák: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pragmatikus gondolkodásmód jellemzi őket, szakértelemmel rendelkeznek, kompromisszumkésze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FELHASZNÁLT IRODALO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og.com/pdf/molnar_anarchizmus.pd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ayer József: </a:t>
            </a:r>
            <a:r>
              <a:rPr b="0" i="1" lang="hu-HU" sz="3200" spc="-1" strike="noStrike">
                <a:solidFill>
                  <a:srgbClr val="ffffff"/>
                </a:solidFill>
                <a:latin typeface="Garamond"/>
              </a:rPr>
              <a:t>A politikai gondolkodás története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(Osiris, 1998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Garamond"/>
              </a:rPr>
              <a:t>ANARCHIZMUS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(MODERN IDEOLÓGIÁ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193.6.201.253/02000/02003/html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hu.wikipedia.or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zocializ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zocializmus politikai ideológia, illetve társadalmi és gazdasági rendszer, amelynek alapjai a 19. századi gondolkodásban bukkantak fel, válaszul az ipari forradalom miatt megváltozott viszonyokr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szocializmust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, mint kifejezést az utópista szocialista Robert Owen használta először a XIX. század elején. Ő a társadalmi igazságtalanságok megszüntetését értett alatt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03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zocializ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zocializmus a társadalmi egyenlőtlenségek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magántulajdon és a kizsákmányolás megszüntetésével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termelőeszközök kollektív tulajdonával kívánja orvosolni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zocialista rendszerben ideális esetben a kormány ellenőrzi a termelő folyamatokat a piac teljes kiiktatásával, a politikai hatalmat pedig a proletariátus gyakorolja. Eltűnik a vagyoni egyenlőtlenség, a szegénység és a diszkrimináció; előtérbe kerül az együttműködés és a szolidaritá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x, a szocializmus legfőbb ideológusa szerint a szocializmus átmeneti állapot a kommunizmushoz vezető történelmi átalakulási folyamatba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79480" y="1600200"/>
            <a:ext cx="3193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tő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867, Hambur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Kommunista Párt kiáltvány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848. február 2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8360" y="620640"/>
            <a:ext cx="3933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acionaliz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nacionalizmus a nemzetek kialakulásának, a nemzetté válás folyamatának ideológiája. Az egyik legtöbbet vitatott politikai eszmerendsz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nacionalizmus kifejezés jelentéstartalma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atriotizmus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mzeti identitás kitalálása és megteremtése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mzetépítés folyamata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aját közösség mások felettisége, a kirekesztés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0:48:44Z</dcterms:created>
  <dc:creator>Beáta</dc:creator>
  <dc:description/>
  <dc:language>en-US</dc:language>
  <cp:lastModifiedBy>Beáta</cp:lastModifiedBy>
  <dcterms:modified xsi:type="dcterms:W3CDTF">2007-11-29T16:00:47Z</dcterms:modified>
  <cp:revision>24</cp:revision>
  <dc:subject/>
  <dc:title> AZ ÚJKOR NAGY POLITIKAI ESZMEÁRAMLÁSA</dc:title>
</cp:coreProperties>
</file>