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DA7-5555-479C-9150-0A49125A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C82-2F64-4AA5-894B-D97E651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55D-CEC4-451C-96AB-E3E9DFF1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30A-34CE-484A-A8B9-F6403B64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323-925C-4156-9FFE-33CFEA29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EA57-8FD8-44EA-A8FB-7F9E646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1B37-9EDB-4123-8A0F-85541D1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0D99-3F2D-4463-8303-EAB721E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EAE6-6E47-4A86-B9F0-867594B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48AD-07BC-473F-BE42-440EC40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838-5506-4298-81B6-26DC34B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68B-0E75-4DAF-99D5-8F55A59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EB0-7EF8-4508-A319-7A04D794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A655-7EFB-417B-B204-D40DFE7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AAC-F0F2-478D-AB9B-874D53A5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ED29-8398-4500-87C3-F594527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F4B-B7D0-48DF-B0DB-77E8151D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11B-9B80-4E08-A798-9179584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62C-0FA3-4516-B960-313F2E31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9D0-44BE-4A74-A413-F738607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4EA-10DB-47BB-8486-D3AAA13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5F8-6F8B-4754-9C26-BF76AB2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6C6-F942-4166-A032-ACF1FC9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926-CCC0-4024-A44B-79953368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D28-7B7A-4DD9-B280-2790AEF7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A4E8-1D35-43A7-9394-6A95456B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z osztályterem pedagógiáj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ociometriai módszert tekintjük 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: az osztályközösség feltérképezé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bbközpontú, fejlett osztályszerk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%20közp%20fejlett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894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mbszerk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ömb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Mutatók kiszámít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lcsönösségi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űrűségi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éziós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Kölcsönösségi ind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90720" y="1676520"/>
                <a:ext cx="7772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ölcsönösségi inde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tal rendelkező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 csoport létszám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33520" y="2666880"/>
            <a:ext cx="784836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kölcsönösségi index </a:t>
            </a:r>
            <a:r>
              <a:rPr b="0" lang="hu-HU" sz="2200" spc="-1" strike="noStrike">
                <a:solidFill>
                  <a:srgbClr val="0099cc"/>
                </a:solidFill>
                <a:latin typeface="Times New Roman"/>
              </a:rPr>
              <a:t>a kölcsönös kapcsolattal rendelkező csoporttagok számát fejezi ki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 csoport összes taglétszámához képest. Minél magasabb ez a szám, annál kevesebb a csoportban lévő magányos egyén.  A 100%-os kölcsönösségi index azt jelentené, hogy egyetlen magányos tag sincs a csoportban, az 50 %-os szerint a csoport fele nem kötődik senkihez. A tapasztalatok szerint ez az index a csoport egyes jellemzőitől függően (a közös tevékenység jellege, az időtartama, stb.) 65-95 % között szokott len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Sűrűségi index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űrűségi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űrűségi index </a:t>
            </a:r>
            <a:r>
              <a:rPr b="0" lang="en-US" sz="2200" spc="-1" strike="noStrike">
                <a:solidFill>
                  <a:srgbClr val="3366cc"/>
                </a:solidFill>
                <a:latin typeface="Times New Roman"/>
              </a:rPr>
              <a:t>a kölcsönös kapcsolatok számának és a csoporttagok létszámának arányá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ejezi ki. Ha a csoport minden tagja egyetlen másik taggal van kölcsönös kapcsolatban, az index 0,5. (A kölcsönösségi vázlaton fele annyi kölcsönös kapcsolatot jelző vonal lesz, mint az összlétszám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05320" y="2286000"/>
                <a:ext cx="41907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ok szá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 csoport létszá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. Kohéziós ind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1752480"/>
                <a:ext cx="77724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lcsönös kapcsolatok szá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z összes lehetséges kölcsönös kapcsolatok szám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219320" y="3048120"/>
            <a:ext cx="754380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ohéziós index azt fejezi ki, hogy a társas mezőben a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lehetséges társas kapcsolatok számának hány százaléka realizálódo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z összes lehetséges kapcsolatok száma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*(n-1)/2 , ahol n a csoporttagok szá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ohéziós index átlagértéke 10 és 13% között szokott lenni. Ha 15% fölé emelkedik, magas kohézióról beszélünk. Az ilyen csoport képes feltehetően nagy együttes teljesítményekre. A 10 % alatti kohéziós index szétesett, alacsony szolidaritású közösséget jelez, ahol komolyabb együttes teljesítményre nem lehet számítan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5. Értelmezé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 a központi figurák? Mik a jellemzői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k szorultak peremre? Mik a jellemzői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 az összetartó erő az egyes mikrocsoportokban, mi közös a mikrocsoportok tagjaib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z osztályterem pedagógiáj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A szociometriai módszer lépés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Kérdőív kitölte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Táblázatszerk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A szociogram ábráz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Mutatók kiszám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5. A szociogram értelm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 Kérdőív kitölteté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kérdések tém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konsze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z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átermettség, csoportbeli funkci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épességek, adottsá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épszerű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ramokat, számokat használu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 Táblázatszerkeszté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lcsönös rokonszenvi választásokat táblázatos formában rögzítjü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8400" y="2030400"/>
            <a:ext cx="7851600" cy="197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38240" cy="26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1038240" cy="88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400800" y="4343400"/>
            <a:ext cx="103824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Csillag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gy személynek több kölcsönös kapcsolata van, de azok között, akik hozzá kötődnek, nincs kapcso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Lánc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m lezárt, párok egymáshoz kapcsoló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Times New Roman"/>
              </a:rPr>
              <a:t>Pere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súlyosabb esete a magá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152360" cy="115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495440" cy="1415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4876920"/>
            <a:ext cx="27525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mazszerű, kezdet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halmaz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7066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laza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3366"/>
                </a:solidFill>
                <a:latin typeface="Times New Roman"/>
              </a:rPr>
              <a:t>3. A szociogram ábrázolás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központú, széles peremű, fejlet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fejletlen%20sz%20perem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800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0:46:11Z</dcterms:created>
  <dc:creator>Gocsal Ákos</dc:creator>
  <dc:description/>
  <dc:language>en-US</dc:language>
  <cp:lastModifiedBy>Gocsal Ákos</cp:lastModifiedBy>
  <dcterms:modified xsi:type="dcterms:W3CDTF">2004-04-29T13:01:44Z</dcterms:modified>
  <cp:revision>6</cp:revision>
  <dc:subject/>
  <dc:title>Az osztályterem pedagógiája</dc:title>
</cp:coreProperties>
</file>