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98C-EF0F-4014-8C2A-2AE75F3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632-A903-4C0C-8F7D-4553EF5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6FC-14A4-4899-A083-A917F0E2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220-1D46-4B1A-8239-CF0F2CED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1659-A087-4A22-8D71-F8DFB88B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1AF7-9A93-4AF8-9219-F449206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2509-D25F-4E39-B4F9-C857234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F8CB-D4DB-4044-B5F2-560F5E74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5CC-DE87-4AC8-ABD8-CB463A9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58FD-C2C6-4C30-A8AA-6BD3811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3926-4F8A-482F-87CA-55E225B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94E-64BC-459F-AA70-E3B7476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1AB3-4313-494E-9D29-A01674B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80A-FBD4-4AEB-9B52-0104939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4E5B-9DFC-4126-9F3B-720DC5F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ADEA-FEBB-4489-9295-CA53FC91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B8B-6840-46FA-BFDE-51B416F2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3F6-7C24-4788-8738-0783166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B14-061C-4938-A1CE-13F3F3C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E4F-9DC4-4C80-B372-4470341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976-25E5-42BF-B902-E7CA45B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DEC-E848-4F2F-848A-5DE5EF0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598-0075-42ED-930A-86C093B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CF2-AE2A-4B32-A97C-42F31A5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D10-FE99-4FF2-9939-62AF41C69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97C-48AC-4AFA-A9A3-2356A12F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z osztályterem pedagógiáj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ociometriai módszert tekintjük 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: az osztályközösség feltérképezé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bbközpontú, fejlett osztályszerk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%20közp%20fejlett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894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mbszerk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ömb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Mutatók kiszámít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lcsönösségi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űrűségi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éziós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Kölcsönösségi ind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90720" y="1676520"/>
                <a:ext cx="7772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ölcsönösségi inde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tal rendelkező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 csoport létszám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33520" y="2666880"/>
            <a:ext cx="784836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kölcsönösségi index </a:t>
            </a:r>
            <a:r>
              <a:rPr b="0" lang="hu-HU" sz="2200" spc="-1" strike="noStrike">
                <a:solidFill>
                  <a:srgbClr val="0099cc"/>
                </a:solidFill>
                <a:latin typeface="Times New Roman"/>
              </a:rPr>
              <a:t>a kölcsönös kapcsolattal rendelkező csoporttagok számát fejezi k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 csoport összes taglétszámához képest. Minél magasabb ez a szám, annál kevesebb a csoportban lévő magányos egyén.  A 100%-os kölcsönösségi index azt jelentené, hogy egyetlen magányos tag sincs a csoportban, az 50 %-os szerint a csoport fele nem kötődik senkihez. A tapasztalatok szerint ez az index a csoport egyes jellemzőitől függően (a közös tevékenység jellege, az időtartama, stb.) 65-95 % között szokott len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Sűrűségi index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űrűségi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űrűségi index </a:t>
            </a:r>
            <a:r>
              <a:rPr b="0" lang="en-US" sz="2200" spc="-1" strike="noStrike">
                <a:solidFill>
                  <a:srgbClr val="3366cc"/>
                </a:solidFill>
                <a:latin typeface="Times New Roman"/>
              </a:rPr>
              <a:t>a kölcsönös kapcsolatok számának és a csoporttagok létszámának arányá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ejezi ki. Ha a csoport minden tagja egyetlen másik taggal van kölcsönös kapcsolatban, az index 0,5. (A kölcsönösségi vázlaton fele annyi kölcsönös kapcsolatot jelző vonal lesz, mint az összlétszám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05320" y="2286000"/>
                <a:ext cx="41907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ok szá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 csoport létszá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Kohéziós ind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1752480"/>
                <a:ext cx="77724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ok szá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z összes lehetséges kölcsönös kapcsolatok szám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219320" y="3048120"/>
            <a:ext cx="754380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ohéziós index azt fejezi ki, hogy a társas mezőben a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lehetséges társas kapcsolatok számának hány százaléka realizálódo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z összes lehetséges kapcsolatok száma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*(n-1)/2 , ahol n a csoporttagok szá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ohéziós index átlagértéke 10 és 13% között szokott lenni. Ha 15% fölé emelkedik, magas kohézióról beszélünk. Az ilyen csoport képes feltehetően nagy együttes teljesítményekre. A 10 % alatti kohéziós index szétesett, alacsony szolidaritású közösséget jelez, ahol komolyabb együttes teljesítményre nem lehet számítan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5. Értelmezé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 a központi figurák? Mik a jellemzői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 szorultak peremre? Mik a jellemzői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 az összetartó erő az egyes mikrocsoportokban, mi közös a mikrocsoportok tagjaib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z osztályterem pedagógiáj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A szociometriai módszer lépés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Kérdőív kitölte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Táblázatszerk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A szociogram ábráz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Mutatók kiszám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5. A szociogram értelm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 Kérdőív kitölteté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kérdések tém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konsze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z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átermettség, csoportbeli funkci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épességek, adottsá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épszerű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ramokat, számokat használu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 Táblázatszerkeszté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lcsönös rokonszenvi választásokat táblázatos formában rögzítjü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8400" y="2030400"/>
            <a:ext cx="7851600" cy="197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38240" cy="26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1038240" cy="88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400800" y="4343400"/>
            <a:ext cx="103824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Csillag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gy személynek több kölcsönös kapcsolata van, de azok között, akik hozzá kötődnek, nincs kapcso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Lánc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m lezárt, párok egymáshoz kapcsoló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Pere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súlyosabb esete a magá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152360" cy="11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495440" cy="1415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4876920"/>
            <a:ext cx="27525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mazszerű, kezdet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halmaz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7066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laza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központú, széles peremű, fejlet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fejletlen%20sz%20perem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800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0:46:11Z</dcterms:created>
  <dc:creator>Gocsal Ákos</dc:creator>
  <dc:description/>
  <dc:language>en-US</dc:language>
  <cp:lastModifiedBy>Gocsal Ákos</cp:lastModifiedBy>
  <dcterms:modified xsi:type="dcterms:W3CDTF">2004-04-29T13:01:44Z</dcterms:modified>
  <cp:revision>6</cp:revision>
  <dc:subject/>
  <dc:title>Az osztályterem pedagógiája</dc:title>
</cp:coreProperties>
</file>