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  <p:sldId id="344" r:id="rId97"/>
    <p:sldId id="345" r:id="rId98"/>
    <p:sldId id="346" r:id="rId99"/>
    <p:sldId id="347" r:id="rId100"/>
    <p:sldId id="348" r:id="rId101"/>
    <p:sldId id="349" r:id="rId102"/>
    <p:sldId id="350" r:id="rId103"/>
    <p:sldId id="351" r:id="rId104"/>
    <p:sldId id="352" r:id="rId105"/>
    <p:sldId id="353" r:id="rId106"/>
    <p:sldId id="354" r:id="rId107"/>
    <p:sldId id="355" r:id="rId108"/>
    <p:sldId id="356" r:id="rId109"/>
    <p:sldId id="357" r:id="rId110"/>
    <p:sldId id="358" r:id="rId111"/>
    <p:sldId id="359" r:id="rId112"/>
    <p:sldId id="360" r:id="rId113"/>
    <p:sldId id="361" r:id="rId114"/>
    <p:sldId id="362" r:id="rId115"/>
    <p:sldId id="363" r:id="rId116"/>
    <p:sldId id="364" r:id="rId117"/>
    <p:sldId id="365" r:id="rId118"/>
    <p:sldId id="366" r:id="rId119"/>
    <p:sldId id="367" r:id="rId120"/>
    <p:sldId id="368" r:id="rId121"/>
    <p:sldId id="369" r:id="rId122"/>
    <p:sldId id="370" r:id="rId123"/>
    <p:sldId id="371" r:id="rId124"/>
    <p:sldId id="372" r:id="rId125"/>
    <p:sldId id="373" r:id="rId126"/>
    <p:sldId id="374" r:id="rId127"/>
    <p:sldId id="375" r:id="rId128"/>
    <p:sldId id="376" r:id="rId129"/>
    <p:sldId id="377" r:id="rId130"/>
    <p:sldId id="378" r:id="rId131"/>
    <p:sldId id="379" r:id="rId132"/>
    <p:sldId id="380" r:id="rId133"/>
    <p:sldId id="381" r:id="rId134"/>
    <p:sldId id="382" r:id="rId135"/>
    <p:sldId id="383" r:id="rId136"/>
    <p:sldId id="384" r:id="rId137"/>
    <p:sldId id="385" r:id="rId138"/>
    <p:sldId id="386" r:id="rId139"/>
    <p:sldId id="387" r:id="rId140"/>
    <p:sldId id="388" r:id="rId141"/>
    <p:sldId id="389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slide" Target="slides/slide89.xml"/><Relationship Id="rId98" Type="http://schemas.openxmlformats.org/officeDocument/2006/relationships/slide" Target="slides/slide90.xml"/><Relationship Id="rId99" Type="http://schemas.openxmlformats.org/officeDocument/2006/relationships/slide" Target="slides/slide91.xml"/><Relationship Id="rId100" Type="http://schemas.openxmlformats.org/officeDocument/2006/relationships/slide" Target="slides/slide92.xml"/><Relationship Id="rId101" Type="http://schemas.openxmlformats.org/officeDocument/2006/relationships/slide" Target="slides/slide93.xml"/><Relationship Id="rId102" Type="http://schemas.openxmlformats.org/officeDocument/2006/relationships/slide" Target="slides/slide94.xml"/><Relationship Id="rId103" Type="http://schemas.openxmlformats.org/officeDocument/2006/relationships/slide" Target="slides/slide95.xml"/><Relationship Id="rId104" Type="http://schemas.openxmlformats.org/officeDocument/2006/relationships/slide" Target="slides/slide96.xml"/><Relationship Id="rId105" Type="http://schemas.openxmlformats.org/officeDocument/2006/relationships/slide" Target="slides/slide97.xml"/><Relationship Id="rId106" Type="http://schemas.openxmlformats.org/officeDocument/2006/relationships/slide" Target="slides/slide98.xml"/><Relationship Id="rId107" Type="http://schemas.openxmlformats.org/officeDocument/2006/relationships/slide" Target="slides/slide99.xml"/><Relationship Id="rId108" Type="http://schemas.openxmlformats.org/officeDocument/2006/relationships/slide" Target="slides/slide100.xml"/><Relationship Id="rId109" Type="http://schemas.openxmlformats.org/officeDocument/2006/relationships/slide" Target="slides/slide101.xml"/><Relationship Id="rId110" Type="http://schemas.openxmlformats.org/officeDocument/2006/relationships/slide" Target="slides/slide102.xml"/><Relationship Id="rId111" Type="http://schemas.openxmlformats.org/officeDocument/2006/relationships/slide" Target="slides/slide103.xml"/><Relationship Id="rId112" Type="http://schemas.openxmlformats.org/officeDocument/2006/relationships/slide" Target="slides/slide104.xml"/><Relationship Id="rId113" Type="http://schemas.openxmlformats.org/officeDocument/2006/relationships/slide" Target="slides/slide105.xml"/><Relationship Id="rId114" Type="http://schemas.openxmlformats.org/officeDocument/2006/relationships/slide" Target="slides/slide106.xml"/><Relationship Id="rId115" Type="http://schemas.openxmlformats.org/officeDocument/2006/relationships/slide" Target="slides/slide107.xml"/><Relationship Id="rId116" Type="http://schemas.openxmlformats.org/officeDocument/2006/relationships/slide" Target="slides/slide108.xml"/><Relationship Id="rId117" Type="http://schemas.openxmlformats.org/officeDocument/2006/relationships/slide" Target="slides/slide109.xml"/><Relationship Id="rId118" Type="http://schemas.openxmlformats.org/officeDocument/2006/relationships/slide" Target="slides/slide110.xml"/><Relationship Id="rId119" Type="http://schemas.openxmlformats.org/officeDocument/2006/relationships/slide" Target="slides/slide111.xml"/><Relationship Id="rId120" Type="http://schemas.openxmlformats.org/officeDocument/2006/relationships/slide" Target="slides/slide112.xml"/><Relationship Id="rId121" Type="http://schemas.openxmlformats.org/officeDocument/2006/relationships/slide" Target="slides/slide113.xml"/><Relationship Id="rId122" Type="http://schemas.openxmlformats.org/officeDocument/2006/relationships/slide" Target="slides/slide114.xml"/><Relationship Id="rId123" Type="http://schemas.openxmlformats.org/officeDocument/2006/relationships/slide" Target="slides/slide115.xml"/><Relationship Id="rId124" Type="http://schemas.openxmlformats.org/officeDocument/2006/relationships/slide" Target="slides/slide116.xml"/><Relationship Id="rId125" Type="http://schemas.openxmlformats.org/officeDocument/2006/relationships/slide" Target="slides/slide117.xml"/><Relationship Id="rId126" Type="http://schemas.openxmlformats.org/officeDocument/2006/relationships/slide" Target="slides/slide118.xml"/><Relationship Id="rId127" Type="http://schemas.openxmlformats.org/officeDocument/2006/relationships/slide" Target="slides/slide119.xml"/><Relationship Id="rId128" Type="http://schemas.openxmlformats.org/officeDocument/2006/relationships/slide" Target="slides/slide120.xml"/><Relationship Id="rId129" Type="http://schemas.openxmlformats.org/officeDocument/2006/relationships/slide" Target="slides/slide121.xml"/><Relationship Id="rId130" Type="http://schemas.openxmlformats.org/officeDocument/2006/relationships/slide" Target="slides/slide122.xml"/><Relationship Id="rId131" Type="http://schemas.openxmlformats.org/officeDocument/2006/relationships/slide" Target="slides/slide123.xml"/><Relationship Id="rId132" Type="http://schemas.openxmlformats.org/officeDocument/2006/relationships/slide" Target="slides/slide124.xml"/><Relationship Id="rId133" Type="http://schemas.openxmlformats.org/officeDocument/2006/relationships/slide" Target="slides/slide125.xml"/><Relationship Id="rId134" Type="http://schemas.openxmlformats.org/officeDocument/2006/relationships/slide" Target="slides/slide126.xml"/><Relationship Id="rId135" Type="http://schemas.openxmlformats.org/officeDocument/2006/relationships/slide" Target="slides/slide127.xml"/><Relationship Id="rId136" Type="http://schemas.openxmlformats.org/officeDocument/2006/relationships/slide" Target="slides/slide128.xml"/><Relationship Id="rId137" Type="http://schemas.openxmlformats.org/officeDocument/2006/relationships/slide" Target="slides/slide129.xml"/><Relationship Id="rId138" Type="http://schemas.openxmlformats.org/officeDocument/2006/relationships/slide" Target="slides/slide130.xml"/><Relationship Id="rId139" Type="http://schemas.openxmlformats.org/officeDocument/2006/relationships/slide" Target="slides/slide131.xml"/><Relationship Id="rId140" Type="http://schemas.openxmlformats.org/officeDocument/2006/relationships/slide" Target="slides/slide132.xml"/><Relationship Id="rId141" Type="http://schemas.openxmlformats.org/officeDocument/2006/relationships/slide" Target="slides/slide133.xml"/><Relationship Id="rId142" Type="http://schemas.openxmlformats.org/officeDocument/2006/relationships/slide" Target="slides/slide134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A93-2FDC-4503-B627-C06D9CD7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734-99CA-4FBD-A20B-FB37216C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14C-8C77-401D-BA83-7F3BF1FD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181-05C7-41E7-AB9E-C3405715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B415-8AD3-4209-82A2-5E516B53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559E-FE1D-45DC-8B92-7DF5C405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138A-BD6B-431B-8CC7-E30F8EBE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9094-5A1B-4BB7-A9D2-49AD9CF2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FA69-E20A-4C2C-8A0F-5F3E4521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F28B-6201-4FAB-B404-3D76BF14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9F20-6121-4064-8ACD-B26A6E0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E81-10F7-45F1-B687-8DD74DE1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F561-CE0F-4CFC-8CEA-AA118580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83F4-1343-4257-963E-0BE1EFE6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ABA0-2B0F-427D-97F8-74482FE9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EBE3-960D-440F-8039-24975BBA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BAE7-2947-4B98-BC65-63E205A3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ECAC4-98DB-4C2B-8CDC-94D31B9E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A5E0-6657-4EED-BF96-53ED3A86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60A98-27B0-4BA2-A8A6-AC3357B2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C751-0695-4F44-BB97-F0EA1845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CA75-37CE-4880-AAFA-18C4A5A5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B7F-05FD-4878-AE6E-2C755BC3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83AF-73A3-4235-98AE-E78A6827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85EF-364D-4EE8-BF7B-FFC3B7C8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A7F0-511A-4125-90C2-747A5E4D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D4ABB-172E-4E85-9F8E-8ED18CF0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93EB-B652-499F-96E2-2FE0F927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652A-0267-470F-9A55-07C74C9C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4C4D-B7B8-4F54-A386-710D6790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72256-167B-429B-933A-477B466C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3F8E-61AD-4AD0-82BE-9D80329B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D2E5F-66A3-4B5B-A163-EE35FF4B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4D0-7481-4C6E-A815-1DCA0A77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C678-2FDB-4634-87F8-16FA7EDB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33F6-07E5-47C0-BF34-997F19E1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0BD96-AA79-4C5B-9D26-D085052C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2C2F5-B072-46C0-996D-36200C56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80F31-5D98-4B72-92F2-C14BCBBC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8323-3B8C-418E-983A-12833FF8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1F52-CD89-482E-8599-B258AD00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BA67-33A0-479A-8010-6502872A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D98B8-0D3C-4DC8-84F4-4AF8029C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036B1-2E02-4F3B-8EC2-82FCFBAB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CE7-DF4E-4769-B7A5-702395C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8EBDF-6249-49CD-B931-561EBA88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5FD72-962B-4042-9F4A-27C19841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4B46F-13D1-4D44-A543-42D75243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3B890-80A1-4403-BF45-00D6D36D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2A50E-E783-408D-A998-1B95024E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EB569-D324-4ECE-84C6-4A35B8DD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7F3A4-3772-4064-B6AE-8FF46542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16A4B-5294-41C7-9272-CEC3A227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763D9-2B10-4F65-95DF-347D0DE7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D2976-84F2-4567-B5E5-96E3A738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E1C-F78E-40F0-ACBF-7C743A9E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E091-FF46-4EEF-86A0-3AA6C164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BA2D5-9282-466B-A2BC-6D12D729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F1AC9-56BA-4E2D-8A05-2A1EA5C0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5A27-2264-474F-B59A-C79AE61F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E4346-13A1-4BC9-AB18-616364F4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37907-8B72-4869-AEE2-1BBB8CF5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E4FE7-FDEE-4BC2-89E2-29471FD4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B731C-6FF9-49F0-8B61-663FF997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2B4C3-8A16-4CF1-B6BF-AD7DD9EE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B17F1-8F8C-4027-8021-F4EB1592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898-2555-4B3E-9878-C30EDDB0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457E6-E880-421D-8F1A-9CDEFA9A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9C881-C128-4D7F-89F8-7FBC80F8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C7A5B-ED0F-4DDD-B640-CFE41C24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B86A9-AC76-4FEB-B723-20FC2F08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47FF3-F286-4AC2-9FB4-24908988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2503A-C1CB-4413-A366-19C600DF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B44AC-65B9-41AC-9250-A2D7389B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21FB3-BACF-479B-B111-D72F7455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CD8EC-7F66-4E19-BFA5-49735211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8A6DC-4AC1-4DD8-889D-BBA94F4A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985-927E-4B20-8029-9B5B9900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A2B24-4510-4B0F-804F-D416950B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6213F-711E-4342-A6F2-D1E64410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30035-7F7B-44F4-BEC5-775F5E48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F1DB2-4C7E-4098-8F2B-4726EB9F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7A9B7-4623-4F4B-828A-CBE704A7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EF2-0221-4F72-9E7B-2E91275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ör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lipszis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Fánk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Fánk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Téglalap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8C50-CAE3-4421-B35F-4A011B55EA7A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églalap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Kör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zis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Fánk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Fánk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églalap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églalap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lipszis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lipszis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lipszis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3096-6A48-47C0-A3AC-FA7FE50B4292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églalap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églalap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lipszis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lipszis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lipszis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0D86-6AF0-46BE-AE61-1ACF2420C033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F94E-3163-49F4-8225-728A791515F3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églalap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églalap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AC10-4194-4B5F-B4C8-F86F83F6B898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79CE-B4CE-4955-AD4F-D143D9BD2CFB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Téglalap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Téglalap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olyamatábra: Feldolgozá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lyamatábra: Feldolgozá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997D-BF96-4DFE-ACC7-D4E453D6B288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Operációkutatá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3e56"/>
                </a:solidFill>
                <a:latin typeface="Gill Sans MT"/>
              </a:rPr>
              <a:t>8. szeminár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 –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Válasszuk ki a C’ egy olyan n elemét, amelyik a legközelebb van a C valamelyik m eleméhez. Ekkor az (m,n) él a minimális feszítőfa eleme lesz. Az n csúcsot áttesszük C’-ből C-be, majd visszatérünk az előző lépéshez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5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6" name="Egyenes összekötő nyíllal 69"/>
          <p:cNvCxnSpPr>
            <a:stCxn id="2265" idx="7"/>
            <a:endCxn id="226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67" name="Egyenes összekötő nyíllal 72"/>
          <p:cNvCxnSpPr>
            <a:stCxn id="2265" idx="5"/>
            <a:endCxn id="225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68" name="Egyenes összekötő nyíllal 76"/>
          <p:cNvCxnSpPr>
            <a:stCxn id="2262" idx="7"/>
            <a:endCxn id="225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69" name="Egyenes összekötő nyíllal 80"/>
          <p:cNvCxnSpPr>
            <a:stCxn id="2262" idx="3"/>
            <a:endCxn id="225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0" name="Egyenes összekötő nyíllal 83"/>
          <p:cNvCxnSpPr>
            <a:stCxn id="2261" idx="5"/>
            <a:endCxn id="226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1" name="Egyenes összekötő nyíllal 86"/>
          <p:cNvCxnSpPr>
            <a:endCxn id="225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2" name="Egyenes összekötő nyíllal 97"/>
          <p:cNvCxnSpPr>
            <a:stCxn id="2259" idx="6"/>
            <a:endCxn id="226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3" name="Egyenes összekötő nyíllal 100"/>
          <p:cNvCxnSpPr>
            <a:stCxn id="2265" idx="6"/>
            <a:endCxn id="226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4" name="Egyenes összekötő nyíllal 107"/>
          <p:cNvCxnSpPr>
            <a:stCxn id="2258" idx="5"/>
            <a:endCxn id="226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5" name="Egyenes összekötő nyíllal 111"/>
          <p:cNvCxnSpPr>
            <a:stCxn id="2260" idx="7"/>
            <a:endCxn id="226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6" name="Egyenes összekötő nyíllal 116"/>
          <p:cNvCxnSpPr>
            <a:stCxn id="2260" idx="0"/>
            <a:endCxn id="225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7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6" name="Egyenes összekötő nyíllal 128"/>
          <p:cNvCxnSpPr>
            <a:stCxn id="2262" idx="5"/>
            <a:endCxn id="226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8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9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8" name="Egyenes összekötő nyíllal 69"/>
          <p:cNvCxnSpPr>
            <a:stCxn id="2297" idx="7"/>
            <a:endCxn id="229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99" name="Egyenes összekötő nyíllal 72"/>
          <p:cNvCxnSpPr>
            <a:stCxn id="2297" idx="5"/>
            <a:endCxn id="229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0" name="Egyenes összekötő nyíllal 76"/>
          <p:cNvCxnSpPr>
            <a:stCxn id="2294" idx="7"/>
            <a:endCxn id="229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1" name="Egyenes összekötő nyíllal 80"/>
          <p:cNvCxnSpPr>
            <a:stCxn id="2294" idx="3"/>
            <a:endCxn id="229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2" name="Egyenes összekötő nyíllal 83"/>
          <p:cNvCxnSpPr>
            <a:stCxn id="2293" idx="5"/>
            <a:endCxn id="229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3" name="Egyenes összekötő nyíllal 86"/>
          <p:cNvCxnSpPr>
            <a:endCxn id="229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4" name="Egyenes összekötő nyíllal 97"/>
          <p:cNvCxnSpPr>
            <a:stCxn id="2291" idx="6"/>
            <a:endCxn id="229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5" name="Egyenes összekötő nyíllal 100"/>
          <p:cNvCxnSpPr>
            <a:stCxn id="2297" idx="6"/>
            <a:endCxn id="229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6" name="Egyenes összekötő nyíllal 107"/>
          <p:cNvCxnSpPr>
            <a:stCxn id="2290" idx="5"/>
            <a:endCxn id="229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7" name="Egyenes összekötő nyíllal 111"/>
          <p:cNvCxnSpPr>
            <a:stCxn id="2292" idx="7"/>
            <a:endCxn id="229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8" name="Egyenes összekötő nyíllal 116"/>
          <p:cNvCxnSpPr>
            <a:stCxn id="2292" idx="0"/>
            <a:endCxn id="229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0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8" name="Egyenes összekötő nyíllal 128"/>
          <p:cNvCxnSpPr>
            <a:stCxn id="2294" idx="5"/>
            <a:endCxn id="229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1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Szövegdoboz 32"/>
          <p:cNvSpPr/>
          <p:nvPr/>
        </p:nvSpPr>
        <p:spPr>
          <a:xfrm>
            <a:off x="6219360" y="405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2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0" name="Egyenes összekötő nyíllal 69"/>
          <p:cNvCxnSpPr>
            <a:stCxn id="2329" idx="7"/>
            <a:endCxn id="232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1" name="Egyenes összekötő nyíllal 72"/>
          <p:cNvCxnSpPr>
            <a:stCxn id="2329" idx="5"/>
            <a:endCxn id="232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2" name="Egyenes összekötő nyíllal 76"/>
          <p:cNvCxnSpPr>
            <a:stCxn id="2326" idx="7"/>
            <a:endCxn id="232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3" name="Egyenes összekötő nyíllal 80"/>
          <p:cNvCxnSpPr>
            <a:stCxn id="2326" idx="3"/>
            <a:endCxn id="232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4" name="Egyenes összekötő nyíllal 83"/>
          <p:cNvCxnSpPr>
            <a:stCxn id="2325" idx="5"/>
            <a:endCxn id="232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5" name="Egyenes összekötő nyíllal 86"/>
          <p:cNvCxnSpPr>
            <a:endCxn id="232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6" name="Egyenes összekötő nyíllal 97"/>
          <p:cNvCxnSpPr>
            <a:stCxn id="2323" idx="6"/>
            <a:endCxn id="232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7" name="Egyenes összekötő nyíllal 100"/>
          <p:cNvCxnSpPr>
            <a:stCxn id="2329" idx="6"/>
            <a:endCxn id="232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8" name="Egyenes összekötő nyíllal 107"/>
          <p:cNvCxnSpPr>
            <a:stCxn id="2322" idx="5"/>
            <a:endCxn id="232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9" name="Egyenes összekötő nyíllal 111"/>
          <p:cNvCxnSpPr>
            <a:stCxn id="2324" idx="7"/>
            <a:endCxn id="232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40" name="Egyenes összekötő nyíllal 116"/>
          <p:cNvCxnSpPr>
            <a:stCxn id="2324" idx="0"/>
            <a:endCxn id="232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4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0" name="Egyenes összekötő nyíllal 128"/>
          <p:cNvCxnSpPr>
            <a:stCxn id="2326" idx="5"/>
            <a:endCxn id="232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5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5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2" name="Egyenes összekötő nyíllal 69"/>
          <p:cNvCxnSpPr>
            <a:stCxn id="2361" idx="7"/>
            <a:endCxn id="235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3" name="Egyenes összekötő nyíllal 72"/>
          <p:cNvCxnSpPr>
            <a:stCxn id="2361" idx="5"/>
            <a:endCxn id="235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4" name="Egyenes összekötő nyíllal 76"/>
          <p:cNvCxnSpPr>
            <a:stCxn id="2358" idx="7"/>
            <a:endCxn id="235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5" name="Egyenes összekötő nyíllal 80"/>
          <p:cNvCxnSpPr>
            <a:stCxn id="2358" idx="3"/>
            <a:endCxn id="235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6" name="Egyenes összekötő nyíllal 83"/>
          <p:cNvCxnSpPr>
            <a:stCxn id="2357" idx="5"/>
            <a:endCxn id="235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7" name="Egyenes összekötő nyíllal 86"/>
          <p:cNvCxnSpPr>
            <a:endCxn id="235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8" name="Egyenes összekötő nyíllal 97"/>
          <p:cNvCxnSpPr>
            <a:stCxn id="2355" idx="6"/>
            <a:endCxn id="235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9" name="Egyenes összekötő nyíllal 100"/>
          <p:cNvCxnSpPr>
            <a:stCxn id="2361" idx="6"/>
            <a:endCxn id="235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70" name="Egyenes összekötő nyíllal 107"/>
          <p:cNvCxnSpPr>
            <a:stCxn id="2354" idx="5"/>
            <a:endCxn id="236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71" name="Egyenes összekötő nyíllal 111"/>
          <p:cNvCxnSpPr>
            <a:stCxn id="2356" idx="7"/>
            <a:endCxn id="236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72" name="Egyenes összekötő nyíllal 116"/>
          <p:cNvCxnSpPr>
            <a:stCxn id="2356" idx="0"/>
            <a:endCxn id="235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7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2" name="Egyenes összekötő nyíllal 128"/>
          <p:cNvCxnSpPr>
            <a:stCxn id="2358" idx="5"/>
            <a:endCxn id="235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8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8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4" name="Egyenes összekötő nyíllal 69"/>
          <p:cNvCxnSpPr>
            <a:stCxn id="2393" idx="7"/>
            <a:endCxn id="238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95" name="Egyenes összekötő nyíllal 72"/>
          <p:cNvCxnSpPr>
            <a:stCxn id="2393" idx="5"/>
            <a:endCxn id="238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96" name="Egyenes összekötő nyíllal 76"/>
          <p:cNvCxnSpPr>
            <a:stCxn id="2390" idx="7"/>
            <a:endCxn id="238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97" name="Egyenes összekötő nyíllal 80"/>
          <p:cNvCxnSpPr>
            <a:stCxn id="2390" idx="3"/>
            <a:endCxn id="238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98" name="Egyenes összekötő nyíllal 83"/>
          <p:cNvCxnSpPr>
            <a:stCxn id="2389" idx="5"/>
            <a:endCxn id="239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99" name="Egyenes összekötő nyíllal 86"/>
          <p:cNvCxnSpPr>
            <a:endCxn id="238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00" name="Egyenes összekötő nyíllal 97"/>
          <p:cNvCxnSpPr>
            <a:stCxn id="2387" idx="6"/>
            <a:endCxn id="238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01" name="Egyenes összekötő nyíllal 100"/>
          <p:cNvCxnSpPr>
            <a:stCxn id="2393" idx="6"/>
            <a:endCxn id="239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02" name="Egyenes összekötő nyíllal 107"/>
          <p:cNvCxnSpPr>
            <a:stCxn id="2386" idx="5"/>
            <a:endCxn id="239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03" name="Egyenes összekötő nyíllal 111"/>
          <p:cNvCxnSpPr>
            <a:stCxn id="2388" idx="7"/>
            <a:endCxn id="239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04" name="Egyenes összekötő nyíllal 116"/>
          <p:cNvCxnSpPr>
            <a:stCxn id="2388" idx="0"/>
            <a:endCxn id="238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0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4" name="Egyenes összekötő nyíllal 128"/>
          <p:cNvCxnSpPr>
            <a:stCxn id="2390" idx="5"/>
            <a:endCxn id="238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1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1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6" name="Egyenes összekötő nyíllal 69"/>
          <p:cNvCxnSpPr>
            <a:stCxn id="2425" idx="7"/>
            <a:endCxn id="242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27" name="Egyenes összekötő nyíllal 72"/>
          <p:cNvCxnSpPr>
            <a:stCxn id="2425" idx="5"/>
            <a:endCxn id="241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28" name="Egyenes összekötő nyíllal 76"/>
          <p:cNvCxnSpPr>
            <a:stCxn id="2422" idx="7"/>
            <a:endCxn id="241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29" name="Egyenes összekötő nyíllal 80"/>
          <p:cNvCxnSpPr>
            <a:stCxn id="2422" idx="3"/>
            <a:endCxn id="241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0" name="Egyenes összekötő nyíllal 83"/>
          <p:cNvCxnSpPr>
            <a:stCxn id="2421" idx="5"/>
            <a:endCxn id="242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1" name="Egyenes összekötő nyíllal 86"/>
          <p:cNvCxnSpPr>
            <a:endCxn id="241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2" name="Egyenes összekötő nyíllal 97"/>
          <p:cNvCxnSpPr>
            <a:stCxn id="2419" idx="6"/>
            <a:endCxn id="242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3" name="Egyenes összekötő nyíllal 100"/>
          <p:cNvCxnSpPr>
            <a:stCxn id="2425" idx="6"/>
            <a:endCxn id="242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4" name="Egyenes összekötő nyíllal 107"/>
          <p:cNvCxnSpPr>
            <a:stCxn id="2418" idx="5"/>
            <a:endCxn id="242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5" name="Egyenes összekötő nyíllal 111"/>
          <p:cNvCxnSpPr>
            <a:stCxn id="2420" idx="7"/>
            <a:endCxn id="242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6" name="Egyenes összekötő nyíllal 116"/>
          <p:cNvCxnSpPr>
            <a:stCxn id="2420" idx="0"/>
            <a:endCxn id="241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3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6" name="Egyenes összekötő nyíllal 128"/>
          <p:cNvCxnSpPr>
            <a:stCxn id="2422" idx="5"/>
            <a:endCxn id="242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4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5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8" name="Egyenes összekötő nyíllal 69"/>
          <p:cNvCxnSpPr>
            <a:stCxn id="2457" idx="7"/>
            <a:endCxn id="245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59" name="Egyenes összekötő nyíllal 72"/>
          <p:cNvCxnSpPr>
            <a:stCxn id="2457" idx="5"/>
            <a:endCxn id="245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0" name="Egyenes összekötő nyíllal 76"/>
          <p:cNvCxnSpPr>
            <a:stCxn id="2454" idx="7"/>
            <a:endCxn id="245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1" name="Egyenes összekötő nyíllal 80"/>
          <p:cNvCxnSpPr>
            <a:stCxn id="2454" idx="3"/>
            <a:endCxn id="245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2" name="Egyenes összekötő nyíllal 83"/>
          <p:cNvCxnSpPr>
            <a:stCxn id="2453" idx="5"/>
            <a:endCxn id="245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3" name="Egyenes összekötő nyíllal 86"/>
          <p:cNvCxnSpPr>
            <a:endCxn id="245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4" name="Egyenes összekötő nyíllal 97"/>
          <p:cNvCxnSpPr>
            <a:stCxn id="2451" idx="6"/>
            <a:endCxn id="245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5" name="Egyenes összekötő nyíllal 100"/>
          <p:cNvCxnSpPr>
            <a:stCxn id="2457" idx="6"/>
            <a:endCxn id="245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6" name="Egyenes összekötő nyíllal 107"/>
          <p:cNvCxnSpPr>
            <a:stCxn id="2450" idx="5"/>
            <a:endCxn id="245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7" name="Egyenes összekötő nyíllal 111"/>
          <p:cNvCxnSpPr>
            <a:stCxn id="2452" idx="7"/>
            <a:endCxn id="245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8" name="Egyenes összekötő nyíllal 116"/>
          <p:cNvCxnSpPr>
            <a:stCxn id="2452" idx="0"/>
            <a:endCxn id="245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6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8" name="Egyenes összekötő nyíllal 128"/>
          <p:cNvCxnSpPr>
            <a:stCxn id="2454" idx="5"/>
            <a:endCxn id="245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7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8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0" name="Egyenes összekötő nyíllal 69"/>
          <p:cNvCxnSpPr>
            <a:stCxn id="2489" idx="7"/>
            <a:endCxn id="248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1" name="Egyenes összekötő nyíllal 72"/>
          <p:cNvCxnSpPr>
            <a:stCxn id="2489" idx="5"/>
            <a:endCxn id="248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2" name="Egyenes összekötő nyíllal 76"/>
          <p:cNvCxnSpPr>
            <a:stCxn id="2486" idx="7"/>
            <a:endCxn id="248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3" name="Egyenes összekötő nyíllal 80"/>
          <p:cNvCxnSpPr>
            <a:stCxn id="2486" idx="3"/>
            <a:endCxn id="248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4" name="Egyenes összekötő nyíllal 83"/>
          <p:cNvCxnSpPr>
            <a:stCxn id="2485" idx="5"/>
            <a:endCxn id="248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5" name="Egyenes összekötő nyíllal 86"/>
          <p:cNvCxnSpPr>
            <a:endCxn id="248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6" name="Egyenes összekötő nyíllal 97"/>
          <p:cNvCxnSpPr>
            <a:stCxn id="2483" idx="6"/>
            <a:endCxn id="248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7" name="Egyenes összekötő nyíllal 100"/>
          <p:cNvCxnSpPr>
            <a:stCxn id="2489" idx="6"/>
            <a:endCxn id="248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8" name="Egyenes összekötő nyíllal 107"/>
          <p:cNvCxnSpPr>
            <a:stCxn id="2482" idx="5"/>
            <a:endCxn id="248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9" name="Egyenes összekötő nyíllal 111"/>
          <p:cNvCxnSpPr>
            <a:stCxn id="2484" idx="7"/>
            <a:endCxn id="248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00" name="Egyenes összekötő nyíllal 116"/>
          <p:cNvCxnSpPr>
            <a:stCxn id="2484" idx="0"/>
            <a:endCxn id="248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0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0" name="Egyenes összekötő nyíllal 128"/>
          <p:cNvCxnSpPr>
            <a:stCxn id="2486" idx="5"/>
            <a:endCxn id="248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1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1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2" name="Egyenes összekötő nyíllal 69"/>
          <p:cNvCxnSpPr>
            <a:stCxn id="2521" idx="7"/>
            <a:endCxn id="251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3" name="Egyenes összekötő nyíllal 72"/>
          <p:cNvCxnSpPr>
            <a:stCxn id="2521" idx="5"/>
            <a:endCxn id="251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4" name="Egyenes összekötő nyíllal 76"/>
          <p:cNvCxnSpPr>
            <a:stCxn id="2518" idx="7"/>
            <a:endCxn id="251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5" name="Egyenes összekötő nyíllal 80"/>
          <p:cNvCxnSpPr>
            <a:stCxn id="2518" idx="3"/>
            <a:endCxn id="251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6" name="Egyenes összekötő nyíllal 83"/>
          <p:cNvCxnSpPr>
            <a:stCxn id="2517" idx="5"/>
            <a:endCxn id="251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7" name="Egyenes összekötő nyíllal 86"/>
          <p:cNvCxnSpPr>
            <a:endCxn id="251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8" name="Egyenes összekötő nyíllal 97"/>
          <p:cNvCxnSpPr>
            <a:stCxn id="2515" idx="6"/>
            <a:endCxn id="251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9" name="Egyenes összekötő nyíllal 100"/>
          <p:cNvCxnSpPr>
            <a:stCxn id="2521" idx="6"/>
            <a:endCxn id="251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30" name="Egyenes összekötő nyíllal 107"/>
          <p:cNvCxnSpPr>
            <a:stCxn id="2514" idx="5"/>
            <a:endCxn id="252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31" name="Egyenes összekötő nyíllal 111"/>
          <p:cNvCxnSpPr>
            <a:stCxn id="2516" idx="7"/>
            <a:endCxn id="252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32" name="Egyenes összekötő nyíllal 116"/>
          <p:cNvCxnSpPr>
            <a:stCxn id="2516" idx="0"/>
            <a:endCxn id="251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3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2" name="Egyenes összekötő nyíllal 128"/>
          <p:cNvCxnSpPr>
            <a:stCxn id="2518" idx="5"/>
            <a:endCxn id="251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4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4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4" name="Egyenes összekötő nyíllal 69"/>
          <p:cNvCxnSpPr>
            <a:stCxn id="2553" idx="7"/>
            <a:endCxn id="254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5" name="Egyenes összekötő nyíllal 72"/>
          <p:cNvCxnSpPr>
            <a:stCxn id="2553" idx="5"/>
            <a:endCxn id="254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6" name="Egyenes összekötő nyíllal 76"/>
          <p:cNvCxnSpPr>
            <a:stCxn id="2550" idx="7"/>
            <a:endCxn id="254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7" name="Egyenes összekötő nyíllal 80"/>
          <p:cNvCxnSpPr>
            <a:stCxn id="2550" idx="3"/>
            <a:endCxn id="254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8" name="Egyenes összekötő nyíllal 83"/>
          <p:cNvCxnSpPr>
            <a:stCxn id="2549" idx="5"/>
            <a:endCxn id="255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9" name="Egyenes összekötő nyíllal 86"/>
          <p:cNvCxnSpPr>
            <a:endCxn id="254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0" name="Egyenes összekötő nyíllal 97"/>
          <p:cNvCxnSpPr>
            <a:stCxn id="2547" idx="6"/>
            <a:endCxn id="254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1" name="Egyenes összekötő nyíllal 100"/>
          <p:cNvCxnSpPr>
            <a:stCxn id="2553" idx="6"/>
            <a:endCxn id="255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2" name="Egyenes összekötő nyíllal 107"/>
          <p:cNvCxnSpPr>
            <a:stCxn id="2546" idx="5"/>
            <a:endCxn id="255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3" name="Egyenes összekötő nyíllal 111"/>
          <p:cNvCxnSpPr>
            <a:stCxn id="2548" idx="7"/>
            <a:endCxn id="255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4" name="Egyenes összekötő nyíllal 116"/>
          <p:cNvCxnSpPr>
            <a:stCxn id="2548" idx="0"/>
            <a:endCxn id="254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6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4" name="Egyenes összekötő nyíllal 128"/>
          <p:cNvCxnSpPr>
            <a:stCxn id="2550" idx="5"/>
            <a:endCxn id="254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7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Rajzolja be a minimális feszítő fá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7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6" name="Egyenes összekötő nyíllal 69"/>
          <p:cNvCxnSpPr>
            <a:stCxn id="2585" idx="7"/>
            <a:endCxn id="258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87" name="Egyenes összekötő nyíllal 72"/>
          <p:cNvCxnSpPr>
            <a:stCxn id="2585" idx="5"/>
            <a:endCxn id="257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88" name="Egyenes összekötő nyíllal 76"/>
          <p:cNvCxnSpPr>
            <a:stCxn id="2582" idx="7"/>
            <a:endCxn id="257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89" name="Egyenes összekötő nyíllal 80"/>
          <p:cNvCxnSpPr>
            <a:stCxn id="2582" idx="3"/>
            <a:endCxn id="257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0" name="Egyenes összekötő nyíllal 83"/>
          <p:cNvCxnSpPr>
            <a:stCxn id="2581" idx="5"/>
            <a:endCxn id="258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1" name="Egyenes összekötő nyíllal 86"/>
          <p:cNvCxnSpPr>
            <a:endCxn id="257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2" name="Egyenes összekötő nyíllal 97"/>
          <p:cNvCxnSpPr>
            <a:stCxn id="2579" idx="6"/>
            <a:endCxn id="258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3" name="Egyenes összekötő nyíllal 100"/>
          <p:cNvCxnSpPr>
            <a:stCxn id="2585" idx="6"/>
            <a:endCxn id="258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4" name="Egyenes összekötő nyíllal 107"/>
          <p:cNvCxnSpPr>
            <a:stCxn id="2578" idx="5"/>
            <a:endCxn id="258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5" name="Egyenes összekötő nyíllal 111"/>
          <p:cNvCxnSpPr>
            <a:stCxn id="2580" idx="7"/>
            <a:endCxn id="258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6" name="Egyenes összekötő nyíllal 116"/>
          <p:cNvCxnSpPr>
            <a:stCxn id="2580" idx="0"/>
            <a:endCxn id="257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9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6" name="Egyenes összekötő nyíllal 128"/>
          <p:cNvCxnSpPr>
            <a:stCxn id="2582" idx="5"/>
            <a:endCxn id="258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0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1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8" name="Egyenes összekötő nyíllal 69"/>
          <p:cNvCxnSpPr>
            <a:stCxn id="2617" idx="7"/>
            <a:endCxn id="261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19" name="Egyenes összekötő nyíllal 72"/>
          <p:cNvCxnSpPr>
            <a:stCxn id="2617" idx="5"/>
            <a:endCxn id="261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0" name="Egyenes összekötő nyíllal 76"/>
          <p:cNvCxnSpPr>
            <a:stCxn id="2614" idx="7"/>
            <a:endCxn id="261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1" name="Egyenes összekötő nyíllal 80"/>
          <p:cNvCxnSpPr>
            <a:stCxn id="2614" idx="3"/>
            <a:endCxn id="261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2" name="Egyenes összekötő nyíllal 83"/>
          <p:cNvCxnSpPr>
            <a:stCxn id="2613" idx="5"/>
            <a:endCxn id="261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3" name="Egyenes összekötő nyíllal 86"/>
          <p:cNvCxnSpPr>
            <a:endCxn id="261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4" name="Egyenes összekötő nyíllal 97"/>
          <p:cNvCxnSpPr>
            <a:stCxn id="2611" idx="6"/>
            <a:endCxn id="261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5" name="Egyenes összekötő nyíllal 100"/>
          <p:cNvCxnSpPr>
            <a:stCxn id="2617" idx="6"/>
            <a:endCxn id="261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6" name="Egyenes összekötő nyíllal 107"/>
          <p:cNvCxnSpPr>
            <a:stCxn id="2610" idx="5"/>
            <a:endCxn id="261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7" name="Egyenes összekötő nyíllal 111"/>
          <p:cNvCxnSpPr>
            <a:stCxn id="2612" idx="7"/>
            <a:endCxn id="261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8" name="Egyenes összekötő nyíllal 116"/>
          <p:cNvCxnSpPr>
            <a:stCxn id="2612" idx="0"/>
            <a:endCxn id="261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2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8" name="Egyenes összekötő nyíllal 128"/>
          <p:cNvCxnSpPr>
            <a:stCxn id="2614" idx="5"/>
            <a:endCxn id="261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3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4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0" name="Egyenes összekötő nyíllal 69"/>
          <p:cNvCxnSpPr>
            <a:stCxn id="2649" idx="7"/>
            <a:endCxn id="264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1" name="Egyenes összekötő nyíllal 72"/>
          <p:cNvCxnSpPr>
            <a:stCxn id="2649" idx="5"/>
            <a:endCxn id="264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2" name="Egyenes összekötő nyíllal 76"/>
          <p:cNvCxnSpPr>
            <a:stCxn id="2646" idx="7"/>
            <a:endCxn id="264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3" name="Egyenes összekötő nyíllal 80"/>
          <p:cNvCxnSpPr>
            <a:stCxn id="2646" idx="3"/>
            <a:endCxn id="264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4" name="Egyenes összekötő nyíllal 83"/>
          <p:cNvCxnSpPr>
            <a:stCxn id="2645" idx="5"/>
            <a:endCxn id="264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5" name="Egyenes összekötő nyíllal 86"/>
          <p:cNvCxnSpPr>
            <a:endCxn id="264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6" name="Egyenes összekötő nyíllal 97"/>
          <p:cNvCxnSpPr>
            <a:stCxn id="2643" idx="6"/>
            <a:endCxn id="264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7" name="Egyenes összekötő nyíllal 100"/>
          <p:cNvCxnSpPr>
            <a:stCxn id="2649" idx="6"/>
            <a:endCxn id="264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8" name="Egyenes összekötő nyíllal 107"/>
          <p:cNvCxnSpPr>
            <a:stCxn id="2642" idx="5"/>
            <a:endCxn id="264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9" name="Egyenes összekötő nyíllal 111"/>
          <p:cNvCxnSpPr>
            <a:stCxn id="2644" idx="7"/>
            <a:endCxn id="264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60" name="Egyenes összekötő nyíllal 116"/>
          <p:cNvCxnSpPr>
            <a:stCxn id="2644" idx="0"/>
            <a:endCxn id="264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6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0" name="Egyenes összekötő nyíllal 128"/>
          <p:cNvCxnSpPr>
            <a:stCxn id="2646" idx="5"/>
            <a:endCxn id="264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7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7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2" name="Egyenes összekötő nyíllal 69"/>
          <p:cNvCxnSpPr>
            <a:stCxn id="2681" idx="7"/>
            <a:endCxn id="267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3" name="Egyenes összekötő nyíllal 72"/>
          <p:cNvCxnSpPr>
            <a:stCxn id="2681" idx="5"/>
            <a:endCxn id="267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4" name="Egyenes összekötő nyíllal 76"/>
          <p:cNvCxnSpPr>
            <a:stCxn id="2678" idx="7"/>
            <a:endCxn id="267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5" name="Egyenes összekötő nyíllal 80"/>
          <p:cNvCxnSpPr>
            <a:stCxn id="2678" idx="3"/>
            <a:endCxn id="267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6" name="Egyenes összekötő nyíllal 83"/>
          <p:cNvCxnSpPr>
            <a:stCxn id="2677" idx="5"/>
            <a:endCxn id="267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7" name="Egyenes összekötő nyíllal 86"/>
          <p:cNvCxnSpPr>
            <a:endCxn id="267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8" name="Egyenes összekötő nyíllal 97"/>
          <p:cNvCxnSpPr>
            <a:stCxn id="2675" idx="6"/>
            <a:endCxn id="267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9" name="Egyenes összekötő nyíllal 100"/>
          <p:cNvCxnSpPr>
            <a:stCxn id="2681" idx="6"/>
            <a:endCxn id="267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90" name="Egyenes összekötő nyíllal 107"/>
          <p:cNvCxnSpPr>
            <a:stCxn id="2674" idx="5"/>
            <a:endCxn id="268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91" name="Egyenes összekötő nyíllal 111"/>
          <p:cNvCxnSpPr>
            <a:stCxn id="2676" idx="7"/>
            <a:endCxn id="268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92" name="Egyenes összekötő nyíllal 116"/>
          <p:cNvCxnSpPr>
            <a:stCxn id="2676" idx="0"/>
            <a:endCxn id="267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9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2" name="Egyenes összekötő nyíllal 128"/>
          <p:cNvCxnSpPr>
            <a:stCxn id="2678" idx="5"/>
            <a:endCxn id="267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0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0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4" name="Egyenes összekötő nyíllal 69"/>
          <p:cNvCxnSpPr>
            <a:stCxn id="2713" idx="7"/>
            <a:endCxn id="270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5" name="Egyenes összekötő nyíllal 72"/>
          <p:cNvCxnSpPr>
            <a:stCxn id="2713" idx="5"/>
            <a:endCxn id="270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6" name="Egyenes összekötő nyíllal 76"/>
          <p:cNvCxnSpPr>
            <a:stCxn id="2710" idx="7"/>
            <a:endCxn id="270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7" name="Egyenes összekötő nyíllal 80"/>
          <p:cNvCxnSpPr>
            <a:stCxn id="2710" idx="3"/>
            <a:endCxn id="270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8" name="Egyenes összekötő nyíllal 83"/>
          <p:cNvCxnSpPr>
            <a:stCxn id="2709" idx="5"/>
            <a:endCxn id="271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9" name="Egyenes összekötő nyíllal 86"/>
          <p:cNvCxnSpPr>
            <a:endCxn id="270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0" name="Egyenes összekötő nyíllal 97"/>
          <p:cNvCxnSpPr>
            <a:stCxn id="2707" idx="6"/>
            <a:endCxn id="270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1" name="Egyenes összekötő nyíllal 100"/>
          <p:cNvCxnSpPr>
            <a:stCxn id="2713" idx="6"/>
            <a:endCxn id="271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2" name="Egyenes összekötő nyíllal 107"/>
          <p:cNvCxnSpPr>
            <a:stCxn id="2706" idx="5"/>
            <a:endCxn id="271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3" name="Egyenes összekötő nyíllal 111"/>
          <p:cNvCxnSpPr>
            <a:stCxn id="2708" idx="7"/>
            <a:endCxn id="271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4" name="Egyenes összekötő nyíllal 116"/>
          <p:cNvCxnSpPr>
            <a:stCxn id="2708" idx="0"/>
            <a:endCxn id="270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2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4" name="Egyenes összekötő nyíllal 128"/>
          <p:cNvCxnSpPr>
            <a:stCxn id="2710" idx="5"/>
            <a:endCxn id="270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3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3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6" name="Egyenes összekötő nyíllal 69"/>
          <p:cNvCxnSpPr>
            <a:stCxn id="2745" idx="7"/>
            <a:endCxn id="274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47" name="Egyenes összekötő nyíllal 72"/>
          <p:cNvCxnSpPr>
            <a:stCxn id="2745" idx="5"/>
            <a:endCxn id="273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48" name="Egyenes összekötő nyíllal 76"/>
          <p:cNvCxnSpPr>
            <a:stCxn id="2742" idx="7"/>
            <a:endCxn id="273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49" name="Egyenes összekötő nyíllal 80"/>
          <p:cNvCxnSpPr>
            <a:stCxn id="2742" idx="3"/>
            <a:endCxn id="273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0" name="Egyenes összekötő nyíllal 83"/>
          <p:cNvCxnSpPr>
            <a:stCxn id="2741" idx="5"/>
            <a:endCxn id="274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1" name="Egyenes összekötő nyíllal 86"/>
          <p:cNvCxnSpPr>
            <a:endCxn id="273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2" name="Egyenes összekötő nyíllal 97"/>
          <p:cNvCxnSpPr>
            <a:stCxn id="2739" idx="6"/>
            <a:endCxn id="274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3" name="Egyenes összekötő nyíllal 100"/>
          <p:cNvCxnSpPr>
            <a:stCxn id="2745" idx="6"/>
            <a:endCxn id="274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4" name="Egyenes összekötő nyíllal 107"/>
          <p:cNvCxnSpPr>
            <a:stCxn id="2738" idx="5"/>
            <a:endCxn id="274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5" name="Egyenes összekötő nyíllal 111"/>
          <p:cNvCxnSpPr>
            <a:stCxn id="2740" idx="7"/>
            <a:endCxn id="274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6" name="Egyenes összekötő nyíllal 116"/>
          <p:cNvCxnSpPr>
            <a:stCxn id="2740" idx="0"/>
            <a:endCxn id="273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5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6" name="Egyenes összekötő nyíllal 128"/>
          <p:cNvCxnSpPr>
            <a:stCxn id="2742" idx="5"/>
            <a:endCxn id="274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6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7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8" name="Egyenes összekötő nyíllal 69"/>
          <p:cNvCxnSpPr>
            <a:stCxn id="2777" idx="7"/>
            <a:endCxn id="277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79" name="Egyenes összekötő nyíllal 72"/>
          <p:cNvCxnSpPr>
            <a:stCxn id="2777" idx="5"/>
            <a:endCxn id="277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0" name="Egyenes összekötő nyíllal 76"/>
          <p:cNvCxnSpPr>
            <a:stCxn id="2774" idx="7"/>
            <a:endCxn id="277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1" name="Egyenes összekötő nyíllal 80"/>
          <p:cNvCxnSpPr>
            <a:stCxn id="2774" idx="3"/>
            <a:endCxn id="277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2" name="Egyenes összekötő nyíllal 83"/>
          <p:cNvCxnSpPr>
            <a:stCxn id="2773" idx="5"/>
            <a:endCxn id="277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3" name="Egyenes összekötő nyíllal 86"/>
          <p:cNvCxnSpPr>
            <a:endCxn id="277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4" name="Egyenes összekötő nyíllal 97"/>
          <p:cNvCxnSpPr>
            <a:stCxn id="2771" idx="6"/>
            <a:endCxn id="277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5" name="Egyenes összekötő nyíllal 100"/>
          <p:cNvCxnSpPr>
            <a:stCxn id="2777" idx="6"/>
            <a:endCxn id="277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6" name="Egyenes összekötő nyíllal 107"/>
          <p:cNvCxnSpPr>
            <a:stCxn id="2770" idx="5"/>
            <a:endCxn id="277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7" name="Egyenes összekötő nyíllal 111"/>
          <p:cNvCxnSpPr>
            <a:stCxn id="2772" idx="7"/>
            <a:endCxn id="277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8" name="Egyenes összekötő nyíllal 116"/>
          <p:cNvCxnSpPr>
            <a:stCxn id="2772" idx="0"/>
            <a:endCxn id="277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8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8" name="Egyenes összekötő nyíllal 128"/>
          <p:cNvCxnSpPr>
            <a:stCxn id="2774" idx="5"/>
            <a:endCxn id="277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9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0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0" name="Egyenes összekötő nyíllal 69"/>
          <p:cNvCxnSpPr>
            <a:stCxn id="2809" idx="7"/>
            <a:endCxn id="280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1" name="Egyenes összekötő nyíllal 72"/>
          <p:cNvCxnSpPr>
            <a:stCxn id="2809" idx="5"/>
            <a:endCxn id="280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2" name="Egyenes összekötő nyíllal 76"/>
          <p:cNvCxnSpPr>
            <a:stCxn id="2806" idx="7"/>
            <a:endCxn id="280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3" name="Egyenes összekötő nyíllal 80"/>
          <p:cNvCxnSpPr>
            <a:stCxn id="2806" idx="3"/>
            <a:endCxn id="280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4" name="Egyenes összekötő nyíllal 83"/>
          <p:cNvCxnSpPr>
            <a:stCxn id="2805" idx="5"/>
            <a:endCxn id="280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5" name="Egyenes összekötő nyíllal 86"/>
          <p:cNvCxnSpPr>
            <a:endCxn id="280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6" name="Egyenes összekötő nyíllal 97"/>
          <p:cNvCxnSpPr>
            <a:stCxn id="2803" idx="6"/>
            <a:endCxn id="280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7" name="Egyenes összekötő nyíllal 100"/>
          <p:cNvCxnSpPr>
            <a:stCxn id="2809" idx="6"/>
            <a:endCxn id="280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8" name="Egyenes összekötő nyíllal 107"/>
          <p:cNvCxnSpPr>
            <a:stCxn id="2802" idx="5"/>
            <a:endCxn id="280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9" name="Egyenes összekötő nyíllal 111"/>
          <p:cNvCxnSpPr>
            <a:stCxn id="2804" idx="7"/>
            <a:endCxn id="280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20" name="Egyenes összekötő nyíllal 116"/>
          <p:cNvCxnSpPr>
            <a:stCxn id="2804" idx="0"/>
            <a:endCxn id="280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2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0" name="Egyenes összekötő nyíllal 128"/>
          <p:cNvCxnSpPr>
            <a:stCxn id="2806" idx="5"/>
            <a:endCxn id="280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3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3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2" name="Egyenes összekötő nyíllal 69"/>
          <p:cNvCxnSpPr>
            <a:stCxn id="2841" idx="7"/>
            <a:endCxn id="283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3" name="Egyenes összekötő nyíllal 72"/>
          <p:cNvCxnSpPr>
            <a:stCxn id="2841" idx="5"/>
            <a:endCxn id="283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4" name="Egyenes összekötő nyíllal 76"/>
          <p:cNvCxnSpPr>
            <a:stCxn id="2838" idx="7"/>
            <a:endCxn id="283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5" name="Egyenes összekötő nyíllal 80"/>
          <p:cNvCxnSpPr>
            <a:stCxn id="2838" idx="3"/>
            <a:endCxn id="283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6" name="Egyenes összekötő nyíllal 83"/>
          <p:cNvCxnSpPr>
            <a:stCxn id="2837" idx="5"/>
            <a:endCxn id="283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7" name="Egyenes összekötő nyíllal 86"/>
          <p:cNvCxnSpPr>
            <a:endCxn id="283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8" name="Egyenes összekötő nyíllal 97"/>
          <p:cNvCxnSpPr>
            <a:stCxn id="2835" idx="6"/>
            <a:endCxn id="283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9" name="Egyenes összekötő nyíllal 100"/>
          <p:cNvCxnSpPr>
            <a:stCxn id="2841" idx="6"/>
            <a:endCxn id="283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50" name="Egyenes összekötő nyíllal 107"/>
          <p:cNvCxnSpPr>
            <a:stCxn id="2834" idx="5"/>
            <a:endCxn id="284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51" name="Egyenes összekötő nyíllal 111"/>
          <p:cNvCxnSpPr>
            <a:stCxn id="2836" idx="7"/>
            <a:endCxn id="284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52" name="Egyenes összekötő nyíllal 116"/>
          <p:cNvCxnSpPr>
            <a:stCxn id="2836" idx="0"/>
            <a:endCxn id="283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5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2" name="Egyenes összekötő nyíllal 128"/>
          <p:cNvCxnSpPr>
            <a:stCxn id="2838" idx="5"/>
            <a:endCxn id="283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6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6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4" name="Egyenes összekötő nyíllal 69"/>
          <p:cNvCxnSpPr>
            <a:stCxn id="2873" idx="7"/>
            <a:endCxn id="286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75" name="Egyenes összekötő nyíllal 72"/>
          <p:cNvCxnSpPr>
            <a:stCxn id="2873" idx="5"/>
            <a:endCxn id="286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76" name="Egyenes összekötő nyíllal 76"/>
          <p:cNvCxnSpPr>
            <a:stCxn id="2870" idx="7"/>
            <a:endCxn id="286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77" name="Egyenes összekötő nyíllal 80"/>
          <p:cNvCxnSpPr>
            <a:stCxn id="2870" idx="3"/>
            <a:endCxn id="286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78" name="Egyenes összekötő nyíllal 83"/>
          <p:cNvCxnSpPr>
            <a:stCxn id="2869" idx="5"/>
            <a:endCxn id="287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79" name="Egyenes összekötő nyíllal 86"/>
          <p:cNvCxnSpPr>
            <a:endCxn id="286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80" name="Egyenes összekötő nyíllal 97"/>
          <p:cNvCxnSpPr>
            <a:stCxn id="2867" idx="6"/>
            <a:endCxn id="286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81" name="Egyenes összekötő nyíllal 100"/>
          <p:cNvCxnSpPr>
            <a:stCxn id="2873" idx="6"/>
            <a:endCxn id="287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82" name="Egyenes összekötő nyíllal 107"/>
          <p:cNvCxnSpPr>
            <a:stCxn id="2866" idx="5"/>
            <a:endCxn id="287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83" name="Egyenes összekötő nyíllal 111"/>
          <p:cNvCxnSpPr>
            <a:stCxn id="2868" idx="7"/>
            <a:endCxn id="287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84" name="Egyenes összekötő nyíllal 116"/>
          <p:cNvCxnSpPr>
            <a:stCxn id="2868" idx="0"/>
            <a:endCxn id="286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8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4" name="Egyenes összekötő nyíllal 128"/>
          <p:cNvCxnSpPr>
            <a:stCxn id="2870" idx="5"/>
            <a:endCxn id="286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9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 –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Válasszuk ki a hálózat egy tetszőleges i csúcsát. Keressük meg az i-hez legközelebbi csúcsot (j). Az i és j csúcsok egy összefüggő C={i,j} halmazt alkotnak, az (i,j) él pedig a minimális feszítőfa eleme lesz. A hálózat többi csúcsainak halmazát jelöljük C’-v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9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6" name="Egyenes összekötő nyíllal 69"/>
          <p:cNvCxnSpPr>
            <a:stCxn id="2905" idx="7"/>
            <a:endCxn id="290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07" name="Egyenes összekötő nyíllal 72"/>
          <p:cNvCxnSpPr>
            <a:stCxn id="2905" idx="5"/>
            <a:endCxn id="289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08" name="Egyenes összekötő nyíllal 76"/>
          <p:cNvCxnSpPr>
            <a:stCxn id="2902" idx="7"/>
            <a:endCxn id="289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09" name="Egyenes összekötő nyíllal 80"/>
          <p:cNvCxnSpPr>
            <a:stCxn id="2902" idx="3"/>
            <a:endCxn id="289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0" name="Egyenes összekötő nyíllal 83"/>
          <p:cNvCxnSpPr>
            <a:stCxn id="2901" idx="5"/>
            <a:endCxn id="290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1" name="Egyenes összekötő nyíllal 86"/>
          <p:cNvCxnSpPr>
            <a:endCxn id="289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2" name="Egyenes összekötő nyíllal 97"/>
          <p:cNvCxnSpPr>
            <a:stCxn id="2899" idx="6"/>
            <a:endCxn id="290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3" name="Egyenes összekötő nyíllal 100"/>
          <p:cNvCxnSpPr>
            <a:stCxn id="2905" idx="6"/>
            <a:endCxn id="290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4" name="Egyenes összekötő nyíllal 107"/>
          <p:cNvCxnSpPr>
            <a:stCxn id="2898" idx="5"/>
            <a:endCxn id="290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5" name="Egyenes összekötő nyíllal 111"/>
          <p:cNvCxnSpPr>
            <a:stCxn id="2900" idx="7"/>
            <a:endCxn id="290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6" name="Egyenes összekötő nyíllal 116"/>
          <p:cNvCxnSpPr>
            <a:stCxn id="2900" idx="0"/>
            <a:endCxn id="289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1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6" name="Egyenes összekötő nyíllal 128"/>
          <p:cNvCxnSpPr>
            <a:stCxn id="2902" idx="5"/>
            <a:endCxn id="290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2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3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8" name="Egyenes összekötő nyíllal 69"/>
          <p:cNvCxnSpPr>
            <a:stCxn id="2937" idx="7"/>
            <a:endCxn id="293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39" name="Egyenes összekötő nyíllal 72"/>
          <p:cNvCxnSpPr>
            <a:stCxn id="2937" idx="5"/>
            <a:endCxn id="293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0" name="Egyenes összekötő nyíllal 76"/>
          <p:cNvCxnSpPr>
            <a:stCxn id="2934" idx="7"/>
            <a:endCxn id="293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1" name="Egyenes összekötő nyíllal 80"/>
          <p:cNvCxnSpPr>
            <a:stCxn id="2934" idx="3"/>
            <a:endCxn id="293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2" name="Egyenes összekötő nyíllal 83"/>
          <p:cNvCxnSpPr>
            <a:stCxn id="2933" idx="5"/>
            <a:endCxn id="293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3" name="Egyenes összekötő nyíllal 86"/>
          <p:cNvCxnSpPr>
            <a:endCxn id="293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4" name="Egyenes összekötő nyíllal 97"/>
          <p:cNvCxnSpPr>
            <a:stCxn id="2931" idx="6"/>
            <a:endCxn id="293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5" name="Egyenes összekötő nyíllal 100"/>
          <p:cNvCxnSpPr>
            <a:stCxn id="2937" idx="6"/>
            <a:endCxn id="293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6" name="Egyenes összekötő nyíllal 107"/>
          <p:cNvCxnSpPr>
            <a:stCxn id="2930" idx="5"/>
            <a:endCxn id="293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7" name="Egyenes összekötő nyíllal 111"/>
          <p:cNvCxnSpPr>
            <a:stCxn id="2932" idx="7"/>
            <a:endCxn id="293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8" name="Egyenes összekötő nyíllal 116"/>
          <p:cNvCxnSpPr>
            <a:stCxn id="2932" idx="0"/>
            <a:endCxn id="293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4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8" name="Egyenes összekötő nyíllal 128"/>
          <p:cNvCxnSpPr>
            <a:stCxn id="2934" idx="5"/>
            <a:endCxn id="293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5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6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0" name="Egyenes összekötő nyíllal 69"/>
          <p:cNvCxnSpPr>
            <a:stCxn id="2969" idx="7"/>
            <a:endCxn id="296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1" name="Egyenes összekötő nyíllal 72"/>
          <p:cNvCxnSpPr>
            <a:stCxn id="2969" idx="5"/>
            <a:endCxn id="296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2" name="Egyenes összekötő nyíllal 76"/>
          <p:cNvCxnSpPr>
            <a:stCxn id="2966" idx="7"/>
            <a:endCxn id="296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3" name="Egyenes összekötő nyíllal 80"/>
          <p:cNvCxnSpPr>
            <a:stCxn id="2966" idx="3"/>
            <a:endCxn id="296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4" name="Egyenes összekötő nyíllal 83"/>
          <p:cNvCxnSpPr>
            <a:stCxn id="2965" idx="5"/>
            <a:endCxn id="296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5" name="Egyenes összekötő nyíllal 86"/>
          <p:cNvCxnSpPr>
            <a:endCxn id="296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6" name="Egyenes összekötő nyíllal 97"/>
          <p:cNvCxnSpPr>
            <a:stCxn id="2963" idx="6"/>
            <a:endCxn id="296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7" name="Egyenes összekötő nyíllal 100"/>
          <p:cNvCxnSpPr>
            <a:stCxn id="2969" idx="6"/>
            <a:endCxn id="296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8" name="Egyenes összekötő nyíllal 107"/>
          <p:cNvCxnSpPr>
            <a:stCxn id="2962" idx="5"/>
            <a:endCxn id="296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9" name="Egyenes összekötő nyíllal 111"/>
          <p:cNvCxnSpPr>
            <a:stCxn id="2964" idx="7"/>
            <a:endCxn id="296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80" name="Egyenes összekötő nyíllal 116"/>
          <p:cNvCxnSpPr>
            <a:stCxn id="2964" idx="0"/>
            <a:endCxn id="296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8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0" name="Egyenes összekötő nyíllal 128"/>
          <p:cNvCxnSpPr>
            <a:stCxn id="2966" idx="5"/>
            <a:endCxn id="296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9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9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2" name="Egyenes összekötő nyíllal 69"/>
          <p:cNvCxnSpPr>
            <a:stCxn id="3001" idx="7"/>
            <a:endCxn id="299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3" name="Egyenes összekötő nyíllal 72"/>
          <p:cNvCxnSpPr>
            <a:stCxn id="3001" idx="5"/>
            <a:endCxn id="299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4" name="Egyenes összekötő nyíllal 76"/>
          <p:cNvCxnSpPr>
            <a:stCxn id="2998" idx="7"/>
            <a:endCxn id="299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5" name="Egyenes összekötő nyíllal 80"/>
          <p:cNvCxnSpPr>
            <a:stCxn id="2998" idx="3"/>
            <a:endCxn id="299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6" name="Egyenes összekötő nyíllal 83"/>
          <p:cNvCxnSpPr>
            <a:stCxn id="2997" idx="5"/>
            <a:endCxn id="299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7" name="Egyenes összekötő nyíllal 86"/>
          <p:cNvCxnSpPr>
            <a:endCxn id="299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8" name="Egyenes összekötő nyíllal 97"/>
          <p:cNvCxnSpPr>
            <a:stCxn id="2995" idx="6"/>
            <a:endCxn id="299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9" name="Egyenes összekötő nyíllal 100"/>
          <p:cNvCxnSpPr>
            <a:stCxn id="3001" idx="6"/>
            <a:endCxn id="299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10" name="Egyenes összekötő nyíllal 107"/>
          <p:cNvCxnSpPr>
            <a:stCxn id="2994" idx="5"/>
            <a:endCxn id="300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11" name="Egyenes összekötő nyíllal 111"/>
          <p:cNvCxnSpPr>
            <a:stCxn id="2996" idx="7"/>
            <a:endCxn id="300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12" name="Egyenes összekötő nyíllal 116"/>
          <p:cNvCxnSpPr>
            <a:stCxn id="2996" idx="0"/>
            <a:endCxn id="299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1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2" name="Egyenes összekötő nyíllal 128"/>
          <p:cNvCxnSpPr>
            <a:stCxn id="2998" idx="5"/>
            <a:endCxn id="299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2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2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4" name="Egyenes összekötő nyíllal 69"/>
          <p:cNvCxnSpPr>
            <a:stCxn id="3033" idx="7"/>
            <a:endCxn id="302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35" name="Egyenes összekötő nyíllal 72"/>
          <p:cNvCxnSpPr>
            <a:stCxn id="3033" idx="5"/>
            <a:endCxn id="302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36" name="Egyenes összekötő nyíllal 76"/>
          <p:cNvCxnSpPr>
            <a:stCxn id="3030" idx="7"/>
            <a:endCxn id="302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37" name="Egyenes összekötő nyíllal 80"/>
          <p:cNvCxnSpPr>
            <a:stCxn id="3030" idx="3"/>
            <a:endCxn id="302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38" name="Egyenes összekötő nyíllal 83"/>
          <p:cNvCxnSpPr>
            <a:stCxn id="3029" idx="5"/>
            <a:endCxn id="303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39" name="Egyenes összekötő nyíllal 86"/>
          <p:cNvCxnSpPr>
            <a:endCxn id="302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40" name="Egyenes összekötő nyíllal 97"/>
          <p:cNvCxnSpPr>
            <a:stCxn id="3027" idx="6"/>
            <a:endCxn id="302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41" name="Egyenes összekötő nyíllal 100"/>
          <p:cNvCxnSpPr>
            <a:stCxn id="3033" idx="6"/>
            <a:endCxn id="303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42" name="Egyenes összekötő nyíllal 107"/>
          <p:cNvCxnSpPr>
            <a:stCxn id="3026" idx="5"/>
            <a:endCxn id="303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43" name="Egyenes összekötő nyíllal 111"/>
          <p:cNvCxnSpPr>
            <a:stCxn id="3028" idx="7"/>
            <a:endCxn id="303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44" name="Egyenes összekötő nyíllal 116"/>
          <p:cNvCxnSpPr>
            <a:stCxn id="3028" idx="0"/>
            <a:endCxn id="302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4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8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4" name="Egyenes összekötő nyíllal 128"/>
          <p:cNvCxnSpPr>
            <a:stCxn id="3030" idx="5"/>
            <a:endCxn id="302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5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5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6" name="Egyenes összekötő nyíllal 69"/>
          <p:cNvCxnSpPr>
            <a:stCxn id="3065" idx="7"/>
            <a:endCxn id="306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67" name="Egyenes összekötő nyíllal 72"/>
          <p:cNvCxnSpPr>
            <a:stCxn id="3065" idx="5"/>
            <a:endCxn id="305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68" name="Egyenes összekötő nyíllal 76"/>
          <p:cNvCxnSpPr>
            <a:stCxn id="3062" idx="7"/>
            <a:endCxn id="305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69" name="Egyenes összekötő nyíllal 80"/>
          <p:cNvCxnSpPr>
            <a:stCxn id="3062" idx="3"/>
            <a:endCxn id="305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0" name="Egyenes összekötő nyíllal 83"/>
          <p:cNvCxnSpPr>
            <a:stCxn id="3061" idx="5"/>
            <a:endCxn id="306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1" name="Egyenes összekötő nyíllal 86"/>
          <p:cNvCxnSpPr>
            <a:endCxn id="305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2" name="Egyenes összekötő nyíllal 97"/>
          <p:cNvCxnSpPr>
            <a:stCxn id="3059" idx="6"/>
            <a:endCxn id="306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3" name="Egyenes összekötő nyíllal 100"/>
          <p:cNvCxnSpPr>
            <a:stCxn id="3065" idx="6"/>
            <a:endCxn id="306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4" name="Egyenes összekötő nyíllal 107"/>
          <p:cNvCxnSpPr>
            <a:stCxn id="3058" idx="5"/>
            <a:endCxn id="306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5" name="Egyenes összekötő nyíllal 111"/>
          <p:cNvCxnSpPr>
            <a:stCxn id="3060" idx="7"/>
            <a:endCxn id="306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6" name="Egyenes összekötő nyíllal 116"/>
          <p:cNvCxnSpPr>
            <a:stCxn id="3060" idx="0"/>
            <a:endCxn id="305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7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8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6" name="Egyenes összekötő nyíllal 128"/>
          <p:cNvCxnSpPr>
            <a:stCxn id="3062" idx="5"/>
            <a:endCxn id="306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8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 txBox="1"/>
          <p:nvPr/>
        </p:nvSpPr>
        <p:spPr>
          <a:xfrm>
            <a:off x="1434600" y="1447560"/>
            <a:ext cx="563724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 maximális folyamo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0" name="Tartalom helye 2"/>
          <p:cNvSpPr/>
          <p:nvPr/>
        </p:nvSpPr>
        <p:spPr>
          <a:xfrm>
            <a:off x="4572000" y="6000840"/>
            <a:ext cx="7858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ill Sans MT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3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3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Sorolja fel az összes olyan élt, amelyre igaz, hogy az adott él kapacitását növelve, ugyanakkor a többi él kapacitását változatlanul hagyva, a maximális folyam értéke növekszik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3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9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2" name="Egyenes összekötő nyíllal 69"/>
          <p:cNvCxnSpPr>
            <a:stCxn id="3101" idx="7"/>
            <a:endCxn id="309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3" name="Egyenes összekötő nyíllal 72"/>
          <p:cNvCxnSpPr>
            <a:stCxn id="3101" idx="5"/>
            <a:endCxn id="309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4" name="Egyenes összekötő nyíllal 76"/>
          <p:cNvCxnSpPr>
            <a:stCxn id="3098" idx="7"/>
            <a:endCxn id="309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5" name="Egyenes összekötő nyíllal 80"/>
          <p:cNvCxnSpPr>
            <a:stCxn id="3098" idx="3"/>
            <a:endCxn id="309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6" name="Egyenes összekötő nyíllal 83"/>
          <p:cNvCxnSpPr>
            <a:stCxn id="3097" idx="5"/>
            <a:endCxn id="309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7" name="Egyenes összekötő nyíllal 86"/>
          <p:cNvCxnSpPr>
            <a:endCxn id="309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8" name="Egyenes összekötő nyíllal 97"/>
          <p:cNvCxnSpPr>
            <a:stCxn id="3095" idx="6"/>
            <a:endCxn id="309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9" name="Egyenes összekötő nyíllal 100"/>
          <p:cNvCxnSpPr>
            <a:stCxn id="3101" idx="6"/>
            <a:endCxn id="309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10" name="Egyenes összekötő nyíllal 107"/>
          <p:cNvCxnSpPr>
            <a:stCxn id="3094" idx="5"/>
            <a:endCxn id="310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11" name="Egyenes összekötő nyíllal 111"/>
          <p:cNvCxnSpPr>
            <a:stCxn id="3096" idx="7"/>
            <a:endCxn id="310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12" name="Egyenes összekötő nyíllal 116"/>
          <p:cNvCxnSpPr>
            <a:stCxn id="3096" idx="0"/>
            <a:endCxn id="309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1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8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2" name="Egyenes összekötő nyíllal 128"/>
          <p:cNvCxnSpPr>
            <a:stCxn id="3098" idx="5"/>
            <a:endCxn id="309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2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 txBox="1"/>
          <p:nvPr/>
        </p:nvSpPr>
        <p:spPr>
          <a:xfrm>
            <a:off x="4500360" y="1785960"/>
            <a:ext cx="1143000" cy="64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(1,4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3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1642680" y="257148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vágá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vágás definíciój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28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egyen V’ egy hálózat csúcsainak tetszőleges olyan halmaza, amelyik tartalmazza a nyelőt, de nem tartalmazza a forrást. Ekkor a hálózat olyan (i,j) éleinek halmaza, amelyek i kezdőpontja nem V’-beli, a j végpontja viszont V’-beli egy vágás a hálózatb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gy vágás kapacitása alatt a vágást alkotó élek kapacitásainak összegét értjü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3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3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5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ontos tétel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30" name=""/>
          <p:cNvSpPr txBox="1"/>
          <p:nvPr/>
        </p:nvSpPr>
        <p:spPr>
          <a:xfrm>
            <a:off x="1434960" y="1447920"/>
            <a:ext cx="67802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maximális folyam érté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minimális vágás érté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3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3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3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Ellipszis 10"/>
          <p:cNvSpPr/>
          <p:nvPr/>
        </p:nvSpPr>
        <p:spPr>
          <a:xfrm>
            <a:off x="342900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0" name="Egyenes összekötő nyíllal 69"/>
          <p:cNvCxnSpPr>
            <a:stCxn id="3139" idx="7"/>
            <a:endCxn id="3135" idx="2"/>
          </p:cNvCxnSpPr>
          <p:nvPr/>
        </p:nvCxnSpPr>
        <p:spPr>
          <a:xfrm flipV="1">
            <a:off x="2538360" y="3214080"/>
            <a:ext cx="891360" cy="8197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1" name="Egyenes összekötő nyíllal 72"/>
          <p:cNvCxnSpPr>
            <a:stCxn id="3139" idx="5"/>
            <a:endCxn id="313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2" name="Egyenes összekötő nyíllal 76"/>
          <p:cNvCxnSpPr>
            <a:stCxn id="3136" idx="7"/>
            <a:endCxn id="313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3" name="Egyenes összekötő nyíllal 80"/>
          <p:cNvCxnSpPr>
            <a:stCxn id="3136" idx="3"/>
            <a:endCxn id="313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4" name="Egyenes összekötő nyíllal 83"/>
          <p:cNvCxnSpPr>
            <a:stCxn id="3135" idx="5"/>
            <a:endCxn id="3136" idx="1"/>
          </p:cNvCxnSpPr>
          <p:nvPr/>
        </p:nvCxnSpPr>
        <p:spPr>
          <a:xfrm>
            <a:off x="4037400" y="3467160"/>
            <a:ext cx="56772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5" name="Egyenes összekötő nyíllal 86"/>
          <p:cNvCxnSpPr>
            <a:endCxn id="313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6" name="Egyenes összekötő nyíllal 97"/>
          <p:cNvCxnSpPr>
            <a:stCxn id="3133" idx="6"/>
            <a:endCxn id="313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7" name="Egyenes összekötő nyíllal 100"/>
          <p:cNvCxnSpPr>
            <a:stCxn id="3139" idx="6"/>
            <a:endCxn id="313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8" name="Egyenes összekötő nyíllal 107"/>
          <p:cNvCxnSpPr>
            <a:stCxn id="3132" idx="5"/>
            <a:endCxn id="313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9" name="Egyenes összekötő nyíllal 111"/>
          <p:cNvCxnSpPr>
            <a:stCxn id="3134" idx="7"/>
            <a:endCxn id="313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50" name="Egyenes összekötő nyíllal 116"/>
          <p:cNvCxnSpPr>
            <a:stCxn id="3134" idx="0"/>
            <a:endCxn id="313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5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8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0" name="Egyenes összekötő nyíllal 128"/>
          <p:cNvCxnSpPr>
            <a:stCxn id="3136" idx="5"/>
            <a:endCxn id="313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6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 txBox="1"/>
          <p:nvPr/>
        </p:nvSpPr>
        <p:spPr>
          <a:xfrm>
            <a:off x="1434600" y="1447920"/>
            <a:ext cx="72090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on meg egy minimális vágást! (Sorolja fel a vágás éleit!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3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vágás definíciój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65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Legyen V’ egy hálózat csúcsainak tetszőleges olyan halmaza, amelyik tartalmazza a nyelőt, de nem tartalmazza a forrást. Ekkor a hálózat olyan (i,j) éleinek halmaza, amelyek i kezdőpontja nem V’-beli, a j végpontja viszont V’-beli egy vágás a hálózatb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67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Ellipszis 10"/>
          <p:cNvSpPr/>
          <p:nvPr/>
        </p:nvSpPr>
        <p:spPr>
          <a:xfrm>
            <a:off x="342900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5" name="Egyenes összekötő nyíllal 69"/>
          <p:cNvCxnSpPr>
            <a:stCxn id="3174" idx="7"/>
            <a:endCxn id="3170" idx="2"/>
          </p:cNvCxnSpPr>
          <p:nvPr/>
        </p:nvCxnSpPr>
        <p:spPr>
          <a:xfrm flipV="1">
            <a:off x="2538360" y="3214080"/>
            <a:ext cx="891360" cy="8197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76" name="Egyenes összekötő nyíllal 72"/>
          <p:cNvCxnSpPr>
            <a:stCxn id="3174" idx="5"/>
            <a:endCxn id="3168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77" name="Egyenes összekötő nyíllal 76"/>
          <p:cNvCxnSpPr>
            <a:stCxn id="3171" idx="7"/>
            <a:endCxn id="3167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78" name="Egyenes összekötő nyíllal 80"/>
          <p:cNvCxnSpPr>
            <a:stCxn id="3171" idx="3"/>
            <a:endCxn id="3168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79" name="Egyenes összekötő nyíllal 83"/>
          <p:cNvCxnSpPr>
            <a:stCxn id="3170" idx="5"/>
            <a:endCxn id="3171" idx="1"/>
          </p:cNvCxnSpPr>
          <p:nvPr/>
        </p:nvCxnSpPr>
        <p:spPr>
          <a:xfrm>
            <a:off x="4037400" y="3467160"/>
            <a:ext cx="56772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80" name="Egyenes összekötő nyíllal 86"/>
          <p:cNvCxnSpPr>
            <a:stCxn id="3170" idx="6"/>
            <a:endCxn id="3167" idx="2"/>
          </p:cNvCxnSpPr>
          <p:nvPr/>
        </p:nvCxnSpPr>
        <p:spPr>
          <a:xfrm>
            <a:off x="4142880" y="3214800"/>
            <a:ext cx="17154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81" name="Egyenes összekötő nyíllal 97"/>
          <p:cNvCxnSpPr>
            <a:stCxn id="3168" idx="6"/>
            <a:endCxn id="3169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82" name="Egyenes összekötő nyíllal 100"/>
          <p:cNvCxnSpPr>
            <a:stCxn id="3174" idx="6"/>
            <a:endCxn id="3171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83" name="Egyenes összekötő nyíllal 107"/>
          <p:cNvCxnSpPr>
            <a:stCxn id="3167" idx="5"/>
            <a:endCxn id="3173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84" name="Egyenes összekötő nyíllal 111"/>
          <p:cNvCxnSpPr>
            <a:stCxn id="3169" idx="7"/>
            <a:endCxn id="3173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85" name="Egyenes összekötő nyíllal 116"/>
          <p:cNvCxnSpPr>
            <a:stCxn id="3169" idx="0"/>
            <a:endCxn id="3167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86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8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5" name="Egyenes összekötő nyíllal 128"/>
          <p:cNvCxnSpPr>
            <a:stCxn id="3171" idx="5"/>
            <a:endCxn id="3169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196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 txBox="1"/>
          <p:nvPr/>
        </p:nvSpPr>
        <p:spPr>
          <a:xfrm>
            <a:off x="1434600" y="1447920"/>
            <a:ext cx="72090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on meg egy minimális vágást! (Sorolja fel a vágás éleit!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3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00" name="Ellipszis 7"/>
          <p:cNvSpPr/>
          <p:nvPr/>
        </p:nvSpPr>
        <p:spPr>
          <a:xfrm>
            <a:off x="4714920" y="5429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Ellipszis 10"/>
          <p:cNvSpPr/>
          <p:nvPr/>
        </p:nvSpPr>
        <p:spPr>
          <a:xfrm>
            <a:off x="4714920" y="264312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Ellipszis 11"/>
          <p:cNvSpPr/>
          <p:nvPr/>
        </p:nvSpPr>
        <p:spPr>
          <a:xfrm>
            <a:off x="4714920" y="4071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Ellipszis 66"/>
          <p:cNvSpPr/>
          <p:nvPr/>
        </p:nvSpPr>
        <p:spPr>
          <a:xfrm>
            <a:off x="7286760" y="4071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Ellipszis 67"/>
          <p:cNvSpPr/>
          <p:nvPr/>
        </p:nvSpPr>
        <p:spPr>
          <a:xfrm>
            <a:off x="2357280" y="40719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5" name="Egyenes összekötő nyíllal 69"/>
          <p:cNvCxnSpPr>
            <a:stCxn id="3204" idx="7"/>
            <a:endCxn id="3201" idx="2"/>
          </p:cNvCxnSpPr>
          <p:nvPr/>
        </p:nvCxnSpPr>
        <p:spPr>
          <a:xfrm flipV="1">
            <a:off x="2966040" y="2999880"/>
            <a:ext cx="1748520" cy="11772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06" name="Egyenes összekötő nyíllal 72"/>
          <p:cNvCxnSpPr>
            <a:stCxn id="3204" idx="5"/>
            <a:endCxn id="3200" idx="2"/>
          </p:cNvCxnSpPr>
          <p:nvPr/>
        </p:nvCxnSpPr>
        <p:spPr>
          <a:xfrm>
            <a:off x="2966040" y="4681080"/>
            <a:ext cx="1748520" cy="11055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07" name="Egyenes összekötő nyíllal 80"/>
          <p:cNvCxnSpPr>
            <a:stCxn id="3202" idx="4"/>
            <a:endCxn id="3200" idx="0"/>
          </p:cNvCxnSpPr>
          <p:nvPr/>
        </p:nvCxnSpPr>
        <p:spPr>
          <a:xfrm flipH="1">
            <a:off x="5071680" y="4788000"/>
            <a:ext cx="2160" cy="6433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08" name="Egyenes összekötő nyíllal 83"/>
          <p:cNvCxnSpPr>
            <a:stCxn id="3201" idx="4"/>
            <a:endCxn id="3202" idx="0"/>
          </p:cNvCxnSpPr>
          <p:nvPr/>
        </p:nvCxnSpPr>
        <p:spPr>
          <a:xfrm flipH="1">
            <a:off x="5071680" y="3357720"/>
            <a:ext cx="2160" cy="7164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09" name="Egyenes összekötő nyíllal 100"/>
          <p:cNvCxnSpPr>
            <a:stCxn id="3204" idx="6"/>
            <a:endCxn id="3202" idx="2"/>
          </p:cNvCxnSpPr>
          <p:nvPr/>
        </p:nvCxnSpPr>
        <p:spPr>
          <a:xfrm>
            <a:off x="3071880" y="4428720"/>
            <a:ext cx="164376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10" name="Egyenes összekötő nyíllal 107"/>
          <p:cNvCxnSpPr>
            <a:stCxn id="3201" idx="6"/>
            <a:endCxn id="3203" idx="1"/>
          </p:cNvCxnSpPr>
          <p:nvPr/>
        </p:nvCxnSpPr>
        <p:spPr>
          <a:xfrm>
            <a:off x="5428800" y="3000240"/>
            <a:ext cx="1963080" cy="11772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11" name="Egyenes összekötő nyíllal 111"/>
          <p:cNvCxnSpPr>
            <a:stCxn id="3200" idx="6"/>
            <a:endCxn id="3203" idx="3"/>
          </p:cNvCxnSpPr>
          <p:nvPr/>
        </p:nvCxnSpPr>
        <p:spPr>
          <a:xfrm flipV="1">
            <a:off x="5428800" y="4680720"/>
            <a:ext cx="1963080" cy="11055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212" name="Szövegdoboz 127"/>
          <p:cNvSpPr/>
          <p:nvPr/>
        </p:nvSpPr>
        <p:spPr>
          <a:xfrm>
            <a:off x="3214800" y="321480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 txBox="1"/>
          <p:nvPr/>
        </p:nvSpPr>
        <p:spPr>
          <a:xfrm>
            <a:off x="1434600" y="1447920"/>
            <a:ext cx="72090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 maximális folyamo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on meg egy minimális vágás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4" name="Szövegdoboz 62"/>
          <p:cNvSpPr/>
          <p:nvPr/>
        </p:nvSpPr>
        <p:spPr>
          <a:xfrm>
            <a:off x="6357960" y="328608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Szövegdoboz 63"/>
          <p:cNvSpPr/>
          <p:nvPr/>
        </p:nvSpPr>
        <p:spPr>
          <a:xfrm>
            <a:off x="3643200" y="400068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Szövegdoboz 64"/>
          <p:cNvSpPr/>
          <p:nvPr/>
        </p:nvSpPr>
        <p:spPr>
          <a:xfrm>
            <a:off x="3786120" y="492912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Szövegdoboz 65"/>
          <p:cNvSpPr/>
          <p:nvPr/>
        </p:nvSpPr>
        <p:spPr>
          <a:xfrm>
            <a:off x="5000760" y="485784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Szövegdoboz 68"/>
          <p:cNvSpPr/>
          <p:nvPr/>
        </p:nvSpPr>
        <p:spPr>
          <a:xfrm>
            <a:off x="5000760" y="350028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Szövegdoboz 70"/>
          <p:cNvSpPr/>
          <p:nvPr/>
        </p:nvSpPr>
        <p:spPr>
          <a:xfrm>
            <a:off x="6215040" y="521496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3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3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3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00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25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 –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Válasszuk ki a C’ egy olyan n elemét, amelyik a legközelebb van a C valamelyik m eleméhez. Ekkor az (m,n) él a minimális feszítőfa eleme lesz. Az n csúcsot áttesszük C’-ből C-be, majd visszatérünk az előző lépéshez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5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7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50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Hálózati problémák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inimális feszítő f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egrövidebb 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aximális folyam, minimális vágá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Kritikus 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52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55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57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0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2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5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6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428480" y="1285560"/>
            <a:ext cx="749916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Rajzolja be a minimális feszítő fá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8" name="Ellipszis 3"/>
          <p:cNvSpPr/>
          <p:nvPr/>
        </p:nvSpPr>
        <p:spPr>
          <a:xfrm>
            <a:off x="4357800" y="378612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Ellipszis 7"/>
          <p:cNvSpPr/>
          <p:nvPr/>
        </p:nvSpPr>
        <p:spPr>
          <a:xfrm>
            <a:off x="7000920" y="3357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Ellipszis 9"/>
          <p:cNvSpPr/>
          <p:nvPr/>
        </p:nvSpPr>
        <p:spPr>
          <a:xfrm>
            <a:off x="2357280" y="571500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Ellipszis 10"/>
          <p:cNvSpPr/>
          <p:nvPr/>
        </p:nvSpPr>
        <p:spPr>
          <a:xfrm>
            <a:off x="3786120" y="207180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llipszis 11"/>
          <p:cNvSpPr/>
          <p:nvPr/>
        </p:nvSpPr>
        <p:spPr>
          <a:xfrm>
            <a:off x="678672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Egyenes összekötő 19"/>
          <p:cNvSpPr/>
          <p:nvPr/>
        </p:nvSpPr>
        <p:spPr>
          <a:xfrm>
            <a:off x="4500720" y="2428920"/>
            <a:ext cx="2286000" cy="14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Egyenes összekötő 25"/>
          <p:cNvSpPr/>
          <p:nvPr/>
        </p:nvSpPr>
        <p:spPr>
          <a:xfrm>
            <a:off x="4395960" y="2681280"/>
            <a:ext cx="2604960" cy="10335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gyenes összekötő 27"/>
          <p:cNvSpPr/>
          <p:nvPr/>
        </p:nvSpPr>
        <p:spPr>
          <a:xfrm flipH="1" flipV="1">
            <a:off x="7395840" y="2681280"/>
            <a:ext cx="214200" cy="7812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Egyenes összekötő 29"/>
          <p:cNvSpPr/>
          <p:nvPr/>
        </p:nvSpPr>
        <p:spPr>
          <a:xfrm flipV="1">
            <a:off x="2967120" y="4395600"/>
            <a:ext cx="1495440" cy="1423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Egyenes összekötő 33"/>
          <p:cNvSpPr/>
          <p:nvPr/>
        </p:nvSpPr>
        <p:spPr>
          <a:xfrm flipH="1">
            <a:off x="5071680" y="3967200"/>
            <a:ext cx="203364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zövegdoboz 36"/>
          <p:cNvSpPr/>
          <p:nvPr/>
        </p:nvSpPr>
        <p:spPr>
          <a:xfrm>
            <a:off x="4431960" y="307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zövegdoboz 39"/>
          <p:cNvSpPr/>
          <p:nvPr/>
        </p:nvSpPr>
        <p:spPr>
          <a:xfrm>
            <a:off x="5503320" y="200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zövegdoboz 40"/>
          <p:cNvSpPr/>
          <p:nvPr/>
        </p:nvSpPr>
        <p:spPr>
          <a:xfrm>
            <a:off x="5146200" y="264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zövegdoboz 43"/>
          <p:cNvSpPr/>
          <p:nvPr/>
        </p:nvSpPr>
        <p:spPr>
          <a:xfrm>
            <a:off x="6146280" y="264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Egyenes összekötő 55"/>
          <p:cNvSpPr/>
          <p:nvPr/>
        </p:nvSpPr>
        <p:spPr>
          <a:xfrm flipV="1">
            <a:off x="2714040" y="2680920"/>
            <a:ext cx="1176120" cy="3033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Egyenes összekötő 58"/>
          <p:cNvSpPr/>
          <p:nvPr/>
        </p:nvSpPr>
        <p:spPr>
          <a:xfrm flipV="1">
            <a:off x="3071880" y="3966840"/>
            <a:ext cx="4538520" cy="2104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Egyenes összekötő 62"/>
          <p:cNvSpPr/>
          <p:nvPr/>
        </p:nvSpPr>
        <p:spPr>
          <a:xfrm flipH="1" flipV="1">
            <a:off x="4143240" y="2786040"/>
            <a:ext cx="571680" cy="10000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Egyenes összekötő 65"/>
          <p:cNvSpPr/>
          <p:nvPr/>
        </p:nvSpPr>
        <p:spPr>
          <a:xfrm flipV="1">
            <a:off x="4966560" y="2681280"/>
            <a:ext cx="1924200" cy="12096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zövegdoboz 85"/>
          <p:cNvSpPr/>
          <p:nvPr/>
        </p:nvSpPr>
        <p:spPr>
          <a:xfrm>
            <a:off x="586080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zövegdoboz 86"/>
          <p:cNvSpPr/>
          <p:nvPr/>
        </p:nvSpPr>
        <p:spPr>
          <a:xfrm>
            <a:off x="3789000" y="450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zövegdoboz 87"/>
          <p:cNvSpPr/>
          <p:nvPr/>
        </p:nvSpPr>
        <p:spPr>
          <a:xfrm>
            <a:off x="3003120" y="385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zövegdoboz 88"/>
          <p:cNvSpPr/>
          <p:nvPr/>
        </p:nvSpPr>
        <p:spPr>
          <a:xfrm>
            <a:off x="5217840" y="464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zövegdoboz 89"/>
          <p:cNvSpPr/>
          <p:nvPr/>
        </p:nvSpPr>
        <p:spPr>
          <a:xfrm>
            <a:off x="75751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6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1428480" y="1285560"/>
            <a:ext cx="749916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Rajzolja be a minimális feszítő fá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Ellipszis 3"/>
          <p:cNvSpPr/>
          <p:nvPr/>
        </p:nvSpPr>
        <p:spPr>
          <a:xfrm>
            <a:off x="4357800" y="378612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Ellipszis 7"/>
          <p:cNvSpPr/>
          <p:nvPr/>
        </p:nvSpPr>
        <p:spPr>
          <a:xfrm>
            <a:off x="7000920" y="3357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Ellipszis 9"/>
          <p:cNvSpPr/>
          <p:nvPr/>
        </p:nvSpPr>
        <p:spPr>
          <a:xfrm>
            <a:off x="2357280" y="571500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Ellipszis 10"/>
          <p:cNvSpPr/>
          <p:nvPr/>
        </p:nvSpPr>
        <p:spPr>
          <a:xfrm>
            <a:off x="3786120" y="207180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Ellipszis 11"/>
          <p:cNvSpPr/>
          <p:nvPr/>
        </p:nvSpPr>
        <p:spPr>
          <a:xfrm>
            <a:off x="678672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Egyenes összekötő 19"/>
          <p:cNvSpPr/>
          <p:nvPr/>
        </p:nvSpPr>
        <p:spPr>
          <a:xfrm>
            <a:off x="4500720" y="2428920"/>
            <a:ext cx="2286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gyenes összekötő 25"/>
          <p:cNvSpPr/>
          <p:nvPr/>
        </p:nvSpPr>
        <p:spPr>
          <a:xfrm>
            <a:off x="4395960" y="2681280"/>
            <a:ext cx="2604960" cy="103356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Egyenes összekötő 27"/>
          <p:cNvSpPr/>
          <p:nvPr/>
        </p:nvSpPr>
        <p:spPr>
          <a:xfrm flipH="1" flipV="1">
            <a:off x="7395840" y="2681280"/>
            <a:ext cx="214200" cy="7812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Egyenes összekötő 29"/>
          <p:cNvSpPr/>
          <p:nvPr/>
        </p:nvSpPr>
        <p:spPr>
          <a:xfrm flipV="1">
            <a:off x="2967120" y="4395600"/>
            <a:ext cx="1495440" cy="1423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Egyenes összekötő 33"/>
          <p:cNvSpPr/>
          <p:nvPr/>
        </p:nvSpPr>
        <p:spPr>
          <a:xfrm flipH="1">
            <a:off x="5071680" y="3967200"/>
            <a:ext cx="2033640" cy="176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zövegdoboz 36"/>
          <p:cNvSpPr/>
          <p:nvPr/>
        </p:nvSpPr>
        <p:spPr>
          <a:xfrm>
            <a:off x="4431960" y="307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zövegdoboz 39"/>
          <p:cNvSpPr/>
          <p:nvPr/>
        </p:nvSpPr>
        <p:spPr>
          <a:xfrm>
            <a:off x="5503320" y="200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zövegdoboz 40"/>
          <p:cNvSpPr/>
          <p:nvPr/>
        </p:nvSpPr>
        <p:spPr>
          <a:xfrm>
            <a:off x="5146200" y="264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zövegdoboz 43"/>
          <p:cNvSpPr/>
          <p:nvPr/>
        </p:nvSpPr>
        <p:spPr>
          <a:xfrm>
            <a:off x="6146280" y="264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Egyenes összekötő 55"/>
          <p:cNvSpPr/>
          <p:nvPr/>
        </p:nvSpPr>
        <p:spPr>
          <a:xfrm flipV="1">
            <a:off x="2714040" y="2680920"/>
            <a:ext cx="1176120" cy="303372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gyenes összekötő 58"/>
          <p:cNvSpPr/>
          <p:nvPr/>
        </p:nvSpPr>
        <p:spPr>
          <a:xfrm flipV="1">
            <a:off x="3071880" y="3966840"/>
            <a:ext cx="4538520" cy="210492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Egyenes összekötő 62"/>
          <p:cNvSpPr/>
          <p:nvPr/>
        </p:nvSpPr>
        <p:spPr>
          <a:xfrm flipH="1" flipV="1">
            <a:off x="4143240" y="2786040"/>
            <a:ext cx="571680" cy="100008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Egyenes összekötő 65"/>
          <p:cNvSpPr/>
          <p:nvPr/>
        </p:nvSpPr>
        <p:spPr>
          <a:xfrm flipV="1">
            <a:off x="4966560" y="2681280"/>
            <a:ext cx="1924200" cy="1209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zövegdoboz 85"/>
          <p:cNvSpPr/>
          <p:nvPr/>
        </p:nvSpPr>
        <p:spPr>
          <a:xfrm>
            <a:off x="586080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zövegdoboz 86"/>
          <p:cNvSpPr/>
          <p:nvPr/>
        </p:nvSpPr>
        <p:spPr>
          <a:xfrm>
            <a:off x="3789000" y="450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zövegdoboz 87"/>
          <p:cNvSpPr/>
          <p:nvPr/>
        </p:nvSpPr>
        <p:spPr>
          <a:xfrm>
            <a:off x="3003120" y="385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zövegdoboz 88"/>
          <p:cNvSpPr/>
          <p:nvPr/>
        </p:nvSpPr>
        <p:spPr>
          <a:xfrm>
            <a:off x="5217840" y="464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zövegdoboz 89"/>
          <p:cNvSpPr/>
          <p:nvPr/>
        </p:nvSpPr>
        <p:spPr>
          <a:xfrm>
            <a:off x="75751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642680" y="257148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legrövidebb ú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legrövidebb út problém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problé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ogyan lehet egy adott csúcsból egy adott csúcsba a lehető legrövidebb úton eljutni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eltétele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A hálózat minden éle lehet irányított vagy irányítatl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Mindegyik élnek adott a (nemnegatív) hossz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lapfogalmak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Gráf, hálóz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Élek és csúcsok (csúcspontok) halmaz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súcs (V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Olyan halmaz, aminek az elemei a gráf vagy hálózat csúcspontja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Él (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Egy csúcspontokból álló rendezett pár, amely megadja a két csúcspont közötti mozgás vagy áramlás lehetséges irányá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z első csúcsot ellátjuk az állandó 0 címké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inden olyan csúcsot amelybe az első csúcsból megy él, ideiglenesen megcímkézzük az (1,i) él hosszával, minden más csúcs a ∞ címkét kap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Kiválasztjuk a legkisebb ideiglenes címkével rendelkező csúcsot (ha több van, akkor az egyiket), és címkéjét állandónak minősítjü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Új ideiglenes címkét számítunk azokra a csúcsokra, amelyekbe az új állandó címkéjű csúcsból megy él. Az új ideiglenes címkét úgy állítjuk elő, hogy az új állandó címkéhez hozzáadjuk az ide vezető utat, és megvizsgáljuk, hogy ez kisebb-e a korábbi ideiglenes címkénél. Ha igen, akkor lecseréljük a korábbi ideiglenes címké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iután minden csúcs állandó címkét kapott meghatározzuk a legrövidebb utat. Ezt visszafelé haladva tesszük úgy, hogy minden esetben megvizsgáljuk, hogy az adott él hossza megegyezik-e az állandó címkék különbségével. Ha igen, akkor az az él a legrövidebb út egyik é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z 1-es csúcsból a többi csúcsba vezető legrövidebb utaka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Az első csúcsot ellátjuk az állandó 0 címké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inden olyan csúcsot amelybe az első csúcsból megy él, ideiglenesen megcímkézzük az (1,i) él hosszával, minden más csúcs a ∞ címkét kap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Kiválasztjuk a legkisebb ideiglenes címkével rendelkező csúcsot (ha több van, akkor az egyiket), és címkéjét állandónak minősítjü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64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z első csúcsot ellátjuk az állandó 0 címké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Minden olyan csúcsot amelybe az első csúcsból megy él, ideiglenesen megcímkézzük az (1,i) él hosszával, minden más csúcs a ∞ címkét kap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Kiválasztjuk a legkisebb ideiglenes címkével rendelkező csúcsot (ha több van, akkor az egyiket), és címkéjét állandónak minősítjü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9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églalap 34"/>
          <p:cNvSpPr/>
          <p:nvPr/>
        </p:nvSpPr>
        <p:spPr>
          <a:xfrm>
            <a:off x="5003640" y="4797360"/>
            <a:ext cx="50508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églalap 35"/>
          <p:cNvSpPr/>
          <p:nvPr/>
        </p:nvSpPr>
        <p:spPr>
          <a:xfrm>
            <a:off x="7429680" y="1928880"/>
            <a:ext cx="42840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églalap 45"/>
          <p:cNvSpPr/>
          <p:nvPr/>
        </p:nvSpPr>
        <p:spPr>
          <a:xfrm>
            <a:off x="6429240" y="6429240"/>
            <a:ext cx="4287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434960" y="1447560"/>
            <a:ext cx="74995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z első csúcsot ellátjuk az állandó 0 címké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inden olyan csúcsot amelybe az első csúcsból megy él, ideiglenesen megcímkézzük az (1,i) él hosszával, minden más csúcs a ∞ címkét kap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Kiválasztjuk a legkisebb ideiglenes címkével rendelkező csúcsot (ha több van, akkor az egyiket), és címkéjét állandónak minősítjü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25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églalap 35"/>
          <p:cNvSpPr/>
          <p:nvPr/>
        </p:nvSpPr>
        <p:spPr>
          <a:xfrm>
            <a:off x="7429680" y="1928880"/>
            <a:ext cx="42840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églalap 45"/>
          <p:cNvSpPr/>
          <p:nvPr/>
        </p:nvSpPr>
        <p:spPr>
          <a:xfrm>
            <a:off x="6429240" y="6429240"/>
            <a:ext cx="4287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lapfogalmak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án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Élek egy olyan sorozata, amelyben az egymást követő bármely két élnek egyetlen közös csúcsa v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Olyan lánc, amelyben (az utolsó él kivételével) mindegyik él végpontja az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os a sorozatban következő él kezdőpontjáv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Kezdőpont, végpo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(j,k) él esetében j a kezdőpont, k a végpo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Új ideiglenes címkét számítunk azokra a csúcsokra, amelyekbe az új állandó címkéjű csúcsból megy él. Az új ideiglenes címkét úgy állítjuk elő, hogy az új állandó címkéhez hozzáadjuk az ide vezető utat, és megvizsgáljuk, hogy ez kisebb-e a korábbi ideiglenes címkénél. Ha igen, akkor lecseréljük a korábbi ideiglenes címké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58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89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20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51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8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13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44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Miután minden csúcs állandó címkét kapott meghatározzuk a legrövidebb utat. Ezt visszafelé haladva tesszük úgy, hogy minden esetben megvizsgáljuk, hogy az adott él hossza megegyezik-e az állandó címkék különbségével. Ha igen, akkor az az él a legrövidebb út egyik é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7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Példa: a 6-os csúcsba vezető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egrövidebb 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lapfogalmak – egy péld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357520" y="1447560"/>
            <a:ext cx="357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súcsok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V= {1, 2, 3, 4}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Élek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= {(1,2), (2,3), (3,4), (4,3), (4,1)}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gy lánc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(1,2)-(2,3)-(4,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gy út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(1,2)-(2,3)-(3,4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Ellipszis 4"/>
          <p:cNvSpPr/>
          <p:nvPr/>
        </p:nvSpPr>
        <p:spPr>
          <a:xfrm>
            <a:off x="1643040" y="2214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llipszis 6"/>
          <p:cNvSpPr/>
          <p:nvPr/>
        </p:nvSpPr>
        <p:spPr>
          <a:xfrm>
            <a:off x="3857760" y="2214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llipszis 7"/>
          <p:cNvSpPr/>
          <p:nvPr/>
        </p:nvSpPr>
        <p:spPr>
          <a:xfrm>
            <a:off x="1643040" y="4500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Ellipszis 8"/>
          <p:cNvSpPr/>
          <p:nvPr/>
        </p:nvSpPr>
        <p:spPr>
          <a:xfrm>
            <a:off x="3857760" y="4500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Egyenes összekötő nyíllal 10"/>
          <p:cNvCxnSpPr>
            <a:stCxn id="329" idx="2"/>
            <a:endCxn id="328" idx="6"/>
          </p:cNvCxnSpPr>
          <p:nvPr/>
        </p:nvCxnSpPr>
        <p:spPr>
          <a:xfrm flipH="1" flipV="1">
            <a:off x="2356920" y="2571480"/>
            <a:ext cx="150120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3" name="Egyenes összekötő nyíllal 12"/>
          <p:cNvCxnSpPr>
            <a:stCxn id="328" idx="4"/>
            <a:endCxn id="330" idx="0"/>
          </p:cNvCxnSpPr>
          <p:nvPr/>
        </p:nvCxnSpPr>
        <p:spPr>
          <a:xfrm flipH="1">
            <a:off x="1998360" y="2928960"/>
            <a:ext cx="2160" cy="1573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4" name="Egyenes összekötő nyíllal 14"/>
          <p:cNvCxnSpPr>
            <a:stCxn id="330" idx="6"/>
            <a:endCxn id="331" idx="2"/>
          </p:cNvCxnSpPr>
          <p:nvPr/>
        </p:nvCxnSpPr>
        <p:spPr>
          <a:xfrm>
            <a:off x="2357280" y="4857840"/>
            <a:ext cx="150120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5" name="Egyenes összekötő nyíllal 18"/>
          <p:cNvCxnSpPr>
            <a:stCxn id="331" idx="0"/>
            <a:endCxn id="329" idx="4"/>
          </p:cNvCxnSpPr>
          <p:nvPr/>
        </p:nvCxnSpPr>
        <p:spPr>
          <a:xfrm flipV="1">
            <a:off x="4212000" y="2928600"/>
            <a:ext cx="2520" cy="1573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6" name="Görbe összekötő 22"/>
          <p:cNvCxnSpPr>
            <a:stCxn id="329" idx="6"/>
            <a:endCxn id="331" idx="6"/>
          </p:cNvCxnSpPr>
          <p:nvPr/>
        </p:nvCxnSpPr>
        <p:spPr>
          <a:xfrm>
            <a:off x="4572000" y="2571840"/>
            <a:ext cx="2160" cy="2286720"/>
          </a:xfrm>
          <a:prstGeom prst="curvedConnector5">
            <a:avLst>
              <a:gd name="adj1" fmla="val 14380000"/>
              <a:gd name="adj2" fmla="val 49992"/>
              <a:gd name="adj3" fmla="val 14380000"/>
            </a:avLst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</p:spTree>
  </p:cSld>
  <p:transition>
    <p:cover dir="l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09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Példa: a 6-os csúcsba vezető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egrövidebb 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41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Példa: a 6-os csúcsba vezető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egrövidebb 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1357200" y="1500120"/>
          <a:ext cx="7499520" cy="4041720"/>
        </p:xfrm>
        <a:graphic>
          <a:graphicData uri="http://schemas.openxmlformats.org/drawingml/2006/table">
            <a:tbl>
              <a:tblPr/>
              <a:tblGrid>
                <a:gridCol w="2500560"/>
                <a:gridCol w="2498760"/>
                <a:gridCol w="2500200"/>
              </a:tblGrid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sú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 legrövidebb ú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oss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-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-2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2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z 1-es csúcsból a 6-os csúcsba vezető legrövidebb uta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Ellipszis 3"/>
          <p:cNvSpPr/>
          <p:nvPr/>
        </p:nvSpPr>
        <p:spPr>
          <a:xfrm>
            <a:off x="550080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Ellipszis 4"/>
          <p:cNvSpPr/>
          <p:nvPr/>
        </p:nvSpPr>
        <p:spPr>
          <a:xfrm>
            <a:off x="700092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Ellipszis 7"/>
          <p:cNvSpPr/>
          <p:nvPr/>
        </p:nvSpPr>
        <p:spPr>
          <a:xfrm>
            <a:off x="300024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Ellipszis 9"/>
          <p:cNvSpPr/>
          <p:nvPr/>
        </p:nvSpPr>
        <p:spPr>
          <a:xfrm>
            <a:off x="557208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Ellipszis 10"/>
          <p:cNvSpPr/>
          <p:nvPr/>
        </p:nvSpPr>
        <p:spPr>
          <a:xfrm>
            <a:off x="178596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Ellipszis 11"/>
          <p:cNvSpPr/>
          <p:nvPr/>
        </p:nvSpPr>
        <p:spPr>
          <a:xfrm>
            <a:off x="3000240" y="29289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Egyenes összekötő 13"/>
          <p:cNvSpPr/>
          <p:nvPr/>
        </p:nvSpPr>
        <p:spPr>
          <a:xfrm flipV="1">
            <a:off x="6286680" y="4824000"/>
            <a:ext cx="819000" cy="11048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Egyenes összekötő 17"/>
          <p:cNvSpPr/>
          <p:nvPr/>
        </p:nvSpPr>
        <p:spPr>
          <a:xfrm flipH="1" flipV="1">
            <a:off x="3714480" y="5928840"/>
            <a:ext cx="1857240" cy="1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Egyenes összekötő 19"/>
          <p:cNvSpPr/>
          <p:nvPr/>
        </p:nvSpPr>
        <p:spPr>
          <a:xfrm flipV="1">
            <a:off x="2394720" y="3538440"/>
            <a:ext cx="709560" cy="7812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Egyenes összekötő 23"/>
          <p:cNvSpPr/>
          <p:nvPr/>
        </p:nvSpPr>
        <p:spPr>
          <a:xfrm>
            <a:off x="3714840" y="3286080"/>
            <a:ext cx="1785960" cy="1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Egyenes összekötő 25"/>
          <p:cNvSpPr/>
          <p:nvPr/>
        </p:nvSpPr>
        <p:spPr>
          <a:xfrm>
            <a:off x="2394720" y="4824360"/>
            <a:ext cx="709560" cy="8524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Egyenes összekötő 31"/>
          <p:cNvSpPr/>
          <p:nvPr/>
        </p:nvSpPr>
        <p:spPr>
          <a:xfrm>
            <a:off x="6215040" y="3286080"/>
            <a:ext cx="890640" cy="10335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Egyenes összekötő 33"/>
          <p:cNvSpPr/>
          <p:nvPr/>
        </p:nvSpPr>
        <p:spPr>
          <a:xfrm flipH="1" flipV="1">
            <a:off x="3609720" y="3538440"/>
            <a:ext cx="2066760" cy="21384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zövegdoboz 39"/>
          <p:cNvSpPr/>
          <p:nvPr/>
        </p:nvSpPr>
        <p:spPr>
          <a:xfrm>
            <a:off x="22888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zövegdoboz 107"/>
          <p:cNvSpPr/>
          <p:nvPr/>
        </p:nvSpPr>
        <p:spPr>
          <a:xfrm>
            <a:off x="4360320" y="55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zövegdoboz 108"/>
          <p:cNvSpPr/>
          <p:nvPr/>
        </p:nvSpPr>
        <p:spPr>
          <a:xfrm>
            <a:off x="2717280" y="49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zövegdoboz 109"/>
          <p:cNvSpPr/>
          <p:nvPr/>
        </p:nvSpPr>
        <p:spPr>
          <a:xfrm>
            <a:off x="4431960" y="29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zövegdoboz 110"/>
          <p:cNvSpPr/>
          <p:nvPr/>
        </p:nvSpPr>
        <p:spPr>
          <a:xfrm>
            <a:off x="4574880" y="414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zövegdoboz 111"/>
          <p:cNvSpPr/>
          <p:nvPr/>
        </p:nvSpPr>
        <p:spPr>
          <a:xfrm>
            <a:off x="6432120" y="507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zövegdoboz 112"/>
          <p:cNvSpPr/>
          <p:nvPr/>
        </p:nvSpPr>
        <p:spPr>
          <a:xfrm>
            <a:off x="664632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2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z 1-es csúcsból a 6-os csúcsba vezető legrövidebb uta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8" name="Ellipszis 3"/>
          <p:cNvSpPr/>
          <p:nvPr/>
        </p:nvSpPr>
        <p:spPr>
          <a:xfrm>
            <a:off x="550080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Ellipszis 4"/>
          <p:cNvSpPr/>
          <p:nvPr/>
        </p:nvSpPr>
        <p:spPr>
          <a:xfrm>
            <a:off x="700092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Ellipszis 7"/>
          <p:cNvSpPr/>
          <p:nvPr/>
        </p:nvSpPr>
        <p:spPr>
          <a:xfrm>
            <a:off x="300024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Ellipszis 9"/>
          <p:cNvSpPr/>
          <p:nvPr/>
        </p:nvSpPr>
        <p:spPr>
          <a:xfrm>
            <a:off x="557208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Ellipszis 10"/>
          <p:cNvSpPr/>
          <p:nvPr/>
        </p:nvSpPr>
        <p:spPr>
          <a:xfrm>
            <a:off x="178596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Ellipszis 11"/>
          <p:cNvSpPr/>
          <p:nvPr/>
        </p:nvSpPr>
        <p:spPr>
          <a:xfrm>
            <a:off x="3000240" y="29289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Egyenes összekötő 13"/>
          <p:cNvSpPr/>
          <p:nvPr/>
        </p:nvSpPr>
        <p:spPr>
          <a:xfrm flipV="1">
            <a:off x="6286680" y="4824000"/>
            <a:ext cx="819000" cy="1104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Egyenes összekötő 17"/>
          <p:cNvSpPr/>
          <p:nvPr/>
        </p:nvSpPr>
        <p:spPr>
          <a:xfrm flipH="1" flipV="1">
            <a:off x="3714480" y="5928840"/>
            <a:ext cx="1857240" cy="1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Egyenes összekötő 19"/>
          <p:cNvSpPr/>
          <p:nvPr/>
        </p:nvSpPr>
        <p:spPr>
          <a:xfrm flipV="1">
            <a:off x="2394720" y="3538440"/>
            <a:ext cx="709560" cy="781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Egyenes összekötő 23"/>
          <p:cNvSpPr/>
          <p:nvPr/>
        </p:nvSpPr>
        <p:spPr>
          <a:xfrm>
            <a:off x="3714840" y="3286080"/>
            <a:ext cx="1785960" cy="1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Egyenes összekötő 25"/>
          <p:cNvSpPr/>
          <p:nvPr/>
        </p:nvSpPr>
        <p:spPr>
          <a:xfrm>
            <a:off x="2394720" y="4824360"/>
            <a:ext cx="709560" cy="8524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Egyenes összekötő 31"/>
          <p:cNvSpPr/>
          <p:nvPr/>
        </p:nvSpPr>
        <p:spPr>
          <a:xfrm>
            <a:off x="6215040" y="3286080"/>
            <a:ext cx="890640" cy="10335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Egyenes összekötő 33"/>
          <p:cNvSpPr/>
          <p:nvPr/>
        </p:nvSpPr>
        <p:spPr>
          <a:xfrm flipH="1" flipV="1">
            <a:off x="3609720" y="3538440"/>
            <a:ext cx="2066760" cy="213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zövegdoboz 39"/>
          <p:cNvSpPr/>
          <p:nvPr/>
        </p:nvSpPr>
        <p:spPr>
          <a:xfrm>
            <a:off x="22888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Szövegdoboz 107"/>
          <p:cNvSpPr/>
          <p:nvPr/>
        </p:nvSpPr>
        <p:spPr>
          <a:xfrm>
            <a:off x="4360320" y="55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zövegdoboz 108"/>
          <p:cNvSpPr/>
          <p:nvPr/>
        </p:nvSpPr>
        <p:spPr>
          <a:xfrm>
            <a:off x="2717280" y="49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zövegdoboz 109"/>
          <p:cNvSpPr/>
          <p:nvPr/>
        </p:nvSpPr>
        <p:spPr>
          <a:xfrm>
            <a:off x="4431960" y="29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zövegdoboz 110"/>
          <p:cNvSpPr/>
          <p:nvPr/>
        </p:nvSpPr>
        <p:spPr>
          <a:xfrm>
            <a:off x="4574880" y="414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Szövegdoboz 111"/>
          <p:cNvSpPr/>
          <p:nvPr/>
        </p:nvSpPr>
        <p:spPr>
          <a:xfrm>
            <a:off x="6432120" y="507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zövegdoboz 112"/>
          <p:cNvSpPr/>
          <p:nvPr/>
        </p:nvSpPr>
        <p:spPr>
          <a:xfrm>
            <a:off x="664632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2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z 1-es csúcsból a 6-os csúcsba vezető legrövidebb uta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Ellipszis 3"/>
          <p:cNvSpPr/>
          <p:nvPr/>
        </p:nvSpPr>
        <p:spPr>
          <a:xfrm>
            <a:off x="550080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Ellipszis 4"/>
          <p:cNvSpPr/>
          <p:nvPr/>
        </p:nvSpPr>
        <p:spPr>
          <a:xfrm>
            <a:off x="700092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Ellipszis 7"/>
          <p:cNvSpPr/>
          <p:nvPr/>
        </p:nvSpPr>
        <p:spPr>
          <a:xfrm>
            <a:off x="300024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Ellipszis 9"/>
          <p:cNvSpPr/>
          <p:nvPr/>
        </p:nvSpPr>
        <p:spPr>
          <a:xfrm>
            <a:off x="557208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Ellipszis 10"/>
          <p:cNvSpPr/>
          <p:nvPr/>
        </p:nvSpPr>
        <p:spPr>
          <a:xfrm>
            <a:off x="178596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Ellipszis 11"/>
          <p:cNvSpPr/>
          <p:nvPr/>
        </p:nvSpPr>
        <p:spPr>
          <a:xfrm>
            <a:off x="3000240" y="29289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Egyenes összekötő 13"/>
          <p:cNvSpPr/>
          <p:nvPr/>
        </p:nvSpPr>
        <p:spPr>
          <a:xfrm flipV="1">
            <a:off x="6286680" y="4824000"/>
            <a:ext cx="819000" cy="1104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Egyenes összekötő 17"/>
          <p:cNvSpPr/>
          <p:nvPr/>
        </p:nvSpPr>
        <p:spPr>
          <a:xfrm flipH="1" flipV="1">
            <a:off x="3714480" y="5928840"/>
            <a:ext cx="18572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Egyenes összekötő 19"/>
          <p:cNvSpPr/>
          <p:nvPr/>
        </p:nvSpPr>
        <p:spPr>
          <a:xfrm flipV="1">
            <a:off x="2394720" y="3538440"/>
            <a:ext cx="709560" cy="7812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Egyenes összekötő 23"/>
          <p:cNvSpPr/>
          <p:nvPr/>
        </p:nvSpPr>
        <p:spPr>
          <a:xfrm>
            <a:off x="3714840" y="3286080"/>
            <a:ext cx="1785960" cy="1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Egyenes összekötő 25"/>
          <p:cNvSpPr/>
          <p:nvPr/>
        </p:nvSpPr>
        <p:spPr>
          <a:xfrm>
            <a:off x="2394720" y="4824360"/>
            <a:ext cx="709560" cy="852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Egyenes összekötő 31"/>
          <p:cNvSpPr/>
          <p:nvPr/>
        </p:nvSpPr>
        <p:spPr>
          <a:xfrm>
            <a:off x="6215040" y="3286080"/>
            <a:ext cx="890640" cy="10335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Egyenes összekötő 33"/>
          <p:cNvSpPr/>
          <p:nvPr/>
        </p:nvSpPr>
        <p:spPr>
          <a:xfrm flipH="1" flipV="1">
            <a:off x="3609720" y="3538440"/>
            <a:ext cx="2066760" cy="21384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zövegdoboz 39"/>
          <p:cNvSpPr/>
          <p:nvPr/>
        </p:nvSpPr>
        <p:spPr>
          <a:xfrm>
            <a:off x="22888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Szövegdoboz 107"/>
          <p:cNvSpPr/>
          <p:nvPr/>
        </p:nvSpPr>
        <p:spPr>
          <a:xfrm>
            <a:off x="4360320" y="55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zövegdoboz 108"/>
          <p:cNvSpPr/>
          <p:nvPr/>
        </p:nvSpPr>
        <p:spPr>
          <a:xfrm>
            <a:off x="2717280" y="49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zövegdoboz 109"/>
          <p:cNvSpPr/>
          <p:nvPr/>
        </p:nvSpPr>
        <p:spPr>
          <a:xfrm>
            <a:off x="4431960" y="29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zövegdoboz 110"/>
          <p:cNvSpPr/>
          <p:nvPr/>
        </p:nvSpPr>
        <p:spPr>
          <a:xfrm>
            <a:off x="4574880" y="414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zövegdoboz 111"/>
          <p:cNvSpPr/>
          <p:nvPr/>
        </p:nvSpPr>
        <p:spPr>
          <a:xfrm>
            <a:off x="6432120" y="507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zövegdoboz 112"/>
          <p:cNvSpPr/>
          <p:nvPr/>
        </p:nvSpPr>
        <p:spPr>
          <a:xfrm>
            <a:off x="664632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642680" y="257148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aximális folyam, </a:t>
            </a:r>
            <a:br>
              <a:rPr sz="4300"/>
            </a:b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vágá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642680" y="257148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aximális folyam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aximális folyam problém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problé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ogyan lehet egy adott pontból egy adott pontba a lehető legnagyobb mennyiséget eljuttatni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eltétele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A hálózat minden éle irányíto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Mindegyik élnek adott a (nemnegatív) kapacitás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aximális folyam problém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ogalm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Forrás (Source): a kiindulási po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Nyelő (Sink): a végpo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Előremenő é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átramenő é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olyam-megőrzési megköté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Egy adott pontba ami befolyik az ki is fog folyni (kivéve a forrást és a nyelő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42680" y="257148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Élek tulajdonságai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z (i,j) élen átmenő folyam kisebb az él kapacitásánál. Ebben az esetben az (i,j) élen átmenő folyam növelhető. Jelölje I az ezzel a tulajdonsággal rendelkező élek halmazá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z (i,j) élen átmenő folyam pozitív. Ebben az esetben az (i,j) élen átmenő folyam csökkenthető. Jelölje R az ezzel a tulajdonsággal rendelkező élek halmazá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ímkézzük meg a forrá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ímkézzük meg a csúcsokat és az éleket a következő szabályok szeri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a az x csúcs már kapott címkét, de az y csúcs még nem, és az (x,y) él az I eleme, akkor címkézzük meg az y csúcsot és az (x,y) élt. (Előre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a az x csúcs már kapott címkét, de az y csúcs még nem, és az (y,x) él az R eleme, akkor címkézzük meg az y csúcsot és az (y,x) élt. (Hátra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olytassuk ezt a címkézési eljárást, amíg a nyelő címkét nem kap, vagy további csúcsokat már nem lehet címkével ellát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kkor két eset fordulhat elő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Minden él előremenő él. Vizsgáljuk meg, hogy az egyes élek mennyivel kapacitásai bővíthetőek. Vegyük ezek minimumát, majd bővítsük vele a folyam minden élé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1996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Nem minden él előremenő él, akadnak hátramenőek is. Ekkor vegyük az előremenő élek bővíthetőségének minimumát és a hátramenő élek csökkenthetőségének minimumát. Válasszuk ezek közül a kisebbet, és bővítsünk ennyivel minden előremenő élt, valamint csökkentsünk ennyivel minden hátramenő él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Ismételjük az algoritmust. Ha a nyelőt nem tudjuk megcímkézni, akkor a jelenlegi folyam optimál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 maximális folyamo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4" name="Egyenes összekötő nyíllal 69"/>
          <p:cNvCxnSpPr>
            <a:stCxn id="1263" idx="7"/>
            <a:endCxn id="125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65" name="Egyenes összekötő nyíllal 72"/>
          <p:cNvCxnSpPr>
            <a:stCxn id="1263" idx="5"/>
            <a:endCxn id="125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66" name="Egyenes összekötő nyíllal 76"/>
          <p:cNvCxnSpPr>
            <a:stCxn id="1260" idx="7"/>
            <a:endCxn id="125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67" name="Egyenes összekötő nyíllal 80"/>
          <p:cNvCxnSpPr>
            <a:stCxn id="1260" idx="3"/>
            <a:endCxn id="125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68" name="Egyenes összekötő nyíllal 83"/>
          <p:cNvCxnSpPr>
            <a:stCxn id="1259" idx="5"/>
            <a:endCxn id="126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69" name="Egyenes összekötő nyíllal 86"/>
          <p:cNvCxnSpPr>
            <a:endCxn id="125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70" name="Egyenes összekötő nyíllal 97"/>
          <p:cNvCxnSpPr>
            <a:stCxn id="1257" idx="6"/>
            <a:endCxn id="125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71" name="Egyenes összekötő nyíllal 100"/>
          <p:cNvCxnSpPr>
            <a:stCxn id="1263" idx="6"/>
            <a:endCxn id="126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72" name="Egyenes összekötő nyíllal 107"/>
          <p:cNvCxnSpPr>
            <a:stCxn id="1256" idx="5"/>
            <a:endCxn id="126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73" name="Egyenes összekötő nyíllal 111"/>
          <p:cNvCxnSpPr>
            <a:stCxn id="1258" idx="7"/>
            <a:endCxn id="126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74" name="Egyenes összekötő nyíllal 116"/>
          <p:cNvCxnSpPr>
            <a:stCxn id="1258" idx="0"/>
            <a:endCxn id="125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27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Egyenes összekötő nyíllal 128"/>
          <p:cNvCxnSpPr>
            <a:stCxn id="1260" idx="5"/>
            <a:endCxn id="125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28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zövegdoboz 133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Címkézzük meg a forrá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ímkézzük meg a csúcsokat és az éleket a következő szabályok szeri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a az x csúcs már kapott címkét, de az y csúcs még nem, és az (x,y) él az I eleme, akkor címkézzük meg az y csúcsot és az (x,y) élt. (Előre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a az x csúcs már kapott címkét, de az y csúcs még nem, és az (y,x) él az R eleme, akkor címkézzük meg az y csúcsot és az (y,x) élt. (Hátra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9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Egyenes összekötő nyíllal 69"/>
          <p:cNvCxnSpPr>
            <a:stCxn id="1297" idx="7"/>
            <a:endCxn id="129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99" name="Egyenes összekötő nyíllal 72"/>
          <p:cNvCxnSpPr>
            <a:stCxn id="1297" idx="5"/>
            <a:endCxn id="129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0" name="Egyenes összekötő nyíllal 76"/>
          <p:cNvCxnSpPr>
            <a:stCxn id="1294" idx="7"/>
            <a:endCxn id="129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1" name="Egyenes összekötő nyíllal 80"/>
          <p:cNvCxnSpPr>
            <a:stCxn id="1294" idx="3"/>
            <a:endCxn id="129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2" name="Egyenes összekötő nyíllal 83"/>
          <p:cNvCxnSpPr>
            <a:stCxn id="1293" idx="5"/>
            <a:endCxn id="129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3" name="Egyenes összekötő nyíllal 86"/>
          <p:cNvCxnSpPr>
            <a:endCxn id="129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4" name="Egyenes összekötő nyíllal 97"/>
          <p:cNvCxnSpPr>
            <a:stCxn id="1291" idx="6"/>
            <a:endCxn id="129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5" name="Egyenes összekötő nyíllal 100"/>
          <p:cNvCxnSpPr>
            <a:stCxn id="1297" idx="6"/>
            <a:endCxn id="129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6" name="Egyenes összekötő nyíllal 107"/>
          <p:cNvCxnSpPr>
            <a:stCxn id="1290" idx="5"/>
            <a:endCxn id="129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7" name="Egyenes összekötő nyíllal 111"/>
          <p:cNvCxnSpPr>
            <a:stCxn id="1292" idx="7"/>
            <a:endCxn id="129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8" name="Egyenes összekötő nyíllal 116"/>
          <p:cNvCxnSpPr>
            <a:stCxn id="1292" idx="0"/>
            <a:endCxn id="129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0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8" name="Egyenes összekötő nyíllal 128"/>
          <p:cNvCxnSpPr>
            <a:stCxn id="1294" idx="5"/>
            <a:endCxn id="129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1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zövegdoboz 34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ímkézzük meg a forrá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Címkézzük meg a csúcsokat és az éleket a következő szabályok szeri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f6fc6"/>
                </a:solidFill>
                <a:latin typeface="Gill Sans MT"/>
              </a:rPr>
              <a:t>Ha az x csúcs már kapott címkét, de az y csúcs még nem, és az (x,y) él az I eleme, akkor címkézzük meg az y csúcsot és az (x,y) élt. (Előre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f6fc6"/>
                </a:solidFill>
                <a:latin typeface="Gill Sans MT"/>
              </a:rPr>
              <a:t>Ha az x csúcs már kapott címkét, de az y csúcs még nem, és az (y,x) él az R eleme, akkor címkézzük meg az y csúcsot és az (y,x) élt. (Hátra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2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2" name="Egyenes összekötő nyíllal 69"/>
          <p:cNvCxnSpPr>
            <a:stCxn id="1331" idx="7"/>
            <a:endCxn id="132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3" name="Egyenes összekötő nyíllal 72"/>
          <p:cNvCxnSpPr>
            <a:stCxn id="1331" idx="5"/>
            <a:endCxn id="132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4" name="Egyenes összekötő nyíllal 76"/>
          <p:cNvCxnSpPr>
            <a:stCxn id="1328" idx="7"/>
            <a:endCxn id="132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5" name="Egyenes összekötő nyíllal 80"/>
          <p:cNvCxnSpPr>
            <a:stCxn id="1328" idx="3"/>
            <a:endCxn id="132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6" name="Egyenes összekötő nyíllal 83"/>
          <p:cNvCxnSpPr>
            <a:stCxn id="1327" idx="5"/>
            <a:endCxn id="132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7" name="Egyenes összekötő nyíllal 86"/>
          <p:cNvCxnSpPr>
            <a:endCxn id="132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8" name="Egyenes összekötő nyíllal 97"/>
          <p:cNvCxnSpPr>
            <a:stCxn id="1325" idx="6"/>
            <a:endCxn id="132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9" name="Egyenes összekötő nyíllal 100"/>
          <p:cNvCxnSpPr>
            <a:stCxn id="1331" idx="6"/>
            <a:endCxn id="132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40" name="Egyenes összekötő nyíllal 107"/>
          <p:cNvCxnSpPr>
            <a:stCxn id="1324" idx="5"/>
            <a:endCxn id="133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41" name="Egyenes összekötő nyíllal 111"/>
          <p:cNvCxnSpPr>
            <a:stCxn id="1326" idx="7"/>
            <a:endCxn id="133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42" name="Egyenes összekötő nyíllal 116"/>
          <p:cNvCxnSpPr>
            <a:stCxn id="1326" idx="0"/>
            <a:endCxn id="132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4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2" name="Egyenes összekötő nyíllal 128"/>
          <p:cNvCxnSpPr>
            <a:stCxn id="1328" idx="5"/>
            <a:endCxn id="132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5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Folytassuk ezt a címkézési eljárást, amíg a nyelő címkét nem kap, vagy további csúcsokat már nem lehet címkével ellát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kkor két eset fordulhat elő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Minden él előremenő él. Vizsgáljuk meg, hogy az egyes élek mennyivel kapacitásai bővíthetőek. Vegyük ezek minimumát, majd bővítsük vele a folyam minden élé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eszítőfa definíciój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gy n csúcsponttal rendelkező hálózatban a feszítőfa az éleknek egy olyan n-1 elemű halmaza, amely összeköttetést teremt bármely két csúcs között és nem tartalmaz kör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(Körnek nevezünk minden olyan utat, amelyben az út kezdőpontja megegyezik a végpontjával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5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6" name="Egyenes összekötő nyíllal 69"/>
          <p:cNvCxnSpPr>
            <a:stCxn id="1365" idx="7"/>
            <a:endCxn id="136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67" name="Egyenes összekötő nyíllal 72"/>
          <p:cNvCxnSpPr>
            <a:stCxn id="1365" idx="5"/>
            <a:endCxn id="135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68" name="Egyenes összekötő nyíllal 76"/>
          <p:cNvCxnSpPr>
            <a:stCxn id="1362" idx="7"/>
            <a:endCxn id="135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69" name="Egyenes összekötő nyíllal 80"/>
          <p:cNvCxnSpPr>
            <a:stCxn id="1362" idx="3"/>
            <a:endCxn id="135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0" name="Egyenes összekötő nyíllal 83"/>
          <p:cNvCxnSpPr>
            <a:stCxn id="1361" idx="5"/>
            <a:endCxn id="136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1" name="Egyenes összekötő nyíllal 86"/>
          <p:cNvCxnSpPr>
            <a:endCxn id="135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2" name="Egyenes összekötő nyíllal 97"/>
          <p:cNvCxnSpPr>
            <a:stCxn id="1359" idx="6"/>
            <a:endCxn id="136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3" name="Egyenes összekötő nyíllal 100"/>
          <p:cNvCxnSpPr>
            <a:stCxn id="1365" idx="6"/>
            <a:endCxn id="136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4" name="Egyenes összekötő nyíllal 107"/>
          <p:cNvCxnSpPr>
            <a:stCxn id="1358" idx="5"/>
            <a:endCxn id="136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5" name="Egyenes összekötő nyíllal 111"/>
          <p:cNvCxnSpPr>
            <a:stCxn id="1360" idx="7"/>
            <a:endCxn id="136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6" name="Egyenes összekötő nyíllal 116"/>
          <p:cNvCxnSpPr>
            <a:stCxn id="1360" idx="0"/>
            <a:endCxn id="135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7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6" name="Egyenes összekötő nyíllal 128"/>
          <p:cNvCxnSpPr>
            <a:stCxn id="1362" idx="5"/>
            <a:endCxn id="136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8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9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8" name="Egyenes összekötő nyíllal 69"/>
          <p:cNvCxnSpPr>
            <a:stCxn id="1397" idx="7"/>
            <a:endCxn id="139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99" name="Egyenes összekötő nyíllal 72"/>
          <p:cNvCxnSpPr>
            <a:stCxn id="1397" idx="5"/>
            <a:endCxn id="139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0" name="Egyenes összekötő nyíllal 76"/>
          <p:cNvCxnSpPr>
            <a:stCxn id="1394" idx="7"/>
            <a:endCxn id="139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1" name="Egyenes összekötő nyíllal 80"/>
          <p:cNvCxnSpPr>
            <a:stCxn id="1394" idx="3"/>
            <a:endCxn id="139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2" name="Egyenes összekötő nyíllal 83"/>
          <p:cNvCxnSpPr>
            <a:stCxn id="1393" idx="5"/>
            <a:endCxn id="139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3" name="Egyenes összekötő nyíllal 86"/>
          <p:cNvCxnSpPr>
            <a:endCxn id="139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4" name="Egyenes összekötő nyíllal 97"/>
          <p:cNvCxnSpPr>
            <a:stCxn id="1391" idx="6"/>
            <a:endCxn id="139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5" name="Egyenes összekötő nyíllal 100"/>
          <p:cNvCxnSpPr>
            <a:stCxn id="1397" idx="6"/>
            <a:endCxn id="139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6" name="Egyenes összekötő nyíllal 107"/>
          <p:cNvCxnSpPr>
            <a:stCxn id="1390" idx="5"/>
            <a:endCxn id="139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7" name="Egyenes összekötő nyíllal 111"/>
          <p:cNvCxnSpPr>
            <a:stCxn id="1392" idx="7"/>
            <a:endCxn id="139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8" name="Egyenes összekötő nyíllal 116"/>
          <p:cNvCxnSpPr>
            <a:stCxn id="1392" idx="0"/>
            <a:endCxn id="139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0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8" name="Egyenes összekötő nyíllal 128"/>
          <p:cNvCxnSpPr>
            <a:stCxn id="1394" idx="5"/>
            <a:endCxn id="139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1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olytassuk ezt a címkézési eljárást, amíg a nyelő címkét nem kap, vagy további csúcsokat már nem lehet címkével ellát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kkor két eset fordulhat elő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f6fc6"/>
                </a:solidFill>
                <a:latin typeface="Gill Sans MT"/>
              </a:rPr>
              <a:t>Minden él előremenő él. Vizsgáljuk meg, hogy az egyes élek mennyivel kapacitásai bővíthetőek. Vegyük ezek minimumát, majd bővítsük vele a folyam minden élé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2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2" name="Egyenes összekötő nyíllal 69"/>
          <p:cNvCxnSpPr>
            <a:stCxn id="1431" idx="7"/>
            <a:endCxn id="142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3" name="Egyenes összekötő nyíllal 72"/>
          <p:cNvCxnSpPr>
            <a:stCxn id="1431" idx="5"/>
            <a:endCxn id="142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4" name="Egyenes összekötő nyíllal 76"/>
          <p:cNvCxnSpPr>
            <a:stCxn id="1428" idx="7"/>
            <a:endCxn id="142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5" name="Egyenes összekötő nyíllal 80"/>
          <p:cNvCxnSpPr>
            <a:stCxn id="1428" idx="3"/>
            <a:endCxn id="142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6" name="Egyenes összekötő nyíllal 83"/>
          <p:cNvCxnSpPr>
            <a:stCxn id="1427" idx="5"/>
            <a:endCxn id="142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7" name="Egyenes összekötő nyíllal 86"/>
          <p:cNvCxnSpPr>
            <a:endCxn id="142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8" name="Egyenes összekötő nyíllal 97"/>
          <p:cNvCxnSpPr>
            <a:stCxn id="1425" idx="6"/>
            <a:endCxn id="142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9" name="Egyenes összekötő nyíllal 100"/>
          <p:cNvCxnSpPr>
            <a:stCxn id="1431" idx="6"/>
            <a:endCxn id="142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40" name="Egyenes összekötő nyíllal 107"/>
          <p:cNvCxnSpPr>
            <a:stCxn id="1424" idx="5"/>
            <a:endCxn id="143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41" name="Egyenes összekötő nyíllal 111"/>
          <p:cNvCxnSpPr>
            <a:stCxn id="1426" idx="7"/>
            <a:endCxn id="143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42" name="Egyenes összekötő nyíllal 116"/>
          <p:cNvCxnSpPr>
            <a:stCxn id="1426" idx="0"/>
            <a:endCxn id="142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4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2" name="Egyenes összekötő nyíllal 128"/>
          <p:cNvCxnSpPr>
            <a:stCxn id="1428" idx="5"/>
            <a:endCxn id="142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5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5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4" name="Egyenes összekötő nyíllal 69"/>
          <p:cNvCxnSpPr>
            <a:stCxn id="1463" idx="7"/>
            <a:endCxn id="145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65" name="Egyenes összekötő nyíllal 72"/>
          <p:cNvCxnSpPr>
            <a:stCxn id="1463" idx="5"/>
            <a:endCxn id="145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66" name="Egyenes összekötő nyíllal 76"/>
          <p:cNvCxnSpPr>
            <a:stCxn id="1460" idx="7"/>
            <a:endCxn id="145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67" name="Egyenes összekötő nyíllal 80"/>
          <p:cNvCxnSpPr>
            <a:stCxn id="1460" idx="3"/>
            <a:endCxn id="145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68" name="Egyenes összekötő nyíllal 83"/>
          <p:cNvCxnSpPr>
            <a:stCxn id="1459" idx="5"/>
            <a:endCxn id="146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69" name="Egyenes összekötő nyíllal 86"/>
          <p:cNvCxnSpPr>
            <a:endCxn id="145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70" name="Egyenes összekötő nyíllal 97"/>
          <p:cNvCxnSpPr>
            <a:stCxn id="1457" idx="6"/>
            <a:endCxn id="145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71" name="Egyenes összekötő nyíllal 100"/>
          <p:cNvCxnSpPr>
            <a:stCxn id="1463" idx="6"/>
            <a:endCxn id="146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72" name="Egyenes összekötő nyíllal 107"/>
          <p:cNvCxnSpPr>
            <a:stCxn id="1456" idx="5"/>
            <a:endCxn id="146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73" name="Egyenes összekötő nyíllal 111"/>
          <p:cNvCxnSpPr>
            <a:stCxn id="1458" idx="7"/>
            <a:endCxn id="146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74" name="Egyenes összekötő nyíllal 116"/>
          <p:cNvCxnSpPr>
            <a:stCxn id="1458" idx="0"/>
            <a:endCxn id="145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7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4" name="Egyenes összekötő nyíllal 128"/>
          <p:cNvCxnSpPr>
            <a:stCxn id="1460" idx="5"/>
            <a:endCxn id="145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8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1996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Nem minden él előremenő él, akadnak hátramenőek is. Ekkor vegyük az előremenő élek bővíthetőségének minimumát és a hátramenő élek csökkenthetőségének minimumát. Válasszuk ezek közül a kisebbet, és bővítsünk ennyivel minden előremenő élt, valamint csökkentsünk ennyivel minden hátramenő él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Ismételjük az algoritmust. Ha a nyelőt nem tudjuk megcímkézni, akkor a jelenlegi folyam optimál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9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8" name="Egyenes összekötő nyíllal 69"/>
          <p:cNvCxnSpPr>
            <a:stCxn id="1497" idx="7"/>
            <a:endCxn id="149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99" name="Egyenes összekötő nyíllal 72"/>
          <p:cNvCxnSpPr>
            <a:stCxn id="1497" idx="5"/>
            <a:endCxn id="149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0" name="Egyenes összekötő nyíllal 76"/>
          <p:cNvCxnSpPr>
            <a:stCxn id="1494" idx="7"/>
            <a:endCxn id="149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1" name="Egyenes összekötő nyíllal 80"/>
          <p:cNvCxnSpPr>
            <a:stCxn id="1494" idx="3"/>
            <a:endCxn id="149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2" name="Egyenes összekötő nyíllal 83"/>
          <p:cNvCxnSpPr>
            <a:stCxn id="1493" idx="5"/>
            <a:endCxn id="149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3" name="Egyenes összekötő nyíllal 86"/>
          <p:cNvCxnSpPr>
            <a:endCxn id="149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4" name="Egyenes összekötő nyíllal 97"/>
          <p:cNvCxnSpPr>
            <a:stCxn id="1491" idx="6"/>
            <a:endCxn id="149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5" name="Egyenes összekötő nyíllal 100"/>
          <p:cNvCxnSpPr>
            <a:stCxn id="1497" idx="6"/>
            <a:endCxn id="149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6" name="Egyenes összekötő nyíllal 107"/>
          <p:cNvCxnSpPr>
            <a:stCxn id="1490" idx="5"/>
            <a:endCxn id="149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7" name="Egyenes összekötő nyíllal 111"/>
          <p:cNvCxnSpPr>
            <a:stCxn id="1492" idx="7"/>
            <a:endCxn id="149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8" name="Egyenes összekötő nyíllal 116"/>
          <p:cNvCxnSpPr>
            <a:stCxn id="1492" idx="0"/>
            <a:endCxn id="149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0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8" name="Egyenes összekötő nyíllal 128"/>
          <p:cNvCxnSpPr>
            <a:stCxn id="1494" idx="5"/>
            <a:endCxn id="149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1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2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0" name="Egyenes összekötő nyíllal 69"/>
          <p:cNvCxnSpPr>
            <a:stCxn id="1529" idx="7"/>
            <a:endCxn id="152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1" name="Egyenes összekötő nyíllal 72"/>
          <p:cNvCxnSpPr>
            <a:stCxn id="1529" idx="5"/>
            <a:endCxn id="152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2" name="Egyenes összekötő nyíllal 76"/>
          <p:cNvCxnSpPr>
            <a:stCxn id="1526" idx="7"/>
            <a:endCxn id="152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3" name="Egyenes összekötő nyíllal 80"/>
          <p:cNvCxnSpPr>
            <a:stCxn id="1526" idx="3"/>
            <a:endCxn id="152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4" name="Egyenes összekötő nyíllal 83"/>
          <p:cNvCxnSpPr>
            <a:stCxn id="1525" idx="5"/>
            <a:endCxn id="152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5" name="Egyenes összekötő nyíllal 86"/>
          <p:cNvCxnSpPr>
            <a:endCxn id="152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6" name="Egyenes összekötő nyíllal 97"/>
          <p:cNvCxnSpPr>
            <a:stCxn id="1523" idx="6"/>
            <a:endCxn id="152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7" name="Egyenes összekötő nyíllal 100"/>
          <p:cNvCxnSpPr>
            <a:stCxn id="1529" idx="6"/>
            <a:endCxn id="152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8" name="Egyenes összekötő nyíllal 107"/>
          <p:cNvCxnSpPr>
            <a:stCxn id="1522" idx="5"/>
            <a:endCxn id="152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9" name="Egyenes összekötő nyíllal 111"/>
          <p:cNvCxnSpPr>
            <a:stCxn id="1524" idx="7"/>
            <a:endCxn id="152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40" name="Egyenes összekötő nyíllal 116"/>
          <p:cNvCxnSpPr>
            <a:stCxn id="1524" idx="0"/>
            <a:endCxn id="152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4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0" name="Egyenes összekötő nyíllal 128"/>
          <p:cNvCxnSpPr>
            <a:stCxn id="1526" idx="5"/>
            <a:endCxn id="152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5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5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2" name="Egyenes összekötő nyíllal 69"/>
          <p:cNvCxnSpPr>
            <a:stCxn id="1561" idx="7"/>
            <a:endCxn id="155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3" name="Egyenes összekötő nyíllal 72"/>
          <p:cNvCxnSpPr>
            <a:stCxn id="1561" idx="5"/>
            <a:endCxn id="155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4" name="Egyenes összekötő nyíllal 76"/>
          <p:cNvCxnSpPr>
            <a:stCxn id="1558" idx="7"/>
            <a:endCxn id="155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5" name="Egyenes összekötő nyíllal 80"/>
          <p:cNvCxnSpPr>
            <a:stCxn id="1558" idx="3"/>
            <a:endCxn id="155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6" name="Egyenes összekötő nyíllal 83"/>
          <p:cNvCxnSpPr>
            <a:stCxn id="1557" idx="5"/>
            <a:endCxn id="155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7" name="Egyenes összekötő nyíllal 86"/>
          <p:cNvCxnSpPr>
            <a:endCxn id="155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8" name="Egyenes összekötő nyíllal 97"/>
          <p:cNvCxnSpPr>
            <a:stCxn id="1555" idx="6"/>
            <a:endCxn id="155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9" name="Egyenes összekötő nyíllal 100"/>
          <p:cNvCxnSpPr>
            <a:stCxn id="1561" idx="6"/>
            <a:endCxn id="155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70" name="Egyenes összekötő nyíllal 107"/>
          <p:cNvCxnSpPr>
            <a:stCxn id="1554" idx="5"/>
            <a:endCxn id="156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71" name="Egyenes összekötő nyíllal 111"/>
          <p:cNvCxnSpPr>
            <a:stCxn id="1556" idx="7"/>
            <a:endCxn id="156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72" name="Egyenes összekötő nyíllal 116"/>
          <p:cNvCxnSpPr>
            <a:stCxn id="1556" idx="0"/>
            <a:endCxn id="155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7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2" name="Egyenes összekötő nyíllal 128"/>
          <p:cNvCxnSpPr>
            <a:stCxn id="1558" idx="5"/>
            <a:endCxn id="155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8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8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4" name="Egyenes összekötő nyíllal 69"/>
          <p:cNvCxnSpPr>
            <a:stCxn id="1593" idx="7"/>
            <a:endCxn id="158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95" name="Egyenes összekötő nyíllal 72"/>
          <p:cNvCxnSpPr>
            <a:stCxn id="1593" idx="5"/>
            <a:endCxn id="158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96" name="Egyenes összekötő nyíllal 76"/>
          <p:cNvCxnSpPr>
            <a:stCxn id="1590" idx="7"/>
            <a:endCxn id="158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97" name="Egyenes összekötő nyíllal 80"/>
          <p:cNvCxnSpPr>
            <a:stCxn id="1590" idx="3"/>
            <a:endCxn id="158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98" name="Egyenes összekötő nyíllal 83"/>
          <p:cNvCxnSpPr>
            <a:stCxn id="1589" idx="5"/>
            <a:endCxn id="159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99" name="Egyenes összekötő nyíllal 86"/>
          <p:cNvCxnSpPr>
            <a:endCxn id="158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00" name="Egyenes összekötő nyíllal 97"/>
          <p:cNvCxnSpPr>
            <a:stCxn id="1587" idx="6"/>
            <a:endCxn id="158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01" name="Egyenes összekötő nyíllal 100"/>
          <p:cNvCxnSpPr>
            <a:stCxn id="1593" idx="6"/>
            <a:endCxn id="159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02" name="Egyenes összekötő nyíllal 107"/>
          <p:cNvCxnSpPr>
            <a:stCxn id="1586" idx="5"/>
            <a:endCxn id="159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03" name="Egyenes összekötő nyíllal 111"/>
          <p:cNvCxnSpPr>
            <a:stCxn id="1588" idx="7"/>
            <a:endCxn id="159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04" name="Egyenes összekötő nyíllal 116"/>
          <p:cNvCxnSpPr>
            <a:stCxn id="1588" idx="0"/>
            <a:endCxn id="158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0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4" name="Egyenes összekötő nyíllal 128"/>
          <p:cNvCxnSpPr>
            <a:stCxn id="1590" idx="5"/>
            <a:endCxn id="158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1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 problém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problé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ogyan lehet az élek minimális összhosszúságú halmazával az összes csúcsot összekötni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eltétele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A hálózat minden éle irányítatlan (csak azt jelzi, hogy van összeköttetés két csúcs közöt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Mindegyik élnek adott a (nemnegatív) hossz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1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6" name="Egyenes összekötő nyíllal 69"/>
          <p:cNvCxnSpPr>
            <a:stCxn id="1625" idx="7"/>
            <a:endCxn id="162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27" name="Egyenes összekötő nyíllal 72"/>
          <p:cNvCxnSpPr>
            <a:stCxn id="1625" idx="5"/>
            <a:endCxn id="161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28" name="Egyenes összekötő nyíllal 76"/>
          <p:cNvCxnSpPr>
            <a:stCxn id="1622" idx="7"/>
            <a:endCxn id="161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29" name="Egyenes összekötő nyíllal 80"/>
          <p:cNvCxnSpPr>
            <a:stCxn id="1622" idx="3"/>
            <a:endCxn id="161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0" name="Egyenes összekötő nyíllal 83"/>
          <p:cNvCxnSpPr>
            <a:stCxn id="1621" idx="5"/>
            <a:endCxn id="162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1" name="Egyenes összekötő nyíllal 86"/>
          <p:cNvCxnSpPr>
            <a:endCxn id="161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2" name="Egyenes összekötő nyíllal 97"/>
          <p:cNvCxnSpPr>
            <a:stCxn id="1619" idx="6"/>
            <a:endCxn id="162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3" name="Egyenes összekötő nyíllal 100"/>
          <p:cNvCxnSpPr>
            <a:stCxn id="1625" idx="6"/>
            <a:endCxn id="162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4" name="Egyenes összekötő nyíllal 107"/>
          <p:cNvCxnSpPr>
            <a:stCxn id="1618" idx="5"/>
            <a:endCxn id="162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5" name="Egyenes összekötő nyíllal 111"/>
          <p:cNvCxnSpPr>
            <a:stCxn id="1620" idx="7"/>
            <a:endCxn id="162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6" name="Egyenes összekötő nyíllal 116"/>
          <p:cNvCxnSpPr>
            <a:stCxn id="1620" idx="0"/>
            <a:endCxn id="161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3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6" name="Egyenes összekötő nyíllal 128"/>
          <p:cNvCxnSpPr>
            <a:stCxn id="1622" idx="5"/>
            <a:endCxn id="162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4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5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8" name="Egyenes összekötő nyíllal 69"/>
          <p:cNvCxnSpPr>
            <a:stCxn id="1657" idx="7"/>
            <a:endCxn id="165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59" name="Egyenes összekötő nyíllal 72"/>
          <p:cNvCxnSpPr>
            <a:stCxn id="1657" idx="5"/>
            <a:endCxn id="165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0" name="Egyenes összekötő nyíllal 76"/>
          <p:cNvCxnSpPr>
            <a:stCxn id="1654" idx="7"/>
            <a:endCxn id="165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1" name="Egyenes összekötő nyíllal 80"/>
          <p:cNvCxnSpPr>
            <a:stCxn id="1654" idx="3"/>
            <a:endCxn id="165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2" name="Egyenes összekötő nyíllal 83"/>
          <p:cNvCxnSpPr>
            <a:stCxn id="1653" idx="5"/>
            <a:endCxn id="165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3" name="Egyenes összekötő nyíllal 86"/>
          <p:cNvCxnSpPr>
            <a:endCxn id="165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4" name="Egyenes összekötő nyíllal 97"/>
          <p:cNvCxnSpPr>
            <a:stCxn id="1651" idx="6"/>
            <a:endCxn id="165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5" name="Egyenes összekötő nyíllal 100"/>
          <p:cNvCxnSpPr>
            <a:stCxn id="1657" idx="6"/>
            <a:endCxn id="165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6" name="Egyenes összekötő nyíllal 107"/>
          <p:cNvCxnSpPr>
            <a:stCxn id="1650" idx="5"/>
            <a:endCxn id="165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7" name="Egyenes összekötő nyíllal 111"/>
          <p:cNvCxnSpPr>
            <a:stCxn id="1652" idx="7"/>
            <a:endCxn id="165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8" name="Egyenes összekötő nyíllal 116"/>
          <p:cNvCxnSpPr>
            <a:stCxn id="1652" idx="0"/>
            <a:endCxn id="165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6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8" name="Egyenes összekötő nyíllal 128"/>
          <p:cNvCxnSpPr>
            <a:stCxn id="1654" idx="5"/>
            <a:endCxn id="165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7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8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0" name="Egyenes összekötő nyíllal 69"/>
          <p:cNvCxnSpPr>
            <a:stCxn id="1689" idx="7"/>
            <a:endCxn id="168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1" name="Egyenes összekötő nyíllal 72"/>
          <p:cNvCxnSpPr>
            <a:stCxn id="1689" idx="5"/>
            <a:endCxn id="168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2" name="Egyenes összekötő nyíllal 76"/>
          <p:cNvCxnSpPr>
            <a:stCxn id="1686" idx="7"/>
            <a:endCxn id="168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3" name="Egyenes összekötő nyíllal 80"/>
          <p:cNvCxnSpPr>
            <a:stCxn id="1686" idx="3"/>
            <a:endCxn id="168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4" name="Egyenes összekötő nyíllal 83"/>
          <p:cNvCxnSpPr>
            <a:stCxn id="1685" idx="5"/>
            <a:endCxn id="168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5" name="Egyenes összekötő nyíllal 86"/>
          <p:cNvCxnSpPr>
            <a:endCxn id="168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6" name="Egyenes összekötő nyíllal 97"/>
          <p:cNvCxnSpPr>
            <a:stCxn id="1683" idx="6"/>
            <a:endCxn id="168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7" name="Egyenes összekötő nyíllal 100"/>
          <p:cNvCxnSpPr>
            <a:stCxn id="1689" idx="6"/>
            <a:endCxn id="168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8" name="Egyenes összekötő nyíllal 107"/>
          <p:cNvCxnSpPr>
            <a:stCxn id="1682" idx="5"/>
            <a:endCxn id="168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9" name="Egyenes összekötő nyíllal 111"/>
          <p:cNvCxnSpPr>
            <a:stCxn id="1684" idx="7"/>
            <a:endCxn id="168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00" name="Egyenes összekötő nyíllal 116"/>
          <p:cNvCxnSpPr>
            <a:stCxn id="1684" idx="0"/>
            <a:endCxn id="168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0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0" name="Egyenes összekötő nyíllal 128"/>
          <p:cNvCxnSpPr>
            <a:stCxn id="1686" idx="5"/>
            <a:endCxn id="168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1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1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2" name="Egyenes összekötő nyíllal 69"/>
          <p:cNvCxnSpPr>
            <a:stCxn id="1721" idx="7"/>
            <a:endCxn id="171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3" name="Egyenes összekötő nyíllal 72"/>
          <p:cNvCxnSpPr>
            <a:stCxn id="1721" idx="5"/>
            <a:endCxn id="171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4" name="Egyenes összekötő nyíllal 76"/>
          <p:cNvCxnSpPr>
            <a:stCxn id="1718" idx="7"/>
            <a:endCxn id="171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5" name="Egyenes összekötő nyíllal 80"/>
          <p:cNvCxnSpPr>
            <a:stCxn id="1718" idx="3"/>
            <a:endCxn id="171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6" name="Egyenes összekötő nyíllal 83"/>
          <p:cNvCxnSpPr>
            <a:stCxn id="1717" idx="5"/>
            <a:endCxn id="171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7" name="Egyenes összekötő nyíllal 86"/>
          <p:cNvCxnSpPr>
            <a:endCxn id="171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8" name="Egyenes összekötő nyíllal 97"/>
          <p:cNvCxnSpPr>
            <a:stCxn id="1715" idx="6"/>
            <a:endCxn id="171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9" name="Egyenes összekötő nyíllal 100"/>
          <p:cNvCxnSpPr>
            <a:stCxn id="1721" idx="6"/>
            <a:endCxn id="171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30" name="Egyenes összekötő nyíllal 107"/>
          <p:cNvCxnSpPr>
            <a:stCxn id="1714" idx="5"/>
            <a:endCxn id="172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31" name="Egyenes összekötő nyíllal 111"/>
          <p:cNvCxnSpPr>
            <a:stCxn id="1716" idx="7"/>
            <a:endCxn id="172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32" name="Egyenes összekötő nyíllal 116"/>
          <p:cNvCxnSpPr>
            <a:stCxn id="1716" idx="0"/>
            <a:endCxn id="171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3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2" name="Egyenes összekötő nyíllal 128"/>
          <p:cNvCxnSpPr>
            <a:stCxn id="1718" idx="5"/>
            <a:endCxn id="171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4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4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4" name="Egyenes összekötő nyíllal 69"/>
          <p:cNvCxnSpPr>
            <a:stCxn id="1753" idx="7"/>
            <a:endCxn id="174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55" name="Egyenes összekötő nyíllal 72"/>
          <p:cNvCxnSpPr>
            <a:stCxn id="1753" idx="5"/>
            <a:endCxn id="174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56" name="Egyenes összekötő nyíllal 76"/>
          <p:cNvCxnSpPr>
            <a:stCxn id="1750" idx="7"/>
            <a:endCxn id="174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57" name="Egyenes összekötő nyíllal 80"/>
          <p:cNvCxnSpPr>
            <a:stCxn id="1750" idx="3"/>
            <a:endCxn id="174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58" name="Egyenes összekötő nyíllal 83"/>
          <p:cNvCxnSpPr>
            <a:stCxn id="1749" idx="5"/>
            <a:endCxn id="175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59" name="Egyenes összekötő nyíllal 86"/>
          <p:cNvCxnSpPr>
            <a:endCxn id="174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60" name="Egyenes összekötő nyíllal 97"/>
          <p:cNvCxnSpPr>
            <a:stCxn id="1747" idx="6"/>
            <a:endCxn id="174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61" name="Egyenes összekötő nyíllal 100"/>
          <p:cNvCxnSpPr>
            <a:stCxn id="1753" idx="6"/>
            <a:endCxn id="175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62" name="Egyenes összekötő nyíllal 107"/>
          <p:cNvCxnSpPr>
            <a:stCxn id="1746" idx="5"/>
            <a:endCxn id="175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63" name="Egyenes összekötő nyíllal 111"/>
          <p:cNvCxnSpPr>
            <a:stCxn id="1748" idx="7"/>
            <a:endCxn id="175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64" name="Egyenes összekötő nyíllal 116"/>
          <p:cNvCxnSpPr>
            <a:stCxn id="1748" idx="0"/>
            <a:endCxn id="174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6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4" name="Egyenes összekötő nyíllal 128"/>
          <p:cNvCxnSpPr>
            <a:stCxn id="1750" idx="5"/>
            <a:endCxn id="174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7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7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6" name="Egyenes összekötő nyíllal 69"/>
          <p:cNvCxnSpPr>
            <a:stCxn id="1785" idx="7"/>
            <a:endCxn id="178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87" name="Egyenes összekötő nyíllal 72"/>
          <p:cNvCxnSpPr>
            <a:stCxn id="1785" idx="5"/>
            <a:endCxn id="177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88" name="Egyenes összekötő nyíllal 76"/>
          <p:cNvCxnSpPr>
            <a:stCxn id="1782" idx="7"/>
            <a:endCxn id="177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89" name="Egyenes összekötő nyíllal 80"/>
          <p:cNvCxnSpPr>
            <a:stCxn id="1782" idx="3"/>
            <a:endCxn id="177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0" name="Egyenes összekötő nyíllal 83"/>
          <p:cNvCxnSpPr>
            <a:stCxn id="1781" idx="5"/>
            <a:endCxn id="178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1" name="Egyenes összekötő nyíllal 86"/>
          <p:cNvCxnSpPr>
            <a:endCxn id="177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2" name="Egyenes összekötő nyíllal 97"/>
          <p:cNvCxnSpPr>
            <a:stCxn id="1779" idx="6"/>
            <a:endCxn id="178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3" name="Egyenes összekötő nyíllal 100"/>
          <p:cNvCxnSpPr>
            <a:stCxn id="1785" idx="6"/>
            <a:endCxn id="178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4" name="Egyenes összekötő nyíllal 107"/>
          <p:cNvCxnSpPr>
            <a:stCxn id="1778" idx="5"/>
            <a:endCxn id="178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5" name="Egyenes összekötő nyíllal 111"/>
          <p:cNvCxnSpPr>
            <a:stCxn id="1780" idx="7"/>
            <a:endCxn id="178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6" name="Egyenes összekötő nyíllal 116"/>
          <p:cNvCxnSpPr>
            <a:stCxn id="1780" idx="0"/>
            <a:endCxn id="177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9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6" name="Egyenes összekötő nyíllal 128"/>
          <p:cNvCxnSpPr>
            <a:stCxn id="1782" idx="5"/>
            <a:endCxn id="178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0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1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8" name="Egyenes összekötő nyíllal 69"/>
          <p:cNvCxnSpPr>
            <a:stCxn id="1817" idx="7"/>
            <a:endCxn id="181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19" name="Egyenes összekötő nyíllal 72"/>
          <p:cNvCxnSpPr>
            <a:stCxn id="1817" idx="5"/>
            <a:endCxn id="181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0" name="Egyenes összekötő nyíllal 76"/>
          <p:cNvCxnSpPr>
            <a:stCxn id="1814" idx="7"/>
            <a:endCxn id="181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1" name="Egyenes összekötő nyíllal 80"/>
          <p:cNvCxnSpPr>
            <a:stCxn id="1814" idx="3"/>
            <a:endCxn id="181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2" name="Egyenes összekötő nyíllal 83"/>
          <p:cNvCxnSpPr>
            <a:stCxn id="1813" idx="5"/>
            <a:endCxn id="181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3" name="Egyenes összekötő nyíllal 86"/>
          <p:cNvCxnSpPr>
            <a:endCxn id="181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4" name="Egyenes összekötő nyíllal 97"/>
          <p:cNvCxnSpPr>
            <a:stCxn id="1811" idx="6"/>
            <a:endCxn id="181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5" name="Egyenes összekötő nyíllal 100"/>
          <p:cNvCxnSpPr>
            <a:stCxn id="1817" idx="6"/>
            <a:endCxn id="181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6" name="Egyenes összekötő nyíllal 107"/>
          <p:cNvCxnSpPr>
            <a:stCxn id="1810" idx="5"/>
            <a:endCxn id="181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7" name="Egyenes összekötő nyíllal 111"/>
          <p:cNvCxnSpPr>
            <a:stCxn id="1812" idx="7"/>
            <a:endCxn id="181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8" name="Egyenes összekötő nyíllal 116"/>
          <p:cNvCxnSpPr>
            <a:stCxn id="1812" idx="0"/>
            <a:endCxn id="181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2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8" name="Egyenes összekötő nyíllal 128"/>
          <p:cNvCxnSpPr>
            <a:stCxn id="1814" idx="5"/>
            <a:endCxn id="181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3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4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0" name="Egyenes összekötő nyíllal 69"/>
          <p:cNvCxnSpPr>
            <a:stCxn id="1849" idx="7"/>
            <a:endCxn id="184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1" name="Egyenes összekötő nyíllal 72"/>
          <p:cNvCxnSpPr>
            <a:stCxn id="1849" idx="5"/>
            <a:endCxn id="184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2" name="Egyenes összekötő nyíllal 76"/>
          <p:cNvCxnSpPr>
            <a:stCxn id="1846" idx="7"/>
            <a:endCxn id="184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3" name="Egyenes összekötő nyíllal 80"/>
          <p:cNvCxnSpPr>
            <a:stCxn id="1846" idx="3"/>
            <a:endCxn id="184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4" name="Egyenes összekötő nyíllal 83"/>
          <p:cNvCxnSpPr>
            <a:stCxn id="1845" idx="5"/>
            <a:endCxn id="184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5" name="Egyenes összekötő nyíllal 86"/>
          <p:cNvCxnSpPr>
            <a:endCxn id="184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6" name="Egyenes összekötő nyíllal 97"/>
          <p:cNvCxnSpPr>
            <a:stCxn id="1843" idx="6"/>
            <a:endCxn id="184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7" name="Egyenes összekötő nyíllal 100"/>
          <p:cNvCxnSpPr>
            <a:stCxn id="1849" idx="6"/>
            <a:endCxn id="184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8" name="Egyenes összekötő nyíllal 107"/>
          <p:cNvCxnSpPr>
            <a:stCxn id="1842" idx="5"/>
            <a:endCxn id="184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9" name="Egyenes összekötő nyíllal 111"/>
          <p:cNvCxnSpPr>
            <a:stCxn id="1844" idx="7"/>
            <a:endCxn id="184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60" name="Egyenes összekötő nyíllal 116"/>
          <p:cNvCxnSpPr>
            <a:stCxn id="1844" idx="0"/>
            <a:endCxn id="184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6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0" name="Egyenes összekötő nyíllal 128"/>
          <p:cNvCxnSpPr>
            <a:stCxn id="1846" idx="5"/>
            <a:endCxn id="184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7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7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2" name="Egyenes összekötő nyíllal 69"/>
          <p:cNvCxnSpPr>
            <a:stCxn id="1881" idx="7"/>
            <a:endCxn id="187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3" name="Egyenes összekötő nyíllal 72"/>
          <p:cNvCxnSpPr>
            <a:stCxn id="1881" idx="5"/>
            <a:endCxn id="187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4" name="Egyenes összekötő nyíllal 76"/>
          <p:cNvCxnSpPr>
            <a:stCxn id="1878" idx="7"/>
            <a:endCxn id="187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5" name="Egyenes összekötő nyíllal 80"/>
          <p:cNvCxnSpPr>
            <a:stCxn id="1878" idx="3"/>
            <a:endCxn id="187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6" name="Egyenes összekötő nyíllal 83"/>
          <p:cNvCxnSpPr>
            <a:stCxn id="1877" idx="5"/>
            <a:endCxn id="187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7" name="Egyenes összekötő nyíllal 86"/>
          <p:cNvCxnSpPr>
            <a:endCxn id="187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8" name="Egyenes összekötő nyíllal 97"/>
          <p:cNvCxnSpPr>
            <a:stCxn id="1875" idx="6"/>
            <a:endCxn id="187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9" name="Egyenes összekötő nyíllal 100"/>
          <p:cNvCxnSpPr>
            <a:stCxn id="1881" idx="6"/>
            <a:endCxn id="187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90" name="Egyenes összekötő nyíllal 107"/>
          <p:cNvCxnSpPr>
            <a:stCxn id="1874" idx="5"/>
            <a:endCxn id="188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91" name="Egyenes összekötő nyíllal 111"/>
          <p:cNvCxnSpPr>
            <a:stCxn id="1876" idx="7"/>
            <a:endCxn id="188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92" name="Egyenes összekötő nyíllal 116"/>
          <p:cNvCxnSpPr>
            <a:stCxn id="1876" idx="0"/>
            <a:endCxn id="187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9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2" name="Egyenes összekötő nyíllal 128"/>
          <p:cNvCxnSpPr>
            <a:stCxn id="1878" idx="5"/>
            <a:endCxn id="187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0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0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4" name="Egyenes összekötő nyíllal 69"/>
          <p:cNvCxnSpPr>
            <a:stCxn id="1913" idx="7"/>
            <a:endCxn id="190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15" name="Egyenes összekötő nyíllal 72"/>
          <p:cNvCxnSpPr>
            <a:stCxn id="1913" idx="5"/>
            <a:endCxn id="190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16" name="Egyenes összekötő nyíllal 76"/>
          <p:cNvCxnSpPr>
            <a:stCxn id="1910" idx="7"/>
            <a:endCxn id="190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17" name="Egyenes összekötő nyíllal 80"/>
          <p:cNvCxnSpPr>
            <a:stCxn id="1910" idx="3"/>
            <a:endCxn id="190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18" name="Egyenes összekötő nyíllal 83"/>
          <p:cNvCxnSpPr>
            <a:stCxn id="1909" idx="5"/>
            <a:endCxn id="191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19" name="Egyenes összekötő nyíllal 86"/>
          <p:cNvCxnSpPr>
            <a:endCxn id="190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20" name="Egyenes összekötő nyíllal 97"/>
          <p:cNvCxnSpPr>
            <a:stCxn id="1907" idx="6"/>
            <a:endCxn id="190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21" name="Egyenes összekötő nyíllal 100"/>
          <p:cNvCxnSpPr>
            <a:stCxn id="1913" idx="6"/>
            <a:endCxn id="191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22" name="Egyenes összekötő nyíllal 107"/>
          <p:cNvCxnSpPr>
            <a:stCxn id="1906" idx="5"/>
            <a:endCxn id="191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23" name="Egyenes összekötő nyíllal 111"/>
          <p:cNvCxnSpPr>
            <a:stCxn id="1908" idx="7"/>
            <a:endCxn id="191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24" name="Egyenes összekötő nyíllal 116"/>
          <p:cNvCxnSpPr>
            <a:stCxn id="1908" idx="0"/>
            <a:endCxn id="190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2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4" name="Egyenes összekötő nyíllal 128"/>
          <p:cNvCxnSpPr>
            <a:stCxn id="1910" idx="5"/>
            <a:endCxn id="190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3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 –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Válasszuk ki a hálózat egy tetszőleges i csúcsát. Keressük meg az i-hez legközelebbi csúcsot (j). Az i és j csúcsok egy összefüggő C={i,j} halmazt alkotnak, az (i,j) él pedig a minimális feszítőfa eleme lesz. A hálózat többi csúcsainak halmazát jelöljük C’-v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3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6" name="Egyenes összekötő nyíllal 69"/>
          <p:cNvCxnSpPr>
            <a:stCxn id="1945" idx="7"/>
            <a:endCxn id="194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47" name="Egyenes összekötő nyíllal 72"/>
          <p:cNvCxnSpPr>
            <a:stCxn id="1945" idx="5"/>
            <a:endCxn id="193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48" name="Egyenes összekötő nyíllal 76"/>
          <p:cNvCxnSpPr>
            <a:stCxn id="1942" idx="7"/>
            <a:endCxn id="193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49" name="Egyenes összekötő nyíllal 80"/>
          <p:cNvCxnSpPr>
            <a:stCxn id="1942" idx="3"/>
            <a:endCxn id="193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0" name="Egyenes összekötő nyíllal 83"/>
          <p:cNvCxnSpPr>
            <a:stCxn id="1941" idx="5"/>
            <a:endCxn id="194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1" name="Egyenes összekötő nyíllal 86"/>
          <p:cNvCxnSpPr>
            <a:endCxn id="193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2" name="Egyenes összekötő nyíllal 97"/>
          <p:cNvCxnSpPr>
            <a:stCxn id="1939" idx="6"/>
            <a:endCxn id="194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3" name="Egyenes összekötő nyíllal 100"/>
          <p:cNvCxnSpPr>
            <a:stCxn id="1945" idx="6"/>
            <a:endCxn id="194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4" name="Egyenes összekötő nyíllal 107"/>
          <p:cNvCxnSpPr>
            <a:stCxn id="1938" idx="5"/>
            <a:endCxn id="194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5" name="Egyenes összekötő nyíllal 111"/>
          <p:cNvCxnSpPr>
            <a:stCxn id="1940" idx="7"/>
            <a:endCxn id="194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6" name="Egyenes összekötő nyíllal 116"/>
          <p:cNvCxnSpPr>
            <a:stCxn id="1940" idx="0"/>
            <a:endCxn id="193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5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6" name="Egyenes összekötő nyíllal 128"/>
          <p:cNvCxnSpPr>
            <a:stCxn id="1942" idx="5"/>
            <a:endCxn id="194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6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7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8" name="Egyenes összekötő nyíllal 69"/>
          <p:cNvCxnSpPr>
            <a:stCxn id="1977" idx="7"/>
            <a:endCxn id="197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79" name="Egyenes összekötő nyíllal 72"/>
          <p:cNvCxnSpPr>
            <a:stCxn id="1977" idx="5"/>
            <a:endCxn id="197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0" name="Egyenes összekötő nyíllal 76"/>
          <p:cNvCxnSpPr>
            <a:stCxn id="1974" idx="7"/>
            <a:endCxn id="197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1" name="Egyenes összekötő nyíllal 80"/>
          <p:cNvCxnSpPr>
            <a:stCxn id="1974" idx="3"/>
            <a:endCxn id="197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2" name="Egyenes összekötő nyíllal 83"/>
          <p:cNvCxnSpPr>
            <a:stCxn id="1973" idx="5"/>
            <a:endCxn id="197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3" name="Egyenes összekötő nyíllal 86"/>
          <p:cNvCxnSpPr>
            <a:endCxn id="197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4" name="Egyenes összekötő nyíllal 97"/>
          <p:cNvCxnSpPr>
            <a:stCxn id="1971" idx="6"/>
            <a:endCxn id="197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5" name="Egyenes összekötő nyíllal 100"/>
          <p:cNvCxnSpPr>
            <a:stCxn id="1977" idx="6"/>
            <a:endCxn id="197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6" name="Egyenes összekötő nyíllal 107"/>
          <p:cNvCxnSpPr>
            <a:stCxn id="1970" idx="5"/>
            <a:endCxn id="197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7" name="Egyenes összekötő nyíllal 111"/>
          <p:cNvCxnSpPr>
            <a:stCxn id="1972" idx="7"/>
            <a:endCxn id="197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8" name="Egyenes összekötő nyíllal 116"/>
          <p:cNvCxnSpPr>
            <a:stCxn id="1972" idx="0"/>
            <a:endCxn id="197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8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8" name="Egyenes összekötő nyíllal 128"/>
          <p:cNvCxnSpPr>
            <a:stCxn id="1974" idx="5"/>
            <a:endCxn id="197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9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0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0" name="Egyenes összekötő nyíllal 69"/>
          <p:cNvCxnSpPr>
            <a:stCxn id="2009" idx="7"/>
            <a:endCxn id="200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1" name="Egyenes összekötő nyíllal 72"/>
          <p:cNvCxnSpPr>
            <a:stCxn id="2009" idx="5"/>
            <a:endCxn id="200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2" name="Egyenes összekötő nyíllal 76"/>
          <p:cNvCxnSpPr>
            <a:stCxn id="2006" idx="7"/>
            <a:endCxn id="200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3" name="Egyenes összekötő nyíllal 80"/>
          <p:cNvCxnSpPr>
            <a:stCxn id="2006" idx="3"/>
            <a:endCxn id="200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4" name="Egyenes összekötő nyíllal 83"/>
          <p:cNvCxnSpPr>
            <a:stCxn id="2005" idx="5"/>
            <a:endCxn id="200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5" name="Egyenes összekötő nyíllal 86"/>
          <p:cNvCxnSpPr>
            <a:endCxn id="200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6" name="Egyenes összekötő nyíllal 97"/>
          <p:cNvCxnSpPr>
            <a:stCxn id="2003" idx="6"/>
            <a:endCxn id="200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7" name="Egyenes összekötő nyíllal 100"/>
          <p:cNvCxnSpPr>
            <a:stCxn id="2009" idx="6"/>
            <a:endCxn id="200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8" name="Egyenes összekötő nyíllal 107"/>
          <p:cNvCxnSpPr>
            <a:stCxn id="2002" idx="5"/>
            <a:endCxn id="200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9" name="Egyenes összekötő nyíllal 111"/>
          <p:cNvCxnSpPr>
            <a:stCxn id="2004" idx="7"/>
            <a:endCxn id="200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20" name="Egyenes összekötő nyíllal 116"/>
          <p:cNvCxnSpPr>
            <a:stCxn id="2004" idx="0"/>
            <a:endCxn id="200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2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0" name="Egyenes összekötő nyíllal 128"/>
          <p:cNvCxnSpPr>
            <a:stCxn id="2006" idx="5"/>
            <a:endCxn id="200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3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3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2" name="Egyenes összekötő nyíllal 69"/>
          <p:cNvCxnSpPr>
            <a:stCxn id="2041" idx="7"/>
            <a:endCxn id="203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3" name="Egyenes összekötő nyíllal 72"/>
          <p:cNvCxnSpPr>
            <a:stCxn id="2041" idx="5"/>
            <a:endCxn id="203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4" name="Egyenes összekötő nyíllal 76"/>
          <p:cNvCxnSpPr>
            <a:stCxn id="2038" idx="7"/>
            <a:endCxn id="203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5" name="Egyenes összekötő nyíllal 80"/>
          <p:cNvCxnSpPr>
            <a:stCxn id="2038" idx="3"/>
            <a:endCxn id="203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6" name="Egyenes összekötő nyíllal 83"/>
          <p:cNvCxnSpPr>
            <a:stCxn id="2037" idx="5"/>
            <a:endCxn id="203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7" name="Egyenes összekötő nyíllal 86"/>
          <p:cNvCxnSpPr>
            <a:endCxn id="203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8" name="Egyenes összekötő nyíllal 97"/>
          <p:cNvCxnSpPr>
            <a:stCxn id="2035" idx="6"/>
            <a:endCxn id="203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9" name="Egyenes összekötő nyíllal 100"/>
          <p:cNvCxnSpPr>
            <a:stCxn id="2041" idx="6"/>
            <a:endCxn id="203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50" name="Egyenes összekötő nyíllal 107"/>
          <p:cNvCxnSpPr>
            <a:stCxn id="2034" idx="5"/>
            <a:endCxn id="204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51" name="Egyenes összekötő nyíllal 111"/>
          <p:cNvCxnSpPr>
            <a:stCxn id="2036" idx="7"/>
            <a:endCxn id="204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52" name="Egyenes összekötő nyíllal 116"/>
          <p:cNvCxnSpPr>
            <a:stCxn id="2036" idx="0"/>
            <a:endCxn id="203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5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2" name="Egyenes összekötő nyíllal 128"/>
          <p:cNvCxnSpPr>
            <a:stCxn id="2038" idx="5"/>
            <a:endCxn id="203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6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6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4" name="Egyenes összekötő nyíllal 69"/>
          <p:cNvCxnSpPr>
            <a:stCxn id="2073" idx="7"/>
            <a:endCxn id="206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75" name="Egyenes összekötő nyíllal 72"/>
          <p:cNvCxnSpPr>
            <a:stCxn id="2073" idx="5"/>
            <a:endCxn id="206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76" name="Egyenes összekötő nyíllal 76"/>
          <p:cNvCxnSpPr>
            <a:stCxn id="2070" idx="7"/>
            <a:endCxn id="206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77" name="Egyenes összekötő nyíllal 80"/>
          <p:cNvCxnSpPr>
            <a:stCxn id="2070" idx="3"/>
            <a:endCxn id="206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78" name="Egyenes összekötő nyíllal 83"/>
          <p:cNvCxnSpPr>
            <a:stCxn id="2069" idx="5"/>
            <a:endCxn id="207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79" name="Egyenes összekötő nyíllal 86"/>
          <p:cNvCxnSpPr>
            <a:endCxn id="206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80" name="Egyenes összekötő nyíllal 97"/>
          <p:cNvCxnSpPr>
            <a:stCxn id="2067" idx="6"/>
            <a:endCxn id="206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81" name="Egyenes összekötő nyíllal 100"/>
          <p:cNvCxnSpPr>
            <a:stCxn id="2073" idx="6"/>
            <a:endCxn id="207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82" name="Egyenes összekötő nyíllal 107"/>
          <p:cNvCxnSpPr>
            <a:stCxn id="2066" idx="5"/>
            <a:endCxn id="207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83" name="Egyenes összekötő nyíllal 111"/>
          <p:cNvCxnSpPr>
            <a:stCxn id="2068" idx="7"/>
            <a:endCxn id="207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84" name="Egyenes összekötő nyíllal 116"/>
          <p:cNvCxnSpPr>
            <a:stCxn id="2068" idx="0"/>
            <a:endCxn id="206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8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4" name="Egyenes összekötő nyíllal 128"/>
          <p:cNvCxnSpPr>
            <a:stCxn id="2070" idx="5"/>
            <a:endCxn id="206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9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9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6" name="Egyenes összekötő nyíllal 69"/>
          <p:cNvCxnSpPr>
            <a:stCxn id="2105" idx="7"/>
            <a:endCxn id="210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07" name="Egyenes összekötő nyíllal 72"/>
          <p:cNvCxnSpPr>
            <a:stCxn id="2105" idx="5"/>
            <a:endCxn id="209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08" name="Egyenes összekötő nyíllal 76"/>
          <p:cNvCxnSpPr>
            <a:stCxn id="2102" idx="7"/>
            <a:endCxn id="209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09" name="Egyenes összekötő nyíllal 80"/>
          <p:cNvCxnSpPr>
            <a:stCxn id="2102" idx="3"/>
            <a:endCxn id="209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0" name="Egyenes összekötő nyíllal 83"/>
          <p:cNvCxnSpPr>
            <a:stCxn id="2101" idx="5"/>
            <a:endCxn id="210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1" name="Egyenes összekötő nyíllal 86"/>
          <p:cNvCxnSpPr>
            <a:endCxn id="209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2" name="Egyenes összekötő nyíllal 97"/>
          <p:cNvCxnSpPr>
            <a:stCxn id="2099" idx="6"/>
            <a:endCxn id="210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3" name="Egyenes összekötő nyíllal 100"/>
          <p:cNvCxnSpPr>
            <a:stCxn id="2105" idx="6"/>
            <a:endCxn id="210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4" name="Egyenes összekötő nyíllal 107"/>
          <p:cNvCxnSpPr>
            <a:stCxn id="2098" idx="5"/>
            <a:endCxn id="210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5" name="Egyenes összekötő nyíllal 111"/>
          <p:cNvCxnSpPr>
            <a:stCxn id="2100" idx="7"/>
            <a:endCxn id="210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6" name="Egyenes összekötő nyíllal 116"/>
          <p:cNvCxnSpPr>
            <a:stCxn id="2100" idx="0"/>
            <a:endCxn id="209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1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6" name="Egyenes összekötő nyíllal 128"/>
          <p:cNvCxnSpPr>
            <a:stCxn id="2102" idx="5"/>
            <a:endCxn id="210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2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3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8" name="Egyenes összekötő nyíllal 69"/>
          <p:cNvCxnSpPr>
            <a:stCxn id="2137" idx="7"/>
            <a:endCxn id="213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39" name="Egyenes összekötő nyíllal 72"/>
          <p:cNvCxnSpPr>
            <a:stCxn id="2137" idx="5"/>
            <a:endCxn id="213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0" name="Egyenes összekötő nyíllal 76"/>
          <p:cNvCxnSpPr>
            <a:stCxn id="2134" idx="7"/>
            <a:endCxn id="213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1" name="Egyenes összekötő nyíllal 80"/>
          <p:cNvCxnSpPr>
            <a:stCxn id="2134" idx="3"/>
            <a:endCxn id="213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2" name="Egyenes összekötő nyíllal 83"/>
          <p:cNvCxnSpPr>
            <a:stCxn id="2133" idx="5"/>
            <a:endCxn id="213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3" name="Egyenes összekötő nyíllal 86"/>
          <p:cNvCxnSpPr>
            <a:endCxn id="213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4" name="Egyenes összekötő nyíllal 97"/>
          <p:cNvCxnSpPr>
            <a:stCxn id="2131" idx="6"/>
            <a:endCxn id="213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5" name="Egyenes összekötő nyíllal 100"/>
          <p:cNvCxnSpPr>
            <a:stCxn id="2137" idx="6"/>
            <a:endCxn id="213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6" name="Egyenes összekötő nyíllal 107"/>
          <p:cNvCxnSpPr>
            <a:stCxn id="2130" idx="5"/>
            <a:endCxn id="213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7" name="Egyenes összekötő nyíllal 111"/>
          <p:cNvCxnSpPr>
            <a:stCxn id="2132" idx="7"/>
            <a:endCxn id="213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8" name="Egyenes összekötő nyíllal 116"/>
          <p:cNvCxnSpPr>
            <a:stCxn id="2132" idx="0"/>
            <a:endCxn id="213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4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8" name="Egyenes összekötő nyíllal 128"/>
          <p:cNvCxnSpPr>
            <a:stCxn id="2134" idx="5"/>
            <a:endCxn id="213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5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6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0" name="Egyenes összekötő nyíllal 69"/>
          <p:cNvCxnSpPr>
            <a:stCxn id="2169" idx="7"/>
            <a:endCxn id="216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1" name="Egyenes összekötő nyíllal 72"/>
          <p:cNvCxnSpPr>
            <a:stCxn id="2169" idx="5"/>
            <a:endCxn id="216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2" name="Egyenes összekötő nyíllal 76"/>
          <p:cNvCxnSpPr>
            <a:stCxn id="2166" idx="7"/>
            <a:endCxn id="216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3" name="Egyenes összekötő nyíllal 80"/>
          <p:cNvCxnSpPr>
            <a:stCxn id="2166" idx="3"/>
            <a:endCxn id="216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4" name="Egyenes összekötő nyíllal 83"/>
          <p:cNvCxnSpPr>
            <a:stCxn id="2165" idx="5"/>
            <a:endCxn id="216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5" name="Egyenes összekötő nyíllal 86"/>
          <p:cNvCxnSpPr>
            <a:endCxn id="216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6" name="Egyenes összekötő nyíllal 97"/>
          <p:cNvCxnSpPr>
            <a:stCxn id="2163" idx="6"/>
            <a:endCxn id="216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7" name="Egyenes összekötő nyíllal 100"/>
          <p:cNvCxnSpPr>
            <a:stCxn id="2169" idx="6"/>
            <a:endCxn id="216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8" name="Egyenes összekötő nyíllal 107"/>
          <p:cNvCxnSpPr>
            <a:stCxn id="2162" idx="5"/>
            <a:endCxn id="216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9" name="Egyenes összekötő nyíllal 111"/>
          <p:cNvCxnSpPr>
            <a:stCxn id="2164" idx="7"/>
            <a:endCxn id="216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80" name="Egyenes összekötő nyíllal 116"/>
          <p:cNvCxnSpPr>
            <a:stCxn id="2164" idx="0"/>
            <a:endCxn id="216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8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0" name="Egyenes összekötő nyíllal 128"/>
          <p:cNvCxnSpPr>
            <a:stCxn id="2166" idx="5"/>
            <a:endCxn id="216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9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9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2" name="Egyenes összekötő nyíllal 69"/>
          <p:cNvCxnSpPr>
            <a:stCxn id="2201" idx="7"/>
            <a:endCxn id="219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3" name="Egyenes összekötő nyíllal 72"/>
          <p:cNvCxnSpPr>
            <a:stCxn id="2201" idx="5"/>
            <a:endCxn id="219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4" name="Egyenes összekötő nyíllal 76"/>
          <p:cNvCxnSpPr>
            <a:stCxn id="2198" idx="7"/>
            <a:endCxn id="219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5" name="Egyenes összekötő nyíllal 80"/>
          <p:cNvCxnSpPr>
            <a:stCxn id="2198" idx="3"/>
            <a:endCxn id="219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6" name="Egyenes összekötő nyíllal 83"/>
          <p:cNvCxnSpPr>
            <a:stCxn id="2197" idx="5"/>
            <a:endCxn id="219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7" name="Egyenes összekötő nyíllal 86"/>
          <p:cNvCxnSpPr>
            <a:endCxn id="219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8" name="Egyenes összekötő nyíllal 97"/>
          <p:cNvCxnSpPr>
            <a:stCxn id="2195" idx="6"/>
            <a:endCxn id="219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9" name="Egyenes összekötő nyíllal 100"/>
          <p:cNvCxnSpPr>
            <a:stCxn id="2201" idx="6"/>
            <a:endCxn id="219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10" name="Egyenes összekötő nyíllal 107"/>
          <p:cNvCxnSpPr>
            <a:stCxn id="2194" idx="5"/>
            <a:endCxn id="220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11" name="Egyenes összekötő nyíllal 111"/>
          <p:cNvCxnSpPr>
            <a:stCxn id="2196" idx="7"/>
            <a:endCxn id="220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12" name="Egyenes összekötő nyíllal 116"/>
          <p:cNvCxnSpPr>
            <a:stCxn id="2196" idx="0"/>
            <a:endCxn id="219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1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2" name="Egyenes összekötő nyíllal 128"/>
          <p:cNvCxnSpPr>
            <a:stCxn id="2198" idx="5"/>
            <a:endCxn id="219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2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2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4" name="Egyenes összekötő nyíllal 69"/>
          <p:cNvCxnSpPr>
            <a:stCxn id="2233" idx="7"/>
            <a:endCxn id="222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5" name="Egyenes összekötő nyíllal 72"/>
          <p:cNvCxnSpPr>
            <a:stCxn id="2233" idx="5"/>
            <a:endCxn id="222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6" name="Egyenes összekötő nyíllal 76"/>
          <p:cNvCxnSpPr>
            <a:stCxn id="2230" idx="7"/>
            <a:endCxn id="222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7" name="Egyenes összekötő nyíllal 80"/>
          <p:cNvCxnSpPr>
            <a:stCxn id="2230" idx="3"/>
            <a:endCxn id="222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8" name="Egyenes összekötő nyíllal 83"/>
          <p:cNvCxnSpPr>
            <a:stCxn id="2229" idx="5"/>
            <a:endCxn id="223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9" name="Egyenes összekötő nyíllal 86"/>
          <p:cNvCxnSpPr>
            <a:endCxn id="222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0" name="Egyenes összekötő nyíllal 97"/>
          <p:cNvCxnSpPr>
            <a:stCxn id="2227" idx="6"/>
            <a:endCxn id="222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1" name="Egyenes összekötő nyíllal 100"/>
          <p:cNvCxnSpPr>
            <a:stCxn id="2233" idx="6"/>
            <a:endCxn id="223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2" name="Egyenes összekötő nyíllal 107"/>
          <p:cNvCxnSpPr>
            <a:stCxn id="2226" idx="5"/>
            <a:endCxn id="223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3" name="Egyenes összekötő nyíllal 111"/>
          <p:cNvCxnSpPr>
            <a:stCxn id="2228" idx="7"/>
            <a:endCxn id="223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4" name="Egyenes összekötő nyíllal 116"/>
          <p:cNvCxnSpPr>
            <a:stCxn id="2228" idx="0"/>
            <a:endCxn id="222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4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4" name="Egyenes összekötő nyíllal 128"/>
          <p:cNvCxnSpPr>
            <a:stCxn id="2230" idx="5"/>
            <a:endCxn id="222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5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9:23:40Z</dcterms:created>
  <dc:creator>Orsi</dc:creator>
  <dc:description/>
  <dc:language>en-US</dc:language>
  <cp:lastModifiedBy>Orsi</cp:lastModifiedBy>
  <dcterms:modified xsi:type="dcterms:W3CDTF">2009-03-29T20:50:34Z</dcterms:modified>
  <cp:revision>295</cp:revision>
  <dc:subject/>
  <dc:title>Operációkutatás</dc:title>
</cp:coreProperties>
</file>