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3E7-F4E6-4C52-BFA9-A07128E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B40-1AB9-4250-98C7-24F5A5D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16D-AE49-41F7-AF5C-C93C449D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693-78BB-4AA6-8F2C-869015D5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B1A-C3A6-4D39-9064-101B34E0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9A8-7694-4269-8468-55BE6679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390-FED5-4301-B396-63FBEBBA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CDC-2044-4087-8E9B-CEA956E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BDD-AD78-4037-B4C0-B0607CF6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1E8-3074-4C0B-8FFC-94254A4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E7C-518E-4D81-9C9F-DD94043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F84-7227-4A0E-896D-C9B7037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929-E574-4B94-89E3-AA23F346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2320" y="512640"/>
            <a:ext cx="8516880" cy="5754960"/>
            <a:chOff x="292320" y="512640"/>
            <a:chExt cx="8516880" cy="5754960"/>
          </a:xfrm>
        </p:grpSpPr>
        <p:grpSp>
          <p:nvGrpSpPr>
            <p:cNvPr id="42" name=""/>
            <p:cNvGrpSpPr/>
            <p:nvPr/>
          </p:nvGrpSpPr>
          <p:grpSpPr>
            <a:xfrm>
              <a:off x="2360160" y="2625840"/>
              <a:ext cx="352800" cy="661680"/>
              <a:chOff x="2360160" y="2625840"/>
              <a:chExt cx="352800" cy="661680"/>
            </a:xfrm>
          </p:grpSpPr>
          <p:sp>
            <p:nvSpPr>
              <p:cNvPr id="43" name=""/>
              <p:cNvSpPr/>
              <p:nvPr/>
            </p:nvSpPr>
            <p:spPr>
              <a:xfrm>
                <a:off x="2459160" y="282744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17840" y="284796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2360160" y="29559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517120" y="2625840"/>
                <a:ext cx="187560" cy="326880"/>
                <a:chOff x="2517120" y="2625840"/>
                <a:chExt cx="187560" cy="326880"/>
              </a:xfrm>
            </p:grpSpPr>
            <p:sp>
              <p:nvSpPr>
                <p:cNvPr id="47" name=""/>
                <p:cNvSpPr/>
                <p:nvPr/>
              </p:nvSpPr>
              <p:spPr>
                <a:xfrm flipV="1">
                  <a:off x="2517120" y="278532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2703600" y="262584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2651040" y="307512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706840" y="31305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25760" y="295920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843280" y="2567160"/>
              <a:ext cx="511200" cy="88560"/>
              <a:chOff x="2843280" y="2567160"/>
              <a:chExt cx="511200" cy="88560"/>
            </a:xfrm>
          </p:grpSpPr>
          <p:sp>
            <p:nvSpPr>
              <p:cNvPr id="53" name=""/>
              <p:cNvSpPr/>
              <p:nvPr/>
            </p:nvSpPr>
            <p:spPr>
              <a:xfrm>
                <a:off x="3241800" y="261144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55960" y="2567160"/>
                <a:ext cx="285840" cy="88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43280" y="261468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347640" y="2281320"/>
              <a:ext cx="352800" cy="661680"/>
              <a:chOff x="3347640" y="2281320"/>
              <a:chExt cx="352800" cy="661680"/>
            </a:xfrm>
          </p:grpSpPr>
          <p:sp>
            <p:nvSpPr>
              <p:cNvPr id="57" name=""/>
              <p:cNvSpPr/>
              <p:nvPr/>
            </p:nvSpPr>
            <p:spPr>
              <a:xfrm>
                <a:off x="3446640" y="248292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505320" y="2503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347640" y="261144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3504600" y="2281320"/>
                <a:ext cx="187560" cy="326880"/>
                <a:chOff x="3504600" y="2281320"/>
                <a:chExt cx="187560" cy="326880"/>
              </a:xfrm>
            </p:grpSpPr>
            <p:sp>
              <p:nvSpPr>
                <p:cNvPr id="61" name=""/>
                <p:cNvSpPr/>
                <p:nvPr/>
              </p:nvSpPr>
              <p:spPr>
                <a:xfrm flipV="1">
                  <a:off x="3504600" y="244080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691080" y="228132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638520" y="273060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94320" y="278604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13240" y="261468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701800" y="24019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3600" y="26146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54280" y="1932120"/>
              <a:ext cx="88920" cy="511200"/>
              <a:chOff x="2654280" y="1932120"/>
              <a:chExt cx="88920" cy="51120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2698920" y="19321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2555640" y="21430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702160" y="23306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417640" y="2828880"/>
              <a:ext cx="352800" cy="661680"/>
              <a:chOff x="5417640" y="2828880"/>
              <a:chExt cx="352800" cy="661680"/>
            </a:xfrm>
          </p:grpSpPr>
          <p:sp>
            <p:nvSpPr>
              <p:cNvPr id="73" name=""/>
              <p:cNvSpPr/>
              <p:nvPr/>
            </p:nvSpPr>
            <p:spPr>
              <a:xfrm>
                <a:off x="5516640" y="303048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75320" y="30510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417640" y="31590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5574600" y="2828880"/>
                <a:ext cx="187560" cy="326880"/>
                <a:chOff x="5574600" y="2828880"/>
                <a:chExt cx="187560" cy="326880"/>
              </a:xfrm>
            </p:grpSpPr>
            <p:sp>
              <p:nvSpPr>
                <p:cNvPr id="77" name=""/>
                <p:cNvSpPr/>
                <p:nvPr/>
              </p:nvSpPr>
              <p:spPr>
                <a:xfrm flipV="1">
                  <a:off x="5574600" y="298836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5761080" y="282888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5708520" y="327816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64320" y="33336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83240" y="316224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38640" y="3311640"/>
              <a:ext cx="88920" cy="511200"/>
              <a:chOff x="5138640" y="3311640"/>
              <a:chExt cx="88920" cy="5112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5183280" y="33116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5040000" y="35226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186520" y="37101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5760720" y="270360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0440" y="38656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62560" y="38638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193440" y="3232080"/>
              <a:ext cx="220680" cy="401760"/>
              <a:chOff x="6193440" y="3232080"/>
              <a:chExt cx="220680" cy="4017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193440" y="3232080"/>
                <a:ext cx="220680" cy="401760"/>
                <a:chOff x="6193440" y="3232080"/>
                <a:chExt cx="220680" cy="4017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6199200" y="337680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05760" y="337608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6193440" y="338076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194520" y="350064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305760" y="323208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6200640" y="337824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192720" y="2865600"/>
              <a:ext cx="221400" cy="401400"/>
              <a:chOff x="6192720" y="2865600"/>
              <a:chExt cx="221400" cy="401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192720" y="2865600"/>
                <a:ext cx="221400" cy="401400"/>
                <a:chOff x="6192720" y="2865600"/>
                <a:chExt cx="221400" cy="40140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6199200" y="300996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305400" y="300924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6192720" y="301392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6194520" y="313380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305760" y="2865600"/>
                  <a:ext cx="0" cy="40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6200640" y="3011400"/>
                <a:ext cx="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307200" y="27036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155560" y="31366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622160" y="1801800"/>
              <a:ext cx="48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67240" y="1801440"/>
              <a:ext cx="0" cy="23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3200" y="32846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436280" y="178416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6465240" y="1780920"/>
              <a:ext cx="5256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20760" y="1694880"/>
              <a:ext cx="401760" cy="220680"/>
              <a:chOff x="1220760" y="1694880"/>
              <a:chExt cx="401760" cy="22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1365480" y="170028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364760" y="1694880"/>
                <a:ext cx="12060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9440" y="1807200"/>
                <a:ext cx="12060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89320" y="169524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20760" y="1803240"/>
                <a:ext cx="40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186520" y="382104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7200" y="352584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6465600" y="268128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42560" y="257184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ó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46160" y="16653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6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4320" y="346860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947880" y="1805040"/>
              <a:ext cx="190440" cy="261360"/>
              <a:chOff x="947880" y="1805040"/>
              <a:chExt cx="190440" cy="261360"/>
            </a:xfrm>
          </p:grpSpPr>
          <p:sp>
            <p:nvSpPr>
              <p:cNvPr id="125" name=""/>
              <p:cNvSpPr/>
              <p:nvPr/>
            </p:nvSpPr>
            <p:spPr>
              <a:xfrm>
                <a:off x="954000" y="1968120"/>
                <a:ext cx="17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47600" y="180504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47600" y="197316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16200000">
                <a:off x="1021320" y="1827360"/>
                <a:ext cx="4248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693720" y="1803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645840" y="178272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135400" y="2597040"/>
              <a:ext cx="88920" cy="511200"/>
              <a:chOff x="5135400" y="2597040"/>
              <a:chExt cx="88920" cy="5112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5180040" y="25970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5036760" y="28080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83280" y="29955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5183280" y="3032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833720" y="2011320"/>
              <a:ext cx="352800" cy="661680"/>
              <a:chOff x="4833720" y="2011320"/>
              <a:chExt cx="352800" cy="661680"/>
            </a:xfrm>
          </p:grpSpPr>
          <p:sp>
            <p:nvSpPr>
              <p:cNvPr id="137" name=""/>
              <p:cNvSpPr/>
              <p:nvPr/>
            </p:nvSpPr>
            <p:spPr>
              <a:xfrm>
                <a:off x="4932720" y="221292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91400" y="2233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833720" y="234144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990680" y="2011320"/>
                <a:ext cx="187560" cy="326880"/>
                <a:chOff x="4990680" y="2011320"/>
                <a:chExt cx="187560" cy="3268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4990680" y="217080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5177160" y="201132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5124600" y="246060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80400" y="251604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9320" y="234468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5176800" y="18018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49080" y="178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61080" y="270360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6440" y="38624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697200" y="234144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645160" y="1808280"/>
              <a:ext cx="190440" cy="261360"/>
              <a:chOff x="5645160" y="1808280"/>
              <a:chExt cx="190440" cy="261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651280" y="1971360"/>
                <a:ext cx="17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44880" y="180828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44880" y="197640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16200000">
                <a:off x="5718600" y="1830600"/>
                <a:ext cx="4248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697360" y="20700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717520" y="178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57880" y="1808280"/>
              <a:ext cx="181080" cy="261360"/>
              <a:chOff x="5357880" y="1808280"/>
              <a:chExt cx="181080" cy="261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359680" y="197316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53280" y="1808280"/>
                <a:ext cx="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53280" y="1976040"/>
                <a:ext cx="0" cy="9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57880" y="194760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408640" y="2071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542376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279480" y="26827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0080" y="22003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5280" y="30099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82920" y="31590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2040" y="27115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4560" y="34243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0" y="32972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8760" y="2925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4800" y="23191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641760" y="1798560"/>
              <a:ext cx="88920" cy="511200"/>
              <a:chOff x="3641760" y="1798560"/>
              <a:chExt cx="88920" cy="51120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3686400" y="17985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200000">
                <a:off x="3543120" y="200952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689640" y="219708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rot="5400000">
              <a:off x="365688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48240" y="3862440"/>
              <a:ext cx="8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38520" y="2467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12400" y="2335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2671560" y="178272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676240" y="25923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3160" y="20350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80640" y="19177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884240" y="2909880"/>
              <a:ext cx="511200" cy="88920"/>
              <a:chOff x="1884240" y="2909880"/>
              <a:chExt cx="511200" cy="88920"/>
            </a:xfrm>
          </p:grpSpPr>
          <p:sp>
            <p:nvSpPr>
              <p:cNvPr id="187" name=""/>
              <p:cNvSpPr/>
              <p:nvPr/>
            </p:nvSpPr>
            <p:spPr>
              <a:xfrm>
                <a:off x="2282760" y="29545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96920" y="29098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84240" y="2957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744560" y="295740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7240" y="26733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1717200" y="29350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98480" y="2084400"/>
              <a:ext cx="88920" cy="511200"/>
              <a:chOff x="1698480" y="2084400"/>
              <a:chExt cx="88920" cy="51120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743120" y="208440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1599840" y="229536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746360" y="24829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5400000">
              <a:off x="171540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37720" y="2200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40960" y="1808280"/>
              <a:ext cx="1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44560" y="2562120"/>
              <a:ext cx="0" cy="24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98920" y="17985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5520" y="1425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53520" y="1425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93720" y="2959200"/>
              <a:ext cx="10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645480" y="2938320"/>
              <a:ext cx="5256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1720" y="28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2320" y="1663560"/>
              <a:ext cx="37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645840" y="323532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5320" y="38624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0080" y="2071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5680" y="30988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419440" y="5202360"/>
              <a:ext cx="352800" cy="661680"/>
              <a:chOff x="5419440" y="5202360"/>
              <a:chExt cx="352800" cy="661680"/>
            </a:xfrm>
          </p:grpSpPr>
          <p:sp>
            <p:nvSpPr>
              <p:cNvPr id="213" name=""/>
              <p:cNvSpPr/>
              <p:nvPr/>
            </p:nvSpPr>
            <p:spPr>
              <a:xfrm>
                <a:off x="5518440" y="540396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7120" y="542448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419440" y="553248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576400" y="5202360"/>
                <a:ext cx="187560" cy="326880"/>
                <a:chOff x="5576400" y="5202360"/>
                <a:chExt cx="187560" cy="3268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5576400" y="536184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762880" y="520236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5710320" y="565164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66120" y="570708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85040" y="553572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140440" y="5684760"/>
              <a:ext cx="88920" cy="511200"/>
              <a:chOff x="5140440" y="5684760"/>
              <a:chExt cx="88920" cy="51120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5185080" y="56847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200000">
                <a:off x="5041800" y="589572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188320" y="608328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5762160" y="507672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41880" y="62676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64360" y="6265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194160" y="5605560"/>
              <a:ext cx="221400" cy="401400"/>
              <a:chOff x="6194160" y="5605560"/>
              <a:chExt cx="221400" cy="4014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194160" y="5605560"/>
                <a:ext cx="221400" cy="401400"/>
                <a:chOff x="6194160" y="5605560"/>
                <a:chExt cx="221400" cy="4014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6200640" y="574992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06840" y="574920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6194160" y="575388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6195960" y="587376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07200" y="5605560"/>
                  <a:ext cx="0" cy="40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6202080" y="5751360"/>
                <a:ext cx="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194880" y="5238720"/>
              <a:ext cx="220680" cy="401760"/>
              <a:chOff x="6194880" y="5238720"/>
              <a:chExt cx="220680" cy="4017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6194880" y="5238720"/>
                <a:ext cx="220680" cy="401760"/>
                <a:chOff x="6194880" y="5238720"/>
                <a:chExt cx="220680" cy="401760"/>
              </a:xfrm>
            </p:grpSpPr>
            <p:sp>
              <p:nvSpPr>
                <p:cNvPr id="239" name=""/>
                <p:cNvSpPr/>
                <p:nvPr/>
              </p:nvSpPr>
              <p:spPr>
                <a:xfrm flipH="1">
                  <a:off x="6200640" y="538344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307200" y="538272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6194880" y="538740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6195960" y="550728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307200" y="523872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202080" y="538488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308640" y="50767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5157360" y="55101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7960" y="6194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8640" y="589932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6467400" y="5054400"/>
              <a:ext cx="52560" cy="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44000" y="494496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ó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65760" y="584208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137200" y="4970520"/>
              <a:ext cx="88920" cy="511200"/>
              <a:chOff x="5137200" y="4970520"/>
              <a:chExt cx="88920" cy="51120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5181840" y="49705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5038560" y="51814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85080" y="53690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flipV="1">
              <a:off x="5184720" y="5405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835160" y="4384800"/>
              <a:ext cx="352800" cy="661680"/>
              <a:chOff x="4835160" y="4384800"/>
              <a:chExt cx="352800" cy="661680"/>
            </a:xfrm>
          </p:grpSpPr>
          <p:sp>
            <p:nvSpPr>
              <p:cNvPr id="258" name=""/>
              <p:cNvSpPr/>
              <p:nvPr/>
            </p:nvSpPr>
            <p:spPr>
              <a:xfrm>
                <a:off x="4934160" y="458640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92840" y="460692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835160" y="471492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4992120" y="4384800"/>
                <a:ext cx="187560" cy="326880"/>
                <a:chOff x="4992120" y="4384800"/>
                <a:chExt cx="187560" cy="32688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4992120" y="454428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178600" y="438480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5126040" y="483408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840" y="488952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00760" y="471816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5178600" y="41702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762520" y="50767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18240" y="6264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281640" y="505620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1880" y="45734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7080" y="5383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184720" y="55324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63480" y="50846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6000" y="579744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800" y="56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0560" y="529920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352320" y="4653000"/>
              <a:ext cx="352800" cy="661680"/>
              <a:chOff x="3352320" y="4653000"/>
              <a:chExt cx="352800" cy="661680"/>
            </a:xfrm>
          </p:grpSpPr>
          <p:sp>
            <p:nvSpPr>
              <p:cNvPr id="279" name=""/>
              <p:cNvSpPr/>
              <p:nvPr/>
            </p:nvSpPr>
            <p:spPr>
              <a:xfrm>
                <a:off x="3451320" y="485460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10000" y="487512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352320" y="498312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3509280" y="4653000"/>
                <a:ext cx="187560" cy="326880"/>
                <a:chOff x="3509280" y="4653000"/>
                <a:chExt cx="187560" cy="32688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3509280" y="481248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695760" y="465300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3643200" y="510228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99000" y="515772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17920" y="498636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flipH="1">
              <a:off x="3701880" y="471312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3670200" y="46911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646440" y="4170240"/>
              <a:ext cx="88920" cy="511200"/>
              <a:chOff x="3646440" y="4170240"/>
              <a:chExt cx="88920" cy="51120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3691080" y="41702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00000">
                <a:off x="3547800" y="43812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694320" y="45687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5400000">
              <a:off x="4439880" y="414504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52920" y="62625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43200" y="48387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85320" y="42894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693960" y="4165560"/>
              <a:ext cx="148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99000" y="5281560"/>
              <a:ext cx="14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844720" y="4938840"/>
              <a:ext cx="511200" cy="88920"/>
              <a:chOff x="2844720" y="4938840"/>
              <a:chExt cx="511200" cy="88920"/>
            </a:xfrm>
          </p:grpSpPr>
          <p:sp>
            <p:nvSpPr>
              <p:cNvPr id="301" name=""/>
              <p:cNvSpPr/>
              <p:nvPr/>
            </p:nvSpPr>
            <p:spPr>
              <a:xfrm>
                <a:off x="3243240" y="498348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57400" y="493884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44720" y="49867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907720" y="4702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43120" y="4986360"/>
              <a:ext cx="11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0760" y="38638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6840" y="32749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3960" y="29304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47600" y="15382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55640" y="15368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52480" y="2814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44480" y="1663560"/>
              <a:ext cx="150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1,T2,T3= BC30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44840" y="1879560"/>
              <a:ext cx="128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4,T5= BD24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43400" y="2092320"/>
              <a:ext cx="176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6,T7= BUY69C, hűt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23083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1-4= ZY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43040" y="2732040"/>
              <a:ext cx="12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1,D2= 1N4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5200" y="294480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,R3= 1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4120" y="3160800"/>
              <a:ext cx="170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,R4,R5= 3,3k (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6,6k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43040" y="337644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6,R7= 220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440 </a:t>
              </a:r>
              <a:r>
                <a:rPr b="0" lang="el-GR" sz="1200" spc="-1" strike="noStrike">
                  <a:solidFill>
                    <a:srgbClr val="cc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4840" y="359244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8,R9= 22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;5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47720" y="3808440"/>
              <a:ext cx="169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44 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;5W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42680" y="445608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= 100nF/10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3040" y="4672080"/>
              <a:ext cx="12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C3= 100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F/5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43760" y="42400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C1= 47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/25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43400" y="4049640"/>
              <a:ext cx="12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10,R11= 15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9760" y="1463760"/>
              <a:ext cx="54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+1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53040" y="2430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983920" y="1798560"/>
              <a:ext cx="220680" cy="401760"/>
              <a:chOff x="5983920" y="1798560"/>
              <a:chExt cx="220680" cy="4017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983920" y="1798560"/>
                <a:ext cx="220680" cy="401760"/>
                <a:chOff x="5983920" y="1798560"/>
                <a:chExt cx="220680" cy="40176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5989680" y="194328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96240" y="194256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5983920" y="194724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5985000" y="206712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96240" y="179856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91120" y="194472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6097680" y="20923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27400" y="15368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606672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51680" y="2523960"/>
              <a:ext cx="136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5= ZY10 (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ZY2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8160" y="512640"/>
              <a:ext cx="489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éthengeres tranzisztoros elektronikus gyúj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pcsolási rajz és alkatrészli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3:53:12Z</dcterms:created>
  <dc:creator>Pannon User</dc:creator>
  <dc:description/>
  <dc:language>en-US</dc:language>
  <cp:lastModifiedBy>pkalamar</cp:lastModifiedBy>
  <dcterms:modified xsi:type="dcterms:W3CDTF">2005-04-01T02:21:45Z</dcterms:modified>
  <cp:revision>31</cp:revision>
  <dc:subject/>
  <dc:title>Slide 1</dc:title>
</cp:coreProperties>
</file>