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8931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E2C-267F-4CD5-AEBC-05040CD9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FDB-E661-445E-8351-E23BE449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918-EF86-40D3-965D-7F80B052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A93-D354-49FA-A0E7-646AD4FA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48A-F287-4984-AE16-9AF847E2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E5B-8839-4F99-8266-CEA164F9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2D3-44B5-4C7B-BD5A-F9BCF9FE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14B-E0CF-414B-9273-8B2A63D3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3BF-FFE3-4445-B806-4877FDF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453-C48F-488C-A7D3-2175A581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137-4499-41B4-B56F-993CBABA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24C-6F2E-4CBD-BDD7-4B01422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5006-0ECE-412B-A514-876C1891A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2320" y="512640"/>
            <a:ext cx="8516880" cy="5754960"/>
            <a:chOff x="292320" y="512640"/>
            <a:chExt cx="8516880" cy="5754960"/>
          </a:xfrm>
        </p:grpSpPr>
        <p:grpSp>
          <p:nvGrpSpPr>
            <p:cNvPr id="42" name=""/>
            <p:cNvGrpSpPr/>
            <p:nvPr/>
          </p:nvGrpSpPr>
          <p:grpSpPr>
            <a:xfrm>
              <a:off x="2360160" y="2625840"/>
              <a:ext cx="352800" cy="661680"/>
              <a:chOff x="2360160" y="2625840"/>
              <a:chExt cx="352800" cy="661680"/>
            </a:xfrm>
          </p:grpSpPr>
          <p:sp>
            <p:nvSpPr>
              <p:cNvPr id="43" name=""/>
              <p:cNvSpPr/>
              <p:nvPr/>
            </p:nvSpPr>
            <p:spPr>
              <a:xfrm>
                <a:off x="2459160" y="282744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17840" y="284796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2360160" y="295596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2517120" y="2625840"/>
                <a:ext cx="187560" cy="326880"/>
                <a:chOff x="2517120" y="2625840"/>
                <a:chExt cx="187560" cy="326880"/>
              </a:xfrm>
            </p:grpSpPr>
            <p:sp>
              <p:nvSpPr>
                <p:cNvPr id="47" name=""/>
                <p:cNvSpPr/>
                <p:nvPr/>
              </p:nvSpPr>
              <p:spPr>
                <a:xfrm flipV="1">
                  <a:off x="2517120" y="278532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flipV="1">
                  <a:off x="2703600" y="262584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2651040" y="307512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706840" y="313056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525760" y="295920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843280" y="2567160"/>
              <a:ext cx="511200" cy="88560"/>
              <a:chOff x="2843280" y="2567160"/>
              <a:chExt cx="511200" cy="88560"/>
            </a:xfrm>
          </p:grpSpPr>
          <p:sp>
            <p:nvSpPr>
              <p:cNvPr id="53" name=""/>
              <p:cNvSpPr/>
              <p:nvPr/>
            </p:nvSpPr>
            <p:spPr>
              <a:xfrm>
                <a:off x="3241800" y="261144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955960" y="2567160"/>
                <a:ext cx="285840" cy="88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43280" y="261468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347640" y="2281320"/>
              <a:ext cx="352800" cy="661680"/>
              <a:chOff x="3347640" y="2281320"/>
              <a:chExt cx="352800" cy="661680"/>
            </a:xfrm>
          </p:grpSpPr>
          <p:sp>
            <p:nvSpPr>
              <p:cNvPr id="57" name=""/>
              <p:cNvSpPr/>
              <p:nvPr/>
            </p:nvSpPr>
            <p:spPr>
              <a:xfrm>
                <a:off x="3446640" y="248292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505320" y="250344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3347640" y="261144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3504600" y="2281320"/>
                <a:ext cx="187560" cy="326880"/>
                <a:chOff x="3504600" y="2281320"/>
                <a:chExt cx="187560" cy="326880"/>
              </a:xfrm>
            </p:grpSpPr>
            <p:sp>
              <p:nvSpPr>
                <p:cNvPr id="61" name=""/>
                <p:cNvSpPr/>
                <p:nvPr/>
              </p:nvSpPr>
              <p:spPr>
                <a:xfrm flipV="1">
                  <a:off x="3504600" y="244080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3691080" y="228132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638520" y="273060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94320" y="278604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13240" y="261468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701800" y="24019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3600" y="261468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54280" y="1932120"/>
              <a:ext cx="88920" cy="511200"/>
              <a:chOff x="2654280" y="1932120"/>
              <a:chExt cx="88920" cy="511200"/>
            </a:xfrm>
          </p:grpSpPr>
          <p:sp>
            <p:nvSpPr>
              <p:cNvPr id="69" name=""/>
              <p:cNvSpPr/>
              <p:nvPr/>
            </p:nvSpPr>
            <p:spPr>
              <a:xfrm flipV="1">
                <a:off x="2698920" y="193212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200000">
                <a:off x="2555640" y="214308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702160" y="23306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417640" y="2828880"/>
              <a:ext cx="352800" cy="661680"/>
              <a:chOff x="5417640" y="2828880"/>
              <a:chExt cx="352800" cy="661680"/>
            </a:xfrm>
          </p:grpSpPr>
          <p:sp>
            <p:nvSpPr>
              <p:cNvPr id="73" name=""/>
              <p:cNvSpPr/>
              <p:nvPr/>
            </p:nvSpPr>
            <p:spPr>
              <a:xfrm>
                <a:off x="5516640" y="303048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75320" y="305100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5417640" y="31590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5574600" y="2828880"/>
                <a:ext cx="187560" cy="326880"/>
                <a:chOff x="5574600" y="2828880"/>
                <a:chExt cx="187560" cy="326880"/>
              </a:xfrm>
            </p:grpSpPr>
            <p:sp>
              <p:nvSpPr>
                <p:cNvPr id="77" name=""/>
                <p:cNvSpPr/>
                <p:nvPr/>
              </p:nvSpPr>
              <p:spPr>
                <a:xfrm flipV="1">
                  <a:off x="5574600" y="298836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5761080" y="282888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5708520" y="327816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64320" y="333360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583240" y="316224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138640" y="3311640"/>
              <a:ext cx="88920" cy="511200"/>
              <a:chOff x="5138640" y="3311640"/>
              <a:chExt cx="88920" cy="5112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5183280" y="33116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6200000">
                <a:off x="5040000" y="352260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5186520" y="37101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5760720" y="270360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0440" y="386568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62560" y="386388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193440" y="3232080"/>
              <a:ext cx="220680" cy="401760"/>
              <a:chOff x="6193440" y="3232080"/>
              <a:chExt cx="220680" cy="40176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6193440" y="3232080"/>
                <a:ext cx="220680" cy="401760"/>
                <a:chOff x="6193440" y="3232080"/>
                <a:chExt cx="220680" cy="4017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6199200" y="337680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05760" y="337608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6193440" y="338076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6194520" y="350064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305760" y="3232080"/>
                  <a:ext cx="0" cy="4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6200640" y="3378240"/>
                <a:ext cx="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192720" y="2865600"/>
              <a:ext cx="221400" cy="401400"/>
              <a:chOff x="6192720" y="2865600"/>
              <a:chExt cx="221400" cy="4014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6192720" y="2865600"/>
                <a:ext cx="221400" cy="401400"/>
                <a:chOff x="6192720" y="2865600"/>
                <a:chExt cx="221400" cy="401400"/>
              </a:xfrm>
            </p:grpSpPr>
            <p:sp>
              <p:nvSpPr>
                <p:cNvPr id="99" name=""/>
                <p:cNvSpPr/>
                <p:nvPr/>
              </p:nvSpPr>
              <p:spPr>
                <a:xfrm flipH="1">
                  <a:off x="6199200" y="300996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305400" y="3009240"/>
                  <a:ext cx="1087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6192720" y="3013920"/>
                  <a:ext cx="1087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6194520" y="313380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305760" y="2865600"/>
                  <a:ext cx="0" cy="40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6200640" y="3011400"/>
                <a:ext cx="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307200" y="27036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5155560" y="31366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622160" y="1801800"/>
              <a:ext cx="48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467240" y="1801440"/>
              <a:ext cx="0" cy="23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3200" y="328464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4436280" y="178416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6465240" y="1780920"/>
              <a:ext cx="5256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220760" y="1694880"/>
              <a:ext cx="401760" cy="220680"/>
              <a:chOff x="1220760" y="1694880"/>
              <a:chExt cx="401760" cy="220680"/>
            </a:xfrm>
          </p:grpSpPr>
          <p:sp>
            <p:nvSpPr>
              <p:cNvPr id="113" name=""/>
              <p:cNvSpPr/>
              <p:nvPr/>
            </p:nvSpPr>
            <p:spPr>
              <a:xfrm>
                <a:off x="1365480" y="170028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364760" y="1694880"/>
                <a:ext cx="12060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9440" y="1807200"/>
                <a:ext cx="12060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89320" y="169524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20760" y="1803240"/>
                <a:ext cx="40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186520" y="3821040"/>
              <a:ext cx="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7200" y="352584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6465600" y="2681280"/>
              <a:ext cx="5220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42560" y="257184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ó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46160" y="1665360"/>
              <a:ext cx="4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6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64320" y="346860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947880" y="1805040"/>
              <a:ext cx="190440" cy="261360"/>
              <a:chOff x="947880" y="1805040"/>
              <a:chExt cx="190440" cy="261360"/>
            </a:xfrm>
          </p:grpSpPr>
          <p:sp>
            <p:nvSpPr>
              <p:cNvPr id="125" name=""/>
              <p:cNvSpPr/>
              <p:nvPr/>
            </p:nvSpPr>
            <p:spPr>
              <a:xfrm>
                <a:off x="954000" y="1968120"/>
                <a:ext cx="17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047600" y="180504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47600" y="197316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16200000">
                <a:off x="1021320" y="1827360"/>
                <a:ext cx="42480" cy="190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693720" y="18032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645840" y="1782720"/>
              <a:ext cx="5220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135400" y="2597040"/>
              <a:ext cx="88920" cy="511200"/>
              <a:chOff x="5135400" y="2597040"/>
              <a:chExt cx="88920" cy="51120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5180040" y="25970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5036760" y="280800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5183280" y="29955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5183280" y="30322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833720" y="2011320"/>
              <a:ext cx="352800" cy="661680"/>
              <a:chOff x="4833720" y="2011320"/>
              <a:chExt cx="352800" cy="661680"/>
            </a:xfrm>
          </p:grpSpPr>
          <p:sp>
            <p:nvSpPr>
              <p:cNvPr id="137" name=""/>
              <p:cNvSpPr/>
              <p:nvPr/>
            </p:nvSpPr>
            <p:spPr>
              <a:xfrm>
                <a:off x="4932720" y="221292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91400" y="223344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833720" y="234144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990680" y="2011320"/>
                <a:ext cx="187560" cy="326880"/>
                <a:chOff x="4990680" y="2011320"/>
                <a:chExt cx="187560" cy="3268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4990680" y="217080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5177160" y="201132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5124600" y="246060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80400" y="251604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99320" y="234468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V="1">
              <a:off x="5176800" y="18018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49080" y="178092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761080" y="270360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6440" y="386244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697200" y="234144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645160" y="1808280"/>
              <a:ext cx="190440" cy="261360"/>
              <a:chOff x="5645160" y="1808280"/>
              <a:chExt cx="190440" cy="261360"/>
            </a:xfrm>
          </p:grpSpPr>
          <p:sp>
            <p:nvSpPr>
              <p:cNvPr id="152" name=""/>
              <p:cNvSpPr/>
              <p:nvPr/>
            </p:nvSpPr>
            <p:spPr>
              <a:xfrm>
                <a:off x="5651280" y="1971360"/>
                <a:ext cx="17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44880" y="180828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44880" y="1976400"/>
                <a:ext cx="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16200000">
                <a:off x="5718600" y="1830600"/>
                <a:ext cx="42480" cy="190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5697360" y="20700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5717520" y="178092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57880" y="1808280"/>
              <a:ext cx="181080" cy="261360"/>
              <a:chOff x="5357880" y="1808280"/>
              <a:chExt cx="181080" cy="261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359680" y="197316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53280" y="1808280"/>
                <a:ext cx="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53280" y="1976040"/>
                <a:ext cx="0" cy="9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57880" y="194760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408640" y="20718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5423760" y="17794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279480" y="268272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0080" y="22003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05280" y="300996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182920" y="315900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62040" y="27115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64560" y="342432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2000" y="329724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68760" y="2925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3664800" y="231912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641760" y="1798560"/>
              <a:ext cx="88920" cy="511200"/>
              <a:chOff x="3641760" y="1798560"/>
              <a:chExt cx="88920" cy="51120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3686400" y="17985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6200000">
                <a:off x="3543120" y="200952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689640" y="219708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rot="5400000">
              <a:off x="3656880" y="17794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48240" y="3862440"/>
              <a:ext cx="8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38520" y="24670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12400" y="23353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2671560" y="178272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2676240" y="259236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93160" y="20350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80640" y="19177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884240" y="2909880"/>
              <a:ext cx="511200" cy="88920"/>
              <a:chOff x="1884240" y="2909880"/>
              <a:chExt cx="511200" cy="88920"/>
            </a:xfrm>
          </p:grpSpPr>
          <p:sp>
            <p:nvSpPr>
              <p:cNvPr id="187" name=""/>
              <p:cNvSpPr/>
              <p:nvPr/>
            </p:nvSpPr>
            <p:spPr>
              <a:xfrm>
                <a:off x="2282760" y="29545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96920" y="290988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84240" y="295776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744560" y="295740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7240" y="26733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1717200" y="29350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698480" y="2084400"/>
              <a:ext cx="88920" cy="511200"/>
              <a:chOff x="1698480" y="2084400"/>
              <a:chExt cx="88920" cy="51120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1743120" y="208440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1599840" y="229536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746360" y="248292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5400000">
              <a:off x="1715400" y="17794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37720" y="22003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40960" y="1808280"/>
              <a:ext cx="1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44560" y="2562120"/>
              <a:ext cx="0" cy="24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98920" y="17985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75520" y="1425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53520" y="1425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93720" y="2959200"/>
              <a:ext cx="10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645480" y="2938320"/>
              <a:ext cx="5256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1720" y="2820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2320" y="1663560"/>
              <a:ext cx="37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645840" y="3235320"/>
              <a:ext cx="52200" cy="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5320" y="386244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0080" y="20718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5680" y="309888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5419440" y="5202360"/>
              <a:ext cx="352800" cy="661680"/>
              <a:chOff x="5419440" y="5202360"/>
              <a:chExt cx="352800" cy="661680"/>
            </a:xfrm>
          </p:grpSpPr>
          <p:sp>
            <p:nvSpPr>
              <p:cNvPr id="213" name=""/>
              <p:cNvSpPr/>
              <p:nvPr/>
            </p:nvSpPr>
            <p:spPr>
              <a:xfrm>
                <a:off x="5518440" y="540396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77120" y="542448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419440" y="553248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5576400" y="5202360"/>
                <a:ext cx="187560" cy="326880"/>
                <a:chOff x="5576400" y="5202360"/>
                <a:chExt cx="187560" cy="326880"/>
              </a:xfrm>
            </p:grpSpPr>
            <p:sp>
              <p:nvSpPr>
                <p:cNvPr id="217" name=""/>
                <p:cNvSpPr/>
                <p:nvPr/>
              </p:nvSpPr>
              <p:spPr>
                <a:xfrm flipV="1">
                  <a:off x="5576400" y="536184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5762880" y="520236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5710320" y="565164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66120" y="570708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585040" y="553572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140440" y="5684760"/>
              <a:ext cx="88920" cy="511200"/>
              <a:chOff x="5140440" y="5684760"/>
              <a:chExt cx="88920" cy="51120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5185080" y="56847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200000">
                <a:off x="5041800" y="589572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5188320" y="608328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H="1">
              <a:off x="5762160" y="507672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41880" y="62676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64360" y="62658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194160" y="5605560"/>
              <a:ext cx="221400" cy="401400"/>
              <a:chOff x="6194160" y="5605560"/>
              <a:chExt cx="221400" cy="4014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194160" y="5605560"/>
                <a:ext cx="221400" cy="401400"/>
                <a:chOff x="6194160" y="5605560"/>
                <a:chExt cx="221400" cy="40140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6200640" y="574992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06840" y="5749200"/>
                  <a:ext cx="1087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6194160" y="5753880"/>
                  <a:ext cx="1087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6195960" y="587376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307200" y="5605560"/>
                  <a:ext cx="0" cy="40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6202080" y="5751360"/>
                <a:ext cx="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194880" y="5238720"/>
              <a:ext cx="220680" cy="401760"/>
              <a:chOff x="6194880" y="5238720"/>
              <a:chExt cx="220680" cy="4017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6194880" y="5238720"/>
                <a:ext cx="220680" cy="401760"/>
                <a:chOff x="6194880" y="5238720"/>
                <a:chExt cx="220680" cy="401760"/>
              </a:xfrm>
            </p:grpSpPr>
            <p:sp>
              <p:nvSpPr>
                <p:cNvPr id="239" name=""/>
                <p:cNvSpPr/>
                <p:nvPr/>
              </p:nvSpPr>
              <p:spPr>
                <a:xfrm flipH="1">
                  <a:off x="6200640" y="538344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307200" y="538272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6194880" y="538740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>
                  <a:off x="6195960" y="550728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307200" y="5238720"/>
                  <a:ext cx="0" cy="4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202080" y="5384880"/>
                <a:ext cx="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308640" y="50767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5157360" y="551016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7960" y="61945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8640" y="589932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6467400" y="5054400"/>
              <a:ext cx="52560" cy="4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44000" y="494496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ó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65760" y="5842080"/>
              <a:ext cx="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137200" y="4970520"/>
              <a:ext cx="88920" cy="511200"/>
              <a:chOff x="5137200" y="4970520"/>
              <a:chExt cx="88920" cy="51120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5181840" y="497052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6200000">
                <a:off x="5038560" y="518148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85080" y="53690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 flipV="1">
              <a:off x="5184720" y="5405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835160" y="4384800"/>
              <a:ext cx="352800" cy="661680"/>
              <a:chOff x="4835160" y="4384800"/>
              <a:chExt cx="352800" cy="661680"/>
            </a:xfrm>
          </p:grpSpPr>
          <p:sp>
            <p:nvSpPr>
              <p:cNvPr id="258" name=""/>
              <p:cNvSpPr/>
              <p:nvPr/>
            </p:nvSpPr>
            <p:spPr>
              <a:xfrm>
                <a:off x="4934160" y="458640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92840" y="460692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4835160" y="471492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4992120" y="4384800"/>
                <a:ext cx="187560" cy="326880"/>
                <a:chOff x="4992120" y="4384800"/>
                <a:chExt cx="187560" cy="32688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4992120" y="454428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5178600" y="438480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5126040" y="483408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1840" y="488952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00760" y="471816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5178600" y="417024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762520" y="50767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18240" y="62643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6281640" y="505620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1880" y="457344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07080" y="53830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184720" y="553248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63480" y="50846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66000" y="579744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3800" y="56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70560" y="529920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352320" y="4653000"/>
              <a:ext cx="352800" cy="661680"/>
              <a:chOff x="3352320" y="4653000"/>
              <a:chExt cx="352800" cy="661680"/>
            </a:xfrm>
          </p:grpSpPr>
          <p:sp>
            <p:nvSpPr>
              <p:cNvPr id="279" name=""/>
              <p:cNvSpPr/>
              <p:nvPr/>
            </p:nvSpPr>
            <p:spPr>
              <a:xfrm>
                <a:off x="3451320" y="4854600"/>
                <a:ext cx="253800" cy="2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10000" y="487512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352320" y="498312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3509280" y="4653000"/>
                <a:ext cx="187560" cy="326880"/>
                <a:chOff x="3509280" y="4653000"/>
                <a:chExt cx="187560" cy="32688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3509280" y="4812480"/>
                  <a:ext cx="187560" cy="16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3695760" y="4653000"/>
                  <a:ext cx="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3643200" y="5102280"/>
                <a:ext cx="5688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699000" y="515772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17920" y="4986360"/>
                <a:ext cx="12528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 flipH="1">
              <a:off x="3701880" y="471312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3670200" y="469116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646440" y="4170240"/>
              <a:ext cx="88920" cy="511200"/>
              <a:chOff x="3646440" y="4170240"/>
              <a:chExt cx="88920" cy="511200"/>
            </a:xfrm>
          </p:grpSpPr>
          <p:sp>
            <p:nvSpPr>
              <p:cNvPr id="291" name=""/>
              <p:cNvSpPr/>
              <p:nvPr/>
            </p:nvSpPr>
            <p:spPr>
              <a:xfrm flipV="1">
                <a:off x="3691080" y="417024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200000">
                <a:off x="3547800" y="438120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3694320" y="456876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rot="5400000">
              <a:off x="4439880" y="4145040"/>
              <a:ext cx="5220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52920" y="62625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43200" y="483876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85320" y="42894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693960" y="4165560"/>
              <a:ext cx="148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99000" y="5281560"/>
              <a:ext cx="144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844720" y="4938840"/>
              <a:ext cx="511200" cy="88920"/>
              <a:chOff x="2844720" y="4938840"/>
              <a:chExt cx="511200" cy="88920"/>
            </a:xfrm>
          </p:grpSpPr>
          <p:sp>
            <p:nvSpPr>
              <p:cNvPr id="301" name=""/>
              <p:cNvSpPr/>
              <p:nvPr/>
            </p:nvSpPr>
            <p:spPr>
              <a:xfrm>
                <a:off x="3243240" y="498348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57400" y="4938840"/>
                <a:ext cx="285840" cy="8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44720" y="49867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2907720" y="47023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43120" y="4986360"/>
              <a:ext cx="11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0760" y="386388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06840" y="32749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93960" y="29304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47600" y="15382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55640" y="15368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52480" y="2814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44480" y="1663560"/>
              <a:ext cx="150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1,T2,T3= BC30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44840" y="1879560"/>
              <a:ext cx="128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4,T5= BD241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43400" y="2092320"/>
              <a:ext cx="176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6,T7= BUY69C, hűt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230832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1-4= ZY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43040" y="2732040"/>
              <a:ext cx="12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1,D2= 1N4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45200" y="294480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,R3= 1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44120" y="3160800"/>
              <a:ext cx="170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2,R4,R5= 3,3k (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6,6k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43040" y="337644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R6,R7= 220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hu-HU" sz="1200" spc="-1" strike="noStrike">
                  <a:solidFill>
                    <a:srgbClr val="cc0000"/>
                  </a:solidFill>
                  <a:latin typeface="Arial"/>
                </a:rPr>
                <a:t>440 </a:t>
              </a:r>
              <a:r>
                <a:rPr b="0" lang="el-GR" sz="1200" spc="-1" strike="noStrike">
                  <a:solidFill>
                    <a:srgbClr val="cc0000"/>
                  </a:solidFill>
                  <a:latin typeface="Arial"/>
                </a:rPr>
                <a:t>Ω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44840" y="359244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R8,R9= 22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;5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47720" y="3808440"/>
              <a:ext cx="169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hu-HU" sz="1200" spc="-1" strike="noStrike">
                  <a:solidFill>
                    <a:srgbClr val="cc0000"/>
                  </a:solidFill>
                  <a:latin typeface="Arial"/>
                </a:rPr>
                <a:t>44 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0" lang="hu-HU" sz="1200" spc="-1" strike="noStrike">
                  <a:solidFill>
                    <a:srgbClr val="cc0000"/>
                  </a:solidFill>
                  <a:latin typeface="Arial"/>
                </a:rPr>
                <a:t>;5W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42680" y="4456080"/>
              <a:ext cx="134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= 100nF/10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43040" y="4672080"/>
              <a:ext cx="12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C3= 100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F/5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43760" y="4240080"/>
              <a:ext cx="11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C1= 47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0" lang="hu-H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/25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43400" y="4049640"/>
              <a:ext cx="120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R10,R11= 15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9760" y="1463760"/>
              <a:ext cx="54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+12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53040" y="24303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983920" y="1798560"/>
              <a:ext cx="220680" cy="401760"/>
              <a:chOff x="5983920" y="1798560"/>
              <a:chExt cx="220680" cy="40176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983920" y="1798560"/>
                <a:ext cx="220680" cy="401760"/>
                <a:chOff x="5983920" y="1798560"/>
                <a:chExt cx="220680" cy="401760"/>
              </a:xfrm>
            </p:grpSpPr>
            <p:sp>
              <p:nvSpPr>
                <p:cNvPr id="330" name=""/>
                <p:cNvSpPr/>
                <p:nvPr/>
              </p:nvSpPr>
              <p:spPr>
                <a:xfrm flipH="1">
                  <a:off x="5989680" y="1943280"/>
                  <a:ext cx="20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096240" y="194256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5983920" y="1947240"/>
                  <a:ext cx="10836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5985000" y="2067120"/>
                  <a:ext cx="2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096240" y="1798560"/>
                  <a:ext cx="0" cy="4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991120" y="1944720"/>
                <a:ext cx="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6097680" y="20923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27400" y="153684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6066720" y="1779480"/>
              <a:ext cx="525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51680" y="2523960"/>
              <a:ext cx="136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5= ZY10 (</a:t>
              </a: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ZY2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88160" y="512640"/>
              <a:ext cx="489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éthengeres tranzisztoros elektronikus gyújt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pcsolási rajz és alkatrészlis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3:53:12Z</dcterms:created>
  <dc:creator>Pannon User</dc:creator>
  <dc:description/>
  <dc:language>en-US</dc:language>
  <cp:lastModifiedBy>pkalamar</cp:lastModifiedBy>
  <dcterms:modified xsi:type="dcterms:W3CDTF">2005-04-01T02:21:45Z</dcterms:modified>
  <cp:revision>31</cp:revision>
  <dc:subject/>
  <dc:title>Slide 1</dc:title>
</cp:coreProperties>
</file>