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1.gif" ContentType="image/gif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8999538" cy="5060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D97C-98E8-49B4-B9F2-7C89697E7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0360" y="203040"/>
            <a:ext cx="8101080" cy="843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0360" y="1181160"/>
            <a:ext cx="8101080" cy="1593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0360" y="2926800"/>
            <a:ext cx="8101080" cy="1593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1E0F-8916-4539-AF10-D1938430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0360" y="203040"/>
            <a:ext cx="8101080" cy="843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0360" y="1181160"/>
            <a:ext cx="3953160" cy="1593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1520" y="1181160"/>
            <a:ext cx="3953160" cy="1593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0360" y="2926800"/>
            <a:ext cx="3953160" cy="1593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1520" y="2926800"/>
            <a:ext cx="3953160" cy="1593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AACF-56A6-4BD1-A472-5FE0FC023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0360" y="203040"/>
            <a:ext cx="8101080" cy="843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0360" y="1181160"/>
            <a:ext cx="2608200" cy="1593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181160"/>
            <a:ext cx="2608200" cy="1593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8480" y="1181160"/>
            <a:ext cx="2608200" cy="1593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0360" y="2926800"/>
            <a:ext cx="2608200" cy="1593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2926800"/>
            <a:ext cx="2608200" cy="1593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8480" y="2926800"/>
            <a:ext cx="2608200" cy="1593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C237-053E-4B66-B743-08885CC51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0360" y="203040"/>
            <a:ext cx="8101080" cy="843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0360" y="1181160"/>
            <a:ext cx="8101080" cy="33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6C33-961E-497D-9446-7A21B5FB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0360" y="203040"/>
            <a:ext cx="8101080" cy="843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0360" y="1181160"/>
            <a:ext cx="8101080" cy="3341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2060-BD1F-4947-8AD6-7773DD83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0360" y="203040"/>
            <a:ext cx="8101080" cy="843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0360" y="1181160"/>
            <a:ext cx="3953160" cy="3341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1520" y="1181160"/>
            <a:ext cx="3953160" cy="3341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017E-C6E8-4BDF-A270-9C81703B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0360" y="203040"/>
            <a:ext cx="8101080" cy="843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1000-7932-4F08-A736-B84DC0D5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0360" y="203040"/>
            <a:ext cx="810108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2355-3D23-4B4D-9B23-3392043C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0360" y="203040"/>
            <a:ext cx="8101080" cy="843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0360" y="1181160"/>
            <a:ext cx="3953160" cy="1593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520" y="1181160"/>
            <a:ext cx="3953160" cy="3341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0360" y="2926800"/>
            <a:ext cx="3953160" cy="1593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9E7A-2795-4525-9562-3937C699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0360" y="203040"/>
            <a:ext cx="8101080" cy="843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0360" y="1181160"/>
            <a:ext cx="3953160" cy="3341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1520" y="1181160"/>
            <a:ext cx="3953160" cy="1593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1520" y="2926800"/>
            <a:ext cx="3953160" cy="1593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527F-2E37-4451-B466-D22DEAAF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0360" y="203040"/>
            <a:ext cx="8101080" cy="843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0360" y="1181160"/>
            <a:ext cx="3953160" cy="1593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1520" y="1181160"/>
            <a:ext cx="3953160" cy="1593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0360" y="2926800"/>
            <a:ext cx="8101080" cy="1593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CD61-693A-48C1-BB9A-3E16E820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360" y="203040"/>
            <a:ext cx="8101080" cy="843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0360" y="1181160"/>
            <a:ext cx="8101080" cy="3341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rmAutofit fontScale="92000"/>
          </a:bodyPr>
          <a:p>
            <a:pPr marL="27720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30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4120" indent="-185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93840" indent="-185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63560" indent="-185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63560" indent="-185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63560" indent="-185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720" y="4609800"/>
            <a:ext cx="2100240" cy="3524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Autofit/>
          </a:bodyPr>
          <a:lstStyle>
            <a:lvl1pPr indent="0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4609800"/>
            <a:ext cx="2850840" cy="3524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Autofit/>
          </a:bodyPr>
          <a:lstStyle>
            <a:lvl1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1560" y="4609800"/>
            <a:ext cx="2100240" cy="3524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Autofit/>
          </a:bodyPr>
          <a:lstStyle>
            <a:lvl1pPr indent="0" algn="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fld id="{BA0A252D-FFEF-4D72-9BF5-B84CF2A5C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file:///tmp/home/.config/libreoffice/4/user/gallery/Lame3_64kk_44100_OK.wav" TargetMode="External"/><Relationship Id="rId4" Type="http://schemas.microsoft.com/office/2007/relationships/media" Target="file:///tmp/home/.config/libreoffice/4/user/gallery/Lame3_64kk_44100_OK.wav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36720" y="2890800"/>
            <a:ext cx="547200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700" spc="-1" strike="noStrike">
                <a:solidFill>
                  <a:srgbClr val="3b86eb"/>
                </a:solidFill>
                <a:latin typeface="Times New Roman"/>
              </a:rPr>
              <a:t>Kapcsold be a hangszórót és dőlj hátra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24360" y="14508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972880" y="4232160"/>
            <a:ext cx="25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600" spc="-1" strike="noStrike">
                <a:solidFill>
                  <a:srgbClr val="3b86eb"/>
                </a:solidFill>
                <a:latin typeface="Times New Roman"/>
              </a:rPr>
              <a:t>Az oldal váltá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b86eb"/>
                </a:solidFill>
                <a:latin typeface="Times New Roman"/>
              </a:rPr>
              <a:t>automatik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5062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45360" y="2027160"/>
            <a:ext cx="3446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6000" spc="-1" strike="noStrike">
                <a:solidFill>
                  <a:srgbClr val="3b86eb"/>
                </a:solidFill>
                <a:latin typeface="Bookman Old Style"/>
              </a:rPr>
              <a:t>AZ ERD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01080" cy="5062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1979640" y="54118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001080" cy="506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50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38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8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" dur="3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37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134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14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7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5062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01080" cy="5062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001080" cy="5062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001080" cy="5062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001080" cy="5062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001080" cy="5064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001080" cy="5062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0" y="0"/>
            <a:ext cx="9001080" cy="5062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0" y="0"/>
            <a:ext cx="9001080" cy="506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9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6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3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7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4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9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5062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001080" cy="5061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001080" cy="5062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0" y="1440"/>
            <a:ext cx="9001080" cy="5061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001080" cy="506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42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6">
                                  <p:stCondLst>
                                    <p:cond delay="5700"/>
                                  </p:stCondLst>
                                  <p:childTnLst>
                                    <p:animScale>
                                      <p:cBhvr>
                                        <p:cTn id="81" dur="13400" fill="hold"/>
                                        <p:tgtEl>
                                          <p:spTgt spid="59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42">
                                  <p:stCondLst>
                                    <p:cond delay="5700"/>
                                  </p:stCondLst>
                                  <p:childTnLst>
                                    <p:animMotion origin="layout" path="M -3.69535E-006 3.28321E-006 L -3.69535E-006 0.11341 E">
                                      <p:cBhvr>
                                        <p:cTn id="83" dur="132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187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17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2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5062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01080" cy="5062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001080" cy="5062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001080" cy="5062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001080" cy="506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8500"/>
                            </p:stCondLst>
                            <p:childTnLst>
                              <p:par>
                                <p:cTn id="103" nodeType="afterEffect" fill="hold" presetClass="entr" presetID="5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64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4900"/>
                            </p:stCondLst>
                            <p:childTnLst>
                              <p:par>
                                <p:cTn id="11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14800" fill="hold"/>
                                        <p:tgtEl>
                                          <p:spTgt spid="6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97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001080" cy="5064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413080" y="227160"/>
            <a:ext cx="4248000" cy="3448080"/>
          </a:xfrm>
          <a:prstGeom prst="rect">
            <a:avLst/>
          </a:prstGeom>
          <a:solidFill>
            <a:srgbClr val="000000">
              <a:alpha val="55000"/>
            </a:srgbClr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hu-HU" sz="2000" spc="-1" strike="noStrike">
                <a:solidFill>
                  <a:srgbClr val="bbe0e3"/>
                </a:solidFill>
                <a:latin typeface="Bookman Old Style"/>
              </a:rPr>
              <a:t>Ha az erdő besötétü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hu-HU" sz="2000" spc="-1" strike="noStrike">
                <a:solidFill>
                  <a:srgbClr val="bbe0e3"/>
                </a:solidFill>
                <a:latin typeface="Bookman Old Style"/>
              </a:rPr>
              <a:t>sűrűbe visz be az ú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hu-HU" sz="2000" spc="-1" strike="noStrike">
                <a:solidFill>
                  <a:srgbClr val="bbe0e3"/>
                </a:solidFill>
                <a:latin typeface="Bookman Old Style"/>
              </a:rPr>
              <a:t>Nem látjuk, hogy utunk végü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hu-HU" sz="2000" spc="-1" strike="noStrike">
                <a:solidFill>
                  <a:srgbClr val="bbe0e3"/>
                </a:solidFill>
                <a:latin typeface="Bookman Old Style"/>
              </a:rPr>
              <a:t>a sötétben hova ju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hu-HU" sz="2000" spc="-1" strike="noStrike">
                <a:solidFill>
                  <a:srgbClr val="bbe0e3"/>
                </a:solidFill>
                <a:latin typeface="Bookman Old Style"/>
              </a:rPr>
              <a:t>Ha az erdő fája ritku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hu-HU" sz="2000" spc="-1" strike="noStrike">
                <a:solidFill>
                  <a:srgbClr val="bbe0e3"/>
                </a:solidFill>
                <a:latin typeface="Bookman Old Style"/>
              </a:rPr>
              <a:t>nyílik az ég, süt a n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hu-HU" sz="2000" spc="-1" strike="noStrike">
                <a:solidFill>
                  <a:srgbClr val="bbe0e3"/>
                </a:solidFill>
                <a:latin typeface="Bookman Old Style"/>
              </a:rPr>
              <a:t>Látod, az út merre fordu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hu-HU" sz="2000" spc="-1" strike="noStrike">
                <a:solidFill>
                  <a:srgbClr val="bbe0e3"/>
                </a:solidFill>
                <a:latin typeface="Bookman Old Style"/>
              </a:rPr>
              <a:t>s ami rossz volt, lemar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hu-HU" sz="2000" spc="-1" strike="noStrike">
                <a:solidFill>
                  <a:srgbClr val="bbe0e3"/>
                </a:solidFill>
                <a:latin typeface="Bookman Old Style"/>
              </a:rPr>
              <a:t>             </a:t>
            </a:r>
            <a:r>
              <a:rPr b="1" lang="hu-HU" sz="2000" spc="-1" strike="noStrike">
                <a:solidFill>
                  <a:srgbClr val="bbe0e3"/>
                </a:solidFill>
                <a:latin typeface="Bookman Old Style"/>
              </a:rPr>
              <a:t>/Tarbay Ede 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84360" y="3971880"/>
            <a:ext cx="41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07:02:27Z</dcterms:created>
  <dc:creator>M.Laurens</dc:creator>
  <dc:description/>
  <dc:language>en-US</dc:language>
  <cp:lastModifiedBy>JOCI</cp:lastModifiedBy>
  <dcterms:modified xsi:type="dcterms:W3CDTF">2006-09-17T14:28:17Z</dcterms:modified>
  <cp:revision>18</cp:revision>
  <dc:subject>power point</dc:subject>
  <dc:title>AZ ERDŐ  - The forest</dc:title>
</cp:coreProperties>
</file>