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8999538" cy="5060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4F8-BF30-43A3-A391-3130C159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810108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2926800"/>
            <a:ext cx="810108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9D5-8721-4DFA-BF39-45C217A7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292680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292680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D35-67A9-47F9-837F-CAF96D43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18116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118116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292680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292680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2926800"/>
            <a:ext cx="260820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E3B-0996-4A52-A38D-B2D9F71A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181160"/>
            <a:ext cx="8101080" cy="33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CA7-3B08-4874-8C78-FDAFEEA9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810108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F21-A365-4246-8F14-2CC0858D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CF5-B000-4E8E-B694-EA9EFAFB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C94-7F61-448C-B4EB-A49B89B8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03040"/>
            <a:ext cx="810108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7DE-DE6D-4A61-8BEC-5EA7C709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292680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F58-1BCF-4BFA-AD68-A900465C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292680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834-4213-48E9-B08E-B0BBE653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1181160"/>
            <a:ext cx="395316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2926800"/>
            <a:ext cx="8101080" cy="15937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E34-962C-4B16-B985-6C082670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03040"/>
            <a:ext cx="8101080" cy="8431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181160"/>
            <a:ext cx="8101080" cy="334152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rmAutofit fontScale="92000"/>
          </a:bodyPr>
          <a:p>
            <a:pPr marL="27720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4120" indent="-185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93840" indent="-18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63560" indent="-185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63560" indent="-185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63560" indent="-185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4609800"/>
            <a:ext cx="2100240" cy="352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lstStyle>
            <a:lvl1pPr indent="0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4609800"/>
            <a:ext cx="2850840" cy="352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lstStyle>
            <a:lvl1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4609800"/>
            <a:ext cx="2100240" cy="35244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lstStyle>
            <a:lvl1pPr indent="0" algn="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fld id="{CB6D9E4D-F815-49E8-976D-5B5B7C188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Lame3_64kk_44100_OK.wav" TargetMode="External"/><Relationship Id="rId4" Type="http://schemas.microsoft.com/office/2007/relationships/media" Target="file:///tmp/home/.config/libreoffice/4/user/gallery/Lame3_64kk_44100_OK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6720" y="2890800"/>
            <a:ext cx="5472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3700" spc="-1" strike="noStrike">
                <a:solidFill>
                  <a:srgbClr val="3b86eb"/>
                </a:solidFill>
                <a:latin typeface="Times New Roman"/>
              </a:rPr>
              <a:t>Kapcsold be a hangszórót és dőlj hátra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24360" y="14508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972880" y="423216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1600" spc="-1" strike="noStrike">
                <a:solidFill>
                  <a:srgbClr val="3b86eb"/>
                </a:solidFill>
                <a:latin typeface="Times New Roman"/>
              </a:rPr>
              <a:t>Az oldal váltá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b86eb"/>
                </a:solidFill>
                <a:latin typeface="Times New Roman"/>
              </a:rPr>
              <a:t>automati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5360" y="2027160"/>
            <a:ext cx="34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en-US" sz="6000" spc="-1" strike="noStrike">
                <a:solidFill>
                  <a:srgbClr val="3b86eb"/>
                </a:solidFill>
                <a:latin typeface="Bookman Old Style"/>
              </a:rPr>
              <a:t>AZ ERD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1979640" y="5411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0">
                                  <p:stCondLst>
                                    <p:cond delay="9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38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8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3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134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14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001080" cy="5064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7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4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9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001080" cy="5061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1440"/>
            <a:ext cx="9001080" cy="506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4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5700"/>
                                  </p:stCondLst>
                                  <p:childTnLst>
                                    <p:animScale>
                                      <p:cBhvr>
                                        <p:cTn id="81" dur="13400" fill="hold"/>
                                        <p:tgtEl>
                                          <p:spTgt spid="59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3.69535E-006 3.28321E-006 L -3.69535E-006 0.11341 E">
                                      <p:cBhvr>
                                        <p:cTn id="83" dur="132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8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7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2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001080" cy="5062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001080" cy="50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5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64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490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14800" fill="hold"/>
                                        <p:tgtEl>
                                          <p:spTgt spid="6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97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001080" cy="5064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3080" y="227160"/>
            <a:ext cx="4248000" cy="3448080"/>
          </a:xfrm>
          <a:prstGeom prst="rect">
            <a:avLst/>
          </a:prstGeom>
          <a:solidFill>
            <a:srgbClr val="000000">
              <a:alpha val="55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Ha az erdő besötétü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sűrűbe visz be az ú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Nem látjuk, hogy utunk vég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a sötétben hova ju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Ha az erdő fája ritku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nyílik az ég, süt a n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Látod, az út merre fordu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s ami rossz volt, lema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             </a:t>
            </a:r>
            <a:r>
              <a:rPr b="1" lang="hu-HU" sz="2000" spc="-1" strike="noStrike">
                <a:solidFill>
                  <a:srgbClr val="bbe0e3"/>
                </a:solidFill>
                <a:latin typeface="Bookman Old Style"/>
              </a:rPr>
              <a:t>/Tarbay Ede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397188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5400"/>
                <a:tab algn="l" pos="1450800"/>
                <a:tab algn="l" pos="2176560"/>
                <a:tab algn="l" pos="2901960"/>
                <a:tab algn="l" pos="3627360"/>
                <a:tab algn="l" pos="4352760"/>
                <a:tab algn="l" pos="5078520"/>
                <a:tab algn="l" pos="5803920"/>
                <a:tab algn="l" pos="6529320"/>
                <a:tab algn="l" pos="7254720"/>
                <a:tab algn="l" pos="7980480"/>
                <a:tab algn="l" pos="8705880"/>
                <a:tab algn="l" pos="9431280"/>
                <a:tab algn="l" pos="10156680"/>
                <a:tab algn="l" pos="10882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2:27Z</dcterms:created>
  <dc:creator>M.Laurens</dc:creator>
  <dc:description/>
  <dc:language>en-US</dc:language>
  <cp:lastModifiedBy>JOCI</cp:lastModifiedBy>
  <dcterms:modified xsi:type="dcterms:W3CDTF">2006-09-17T14:28:17Z</dcterms:modified>
  <cp:revision>18</cp:revision>
  <dc:subject>power point</dc:subject>
  <dc:title>AZ ERDŐ  - The forest</dc:title>
</cp:coreProperties>
</file>