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AA6-37FA-4597-8298-A8A396CD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90C-88F3-47AF-8C9F-D0371E25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244-7DB9-43C9-8052-6FC4B076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BD5C-2A5D-4DBB-9142-2B8E4CC7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FC28-D4D1-4A3C-8F1C-52A11BE4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E552-3CAB-4927-BDBA-B68F1CBA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C957-1540-48A5-9CF4-055D0431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98DA-CF87-45E1-B573-F0FA9C40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398D-5BFF-4096-B968-B6C72793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D0A8-1435-434F-8F36-B0531B62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8BC2-05BE-48B6-ADC0-A78B16DD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824-AB0D-4980-8728-3AD41D80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DB28-BFF8-4D16-9E4B-DB00EBFE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F225-87B9-4965-951B-C18A89E0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D9DF-C705-4A33-8C40-8140EFB5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0E7F-E9CF-4283-B558-9DBDB3BD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F43A-49CD-458D-BD95-2C1B9221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E12-06EE-4B2B-9C8E-268D9323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253-D534-40AE-AAE9-FBFE101A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CC3F-1F8E-41D9-B936-0AD123EB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DC02-E972-4A9B-A2E9-40D71000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63C6-5E2E-4A16-88B8-A0B2215C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7B6F-43B2-4D7B-BCB0-2F8F970F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1C7-46C5-473B-8F6F-5FDEA8A3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A211-E2DC-4C66-9B49-83888A1CC064}" type="slidenum">
              <a:rPr b="0" lang="pt-BR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  <a:ea typeface="Times New Roman (Hebrew)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  <a:ea typeface="Times New Roman (Hebrew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C536-3C6B-4D9C-8C25-B1AB87B2C3F2}" type="slidenum">
              <a:rPr b="0" lang="pt-BR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8954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838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vantGarde Md BT"/>
              </a:rPr>
              <a:t>V  I N  C  E  N  T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2193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vantGarde Bk BT"/>
              </a:rPr>
              <a:t>VAN</a:t>
            </a:r>
            <a:r>
              <a:rPr b="1" lang="en-US" sz="4400" spc="-1" strike="noStrike">
                <a:solidFill>
                  <a:srgbClr val="cc9900"/>
                </a:solidFill>
                <a:latin typeface="AvantGarde Bk BT"/>
              </a:rPr>
              <a:t>GOGH</a:t>
            </a:r>
            <a:endParaRPr b="0" lang="en-US" sz="4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84464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vantGarde Bk BT"/>
                <a:ea typeface="Arial"/>
              </a:rPr>
              <a:t>(1853-1890)</a:t>
            </a: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7632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3300"/>
                </a:solidFill>
                <a:latin typeface="AvantGarde Bk BT"/>
              </a:rPr>
              <a:t>Music: Vincent (Acoustic) Composed &amp; Performed by Don Mclean</a:t>
            </a:r>
            <a:endParaRPr b="0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5300640"/>
            <a:ext cx="685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Comic Sans MS"/>
              </a:rPr>
              <a:t>Egy kis kikapcsolódás képekkel és a hozzá illó zenével, aminek a szövegét a képek alján olvashatod.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Comic Sans MS"/>
              </a:rPr>
              <a:t>A vetítés automatikus.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Comic Sans MS"/>
              </a:rPr>
              <a:t>Kellemes időtöltést!</a:t>
            </a: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3520" y="6553080"/>
            <a:ext cx="1887480" cy="30708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Starry, starry night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49560" y="6553080"/>
            <a:ext cx="327744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flaming flowers that brightly blaz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2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3760" y="6553080"/>
            <a:ext cx="359604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swirling clouds in violet haze reflect in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92400" y="6553080"/>
            <a:ext cx="271044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Vincent's eyes of China blue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7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3440" y="6553080"/>
            <a:ext cx="200196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Colors changing hu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0" y="228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1080" y="6553080"/>
            <a:ext cx="285084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morning fields of amber grain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6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7640" y="6553080"/>
            <a:ext cx="2800440" cy="30708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weathered faces lined in pain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6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6360" y="6553080"/>
            <a:ext cx="419508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are soothed beneath the artist's loving hand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45960" y="6553080"/>
            <a:ext cx="2158920" cy="30708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And now I understand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47640" y="649116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9000" y="6553080"/>
            <a:ext cx="262512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what you tried to say to m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84760" y="6553080"/>
            <a:ext cx="308412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how you suffered for your sanity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1120" y="6553080"/>
            <a:ext cx="293904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how you tried to set them free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4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561280" y="6553080"/>
            <a:ext cx="2576520" cy="307080"/>
          </a:xfrm>
          <a:prstGeom prst="rect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perhaps they'll listen now.</a:t>
            </a:r>
            <a:r>
              <a:rPr b="1" lang="pt-BR" sz="1400" spc="-1" strike="noStrike">
                <a:solidFill>
                  <a:srgbClr val="993300"/>
                </a:solidFill>
                <a:latin typeface="Comic Sans MS"/>
                <a:ea typeface="Courier New"/>
              </a:rPr>
              <a:t>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553080"/>
            <a:ext cx="4191120" cy="520200"/>
          </a:xfrm>
          <a:prstGeom prst="rect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They would not listen, they did not know how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200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13840" y="6553080"/>
            <a:ext cx="2591640" cy="30708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For they could not love you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7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0280" y="6553080"/>
            <a:ext cx="2559600" cy="307080"/>
          </a:xfrm>
          <a:prstGeom prst="rect">
            <a:avLst/>
          </a:prstGeom>
          <a:solidFill>
            <a:srgbClr val="00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but still your love was tru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70880" y="6553080"/>
            <a:ext cx="3282120" cy="30708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and when no hope was left in sight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37960" y="6553080"/>
            <a:ext cx="257796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on that starry starry night</a:t>
            </a:r>
            <a:r>
              <a:rPr b="1" lang="pt-BR" sz="1400" spc="-1" strike="noStrike">
                <a:solidFill>
                  <a:srgbClr val="993300"/>
                </a:solidFill>
                <a:latin typeface="Comic Sans MS"/>
                <a:ea typeface="Courier New"/>
              </a:rPr>
              <a:t>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4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53160" y="6553080"/>
            <a:ext cx="189684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rry, Starry night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6553080"/>
            <a:ext cx="3048120" cy="52020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paint your palette blue and grey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000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5877000"/>
            <a:ext cx="365760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You took your life as lovers often do;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6237360"/>
            <a:ext cx="3124080" cy="30708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But I could have told you Vincent</a:t>
            </a:r>
            <a:r>
              <a:rPr b="1" lang="pt-BR" sz="1400" spc="-1" strike="noStrike">
                <a:solidFill>
                  <a:srgbClr val="993300"/>
                </a:solidFill>
                <a:latin typeface="Comic Sans MS"/>
                <a:ea typeface="Courier New"/>
              </a:rPr>
              <a:t>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6553080"/>
            <a:ext cx="5105160" cy="52020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this world was never meant for one as beautiful as you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700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63520" y="6553080"/>
            <a:ext cx="1887480" cy="307080"/>
          </a:xfrm>
          <a:prstGeom prst="rect">
            <a:avLst/>
          </a:prstGeom>
          <a:solidFill>
            <a:srgbClr val="00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Starry, starry night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8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8560" y="6553080"/>
            <a:ext cx="2788200" cy="307080"/>
          </a:xfrm>
          <a:prstGeom prst="rect">
            <a:avLst/>
          </a:prstGeom>
          <a:solidFill>
            <a:srgbClr val="00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portraits hung in empty hall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6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5960" y="6553080"/>
            <a:ext cx="329868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frameless heads on nameless wall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500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4120" y="6781680"/>
            <a:ext cx="38098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7760" y="6553080"/>
            <a:ext cx="4473720" cy="307080"/>
          </a:xfrm>
          <a:prstGeom prst="rect">
            <a:avLst/>
          </a:prstGeom>
          <a:solidFill>
            <a:srgbClr val="0000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with eyes that watch the world and can't forget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79680" y="6553080"/>
            <a:ext cx="3175560" cy="307080"/>
          </a:xfrm>
          <a:prstGeom prst="rect">
            <a:avLst/>
          </a:prstGeom>
          <a:solidFill>
            <a:srgbClr val="00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Like the stranger that you've met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82520" y="6553080"/>
            <a:ext cx="3189240" cy="307080"/>
          </a:xfrm>
          <a:prstGeom prst="rect">
            <a:avLst/>
          </a:prstGeom>
          <a:solidFill>
            <a:srgbClr val="0000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the ragged men in ragged clothe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3880" y="64008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7600" y="6553080"/>
            <a:ext cx="286596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the silver thorn of bloddy ros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25080" y="6553080"/>
            <a:ext cx="397260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lie crushed and broken on the virgin snow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47640" y="649116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640" y="22860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320" y="6553080"/>
            <a:ext cx="2251800" cy="30708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And now I think I know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45080" y="6553080"/>
            <a:ext cx="2670840" cy="30708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what you tried to say to me</a:t>
            </a:r>
            <a:r>
              <a:rPr b="1" lang="pt-BR" sz="1400" spc="-1" strike="noStrike">
                <a:solidFill>
                  <a:srgbClr val="993300"/>
                </a:solidFill>
                <a:latin typeface="Comic Sans MS"/>
                <a:ea typeface="Courier New"/>
              </a:rPr>
              <a:t>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04280" y="6553080"/>
            <a:ext cx="3129840" cy="307080"/>
          </a:xfrm>
          <a:prstGeom prst="rect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how you suffered for your sanity</a:t>
            </a:r>
            <a:r>
              <a:rPr b="1" lang="pt-BR" sz="1400" spc="-1" strike="noStrike">
                <a:solidFill>
                  <a:srgbClr val="993300"/>
                </a:solidFill>
                <a:latin typeface="Comic Sans MS"/>
                <a:ea typeface="Courier New"/>
              </a:rPr>
              <a:t>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300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66294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2440" y="6553080"/>
            <a:ext cx="293904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how you tried to set them free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82120" y="6553080"/>
            <a:ext cx="452268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They would not listen, they're not list'ning still...</a:t>
            </a:r>
            <a:r>
              <a:rPr b="1" lang="pt-BR" sz="1400" spc="-1" strike="noStrike">
                <a:solidFill>
                  <a:srgbClr val="993300"/>
                </a:solidFill>
                <a:latin typeface="Comic Sans MS"/>
                <a:ea typeface="Courier New"/>
              </a:rPr>
              <a:t>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0000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07720" y="6553080"/>
            <a:ext cx="2323440" cy="307080"/>
          </a:xfrm>
          <a:prstGeom prst="rect">
            <a:avLst/>
          </a:prstGeom>
          <a:solidFill>
            <a:srgbClr val="0000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perhaps they never will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4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553080"/>
            <a:ext cx="263592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look out on a summer's day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6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" y="3049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ffcc"/>
                </a:solidFill>
                <a:latin typeface="AvantGarde Md BT"/>
              </a:rPr>
              <a:t>V  I N  C  E  N  T</a:t>
            </a:r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335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cc"/>
                </a:solidFill>
                <a:latin typeface="AvantGarde Bk BT"/>
              </a:rPr>
              <a:t>VAN</a:t>
            </a:r>
            <a:r>
              <a:rPr b="1" lang="en-US" sz="2000" spc="-1" strike="noStrike">
                <a:solidFill>
                  <a:srgbClr val="cc9900"/>
                </a:solidFill>
                <a:latin typeface="AvantGarde Bk BT"/>
              </a:rPr>
              <a:t>GOGH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522936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  <a:ea typeface="David"/>
              </a:rPr>
              <a:t>The End</a:t>
            </a:r>
            <a:endParaRPr b="0" lang="en-US" sz="4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75960" y="6381720"/>
            <a:ext cx="559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Comic Sans MS"/>
              </a:rPr>
              <a:t>Ha nem lépsz ki akkor meghallgathatod a zenét még egyszer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5280" y="6553080"/>
            <a:ext cx="424980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with eyes that know the darkness in my soul.</a:t>
            </a:r>
            <a:r>
              <a:rPr b="1" lang="pt-BR" sz="1400" spc="-1" strike="noStrike">
                <a:solidFill>
                  <a:srgbClr val="993300"/>
                </a:solidFill>
                <a:latin typeface="Comic Sans MS"/>
                <a:ea typeface="Courier New"/>
              </a:rPr>
              <a:t> 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71520" y="6553080"/>
            <a:ext cx="205236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Shadows on the hills,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70000" y="6553080"/>
            <a:ext cx="3227040" cy="30708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sketch the trees and the daffodils,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85560" y="6553080"/>
            <a:ext cx="3525840" cy="3070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catch the breeze and the winter chills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2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080" y="6553080"/>
            <a:ext cx="3152520" cy="307080"/>
          </a:xfrm>
          <a:prstGeom prst="rect">
            <a:avLst/>
          </a:prstGeom>
          <a:solidFill>
            <a:srgbClr val="00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in colors on the snowy linen land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84040" y="6553080"/>
            <a:ext cx="2158920" cy="307080"/>
          </a:xfrm>
          <a:prstGeom prst="rect">
            <a:avLst/>
          </a:prstGeom>
          <a:solidFill>
            <a:srgbClr val="00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And now I understand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591000" y="6553080"/>
            <a:ext cx="2625120" cy="307080"/>
          </a:xfrm>
          <a:prstGeom prst="rect">
            <a:avLst/>
          </a:prstGeom>
          <a:solidFill>
            <a:srgbClr val="00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what you tried to say to me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7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5280" y="6021360"/>
            <a:ext cx="3078000" cy="520200"/>
          </a:xfrm>
          <a:prstGeom prst="rect">
            <a:avLst/>
          </a:prstGeom>
          <a:solidFill>
            <a:srgbClr val="00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how you suffered for your sanity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34200" y="6308640"/>
            <a:ext cx="2939040" cy="30708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how you tried to set them free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6553080"/>
            <a:ext cx="4191120" cy="520200"/>
          </a:xfrm>
          <a:prstGeom prst="rect">
            <a:avLst/>
          </a:prstGeom>
          <a:solidFill>
            <a:srgbClr val="00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They would not listen, they did not know how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16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825640" y="6553080"/>
            <a:ext cx="2530800" cy="307080"/>
          </a:xfrm>
          <a:prstGeom prst="rect">
            <a:avLst/>
          </a:prstGeom>
          <a:solidFill>
            <a:srgbClr val="00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omic Sans MS"/>
                <a:ea typeface="Courier New"/>
              </a:rPr>
              <a:t>perhaps they'll listen now.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7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20:13:39Z</dcterms:created>
  <dc:creator/>
  <dc:description/>
  <dc:language>en-US</dc:language>
  <cp:lastModifiedBy>JOCI</cp:lastModifiedBy>
  <dcterms:modified xsi:type="dcterms:W3CDTF">2007-01-23T16:05:52Z</dcterms:modified>
  <cp:revision>82</cp:revision>
  <dc:subject/>
  <dc:title>vincent vangogh</dc:title>
</cp:coreProperties>
</file>