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837C-8CA9-4C3B-BCA6-A6F81B1AB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274A-A29A-493E-BC27-5DC9E06D3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991A-638A-47D8-A9E0-0F2C4FF97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973A-1916-4C36-9718-BAF1F6F25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79127-3738-4CD2-BB4A-45867AFFE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66D29-08A8-4F16-8525-A253D8690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BB524-6B4C-40F6-80AD-9064723BF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C455A-EAE4-4AF4-917A-F61C2500F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17FFB-1114-400B-ACAC-A9F45C3DA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1BB74-0C9F-405B-B565-6F7F423C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3D399-C9D7-4436-B761-3014077C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2B23-B639-4460-9CD3-F20557FC0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98F72-41F5-4E97-A398-76392615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0D6E4-E620-43E7-A16A-95E94795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721A1-B528-4472-8365-89CB4438C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A77D8-BF3C-42EC-9CD2-E359CFF68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23813-20F9-43A3-9018-612E1FF83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4D84-E807-4FD1-8AFD-B490D5BEA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3039-BD4D-4644-AFE7-F26DE4FB0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2794-9322-4C15-9619-E09AE4A18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16E6-6B12-40C1-B537-8D7B08FAC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58C4-E959-49AF-A507-571F22D9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3BFB-3D22-4E23-ADE4-168B0071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745F-97F3-4698-9855-06668374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4000" cy="1905120"/>
            </a:xfrm>
            <a:prstGeom prst="rect">
              <a:avLst/>
            </a:prstGeom>
            <a:gradFill rotWithShape="0">
              <a:gsLst>
                <a:gs pos="0">
                  <a:srgbClr val="a38d77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rcRect l="0" t="66688" r="0" b="0"/>
            <a:stretch/>
          </p:blipFill>
          <p:spPr>
            <a:xfrm>
              <a:off x="0" y="0"/>
              <a:ext cx="914400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eae8e2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ae8e2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  <a:ea typeface="Times New Roman (Hebrew)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  <a:ea typeface="Times New Roman (Hebrew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5B42E-A54C-4C84-89D1-633669A526DD}" type="slidenum">
              <a:rPr b="0" lang="pt-BR" sz="1400" spc="-1" strike="noStrike">
                <a:solidFill>
                  <a:srgbClr val="eae8e2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0" y="1143000"/>
              <a:ext cx="9144000" cy="13716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rcRect l="5827" t="8501" r="35924" b="0"/>
            <a:stretch/>
          </p:blipFill>
          <p:spPr>
            <a:xfrm>
              <a:off x="0" y="0"/>
              <a:ext cx="9144000" cy="143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ae8e2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  <a:ea typeface="Times New Roman (Hebrew)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  <a:ea typeface="Times New Roman (Hebrew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DE652-71AD-4AB0-B962-014C7FC825A5}" type="slidenum">
              <a:rPr b="0" lang="pt-BR" sz="1400" spc="-1" strike="noStrike">
                <a:solidFill>
                  <a:srgbClr val="eae8e2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eae8e2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289548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280" y="8380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vantGarde Md BT"/>
              </a:rPr>
              <a:t>V  I N  C  E  N  T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1219320"/>
            <a:ext cx="32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vantGarde Bk BT"/>
              </a:rPr>
              <a:t>VAN</a:t>
            </a:r>
            <a:r>
              <a:rPr b="1" lang="en-US" sz="4400" spc="-1" strike="noStrike">
                <a:solidFill>
                  <a:srgbClr val="cc9900"/>
                </a:solidFill>
                <a:latin typeface="AvantGarde Bk BT"/>
              </a:rPr>
              <a:t>GOGH</a:t>
            </a:r>
            <a:endParaRPr b="0" lang="en-US" sz="4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84464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vantGarde Bk BT"/>
                <a:ea typeface="Arial"/>
              </a:rPr>
              <a:t>(1853-1890)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76320"/>
            <a:ext cx="670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993300"/>
                </a:solidFill>
                <a:latin typeface="AvantGarde Bk BT"/>
              </a:rPr>
              <a:t>Music: Vincent (Acoustic) Composed &amp; Performed by Don Mclean</a:t>
            </a:r>
            <a:endParaRPr b="0" lang="en-US" sz="16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5300640"/>
            <a:ext cx="6858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cc"/>
                </a:solidFill>
                <a:latin typeface="Comic Sans MS"/>
              </a:rPr>
              <a:t>Egy kis kikapcsolódás képekkel és a hozzá illó zenével, aminek a szövegét a képek alján olvashatod.</a:t>
            </a:r>
            <a:endParaRPr b="0" lang="en-US" sz="18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cc"/>
                </a:solidFill>
                <a:latin typeface="Comic Sans MS"/>
              </a:rPr>
              <a:t>A vetítés automatikus.</a:t>
            </a:r>
            <a:endParaRPr b="0" lang="en-US" sz="18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cc"/>
                </a:solidFill>
                <a:latin typeface="Comic Sans MS"/>
              </a:rPr>
              <a:t>Kellemes időtöltést!</a:t>
            </a: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slow" advTm="6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63520" y="6553080"/>
            <a:ext cx="1887480" cy="307080"/>
          </a:xfrm>
          <a:prstGeom prst="rect">
            <a:avLst/>
          </a:prstGeom>
          <a:solidFill>
            <a:srgbClr val="00000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mic Sans MS"/>
                <a:ea typeface="Courier New"/>
              </a:rPr>
              <a:t>Starry, starry night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49560" y="6553080"/>
            <a:ext cx="3277440" cy="30708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mic Sans MS"/>
                <a:ea typeface="Courier New"/>
              </a:rPr>
              <a:t>flaming flowers that brightly blaze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slow" advTm="12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03760" y="6553080"/>
            <a:ext cx="3596040" cy="30708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mic Sans MS"/>
                <a:ea typeface="Courier New"/>
              </a:rPr>
              <a:t>swirling clouds in violet haze reflect in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892400" y="6553080"/>
            <a:ext cx="2710440" cy="30708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mic Sans MS"/>
                <a:ea typeface="Courier New"/>
              </a:rPr>
              <a:t>Vincent's eyes of China blue.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slow" advTm="7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63440" y="6553080"/>
            <a:ext cx="2001960" cy="30708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mic Sans MS"/>
                <a:ea typeface="Courier New"/>
              </a:rPr>
              <a:t>Colors changing hue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slow" advTm="5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440" y="228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1080" y="6553080"/>
            <a:ext cx="2850840" cy="30708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mic Sans MS"/>
                <a:ea typeface="Courier New"/>
              </a:rPr>
              <a:t>morning fields of amber grain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slow" advTm="6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97640" y="6553080"/>
            <a:ext cx="2800440" cy="30708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mic Sans MS"/>
                <a:ea typeface="Courier New"/>
              </a:rPr>
              <a:t>weathered faces lined in pain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slow" advTm="6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6360" y="6553080"/>
            <a:ext cx="4195080" cy="30708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mic Sans MS"/>
                <a:ea typeface="Courier New"/>
              </a:rPr>
              <a:t>are soothed beneath the artist's loving hand.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45960" y="6553080"/>
            <a:ext cx="2158920" cy="30708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mic Sans MS"/>
                <a:ea typeface="Courier New"/>
              </a:rPr>
              <a:t>And now I understand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slow" advTm="9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47640" y="649116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9000" y="6553080"/>
            <a:ext cx="2625120" cy="30708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mic Sans MS"/>
                <a:ea typeface="Courier New"/>
              </a:rPr>
              <a:t>what you tried to say to me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984760" y="6553080"/>
            <a:ext cx="3084120" cy="30708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mic Sans MS"/>
                <a:ea typeface="Courier New"/>
              </a:rPr>
              <a:t>how you suffered for your sanity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171120" y="6553080"/>
            <a:ext cx="2939040" cy="30708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mic Sans MS"/>
                <a:ea typeface="Courier New"/>
              </a:rPr>
              <a:t>how you tried to set them free.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slow" advTm="14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561280" y="6553080"/>
            <a:ext cx="2576520" cy="307080"/>
          </a:xfrm>
          <a:prstGeom prst="rect">
            <a:avLst/>
          </a:prstGeom>
          <a:solidFill>
            <a:srgbClr val="00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mic Sans MS"/>
                <a:ea typeface="Courier New"/>
              </a:rPr>
              <a:t>perhaps they'll listen now.</a:t>
            </a:r>
            <a:r>
              <a:rPr b="1" lang="pt-BR" sz="1400" spc="-1" strike="noStrike">
                <a:solidFill>
                  <a:srgbClr val="993300"/>
                </a:solidFill>
                <a:latin typeface="Comic Sans MS"/>
                <a:ea typeface="Courier New"/>
              </a:rPr>
              <a:t> 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553080"/>
            <a:ext cx="4191120" cy="520200"/>
          </a:xfrm>
          <a:prstGeom prst="rect">
            <a:avLst/>
          </a:prstGeom>
          <a:solidFill>
            <a:srgbClr val="00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mic Sans MS"/>
                <a:ea typeface="Courier New"/>
              </a:rPr>
              <a:t>They would not listen, they did not know how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slow" advTm="12000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13840" y="6553080"/>
            <a:ext cx="2591640" cy="30708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mic Sans MS"/>
                <a:ea typeface="Courier New"/>
              </a:rPr>
              <a:t>For they could not love you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slow" advTm="7000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600200" y="0"/>
            <a:ext cx="579132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70280" y="6553080"/>
            <a:ext cx="2559600" cy="307080"/>
          </a:xfrm>
          <a:prstGeom prst="rect">
            <a:avLst/>
          </a:prstGeom>
          <a:solidFill>
            <a:srgbClr val="00000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mic Sans MS"/>
                <a:ea typeface="Courier New"/>
              </a:rPr>
              <a:t>but still your love was true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70880" y="6553080"/>
            <a:ext cx="3282120" cy="30708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mic Sans MS"/>
                <a:ea typeface="Courier New"/>
              </a:rPr>
              <a:t>and when no hope was left in sight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537960" y="6553080"/>
            <a:ext cx="2577960" cy="30708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mic Sans MS"/>
                <a:ea typeface="Courier New"/>
              </a:rPr>
              <a:t>on that starry starry night</a:t>
            </a:r>
            <a:r>
              <a:rPr b="1" lang="pt-BR" sz="1400" spc="-1" strike="noStrike">
                <a:solidFill>
                  <a:srgbClr val="993300"/>
                </a:solidFill>
                <a:latin typeface="Comic Sans MS"/>
                <a:ea typeface="Courier New"/>
              </a:rPr>
              <a:t>.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slow" advTm="14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53160" y="6553080"/>
            <a:ext cx="1896840" cy="30708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Starry, Starry night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81280" y="6553080"/>
            <a:ext cx="3048120" cy="52020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mic Sans MS"/>
                <a:ea typeface="Courier New"/>
              </a:rPr>
              <a:t>paint your palette blue and grey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slow" advTm="10000"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5877000"/>
            <a:ext cx="3657600" cy="30708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mic Sans MS"/>
                <a:ea typeface="Courier New"/>
              </a:rPr>
              <a:t>You took your life as lovers often do;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40000" y="6237360"/>
            <a:ext cx="3124080" cy="30708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mic Sans MS"/>
                <a:ea typeface="Courier New"/>
              </a:rPr>
              <a:t>But I could have told you Vincent</a:t>
            </a:r>
            <a:r>
              <a:rPr b="1" lang="pt-BR" sz="1400" spc="-1" strike="noStrike">
                <a:solidFill>
                  <a:srgbClr val="993300"/>
                </a:solidFill>
                <a:latin typeface="Comic Sans MS"/>
                <a:ea typeface="Courier New"/>
              </a:rPr>
              <a:t> 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6553080"/>
            <a:ext cx="5105160" cy="52020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mic Sans MS"/>
                <a:ea typeface="Courier New"/>
              </a:rPr>
              <a:t>this world was never meant for one as beautiful as you.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slow" advTm="17000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63520" y="6553080"/>
            <a:ext cx="1887480" cy="307080"/>
          </a:xfrm>
          <a:prstGeom prst="rect">
            <a:avLst/>
          </a:prstGeom>
          <a:solidFill>
            <a:srgbClr val="0000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mic Sans MS"/>
                <a:ea typeface="Courier New"/>
              </a:rPr>
              <a:t>Starry, starry night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slow" advTm="8000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78560" y="6553080"/>
            <a:ext cx="2788200" cy="307080"/>
          </a:xfrm>
          <a:prstGeom prst="rect">
            <a:avLst/>
          </a:prstGeom>
          <a:solidFill>
            <a:srgbClr val="0000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mic Sans MS"/>
                <a:ea typeface="Courier New"/>
              </a:rPr>
              <a:t>portraits hung in empty halls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slow" advTm="6000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65960" y="6553080"/>
            <a:ext cx="3298680" cy="30708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mic Sans MS"/>
                <a:ea typeface="Courier New"/>
              </a:rPr>
              <a:t>frameless heads on nameless walls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slow" advTm="5000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5334120" y="6781680"/>
            <a:ext cx="380988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7760" y="6553080"/>
            <a:ext cx="4473720" cy="307080"/>
          </a:xfrm>
          <a:prstGeom prst="rect">
            <a:avLst/>
          </a:prstGeom>
          <a:solidFill>
            <a:srgbClr val="0000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mic Sans MS"/>
                <a:ea typeface="Courier New"/>
              </a:rPr>
              <a:t>with eyes that watch the world and can't forget.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79680" y="6553080"/>
            <a:ext cx="3175560" cy="307080"/>
          </a:xfrm>
          <a:prstGeom prst="rect">
            <a:avLst/>
          </a:prstGeom>
          <a:solidFill>
            <a:srgbClr val="0000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mic Sans MS"/>
                <a:ea typeface="Courier New"/>
              </a:rPr>
              <a:t>Like the stranger that you've met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slow" advTm="9000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82520" y="6553080"/>
            <a:ext cx="3189240" cy="307080"/>
          </a:xfrm>
          <a:prstGeom prst="rect">
            <a:avLst/>
          </a:prstGeom>
          <a:solidFill>
            <a:srgbClr val="00000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mic Sans MS"/>
                <a:ea typeface="Courier New"/>
              </a:rPr>
              <a:t>the ragged men in ragged clothes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slow" advTm="9000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523880" y="640080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37600" y="6553080"/>
            <a:ext cx="2865960" cy="30708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mic Sans MS"/>
                <a:ea typeface="Courier New"/>
              </a:rPr>
              <a:t>the silver thorn of bloddy rose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825080" y="6553080"/>
            <a:ext cx="3972600" cy="30708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mic Sans MS"/>
                <a:ea typeface="Courier New"/>
              </a:rPr>
              <a:t>lie crushed and broken on the virgin snow.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47640" y="649116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47640" y="228600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0320" y="6553080"/>
            <a:ext cx="2251800" cy="30708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mic Sans MS"/>
                <a:ea typeface="Courier New"/>
              </a:rPr>
              <a:t>And now I think I know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45080" y="6553080"/>
            <a:ext cx="2670840" cy="30708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mic Sans MS"/>
                <a:ea typeface="Courier New"/>
              </a:rPr>
              <a:t>what you tried to say to me</a:t>
            </a:r>
            <a:r>
              <a:rPr b="1" lang="pt-BR" sz="1400" spc="-1" strike="noStrike">
                <a:solidFill>
                  <a:srgbClr val="993300"/>
                </a:solidFill>
                <a:latin typeface="Comic Sans MS"/>
                <a:ea typeface="Courier New"/>
              </a:rPr>
              <a:t> 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804280" y="6553080"/>
            <a:ext cx="3129840" cy="307080"/>
          </a:xfrm>
          <a:prstGeom prst="rect">
            <a:avLst/>
          </a:prstGeom>
          <a:solidFill>
            <a:srgbClr val="00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mic Sans MS"/>
                <a:ea typeface="Courier New"/>
              </a:rPr>
              <a:t>how you suffered for your sanity</a:t>
            </a:r>
            <a:r>
              <a:rPr b="1" lang="pt-BR" sz="1400" spc="-1" strike="noStrike">
                <a:solidFill>
                  <a:srgbClr val="993300"/>
                </a:solidFill>
                <a:latin typeface="Comic Sans MS"/>
                <a:ea typeface="Courier New"/>
              </a:rPr>
              <a:t> 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slow" advTm="13000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33520" y="662940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2440" y="6553080"/>
            <a:ext cx="2939040" cy="30708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mic Sans MS"/>
                <a:ea typeface="Courier New"/>
              </a:rPr>
              <a:t>how you tried to set them free.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182120" y="6553080"/>
            <a:ext cx="4522680" cy="30708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mic Sans MS"/>
                <a:ea typeface="Courier New"/>
              </a:rPr>
              <a:t>They would not listen, they're not list'ning still...</a:t>
            </a:r>
            <a:r>
              <a:rPr b="1" lang="pt-BR" sz="1400" spc="-1" strike="noStrike">
                <a:solidFill>
                  <a:srgbClr val="993300"/>
                </a:solidFill>
                <a:latin typeface="Comic Sans MS"/>
                <a:ea typeface="Courier New"/>
              </a:rPr>
              <a:t> 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07720" y="6553080"/>
            <a:ext cx="2323440" cy="307080"/>
          </a:xfrm>
          <a:prstGeom prst="rect">
            <a:avLst/>
          </a:prstGeom>
          <a:solidFill>
            <a:srgbClr val="00000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mic Sans MS"/>
                <a:ea typeface="Courier New"/>
              </a:rPr>
              <a:t>perhaps they never will.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slow" advTm="14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5120" y="6553080"/>
            <a:ext cx="2635920" cy="30708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  <a:ea typeface="Courier New"/>
              </a:rPr>
              <a:t>look out on a summer's day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slow" advTm="6000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28600" y="30492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ffcc"/>
                </a:solidFill>
                <a:latin typeface="AvantGarde Md BT"/>
              </a:rPr>
              <a:t>V  I N  C  E  N  T</a:t>
            </a:r>
            <a:endParaRPr b="0" lang="en-US" sz="12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335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cc"/>
                </a:solidFill>
                <a:latin typeface="AvantGarde Bk BT"/>
              </a:rPr>
              <a:t>VAN</a:t>
            </a:r>
            <a:r>
              <a:rPr b="1" lang="en-US" sz="2000" spc="-1" strike="noStrike">
                <a:solidFill>
                  <a:srgbClr val="cc9900"/>
                </a:solidFill>
                <a:latin typeface="AvantGarde Bk BT"/>
              </a:rPr>
              <a:t>GOGH</a:t>
            </a:r>
            <a:endParaRPr b="0" lang="en-US" sz="20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343400" y="522936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  <a:ea typeface="David"/>
              </a:rPr>
              <a:t>The End</a:t>
            </a:r>
            <a:endParaRPr b="0" lang="en-US" sz="40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-75960" y="6381720"/>
            <a:ext cx="559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Comic Sans MS"/>
              </a:rPr>
              <a:t>Ha nem lépsz ki akkor meghallgathatod a zenét még egyszer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3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15280" y="6553080"/>
            <a:ext cx="4249800" cy="30708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mic Sans MS"/>
                <a:ea typeface="Courier New"/>
              </a:rPr>
              <a:t>with eyes that know the darkness in my soul.</a:t>
            </a:r>
            <a:r>
              <a:rPr b="1" lang="pt-BR" sz="1400" spc="-1" strike="noStrike">
                <a:solidFill>
                  <a:srgbClr val="993300"/>
                </a:solidFill>
                <a:latin typeface="Comic Sans MS"/>
                <a:ea typeface="Courier New"/>
              </a:rPr>
              <a:t> 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71520" y="6553080"/>
            <a:ext cx="2052360" cy="30708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mic Sans MS"/>
                <a:ea typeface="Courier New"/>
              </a:rPr>
              <a:t>Shadows on the hills,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slow" advTm="9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70000" y="6553080"/>
            <a:ext cx="3227040" cy="307080"/>
          </a:xfrm>
          <a:prstGeom prst="rect">
            <a:avLst/>
          </a:prstGeom>
          <a:solidFill>
            <a:srgbClr val="00000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mic Sans MS"/>
                <a:ea typeface="Courier New"/>
              </a:rPr>
              <a:t>sketch the trees and the daffodils,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85560" y="6553080"/>
            <a:ext cx="3525840" cy="30708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mic Sans MS"/>
                <a:ea typeface="Courier New"/>
              </a:rPr>
              <a:t>catch the breeze and the winter chills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slow" advTm="12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90080" y="6553080"/>
            <a:ext cx="3152520" cy="307080"/>
          </a:xfrm>
          <a:prstGeom prst="rect">
            <a:avLst/>
          </a:prstGeom>
          <a:solidFill>
            <a:srgbClr val="00000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mic Sans MS"/>
                <a:ea typeface="Courier New"/>
              </a:rPr>
              <a:t>in colors on the snowy linen land.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84040" y="6553080"/>
            <a:ext cx="2158920" cy="307080"/>
          </a:xfrm>
          <a:prstGeom prst="rect">
            <a:avLst/>
          </a:prstGeom>
          <a:solidFill>
            <a:srgbClr val="00000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mic Sans MS"/>
                <a:ea typeface="Courier New"/>
              </a:rPr>
              <a:t>And now I understand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slow" advTm="9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591000" y="6553080"/>
            <a:ext cx="2625120" cy="307080"/>
          </a:xfrm>
          <a:prstGeom prst="rect">
            <a:avLst/>
          </a:prstGeom>
          <a:solidFill>
            <a:srgbClr val="00000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mic Sans MS"/>
                <a:ea typeface="Courier New"/>
              </a:rPr>
              <a:t>what you tried to say to me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slow" advTm="7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95280" y="6021360"/>
            <a:ext cx="3078000" cy="520200"/>
          </a:xfrm>
          <a:prstGeom prst="rect">
            <a:avLst/>
          </a:prstGeom>
          <a:solidFill>
            <a:srgbClr val="00000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mic Sans MS"/>
                <a:ea typeface="Courier New"/>
              </a:rPr>
              <a:t>how you suffered for your sanity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34200" y="6308640"/>
            <a:ext cx="2939040" cy="307080"/>
          </a:xfrm>
          <a:prstGeom prst="rect">
            <a:avLst/>
          </a:prstGeom>
          <a:solidFill>
            <a:srgbClr val="00000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mic Sans MS"/>
                <a:ea typeface="Courier New"/>
              </a:rPr>
              <a:t>how you tried to set them free.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952880" y="6553080"/>
            <a:ext cx="4191120" cy="520200"/>
          </a:xfrm>
          <a:prstGeom prst="rect">
            <a:avLst/>
          </a:prstGeom>
          <a:solidFill>
            <a:srgbClr val="00000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mic Sans MS"/>
                <a:ea typeface="Courier New"/>
              </a:rPr>
              <a:t>They would not listen, they did not know how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slow" advTm="16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825640" y="6553080"/>
            <a:ext cx="2530800" cy="307080"/>
          </a:xfrm>
          <a:prstGeom prst="rect">
            <a:avLst/>
          </a:prstGeom>
          <a:solidFill>
            <a:srgbClr val="00000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mic Sans MS"/>
                <a:ea typeface="Courier New"/>
              </a:rPr>
              <a:t>perhaps they'll listen now.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slow" advTm="7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7T20:13:39Z</dcterms:created>
  <dc:creator/>
  <dc:description/>
  <dc:language>en-US</dc:language>
  <cp:lastModifiedBy>JOCI</cp:lastModifiedBy>
  <dcterms:modified xsi:type="dcterms:W3CDTF">2007-01-23T16:05:52Z</dcterms:modified>
  <cp:revision>82</cp:revision>
  <dc:subject/>
  <dc:title>vincent vangogh</dc:title>
</cp:coreProperties>
</file>