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7A342-022E-4D3C-826B-EDFD1C6A9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4FF25-9836-4278-A2D8-81AC69C6B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95589-BEEE-44FD-9105-3659C8FFA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94F96-1BE2-4C9E-8719-169905410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91DF9-BD75-44F1-A606-3D110643E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709A-8D4B-4B3B-934D-E0595FDC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FF001-A3D1-4929-9B3F-0897E5949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B8050-4941-42F0-8005-EF8FAE941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3DEC-A14C-4241-BE6E-942362309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1B8A7-68AA-4AD9-9CE2-6EBE1933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F8535-E52E-46E8-BA32-1F1C25E7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7449C-FCDB-41F4-9FA5-55585AB31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8863-8E84-49DB-9698-D1E251C523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gportal.hu/portal/polczer/" TargetMode="External"/><Relationship Id="rId3" Type="http://schemas.openxmlformats.org/officeDocument/2006/relationships/hyperlink" Target="http://gportal.hu/portal/polczer/" TargetMode="External"/><Relationship Id="rId4" Type="http://schemas.openxmlformats.org/officeDocument/2006/relationships/hyperlink" Target="http://gportal.hu/portal/polczer/"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mailto:polczer-porta@freemail.hu" TargetMode="External"/><Relationship Id="rId3" Type="http://schemas.openxmlformats.org/officeDocument/2006/relationships/hyperlink" Target="mailto:polczer-porta@freemail.h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835280" y="3068640"/>
            <a:ext cx="554328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Néhány gondolat Popper Péter: A belső utak könyvéből az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 </a:t>
            </a:r>
            <a:r>
              <a:rPr b="1" lang="en-US" sz="1800" spc="-1" strike="noStrike">
                <a:solidFill>
                  <a:srgbClr val="bbe0e3"/>
                </a:solidFill>
                <a:latin typeface="Arial"/>
              </a:rPr>
              <a:t> </a:t>
            </a:r>
            <a:r>
              <a:rPr b="1" lang="en-US" sz="3200" spc="-1" strike="noStrike">
                <a:solidFill>
                  <a:srgbClr val="bbe0e3"/>
                </a:solidFill>
                <a:latin typeface="Arial"/>
              </a:rPr>
              <a:t>Az életvezetésrő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be0e3"/>
                </a:solidFill>
                <a:latin typeface="Arial"/>
              </a:rPr>
              <a:t>Oldal váltás kattintásra !</a:t>
            </a:r>
            <a:endParaRPr b="0" lang="en-US" sz="1000" spc="-1" strike="noStrike">
              <a:solidFill>
                <a:srgbClr val="000000"/>
              </a:solidFill>
              <a:latin typeface="Arial"/>
            </a:endParaRPr>
          </a:p>
        </p:txBody>
      </p:sp>
      <p:sp>
        <p:nvSpPr>
          <p:cNvPr id="45" name=""/>
          <p:cNvSpPr/>
          <p:nvPr/>
        </p:nvSpPr>
        <p:spPr>
          <a:xfrm>
            <a:off x="7488360" y="6512040"/>
            <a:ext cx="1655640" cy="194040"/>
          </a:xfrm>
          <a:prstGeom prst="rect">
            <a:avLst/>
          </a:prstGeom>
          <a:solidFill>
            <a:srgbClr val="000000">
              <a:alpha val="41000"/>
            </a:srgbClr>
          </a:solidFill>
          <a:ln w="0">
            <a:noFill/>
          </a:ln>
        </p:spPr>
        <p:style>
          <a:lnRef idx="0"/>
          <a:fillRef idx="0"/>
          <a:effectRef idx="0"/>
          <a:fontRef idx="minor"/>
        </p:style>
        <p:txBody>
          <a:bodyPr lIns="0" rIns="0" tIns="0" bIns="720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800" spc="-1" strike="noStrike">
                <a:solidFill>
                  <a:srgbClr val="ffffff"/>
                </a:solidFill>
                <a:latin typeface="Arial"/>
              </a:rPr>
              <a:t> </a:t>
            </a:r>
            <a:r>
              <a:rPr b="0" lang="hu-HU" sz="800" spc="-1" strike="noStrike" u="sng">
                <a:solidFill>
                  <a:srgbClr val="009999"/>
                </a:solidFill>
                <a:uFillTx/>
                <a:latin typeface="Arial"/>
                <a:hlinkClick r:id="rId2"/>
              </a:rPr>
              <a:t>foto&amp;desing</a:t>
            </a:r>
            <a:r>
              <a:rPr b="0" lang="hu-HU" sz="800" spc="-1" strike="noStrike" u="sng">
                <a:solidFill>
                  <a:srgbClr val="009999"/>
                </a:solidFill>
                <a:uFillTx/>
                <a:latin typeface="Arial"/>
                <a:hlinkClick r:id="rId3"/>
              </a:rPr>
              <a:t> ©POLCZER-PORTA</a:t>
            </a:r>
            <a:r>
              <a:rPr b="0" lang="hu-HU" sz="800" spc="-1" strike="noStrike" u="sng">
                <a:solidFill>
                  <a:srgbClr val="009999"/>
                </a:solidFill>
                <a:uFillTx/>
                <a:latin typeface="Arial"/>
                <a:hlinkClick r:id="rId4"/>
              </a:rPr>
              <a:t> </a:t>
            </a:r>
            <a:endParaRPr b="0" lang="en-US" sz="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042920" y="3933720"/>
            <a:ext cx="7201080" cy="215928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z igény valóságot szül. A dolgok megvalósulásának az a kezdete, ha makacsul rájuk gondolun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nden, ami igazán fontos eljön az életünkbe. Személyiségünk, karakterünk, belső igényeink törvényszerűen formálják sorsunkat. A hívásokra válasz érkezik. Sokszor észrevehetjük, hogy vágyaink, igényeink megkeresik a tárgyat maguknak. Az emberek megérzik azt, ami bennünk van és eszerint közelednek vagy távolodnak. Azok felelnek, akikkel közös hullámhosszon működik az „adó-vevő berendezésünk.” Ugyanabban a városban néha sokan körénk gyűlnek. Ezért írhatta tréfásan Füst Milán: „Apróhirdetés. Meglevő szenvedélyekhez tárgy kerestetik!” Szeretnénk szerelmesek lenni –és beleszeretünk valakibe. Ami fontos, azt csöndesen ébren kell tartani magunkban napról napra; egy pillanatra sem szabad elengedni. Egy napon valóság lesz.</a:t>
            </a:r>
            <a:br>
              <a:rPr sz="1200"/>
            </a:br>
            <a:endParaRPr b="0" lang="en-US" sz="12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1042920" y="2708280"/>
            <a:ext cx="7201080" cy="32418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A hosszú és jó életet nem évekkel, hanem élményekkel és megismeréssel mérik.”</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Filozófiai szempontból ismerjük az idő objektivitását. De életünknek van egy szubjektív időrendje is. A pszichológiai idő-élmény egyéni és sajátos. Mennyire aktuális lehet számunkra valami, ami tíz éve történt, és milyen közömbös egy tegnapi esemény. Milyen hosszú és unalmas lehet átélni eseménytelen nyári hónapokat. A napok végtelenül lassan vánszorognak. De visszatekintve egy röpke pillanatnak tűnik a nyár. Nem történt semmi, amit emlékezetünk megőrizhetett volna. Ám milyen gyorsan rohan el ugyanez az idő, ha eseményekkel zsúfolt. De visszapillantva rá végtelen hosszúságúnak érezzük, annyi minden történt. Így vagyunk az életünkkel is. Ezért kell bátran és kíváncsian élni. Nem szabad féltenünk magunkat az eseményektől, a megismerés kockázataitól. Mernünk kell élni és cselekedni a szívünk szerint: tartalmas és jó életünk lesz, bármeddig tartson is. A gyáva élet mindig rövi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Kung-Fu-ce ír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a:t>
            </a:r>
            <a:r>
              <a:rPr b="0" lang="hu-HU" sz="1200" spc="-1" strike="noStrike">
                <a:solidFill>
                  <a:srgbClr val="bbe0e3"/>
                </a:solidFill>
                <a:latin typeface="Arial"/>
              </a:rPr>
              <a:t>Mikor húszéves voltam –sokat tanultam.</a:t>
            </a:r>
            <a:br>
              <a:rPr sz="1200"/>
            </a:br>
            <a:r>
              <a:rPr b="0" lang="hu-HU" sz="1200" spc="-1" strike="noStrike">
                <a:solidFill>
                  <a:srgbClr val="bbe0e3"/>
                </a:solidFill>
                <a:latin typeface="Arial"/>
              </a:rPr>
              <a:t>Mikor harmincéves voltam –már tudtam, mit akarok.</a:t>
            </a:r>
            <a:br>
              <a:rPr sz="1200"/>
            </a:br>
            <a:r>
              <a:rPr b="0" lang="hu-HU" sz="1200" spc="-1" strike="noStrike">
                <a:solidFill>
                  <a:srgbClr val="bbe0e3"/>
                </a:solidFill>
                <a:latin typeface="Arial"/>
              </a:rPr>
              <a:t>Mikor ötvenéves voltam –már tudtam hallgatni.</a:t>
            </a:r>
            <a:br>
              <a:rPr sz="1200"/>
            </a:br>
            <a:r>
              <a:rPr b="0" lang="hu-HU" sz="1200" spc="-1" strike="noStrike">
                <a:solidFill>
                  <a:srgbClr val="bbe0e3"/>
                </a:solidFill>
                <a:latin typeface="Arial"/>
              </a:rPr>
              <a:t>S mikor hatvanéves lettem –már követhettem a szívemet, s a törvényt nem léptem át.” </a:t>
            </a:r>
            <a:endParaRPr b="0" lang="en-US" sz="12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835280" y="3068640"/>
            <a:ext cx="5473440" cy="2952720"/>
          </a:xfrm>
          <a:prstGeom prst="rect">
            <a:avLst/>
          </a:prstGeom>
          <a:solidFill>
            <a:srgbClr val="000000">
              <a:alpha val="55000"/>
            </a:srgbClr>
          </a:solidFill>
          <a:ln w="3240">
            <a:solidFill>
              <a:srgbClr val="ccffff"/>
            </a:solidFill>
            <a:miter/>
          </a:ln>
        </p:spPr>
        <p:style>
          <a:lnRef idx="0"/>
          <a:fillRef idx="0"/>
          <a:effectRef idx="0"/>
          <a:fontRef idx="minor"/>
        </p:style>
        <p:txBody>
          <a:bodyPr lIns="180000" rIns="180000" tIns="180000" bIns="18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bbe0e3"/>
                </a:solidFill>
                <a:latin typeface="Arial"/>
              </a:rPr>
              <a:t>                          </a:t>
            </a:r>
            <a:r>
              <a:rPr b="1" lang="hu-HU" sz="1800" spc="-1" strike="noStrike">
                <a:solidFill>
                  <a:srgbClr val="bbe0e3"/>
                </a:solidFill>
                <a:latin typeface="Arial"/>
              </a:rPr>
              <a:t>A szép rögtön kell.</a:t>
            </a:r>
            <a:br>
              <a:rPr sz="1800"/>
            </a:br>
            <a:r>
              <a:rPr b="1" lang="hu-HU" sz="1800" spc="-1" strike="noStrike">
                <a:solidFill>
                  <a:srgbClr val="bbe0e3"/>
                </a:solidFill>
                <a:latin typeface="Arial"/>
              </a:rPr>
              <a:t>                    Az igazra alszunk egyet.</a:t>
            </a: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r>
              <a:rPr b="0" lang="hu-HU" sz="1800" spc="-1" strike="noStrike">
                <a:solidFill>
                  <a:srgbClr val="bbe0e3"/>
                </a:solidFill>
                <a:latin typeface="Arial"/>
              </a:rPr>
              <a:t>Szép napot kívánok nek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bbe0e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A felvételek az Alcsútdobozi arborétumban készültek 2005-ben </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bbe0e3"/>
                </a:solidFill>
                <a:latin typeface="Arial"/>
              </a:rPr>
              <a:t> </a:t>
            </a:r>
            <a:r>
              <a:rPr b="0" lang="hu-HU" sz="1800" spc="-1" strike="noStrike">
                <a:solidFill>
                  <a:srgbClr val="bbe0e3"/>
                </a:solidFill>
                <a:latin typeface="Arial"/>
              </a:rPr>
              <a:t>                                                 </a:t>
            </a:r>
            <a:r>
              <a:rPr b="0" lang="en-US" sz="800" spc="-1" strike="noStrike" u="sng">
                <a:solidFill>
                  <a:srgbClr val="009999"/>
                </a:solidFill>
                <a:uFillTx/>
                <a:latin typeface="Arial"/>
                <a:ea typeface="Arial"/>
                <a:hlinkClick r:id="rId2"/>
              </a:rPr>
              <a:t>©</a:t>
            </a:r>
            <a:r>
              <a:rPr b="0" lang="hu-HU" sz="800" spc="-1" strike="noStrike" u="sng">
                <a:solidFill>
                  <a:srgbClr val="009999"/>
                </a:solidFill>
                <a:uFillTx/>
                <a:latin typeface="Arial"/>
                <a:ea typeface="Arial"/>
                <a:hlinkClick r:id="rId3"/>
              </a:rPr>
              <a:t>Polczer</a:t>
            </a:r>
            <a:endParaRPr b="0" lang="en-US" sz="8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042920" y="3933720"/>
            <a:ext cx="7201080" cy="158292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Akiben zűrzavar van – zürzavart hoz létre környezetében. Akiben rend van – rendet teremt maga körü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A gyermek még főleg reaktív lény. Viselkedése válasz arra, ahogy a környezet viselkedik vele szemben. A felnőtt ember megszerezte a valódi aktivitás lehetőségét, formálni képes környezetét. Lelkiállapota akarva-akaratlanul kisugárzik környezetére. Bajainkért sokszor a külső körülményeket vádoljuk, holott mi formáljuk ilyenné azokat. Ha rendet teremtünk magunkban, legnehezebb helyzeteinkben is megtaláljuk a megoldást</a:t>
            </a:r>
            <a:endParaRPr b="0" lang="en-US" sz="12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0" y="0"/>
            <a:ext cx="9144000" cy="6910560"/>
          </a:xfrm>
          <a:prstGeom prst="rect">
            <a:avLst/>
          </a:prstGeom>
          <a:ln w="0">
            <a:noFill/>
          </a:ln>
        </p:spPr>
      </p:pic>
      <p:sp>
        <p:nvSpPr>
          <p:cNvPr id="51" name=""/>
          <p:cNvSpPr/>
          <p:nvPr/>
        </p:nvSpPr>
        <p:spPr>
          <a:xfrm>
            <a:off x="1042920" y="3933720"/>
            <a:ext cx="7201080" cy="1440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 múlt már nincs. A jövő még nincs. Egyetlen valóság : a jel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Gondolkodásunk fegyelmezetlensége következtében rengeteg fölösleges energiát pazarolunk el azzal, hogy túl sokat időzünk a múlt és jövő irrealitásában. Régi sérelmeinken rágódunk, vagy visszavágyódunk elmúlt állapotainkba; az elképzelt jövővel ijesztgetjük vagy vigasztaljuk magunkat. Eközben elsiklunk az aktuális valóság, a jelen felett, nem éljük át kellő mélységben és intenzitással. Ezért sokat tévedünk és mulasztunk. A jelenre kell elsősorban odafigyelni.</a:t>
            </a:r>
            <a:endParaRPr b="0" lang="en-US" sz="12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0" y="-49320"/>
            <a:ext cx="9209160" cy="6907320"/>
          </a:xfrm>
          <a:prstGeom prst="rect">
            <a:avLst/>
          </a:prstGeom>
          <a:ln w="0">
            <a:noFill/>
          </a:ln>
        </p:spPr>
      </p:pic>
      <p:sp>
        <p:nvSpPr>
          <p:cNvPr id="54" name=""/>
          <p:cNvSpPr/>
          <p:nvPr/>
        </p:nvSpPr>
        <p:spPr>
          <a:xfrm>
            <a:off x="1042920" y="3933720"/>
            <a:ext cx="7201080" cy="1224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Mindenről lemondhatunk, csak életünk fő gyökereit nem vághatjuk át. Keresem életem gyökere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z életben nem lehetünk meg kompromisszumok nélkül. Alkalmazkodnunk kell másokhoz is. De nem szabad olyan kompromisszumokat kötni, amelyeket nem tudunk elviselni. Életünk alapjainak sértetlenül kell maradnia. Meg kell ismernünk ezeket az alapokat ~ a többi nem érdekes.</a:t>
            </a:r>
            <a:endParaRPr b="0" lang="en-US" sz="12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0"/>
            <a:ext cx="9205920" cy="6905520"/>
          </a:xfrm>
          <a:prstGeom prst="rect">
            <a:avLst/>
          </a:prstGeom>
          <a:ln w="0">
            <a:noFill/>
          </a:ln>
        </p:spPr>
      </p:pic>
      <p:sp>
        <p:nvSpPr>
          <p:cNvPr id="57" name=""/>
          <p:cNvSpPr/>
          <p:nvPr/>
        </p:nvSpPr>
        <p:spPr>
          <a:xfrm>
            <a:off x="1042920" y="3933720"/>
            <a:ext cx="7201080" cy="1656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Nem lehetek olyan fontos mások számára, mint önmagamnak. Saját dolgaim súlya nagyobb bennem, mint a külvilágb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Milyen hamar megfeledkezünk mások problémáiról, nehézségeiről, kudarcairól! Mennyire átsiklunk mások sikerei, örömei felett! Egy másik ember ugyanígy van velünk. Ezért nem szabad túlértékelni a „Mit szólnak hozzá?” ~ jelentőségét. Az embereket nem foglalkoztatja annyira a mi problémánk, szégyenünk, kudarcunk, mint minket. Ugyanígy örömeink, eredményeink sem. Mennyit marcangoltuk magunkat, szégyenkeztünk értelmetlenül. Hányszor bántódtunk meg fölöslegesen. </a:t>
            </a:r>
            <a:endParaRPr b="0" lang="en-US" sz="12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 descr=""/>
          <p:cNvPicPr/>
          <p:nvPr/>
        </p:nvPicPr>
        <p:blipFill>
          <a:blip r:embed="rId1"/>
          <a:stretch/>
        </p:blipFill>
        <p:spPr>
          <a:xfrm>
            <a:off x="0" y="0"/>
            <a:ext cx="9205920" cy="6905520"/>
          </a:xfrm>
          <a:prstGeom prst="rect">
            <a:avLst/>
          </a:prstGeom>
          <a:ln w="0">
            <a:noFill/>
          </a:ln>
        </p:spPr>
      </p:pic>
      <p:sp>
        <p:nvSpPr>
          <p:cNvPr id="60" name=""/>
          <p:cNvSpPr/>
          <p:nvPr/>
        </p:nvSpPr>
        <p:spPr>
          <a:xfrm>
            <a:off x="1042920" y="3933720"/>
            <a:ext cx="7201080" cy="1440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 beszédem akkor lesz egy velem, ha jóakarattal igazat és fontosat mondok annak, akit megill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Mennyi energiát fecséreltünk el fecsegésre, amikor üres szavakat váltottunk üres emberekkel. Sokat beszéltünk magunkról, keveset hallgattunk másokat. Már sok baj származott a fölösleges beszédből. Abból soha, ha hallgatni tudtunk. Nem fontos, hogy mindig szerepeljünk és érdekesek legyünk. Meg kell tanulnunk, hogy kinek mit érdemes elmondani. És hallgathatunk is, ha nincs lényeges mondanivalónk.</a:t>
            </a:r>
            <a:endParaRPr b="0" lang="en-US" sz="12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 descr=""/>
          <p:cNvPicPr/>
          <p:nvPr/>
        </p:nvPicPr>
        <p:blipFill>
          <a:blip r:embed="rId1"/>
          <a:stretch/>
        </p:blipFill>
        <p:spPr>
          <a:xfrm>
            <a:off x="0" y="0"/>
            <a:ext cx="9144000" cy="6891480"/>
          </a:xfrm>
          <a:prstGeom prst="rect">
            <a:avLst/>
          </a:prstGeom>
          <a:ln w="0">
            <a:noFill/>
          </a:ln>
        </p:spPr>
      </p:pic>
      <p:sp>
        <p:nvSpPr>
          <p:cNvPr id="63" name=""/>
          <p:cNvSpPr/>
          <p:nvPr/>
        </p:nvSpPr>
        <p:spPr>
          <a:xfrm>
            <a:off x="1042920" y="3933720"/>
            <a:ext cx="7201080" cy="180036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A belső fegyelem megtart, mint testet a csontváz. A külső fegyelem páncél: véd és akadályoz.”</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 </a:t>
            </a:r>
            <a:r>
              <a:rPr b="0" lang="en-US" sz="1200" spc="-1" strike="noStrike">
                <a:solidFill>
                  <a:srgbClr val="bbe0e3"/>
                </a:solidFill>
                <a:latin typeface="Arial"/>
              </a:rPr>
              <a:t>A természetben az alacsonyabb rendű élőlényeket kitinpáncél védi. Kívül kemények, belül puhák. A páncél: fal köztük és a világ között. Ha áttörik, védtelenek. A magasabb rendű élőlényeknek gerincük van. Kívül lágyak, a tartásuk belül van. Szabadabb a viszonyuk a világhoz, s bár könnyebben megsérthetők, mégis nagyobb biztonságban vannak. Az emberi psziché szétesik fegyelem nélkül. A fejlődés útja az, hogy a külső fegyelem belső fegyelemmé változzon. Csak a belső fegyelem tanít meg élni a szabadsággal. Belső fegyelem nélkül a szabadság megbetegít. Ezért van olyan sok pszichés zavar a modern kultúrában. </a:t>
            </a:r>
            <a:endParaRPr b="0" lang="en-US" sz="12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stretch/>
        </p:blipFill>
        <p:spPr>
          <a:xfrm>
            <a:off x="0" y="0"/>
            <a:ext cx="9144000" cy="6858000"/>
          </a:xfrm>
          <a:prstGeom prst="rect">
            <a:avLst/>
          </a:prstGeom>
          <a:ln w="0">
            <a:noFill/>
          </a:ln>
        </p:spPr>
      </p:pic>
      <p:sp>
        <p:nvSpPr>
          <p:cNvPr id="66" name=""/>
          <p:cNvSpPr/>
          <p:nvPr/>
        </p:nvSpPr>
        <p:spPr>
          <a:xfrm>
            <a:off x="1042920" y="3933720"/>
            <a:ext cx="7201080" cy="165600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r>
              <a:rPr b="1" lang="en-US" sz="1200" spc="-1" strike="noStrike">
                <a:solidFill>
                  <a:srgbClr val="bbe0e3"/>
                </a:solidFill>
                <a:latin typeface="Arial"/>
              </a:rPr>
              <a:t>Csak az egyértelmű cselekvés hatásos. A bizonytalan cselekvés bizonytalan eredményt szü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 világban az akció-reakció törvénye uralkodik. Amennyire koncentrált erőt fejtek ki egy irányban, olyan koncentrált hatást fogok elérni. Csak határozott kérdésre kapok határozott választ. Vannak alapvető élethelyzetek, amelyekben csak egyértelműen szabad cselekedni. Ha már töprengek, vacillálok –akkor ne cselekedjem. Ha gondolkozni tudok azon, hogy megházasodjam-e –akkor ne tegyem. Meg kell várnom, míg a dolgok egyértelművé tisztulnak bennem –akkor könnyen és határozottan tudok cselekedni. És ez meghozza az eredményt.</a:t>
            </a:r>
            <a:br>
              <a:rPr sz="1200"/>
            </a:br>
            <a:endParaRPr b="0" lang="en-US" sz="12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1042920" y="3933720"/>
            <a:ext cx="7201080" cy="1943280"/>
          </a:xfrm>
          <a:prstGeom prst="rect">
            <a:avLst/>
          </a:prstGeom>
          <a:solidFill>
            <a:srgbClr val="000000">
              <a:alpha val="65000"/>
            </a:srgbClr>
          </a:solidFill>
          <a:ln w="936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bbe0e3"/>
                </a:solidFill>
                <a:latin typeface="Arial"/>
              </a:rPr>
              <a:t>„</a:t>
            </a:r>
            <a:r>
              <a:rPr b="1" lang="hu-HU" sz="1200" spc="-1" strike="noStrike">
                <a:solidFill>
                  <a:srgbClr val="bbe0e3"/>
                </a:solidFill>
                <a:latin typeface="Arial"/>
              </a:rPr>
              <a:t>Az élethelyzeteim adottak. Ebben determinált vagyok. Rajtam áll azonban, hogyan viselkedem e helyzetekben. Itt a szabadság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bbe0e3"/>
                </a:solidFill>
                <a:latin typeface="Arial"/>
              </a:rPr>
              <a:t> </a:t>
            </a:r>
            <a:r>
              <a:rPr b="0" lang="hu-HU" sz="1200" spc="-1" strike="noStrike">
                <a:solidFill>
                  <a:srgbClr val="bbe0e3"/>
                </a:solidFill>
                <a:latin typeface="Arial"/>
              </a:rPr>
              <a:t>Élethelyzeteink nagy részét –családunkat, szociális körülményeinket, betegségeinket –szinte „készen kapjuk”, vagy legalábbis igen sok, tőlünk független külső faktor határozza meg azokat. Viselkedésünk szabályozása azonban a hatalmunkban van, tőlünk függ. Így fonódik össze életünkben a determináció és a szabadság. Epiktétosz figyelmeztet arra, hogy azzal kell foglalkoznunk, ami tőlünk függ. Egy adott helyzetben sokféleképpen lehet viselkedni. Thomas Mann írja: „Eljött Petepré életének nehéz órája, amitől mindig félt –s lám, nemessé formálta azt.” A szabadság értelme a nehéz helyzetek nemessé formálása viselkedésünkkel.</a:t>
            </a:r>
            <a:endParaRPr b="0" lang="en-US" sz="12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8T20:26:33Z</dcterms:created>
  <dc:creator>JOCI</dc:creator>
  <dc:description/>
  <dc:language>en-US</dc:language>
  <cp:lastModifiedBy>JOCI</cp:lastModifiedBy>
  <dcterms:modified xsi:type="dcterms:W3CDTF">2006-08-11T20:55:40Z</dcterms:modified>
  <cp:revision>6</cp:revision>
  <dc:subject/>
  <dc:title>1. dia</dc:title>
</cp:coreProperties>
</file>