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99024-C2FB-4DE6-87B8-5B31A7E0F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F1432-112C-43C9-8ABC-F64C8E472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31A53-D213-4B95-ADC1-2BFD335AA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DE4F8-6BED-4221-8AC9-7A316AD6E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F5B10-B349-4BB3-AD8A-026D2058D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3FA6F-1958-4350-B21B-7FC6C89E2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EF515-7692-4A09-8425-BA859A668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1CBF3-598D-47F8-9458-6F6906EAF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41446-4F78-43F8-8043-7A625830E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50914-00B5-4122-97C8-1A60F7F6E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1CA1A-4867-4CB0-88D7-742609432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B5E04-E66B-4F6F-834E-63F345B7B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139D3-B277-4B97-BB87-0D711C3AE8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gportal.hu/portal/polczer/" TargetMode="External"/><Relationship Id="rId3" Type="http://schemas.openxmlformats.org/officeDocument/2006/relationships/hyperlink" Target="http://gportal.hu/portal/polczer/" TargetMode="External"/><Relationship Id="rId4" Type="http://schemas.openxmlformats.org/officeDocument/2006/relationships/hyperlink" Target="http://gportal.hu/portal/polczer/"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mailto:polczer-porta@freemail.hu" TargetMode="External"/><Relationship Id="rId3" Type="http://schemas.openxmlformats.org/officeDocument/2006/relationships/hyperlink" Target="mailto:polczer-porta@freemail.hu"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1835280" y="3068640"/>
            <a:ext cx="5543280" cy="295272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Néhány gondolat Popper Péter: A belső utak könyvéből az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 </a:t>
            </a:r>
            <a:r>
              <a:rPr b="1" lang="en-US" sz="1800" spc="-1" strike="noStrike">
                <a:solidFill>
                  <a:srgbClr val="bbe0e3"/>
                </a:solidFill>
                <a:latin typeface="Arial"/>
              </a:rPr>
              <a:t> </a:t>
            </a:r>
            <a:r>
              <a:rPr b="1" lang="en-US" sz="3200" spc="-1" strike="noStrike">
                <a:solidFill>
                  <a:srgbClr val="bbe0e3"/>
                </a:solidFill>
                <a:latin typeface="Arial"/>
              </a:rPr>
              <a:t>Az emberi kapcsolatokró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be0e3"/>
                </a:solidFill>
                <a:latin typeface="Arial"/>
              </a:rPr>
              <a:t>Oldal váltás kattintásra !</a:t>
            </a:r>
            <a:endParaRPr b="0" lang="en-US" sz="1000" spc="-1" strike="noStrike">
              <a:solidFill>
                <a:srgbClr val="000000"/>
              </a:solidFill>
              <a:latin typeface="Arial"/>
            </a:endParaRPr>
          </a:p>
        </p:txBody>
      </p:sp>
      <p:sp>
        <p:nvSpPr>
          <p:cNvPr id="45" name=""/>
          <p:cNvSpPr/>
          <p:nvPr/>
        </p:nvSpPr>
        <p:spPr>
          <a:xfrm>
            <a:off x="7488360" y="6512040"/>
            <a:ext cx="1655640" cy="194040"/>
          </a:xfrm>
          <a:prstGeom prst="rect">
            <a:avLst/>
          </a:prstGeom>
          <a:noFill/>
          <a:ln w="0">
            <a:noFill/>
          </a:ln>
        </p:spPr>
        <p:style>
          <a:lnRef idx="0"/>
          <a:fillRef idx="0"/>
          <a:effectRef idx="0"/>
          <a:fontRef idx="minor"/>
        </p:style>
        <p:txBody>
          <a:bodyPr lIns="0" rIns="0" tIns="0" bIns="72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800" spc="-1" strike="noStrike">
                <a:solidFill>
                  <a:srgbClr val="ffffff"/>
                </a:solidFill>
                <a:latin typeface="Arial"/>
              </a:rPr>
              <a:t> </a:t>
            </a:r>
            <a:r>
              <a:rPr b="0" lang="hu-HU" sz="800" spc="-1" strike="noStrike" u="sng">
                <a:solidFill>
                  <a:srgbClr val="009999"/>
                </a:solidFill>
                <a:uFillTx/>
                <a:latin typeface="Arial"/>
                <a:hlinkClick r:id="rId2"/>
              </a:rPr>
              <a:t>foto&amp;desing</a:t>
            </a:r>
            <a:r>
              <a:rPr b="0" lang="hu-HU" sz="800" spc="-1" strike="noStrike" u="sng">
                <a:solidFill>
                  <a:srgbClr val="009999"/>
                </a:solidFill>
                <a:uFillTx/>
                <a:latin typeface="Arial"/>
                <a:hlinkClick r:id="rId3"/>
              </a:rPr>
              <a:t> ©POLCZER-PORTA</a:t>
            </a:r>
            <a:r>
              <a:rPr b="0" lang="hu-HU" sz="800" spc="-1" strike="noStrike" u="sng">
                <a:solidFill>
                  <a:srgbClr val="009999"/>
                </a:solidFill>
                <a:uFillTx/>
                <a:latin typeface="Arial"/>
                <a:hlinkClick r:id="rId4"/>
              </a:rPr>
              <a:t> </a:t>
            </a:r>
            <a:endParaRPr b="0" lang="en-US" sz="800" spc="-1" strike="noStrike">
              <a:solidFill>
                <a:srgbClr val="000000"/>
              </a:solidFill>
              <a:latin typeface="Arial"/>
            </a:endParaRPr>
          </a:p>
        </p:txBody>
      </p:sp>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1835280" y="3357720"/>
            <a:ext cx="5543280" cy="266364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Együtt kell élni, nem egymásban és nem egymás mellett. A hetedik ajtó csukva maradh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Egy kapcsolat nem adhat többet annál, mint hogy a nőt és a férfit egyaránt hozzásegíti rejtet lehetőségeinek kibontakozásához, ahhoz, hogy egyre inkább hiteles, egyre markánsabban önmaga legyen. Két szuverén ember együttélésének ez az igazi értelme. Az „Én” nem oldódhat fel a „Mi” élményében. De ez a két Én nem is távolodhat el egymástól annyira, hogy a kapcsolat páros magánnyá változzon. Két szabad ember életét gondolatok, élmények, örömök és kínlódások megosztása ötvözi össze. De a megosztás is mérték szerint történjen. Minden embernek joga van ahhoz, hogy lelkében egy kis kamrát megtartson önmagának. Ez csak az övé. Ennek az ajtaját nem kell kinyitni.</a:t>
            </a:r>
            <a:endParaRPr b="0" lang="en-US" sz="1200" spc="-1" strike="noStrike">
              <a:solidFill>
                <a:srgbClr val="000000"/>
              </a:solidFill>
              <a:latin typeface="Arial"/>
            </a:endParaRPr>
          </a:p>
        </p:txBody>
      </p:sp>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1835280" y="3068640"/>
            <a:ext cx="5543280" cy="316872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Életünk története gyökerek leengedéséből és felszedéséből áll. Mindkettőnek eljön az idej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Minden kapcsolat történés, valahonnan valahová tart. Erre kell figyelni. Úton vagyunk-e még? Vagy már csak ismételjük magunkat? Mit „hoz ki” belőlünk az együttélés? Jót? Előre lépést, derűt, szabadságot, munkaképességet? Rosszat? Idegességet, beszűkülést, rosszkedvet? A kapcsolat változik, és benne változunk mi is. Előfordulhat, hogy az utak szétágaznak. Ha tartósan úgy érezzük, hogy már nincs dolgunk egymással, harag és gyűlölet nélkül is el lehet búcsúzni. Azonban sokszor a másikra haragszunk, mert nem olyan vagy nem vált olyanná, amilyennek elképzeltük. Pedig nem tehet arról, hogy nem vagyunk elég jó emberismerők, és olyat kértünk, amit nem tud megadni. Elmenni könnyen kell, ahogy a levél leválik a fáról. Elmenni egyszer szabad csak és véglegesen. Egy foghúzás rossz, de elviselhető. De ha mindennap húznának rajta egy keveset –azt nem lehet kibírni. Az ilyenfajta szétválásban tönkremegy két ember.</a:t>
            </a:r>
            <a:endParaRPr b="0" lang="en-US" sz="1200" spc="-1" strike="noStrike">
              <a:solidFill>
                <a:srgbClr val="000000"/>
              </a:solidFill>
              <a:latin typeface="Arial"/>
            </a:endParaRPr>
          </a:p>
        </p:txBody>
      </p:sp>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1835280" y="3068640"/>
            <a:ext cx="5473440" cy="295272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bbe0e3"/>
                </a:solidFill>
                <a:latin typeface="Arial"/>
              </a:rPr>
              <a:t>                          </a:t>
            </a:r>
            <a:r>
              <a:rPr b="1" lang="hu-HU" sz="1800" spc="-1" strike="noStrike">
                <a:solidFill>
                  <a:srgbClr val="bbe0e3"/>
                </a:solidFill>
                <a:latin typeface="Arial"/>
              </a:rPr>
              <a:t>A szép rögtön kell.</a:t>
            </a:r>
            <a:br>
              <a:rPr sz="1800"/>
            </a:br>
            <a:r>
              <a:rPr b="1" lang="hu-HU" sz="1800" spc="-1" strike="noStrike">
                <a:solidFill>
                  <a:srgbClr val="bbe0e3"/>
                </a:solidFill>
                <a:latin typeface="Arial"/>
              </a:rPr>
              <a:t>                    Az igazra alszunk egyet.</a:t>
            </a:r>
            <a:r>
              <a:rPr b="0" lang="hu-HU" sz="1800" spc="-1" strike="noStrike">
                <a:solidFill>
                  <a:srgbClr val="bbe0e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bbe0e3"/>
                </a:solidFill>
                <a:latin typeface="Arial"/>
              </a:rPr>
              <a:t>                   </a:t>
            </a:r>
            <a:r>
              <a:rPr b="0" lang="hu-HU" sz="1800" spc="-1" strike="noStrike">
                <a:solidFill>
                  <a:srgbClr val="bbe0e3"/>
                </a:solidFill>
                <a:latin typeface="Arial"/>
              </a:rPr>
              <a:t>Szép napot kívánok nek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bbe0e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bbe0e3"/>
                </a:solidFill>
                <a:latin typeface="Arial"/>
              </a:rPr>
              <a:t>A felvételek az Alcsútdobozi arborétumban készültek 2005-ben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bbe0e3"/>
                </a:solidFill>
                <a:latin typeface="Arial"/>
              </a:rPr>
              <a:t> </a:t>
            </a:r>
            <a:r>
              <a:rPr b="0" lang="hu-HU" sz="1800" spc="-1" strike="noStrike">
                <a:solidFill>
                  <a:srgbClr val="bbe0e3"/>
                </a:solidFill>
                <a:latin typeface="Arial"/>
              </a:rPr>
              <a:t>                                                 </a:t>
            </a:r>
            <a:r>
              <a:rPr b="0" lang="en-US" sz="800" spc="-1" strike="noStrike" u="sng">
                <a:solidFill>
                  <a:srgbClr val="009999"/>
                </a:solidFill>
                <a:uFillTx/>
                <a:latin typeface="Arial"/>
                <a:ea typeface="Arial"/>
                <a:hlinkClick r:id="rId2"/>
              </a:rPr>
              <a:t>©</a:t>
            </a:r>
            <a:r>
              <a:rPr b="0" lang="hu-HU" sz="800" spc="-1" strike="noStrike" u="sng">
                <a:solidFill>
                  <a:srgbClr val="009999"/>
                </a:solidFill>
                <a:uFillTx/>
                <a:latin typeface="Arial"/>
                <a:ea typeface="Arial"/>
                <a:hlinkClick r:id="rId3"/>
              </a:rPr>
              <a:t>Polczer</a:t>
            </a:r>
            <a:endParaRPr b="0" lang="en-US" sz="800" spc="-1" strike="noStrike">
              <a:solidFill>
                <a:srgbClr val="000000"/>
              </a:solidFill>
              <a:latin typeface="Arial"/>
            </a:endParaRPr>
          </a:p>
        </p:txBody>
      </p:sp>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0" y="-1440"/>
            <a:ext cx="9144000" cy="6859440"/>
          </a:xfrm>
          <a:prstGeom prst="rect">
            <a:avLst/>
          </a:prstGeom>
          <a:ln w="0">
            <a:noFill/>
          </a:ln>
        </p:spPr>
      </p:pic>
      <p:sp>
        <p:nvSpPr>
          <p:cNvPr id="48" name=""/>
          <p:cNvSpPr/>
          <p:nvPr/>
        </p:nvSpPr>
        <p:spPr>
          <a:xfrm>
            <a:off x="1908000" y="3429000"/>
            <a:ext cx="5543640" cy="184464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Semmilyen érzelem nem állandó hőfokú. Az érzelmek élnek, tehát természetes lüktetésük, apályuk és dagályuk v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Minden kapcsolatnak vannak felfelé ívelő és romló periódusai. A kapcsolat vállalása azt jelenti, hogy rossz szakaszaival együtt vállaljuk. Egy kapcsolat újra kiemelkedhet a hullámvölgyből, ha megértően segítünk. Ha sértődötten elvonulunk, akkor baj lehet. Az emberi viszonyok nem tenyésznek szabadon, mint a gaz, –gondoznunk, ápolnunk kell őket, mint a nemes növényeket.</a:t>
            </a:r>
            <a:endParaRPr b="0" lang="en-US" sz="1200" spc="-1" strike="noStrike">
              <a:solidFill>
                <a:srgbClr val="000000"/>
              </a:solidFill>
              <a:latin typeface="Arial"/>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835280" y="3068640"/>
            <a:ext cx="5543280" cy="295272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A mai ember egyre markánsabban: Én. Ezért alapvető történéseinket egyedül kell átélnünk. A vállalt magány minden valódi kapcsolat alapj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Pszichológiai szempontból az emberiség fejlődéstörténete a szuverén személyiség, az „Én” kifejlődésének útja. Felbomlottak a nagy vérségi, gazdasági, vallási közösségek, amelyek igazi feloldódást kínáltak. Életünk legfontosabb eseményeit egyedül éljük át, senki sem „léphet be személyiségünkbe”, hogy helyettünk éljen. Egyedül születünk, egyedül szenvedjük meg betegségeinket, félelmeinket, egyedül éljük át megismeréseinket, egyedül halunk meg. Ha ezt a magányt vállalni tudjuk, ha nem menekülünk hamis fanatizmusokba és más kábulatokba, akkor nem terheljük túl kapcsolatainkat azzal, hogy olyan megosztást követelünk, amit senki sem adhat meg. Ezzel az alapérzéssel tudunk igazán együtt élni valakivel. Mert segíteni sokat lehet egymásnak.</a:t>
            </a:r>
            <a:endParaRPr b="0" lang="en-US" sz="1200" spc="-1" strike="noStrike">
              <a:solidFill>
                <a:srgbClr val="000000"/>
              </a:solidFill>
              <a:latin typeface="Arial"/>
            </a:endParaRPr>
          </a:p>
        </p:txBody>
      </p:sp>
    </p:spTree>
  </p:cSld>
  <p:transition spd="slow">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0" y="0"/>
            <a:ext cx="9144000" cy="6834240"/>
          </a:xfrm>
          <a:prstGeom prst="rect">
            <a:avLst/>
          </a:prstGeom>
          <a:ln w="0">
            <a:noFill/>
          </a:ln>
        </p:spPr>
      </p:pic>
      <p:sp>
        <p:nvSpPr>
          <p:cNvPr id="54" name=""/>
          <p:cNvSpPr/>
          <p:nvPr/>
        </p:nvSpPr>
        <p:spPr>
          <a:xfrm>
            <a:off x="1835280" y="3429000"/>
            <a:ext cx="5543280" cy="259236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Az ember nem tulajdon. Az igazi kapcsolat két szabad ember társulásából keletkezi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Gondolati háttér: A birtoklás, a kizárólagosságra törekvés ősi ösztön. De boldogságot vagy szenvedést hoz-e nekünk és társunknak? S ha szenvedést, megalázottságot okoz, vajon szeretetből fakad-e? S ha nem szeretetből fakad, akkor van-e jogunk bármit is követelni a másiktól? Hiúságunk azt sugallja, hogy társunknak nem lehet öröme rajtunk kívül. De betölthetjük-e egy hosszú életen át egy másik ember létének horizontját? Az együttlétet éppúgy túl lehet adagolni, mint a gyógyszert: akkor már mérgez. Egy kapcsolat börtönné is válhat, telítődhet hazugsággal, lázadó fantáziákkal. Nemcsak társak vagyunk, hanem egy férfi és egy nő; saját életünk sokféle vetületével. Együtt élni csak belső szabadságban lehet.</a:t>
            </a:r>
            <a:endParaRPr b="0" lang="en-US" sz="1200" spc="-1" strike="noStrike">
              <a:solidFill>
                <a:srgbClr val="000000"/>
              </a:solidFill>
              <a:latin typeface="Arial"/>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tretch/>
        </p:blipFill>
        <p:spPr>
          <a:xfrm>
            <a:off x="0" y="0"/>
            <a:ext cx="9144000" cy="6834240"/>
          </a:xfrm>
          <a:prstGeom prst="rect">
            <a:avLst/>
          </a:prstGeom>
          <a:ln w="0">
            <a:noFill/>
          </a:ln>
        </p:spPr>
      </p:pic>
      <p:sp>
        <p:nvSpPr>
          <p:cNvPr id="57" name=""/>
          <p:cNvSpPr/>
          <p:nvPr/>
        </p:nvSpPr>
        <p:spPr>
          <a:xfrm>
            <a:off x="1835280" y="4076640"/>
            <a:ext cx="5543280" cy="194472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Az ember oszthatatlan teljesség. Csak az egész embert lehet elfogadni vagy elutasítan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Az emberi kapcsolatok, kötések mindig az egész embernek szólnak. Egy embert szeretünk vagy utálunk a maga teljességében. Nem bonthatjuk fel tulajdonságokra, nem mondhatjuk, hogy vállaljuk belőle azt, ami kellemes számunkra, elutasítjuk, ami zavaró és bosszantó. Nem „trancsírozhatunk” szét egy embert különböző sajátosságai szerint. Egyetlen kérdés létezik csak: Úgy, ahogy van, és ha ilyen marad, kell-e nekem?</a:t>
            </a:r>
            <a:endParaRPr b="0" lang="en-US" sz="1200" spc="-1" strike="noStrike">
              <a:solidFill>
                <a:srgbClr val="000000"/>
              </a:solidFill>
              <a:latin typeface="Arial"/>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1835280" y="3500280"/>
            <a:ext cx="5543280" cy="252108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Minden emberi kapcsolat az adás és az elfogadás képességén alapul. Addig él, amíg öröm adni és elfogadni.”</a:t>
            </a:r>
            <a:r>
              <a:rPr b="0" lang="en-US" sz="1200" spc="-1" strike="noStrike">
                <a:solidFill>
                  <a:srgbClr val="bbe0e3"/>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Az emberi kapcsolatok alapkérdése: Milyen igényeket elégít ki? Újra meg újra adunk és elfogadunk: gondolatokat, érzelmeket, életformát, biztonságot, szexuális örömöket. Krízis akkor keletkezik, ha már nem tudunk örömmel megadni és elfogadni –egymásnak és egymástól – mindazt, ami életünk egyensúlya szempontjából lényeges. Amíg igazán adni tudunk, nem érezzük áldozatnak, mert öröm számunkra a másik öröme. Amíg adni tudunk, tudunk elfogadni is. Az áldozathozatal érzése, a mérlegelés: ki jár jobban?; az elfogadást megakadályozó félelem vagy gőg; -ezek jelzik és egyben okozzák egy kapcsolat válságát, az összetartozás érzésének apályát</a:t>
            </a:r>
            <a:endParaRPr b="0" lang="en-US" sz="1200" spc="-1" strike="noStrike">
              <a:solidFill>
                <a:srgbClr val="000000"/>
              </a:solidFill>
              <a:latin typeface="Arial"/>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1835280" y="3357720"/>
            <a:ext cx="5543280" cy="266364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Az felnőtt ember, aki el tudja viselni érzelmeinek sokféleségét és ellentmondása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Az ember része a világnak, az egyetemes törvények rá is vonatkoznak. Az emberi pszichikum is alapvető mozgatóereje az ellentétek egysége és harca. Ennek konkrét megnyilvánulási formája, hogy lelkünkben ellentétes vágyak és igények, ellentétes érzelmek, ösztönök, ellentétes vélekedések élnek együtt. Biztonságot is akarunk, de a kaland szabadságát is. Őrizzük megszokott útjainkat, és változtatni is akarunk. Szeretünk valakit, de néha unjuk, vagy utáljuk; esetleg másvalakit is szeretünk. Mindezt bűntudat nélkül el kellene vállalni magunkban, és sértődés nélkül el kellene fogadni másoktól. A dolgunk nem az, hogy elhazudjuk, hanem hogy egyensúlyban tartsuk belső ellentmondásainkat.</a:t>
            </a:r>
            <a:endParaRPr b="0" lang="en-US" sz="1200" spc="-1" strike="noStrike">
              <a:solidFill>
                <a:srgbClr val="000000"/>
              </a:solidFill>
              <a:latin typeface="Arial"/>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1835280" y="3500280"/>
            <a:ext cx="5543280" cy="252108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bbe0e3"/>
                </a:solidFill>
                <a:latin typeface="Arial"/>
              </a:rPr>
              <a:t>„</a:t>
            </a:r>
            <a:r>
              <a:rPr b="1" lang="hu-HU" sz="1200" spc="-1" strike="noStrike">
                <a:solidFill>
                  <a:srgbClr val="bbe0e3"/>
                </a:solidFill>
                <a:latin typeface="Arial"/>
              </a:rPr>
              <a:t>Sötétben és hidegben nem lehet élni. Meg kell őriznünk önmagunk és kapcsolataink fényét, melegét.”</a:t>
            </a:r>
            <a:r>
              <a:rPr b="0" lang="hu-HU" sz="1200" spc="-1" strike="noStrike">
                <a:solidFill>
                  <a:srgbClr val="bbe0e3"/>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bbe0e3"/>
                </a:solidFill>
                <a:latin typeface="Arial"/>
              </a:rPr>
              <a:t> </a:t>
            </a:r>
            <a:r>
              <a:rPr b="0" lang="hu-HU" sz="1200" spc="-1" strike="noStrike">
                <a:solidFill>
                  <a:srgbClr val="bbe0e3"/>
                </a:solidFill>
                <a:latin typeface="Arial"/>
              </a:rPr>
              <a:t>Minden fényforrás és melegség kialszik, kihűl, ha nem kap fűtőanyagot, táplálékot. A kapcsolatok fűtőanyaga a törődés. Két ember együttélését legjobban a megszokás, a mindennapok elszürkülése veszélyezteti. Egy tartós együttélésben is joga van mindenkinek ahhoz a gyengédséghez, csábításhoz, törődéshez, azokhoz a hangulatokhoz, amelyek az udvarlás idején természetesek voltak. Enélkül minden kapcsolat elsötétedik és kihűl. Az ok legtöbbször nem is a szeretetlenség, hanem csak a kényelmesség és a lustaság. Túl nagy árat kell fizetni érte. Az ember is – mint a növény – arrafelé fordul, ahonnét fény és melegség sugárzik rá.</a:t>
            </a:r>
            <a:endParaRPr b="0" lang="en-US" sz="1200" spc="-1" strike="noStrike">
              <a:solidFill>
                <a:srgbClr val="000000"/>
              </a:solidFill>
              <a:latin typeface="Arial"/>
            </a:endParaRPr>
          </a:p>
        </p:txBody>
      </p:sp>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1835280" y="3716280"/>
            <a:ext cx="5543280" cy="230508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Egy emberért mindent vállalni kell. Egy helyzetért nem.”</a:t>
            </a:r>
            <a:r>
              <a:rPr b="0" lang="en-US" sz="1200" spc="-1" strike="noStrike">
                <a:solidFill>
                  <a:srgbClr val="bbe0e3"/>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Amíg számunkra egy ember fontos –addig mindent vállalnunk kell érte, és megéri. Ez igazi vállalás. Amikor nem az ember a fontos, hanem a helyzet megtartása: a lakás, a szociális és anyagi biztonság, a látszat a környezet véleménye –akkor már megalkuvásról van szó. Ez is elvállalható, de csak őszintén, legalább önmagunk előtt. Ne csapjuk be magunkat ürügyekkel; a gyerek érdekével. Erkölcsi aggályokkal, a kímélettel. Gyávaságunk az újrakezdésre, félelmünk a változásoktól és az egyedül maradástól, nehézzé teheti az együttélést, de fenntarthatja. Azonban hazugságra nem lehet alapozni tisztességes kapcsolatot; biztosan összeomlik.</a:t>
            </a:r>
            <a:endParaRPr b="0" lang="en-US" sz="1200" spc="-1" strike="noStrike">
              <a:solidFill>
                <a:srgbClr val="000000"/>
              </a:solidFill>
              <a:latin typeface="Arial"/>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6T14:44:03Z</dcterms:created>
  <dc:creator>JOCI</dc:creator>
  <dc:description/>
  <dc:language>en-US</dc:language>
  <cp:lastModifiedBy>JOCI</cp:lastModifiedBy>
  <dcterms:modified xsi:type="dcterms:W3CDTF">2006-08-06T17:11:41Z</dcterms:modified>
  <cp:revision>5</cp:revision>
  <dc:subject/>
  <dc:title>1. dia</dc:title>
</cp:coreProperties>
</file>