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6DA-6D5D-4B80-A7FA-03EDDD34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541-43A8-487A-84CD-34633E20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B76-5132-4FA3-A950-A62906D4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2E7-094B-4795-A2FA-CE14C973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327-7176-43B6-8479-B559976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C2D-9473-4CB3-AC37-042C21E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613-3363-447B-A63B-30EDF6BA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138-CF55-4A98-BE5D-C969ADB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58A-A735-4A3C-9C21-C0D9E95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1DE-D391-43EB-9CE0-86ACCC6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808-8CDB-44B5-9081-10DC1A0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A40-EFD9-4E93-B30B-70E5B52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04FC-AD48-4ABB-9CD5-3F96E8162C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Verdana"/>
              </a:rPr>
              <a:t>Valami aggaszt, vagy idegesí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4600" y="5229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Verdana"/>
              </a:rPr>
              <a:t>oldal váltás kattintás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És ha minden kedvező körülmény ellenére újabb aggályokba lovallod be magad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495680"/>
            <a:ext cx="313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837720"/>
            <a:ext cx="619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Nézz magad körül és adj hálát az égnek mindazokért a kedvező  feltételekért, amiket rövid földi életedhez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kapt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Mondd ki alázatosan: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Köszönet neked Istenem, mindazért az áldásért, amiben részesítettél: Az egészségemért, a családtagjaimért, a munkámért, a barátaimért, és mindenért, aminek nem is vagyok tudatában, hogy az mennyire fontos az életemben, és nekem megadatott, de másoknak kevésbé, vagy egyáltalán n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Kérlek, segíts nekem abban, hogy eljuttathassam ajándékaidat azoknak, akik nélkülöznek.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Emlékeztesd magad arra, hogy kevesebbet kérjél magadnak, de annál többet másoknak.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Ha mindenki ezt teszi, senki, semmiben nem fog hiányt szenvedni.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0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84720" y="476280"/>
            <a:ext cx="3959280" cy="16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Fáraszt a tanulás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24280"/>
            <a:ext cx="3635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ket nem kevésbé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48000" y="2533680"/>
            <a:ext cx="57960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360" y="404640"/>
            <a:ext cx="47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m szereted a zöldsége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76920"/>
            <a:ext cx="334800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k nem kaptak választási lehetőséget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8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13360"/>
            <a:ext cx="41403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Mindig ellenőrzik a testsúlyoda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501336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Az övét is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252360" y="4869000"/>
            <a:ext cx="5003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Idegesít a szüleid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túlzott gyámkodása feletted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ki nincsenek szülei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1497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Unod, hogy mindig ugyanazt a játékot kell játszano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5877000"/>
            <a:ext cx="450072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ki sincs sok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1960" y="2859120"/>
            <a:ext cx="3147840" cy="303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Adidast kaptál, amikor Nike-it szerettél volna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 csak ilyen márkát tud horda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708360" y="2865600"/>
            <a:ext cx="5435640" cy="39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59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Zavar, hogy megint aludni kell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252360" y="4149720"/>
            <a:ext cx="4211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 viszont felkelni nem bír!</a:t>
            </a: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 nyavalyogj már annyit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15336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22:36:52Z</dcterms:created>
  <dc:creator>Az élet</dc:creator>
  <dc:description/>
  <dc:language>en-US</dc:language>
  <cp:lastModifiedBy>JOCI</cp:lastModifiedBy>
  <dcterms:modified xsi:type="dcterms:W3CDTF">2006-09-28T17:58:06Z</dcterms:modified>
  <cp:revision>19</cp:revision>
  <dc:subject/>
  <dc:title>Valami aggaszt vagy idegesít?</dc:title>
</cp:coreProperties>
</file>