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B13-E2BD-4E61-AFAD-D73E3D0C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B66-B1BB-417F-AF52-360D812B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ED4-4809-42A5-8253-07867699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B97-5D5B-4927-8461-C83ED2C7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873-DDEE-4D3A-8DE6-22EDEFB4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A2D-94EC-4871-942F-B665B52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E60-B538-4B6A-B3F8-38FE0CC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A81-304A-4C9D-8F29-5345F14D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94E-C4D8-468E-BA7B-D8A2DA61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1D4-1BA6-4193-B3A1-7607F67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E96-1171-4FD3-9AC2-5A073A0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990-4ADE-4FE3-8483-11BFE0D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85D-0C5A-4EC4-8FB0-DFF22988CB9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1640" y="1125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Verdana"/>
              </a:rPr>
              <a:t>Valami aggaszt, vagy idegesít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4600" y="5229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00"/>
                </a:solidFill>
                <a:latin typeface="Verdana"/>
              </a:rPr>
              <a:t>oldal váltás kattintás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És ha minden kedvező körülmény ellenére újabb aggályokba lovallod be magad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495680"/>
            <a:ext cx="313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837720"/>
            <a:ext cx="619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Nézz magad körül és adj hálát az égnek mindazokért a kedvező  feltételekért, amiket rövid földi életedhez</a:t>
            </a: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kaptá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3200"/>
            </a:b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Mondd ki alázatosan:</a:t>
            </a:r>
            <a:r>
              <a:rPr b="0" lang="pt-B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Köszönet neked Istenem, mindazért az áldásért, amiben részesítettél: Az egészségemért, a családtagjaimért, a munkámért, a barátaimért, és mindenért, aminek nem is vagyok tudatában, hogy az mennyire fontos az életemben, és nekem megadatott, de másoknak kevésbé, vagy egyáltalán n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hu-HU" sz="2800" spc="-1" strike="noStrike">
                <a:solidFill>
                  <a:srgbClr val="ffff00"/>
                </a:solidFill>
                <a:latin typeface="Verdana"/>
              </a:rPr>
              <a:t>Kérlek, segíts nekem abban, hogy eljuttathassam ajándékaidat azoknak, akik nélkülöznek.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Emlékeztesd magad arra, hogy kevesebbet kérjél magadnak, de annál többet másoknak.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Ha mindenki ezt teszi, senki, semmiben nem fog hiányt szenvedni.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4000"/>
            </a:b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84720" y="476280"/>
            <a:ext cx="3959280" cy="16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Fáraszt a tanulás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724280"/>
            <a:ext cx="3635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ket nem kevésbé</a:t>
            </a:r>
            <a:r>
              <a:rPr b="0" lang="es-MX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48000" y="2533680"/>
            <a:ext cx="57960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40360" y="404640"/>
            <a:ext cx="4751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m szereted a zöldsége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876920"/>
            <a:ext cx="3348000" cy="153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k nem kaptak választási lehetőséget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084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5013360"/>
            <a:ext cx="41403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Mindig ellenőrzik a testsúlyoda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3280" y="501336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Az övét is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252360" y="4869000"/>
            <a:ext cx="5003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Idegesít a szüleid </a:t>
            </a:r>
            <a:br>
              <a:rPr sz="3200"/>
            </a:b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túlzott gyámkodása feletted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ki nincsenek szülei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5805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414972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Unod, hogy mindig ugyanazt a játékot kell játszanod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5877000"/>
            <a:ext cx="4500720" cy="98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ki sincs sok</a:t>
            </a:r>
            <a:r>
              <a:rPr b="0" lang="es-ES" sz="3200" spc="-1" strike="noStrike">
                <a:solidFill>
                  <a:srgbClr val="ffff00"/>
                </a:solidFill>
                <a:latin typeface="Verdana"/>
              </a:rPr>
              <a:t>!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1960" y="2859120"/>
            <a:ext cx="3147840" cy="3030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Adidast kaptál, amikor Nike-it szerettél volna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 csak ilyen márkát tud horda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708360" y="2865600"/>
            <a:ext cx="5435640" cy="39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59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Zavar, hogy megint aludni kell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...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252360" y="4149720"/>
            <a:ext cx="4211640" cy="22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Ő viszont felkelni nem bír!</a:t>
            </a:r>
            <a:r>
              <a:rPr b="1" lang="hu-H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00"/>
                </a:solidFill>
                <a:latin typeface="Verdana"/>
              </a:rPr>
              <a:t>Ne nyavalyogj már annyit</a:t>
            </a:r>
            <a:r>
              <a:rPr b="0" lang="pt-BR" sz="3200" spc="-1" strike="noStrike">
                <a:solidFill>
                  <a:srgbClr val="ffff00"/>
                </a:solidFill>
                <a:latin typeface="Verdana"/>
              </a:rPr>
              <a:t>...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1533600"/>
            <a:ext cx="7632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22:36:52Z</dcterms:created>
  <dc:creator>Az élet</dc:creator>
  <dc:description/>
  <dc:language>en-US</dc:language>
  <cp:lastModifiedBy>JOCI</cp:lastModifiedBy>
  <dcterms:modified xsi:type="dcterms:W3CDTF">2006-09-28T17:58:06Z</dcterms:modified>
  <cp:revision>19</cp:revision>
  <dc:subject/>
  <dc:title>Valami aggaszt vagy idegesít?</dc:title>
</cp:coreProperties>
</file>