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30.jpeg" ContentType="image/jpeg"/>
  <Override PartName="/ppt/media/image33.jpeg" ContentType="image/jpeg"/>
  <Override PartName="/ppt/media/drumroll.wav" ContentType="audio/x-wav"/>
  <Override PartName="/ppt/media/image3.jpeg" ContentType="image/jpeg"/>
  <Override PartName="/ppt/media/image24.jpeg" ContentType="image/jpeg"/>
  <Override PartName="/ppt/media/image31.png" ContentType="image/png"/>
  <Override PartName="/ppt/media/image4.jpeg" ContentType="image/jpeg"/>
  <Override PartName="/ppt/media/image25.jpeg" ContentType="image/jpeg"/>
  <Override PartName="/ppt/media/image23.jpeg" ContentType="image/jpeg"/>
  <Override PartName="/ppt/media/image11.jpeg" ContentType="image/jpeg"/>
  <Override PartName="/ppt/media/image1.gif" ContentType="image/gif"/>
  <Override PartName="/ppt/media/image12.jpeg" ContentType="image/jpeg"/>
  <Override PartName="/ppt/media/image13.jpeg" ContentType="image/jpeg"/>
  <Override PartName="/ppt/media/image14.jpeg" ContentType="image/jpeg"/>
  <Override PartName="/ppt/media/Smoke%20show.wav" ContentType="audio/x-wav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146-B7D7-4921-A77F-76F56589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D20F-9E70-4F44-BC32-A99E21AF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5EDC-7ADA-4DEE-8D46-C5DB0F53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04EE-20C6-4ACF-9F17-E6D84A06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7320-34DC-41C9-A284-D29A5C44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EAF1-F8B7-4843-83F2-224CDBE7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43F4-7B81-4B5E-978A-D36A0DAF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AF9F-97FD-456D-BF18-5651F591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7DAD-67AB-438B-8D8A-01101061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286-2E11-438E-B1F5-4E9FC8B9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5B01-4733-4C41-A9AB-B236A551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2689-FCB8-4657-B844-755571DC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ABFD-51A4-4FE9-9188-D33925489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Smoke%20show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24080" y="4114800"/>
            <a:ext cx="524160" cy="80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4365720"/>
            <a:ext cx="305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Verdana"/>
              </a:rPr>
              <a:t>Az oldal váltás automatik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16200000">
            <a:off x="7646040" y="125640"/>
            <a:ext cx="116676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5400000">
            <a:off x="330840" y="5383800"/>
            <a:ext cx="116676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268360" y="476280"/>
            <a:ext cx="4707000" cy="3522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491440" y="481644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ngszóró be kapc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640" y="15840"/>
            <a:ext cx="67053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659640" y="306864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Erre van szükségem, hogy boldog lehesse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74320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1989000"/>
            <a:ext cx="28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Isten így szólt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Az angyalod minden nap fog énekelni neked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És érezni fogod az angyalod szeretetét, és boldog leszel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920" y="6237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És, mondta a gyerme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4000" y="2421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hogyan fogom megérteni az embereket, ha nem értem a nyelvüket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284720" y="33336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Az könnyű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", 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mondta Is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Az angyalod meg fogja tanítani neked a legszebb és legédesebb szavakat, amiket valaha is hallani fogsz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012000" y="2708280"/>
            <a:ext cx="22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és az angyalod türelemmel és gondossággal meg fog tanítani beszélni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6696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270828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A gyermek felnézett Istenre, és így szólt:</a:t>
            </a:r>
            <a:r>
              <a:rPr b="1" lang="en-US" sz="18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866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77080" y="2565360"/>
            <a:ext cx="22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És mit fogok tenni, ha veled akarok beszélni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285264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Isten rámosolygott a gyermekre, és azt mondta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724360" y="1916280"/>
            <a:ext cx="34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az angyalod össze fogja tenni a kezeidet és megtanít imádkozni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16360" y="152280"/>
            <a:ext cx="6019560" cy="6705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3284640"/>
            <a:ext cx="26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640" y="1828800"/>
            <a:ext cx="26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Verdana"/>
              </a:rPr>
              <a:t>Kis Angyalk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635280" y="465300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A gyermek azt mondta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„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Úgy hallottam, a földön rossz emberek vanna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22100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Ki fog engem megvédeni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32000" y="573408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Az Isten megölelte a gyermeket, és azt mondta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3818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4360" y="558972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az angyalod óvni fog téged, akkor is, ha ez az élete kockáztatásával já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4582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55640" y="4437000"/>
            <a:ext cx="266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A gyermek szomorúan nézett, és így szólt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„</a:t>
            </a: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De mindig szomorú leszek, mert nem láthatlak téged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716256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335772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Isten megölelte a gyermeket</a:t>
            </a:r>
            <a:r>
              <a:rPr b="1" lang="en-US" sz="1800" spc="-1" strike="noStrike">
                <a:solidFill>
                  <a:srgbClr val="f5b23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940360" y="2349360"/>
            <a:ext cx="320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Az angyalod mindig beszélni fog neked rólam,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és meg fogja mutatni, hogy hogyan juthatsz vissza hozzá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habár én mindig melletted lesze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63528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3141720"/>
            <a:ext cx="36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Ekkor nagy békesség volt a Mennyben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de már hallani lehetett a földi hangokat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00400" y="38160"/>
            <a:ext cx="5943600" cy="6819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68360" y="314172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A gyermek sietve megkérdezte: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629080" y="152280"/>
            <a:ext cx="6376680" cy="6597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2492280"/>
            <a:ext cx="3276720" cy="119124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Istenem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ha most mennem kell, kérlek áruld el nekem az angyalom nevét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!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5640" y="1484280"/>
            <a:ext cx="17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Verdana"/>
              </a:rPr>
              <a:t>Egyszer volt, hol nem volt, egy gyermek megszületni készült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8944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651640" y="2584440"/>
            <a:ext cx="34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Isten így válaszolt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Az angyalod neve nem fonto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Egyszerűen csak így fogod hív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69608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30320" y="562464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1" i="1" lang="hu-HU" sz="3200" spc="-1" strike="noStrike">
                <a:solidFill>
                  <a:srgbClr val="000000"/>
                </a:solidFill>
                <a:latin typeface="Verdana"/>
              </a:rPr>
              <a:t>ANYUCI”</a:t>
            </a: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00400" y="259092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600" spc="-1" strike="noStrike">
                <a:solidFill>
                  <a:srgbClr val="000000"/>
                </a:solidFill>
                <a:latin typeface="Verdana"/>
              </a:rPr>
              <a:t>Vé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9280" y="1989000"/>
            <a:ext cx="1640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Egy napon a gyermek így szólt Istenhez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„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Azt beszélik, holnap leküldesz a földr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6192720" cy="6264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948360" y="2708280"/>
            <a:ext cx="182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de hogyan fogok ott élni, hiszen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olyan kicsi és védtelen vagyo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3840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08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2565360"/>
            <a:ext cx="220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Isten azt válaszolta: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A sok angyal közül kiválasztottam egyet neked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12000" y="4869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Várni fog téged, és vigyázni fog rád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92360" y="5661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D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” 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mondta a gyerme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8000" y="549360"/>
            <a:ext cx="6696360" cy="5702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1280" y="112536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itt a Mennyországban nem csinálok mást, csak énekelek és mosolygok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”</a:t>
            </a:r>
            <a:r>
              <a:rPr b="1" lang="en-US" sz="1800" spc="-1" strike="noStrike">
                <a:solidFill>
                  <a:srgbClr val="b06f0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06:14:12Z</dcterms:created>
  <dc:creator>Kis angyalkák</dc:creator>
  <dc:description/>
  <dc:language>en-US</dc:language>
  <cp:lastModifiedBy>JOCI</cp:lastModifiedBy>
  <dcterms:modified xsi:type="dcterms:W3CDTF">2006-09-27T14:14:00Z</dcterms:modified>
  <cp:revision>19</cp:revision>
  <dc:subject/>
  <dc:title>Kis angyalkák</dc:title>
</cp:coreProperties>
</file>