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30.jpeg" ContentType="image/jpeg"/>
  <Override PartName="/ppt/media/image33.jpeg" ContentType="image/jpeg"/>
  <Override PartName="/ppt/media/drumroll.wav" ContentType="audio/x-wav"/>
  <Override PartName="/ppt/media/image3.jpeg" ContentType="image/jpeg"/>
  <Override PartName="/ppt/media/image24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12.jpeg" ContentType="image/jpeg"/>
  <Override PartName="/ppt/media/image13.jpeg" ContentType="image/jpeg"/>
  <Override PartName="/ppt/media/image14.jpeg" ContentType="image/jpeg"/>
  <Override PartName="/ppt/media/Smoke%20show.wav" ContentType="audio/x-wav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2E3-A4B2-4303-8963-0DE9DB26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B23-CA9C-449A-8547-F194AE1A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28C-3191-4C33-ABE3-93FD6E5B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C019-E88C-47B1-9545-641DD72B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69A-F7F0-4F24-99F5-3B6C399B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846-C4D7-4C0A-9680-37CDEE1F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0C34-BF0A-4D9C-B5F8-BF91A4F7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CB17-1CF3-4E9E-9EF9-323E026F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1684-5494-4442-8948-B373CAFE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744-4DAD-4BCE-B867-0DA3A4C7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AEDB-A2A4-4747-8CC9-0E0DA718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C8B-5574-4345-94D7-06331B44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E862-BCF2-4DA6-8BE0-3DCE7FB8B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Smoke%20show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24080" y="4114800"/>
            <a:ext cx="524160" cy="8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4365720"/>
            <a:ext cx="30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Verdana"/>
              </a:rPr>
              <a:t>Az oldal váltás automatik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6200000">
            <a:off x="7646040" y="125640"/>
            <a:ext cx="116676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5400000">
            <a:off x="330840" y="5383800"/>
            <a:ext cx="116676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268360" y="476280"/>
            <a:ext cx="4707000" cy="3522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491440" y="48164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ngszóró be kap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40" y="15840"/>
            <a:ext cx="67053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659640" y="306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Erre van szükségem, hogy boldog lehesse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1989000"/>
            <a:ext cx="28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Isten így szólt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z angyalod minden nap fog énekelni neked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És érezni fogod az angyalod szeretetét, és boldog leszel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6237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És, mondta a gyerme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4000" y="2421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hogyan fogom megérteni az embereket, ha nem értem a nyelvüket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284720" y="3333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Az könnyű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",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mondta Is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Az angyalod meg fogja tanítani neked a legszebb és legédesebb szavakat, amiket valaha is hallani fogsz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12000" y="270828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és az angyalod türelemmel és gondossággal meg fog tanítani beszélni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6696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270828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 gyermek felnézett Istenre, és így szólt:</a:t>
            </a: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866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77080" y="2565360"/>
            <a:ext cx="22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És mit fogok tenni, ha veled akarok beszélni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285264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Isten rámosolygott a gyermekre, és azt mondta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24360" y="1916280"/>
            <a:ext cx="34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z angyalod össze fogja tenni a kezeidet és megtanít imádkozni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16360" y="152280"/>
            <a:ext cx="6019560" cy="6705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3284640"/>
            <a:ext cx="26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640" y="1828800"/>
            <a:ext cx="26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Verdana"/>
              </a:rPr>
              <a:t>Kis Angyalk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635280" y="465300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 gyermek azt mondta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Úgy hallottam, a földön rossz emberek vanna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22100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Ki fog engem megvédeni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32000" y="573408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z Isten megölelte a gyermeket, és azt mondta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3818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4360" y="558972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z angyalod óvni fog téged, akkor is, ha ez az élete kockáztatásával já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55640" y="4437000"/>
            <a:ext cx="266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A gyermek szomorúan nézett, és így szólt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„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De mindig szomorú leszek, mert nem láthatlak téged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716256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335772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Isten megölelte a gyermeket</a:t>
            </a:r>
            <a:r>
              <a:rPr b="1" lang="en-US" sz="1800" spc="-1" strike="noStrike">
                <a:solidFill>
                  <a:srgbClr val="f5b23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940360" y="2349360"/>
            <a:ext cx="32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z angyalod mindig beszélni fog neked rólam,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és meg fogja mutatni, hogy hogyan juthatsz vissza hozzá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habár én mindig melletted lesze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635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3141720"/>
            <a:ext cx="36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Ekkor nagy békesség volt a Mennybe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de már hallani lehetett a földi hangokat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00400" y="38160"/>
            <a:ext cx="5943600" cy="6819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8360" y="314172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 gyermek sietve megkérdezte: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629080" y="152280"/>
            <a:ext cx="6376680" cy="6597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492280"/>
            <a:ext cx="3276720" cy="119124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Istene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ha most mennem kell, kérlek áruld el nekem az angyalom nevét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5640" y="1484280"/>
            <a:ext cx="17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Egyszer volt, hol nem volt, egy gyermek megszületni készült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8944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651640" y="2584440"/>
            <a:ext cx="34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Isten így válaszolt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z angyalod neve nem fonto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Egyszerűen csak így fogod hív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960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30320" y="562464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i="1" lang="hu-HU" sz="3200" spc="-1" strike="noStrike">
                <a:solidFill>
                  <a:srgbClr val="000000"/>
                </a:solidFill>
                <a:latin typeface="Verdana"/>
              </a:rPr>
              <a:t>ANYUCI”</a:t>
            </a: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00400" y="259092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600" spc="-1" strike="noStrike">
                <a:solidFill>
                  <a:srgbClr val="000000"/>
                </a:solidFill>
                <a:latin typeface="Verdana"/>
              </a:rPr>
              <a:t>Vé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1989000"/>
            <a:ext cx="1640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Egy napon a gyermek így szólt Istenhez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zt beszélik, holnap leküldesz a földr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6192720" cy="6264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48360" y="2708280"/>
            <a:ext cx="182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de hogyan fogok ott élni, hisze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olyan kicsi és védtelen vagyo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3840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08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565360"/>
            <a:ext cx="220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Isten azt válaszolta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 sok angyal közül kiválasztottam egyet neked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12000" y="486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Várni fog téged, és vigyázni fog rád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92360" y="5661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D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” 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mondta a gyerme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6696360" cy="5702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1280" y="112536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itt a Mennyországban nem csinálok mást, csak énekelek és mosolygo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”</a:t>
            </a:r>
            <a:r>
              <a:rPr b="1" lang="en-US" sz="1800" spc="-1" strike="noStrike">
                <a:solidFill>
                  <a:srgbClr val="b06f0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06:14:12Z</dcterms:created>
  <dc:creator>Kis angyalkák</dc:creator>
  <dc:description/>
  <dc:language>en-US</dc:language>
  <cp:lastModifiedBy>JOCI</cp:lastModifiedBy>
  <dcterms:modified xsi:type="dcterms:W3CDTF">2006-09-27T14:14:00Z</dcterms:modified>
  <cp:revision>19</cp:revision>
  <dc:subject/>
  <dc:title>Kis angyalkák</dc:title>
</cp:coreProperties>
</file>