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ARPEGIO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1C78C-994E-48B5-9B9A-73BCE995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A1A25-A614-4135-9EB2-81FD2993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9FF72-4202-4A63-8E1B-D0F60C8E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72B12-1BA7-43F7-8A67-806E80F6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8DA6-5DD4-480D-AFA7-C91FEE34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5399-D60C-4771-9415-633BE3DE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801E-0043-45E9-812B-C978836B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C94B-E346-46A1-B32B-BA171EFE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1BC4-7B49-4F1B-AA0B-A9D8FF27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7B96-1E4B-441B-8DE3-E9B14B3C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4B07-A2AE-4597-80BC-9C19C359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61CA2-AAEE-48E5-B1A2-D5A9A529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1BDF-E10F-413D-BDF8-6C622072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2B9A-BC9F-4DF1-B97B-E0668CF2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7536-2E1A-43B1-81A2-6B9CDA5F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C209-621A-457F-AB37-341399DF0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6F5C-6F20-46C0-AC2D-9669BB90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F5C67-54E5-4A32-8408-3C1D7E8E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42145-7A1E-4816-B243-6D23ABE8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A4AAE-F073-4A52-B0A0-5FEA8058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90BD0-2CE9-4585-9DAA-08720D72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8216F-3ECE-4CBA-909F-109126B0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C7F89-8A7B-43E4-A034-75056343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9682B-37A6-4F43-AA0B-2371C213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0111-036F-4778-892A-38E9182A440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5562360" y="5181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ww.tonteria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2DB0-F3D4-4A65-9834-B3C1A3BE3D8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audio" Target="../media/ARPEGIO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PEGIO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PEGIO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audio" Target="../media/ARPEGIO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audio" Target="../media/ARPEGIO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PEGIO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PEGIO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PEGIO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audio" Target="../media/ARPEGIO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audio" Target="../media/ARPEGIO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audio" Target="../media/ARPEGIO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5335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800" spc="-1" strike="noStrike">
                <a:solidFill>
                  <a:srgbClr val="ffffcc"/>
                </a:solidFill>
                <a:latin typeface="Verdana"/>
              </a:rPr>
              <a:t>A négy gyerty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838080" y="320040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26387" t="0" r="25804" b="0"/>
          <a:stretch/>
        </p:blipFill>
        <p:spPr>
          <a:xfrm>
            <a:off x="2819520" y="2590920"/>
            <a:ext cx="1600200" cy="3276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rcRect l="26387" t="0" r="25804" b="0"/>
          <a:stretch/>
        </p:blipFill>
        <p:spPr>
          <a:xfrm>
            <a:off x="4800600" y="198108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rcRect l="26387" t="0" r="25804" b="0"/>
          <a:stretch/>
        </p:blipFill>
        <p:spPr>
          <a:xfrm>
            <a:off x="6781680" y="1600200"/>
            <a:ext cx="1600200" cy="3276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74440" y="5846760"/>
            <a:ext cx="2989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ffffcc"/>
                </a:solidFill>
                <a:latin typeface="Verdana"/>
              </a:rPr>
              <a:t>Oldalváltás kattintás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5" name="ARPEGI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1125360"/>
            <a:ext cx="3733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>
                <a:solidFill>
                  <a:srgbClr val="ffffcc"/>
                </a:solidFill>
                <a:latin typeface="Verdana"/>
              </a:rPr>
              <a:t>Add, Urunk, hogy soha ki ne aludjon bennünk a remény…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4876920" y="762120"/>
            <a:ext cx="3504960" cy="5333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ARPEGIO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0880" y="685800"/>
            <a:ext cx="4800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ffcc"/>
                </a:solidFill>
                <a:latin typeface="Verdana"/>
              </a:rPr>
              <a:t>Hadd legyünk eszköz a kezedben, amely segít megőrizni gyermekeink szívében a hit, remény, szeretet és béke lángját</a:t>
            </a:r>
            <a:r>
              <a:rPr b="1" i="1" lang="pt-BR" sz="3600" spc="-1" strike="noStrike">
                <a:solidFill>
                  <a:srgbClr val="ffffcc"/>
                </a:solidFill>
                <a:latin typeface="Verdana"/>
              </a:rPr>
              <a:t>!!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ffcc"/>
                </a:solidFill>
                <a:latin typeface="Verdana"/>
              </a:rPr>
              <a:t>Ame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5105520" y="762120"/>
            <a:ext cx="3504960" cy="5333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ARPEGIO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44956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600" spc="-1" strike="noStrike">
                <a:solidFill>
                  <a:srgbClr val="ffffcc"/>
                </a:solidFill>
                <a:latin typeface="Verdana"/>
              </a:rPr>
              <a:t>Egyszer volt, hol nem volt, volt egyszer négy gyertya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1066680" y="1752480"/>
            <a:ext cx="743040" cy="1981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25804" t="0" r="26387" b="0"/>
          <a:stretch/>
        </p:blipFill>
        <p:spPr>
          <a:xfrm>
            <a:off x="3048120" y="1295280"/>
            <a:ext cx="742680" cy="1981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25804" t="0" r="26387" b="0"/>
          <a:stretch/>
        </p:blipFill>
        <p:spPr>
          <a:xfrm>
            <a:off x="4952880" y="762120"/>
            <a:ext cx="743040" cy="1981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rcRect l="25804" t="0" r="26387" b="0"/>
          <a:stretch/>
        </p:blipFill>
        <p:spPr>
          <a:xfrm>
            <a:off x="6934320" y="457200"/>
            <a:ext cx="742680" cy="1981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5" name="ARPEGIO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720880" y="3429000"/>
            <a:ext cx="642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600" spc="-1" strike="noStrike">
                <a:solidFill>
                  <a:srgbClr val="ffffcc"/>
                </a:solidFill>
                <a:latin typeface="Verdana"/>
              </a:rPr>
              <a:t>Olyan nagy volt a csend körülöttük, hogy tisztán lehetett érteni, amit egymással beszélgettek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609480" y="3886200"/>
            <a:ext cx="743040" cy="1981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rcRect l="25804" t="0" r="26387" b="0"/>
          <a:stretch/>
        </p:blipFill>
        <p:spPr>
          <a:xfrm>
            <a:off x="1523880" y="2438280"/>
            <a:ext cx="743040" cy="1981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rcRect l="25804" t="0" r="26387" b="0"/>
          <a:stretch/>
        </p:blipFill>
        <p:spPr>
          <a:xfrm>
            <a:off x="2514600" y="1295280"/>
            <a:ext cx="743040" cy="1981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rcRect l="25804" t="0" r="26387" b="0"/>
          <a:stretch/>
        </p:blipFill>
        <p:spPr>
          <a:xfrm>
            <a:off x="3429000" y="380880"/>
            <a:ext cx="743040" cy="1981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5" name="ARPEGIO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627280" y="457200"/>
            <a:ext cx="613584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Azt mondta az első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1" i="1" lang="hu-HU" sz="3600" spc="-1" strike="noStrike">
                <a:solidFill>
                  <a:srgbClr val="ffffcc"/>
                </a:solidFill>
                <a:latin typeface="Verdana"/>
              </a:rPr>
              <a:t>ÉN VAGYOK A BÉKE</a:t>
            </a:r>
            <a:r>
              <a:rPr b="1" i="1" lang="pt-BR" sz="3600" spc="-1" strike="noStrike">
                <a:solidFill>
                  <a:srgbClr val="ffffcc"/>
                </a:solidFill>
                <a:latin typeface="Verdana"/>
              </a:rPr>
              <a:t>!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De az emberek nem képesek életben tartani. Azt hiszem, el fogok aludni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Néhány pillanat múlva már csak egy vékonyan füstölgő kanóc emlékeztetett a hajdan fényesen tündöklő lángr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1523880" y="1371600"/>
            <a:ext cx="74304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ARPEGIO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411280" y="260280"/>
            <a:ext cx="6400800" cy="62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A második azt mondta</a:t>
            </a:r>
            <a:r>
              <a:rPr b="1" i="1" lang="pt-BR" sz="2800" spc="-1" strike="noStrike">
                <a:solidFill>
                  <a:srgbClr val="ffffcc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>
                <a:solidFill>
                  <a:srgbClr val="ffffcc"/>
                </a:solidFill>
                <a:latin typeface="Verdana"/>
              </a:rPr>
              <a:t>ÉN VAGYOK A HIT</a:t>
            </a:r>
            <a:r>
              <a:rPr b="1" i="1" lang="pt-BR" sz="4000" spc="-1" strike="noStrike">
                <a:solidFill>
                  <a:srgbClr val="ffffcc"/>
                </a:solidFill>
                <a:latin typeface="Verdana"/>
              </a:rPr>
              <a:t>!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Sajnos az emberek fölöslegesnek tartanak</a:t>
            </a:r>
            <a:r>
              <a:rPr b="1" i="1" lang="pt-BR" sz="2800" spc="-1" strike="noStrike">
                <a:solidFill>
                  <a:srgbClr val="ffffcc"/>
                </a:solidFill>
                <a:latin typeface="Verdana"/>
              </a:rPr>
              <a:t>.</a:t>
            </a: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 Nincs értelme tovább égnem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A következő pillanatban egy enyhe fuvallat kioltotta a lángot.</a:t>
            </a:r>
            <a:r>
              <a:rPr b="1" i="1" lang="pt-BR" sz="2800" spc="-1" strike="noStrike">
                <a:solidFill>
                  <a:srgbClr val="ffffcc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1295280" y="1295280"/>
            <a:ext cx="743040" cy="1981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ARPEGIO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299880"/>
            <a:ext cx="58676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cc"/>
                </a:solidFill>
                <a:latin typeface="Tahoma"/>
              </a:rPr>
              <a:t>Szomorúan így szólt a harmadik gyertya</a:t>
            </a:r>
            <a:r>
              <a:rPr b="1" i="1" lang="pt-BR" sz="28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cc"/>
                </a:solidFill>
                <a:latin typeface="Verdana"/>
              </a:rPr>
              <a:t>- </a:t>
            </a:r>
            <a:r>
              <a:rPr b="1" i="1" lang="hu-HU" sz="3600" spc="-1" strike="noStrike">
                <a:solidFill>
                  <a:srgbClr val="ffffcc"/>
                </a:solidFill>
                <a:latin typeface="Verdana"/>
              </a:rPr>
              <a:t>ÉN A SZERETET VAGYOK</a:t>
            </a:r>
            <a:r>
              <a:rPr b="1" i="1" lang="pt-BR" sz="3600" spc="-1" strike="noStrike">
                <a:solidFill>
                  <a:srgbClr val="ffffcc"/>
                </a:solidFill>
                <a:latin typeface="Verdana"/>
              </a:rPr>
              <a:t>!</a:t>
            </a:r>
            <a:r>
              <a:rPr b="1" i="1" lang="pt-BR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Nincs már erőm tovább égni</a:t>
            </a:r>
            <a:r>
              <a:rPr b="1" i="1" lang="pt-BR" sz="2800" spc="-1" strike="noStrike">
                <a:solidFill>
                  <a:srgbClr val="ffffcc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Az emberek nem törődnek velem, semmibe veszik, hogy milyen nagy szükségük van rám…</a:t>
            </a:r>
            <a:r>
              <a:rPr b="1" i="1" lang="pt-B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Ezzel ki is alud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6477120" y="1600200"/>
            <a:ext cx="742680" cy="1981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ARPEGIO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838080"/>
            <a:ext cx="449568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Hirtelen belépett egy gyermek</a:t>
            </a:r>
            <a:r>
              <a:rPr b="1" i="1" lang="pt-BR" sz="2800" spc="-1" strike="noStrike">
                <a:solidFill>
                  <a:srgbClr val="ffffcc"/>
                </a:solidFill>
                <a:latin typeface="Verdana"/>
              </a:rPr>
              <a:t>.</a:t>
            </a: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 Mikor meglátta a három kialudt gyertyát, felkiáltott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De hát mi történt</a:t>
            </a:r>
            <a:r>
              <a:rPr b="1" i="1" lang="pt-BR" sz="2800" spc="-1" strike="noStrike">
                <a:solidFill>
                  <a:srgbClr val="ffffcc"/>
                </a:solidFill>
                <a:latin typeface="Verdana"/>
              </a:rPr>
              <a:t>? </a:t>
            </a: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Hiszen nektek égnetek kéne mindörökké…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Elkeseredésében hirtelen sírva fakadt</a:t>
            </a:r>
            <a:r>
              <a:rPr b="1" i="1" lang="pt-BR" sz="28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8400960" y="1447920"/>
            <a:ext cx="743040" cy="1981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25804" t="61541" r="26387" b="0"/>
          <a:stretch/>
        </p:blipFill>
        <p:spPr>
          <a:xfrm>
            <a:off x="7772400" y="2819520"/>
            <a:ext cx="743040" cy="761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rcRect l="25804" t="61541" r="26387" b="0"/>
          <a:stretch/>
        </p:blipFill>
        <p:spPr>
          <a:xfrm>
            <a:off x="7010280" y="3200400"/>
            <a:ext cx="743040" cy="762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rcRect l="25804" t="61541" r="26387" b="0"/>
          <a:stretch/>
        </p:blipFill>
        <p:spPr>
          <a:xfrm>
            <a:off x="6172200" y="3657600"/>
            <a:ext cx="743040" cy="762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5" name="ARPEGIO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62120" y="1219320"/>
            <a:ext cx="449568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Ekkor megszólalt a negyedik gyertya</a:t>
            </a:r>
            <a:r>
              <a:rPr b="1" i="1" lang="pt-BR" sz="2800" spc="-1" strike="noStrike">
                <a:solidFill>
                  <a:srgbClr val="ffffcc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Ne félj! Amíg nekem van lángom</a:t>
            </a:r>
            <a:r>
              <a:rPr b="1" i="1" lang="pt-BR" sz="2800" spc="-1" strike="noStrike">
                <a:solidFill>
                  <a:srgbClr val="ffffcc"/>
                </a:solidFill>
                <a:latin typeface="Verdana"/>
              </a:rPr>
              <a:t>, </a:t>
            </a: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újra meg tudjuk gyújtani a többi gyertyát</a:t>
            </a:r>
            <a:r>
              <a:rPr b="1" i="1" lang="pt-BR" sz="28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hu-HU" sz="2800" spc="-1" strike="noStrike">
                <a:solidFill>
                  <a:srgbClr val="ffffcc"/>
                </a:solidFill>
                <a:latin typeface="Verdana"/>
              </a:rPr>
              <a:t>ÉN VAGYOK</a:t>
            </a:r>
            <a:r>
              <a:rPr b="1" i="1" lang="pt-BR" sz="2800" spc="-1" strike="noStrike">
                <a:solidFill>
                  <a:srgbClr val="ffffcc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ffcc"/>
                </a:solidFill>
                <a:latin typeface="Verdana"/>
              </a:rPr>
              <a:t>A REMÉNY</a:t>
            </a:r>
            <a:r>
              <a:rPr b="1" i="1" lang="pt-BR" sz="3600" spc="-1" strike="noStrike">
                <a:solidFill>
                  <a:srgbClr val="ffffcc"/>
                </a:solidFill>
                <a:latin typeface="Verdana"/>
              </a:rPr>
              <a:t>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25804" t="0" r="26387" b="0"/>
          <a:stretch/>
        </p:blipFill>
        <p:spPr>
          <a:xfrm>
            <a:off x="8077320" y="685800"/>
            <a:ext cx="742680" cy="1981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25804" t="61541" r="26387" b="0"/>
          <a:stretch/>
        </p:blipFill>
        <p:spPr>
          <a:xfrm>
            <a:off x="7391520" y="2514600"/>
            <a:ext cx="742680" cy="762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rcRect l="25804" t="61541" r="26387" b="0"/>
          <a:stretch/>
        </p:blipFill>
        <p:spPr>
          <a:xfrm>
            <a:off x="6705720" y="3200400"/>
            <a:ext cx="742680" cy="762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rcRect l="25804" t="61541" r="26387" b="0"/>
          <a:stretch/>
        </p:blipFill>
        <p:spPr>
          <a:xfrm>
            <a:off x="5943600" y="3886200"/>
            <a:ext cx="743040" cy="762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5" name="ARPEGIO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908000" y="4329000"/>
            <a:ext cx="6400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ffffcc"/>
                </a:solidFill>
                <a:latin typeface="Verdana"/>
              </a:rPr>
              <a:t>A gyermek szeme felragyogott. Megragadta a még égő gyertyát, s lángjával új életre keltette a többit</a:t>
            </a:r>
            <a:r>
              <a:rPr b="1" i="1" lang="pt-BR" sz="32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26387" t="0" r="25804" b="0"/>
          <a:stretch/>
        </p:blipFill>
        <p:spPr>
          <a:xfrm>
            <a:off x="1066680" y="914400"/>
            <a:ext cx="1600200" cy="327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rcRect l="26387" t="0" r="25804" b="0"/>
          <a:stretch/>
        </p:blipFill>
        <p:spPr>
          <a:xfrm>
            <a:off x="2895480" y="533520"/>
            <a:ext cx="1600200" cy="3276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rcRect l="26387" t="0" r="25804" b="0"/>
          <a:stretch/>
        </p:blipFill>
        <p:spPr>
          <a:xfrm>
            <a:off x="4800600" y="304920"/>
            <a:ext cx="1600200" cy="3276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rcRect l="26387" t="0" r="25804" b="0"/>
          <a:stretch/>
        </p:blipFill>
        <p:spPr>
          <a:xfrm>
            <a:off x="6858000" y="0"/>
            <a:ext cx="1600200" cy="3276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5" name="ARPEGIO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14:10:50Z</dcterms:created>
  <dc:creator>Advent</dc:creator>
  <dc:description/>
  <dc:language>en-US</dc:language>
  <cp:lastModifiedBy>JOCI</cp:lastModifiedBy>
  <dcterms:modified xsi:type="dcterms:W3CDTF">2006-12-04T16:21:20Z</dcterms:modified>
  <cp:revision>24</cp:revision>
  <dc:subject/>
  <dc:title>A négy gyertya</dc:title>
</cp:coreProperties>
</file>