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ARPEGIO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98FE-4152-4032-A020-3D5B73A0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47E0-3503-44A7-B75E-568B591D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CCF3-5B84-46C8-A5BA-147748A4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A6ADF-1B82-450D-BE1E-1030362A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3A03-C665-49E2-A98E-009DEC3E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ABE4-1FA5-4B7B-BEEB-7591A1DB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252D-6333-42F2-B810-037C76CC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DFB6-476E-41D3-A667-FEF9602D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0A8D-28E6-4CF8-8AFF-BB44A3C4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9FC1-D346-4680-8FCE-E737636D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2B51-A8E6-4B6F-8849-142D858E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95467-F924-4E11-8E77-713C71CE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999C-959A-4336-B95F-61D89457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0319-3CEC-43BA-9AD3-F1207825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2F39-17F4-45BD-B3FB-6CBA92CB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0671-6851-40B9-B231-9E08C03C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F0C4-FAC2-4B36-B42B-6C9DEEC6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CEDD-943B-4036-81A4-4886DC1F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962A9-6759-4C77-9D1E-D0CA3416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89AE-13C3-4C74-9ECE-B8B4C507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E968-9258-493A-A794-6A7488EE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006CA-F82B-4EB7-B612-E26FFADB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6119-41EA-49FB-896F-A7772B1B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FB5DA-C645-46F8-9108-A2E14459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A3BE-9E47-4E71-9CB8-40651457C9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5562360" y="5181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ww.tonteria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516D-32B7-447C-8246-07390EF763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audio" Target="../media/ARPEGIO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PEGIO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PEGIO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ARPEGIO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ARPEGIO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PEGIO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PEGIO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PEGIO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ARPEGIO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ARPEGIO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audio" Target="../media/ARPEGIO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5335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ffffcc"/>
                </a:solidFill>
                <a:latin typeface="Verdana"/>
              </a:rPr>
              <a:t>A négy gyerty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838080" y="320040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2819520" y="25909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26387" t="0" r="25804" b="0"/>
          <a:stretch/>
        </p:blipFill>
        <p:spPr>
          <a:xfrm>
            <a:off x="4800600" y="198108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rcRect l="26387" t="0" r="25804" b="0"/>
          <a:stretch/>
        </p:blipFill>
        <p:spPr>
          <a:xfrm>
            <a:off x="6781680" y="1600200"/>
            <a:ext cx="1600200" cy="3276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74440" y="5846760"/>
            <a:ext cx="298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ffcc"/>
                </a:solidFill>
                <a:latin typeface="Verdana"/>
              </a:rPr>
              <a:t>Oldalváltás kattintás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5" name="ARPEGI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1125360"/>
            <a:ext cx="3733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ffffcc"/>
                </a:solidFill>
                <a:latin typeface="Verdana"/>
              </a:rPr>
              <a:t>Add, Urunk, hogy soha ki ne aludjon bennünk a remény…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4876920" y="762120"/>
            <a:ext cx="3504960" cy="5333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ARPEGIO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685800"/>
            <a:ext cx="4800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ffcc"/>
                </a:solidFill>
                <a:latin typeface="Verdana"/>
              </a:rPr>
              <a:t>Hadd legyünk eszköz a kezedben, amely segít megőrizni gyermekeink szívében a hit, remény, szeretet és béke lángját</a:t>
            </a:r>
            <a:r>
              <a:rPr b="1" i="1" lang="pt-BR" sz="3600" spc="-1" strike="noStrike">
                <a:solidFill>
                  <a:srgbClr val="ffffcc"/>
                </a:solidFill>
                <a:latin typeface="Verdana"/>
              </a:rPr>
              <a:t>!!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ffcc"/>
                </a:solidFill>
                <a:latin typeface="Verdana"/>
              </a:rPr>
              <a:t>Ame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5105520" y="762120"/>
            <a:ext cx="3504960" cy="5333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ARPEGI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4495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ffffcc"/>
                </a:solidFill>
                <a:latin typeface="Verdana"/>
              </a:rPr>
              <a:t>Egyszer volt, hol nem volt, volt egyszer négy gyerty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1066680" y="1752480"/>
            <a:ext cx="743040" cy="198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5804" t="0" r="26387" b="0"/>
          <a:stretch/>
        </p:blipFill>
        <p:spPr>
          <a:xfrm>
            <a:off x="3048120" y="1295280"/>
            <a:ext cx="742680" cy="1981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25804" t="0" r="26387" b="0"/>
          <a:stretch/>
        </p:blipFill>
        <p:spPr>
          <a:xfrm>
            <a:off x="4952880" y="762120"/>
            <a:ext cx="743040" cy="198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25804" t="0" r="26387" b="0"/>
          <a:stretch/>
        </p:blipFill>
        <p:spPr>
          <a:xfrm>
            <a:off x="6934320" y="457200"/>
            <a:ext cx="74268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ARPEGI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20880" y="342900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ffffcc"/>
                </a:solidFill>
                <a:latin typeface="Verdana"/>
              </a:rPr>
              <a:t>Olyan nagy volt a csend körülöttük, hogy tisztán lehetett érteni, amit egymással beszélgettek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609480" y="3886200"/>
            <a:ext cx="74304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25804" t="0" r="26387" b="0"/>
          <a:stretch/>
        </p:blipFill>
        <p:spPr>
          <a:xfrm>
            <a:off x="1523880" y="2438280"/>
            <a:ext cx="743040" cy="1981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25804" t="0" r="26387" b="0"/>
          <a:stretch/>
        </p:blipFill>
        <p:spPr>
          <a:xfrm>
            <a:off x="2514600" y="1295280"/>
            <a:ext cx="743040" cy="198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25804" t="0" r="26387" b="0"/>
          <a:stretch/>
        </p:blipFill>
        <p:spPr>
          <a:xfrm>
            <a:off x="3429000" y="380880"/>
            <a:ext cx="743040" cy="1981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ARPEGIO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27280" y="457200"/>
            <a:ext cx="613584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Azt mondta az első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i="1" lang="hu-HU" sz="3600" spc="-1" strike="noStrike">
                <a:solidFill>
                  <a:srgbClr val="ffffcc"/>
                </a:solidFill>
                <a:latin typeface="Verdana"/>
              </a:rPr>
              <a:t>ÉN VAGYOK A BÉKE</a:t>
            </a:r>
            <a:r>
              <a:rPr b="1" i="1" lang="pt-BR" sz="3600" spc="-1" strike="noStrike">
                <a:solidFill>
                  <a:srgbClr val="ffffcc"/>
                </a:solidFill>
                <a:latin typeface="Verdana"/>
              </a:rPr>
              <a:t>!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De az emberek nem képesek életben tartani. Azt hiszem, el fogok aludni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Néhány pillanat múlva már csak egy vékonyan füstölgő kanóc emlékeztetett a hajdan fényesen tündöklő lángr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1523880" y="1371600"/>
            <a:ext cx="74304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ARPEGI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11280" y="260280"/>
            <a:ext cx="64008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A második azt mondta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ffffcc"/>
                </a:solidFill>
                <a:latin typeface="Verdana"/>
              </a:rPr>
              <a:t>ÉN VAGYOK A HIT</a:t>
            </a:r>
            <a:r>
              <a:rPr b="1" i="1" lang="pt-BR" sz="4000" spc="-1" strike="noStrike">
                <a:solidFill>
                  <a:srgbClr val="ffffcc"/>
                </a:solidFill>
                <a:latin typeface="Verdana"/>
              </a:rPr>
              <a:t>!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Sajnos az emberek fölöslegesnek tartanak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 Nincs értelme tovább égnem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A következő pillanatban egy enyhe fuvallat kioltotta a lángot.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1295280" y="1295280"/>
            <a:ext cx="743040" cy="1981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ARPEGIO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299880"/>
            <a:ext cx="5867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Tahoma"/>
              </a:rPr>
              <a:t>Szomorúan így szólt a harmadik gyertya</a:t>
            </a:r>
            <a:r>
              <a:rPr b="1" i="1" lang="pt-BR" sz="28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cc"/>
                </a:solidFill>
                <a:latin typeface="Verdana"/>
              </a:rPr>
              <a:t>- </a:t>
            </a:r>
            <a:r>
              <a:rPr b="1" i="1" lang="hu-HU" sz="3600" spc="-1" strike="noStrike">
                <a:solidFill>
                  <a:srgbClr val="ffffcc"/>
                </a:solidFill>
                <a:latin typeface="Verdana"/>
              </a:rPr>
              <a:t>ÉN A SZERETET VAGYOK</a:t>
            </a:r>
            <a:r>
              <a:rPr b="1" i="1" lang="pt-BR" sz="3600" spc="-1" strike="noStrike">
                <a:solidFill>
                  <a:srgbClr val="ffffcc"/>
                </a:solidFill>
                <a:latin typeface="Verdana"/>
              </a:rPr>
              <a:t>!</a:t>
            </a:r>
            <a:r>
              <a:rPr b="1" i="1" lang="pt-BR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Nincs már erőm tovább égni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Az emberek nem törődnek velem, semmibe veszik, hogy milyen nagy szükségük van rám…</a:t>
            </a:r>
            <a:r>
              <a:rPr b="1" i="1" lang="pt-B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Ezzel ki is alud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6477120" y="1600200"/>
            <a:ext cx="742680" cy="1981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ARPEGIO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838080"/>
            <a:ext cx="449568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Hirtelen belépett egy gyermek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 Mikor meglátta a három kialudt gyertyát, felkiáltott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De hát mi történt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? </a:t>
            </a: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Hiszen nektek égnetek kéne mindörökké…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Elkeseredésében hirtelen sírva fakadt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8400960" y="1447920"/>
            <a:ext cx="743040" cy="1981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5804" t="61541" r="26387" b="0"/>
          <a:stretch/>
        </p:blipFill>
        <p:spPr>
          <a:xfrm>
            <a:off x="7772400" y="2819520"/>
            <a:ext cx="743040" cy="761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25804" t="61541" r="26387" b="0"/>
          <a:stretch/>
        </p:blipFill>
        <p:spPr>
          <a:xfrm>
            <a:off x="7010280" y="3200400"/>
            <a:ext cx="743040" cy="762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rcRect l="25804" t="61541" r="26387" b="0"/>
          <a:stretch/>
        </p:blipFill>
        <p:spPr>
          <a:xfrm>
            <a:off x="6172200" y="3657600"/>
            <a:ext cx="743040" cy="762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ARPEGIO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1219320"/>
            <a:ext cx="449568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Ekkor megszólalt a negyedik gyertya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Ne félj! Amíg nekem van lángom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, </a:t>
            </a: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újra meg tudjuk gyújtani a többi gyertyát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ÉN VAGYOK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ffcc"/>
                </a:solidFill>
                <a:latin typeface="Verdana"/>
              </a:rPr>
              <a:t>A REMÉNY</a:t>
            </a:r>
            <a:r>
              <a:rPr b="1" i="1" lang="pt-BR" sz="3600" spc="-1" strike="noStrike">
                <a:solidFill>
                  <a:srgbClr val="ffffcc"/>
                </a:solidFill>
                <a:latin typeface="Verdana"/>
              </a:rPr>
              <a:t>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8077320" y="685800"/>
            <a:ext cx="74268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25804" t="61541" r="26387" b="0"/>
          <a:stretch/>
        </p:blipFill>
        <p:spPr>
          <a:xfrm>
            <a:off x="7391520" y="2514600"/>
            <a:ext cx="74268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25804" t="61541" r="26387" b="0"/>
          <a:stretch/>
        </p:blipFill>
        <p:spPr>
          <a:xfrm>
            <a:off x="6705720" y="3200400"/>
            <a:ext cx="742680" cy="762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rcRect l="25804" t="61541" r="26387" b="0"/>
          <a:stretch/>
        </p:blipFill>
        <p:spPr>
          <a:xfrm>
            <a:off x="5943600" y="3886200"/>
            <a:ext cx="743040" cy="762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ARPEGIO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08000" y="432900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cc"/>
                </a:solidFill>
                <a:latin typeface="Verdana"/>
              </a:rPr>
              <a:t>A gyermek szeme felragyogott. Megragadta a még égő gyertyát, s lángjával új életre keltette a többit</a:t>
            </a:r>
            <a:r>
              <a:rPr b="1" i="1" lang="pt-BR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1066680" y="91440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2895480" y="5335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26387" t="0" r="25804" b="0"/>
          <a:stretch/>
        </p:blipFill>
        <p:spPr>
          <a:xfrm>
            <a:off x="4800600" y="3049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26387" t="0" r="25804" b="0"/>
          <a:stretch/>
        </p:blipFill>
        <p:spPr>
          <a:xfrm>
            <a:off x="6858000" y="0"/>
            <a:ext cx="1600200" cy="3276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ARPEGI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14:10:50Z</dcterms:created>
  <dc:creator>Advent</dc:creator>
  <dc:description/>
  <dc:language>en-US</dc:language>
  <cp:lastModifiedBy>JOCI</cp:lastModifiedBy>
  <dcterms:modified xsi:type="dcterms:W3CDTF">2006-12-04T16:21:20Z</dcterms:modified>
  <cp:revision>24</cp:revision>
  <dc:subject/>
  <dc:title>A négy gyertya</dc:title>
</cp:coreProperties>
</file>