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DE5-32B6-4A56-BBFC-8F73B52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ABB-666D-44DD-B66E-8A2B81E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DA1-9166-40A8-8CA5-9153978B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BDD-A049-495B-AA1D-5FDCF907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798-5374-47A7-B169-AFFF426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8B0-4DD6-470A-9E91-28D56E76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4B5-053C-43E3-93B3-BB1E20ED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237-3843-4291-912D-FB24A014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0D7-8FBB-4BFE-B048-EBF248F8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10C-1EEF-4BBB-85E2-32671BA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CE7-8377-4EFF-AC43-21EDE9B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219-EC18-4D8D-AB2B-A2E0F12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144D-A2B3-4275-A233-C1045A03E2F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i a passzívház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gy épületszabvá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gy építészeti koncep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Olyan épület, amelyben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fűtés nélkül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iztosítva van a teljes kom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nergiahatékony és környezetbará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ájolás, DNy né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artalom helye 3" descr="GYÉ_E1b_DNY.jpg"/>
          <p:cNvPicPr/>
          <p:nvPr/>
        </p:nvPicPr>
        <p:blipFill>
          <a:blip r:embed="rId1"/>
          <a:stretch/>
        </p:blipFill>
        <p:spPr>
          <a:xfrm>
            <a:off x="428760" y="1728720"/>
            <a:ext cx="82864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őszigetelés és légtömörség: 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 külső falak, az aljzat és a tetőfelületek hőátadási tényezője U&lt;0,15 W/(m²K)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 légtömörségi érték: Blower Door50 teszt légcsereérték n&lt;0,6 épülettérfogat/óra (p=50 P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artalom helye 3" descr="Huelle_Passivhaus.png"/>
          <p:cNvPicPr/>
          <p:nvPr/>
        </p:nvPicPr>
        <p:blipFill>
          <a:blip r:embed="rId1"/>
          <a:stretch/>
        </p:blipFill>
        <p:spPr>
          <a:xfrm>
            <a:off x="357120" y="1214280"/>
            <a:ext cx="8643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686040" cy="129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Melegablak (passzívházabla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artalom helye 3" descr="index_005.jpg"/>
          <p:cNvPicPr/>
          <p:nvPr/>
        </p:nvPicPr>
        <p:blipFill>
          <a:blip r:embed="rId1"/>
          <a:stretch/>
        </p:blipFill>
        <p:spPr>
          <a:xfrm>
            <a:off x="4429080" y="214200"/>
            <a:ext cx="4429080" cy="642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3900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U &lt; 0,8 W/(m²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háromrétegű hővédő üvegez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hőszigetelt sarokösszeköté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peciálisan szigetelt ablakker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égtömör beépí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őnye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incs hideg üvegfelület (min.16 C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incs hideg légáramlat az ablak közelében a padló fölöt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gyenletesebb hőeloszl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Hőcserélős szellőztetőgép működé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artalom helye 3" descr="szellozok_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Hőcserélős szellőztetőgé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artalom helye 3" descr="rec2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Légmozgás a lakásb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artalom helye 3" descr="szellozok_08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Családi ház szellőztetőrendsz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artalom helye 3" descr="szellozok_0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Családi ház szellőzőrendsz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artalom helye 3" descr="szellozok_0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ömbházi lakás szellőzé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artalom helye 3" descr="szellozok_13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öbbemeletes épület szellőzteté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artalom helye 3" descr="szellozok_04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r. Wolfgang Feist, fizik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artalom helye 3" descr="Wolfgang_Feist.jpg"/>
          <p:cNvPicPr/>
          <p:nvPr/>
        </p:nvPicPr>
        <p:blipFill>
          <a:blip r:embed="rId1"/>
          <a:stretch/>
        </p:blipFill>
        <p:spPr>
          <a:xfrm>
            <a:off x="3071880" y="1500120"/>
            <a:ext cx="2928960" cy="3786120"/>
          </a:xfrm>
          <a:prstGeom prst="rect">
            <a:avLst/>
          </a:prstGeom>
          <a:ln w="0">
            <a:noFill/>
          </a:ln>
        </p:spPr>
      </p:pic>
      <p:sp>
        <p:nvSpPr>
          <p:cNvPr id="45" name="Szövegdoboz 3"/>
          <p:cNvSpPr/>
          <p:nvPr/>
        </p:nvSpPr>
        <p:spPr>
          <a:xfrm>
            <a:off x="214200" y="5572080"/>
            <a:ext cx="835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émet „Passivhaus Institut” vezetője, a passzívház elmélet megalkot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iből építsünk passzívház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ármilyen falazóanyag alkalmas, ami teljesíti a passzívház követelménye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ekerülési költségek, tartósság, esztétik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é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önnyűszerkez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PS-vasbeton technoló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EPS- vasbeton előny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Gyors épí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asszív (földrengésálló) szerkez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öltséghaték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artó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égtömör, a cső- és vezetékátvezetések könnyen tömíthető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iváló hőszigetel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sztétikus, pontos kivitelezhetősé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örnyezetbará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ivitelezési költség megtakarít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em kell a gázt bevezet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incs fűtési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Csak az ablakpucolás miatt kell nyitható ab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EPS-t nem kell nikecell lapokkal burkolni színezés elő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inősített passzívhá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beépített anyagok, berendezések mindegyike rendelkezik passzívház minősítés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épület minősítésekor a tervekben szereplő értékeket produká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elektromos berendezések későbbiekben való cseréje, használata szabályozo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Kép 3" descr="logo_PHI.png"/>
          <p:cNvPicPr/>
          <p:nvPr/>
        </p:nvPicPr>
        <p:blipFill>
          <a:blip r:embed="rId1"/>
          <a:stretch/>
        </p:blipFill>
        <p:spPr>
          <a:xfrm>
            <a:off x="7143840" y="428760"/>
            <a:ext cx="15001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Felújítás passzívház szemlélet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Vastagabb, 12-20 cm-es EPS burkol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ablak tokra rátakarás az EPSburkolat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ábazat burkolása 12-20 cm EPS-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blakcsere 3 rétegűre vagy 3. réteg beépít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őcserélős szellőztető rendszer beépít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Nyári üzemmó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Árnyékolók alkalmaz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talajkollektoron keresztül hűtött frisslevegő bejuttatása a szellőztető rendszer segítségé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alajkollek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/Kép csak pdf van belő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élen a bejövő friss levegőt előmelegí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6-12 C°-ra (a külső levegő hőmérsékletétől függő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yáron lehűti a bejövő friss levegő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14-16 C°-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Élet a passzívházb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első passzívház 1990-ben Darmstadtban épült többlakásos mintahá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okan kipróbálhatt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agas komfortérz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Átalakul a szemléletmó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óta is tartja eredeti paraméter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Passzívház koncep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lapgondolat: Ha nincs hőveszteség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kkor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nincs szükség fűtésre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vel ez nem lehetséges ezért a passzívházkoncepció lényege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hőenergia veszteség minimalizálása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3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alibri"/>
              </a:rPr>
              <a:t>Energia</a:t>
            </a:r>
            <a:br>
              <a:rPr sz="4000"/>
            </a:br>
            <a:r>
              <a:rPr b="1" lang="hu-HU" sz="4000" spc="-1" strike="noStrike">
                <a:solidFill>
                  <a:srgbClr val="000000"/>
                </a:solidFill>
                <a:latin typeface="Calibri"/>
              </a:rPr>
              <a:t>hatékonysá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artalom helye 4" descr="Energieeffizienz_Thermoskanne.jpg"/>
          <p:cNvPicPr/>
          <p:nvPr/>
        </p:nvPicPr>
        <p:blipFill>
          <a:blip r:embed="rId1"/>
          <a:stretch/>
        </p:blipFill>
        <p:spPr>
          <a:xfrm>
            <a:off x="4143240" y="214200"/>
            <a:ext cx="5000760" cy="628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0081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elad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g kell oldani, hogy a kávé meleg maradj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ogy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űtött főzőlapp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Vagy a jó hőszigetelésű termossz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Energiamérl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214280"/>
          <a:ext cx="8229600" cy="516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őenergia veszteség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őenergia nyereség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ak, aljzat, födém, nyílászáró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őátbocsátá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gcserével járó vesztesé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tlakók hőleadá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kapcsolt lámpák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áztartási gépek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, számítógép „hulladékhő”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lakokon beeső napsugárzá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Hogyan csökkenthetjük a veszteségeke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edvező tájolás (ablakok a napos oldal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ompakt épület geomet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Fokozott hőszigetelé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őhídmentes tervezés és kivitelez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ökéletes légtömörsé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omfortszellőztetés hővisszanyerés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Friss levegő előmelegítése talajkollektor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Passzívház alapada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Elérendő cél, hogy az éves energiaigény kevesebb legyen, mint 15 kWh/m²é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lapadat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ülső falazat, aljzat, födém: U&lt;0,15 W/m²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yílászárók: U&lt;0,8 W/m²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égtömörség: n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&lt; 0,6 épülettérfogat/ó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ájolás, ÉK né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artalom helye 3" descr="GYÉ_E1_ÉK.jpg"/>
          <p:cNvPicPr/>
          <p:nvPr/>
        </p:nvPicPr>
        <p:blipFill>
          <a:blip r:embed="rId1"/>
          <a:stretch/>
        </p:blipFill>
        <p:spPr>
          <a:xfrm>
            <a:off x="428760" y="1600200"/>
            <a:ext cx="82864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ájolás, DK néz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Tartalom helye 3" descr="GYÉ_E1b_DK.jpg"/>
          <p:cNvPicPr/>
          <p:nvPr/>
        </p:nvPicPr>
        <p:blipFill>
          <a:blip r:embed="rId1"/>
          <a:stretch/>
        </p:blipFill>
        <p:spPr>
          <a:xfrm>
            <a:off x="500040" y="1428840"/>
            <a:ext cx="8286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08:34:06Z</dcterms:created>
  <dc:creator>x</dc:creator>
  <dc:description/>
  <dc:language>en-US</dc:language>
  <cp:lastModifiedBy>x</cp:lastModifiedBy>
  <dcterms:modified xsi:type="dcterms:W3CDTF">2008-09-26T15:18:35Z</dcterms:modified>
  <cp:revision>61</cp:revision>
  <dc:subject/>
  <dc:title>1. dia</dc:title>
</cp:coreProperties>
</file>