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9DA-986C-4D2B-B0D3-89E97652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53E-8FA5-4AEF-9AA7-A5368ACC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0A7-59FD-442A-9F67-3511C5C7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E51-61E5-479A-9650-4D8286C0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F6D-2617-4340-941B-5F70DC5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E75-C2E7-41DE-B667-64D9256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DD8-E31A-483D-84D1-5B0E75E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7E6-122D-4D84-9A6F-696F19F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0DE-FB3B-4B05-A06A-001F9D3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875-E6D9-40DA-8086-CB2E155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A8A-ED18-4141-AC63-CD4409A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E10-3E27-4A61-9418-9F2FA8F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5FB-F4D1-4660-9D23-6396DD34FDD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67644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6420f"/>
                </a:solidFill>
                <a:latin typeface="Book Antiqua"/>
              </a:rPr>
              <a:t>Web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520" y="1531800"/>
            <a:ext cx="52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Book Antiqua"/>
              </a:rPr>
              <a:t>Modernizáció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Book Antiqua"/>
              </a:rPr>
              <a:t>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3127320"/>
            <a:ext cx="417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Racionalitás a tradicionalizmus ellenté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7840" y="4394160"/>
            <a:ext cx="3675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racionális cselekvés az egyéni, szabad döntésen alapu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0720" y="2033640"/>
            <a:ext cx="26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be2800"/>
                </a:solidFill>
                <a:latin typeface="Book Antiqua"/>
              </a:rPr>
              <a:t>racionalit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8520" y="2033640"/>
            <a:ext cx="10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be2800"/>
                </a:solidFill>
                <a:latin typeface="Book Antiqua"/>
              </a:rPr>
              <a:t>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5000" y="2033640"/>
            <a:ext cx="43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be2800"/>
                </a:solidFill>
                <a:latin typeface="Book Antiqua"/>
              </a:rPr>
              <a:t>differenciáló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7" idx="2"/>
            <a:endCxn id="45" idx="0"/>
          </p:cNvCxnSpPr>
          <p:nvPr/>
        </p:nvCxnSpPr>
        <p:spPr>
          <a:xfrm flipV="1" rot="16200000">
            <a:off x="2894400" y="2628720"/>
            <a:ext cx="97920" cy="1094400"/>
          </a:xfrm>
          <a:prstGeom prst="bentConnector5">
            <a:avLst>
              <a:gd name="adj1" fmla="val -232472"/>
              <a:gd name="adj2" fmla="val -142283"/>
              <a:gd name="adj3" fmla="val 1453874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1" name=""/>
          <p:cNvCxnSpPr>
            <a:stCxn id="45" idx="1"/>
            <a:endCxn id="46" idx="1"/>
          </p:cNvCxnSpPr>
          <p:nvPr/>
        </p:nvCxnSpPr>
        <p:spPr>
          <a:xfrm flipH="1" flipV="1" rot="10800000">
            <a:off x="306000" y="3767760"/>
            <a:ext cx="771840" cy="1267200"/>
          </a:xfrm>
          <a:prstGeom prst="bentConnector3">
            <a:avLst>
              <a:gd name="adj1" fmla="val -29444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2" name=""/>
          <p:cNvSpPr/>
          <p:nvPr/>
        </p:nvSpPr>
        <p:spPr>
          <a:xfrm>
            <a:off x="5111640" y="3608280"/>
            <a:ext cx="4032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Új szakmák, iparágak, tudományok jelennek meg – a világ sokszínűbbé vá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 rot="5400000">
            <a:off x="6915960" y="2887560"/>
            <a:ext cx="932400" cy="5094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4" name=""/>
          <p:cNvSpPr/>
          <p:nvPr/>
        </p:nvSpPr>
        <p:spPr>
          <a:xfrm>
            <a:off x="5543640" y="5475240"/>
            <a:ext cx="318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övekvő egyéni különbség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4" idx="1"/>
          </p:cNvCxnSpPr>
          <p:nvPr/>
        </p:nvCxnSpPr>
        <p:spPr>
          <a:xfrm flipH="1" flipV="1" rot="10800000">
            <a:off x="5111640" y="4447080"/>
            <a:ext cx="432360" cy="1471320"/>
          </a:xfrm>
          <a:prstGeom prst="bentConnector3">
            <a:avLst>
              <a:gd name="adj1" fmla="val -52583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73560" y="3741840"/>
            <a:ext cx="46702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90560" y="1895400"/>
            <a:ext cx="2960640" cy="4589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0560" y="2139840"/>
            <a:ext cx="447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984f22"/>
                </a:solidFill>
                <a:latin typeface="Book Antiqua"/>
              </a:rPr>
              <a:t>pre-modern és késő modern keresked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44600"/>
            <a:ext cx="9115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A beágyazottság csökkené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00240"/>
            <a:ext cx="89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Második modernitá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5080" y="2082960"/>
            <a:ext cx="85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A beágyazottság csökkenésének ha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360" y="2921040"/>
            <a:ext cx="85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én ‘kiemelkedik’ a közvetlen kapcsolatokból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440" y="4168800"/>
            <a:ext cx="81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nemzetállamok meggyengüln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440" y="5335560"/>
            <a:ext cx="81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özös, kulturális szabályok meggyengüln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440" y="5919840"/>
            <a:ext cx="81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onogám, önmagáért való kapcsolatok soroz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440" y="3586320"/>
            <a:ext cx="81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csökken a földrajzi tér jelentősé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440" y="4753080"/>
            <a:ext cx="81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kockázatkerülés jelentősége megn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24520" y="3460680"/>
            <a:ext cx="10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371"/>
                </a:solidFill>
                <a:latin typeface="Book Antiqu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9720" y="398160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 társadalmi mobilitás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én társadalmi hierarchiában betöltött státuszának megváltozása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41912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obilit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938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szociológia egyik központi fogalma, többféle jelentéss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76920" y="2363760"/>
            <a:ext cx="304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… </a:t>
            </a: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változ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200" y="513720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371"/>
                </a:solidFill>
                <a:latin typeface="Book Antiqu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3240" y="5300640"/>
            <a:ext cx="811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 térbeni mobilitás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én helyzetváltoztatása átmeneti vagy állandó jellegg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10040"/>
            <a:ext cx="909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érbeni mobilitás lehetőséget ad a társadalmi és a földrajzi tér különválásá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6920" y="2328840"/>
            <a:ext cx="30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…</a:t>
            </a: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jelentősé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520" y="4052880"/>
            <a:ext cx="909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agyobb földrajzi távolságokban vannak kapcsolataink, ismerőseink, lehetőségein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520" y="5230800"/>
            <a:ext cx="909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gy mobilabb társadalom nehezen írható le a hagyományos társadalomképpel, bonyolultabb és változékonyabb anná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41912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obilit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19052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obilitásformá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520" y="3005280"/>
            <a:ext cx="909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om legnagyobb része nem mobil, helyhez kötött életet é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1360" y="3871800"/>
            <a:ext cx="8283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érbeni mobilitás egyes foglalkozásokhoz, életformákhoz kötő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" y="473868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nem lehetőségként, hanem kényszerként jeleni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0400" y="560556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‘céltalan’, nem az ‘otthon’ és a ‘máshol’ között történ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53200" y="2476440"/>
            <a:ext cx="35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1. Tradicioná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19052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obilitásformá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97480" y="2352600"/>
            <a:ext cx="265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2. Térb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520" y="2978280"/>
            <a:ext cx="909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lső modernitás jellemzője és kísérőjelensége a mobilitás: a világ megérthetővé és átalakíthatóvá vá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1360" y="3986280"/>
            <a:ext cx="8283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érbeni mobilitás egyes társadalmi státuszokhoz, rétegekhez kötö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4600" y="499428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a változatosság lehetőségeként jeleni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0400" y="560556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a megszokott környezet és az attól eltérő, különleges helyek között történik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19052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obilitásformá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97480" y="2400480"/>
            <a:ext cx="265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3. Globá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520" y="3213000"/>
            <a:ext cx="909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ilág összeszűkül –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Giddens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: az idő és a tér beszűkü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360" y="4010040"/>
            <a:ext cx="828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érbeni mobilitás általánossá vá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4600" y="4807080"/>
            <a:ext cx="828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a változatosság igényeként jeleni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0400" y="5605560"/>
            <a:ext cx="828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célja a hétköznapi élet gazdagí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19052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Mobilitásformá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97480" y="2438280"/>
            <a:ext cx="265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4. Virtuá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20" y="2943360"/>
            <a:ext cx="909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ásodik modernitásban az idő és a tér ‘szétkapcsolódik’, nem jelentenek egyértelmű tapasztalatok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1360" y="3830760"/>
            <a:ext cx="8283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érbeni mellett a virtuális mobilitás különböző formái jelenne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4600" y="471816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a társadalmi kapcsolatok alapvető formájaként jeleni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0400" y="5605560"/>
            <a:ext cx="828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obilitás célja a hétköznapi élet és kapcsolatok fenntar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080" y="1924200"/>
            <a:ext cx="85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A racionalitás hatása</a:t>
            </a:r>
            <a:r>
              <a:rPr b="1" lang="en-US" sz="3600" spc="-1" strike="noStrike">
                <a:solidFill>
                  <a:srgbClr val="984f22"/>
                </a:solidFill>
                <a:latin typeface="Book Antiqua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40" y="3127320"/>
            <a:ext cx="85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… ‘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A világ varázs alóli feloldása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’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hétköznapi élet felszabadítása a vallás kontrollja aló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88920" y="43178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kultúra és a társadalom válnak a hétköznapi vonatkoztatási keret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27720"/>
            <a:ext cx="8879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éni cselekvés alapja a normák elfogadása és a cselekvők közötti kommunik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65920" y="67644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6420f"/>
                </a:solidFill>
                <a:latin typeface="Book Antiqua"/>
              </a:rPr>
              <a:t>Web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480" y="134460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Társadalmi beágyazottsá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219708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t jelenti, hogy az egyén életkörülményeit és lehetőségeit  személyes és állandó társadalmi kapcsolatai határozza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240" y="3484440"/>
            <a:ext cx="43988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mi beágyazottság előfeltételezi a társadalmi stabilitást – minél nagyobb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mi és a földrajzi mobilitás, annál gyengébb a beágyazottsá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67280" y="3046320"/>
            <a:ext cx="3876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1155600"/>
            <a:ext cx="91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Pre-modern társadalom</a:t>
            </a:r>
            <a:r>
              <a:rPr b="1" i="1" lang="en-US" sz="6000" spc="-1" strike="noStrike">
                <a:solidFill>
                  <a:srgbClr val="e6420f"/>
                </a:solidFill>
                <a:latin typeface="Book Antiqua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0840" y="335592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helyi keretek között szerveződöt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20840" y="494496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radíciók [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~normák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] szerint működöt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554184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lapegysége a nagycsalád (többgeneráció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20840" y="276084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helyhez kötö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0840" y="3952800"/>
            <a:ext cx="782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erkezetét az előjogok (rendi viszonyok)   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határoztá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1155600"/>
            <a:ext cx="91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Pre-modern társadalom</a:t>
            </a:r>
            <a:r>
              <a:rPr b="1" i="1" lang="en-US" sz="6000" spc="-1" strike="noStrike">
                <a:solidFill>
                  <a:srgbClr val="e6420f"/>
                </a:solidFill>
                <a:latin typeface="Book Antiqua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25760" y="2641680"/>
          <a:ext cx="449748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25760" y="2641680"/>
                    <a:ext cx="449748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7520" y="2604960"/>
            <a:ext cx="431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jellemzője a mindennapi élet beágyazottsága a helyi közösség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1155600"/>
            <a:ext cx="766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Korai’ vagy ‘első’</a:t>
            </a:r>
            <a:r>
              <a:rPr b="1" i="1" lang="en-US" sz="6000" spc="-1" strike="noStrike">
                <a:solidFill>
                  <a:srgbClr val="e6420f"/>
                </a:solidFill>
                <a:latin typeface="Book Antiqua"/>
              </a:rPr>
              <a:t> modern </a:t>
            </a: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társadalom</a:t>
            </a:r>
            <a:r>
              <a:rPr b="1" i="1" lang="en-US" sz="6000" spc="-1" strike="noStrike">
                <a:solidFill>
                  <a:srgbClr val="e6420f"/>
                </a:solidFill>
                <a:latin typeface="Book Antiqua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20840" y="379080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emzetállami keretek között szerveződöt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4957920"/>
            <a:ext cx="782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kulturális szabályok [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~normák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] szerint működöt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20840" y="554184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lapegysége a nukleáris (kétgenerációs) család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20840" y="320832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érbeni viszonyok köré szerveződö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20840" y="4375080"/>
            <a:ext cx="782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erkezetét a jólét-eloszlás határozta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1840" y="3386160"/>
            <a:ext cx="4317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jellemzője a mindennapi élet beágyazottsága a társadalmi struktúrá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155600"/>
            <a:ext cx="766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Korai’ vagy ‘első’</a:t>
            </a:r>
            <a:r>
              <a:rPr b="1" i="1" lang="en-US" sz="6000" spc="-1" strike="noStrike">
                <a:solidFill>
                  <a:srgbClr val="e6420f"/>
                </a:solidFill>
                <a:latin typeface="Book Antiqua"/>
              </a:rPr>
              <a:t> modern </a:t>
            </a:r>
            <a:r>
              <a:rPr b="1" i="1" lang="hu-HU" sz="6000" spc="-1" strike="noStrike">
                <a:solidFill>
                  <a:srgbClr val="e6420f"/>
                </a:solidFill>
                <a:latin typeface="Book Antiqua"/>
              </a:rPr>
              <a:t>társadalom</a:t>
            </a:r>
            <a:r>
              <a:rPr b="1" i="1" lang="en-US" sz="6000" spc="-1" strike="noStrike">
                <a:solidFill>
                  <a:srgbClr val="e6420f"/>
                </a:solidFill>
                <a:latin typeface="Book Antiqua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96720" y="2919240"/>
          <a:ext cx="4464360" cy="346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" y="2919240"/>
                    <a:ext cx="446436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6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késői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’ 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vagy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 ‘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második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’ modern 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társadalomn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3840" y="2973240"/>
            <a:ext cx="4314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XX. század első felétől a társadalmi beágyazottság tovább csökken, helyet adva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003560" y="1244520"/>
          <a:ext cx="4794480" cy="37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03560" y="1244520"/>
                    <a:ext cx="47944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Modern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44600"/>
            <a:ext cx="9115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A beágyazottság csökkené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080" y="4078440"/>
            <a:ext cx="9016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Szakértői rendszere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’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veszik át a személyes, helyi tapasztalat és tudás szerepét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ilyen pl. az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óra,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az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úthálózat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 és az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utazásszervez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080" y="52880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Szimbolikus zsetono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’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értől és időtől független csereviszonyokat tesznek lehetővé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ilye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i="1" lang="hu-HU" sz="2600" spc="-1" strike="noStrike">
                <a:solidFill>
                  <a:srgbClr val="000000"/>
                </a:solidFill>
                <a:latin typeface="Book Antiqua"/>
              </a:rPr>
              <a:t>pénz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vagy 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vou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7080" y="2168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edi, helyi beágyazottsági viszonyok univerzális piaci viszonyokká alakulását jelenti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54000" y="2959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átláthatóságot és egységességet eredményez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felcserélhetővé tesz személyeket, vállalatokat, helye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3-30T06:03:59Z</dcterms:modified>
  <cp:revision>260</cp:revision>
  <dc:subject/>
  <dc:title>1. dia</dc:title>
</cp:coreProperties>
</file>