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7C1-E39D-43DC-9FC2-6EBCE87B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EF6-4D87-4706-95E6-11F77B5B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71F-0E65-4AC6-9B80-2789EB36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01C-C68C-4B26-BC90-5D1A8DD2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5C73-424E-4614-BD0B-B067F0DD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A9D6-DF75-447C-844A-5A8FCA29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3C13-51B3-4548-9C6B-1603947D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2DF-E097-43C8-8207-F5B3AA75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A8A2-A0CE-4586-85C6-8EC29896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D1F0-E911-4D60-987F-6CD7DCAC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2248-9CF6-4670-9793-6A2C1F7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D16-F324-4855-8D2A-58DD6A4B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BAA-A0E0-43BF-9399-1A1E255E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249-E638-4769-A4C4-9E3FD08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2233-F588-4067-8299-F4075FE0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71D3-4AB9-4FAF-9EFF-6B9F843D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2CF7-3E0A-447F-86B0-5685DFCD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A07-A822-490F-8D93-AE6C8AE2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F95-FFBB-42B4-8474-22DB1AA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62D-31D8-48DA-A3A6-7AC056D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C30-5185-4B2C-883E-3C0B1E01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314-874F-42AF-838B-831E6EB1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D3B-2DB0-41A4-A4AA-A875226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27B-DBBB-48D4-A65B-5E73B41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5883-BCFD-4E4B-AAFC-D581767CDF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2CF1-2328-4140-AC36-4791541B26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 Közép-Dunántúli Régió bemutatása az esztétikai szükségletek szempontjábó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Készítették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Orlai Melinda és Király Erzséb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005.ápril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ápa, Esterház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770120"/>
            <a:ext cx="634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Doba, Erdőd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55800" y="1773360"/>
            <a:ext cx="374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Devecser, Esterházy-kastély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21080" y="1773360"/>
            <a:ext cx="4233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999900"/>
                </a:solidFill>
                <a:latin typeface="Garamond"/>
              </a:rPr>
              <a:t>Cseszneki vár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03280" y="1882800"/>
            <a:ext cx="66247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Sümegi vár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50800" y="1600200"/>
            <a:ext cx="624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Veszprémi vár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alaton-felvidéki Nemzeti Pa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megyében 50 települést é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ájvédelmi terület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erületi egységei: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ihanyi-félsziget, Pécselyi-medence, Káli-medence, Tapolcai-medence és a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anúhegyek, Zala és Somogy megyében a Keszthelyi-hegység és a Kis-Balaton, a teljes Balaton-part és a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alaton öble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67360" y="2271600"/>
            <a:ext cx="32004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Zirci arborétu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legmagasabban fekvő arborétum az országban -400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cisztercita apátság angolkertjéből alakult ki a botanikus k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Cuha-pat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iemelkedő természeti értéke a 380 m hosszú hársfa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őshonos fafajtá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ülönleges madárfajtá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356000" y="2340000"/>
            <a:ext cx="43196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úzeum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alatonederics -Afrika Múze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ápa -Egyháztörténeti és Egyház-művészeti Múzeu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Nagyvázsony -Kinizsi-vá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Nemesvámos és Veszprémfajsz határában -római maradvány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ihany -Bencés Apátsági Múze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Herend -Porcelánművészeti Múze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Zirc -Reguly Antal Műemlék Könyvt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ermészeti vonzerők, értéke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Szentbékkálla -Kőten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apolca -Tavasbarla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Fenyőfő -Ősfeny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Káli mandula -Hungaric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ihany -Gejzírmez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A Közép-Dunántúli Régió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unántúl középső részén helyezkedik 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Északon a Duna, keleten Pest megye, délen a Dél-Dunántúli Régió, nyugaton a Nyugat-Dunántúli Régió határol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árom megye alkotja: Fejér, Komárom-Esztergom és Veszprém megy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kony, Vértes, Gerec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Velencei-t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lat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esztivál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Veszprém -Gizella-napok Művészeti Fesztivál; a Tánc Fesztivál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Csesznek -Tárogató Fesztivál, Vár-játék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Várpalota -Nemzetközi Fúvósfesztivá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3675240"/>
            <a:ext cx="3600360" cy="2576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36720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Komárom-Esztergom megye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erülete: 2251 k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,   30%-a erd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akóinak száma: 318 e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egyeszékhelye: 1950-től Tatabánya (1923-tól Esztergom vol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omárom vármegye + Esztergom vármegy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gyesülésé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unántúli-középhegység, Kisalfö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una, tatai Öreg-t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Jelentős gép- és élelmiszerip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degenforgalmi szere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udapest közelsége, Dunakany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űemlékekben gazdag Eszterg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1-es autópálya (Bé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ízi szállít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ztergomi repülőté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56000" y="2343240"/>
            <a:ext cx="4319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 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Esztergomi Bazili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Monostori erő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árgesztesi 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ömsödi prépostsá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értesszentkereszti apátság, Oroszlá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una-Ipoly Nemzeti P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ata-Agostyáni arborét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Esterházy Ferenc tatai angolkert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nostori erő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28880" y="1600200"/>
            <a:ext cx="5286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Vértesszentkereszti apátsá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35280" y="1884240"/>
            <a:ext cx="52578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atai Arborétu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4248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 I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Tatai szabadtéri múze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Vadludak éjszakázása Tatá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Keresztény Múzeum, Eszterg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Kálvária-diom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Vértesszőlősi múzeum – 350 ezer éves ősember csontmaradványai és konzervált lábnyo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Duna Múzeum (Magyar Környezetvédelmi és Vízügyi Múzeu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59280" y="250524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rogramok, fesztivál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omáromi napok (sportrendezvény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Hilltop Borünnep –borkóstolók, és előadás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Vadlúd sokadalom, Tata  -madarász fesztivá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2982960"/>
            <a:ext cx="453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Fejér megye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erülete: 4373 k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akossága: 424 ezer f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ét megyei jogú városa: Székesfehérvár és Dunaújvá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7 város, 98 közsé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ezőföld, Alföld bizonyos része, Keleti-Bakony, Vértes-hegység, Gerecse, Bicskei-dombsá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lencei-t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örtén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 régió magába foglalja a Balaton északi partjának majdnem teljes hosszá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laton-felvidéki Nemzeti Park, Duna-Ipoly Nemzeti P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z ország lakosságának 11 százaléka, 1,1 millió emb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pari fejl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agy jelentőségű idegenforgal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degenforgalmi szere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űemlék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ermészetvédelmi terület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lencei-tó (25 k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portversenyek (kajak-kenu, horgászat, széllovaglá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Kastély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runszvik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ajtai Zich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Festetics-kastély, Dé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Lovasberényi Czirák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icskei Batthyán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Hochburg-Lamberg-Miske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Martonvásári Brunszvik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360" y="1797120"/>
            <a:ext cx="55436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Zichy-kastély, Vajt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3174840" cy="2247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79640" y="1569960"/>
            <a:ext cx="55450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stetics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06520" y="1600200"/>
            <a:ext cx="4530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Lovasberényi Czirák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8360" y="2131920"/>
            <a:ext cx="43196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icskei Batthyán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1762200"/>
            <a:ext cx="61214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 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Csaplári erdő (természetvédelmi terület és madárvédelmi rezervátu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Sárvízi madárvilág (pl. csüllő, daru, parlagi s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Gorsium, Tác –a Kárpát-medence legnagyobb régészeti park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ákozdi Emlékmúzeum (1848.szept.29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alotavárosi Skanzen, Székesfehér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Intercisa Castell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Pákozd- csüllő- Gorsiu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06360" y="196056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1320" y="1600200"/>
            <a:ext cx="2832120" cy="218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730760" y="3941640"/>
            <a:ext cx="3871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 I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Sárbogárdi tájhá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unaújvárosi kovácsmúze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Mezőföldi Tájház Dégen -160 éves paraszthá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99900"/>
                </a:solidFill>
                <a:latin typeface="Garamond"/>
              </a:rPr>
              <a:t>Maslow hierarchikus elmélete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95240" y="1950480"/>
            <a:ext cx="4239720" cy="3672000"/>
            <a:chOff x="795240" y="1950480"/>
            <a:chExt cx="4239720" cy="3672000"/>
          </a:xfrm>
        </p:grpSpPr>
        <p:sp>
          <p:nvSpPr>
            <p:cNvPr id="98" name="_s193544"/>
            <p:cNvSpPr/>
            <p:nvPr/>
          </p:nvSpPr>
          <p:spPr>
            <a:xfrm flipV="1">
              <a:off x="2612880" y="1950120"/>
              <a:ext cx="604440" cy="523800"/>
            </a:xfrm>
            <a:custGeom>
              <a:avLst/>
              <a:gdLst>
                <a:gd name="textAreaLeft" fmla="*/ 216720 w 604440"/>
                <a:gd name="textAreaRight" fmla="*/ 387720 w 604440"/>
                <a:gd name="textAreaTop" fmla="*/ 187920 h 523800"/>
                <a:gd name="textAreaBottom" fmla="*/ 3358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Megérté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3545"/>
            <p:cNvSpPr/>
            <p:nvPr/>
          </p:nvSpPr>
          <p:spPr>
            <a:xfrm flipV="1">
              <a:off x="2309400" y="2474640"/>
              <a:ext cx="1211040" cy="525600"/>
            </a:xfrm>
            <a:custGeom>
              <a:avLst/>
              <a:gdLst>
                <a:gd name="textAreaLeft" fmla="*/ 266040 w 1211040"/>
                <a:gd name="textAreaRight" fmla="*/ 945000 w 1211040"/>
                <a:gd name="textAreaTop" fmla="*/ 115560 h 525600"/>
                <a:gd name="textAreaBottom" fmla="*/ 410040 h 5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Esztéti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3546"/>
            <p:cNvSpPr/>
            <p:nvPr/>
          </p:nvSpPr>
          <p:spPr>
            <a:xfrm flipV="1">
              <a:off x="2006280" y="2999520"/>
              <a:ext cx="1817280" cy="523800"/>
            </a:xfrm>
            <a:custGeom>
              <a:avLst/>
              <a:gdLst>
                <a:gd name="textAreaLeft" fmla="*/ 315360 w 1817280"/>
                <a:gd name="textAreaRight" fmla="*/ 1501920 w 1817280"/>
                <a:gd name="textAreaTop" fmla="*/ 90720 h 523800"/>
                <a:gd name="textAreaBottom" fmla="*/ 4330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Önmegvalósítá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93547"/>
            <p:cNvSpPr/>
            <p:nvPr/>
          </p:nvSpPr>
          <p:spPr>
            <a:xfrm flipV="1">
              <a:off x="1703160" y="3524040"/>
              <a:ext cx="2423880" cy="525600"/>
            </a:xfrm>
            <a:custGeom>
              <a:avLst/>
              <a:gdLst>
                <a:gd name="textAreaLeft" fmla="*/ 364680 w 2423880"/>
                <a:gd name="textAreaRight" fmla="*/ 2059200 w 2423880"/>
                <a:gd name="textAreaTop" fmla="*/ 78840 h 525600"/>
                <a:gd name="textAreaBottom" fmla="*/ 446760 h 5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Megbecsülé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93548"/>
            <p:cNvSpPr/>
            <p:nvPr/>
          </p:nvSpPr>
          <p:spPr>
            <a:xfrm flipV="1">
              <a:off x="1401480" y="4048920"/>
              <a:ext cx="3026880" cy="523800"/>
            </a:xfrm>
            <a:custGeom>
              <a:avLst/>
              <a:gdLst>
                <a:gd name="textAreaLeft" fmla="*/ 413280 w 3026880"/>
                <a:gd name="textAreaRight" fmla="*/ 2613600 w 3026880"/>
                <a:gd name="textAreaTop" fmla="*/ 71280 h 523800"/>
                <a:gd name="textAreaBottom" fmla="*/ 45252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Szeret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93550"/>
            <p:cNvSpPr/>
            <p:nvPr/>
          </p:nvSpPr>
          <p:spPr>
            <a:xfrm flipV="1">
              <a:off x="1098360" y="4573440"/>
              <a:ext cx="3633480" cy="525600"/>
            </a:xfrm>
            <a:custGeom>
              <a:avLst/>
              <a:gdLst>
                <a:gd name="textAreaLeft" fmla="*/ 462600 w 3633480"/>
                <a:gd name="textAreaRight" fmla="*/ 3170880 w 3633480"/>
                <a:gd name="textAreaTop" fmla="*/ 66960 h 525600"/>
                <a:gd name="textAreaBottom" fmla="*/ 458640 h 5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Biztonság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3549"/>
            <p:cNvSpPr/>
            <p:nvPr/>
          </p:nvSpPr>
          <p:spPr>
            <a:xfrm flipV="1">
              <a:off x="795240" y="5098320"/>
              <a:ext cx="4239720" cy="523800"/>
            </a:xfrm>
            <a:custGeom>
              <a:avLst/>
              <a:gdLst>
                <a:gd name="textAreaLeft" fmla="*/ 511560 w 4239720"/>
                <a:gd name="textAreaRight" fmla="*/ 3728160 w 4239720"/>
                <a:gd name="textAreaTop" fmla="*/ 63000 h 523800"/>
                <a:gd name="textAreaBottom" fmla="*/ 46080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Fiziológia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148360" y="1557360"/>
            <a:ext cx="3384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Esztétikai szükségletek:</a:t>
            </a:r>
            <a:br>
              <a:rPr sz="2300"/>
            </a:b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Szimmetria, rend, szépsé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-Kulturális utak, kör-utazások, városlátogatások, természeti szépségek felkeresése, ökoturizmus, fesztiválturizm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rogramok, fesztivál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Etyeki Kezes-Lábos Gasztronómiai Fesztivál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„Asztalodon az életed, avagy a jótevés napja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Etyeki Pincefesztivál –bokóstolás, kiállítások, folklór- és gyermekprogram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Kastély Estek, Bics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odzavirág ünnepe, V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gyéb szükségletek 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Egészségturizmu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Komáromi Termálfürdő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Esztergomi Szent István Fürdő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Kékkúti forrás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81760" y="1606680"/>
            <a:ext cx="317016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gyéb szükséglete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Garamond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Garamond"/>
              </a:rPr>
              <a:t>Lovas turizmus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Sukoró, Kisbér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Sümegi Váristálló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Móron lovaspark és wellness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Garamond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Garamond"/>
              </a:rPr>
              <a:t>Vízi turizmus: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Velencei-tó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Balaton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Duna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vízisport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51600" y="1844640"/>
            <a:ext cx="302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gyéb szükségletek II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aramond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Garamond"/>
              </a:rPr>
              <a:t>Falusi turizmus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Balatonnál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-Kristály-völgy, Magyarpolány a Nemzeti Örökség rés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aramond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Garamond"/>
              </a:rPr>
              <a:t>Borturizmus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- 4 történelmi borvidék: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Ászár-Neszmély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99cc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Etyek-Budai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6666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Móri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cc99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Somló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716360" y="2160720"/>
            <a:ext cx="38163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999900"/>
                </a:solidFill>
                <a:latin typeface="Monotype Corsiva"/>
              </a:rPr>
              <a:t>Köszönjük a figyelmet</a:t>
            </a:r>
            <a:r>
              <a:rPr b="0" lang="en-US" sz="7200" spc="-1" strike="noStrike">
                <a:solidFill>
                  <a:srgbClr val="999900"/>
                </a:solidFill>
                <a:latin typeface="Monotype Corsiva"/>
              </a:rPr>
              <a:t>!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Veszprém megye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jó földrajzi és idegenforgalmi adottság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örténelmi emléke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Zala, Vas, Győr-Moson-Sopron, Komárom-Esztergom, Fejér határoljá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akony, a Balaton-part, Balaton-felvidék, Keszthelyi-hegység, Tapolcai- és Káli-medence, Kisalfö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11 város és 212 közsé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Megyeszékhelye: Veszpr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degenforgalmi szere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z infrastruktúra az országosnál magasabb színvonal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azdasági fejlőd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jelentős idegenforgal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38 ezer kereskedelmi szállásh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ereskedelmi szálláshelyei évente 450-460 ezer vendéget fogad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z általuk eltöltött idő 2,3 millió vendégéjsza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kastélyok, vár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emzeti parkok, arborétum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avak, folyók, patak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úzeum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óváro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esztivál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Kastélyok, vára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árpalota -Zich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ápa -Esterházy-kastél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oba -Erdőd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evecser -Esterház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Cseszneki vá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öbrönte -Szarvaskő 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Sümegi 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eszprém -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árpalota, Zich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973160"/>
            <a:ext cx="5545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7:46:26Z</dcterms:created>
  <dc:creator>Kiraly</dc:creator>
  <dc:description/>
  <dc:language>en-US</dc:language>
  <cp:lastModifiedBy>mopi</cp:lastModifiedBy>
  <dcterms:modified xsi:type="dcterms:W3CDTF">2005-04-17T08:09:34Z</dcterms:modified>
  <cp:revision>4</cp:revision>
  <dc:subject/>
  <dc:title>A Közép-Dunántúli Régió bemutatása az esztétikai szükségletek szempontjából</dc:title>
</cp:coreProperties>
</file>