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174-30D2-45F5-9910-0C0ACDB5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319-0E63-4E42-9A57-4E118E85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6AB-84B5-4104-8B29-9106135F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B1A-28C3-41E0-A66F-44AA4F83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4A65-D779-49BC-A0E9-3DA37447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A503-1EBF-453B-9012-3316983D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5776-0119-4596-BD41-54AF9552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3950-999C-4F8F-972D-0967BF79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2287-AC9F-4B0F-A2C7-8F73AFB7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8A07-AD24-4E2B-B78E-4CDC5A68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A5D4-E18D-4392-823D-3857F1BD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B48-3AA8-446D-9B1A-95AFF2B3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B8A8-F6E9-496A-8CAC-205B2BF8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D1EE-3A18-49C0-9DEA-2A08367B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FCF6-5779-4D19-BE17-140C8341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208E-8904-46CC-AA32-64B8B800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439C-6D36-43CB-A6A2-3FCFB98C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9E2-3A7C-4836-9B5B-6DB5BB71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F0B-5832-495C-8B25-AD3643CC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993-5221-4615-8D25-0AE16A16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30F-1277-44DD-8366-CBD2DAC0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6AD-D52C-408A-B3BF-A760E826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377-590F-474C-BEDC-5208CF4C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61D-B0F9-49D6-9279-4D1B53AC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D67A-AE16-411B-92F1-21E39851CC2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4AB7-DB1F-4A4A-ADF5-421B16014A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A Közép-Dunántúli Régió bemutatása az esztétikai szükségletek szempontjábó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Készítették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Orlai Melinda és Király Erzséb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2005.ápril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ápa, Esterházy-kastél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97160" y="1770120"/>
            <a:ext cx="6349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99900"/>
                </a:solidFill>
                <a:latin typeface="Garamond"/>
              </a:rPr>
              <a:t>Doba, Erdődy-kastél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55800" y="1773360"/>
            <a:ext cx="3749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99900"/>
                </a:solidFill>
                <a:latin typeface="Garamond"/>
              </a:rPr>
              <a:t>Devecser, Esterházy-kastély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21080" y="1773360"/>
            <a:ext cx="4233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999900"/>
                </a:solidFill>
                <a:latin typeface="Garamond"/>
              </a:rPr>
              <a:t>Cseszneki vár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03280" y="1882800"/>
            <a:ext cx="66247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Sümegi vár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50800" y="1600200"/>
            <a:ext cx="6240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Veszprémi vár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Balaton-felvidéki Nemzeti Pa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 megyében 50 települést ér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tájvédelmi terület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területi egységei: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Tihanyi-félsziget, Pécselyi-medence, Káli-medence, Tapolcai-medence és a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tanúhegyek, Zala és Somogy megyében a Keszthelyi-hegység és a Kis-Balaton, a teljes Balaton-part és a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Balaton öble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67360" y="2271600"/>
            <a:ext cx="32004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Zirci arborétu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 legmagasabban fekvő arborétum az országban -400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 cisztercita apátság angolkertjéből alakult ki a botanikus ke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Cuha-pat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kiemelkedő természeti értéke a 380 m hosszú hársfa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őshonos fafajtá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különleges madárfajtá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356000" y="2340000"/>
            <a:ext cx="43196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Múzeumo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Balatonederics -Afrika Múze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Pápa -Egyháztörténeti és Egyház-művészeti Múzeu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Nagyvázsony -Kinizsi-vá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Nemesvámos és Veszprémfajsz határában -római maradvány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Tihany -Bencés Apátsági Múze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Herend -Porcelánművészeti Múze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Zirc -Reguly Antal Műemlék Könyvtá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ermészeti vonzerők, értéke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Szentbékkálla -Kőten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Tapolca -Tavasbarla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Fenyőfő -Ősfeny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Káli mandula -Hungaric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Tihany -Gejzírmez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A Közép-Dunántúli Régió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Dunántúl középső részén helyezkedik 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Északon a Duna, keleten Pest megye, délen a Dél-Dunántúli Régió, nyugaton a Nyugat-Dunántúli Régió határol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árom megye alkotja: Fejér, Komárom-Esztergom és Veszprém megy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akony, Vértes, Gerec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Velencei-t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alat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Fesztiválo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Veszprém -Gizella-napok Művészeti Fesztivál; a Tánc Fesztivál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Csesznek -Tárogató Fesztivál, Vár-játéko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Várpalota -Nemzetközi Fúvósfesztivá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4360" y="3675240"/>
            <a:ext cx="3600360" cy="2576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36720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Komárom-Esztergom megye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erülete: 2251 k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,   30%-a erd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Lakóinak száma: 318 ez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egyeszékhelye: 1950-től Tatabánya (1923-tól Esztergom vol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Komárom vármegye + Esztergom vármegy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gyesülésé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unántúli-középhegység, Kisalfö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una, tatai Öreg-t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Jelentős gép- és élelmiszerip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degenforgalmi szerep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udapest közelsége, Dunakany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űemlékekben gazdag Eszterg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1-es autópálya (Béc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ízi szállítá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sztergomi repülőté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356000" y="2343240"/>
            <a:ext cx="43196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Vonzerők I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Esztergomi Bazili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Monostori erő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Várgesztesi vá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Dömsödi prépostsá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Vértesszentkereszti apátság, Oroszlán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Duna-Ipoly Nemzeti Pa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Tata-Agostyáni arborét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Esterházy Ferenc tatai angolkert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nostori erő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28880" y="1600200"/>
            <a:ext cx="5286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99900"/>
                </a:solidFill>
                <a:latin typeface="Garamond"/>
              </a:rPr>
              <a:t>Vértesszentkereszti apátsá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835280" y="1884240"/>
            <a:ext cx="52578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atai Arborétu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11280" y="2422440"/>
            <a:ext cx="4248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Vonzerők II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Tatai szabadtéri múze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Vadludak éjszakázása Tatá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Keresztény Múzeum, Eszterg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Kálvária-diom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Vértesszőlősi múzeum – 350 ezer éves ősember csontmaradványai és konzervált lábnyo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Duna Múzeum (Magyar Környezetvédelmi és Vízügyi Múzeum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59280" y="2505240"/>
            <a:ext cx="35290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Programok, fesztiválo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Komáromi napok (sportrendezvénye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Hilltop Borünnep –borkóstolók, és előadás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Vadlúd sokadalom, Tata  -madarász fesztivá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0920" y="2982960"/>
            <a:ext cx="45370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Fejér megye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erülete: 4373 k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Lakossága: 424 ezer f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Két megyei jogú városa: Székesfehérvár és Dunaújvár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7 város, 98 közsé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ezőföld, Alföld bizonyos része, Keleti-Bakony, Vértes-hegység, Gerecse, Bicskei-dombsá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Velencei-t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örténe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 régió magába foglalja a Balaton északi partjának majdnem teljes hosszá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alaton-felvidéki Nemzeti Park, Duna-Ipoly Nemzeti Pa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z ország lakosságának 11 százaléka, 1,1 millió emb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ipari fejlődé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agy jelentőségű idegenforgal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degenforgalmi szerep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űemlék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ermészetvédelmi terület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Velencei-tó (25 k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portversenyek (kajak-kenu, horgászat, széllovaglá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Kastélyo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Brunszvik-kasté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Vajtai Zichy-kasté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Festetics-kastély, Dé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Lovasberényi Cziráky-kasté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Bicskei Batthyány-kasté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Hochburg-Lamberg-Miske-kasté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99900"/>
                </a:solidFill>
                <a:latin typeface="Garamond"/>
              </a:rPr>
              <a:t>Martonvásári Brunszvik-kastél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360" y="1797120"/>
            <a:ext cx="55436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99900"/>
                </a:solidFill>
                <a:latin typeface="Garamond"/>
              </a:rPr>
              <a:t>Zichy-kastély, Vajt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76720" y="4365720"/>
            <a:ext cx="3174840" cy="2247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979640" y="1569960"/>
            <a:ext cx="55450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estetics-kastél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306520" y="1600200"/>
            <a:ext cx="4530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99900"/>
                </a:solidFill>
                <a:latin typeface="Garamond"/>
              </a:rPr>
              <a:t>Lovasberényi Cziráky-kastél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68360" y="2131920"/>
            <a:ext cx="43196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Bicskei Batthyány-kastél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03280" y="1762200"/>
            <a:ext cx="612144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Vonzerők I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Csaplári erdő (természetvédelmi terület és madárvédelmi rezervátu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Sárvízi madárvilág (pl. csüllő, daru, parlagi s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Gorsium, Tác –a Kárpát-medence legnagyobb régészeti park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Pákozdi Emlékmúzeum (1848.szept.29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Palotavárosi Skanzen, Székesfehérvá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Intercisa Castell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99900"/>
                </a:solidFill>
                <a:latin typeface="Garamond"/>
              </a:rPr>
              <a:t>Pákozd- csüllő- Gorsiu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206360" y="1960560"/>
            <a:ext cx="2540160" cy="3809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51320" y="1600200"/>
            <a:ext cx="2832120" cy="2189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730760" y="3941640"/>
            <a:ext cx="3871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Vonzerők II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Sárbogárdi tájhá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Dunaújvárosi kovácsmúze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Mezőföldi Tájház Dégen -160 éves paraszthá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999900"/>
                </a:solidFill>
                <a:latin typeface="Garamond"/>
              </a:rPr>
              <a:t>Maslow hierarchikus elmélete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95240" y="1950480"/>
            <a:ext cx="4239720" cy="3672000"/>
            <a:chOff x="795240" y="1950480"/>
            <a:chExt cx="4239720" cy="3672000"/>
          </a:xfrm>
        </p:grpSpPr>
        <p:sp>
          <p:nvSpPr>
            <p:cNvPr id="98" name="_s193544"/>
            <p:cNvSpPr/>
            <p:nvPr/>
          </p:nvSpPr>
          <p:spPr>
            <a:xfrm flipV="1">
              <a:off x="2612880" y="1950120"/>
              <a:ext cx="604440" cy="523800"/>
            </a:xfrm>
            <a:custGeom>
              <a:avLst/>
              <a:gdLst>
                <a:gd name="textAreaLeft" fmla="*/ 216720 w 604440"/>
                <a:gd name="textAreaRight" fmla="*/ 387720 w 604440"/>
                <a:gd name="textAreaTop" fmla="*/ 187920 h 523800"/>
                <a:gd name="textAreaBottom" fmla="*/ 33588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Megérté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3545"/>
            <p:cNvSpPr/>
            <p:nvPr/>
          </p:nvSpPr>
          <p:spPr>
            <a:xfrm flipV="1">
              <a:off x="2309400" y="2474640"/>
              <a:ext cx="1211040" cy="525600"/>
            </a:xfrm>
            <a:custGeom>
              <a:avLst/>
              <a:gdLst>
                <a:gd name="textAreaLeft" fmla="*/ 266040 w 1211040"/>
                <a:gd name="textAreaRight" fmla="*/ 945000 w 1211040"/>
                <a:gd name="textAreaTop" fmla="*/ 115560 h 525600"/>
                <a:gd name="textAreaBottom" fmla="*/ 410040 h 52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Esztétik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3546"/>
            <p:cNvSpPr/>
            <p:nvPr/>
          </p:nvSpPr>
          <p:spPr>
            <a:xfrm flipV="1">
              <a:off x="2006280" y="2999520"/>
              <a:ext cx="1817280" cy="523800"/>
            </a:xfrm>
            <a:custGeom>
              <a:avLst/>
              <a:gdLst>
                <a:gd name="textAreaLeft" fmla="*/ 315360 w 1817280"/>
                <a:gd name="textAreaRight" fmla="*/ 1501920 w 1817280"/>
                <a:gd name="textAreaTop" fmla="*/ 90720 h 523800"/>
                <a:gd name="textAreaBottom" fmla="*/ 43308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Önmegvalósítá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93547"/>
            <p:cNvSpPr/>
            <p:nvPr/>
          </p:nvSpPr>
          <p:spPr>
            <a:xfrm flipV="1">
              <a:off x="1703160" y="3524040"/>
              <a:ext cx="2423880" cy="525600"/>
            </a:xfrm>
            <a:custGeom>
              <a:avLst/>
              <a:gdLst>
                <a:gd name="textAreaLeft" fmla="*/ 364680 w 2423880"/>
                <a:gd name="textAreaRight" fmla="*/ 2059200 w 2423880"/>
                <a:gd name="textAreaTop" fmla="*/ 78840 h 525600"/>
                <a:gd name="textAreaBottom" fmla="*/ 446760 h 52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Megbecsülé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93548"/>
            <p:cNvSpPr/>
            <p:nvPr/>
          </p:nvSpPr>
          <p:spPr>
            <a:xfrm flipV="1">
              <a:off x="1401480" y="4048920"/>
              <a:ext cx="3026880" cy="523800"/>
            </a:xfrm>
            <a:custGeom>
              <a:avLst/>
              <a:gdLst>
                <a:gd name="textAreaLeft" fmla="*/ 413280 w 3026880"/>
                <a:gd name="textAreaRight" fmla="*/ 2613600 w 3026880"/>
                <a:gd name="textAreaTop" fmla="*/ 71280 h 523800"/>
                <a:gd name="textAreaBottom" fmla="*/ 45252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Szerete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93550"/>
            <p:cNvSpPr/>
            <p:nvPr/>
          </p:nvSpPr>
          <p:spPr>
            <a:xfrm flipV="1">
              <a:off x="1098360" y="4573440"/>
              <a:ext cx="3633480" cy="525600"/>
            </a:xfrm>
            <a:custGeom>
              <a:avLst/>
              <a:gdLst>
                <a:gd name="textAreaLeft" fmla="*/ 462600 w 3633480"/>
                <a:gd name="textAreaRight" fmla="*/ 3170880 w 3633480"/>
                <a:gd name="textAreaTop" fmla="*/ 66960 h 525600"/>
                <a:gd name="textAreaBottom" fmla="*/ 458640 h 52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Biztonság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93549"/>
            <p:cNvSpPr/>
            <p:nvPr/>
          </p:nvSpPr>
          <p:spPr>
            <a:xfrm flipV="1">
              <a:off x="795240" y="5098320"/>
              <a:ext cx="4239720" cy="523800"/>
            </a:xfrm>
            <a:custGeom>
              <a:avLst/>
              <a:gdLst>
                <a:gd name="textAreaLeft" fmla="*/ 511560 w 4239720"/>
                <a:gd name="textAreaRight" fmla="*/ 3728160 w 4239720"/>
                <a:gd name="textAreaTop" fmla="*/ 63000 h 523800"/>
                <a:gd name="textAreaBottom" fmla="*/ 46080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Fiziológia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148360" y="1557360"/>
            <a:ext cx="3384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hu-HU" sz="2300" spc="-1" strike="noStrike">
                <a:solidFill>
                  <a:srgbClr val="000000"/>
                </a:solidFill>
                <a:latin typeface="Garamond"/>
              </a:rPr>
              <a:t>Esztétikai szükségletek:</a:t>
            </a:r>
            <a:br>
              <a:rPr sz="2300"/>
            </a:br>
            <a:r>
              <a:rPr b="1" lang="hu-HU" sz="2300" spc="-1" strike="noStrike">
                <a:solidFill>
                  <a:srgbClr val="000000"/>
                </a:solidFill>
                <a:latin typeface="Garamond"/>
              </a:rPr>
              <a:t>Szimmetria, rend, szépsé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Garamond"/>
              </a:rPr>
              <a:t>-Kulturális utak, kör-utazások, városlátogatások, természeti szépségek felkeresése, ökoturizmus, fesztiválturizm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Programok, fesztiválo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Etyeki Kezes-Lábos Gasztronómiai Fesztivál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„Asztalodon az életed, avagy a jótevés napja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Etyeki Pincefesztivál –bokóstolás, kiállítások, folklór- és gyermekprogram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Kastély Estek, Bicsk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Bodzavirág ünnepe, Vá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gyéb szükségletek I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Egészségturizmu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Komáromi Termálfürdő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Esztergomi Szent István Fürdő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Kékkúti forrás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81760" y="1606680"/>
            <a:ext cx="317016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gyéb szükségletek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I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Garamond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Garamond"/>
              </a:rPr>
              <a:t>Lovas turizmus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-Sukoró, Kisbér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-Sümegi Váristálló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-Móron lovaspark és wellness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Garamond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000000"/>
                </a:solidFill>
                <a:uFillTx/>
                <a:latin typeface="Garamond"/>
              </a:rPr>
              <a:t>Vízi turizmus: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-Velencei-tó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-Balaton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-Duna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-vízisport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51600" y="1844640"/>
            <a:ext cx="3025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gyéb szükségletek III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Garamond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000000"/>
                </a:solidFill>
                <a:uFillTx/>
                <a:latin typeface="Garamond"/>
              </a:rPr>
              <a:t>Falusi turizmus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Balatonnál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-Kristály-völgy, Magyarpolány a Nemzeti Örökség rés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Garamond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000000"/>
                </a:solidFill>
                <a:uFillTx/>
                <a:latin typeface="Garamond"/>
              </a:rPr>
              <a:t>Borturizmus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- 4 történelmi borvidék: 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2000" spc="-1" strike="noStrike">
                <a:solidFill>
                  <a:srgbClr val="999900"/>
                </a:solidFill>
                <a:latin typeface="Garamond"/>
              </a:rPr>
              <a:t>-</a:t>
            </a: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Ászár-Neszmély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2000" spc="-1" strike="noStrike">
                <a:solidFill>
                  <a:srgbClr val="99cc00"/>
                </a:solidFill>
                <a:latin typeface="Garamond"/>
              </a:rPr>
              <a:t>-</a:t>
            </a: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Etyek-Budai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2000" spc="-1" strike="noStrike">
                <a:solidFill>
                  <a:srgbClr val="666600"/>
                </a:solidFill>
                <a:latin typeface="Garamond"/>
              </a:rPr>
              <a:t>-</a:t>
            </a: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Móri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2000" spc="-1" strike="noStrike">
                <a:solidFill>
                  <a:srgbClr val="cc9900"/>
                </a:solidFill>
                <a:latin typeface="Garamond"/>
              </a:rPr>
              <a:t>-</a:t>
            </a: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Somló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716360" y="2160720"/>
            <a:ext cx="381636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999900"/>
                </a:solidFill>
                <a:latin typeface="Monotype Corsiva"/>
              </a:rPr>
              <a:t>Köszönjük a figyelmet</a:t>
            </a:r>
            <a:r>
              <a:rPr b="0" lang="en-US" sz="7200" spc="-1" strike="noStrike">
                <a:solidFill>
                  <a:srgbClr val="999900"/>
                </a:solidFill>
                <a:latin typeface="Monotype Corsiva"/>
              </a:rPr>
              <a:t>!</a:t>
            </a:r>
            <a:endParaRPr b="0" lang="en-US" sz="7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Veszprém megye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jó földrajzi és idegenforgalmi adottság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történelmi emlékek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Zala, Vas, Győr-Moson-Sopron, Komárom-Esztergom, Fejér határoljá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Bakony, a Balaton-part, Balaton-felvidék, Keszthelyi-hegység, Tapolcai- és Káli-medence, Kisalfö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11 város és 212 közsé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Megyeszékhelye: Veszpré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degenforgalmi szerep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z infrastruktúra az országosnál magasabb színvonal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azdasági fejlőd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jelentős idegenforgal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38 ezer kereskedelmi szállásh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kereskedelmi szálláshelyei évente 450-460 ezer vendéget fogadna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z általuk eltöltött idő 2,3 millió vendégéjsza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Vonzerő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kastélyok, vára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emzeti parkok, arborétum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avak, folyók, patak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úzeum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óváros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esztivál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Kastélyok, vára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Várpalota -Zichy-kasté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Pápa -Esterházy-kastél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Doba -Erdődy-kasté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Devecser -Esterházy-kasté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Cseszneki vá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Döbrönte -Szarvaskő vá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Sümegi vá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Veszprém -vá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Várpalota, Zichy-kastél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1973160"/>
            <a:ext cx="55454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6T07:46:26Z</dcterms:created>
  <dc:creator>Kiraly</dc:creator>
  <dc:description/>
  <dc:language>en-US</dc:language>
  <cp:lastModifiedBy>mopi</cp:lastModifiedBy>
  <dcterms:modified xsi:type="dcterms:W3CDTF">2005-04-17T08:09:34Z</dcterms:modified>
  <cp:revision>4</cp:revision>
  <dc:subject/>
  <dc:title>A Közép-Dunántúli Régió bemutatása az esztétikai szükségletek szempontjából</dc:title>
</cp:coreProperties>
</file>