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C17-3379-41D2-A64E-A6E7F55A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543-2C40-458E-BAB7-59A2FF8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0FF-F83D-4CF5-BBEE-7061D4B6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F36-0015-4902-9C66-14022C1C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E26-3063-4498-B171-25BD9A01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C36-EAAB-4C1A-A1B9-59254A5A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043-5B19-45D0-9CBC-A7BCA5B1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A087-BE47-4EAC-B6EC-6E48CF5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F18-B2E3-4D67-A24E-4FCB300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72E-E606-4105-A8C2-BAFBF0ED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30D-827D-459C-B466-E26DA32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F99-7B05-44E4-9684-FF679A81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014E-8C7A-43B2-8D05-6CDABD9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B393-7566-4EC8-8AEC-D27E4B6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754-55B2-4D6F-A95F-1F4C36E3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D2A3-8DCD-4399-90B4-37AE8019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EFF-E8AA-4A47-AB49-04388A70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5A3-6F92-4B6A-9CA4-A5C4FC8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B26-1AC9-4260-A81A-A830D95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4F9-D8C8-4481-8DDF-A2B3A96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B65-3190-41C3-9CCD-18C077D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967-36BD-43F7-846E-65972E3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753-0682-4109-BA5F-6E2B43C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025-5779-43F3-A644-7C55840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8C6-EABE-413E-9200-3B0A9D6BD38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C4F-2062-4F83-AA69-904F9FBD049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VONZERŐLELTÁR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GÖDÖLLŐ ÉS TÉRSÉG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ESETTANULMÁNY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6E0-E2D1-45B2-B62A-5D84A02EFA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1 - Kastélyturizmus, műemléki turizmus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Javasolt kínálati elemek: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Történelmi körutazás: Dunakeszi, Isaszeg, galgahévíz, Gödöllő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Harangok nyomában: Őrbottyán, Galgahévíz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Művészet és történelem: Gödöllői művésztelep, Szada - Székely Bertalan műterme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Nemzetiségek és kultúrák: magyar, szlovák és sváb hagyomány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ödöllő környéki kastélyok: Aszód, Tura, Váchartyá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Egyházi építészet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Próbálja ki! - szövés, harangöntés, dénárveré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Sissy nyomában: postakocsizás és nosztalgia gőzö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C47-44A5-4548-A050-14E00693D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660066"/>
                </a:solidFill>
                <a:latin typeface="Arial"/>
              </a:rPr>
              <a:t>2 - Lovasturizmus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Vonzerő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Dámalovaglá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Lótenyésztési- és Oktatási Kísérleti telep - GATE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rassalkovich Lovas Egylet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Lovas-íjász vállalkozás (Szada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Lovasklubok, lovasiskolák 8 települése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Rendezvénye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Díjugrató Kupa, Gödöllő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Alagi Lovas Majáli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Lovaglás, lovas tábor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Vadászvacsora, Lovagitorna -  Gödöllő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991-A2F9-48A8-96C5-25224BCFC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660066"/>
                </a:solidFill>
                <a:latin typeface="Arial"/>
              </a:rPr>
              <a:t>2 - Lovasturizmus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avasolt kínálati elemek: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Lovas csomagajánlat: egy- és kéthetes tartózkodásra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Lovagló tanfolyamok különböző tudásszinte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Korosztályos programok (aktív és passzív elemekkel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Programok speciális célcsoportoknak: fogyatékkal élők,  lovas szakemberek, testnevelők…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Lovaglóruhák bemutatója - korok, stílus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Ló és lovasa - szépségverseny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6E6-0FFE-466A-9ECC-B554C0E5F9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3 - Gasztronómiai és bortúrák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Vonzerő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ödöllői Királyi Kastély gasztronómiai ajánlata valamint a város egyéb éttermei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ót: Fáy András présház (ma vendéglő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Veresegyház: XVIII. századi csárda (ma vendéglő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Üllő: Juhsajtfeldolgozó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algahévíz: Hotel GAIA (vegetáriánus- és öko-ételek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Rendezvénye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Szüreti rendezvények 10 települése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Vadászvacsora és Lovagitornás vacsora a Kastély udvará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olklórvacsorák, lakodalmasok (Galga-mente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C38-3163-498F-958B-6ECC63FA7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3 - Gasztronómiai és bortúrák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Javasolt kínálati elemek: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Sissy konyhájában - főzőtanfolyamok különböző szinten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Vadételek készítése - tanfolyam és kóstolá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Magyaros gasztronómiai kurzusok külföldieknek (profi és amatőr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őpohárnoki borkóstoló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Egyedi stílussal rendelkező vendéglátóhelye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666-BC9B-402C-A53A-D9FDED8E4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VONZERŐLELTÁR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MOHÁCS ÉS TÉRSÉG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ESETTANULMÁNY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7C46-3710-46F4-AF8A-25024E62E5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kistérség és a turizmu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A kistérség - 21 települé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Mezőgazdasági terület - turizmus kiegészítő jövedelemforrásként jelenik meg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Nincsenek nemzetközi jelentőségű vonzerők, de komplex kínálati elemei változatos termékekké formálható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Aprófalvas település - Falusi turizmu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Borturizmu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ulturális turizmu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Természetjárás, öko-turizmu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Nemzetiségi hagyományok - rokonlátogatá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9C2-D589-4ED6-BF69-1B408E131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risztikai adottságok, infrastruktúr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Megközelíthetőség: megfelelő (közút, vasút, Duna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45472"/>
                </a:solidFill>
                <a:latin typeface="Arial"/>
              </a:rPr>
              <a:t>De: hiányzik a repülőtér és az autópály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örnyezet állapota: jó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özbiztonság: jó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Turizmus fejlesztési tervek: 1 település, DDNP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Idegenvezetés: 6 települé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Információs szolgálat: Mohács, Bóly, Nagynyárád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45472"/>
                </a:solidFill>
                <a:latin typeface="Arial"/>
              </a:rPr>
              <a:t>De: több helyen Faluház ellátja ezen funkciók egy részét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Utazási iroda: Mohác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ereskedelmi szálláshely: 7 település (szálloda - Mohács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alusi vendégfogadás: 12 települé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erékpárút: 7 településre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43F-175E-4254-B459-12F8B3989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zükséges fejlesztése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Megközelíthetőség: vasút minősége, autópálya, Duna-híd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örnyezet állapota: szennyvízelvezetés (13 településen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özbiztonság: folyamatos odafigyelé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Turizmus fejlesztési tervek: kistérségi, megyei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Információs szolgálat: bővítés, új információs pontok, programszervezők, tájékoztató táblarendszer 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Szálláshely: legalább egy magasabb színvonalú szálláshely, konferencia kapacitással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Vendéglátás: minőségi színvonal javítása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erékpárút: Dunaszekcső-Szederkény (57-es úttal párhuzamosan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7D2-2D67-4F2E-8852-3763881CE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SVÁB BORÚT - A fejlesztések vezérfonala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Célja: komplex kínálat, mely több terméktípust is átsző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Arculatot formá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egkülönbözte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Összefog (több terméktípust), termékcsomagot épí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Kapcsolódó termékek a meglévő vonzerők alapjá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8D3-E118-4F42-972B-4C60C813D0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 kistérség és a turizmu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A kistérség - 9 település, ebből 1 váro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A turizmus jelentősége a régióban általában csekély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Információs pontok: Gödöllő, Isaszeg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Idegenvezetés: Gödöllő, Zsámbok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Utazási iroda: Gödöllő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Szálláshely kapacitás: Gödöllő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Fejlesztési tervek: 5 település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EC8-5D50-42BC-8A3C-2093DC896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. Falusi turizmu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 legjelentősebb termé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Sváb lakodalmas programok, népi mesterségek 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Borászat (Bóly, Dunaszekcső, Nagynyárád, Szajk…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eketekerámia (Mohács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ékfestő műhely (Nagynyárád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Helytörténeti gyűjtemény (Somberek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Erdei tornapálya, lovarda (Szederkény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ejlesztendő: vendégfogadás feltételei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6BB-2054-4F8C-B601-683386CFAE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2. Rokonlátogatá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Alapja a működő német kapcsolatrendszer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Folklór, nemzetiségi hagyományok ápolása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Nemzetiségi fúvószenekar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Nemzetiségi tánccsoport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Borászat 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Helytörténeti gyűjtemény 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Fejlesztendő: helyi programok, vendéglátá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Megjegyzés: alacsony gazdasági hozam, önállóan nincs racionalitása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420-9840-4201-8345-B10DC94E1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ulturális turizmu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Nemzetiségi program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Műemlék jellegű épülete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Mohácsi Történelmi Emlékhely, Múzeum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Busójárás, fekete kerámia, kékfestőműhely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09880"/>
            <a:ext cx="8610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Duna-Dráva Nemzeti Park (Béda-Karapancs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Dunapart, Várhegy (Dunaszekcső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Erdei tornapálya, lovard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1375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ejlesztendő: kijelölt turistautak, tűzrakók, pihenők, beállók, szervezett szemétgyűjté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200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ermészetjárá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CF1-EA47-4659-B4E4-B451322EDA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orturizmu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Borászat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Védett pincesor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75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Fejlesztendő: minőség, pincék látogathatósága, infrastruktúra (buszparkolók, WC)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Német nemzetiségi programok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Kézműves műhelyek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Busójárá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375"/>
              </a:spcBef>
              <a:buClr>
                <a:srgbClr val="545472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Arial"/>
              </a:rPr>
              <a:t>Fejlesztendő: egyéb nemzetiségi programok (horvát, székely, szerb, cigány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200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zínes mozaik (Folklór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CB7-853F-4CCF-BD8F-5BCB19D1B1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Nemzetközi jelentőségű vonzerők - 1.</a:t>
            </a:r>
            <a:br>
              <a:rPr sz="3000"/>
            </a:b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Gödöllői Királyi Kastély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5486400" cy="43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AF8-BF43-4D75-B36B-3DE516E95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660066"/>
                </a:solidFill>
                <a:latin typeface="Arial"/>
              </a:rPr>
              <a:t>Nemzetközi jelentőségű vonzerők - 2.</a:t>
            </a:r>
            <a:br>
              <a:rPr sz="3000"/>
            </a:br>
            <a:r>
              <a:rPr b="0" lang="hu-HU" sz="3000" spc="-1" strike="noStrike">
                <a:solidFill>
                  <a:srgbClr val="660066"/>
                </a:solidFill>
                <a:latin typeface="Arial"/>
              </a:rPr>
              <a:t>Máriabesnyő - Kapucínus templom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69412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042-26EB-40A5-8848-6E8F8C682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szágos jelentőségű vonzerők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45472"/>
                </a:solidFill>
                <a:latin typeface="Arial"/>
              </a:rPr>
              <a:t>Gödöllő: Agrártudományi Egyetem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45472"/>
                </a:solidFill>
                <a:latin typeface="Arial"/>
              </a:rPr>
              <a:t>Gödöllő: Mezőgazdasági Gépmúzeum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45472"/>
                </a:solidFill>
                <a:latin typeface="Arial"/>
              </a:rPr>
              <a:t>Veresegyház: termálstrand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45472"/>
                </a:solidFill>
                <a:latin typeface="Arial"/>
              </a:rPr>
              <a:t>Galgamente: folklór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A69-AAEF-412F-BB82-2AA25DDAA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Jellemző turisztikai termékek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ulturális termékek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Rendezvényturizmu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Városlátogatá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űemléki turizmu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Folklór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allási turizmu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irándulások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orgászturizmu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ermálturizmu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port, kerékpáros turizmu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3ED-B9C1-48C1-A28A-8800AFB71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 fejlesztési esettanulmány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Az új kistérség lehatárolása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Gödöllő központtal egy a Dunakanyarhoz hasonló jelentőségű kistérség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20-30 km-es körzet, Budapest és Környék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35 települé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545472"/>
                </a:solidFill>
                <a:latin typeface="Arial"/>
              </a:rPr>
              <a:t>Terméktípusok kialakítása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Kapcsolódó vonzerő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Rendszeres és alkalmi rendezvénye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További javasolt kínálati elemek és fejlesztési javaslato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BDC-EB9D-4BCD-85B7-9EB15B982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660066"/>
                </a:solidFill>
                <a:latin typeface="Arial"/>
              </a:rPr>
              <a:t>Nemzetközi jelentőségű vonzerők - 3.</a:t>
            </a:r>
            <a:br>
              <a:rPr sz="3000"/>
            </a:br>
            <a:r>
              <a:rPr b="0" lang="hu-HU" sz="3000" spc="-1" strike="noStrike">
                <a:solidFill>
                  <a:srgbClr val="660066"/>
                </a:solidFill>
                <a:latin typeface="Arial"/>
              </a:rPr>
              <a:t>Mogyoród - Hungaroring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509400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2E7-0DFA-4AB0-AF62-7BEF3A154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1 - Kastélyturizmus, műemléki turizmus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Vonzerő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ödöllő: Kastély, Művésztelep, Egyetem, Városi Múzeum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Galgahévíz: Mocsárba rejtett harang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Isaszeg: Isaszegi csata emlékmű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Nagytarcsa: Trianon emlékmű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Őrbottyán: Harangöntő műhely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45472"/>
                </a:solidFill>
                <a:latin typeface="Arial"/>
              </a:rPr>
              <a:t>Rendezvények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Kastély kulturális rendezvényei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Folklórprogramok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45472"/>
                </a:solidFill>
                <a:latin typeface="Arial"/>
              </a:rPr>
              <a:t>Lovarda: Dáma lovaglás</a:t>
            </a: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70B-043A-45F7-9A16-84320680F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1:22Z</dcterms:created>
  <dc:creator>StarKing</dc:creator>
  <dc:description/>
  <dc:language>en-US</dc:language>
  <cp:lastModifiedBy>StarKing</cp:lastModifiedBy>
  <dcterms:modified xsi:type="dcterms:W3CDTF">2005-05-15T14:45:03Z</dcterms:modified>
  <cp:revision>93</cp:revision>
  <dc:subject/>
  <dc:title>A szabadidŒ helye a teljes idŒfelhasználásban</dc:title>
</cp:coreProperties>
</file>