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082-0CB3-4036-BF5F-4CD77CD7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AF47-41C8-487B-9F57-1486CA67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E95-75DA-49E0-B055-7A7E6B8B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9A3-75D4-4478-9DDB-527074D9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64B-2DF5-4D09-8234-A6CAD6CB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7C38-EFAC-44EC-BF0F-84714C3C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E173-97AA-4454-9B5B-17DDFC37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1E5-7F89-4CAD-924E-1A22DF04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E86-02D2-435F-ABDC-89D02F02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AB7-1251-4EE1-9E69-FCB2387C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C69-F017-4DE4-811C-68E48CAE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544-5A43-4921-984F-6C486B93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0A85-5BBC-4DAF-A83D-C9F2D07964C6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557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8080" y="3962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urizm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öldrajzán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árgy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219320"/>
            <a:ext cx="7543800" cy="51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urizmus földrajzának tárgya az idegenforgalmi környezet, mely a komplex földrajzi környezetet foglalja magába, ahol a turizmus lezajli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Részterülete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rmészeti környez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azdasági környez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ársadalmi környeze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ulturális környez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isztikai adottságokon földrajzi környezetünk olyan természeti, társadalmi, gazdasági és kulturális tényezőit értjük, melyek vonzerőként jelentkezhetnek az utazni vágyók számá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398-F7AA-4C42-8B55-3C5996C277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észetföldrajzi adottság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öldrajzi helyzet (fekvés, megközelíthetősé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borzat (abszolút- és relatív magassá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ghaj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ízrajz (tengerek, tavak, folyók, gyógy- és termálvize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övény- és állatvilá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yedi adottságok, természeti jelenség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E3B-347A-4F11-A61C-8A72DFB998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zdaságföldrajzi adottság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épesség- és településszerke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épesség (Fogyasztó és munkaerő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zdaságszerke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zőgazdas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özleked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eskedelem és szolgáltatói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zdaság és turizmus kölcsönh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9A3-60BF-4D62-AE9E-E304E4F2B4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turális és egyéb adottság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örténelmi, művészeti adottsá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örténelmi, vallási, művészeti emlékhely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űemlék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úzeum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udományos gyűjtemények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zvények, fesztivál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Zenei rendezvény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zínielőadás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iállítás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orteseménye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épraj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gyé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791-62ED-4847-BFDB-C1725A8FE1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gadóképessé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urisztikai fogadóképesség az adottságokon túl az utazók által igénybe vehető létesítményeket és szolgáltatásokat is magában foglalj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971800"/>
            <a:ext cx="809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ltalános infrastruktúra, közleked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állás, étke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azási irodai szolgáltatások (utazásszervezés, idegenvezeté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eskedelmi- és szolgáltatóipari ellá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órakozási, sportolási és kulturális lehetőség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336-F96F-4851-A7A9-0CDA48BDA4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özleked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érbeli elhelyezkedés alapján történő tagolá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y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ykö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örnyéki (20 k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ővárosi (50 k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ávolság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elföld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001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emzetköz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D71A-878A-4FCB-8C84-3D768A36A4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391160" cy="53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B80-EB20-46B4-8815-E2994691CA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yarország turisztikai régió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19320" y="1658880"/>
            <a:ext cx="6248160" cy="38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939E-EC24-4A78-A93C-6240DAC5F2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10:14:25Z</dcterms:created>
  <dc:creator>StarKing</dc:creator>
  <dc:description/>
  <dc:language>en-US</dc:language>
  <cp:lastModifiedBy>orsi</cp:lastModifiedBy>
  <dcterms:modified xsi:type="dcterms:W3CDTF">2005-02-10T14:07:36Z</dcterms:modified>
  <cp:revision>41</cp:revision>
  <dc:subject/>
  <dc:title>A turizmus földrajzának tárgya</dc:title>
</cp:coreProperties>
</file>