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0BE-1888-4027-B516-81F907E1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FC3-4E85-4C4B-AF39-C5FCDACD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6B9-42C4-4F56-84E7-9D22981E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EE4-D8D4-4217-934D-134AEA77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4E8-A3A2-4C16-9076-0F676954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5E6-E11D-4E0F-8EEB-B2BB7259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4FF-1D14-43B2-A491-6E168AED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C9C-8CF7-453B-A64A-DEAB4AC6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4E8-76AA-4E35-9A70-94D2C7CC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441-DE1C-482B-B6AE-8D5699D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050A-2E1E-4CB0-A100-5FFA9C7F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2E4-31BA-4505-A80C-296A478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2AD6-5AA0-4520-A407-088823A4A7A2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557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3962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zánk domborzati viszony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81080"/>
            <a:ext cx="701064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föld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0-200 m tengerszint feletti magass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mbságo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átlagos magasságuk 200-500 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özéphegysége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agasságuk 500-1500 mé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0EE-5F2A-4FC6-9E58-ED5BAC8F6C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zánk domborzati nagytá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föld – 54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salföld – 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lpokalja –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unántúli Dombság és a Mecsek – 1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Dunántúli Középhegység –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Északi Középhegység – 1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527-C2CA-47D4-9298-1A8DA43F4E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fö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5562720" cy="405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96880" y="2593800"/>
            <a:ext cx="4038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na menti síksá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na-Tisza közi sík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ácskai-sík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zőfö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áva menti sík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lső-Tisza-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özép-Tisza-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ó-Tisza-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szak-alföldi hordalékkúp sík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ír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jdú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ettyó-Körös-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örös-Maros kö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0C9-EA83-477A-B27A-E14DE8892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salfö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81760" y="2971800"/>
            <a:ext cx="4367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yőri m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ziget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Rába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osoni sík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rtő-Hanság m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Marcal medence (Rába med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Győr-tatai teras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4930560" cy="36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E75-A2FE-43AB-81D3-526B39C80D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poka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3320" y="2971800"/>
            <a:ext cx="4111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lpoka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őszegi 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Soproni 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Vas-Soproni sík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emenesh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Őrség, Göcs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Kiv: Zalai-Domb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246528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FC16-7378-4603-8634-9CEF13D71F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ántúli Dombsá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0840" y="2971800"/>
            <a:ext cx="3914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ton-m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ülső-Som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ső-Som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lna-Baranya domb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lnai hegyhá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anyai domb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lányi 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lai-domb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1101600"/>
            <a:ext cx="5333760" cy="40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805-921A-47A9-8539-4977F12010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ántúli Középhegy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05080" y="2209680"/>
            <a:ext cx="3998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kony vidé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k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konya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ton-Fel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szthelyi 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értes-Velence hegy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é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lencei 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nazug 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ec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dai-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egrádi hegy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930920" cy="380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A70-3698-4EE8-84C6-8E60C6F9FC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szaki Középhegy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2743200"/>
            <a:ext cx="4190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. Börzsöny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. Cserhát-vidék és Gödöllői-dombsá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4. Mátra-vidé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5. Bükk-vidék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6. Aggtelek-Rudabányai-hegy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7. Tokaj-Zempléni-hegyvid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8. Észak-Magyarországi medencé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ógrádi m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rsodi m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41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B4C-F8DB-4181-B94B-6EA4433867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zánk éghaj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039680"/>
            <a:ext cx="7924680" cy="45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érsékelt éghajlati öv, nedves kontinentális zó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 zóna ütközőpontján: mediterrán, kontinentális, óceá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 évszak (hideg tél, meleg nyár, határozott átmeneti évszak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ralkodó szélirány: nyugati, észak-nyug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vi középhőmérséklet: 10-11 C</a:t>
            </a:r>
            <a:r>
              <a:rPr b="0" lang="hu-HU" sz="24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baseline="5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vi csapadék mennyisége: 500-7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psütéses órák száma: 2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8B5-108B-49A0-A0AE-4DB8C140A2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0:14:25Z</dcterms:created>
  <dc:creator>StarKing</dc:creator>
  <dc:description/>
  <dc:language>en-US</dc:language>
  <cp:lastModifiedBy>orsi</cp:lastModifiedBy>
  <dcterms:modified xsi:type="dcterms:W3CDTF">2005-02-18T07:40:24Z</dcterms:modified>
  <cp:revision>77</cp:revision>
  <dc:subject/>
  <dc:title>A turizmus földrajzának tárgya</dc:title>
</cp:coreProperties>
</file>