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36720"/>
            <a:ext cx="84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2680" y="3375000"/>
            <a:ext cx="8420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36720"/>
            <a:ext cx="84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4108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1066320"/>
            <a:ext cx="4108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2680" y="3375000"/>
            <a:ext cx="4108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7280" y="3375000"/>
            <a:ext cx="4108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36720"/>
            <a:ext cx="84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2711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89920" y="1066320"/>
            <a:ext cx="2711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36800" y="1066320"/>
            <a:ext cx="2711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2680" y="3375000"/>
            <a:ext cx="2711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89920" y="3375000"/>
            <a:ext cx="2711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36800" y="3375000"/>
            <a:ext cx="2711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36720"/>
            <a:ext cx="84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2680" y="1066320"/>
            <a:ext cx="8420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36720"/>
            <a:ext cx="84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36720"/>
            <a:ext cx="84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4108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7280" y="1066320"/>
            <a:ext cx="4108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36720"/>
            <a:ext cx="84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2680" y="75960"/>
            <a:ext cx="8420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36720"/>
            <a:ext cx="84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4108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7280" y="1066320"/>
            <a:ext cx="4108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2680" y="3375000"/>
            <a:ext cx="4108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36720"/>
            <a:ext cx="84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4108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066320"/>
            <a:ext cx="4108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7280" y="3375000"/>
            <a:ext cx="4108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36720"/>
            <a:ext cx="84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4108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066320"/>
            <a:ext cx="4108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2680" y="3375000"/>
            <a:ext cx="8420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7596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uni_Exob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066320"/>
            <a:ext cx="8420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uni_Exob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  <a:p>
            <a:pPr lvl="1" marL="1328760" indent="-47772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uni_Exob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  <a:p>
            <a:pPr lvl="2" marL="1905120" indent="-385920"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uni_Exob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  <a:p>
            <a:pPr lvl="3" marL="2676600" indent="-399960">
              <a:buClr>
                <a:srgbClr val="000000"/>
              </a:buClr>
              <a:buFont typeface="Monotype Sort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uni_Exob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  <a:p>
            <a:pPr lvl="4" marL="3095640" indent="-228600">
              <a:buClr>
                <a:srgbClr val="000000"/>
              </a:buClr>
              <a:buFont typeface="Huni_Exo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uni_Exob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  <a:p>
            <a:pPr lvl="5" marL="3095640" indent="-228600">
              <a:buClr>
                <a:srgbClr val="000000"/>
              </a:buClr>
              <a:buFont typeface="Huni_Exo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uni_Exob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  <a:p>
            <a:pPr lvl="6" marL="3095640" indent="-228600">
              <a:buClr>
                <a:srgbClr val="000000"/>
              </a:buClr>
              <a:buFont typeface="Huni_Exo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uni_Exob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2" name=""/>
          <p:cNvSpPr/>
          <p:nvPr/>
        </p:nvSpPr>
        <p:spPr>
          <a:xfrm>
            <a:off x="8686800" y="6445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1DFD-2EBD-4215-A442-1593E22EAE8A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70800" y="5543640"/>
            <a:ext cx="9471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Huni_Exob"/>
              </a:rPr>
              <a:t>A képkockák szöveges forrása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Huni_Exo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Huni_Exob"/>
              </a:rPr>
              <a:t>Nellis, J. G.–Parker, D.: The Essence of Business Economics. Prentice Hall Series, New York, 199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Huni_Exo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Huni_Exob"/>
              </a:rPr>
              <a:t>Rekettye Gábor:Ár a marketingben. Müszaki könyvkiadó, Budapest, 199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Huni_Exo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Huni_Exob"/>
              </a:rPr>
              <a:t>Varsányi Judit-Mikus István: Árstratégia esetjáték. Agistra Stúdió, Budapest, 199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Huni_Exo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Huni_Exob"/>
              </a:rPr>
              <a:t>Hofer Mária: Árpolitikai-árstratégia előadásvázlatok. SZIF KÖF, Győr, 2000-200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7800" y="1676160"/>
            <a:ext cx="98679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Huni_Exob"/>
              </a:rPr>
              <a:t>Varsányi Judit - Mikus István - Hofer Mária:</a:t>
            </a:r>
            <a:br>
              <a:rPr sz="3600"/>
            </a:br>
            <a:br>
              <a:rPr sz="3600"/>
            </a:br>
            <a:r>
              <a:rPr b="1" lang="hu-HU" sz="5400" spc="-1" strike="noStrike">
                <a:solidFill>
                  <a:srgbClr val="000000"/>
                </a:solidFill>
                <a:latin typeface="Huni_Exob"/>
              </a:rPr>
              <a:t>Árképzés, árpolitika, árstratégia</a:t>
            </a:r>
            <a:br>
              <a:rPr sz="6000"/>
            </a:br>
            <a:br>
              <a:rPr sz="3600"/>
            </a:br>
            <a:r>
              <a:rPr b="0" lang="hu-HU" sz="2800" spc="-1" strike="noStrike">
                <a:solidFill>
                  <a:srgbClr val="000000"/>
                </a:solidFill>
                <a:latin typeface="Huni_Exob"/>
              </a:rPr>
              <a:t>Prezentáció oktatási célra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Huni_Exob"/>
              </a:rPr>
              <a:t>Agistra Stúdió, Budapest, 2002 október.</a:t>
            </a:r>
            <a:r>
              <a:rPr b="0" lang="hu-HU" sz="3600" spc="-1" strike="noStrike">
                <a:solidFill>
                  <a:srgbClr val="000000"/>
                </a:solidFill>
                <a:latin typeface="Huni_Exob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uni_Exob"/>
              </a:rPr>
              <a:t>Hozadéktöbblet-alapú árképzés</a:t>
            </a: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3600" y="1752120"/>
            <a:ext cx="8420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ni_Exob"/>
              </a:rPr>
              <a:t>A hozadéktöbblet-alapú (inkrementális) árképzés olyan vezetői döntések összhatásával foglalkozik, amelyek az árbevétel és az összköltség jelentősebb változásához vezetnek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Huni_Exob"/>
            </a:endParaRPr>
          </a:p>
          <a:p>
            <a:pPr marL="566640" indent="-56664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uni_Exob"/>
              </a:rPr>
              <a:t>A határköltség-alapú árazás összetettebb válfaja</a:t>
            </a:r>
            <a:endParaRPr b="1" lang="en-US" sz="2400" spc="-1" strike="noStrike">
              <a:solidFill>
                <a:srgbClr val="000000"/>
              </a:solidFill>
              <a:latin typeface="Huni_Exob"/>
            </a:endParaRPr>
          </a:p>
          <a:p>
            <a:pPr marL="566640" indent="-56664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uni_Exob"/>
              </a:rPr>
              <a:t>Adott innováció hatástöbbletére épül</a:t>
            </a:r>
            <a:endParaRPr b="1" lang="en-US" sz="2400" spc="-1" strike="noStrike">
              <a:solidFill>
                <a:srgbClr val="000000"/>
              </a:solidFill>
              <a:latin typeface="Huni_Exob"/>
            </a:endParaRPr>
          </a:p>
          <a:p>
            <a:pPr marL="566640" indent="-56664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uni_Exob"/>
              </a:rPr>
              <a:t>Az árbevétel változását viszonyítja a változó költségek alakulásához</a:t>
            </a:r>
            <a:endParaRPr b="1" lang="en-US" sz="24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uni_Exob"/>
              </a:rPr>
              <a:t>Fedezeti pont-alapú árképzés</a:t>
            </a: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839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75920" indent="-475920">
              <a:buClr>
                <a:srgbClr val="000000"/>
              </a:buClr>
              <a:buFont typeface="Monotype Sorts" charset="2"/>
              <a:buChar char="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Huni_Exob"/>
              </a:rPr>
              <a:t>A fedezeti árképzés alapelve olyan termékár megadása, amely mellett az elért árbevételtömeg éppen megegyezik a termelés összköltségével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Huni_Exob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Huni_Exob"/>
            </a:endParaRPr>
          </a:p>
          <a:p>
            <a:pPr marL="475920" indent="-475920">
              <a:buClr>
                <a:srgbClr val="000000"/>
              </a:buClr>
              <a:buFont typeface="Monotype Sorts" charset="2"/>
              <a:buChar char="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Huni_Exob"/>
              </a:rPr>
              <a:t>Egyszerű számtani kalkuláció: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Huni_Exob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Huni_Exob"/>
            </a:endParaRPr>
          </a:p>
          <a:p>
            <a:pPr lvl="1" marL="725400" indent="0"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Huni_Exob"/>
              </a:rPr>
              <a:t>egységár * mennyiség = fixköltség + (egységköltség * mennyiség)</a:t>
            </a:r>
            <a:endParaRPr b="0" lang="en-US" sz="24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uni_Exob"/>
              </a:rPr>
              <a:t>Haszonkulcsos árképzés</a:t>
            </a: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84200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92840" indent="-49284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uni_Exob"/>
              </a:rPr>
              <a:t>A haszonkulcsos (mark-up) árképzési elv a fedezeti árképzéséhez hasonlít, kiegészítve a kívánt profitrátáv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Huni_Exob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Huni_Exob"/>
            </a:endParaRPr>
          </a:p>
          <a:p>
            <a:pPr marL="492840" indent="-49284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ni_Exob"/>
              </a:rPr>
              <a:t>Tartalmazza a részvényesek által megkívánt minimális profitot</a:t>
            </a:r>
            <a:endParaRPr b="1" lang="en-US" sz="2400" spc="-1" strike="noStrike">
              <a:solidFill>
                <a:srgbClr val="000000"/>
              </a:solidFill>
              <a:latin typeface="Huni_Exob"/>
            </a:endParaRPr>
          </a:p>
          <a:p>
            <a:pPr marL="492840" indent="-49284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ni_Exob"/>
              </a:rPr>
              <a:t>Ez a profit megegyezik az adott tőke második legjobb befektetési lehetőségének hozamával</a:t>
            </a:r>
            <a:endParaRPr b="1" lang="en-US" sz="2400" spc="-1" strike="noStrike">
              <a:solidFill>
                <a:srgbClr val="000000"/>
              </a:solidFill>
              <a:latin typeface="Huni_Exob"/>
            </a:endParaRPr>
          </a:p>
          <a:p>
            <a:pPr marL="492840" indent="-49284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ni_Exob"/>
              </a:rPr>
              <a:t>Nem számol viszont a kereslettel, így nem is garantálhatja az adott profitot</a:t>
            </a:r>
            <a:endParaRPr b="1" lang="en-US" sz="24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7596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uni_Exob"/>
              </a:rPr>
              <a:t>Árazás és a versenykörnyezet</a:t>
            </a: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906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9440" indent="-37944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Huni_Exob"/>
              </a:rPr>
              <a:t>Piacok csoportosítása: </a:t>
            </a: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tökéletes versenypiac, monopol piac,</a:t>
            </a:r>
            <a:br>
              <a:rPr sz="2200"/>
            </a:b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                               monopolisztikus versenypiac, oligopol piac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marL="379440" indent="-37944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Huni_Exob"/>
              </a:rPr>
              <a:t>Árpolitikák piactípusok szerint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020600" indent="-45432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Huni_Exob"/>
              </a:rPr>
              <a:t>Tökéletes versenypiacon</a:t>
            </a: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 a fogyasztó az ár alapján dönt, a verseny-termékek hasonlóak, a szállítónak követnie kell a piacon kialakult árat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020600" indent="-45432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Huni_Exob"/>
              </a:rPr>
              <a:t>Monopol piacon</a:t>
            </a: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 a cég határozza meg terméke árát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020600" indent="-45432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Huni_Exob"/>
              </a:rPr>
              <a:t>Monopolisztikus versenypiacon</a:t>
            </a: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 sem a monopolista, sem a versenyfeltételek nem érvényesülnek tisztán: sok versenytárs kínál nagyon hasonló termékeket. A piaci hely meghatározó. A gyártók hatni tudnak az árakra. Marketing erőfeszítések a piac szegmentálására, a verseny mérséklésére 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020600" indent="-45432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Huni_Exob"/>
              </a:rPr>
              <a:t>Oligopol piacon</a:t>
            </a: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  fontos a versenytársak árváltozástól várható reakcióinak figyelembevétele (árkövetés, piacmegőrző reklámozás, árvezető, illetve árközömbösebb versenystratégia követése stb.)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7596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Huni_Exob"/>
              </a:rPr>
              <a:t>A marketing mix elemei</a:t>
            </a: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9906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1280" indent="-52128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Huni_Exob"/>
              </a:rPr>
              <a:t>Product </a:t>
            </a: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(termék): a fogyasztó adott igényeit kielégítő jószág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marL="521280" indent="-52128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Huni_Exob"/>
              </a:rPr>
              <a:t>Place</a:t>
            </a: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 (a termékelosztás helyszíne): elérhetőség, terítési sugár, terítési sebesség és egy sor más sikertényező ennek függvénye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marL="521280" indent="-52128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Huni_Exob"/>
              </a:rPr>
              <a:t>Promotion </a:t>
            </a: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(eladás-, ill. vásárlásösztönzés): effektív és differenciáló hatású marketingeszközök sora, beleértve a megfelelő reklámozást és hitelezést. A kellően piacszegmentáló reklámozás pl. csökkenti az árérzékenységet, a hitelezés pedig tartós javak esetében a vásárlóerőt helyettesíti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marL="521280" indent="-52128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Huni_Exob"/>
              </a:rPr>
              <a:t>Price </a:t>
            </a: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(ár): a kereslet-költség viszonyokat igazító másik három „P”-vel együtt, különféle megkülönböztető hatások útján segít pozicionálni a terméket a piacon. Úgy járul hozzá a jövedelemtermeléshez, hogy az árszint összhangban van a fogyasztó által elvárt terméktartalommal és minőséggel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7596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Huni_Exob"/>
              </a:rPr>
              <a:t>Árazás a termék-életgörbe mentén</a:t>
            </a: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1280" indent="-52128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Huni_Exob"/>
              </a:rPr>
              <a:t>Bevezető szakasz: promóciós vagy behatolási ár (Penetration Price)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222200" indent="-43920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Induló szakaszban alkalmazott alacsony ár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222200" indent="-43920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Segíti a belépést a versenytársak piacára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222200" indent="-43920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A termék gyors piaci elterjedését, s ezzel az egységköltség csökkenését eredményezi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2222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marL="521280" indent="-52128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Huni_Exob"/>
              </a:rPr>
              <a:t>Bevezető szakasz: lefölözéses ár (Skimming Price)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222200" indent="-43920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Induló szakaszban alkalmazott magas ár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222200" indent="-43920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Fedezi a kezdetben még igen magas egységköltséget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7596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Huni_Exob"/>
              </a:rPr>
              <a:t>Árazás a termék-életgörbe mentén</a:t>
            </a: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09760" indent="-50976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Huni_Exob"/>
              </a:rPr>
              <a:t>Növekedési szakasz: egyéb marketing mix eszközök 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195560" indent="-4298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ni_Exob"/>
              </a:rPr>
              <a:t>A fogyasztók árérzékenysége csökken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195560" indent="-4298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ni_Exob"/>
              </a:rPr>
              <a:t>Egyéb marketing-mix eszközök hatásosabbak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marL="509760" indent="-50976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Huni_Exob"/>
              </a:rPr>
              <a:t>Érettség szakasza: kompromisszum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195560" indent="-4298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ni_Exob"/>
              </a:rPr>
              <a:t>A piaci részarány árpolitikával  már nem növelhető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195560" indent="-4298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ni_Exob"/>
              </a:rPr>
              <a:t>Főcél a hozzájárulás a nyereséghez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marL="509760" indent="-50976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Huni_Exob"/>
              </a:rPr>
              <a:t>Telítettség szakasza: szűk mozgástér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195560" indent="-4298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ni_Exob"/>
              </a:rPr>
              <a:t>Cél a forgalom fenntartása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marL="509760" indent="-50976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Huni_Exob"/>
              </a:rPr>
              <a:t>Lecsengő szakasz: áldozni kell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195560" indent="-4298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ni_Exob"/>
              </a:rPr>
              <a:t>Cél a kereslet kielégítése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195560" indent="-4298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ni_Exob"/>
              </a:rPr>
              <a:t>Az árat ehhez csökkenteni kell, így a nyereség is csökken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7596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Huni_Exob"/>
              </a:rPr>
              <a:t>Árdifferenciálás életciklus szerint</a:t>
            </a: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29040" indent="-32904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Huni_Exob"/>
              </a:rPr>
              <a:t>Bevezetési szakasz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809640" indent="-3182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Lefölöző ár, behatoló ár, expanziós ár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809640" indent="-3182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Versenytársakat tönkretevő ár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809640" indent="-3182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Piachoz igazodó semleges ár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marL="329040" indent="-32904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Huni_Exob"/>
              </a:rPr>
              <a:t>Növekedés, érettség szakasza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809640" indent="-3182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Kezdeményező árcsökkentés: kapacitáskihasználás, kínálati többlet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809640" indent="-3182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Védekező árcsökkentés új versenytárs esetén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809640" indent="-3182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Termékdifferenciálás, termékcsaládok kialakítása, bővítés több irányban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809640" indent="-3182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Komplementer termékek, alkatrészek rugalmas és rugalmatlan árazása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809640" indent="-3182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Csomagárak: kötelező tiszta csomasg, vegyes és kibontott csomagok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marL="329040" indent="-32904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Huni_Exob"/>
              </a:rPr>
              <a:t>Hanyatló szakasz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809640" indent="-3182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Betakarítási stratégia: árcsökkentés egészen a fedezetig, és készletleépítés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809640" indent="-3182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Szakosodás utógondozásra, alkatrészellátásra = új üzletág esélye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7596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uni_Exob"/>
              </a:rPr>
              <a:t>Az árdiszkrimináció gazdaságtana</a:t>
            </a: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991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14360" indent="0">
              <a:buNone/>
              <a:tabLst>
                <a:tab algn="l" pos="0"/>
                <a:tab algn="l" pos="19940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Huni_Exob"/>
              </a:rPr>
              <a:t>Árdiszkrimináció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905760" indent="-325800">
              <a:buClr>
                <a:srgbClr val="000000"/>
              </a:buClr>
              <a:buFont typeface="Wingdings" charset="2"/>
              <a:buChar char=""/>
              <a:tabLst>
                <a:tab algn="l" pos="19940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ugyanabból a termékből különböző mennyiségek eladása</a:t>
            </a:r>
            <a:br>
              <a:rPr sz="2200"/>
            </a:b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más-más árakon, anélkül, hogy ezt az eltérő költségek indokolnák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905760" indent="-325800">
              <a:buClr>
                <a:srgbClr val="000000"/>
              </a:buClr>
              <a:buFont typeface="Wingdings" charset="2"/>
              <a:buChar char=""/>
              <a:tabLst>
                <a:tab algn="l" pos="19940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Akkor alkalmazható, ha a termelő képes érvényesíteni eltérő árait</a:t>
            </a:r>
            <a:br>
              <a:rPr sz="2200"/>
            </a:b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(pl. olcsó repülőjegy, ami át nem ruházható)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marL="414360" indent="0">
              <a:buNone/>
              <a:tabLst>
                <a:tab algn="l" pos="0"/>
                <a:tab algn="l" pos="19940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marL="414360" indent="0">
              <a:buNone/>
              <a:tabLst>
                <a:tab algn="l" pos="0"/>
                <a:tab algn="l" pos="19940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Huni_Exob"/>
              </a:rPr>
              <a:t>Elsőfokú   </a:t>
            </a: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   = minden egyes termékre más-más ár alkalmazása,</a:t>
            </a:r>
            <a:br>
              <a:rPr sz="2200"/>
            </a:b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               az ismert és eltérő egyéni fogyasztói  kereslethez igazodva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marL="414360" indent="0">
              <a:buNone/>
              <a:tabLst>
                <a:tab algn="l" pos="0"/>
                <a:tab algn="l" pos="19940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Huni_Exob"/>
              </a:rPr>
              <a:t>Másodfokú</a:t>
            </a: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   = adott minőség vagy terméktétel  eladása adott áron</a:t>
            </a:r>
            <a:br>
              <a:rPr sz="2200"/>
            </a:b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               minden egyes fogyasztónak (pl. áram vagy gáz díjcsomagok)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marL="414360" indent="0">
              <a:buNone/>
              <a:tabLst>
                <a:tab algn="l" pos="0"/>
                <a:tab algn="l" pos="19940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Huni_Exob"/>
              </a:rPr>
              <a:t>Harmadfokú </a:t>
            </a: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= piacdifferenciálással egybekötött árdiszkrimináció</a:t>
            </a:r>
            <a:br>
              <a:rPr sz="2200"/>
            </a:b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               (pl. földrajzi, igényfoltok szerinti, időszakos vagy termékjelleghez,</a:t>
            </a:r>
            <a:br>
              <a:rPr sz="2200"/>
            </a:b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               kiegészítő szolgáltatáshoz kapcsolódva)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7596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uni_Exob"/>
              </a:rPr>
              <a:t>Csúcsterheléses árazás</a:t>
            </a: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1066680"/>
            <a:ext cx="8305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9320" indent="-40932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Huni_Exob"/>
              </a:rPr>
              <a:t>Csúcsterheléses árazás: az árdiszkrimináció egyik válfaja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895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ni_Exob"/>
              </a:rPr>
              <a:t>(a csúcsterhelésű kapacitásköltségekhez igazodó árak alkalmazása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marL="409320" indent="-40932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Huni_Exob"/>
              </a:rPr>
              <a:t>Lehetséges indokok: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895320" indent="-32220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ni_Exob"/>
              </a:rPr>
              <a:t>A kiegészítő kapacitások többlet tőkeköltsége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895320" indent="-32220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ni_Exob"/>
              </a:rPr>
              <a:t>Drágább inputok a csúcsidőszak igényeinek kielégítésére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895320" indent="-32220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ni_Exob"/>
              </a:rPr>
              <a:t>Költséges externáliák, pl. közlekedési csúcsidők többletköltség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Huni_Exob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marL="409320" indent="-40932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Huni_Exob"/>
              </a:rPr>
              <a:t>Üzleti előnyök: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895320" indent="-32220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ni_Exob"/>
              </a:rPr>
              <a:t>A fogyasztók az idényen túli olcsóbb árak miat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Huni_Exob"/>
              </a:rPr>
              <a:t>megváltoztatják keresletük szerkezetét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895320" indent="-32220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ni_Exob"/>
              </a:rPr>
              <a:t>a csúcsterhelésen kívüli időszakok alacsonyabb költségei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Huni_Exob"/>
              </a:rPr>
              <a:t>növelik a profitot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66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Huni_Exob"/>
              </a:rPr>
              <a:t>Az árpolitikai közelítés tartalma</a:t>
            </a: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9067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1280" indent="-52128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Huni_Exob"/>
              </a:rPr>
              <a:t>Árpolitikai magatartásjegyek felvázolása</a:t>
            </a: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  <a:p>
            <a:pPr marL="521280" indent="-52128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Huni_Exob"/>
              </a:rPr>
              <a:t>Vezetői célok és lehetőségek illesztése</a:t>
            </a: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  <a:p>
            <a:pPr marL="521280" indent="-52128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Huni_Exob"/>
              </a:rPr>
              <a:t>A versenykörnyezet szerepének átgondolása</a:t>
            </a: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  <a:p>
            <a:pPr marL="521280" indent="-52128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Huni_Exob"/>
              </a:rPr>
              <a:t>Az árakra gyakorolt hatások becslése</a:t>
            </a: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  <a:p>
            <a:pPr marL="521280" indent="-52128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Huni_Exob"/>
              </a:rPr>
              <a:t>A céghez illeszkedő árszempontok áttekintése </a:t>
            </a: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  <a:p>
            <a:pPr marL="521280" indent="-52128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Huni_Exob"/>
              </a:rPr>
              <a:t>Kormányzati beavatkozások szerepe</a:t>
            </a: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7596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uni_Exob"/>
              </a:rPr>
              <a:t>A kormányzati beavatkozás formái</a:t>
            </a: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26680" indent="-52668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Huni_Exob"/>
              </a:rPr>
              <a:t>Adók és támogatások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065960" indent="-36180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ni_Exob"/>
              </a:rPr>
              <a:t>Azért szükségesek, mert a fogyasztók árelfogadási hajlandósága nem mindig esik egybe a termék tényleges társadalmi hasznával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Huni_Exob"/>
              </a:rPr>
              <a:t>és költségével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065960" indent="-36180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ni_Exob"/>
              </a:rPr>
              <a:t>A termékadók és támogatások igen, a nyereségadó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Huni_Exob"/>
              </a:rPr>
              <a:t>nem befolyásolják a cégek árpolitikai döntéseit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marL="526680" indent="-52668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Huni_Exob"/>
              </a:rPr>
              <a:t>Közvetlen árszabályozás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065960" indent="-36180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ni_Exob"/>
              </a:rPr>
              <a:t>A kormányzati beavatkozás az árakon és jövedelempolitikán túl antimonopol és más korlátozó intézkedéseket is hozhat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065960" indent="-36180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ni_Exob"/>
              </a:rPr>
              <a:t>Egyes állami engedélyek gyakran árszabályozáshoz kötődnek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065960" indent="-36180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ni_Exob"/>
              </a:rPr>
              <a:t>Direkt árszabályozás esetén a verseny a marketing mix más elemeire, árukapcsolásra vagy kiegészítő szolgáltatásokra fókuszál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9906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Huni_Exob"/>
              </a:rPr>
              <a:t>A közszolgálati szektor árpolitikája</a:t>
            </a: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09480" indent="-35532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uni_Exob"/>
              </a:rPr>
              <a:t>A célok köre </a:t>
            </a:r>
            <a:r>
              <a:rPr b="0" lang="en-US" sz="2400" spc="-1" strike="noStrike">
                <a:solidFill>
                  <a:srgbClr val="000000"/>
                </a:solidFill>
                <a:latin typeface="Huni_Exob"/>
              </a:rPr>
              <a:t>a szélesebb értelemben vet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Huni_Exob"/>
              </a:rPr>
              <a:t>társadalmi hasznosságnak megfelelően jóval kiterjedteb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Huni_Exob"/>
              </a:rPr>
              <a:t>a profitszerzésné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Huni_Exo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ni_Exob"/>
            </a:endParaRPr>
          </a:p>
          <a:p>
            <a:pPr lvl="1" marL="609480" indent="-35532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uni_Exob"/>
              </a:rPr>
              <a:t>A döntő szempont</a:t>
            </a:r>
            <a:r>
              <a:rPr b="0" lang="en-US" sz="2400" spc="-1" strike="noStrike">
                <a:solidFill>
                  <a:srgbClr val="000000"/>
                </a:solidFill>
                <a:latin typeface="Huni_Exob"/>
              </a:rPr>
              <a:t> a társadalmi határhaszon és a határköltség viszony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Huni_Exo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ni_Exob"/>
            </a:endParaRPr>
          </a:p>
          <a:p>
            <a:pPr lvl="1" marL="609480" indent="-35532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uni_Exob"/>
              </a:rPr>
              <a:t>A végeredmény</a:t>
            </a:r>
            <a:r>
              <a:rPr b="0" lang="en-US" sz="2400" spc="-1" strike="noStrike">
                <a:solidFill>
                  <a:srgbClr val="000000"/>
                </a:solidFill>
                <a:latin typeface="Huni_Exob"/>
              </a:rPr>
              <a:t> olyan veszteség is lehet, amely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Huni_Exob"/>
              </a:rPr>
              <a:t>az adófizetők adóztatásával vagy támogatásával kompenzálnak, és amely torzítja a foglalkoztatási, befektetési és költekezési döntéseket</a:t>
            </a:r>
            <a:endParaRPr b="0" lang="en-US" sz="24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9906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Huni_Exob"/>
              </a:rPr>
              <a:t>A közszolgálati szektor árpolitikája</a:t>
            </a: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3911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5120" indent="-55512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uni_Exob"/>
              </a:rPr>
              <a:t>Államosított vállalatok árait politikai úton szabályozhatják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Huni_Exob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  <a:p>
            <a:pPr lvl="1" marL="1302120" indent="-46800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ni_Exob"/>
              </a:rPr>
              <a:t>az infláció mérséklése érdekében</a:t>
            </a:r>
            <a:endParaRPr b="0" lang="en-US" sz="2800" spc="-1" strike="noStrike">
              <a:solidFill>
                <a:srgbClr val="000000"/>
              </a:solidFill>
              <a:latin typeface="Huni_Exob"/>
            </a:endParaRPr>
          </a:p>
          <a:p>
            <a:pPr lvl="1" marL="1302120" indent="-46800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ni_Exob"/>
              </a:rPr>
              <a:t>munkahelyek megőrzése céljából</a:t>
            </a:r>
            <a:endParaRPr b="0" lang="en-US" sz="2800" spc="-1" strike="noStrike">
              <a:solidFill>
                <a:srgbClr val="000000"/>
              </a:solidFill>
              <a:latin typeface="Huni_Exob"/>
            </a:endParaRPr>
          </a:p>
          <a:p>
            <a:pPr lvl="1" marL="1302120" indent="-46800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ni_Exob"/>
              </a:rPr>
              <a:t>az államháztartás bevételeinek növelésére</a:t>
            </a:r>
            <a:endParaRPr b="0" lang="en-US" sz="28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9906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Huni_Exob"/>
              </a:rPr>
              <a:t>A közszolgálati szektor árpolitikája</a:t>
            </a: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95252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25080" indent="-32508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Huni_Exob"/>
              </a:rPr>
              <a:t>Az államosítás hátrányos következményei</a:t>
            </a:r>
            <a:endParaRPr b="1" lang="en-US" sz="2400" spc="-1" strike="noStrike">
              <a:solidFill>
                <a:srgbClr val="000000"/>
              </a:solidFill>
              <a:latin typeface="Huni_Exob"/>
            </a:endParaRPr>
          </a:p>
          <a:p>
            <a:pPr lvl="1" marL="874800" indent="-38916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Huni_Exob"/>
              </a:rPr>
              <a:t>Gyenge hatékonyság, romló vezetői morál</a:t>
            </a:r>
            <a:endParaRPr b="0" lang="en-US" sz="2400" spc="-1" strike="noStrike">
              <a:solidFill>
                <a:srgbClr val="000000"/>
              </a:solidFill>
              <a:latin typeface="Huni_Exob"/>
            </a:endParaRPr>
          </a:p>
          <a:p>
            <a:pPr lvl="1" marL="874800" indent="-38916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Huni_Exob"/>
              </a:rPr>
              <a:t>Annak veszélye, hogy politikai megfontolásokat tényleges társadalmi határköltségnek tüntetnek fel az árakba való állami beavatkozás során</a:t>
            </a:r>
            <a:endParaRPr b="0" lang="en-US" sz="2400" spc="-1" strike="noStrike">
              <a:solidFill>
                <a:srgbClr val="000000"/>
              </a:solidFill>
              <a:latin typeface="Huni_Exob"/>
            </a:endParaRPr>
          </a:p>
          <a:p>
            <a:pPr lvl="1" marL="874800" indent="-38916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Huni_Exob"/>
              </a:rPr>
              <a:t>A közbiztonság, képzés, egészségügy és honvédelem nagyrészt térítésmentes, nincs köze a tényleges fogyasztáshoz,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Huni_Exob"/>
              </a:rPr>
              <a:t>ezt politikai alapokon, adókból fedezik</a:t>
            </a:r>
            <a:endParaRPr b="0" lang="en-US" sz="2400" spc="-1" strike="noStrike">
              <a:solidFill>
                <a:srgbClr val="000000"/>
              </a:solidFill>
              <a:latin typeface="Huni_Exob"/>
            </a:endParaRPr>
          </a:p>
          <a:p>
            <a:pPr marL="325080" indent="-32508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Huni_Exob"/>
              </a:rPr>
              <a:t>Privatizációs indokok</a:t>
            </a:r>
            <a:endParaRPr b="1" lang="en-US" sz="2400" spc="-1" strike="noStrike">
              <a:solidFill>
                <a:srgbClr val="000000"/>
              </a:solidFill>
              <a:latin typeface="Huni_Exob"/>
            </a:endParaRPr>
          </a:p>
          <a:p>
            <a:pPr lvl="1" marL="874800" indent="-38916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Huni_Exob"/>
              </a:rPr>
              <a:t>Hatékonyságnövelés</a:t>
            </a:r>
            <a:endParaRPr b="0" lang="en-US" sz="2400" spc="-1" strike="noStrike">
              <a:solidFill>
                <a:srgbClr val="000000"/>
              </a:solidFill>
              <a:latin typeface="Huni_Exob"/>
            </a:endParaRPr>
          </a:p>
          <a:p>
            <a:pPr lvl="1" marL="874800" indent="-38916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Huni_Exob"/>
              </a:rPr>
              <a:t>A cég feletti káros politikai kontroll megszüntetése</a:t>
            </a:r>
            <a:endParaRPr b="0" lang="en-US" sz="2400" spc="-1" strike="noStrike">
              <a:solidFill>
                <a:srgbClr val="000000"/>
              </a:solidFill>
              <a:latin typeface="Huni_Exob"/>
            </a:endParaRPr>
          </a:p>
          <a:p>
            <a:pPr lvl="1" marL="874800" indent="-38916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Huni_Exob"/>
              </a:rPr>
              <a:t>A kereskedelmi árviszonyok helyreállítása</a:t>
            </a:r>
            <a:endParaRPr b="0" lang="en-US" sz="24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7596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Huni_Exob"/>
              </a:rPr>
              <a:t>Árstratégia</a:t>
            </a: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29040" indent="-32904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Huni_Exob"/>
              </a:rPr>
              <a:t>Piacválasztási szempontok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809640" indent="-3182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Árérzékeny/minőségérzékeny piac a termék jellege szerint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809640" indent="-3182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Az észlelt érték szerepe az áralakításban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809640" indent="-3182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Az árverseny szerepe, hatásai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marL="329040" indent="-32904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Huni_Exob"/>
              </a:rPr>
              <a:t>Árdifferenciálás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809640" indent="-3182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Forgalom nagysága szerinti árdifferenciálás, pl. törzsvásárlói kedvezmények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809640" indent="-3182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Területi vagy piaci árdifferenciálás, pl. exportárak, zónaárak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809640" indent="-3182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Szelektív árdifferenciálás, pl. életciklushoz kötött, szezonális, hűségfüggő ill. demográfiai-szociális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marL="329040" indent="-32904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Huni_Exob"/>
              </a:rPr>
              <a:t>Hosszú távú célokat szolgáló árpolitika és magatartás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809640" indent="-3182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Behatolási árak új piac megszerzése érdekében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809640" indent="-3182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Rugalmas áralakítás megszerzett piacok megtartásához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809640" indent="-3182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Árdifferenciálás a piaci részarány tartós növeléséhez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906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uni_Exob"/>
              </a:rPr>
              <a:t>Többtelepes, többtermékes cégek árstratégiája</a:t>
            </a:r>
            <a:endParaRPr b="1" lang="en-US" sz="40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92203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09480" indent="-436320">
              <a:spcBef>
                <a:spcPts val="8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Huni_Exob"/>
              </a:rPr>
              <a:t>A földrajzi diverzifikáció</a:t>
            </a:r>
            <a:r>
              <a:rPr b="0" lang="en-US" sz="2200" spc="-1" strike="noStrike">
                <a:solidFill>
                  <a:srgbClr val="000000"/>
                </a:solidFill>
                <a:latin typeface="Huni_Exob"/>
              </a:rPr>
              <a:t> és a nagyobb termékválaszték megkönnyíti az árdiszkriminációt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609480" indent="-436320">
              <a:spcBef>
                <a:spcPts val="8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Huni_Exob"/>
              </a:rPr>
              <a:t>Többtermékes cégnél</a:t>
            </a:r>
            <a:r>
              <a:rPr b="0" lang="en-US" sz="2200" spc="-1" strike="noStrike">
                <a:solidFill>
                  <a:srgbClr val="000000"/>
                </a:solidFill>
                <a:latin typeface="Huni_Exob"/>
              </a:rPr>
              <a:t> egyes termékekre több költség terhelhető, attraktív újtermékek költségeit időlegesen más termékek fedezhetik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609480" indent="-436320">
              <a:spcBef>
                <a:spcPts val="8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Huni_Exob"/>
              </a:rPr>
              <a:t>Hasznosítható melléktermékek</a:t>
            </a:r>
            <a:r>
              <a:rPr b="0" lang="en-US" sz="2200" spc="-1" strike="noStrike">
                <a:solidFill>
                  <a:srgbClr val="000000"/>
                </a:solidFill>
                <a:latin typeface="Huni_Exob"/>
              </a:rPr>
              <a:t> is növelhetik a nyereséget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609480" indent="-436320">
              <a:spcBef>
                <a:spcPts val="8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Huni_Exob"/>
              </a:rPr>
              <a:t>Több telephely</a:t>
            </a:r>
            <a:r>
              <a:rPr b="0" lang="en-US" sz="2200" spc="-1" strike="noStrike">
                <a:solidFill>
                  <a:srgbClr val="000000"/>
                </a:solidFill>
                <a:latin typeface="Huni_Exob"/>
              </a:rPr>
              <a:t> esetén a költségek ésszerűsítéssel minimalizálhatók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609480" indent="-436320">
              <a:spcBef>
                <a:spcPts val="8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Huni_Exob"/>
              </a:rPr>
              <a:t>Multicégek divízió-közi transzfer-árakat</a:t>
            </a:r>
            <a:r>
              <a:rPr b="0" lang="en-US" sz="2200" spc="-1" strike="noStrike">
                <a:solidFill>
                  <a:srgbClr val="000000"/>
                </a:solidFill>
                <a:latin typeface="Huni_Exob"/>
              </a:rPr>
              <a:t> alkalmazna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Huni_Exob"/>
              </a:rPr>
              <a:t>a teljes cégprofit maximálására, illetve különböző országok telephelyei közötti transzferárakat a teljes adókötelezettség minimálására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7596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Huni_Exob"/>
              </a:rPr>
              <a:t>Árpolitikai célok</a:t>
            </a: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81320" indent="-48132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Huni_Exob"/>
              </a:rPr>
              <a:t>Nyereségnövelés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129320" indent="-40572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Költségcsökkentés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129320" indent="-40572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Gyors volumennövelési akciók, piacmegtartási kockázattal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marL="481320" indent="-48132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Huni_Exob"/>
              </a:rPr>
              <a:t>Piaci részesedés növelése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129320" indent="-40572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Termékfejlesztés, újdonságtartalom fokozása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129320" indent="-40572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Rugalmas igénykövetés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129320" indent="-40572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Észlelt érték-alapú árpolitika + tartós kedvezmények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129320" indent="-40572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Márkahűség kialakítása és erősítése (termékmárkák, bolti márkák)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marL="481320" indent="-48132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Huni_Exob"/>
              </a:rPr>
              <a:t>Piaci stabilitás elérése és fenntartása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129320" indent="-40572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Árvezető szerep megőrzése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129320" indent="-40572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Nagyobb versenytársak árkövetése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129320" indent="-40572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Ingadozó kereslet esetén megelégedés az alacsonyabb profitrátával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129320" indent="-40572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Imázsképviselet, vevőkapcsolatok erősítése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7596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Huni_Exob"/>
              </a:rPr>
              <a:t>Árpolitikai célú ártaktikák</a:t>
            </a: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09760" indent="-50976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Huni_Exob"/>
              </a:rPr>
              <a:t>Szegmentumok szerinti ártaktika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195560" indent="-4298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Pl. napilapok új előfizetőinek árkedvezmény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marL="509760" indent="-50976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Huni_Exob"/>
              </a:rPr>
              <a:t>Kiárusítási árak alkalmazása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195560" indent="-4298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Pl. szavatosság lejárta vagy erkölcsi avulás esetén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marL="509760" indent="-50976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Huni_Exob"/>
              </a:rPr>
              <a:t>Lélektani árazás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195560" indent="-4298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Pl. 9-re végződő árak, korábbi árak áthúzása az árcédulán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195560" indent="-4298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Presztízsárak, veszteségviselő termékek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marL="509760" indent="-50976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Huni_Exob"/>
              </a:rPr>
              <a:t>Promóció</a:t>
            </a:r>
            <a:endParaRPr b="1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195560" indent="-4298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Kereskedelmi engedmények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195560" indent="-4298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Mennyiségi kedvezmény (rabatt)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195560" indent="-4298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Szezonális árleszállítás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  <a:p>
            <a:pPr lvl="1" marL="1195560" indent="-4298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Huni_Exob"/>
              </a:rPr>
              <a:t>Készpénzfizetési kedvezmény</a:t>
            </a:r>
            <a:endParaRPr b="0" lang="en-US" sz="22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2680" y="-7668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Huni_Exob"/>
              </a:rPr>
              <a:t>Árpolitikai magatartások</a:t>
            </a: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9524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75920" indent="-47592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Huni_Exob"/>
              </a:rPr>
              <a:t>Költségkövetés</a:t>
            </a:r>
            <a:endParaRPr b="1" lang="en-US" sz="2100" spc="-1" strike="noStrike">
              <a:solidFill>
                <a:srgbClr val="000000"/>
              </a:solidFill>
              <a:latin typeface="Huni_Exob"/>
            </a:endParaRPr>
          </a:p>
          <a:p>
            <a:pPr lvl="1" marL="1116000" indent="-4010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Huni_Exob"/>
              </a:rPr>
              <a:t>Teljes költség alatti áron a cég nem értékesíti termékeit</a:t>
            </a:r>
            <a:endParaRPr b="0" lang="en-US" sz="2100" spc="-1" strike="noStrike">
              <a:solidFill>
                <a:srgbClr val="000000"/>
              </a:solidFill>
              <a:latin typeface="Huni_Exob"/>
            </a:endParaRPr>
          </a:p>
          <a:p>
            <a:pPr lvl="1" marL="1116000" indent="-4010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Huni_Exob"/>
              </a:rPr>
              <a:t>A költségszint leszorításával az ágazaton belüli árcsökkenés megakadályozása</a:t>
            </a:r>
            <a:endParaRPr b="0" lang="en-US" sz="2100" spc="-1" strike="noStrike">
              <a:solidFill>
                <a:srgbClr val="000000"/>
              </a:solidFill>
              <a:latin typeface="Huni_Exob"/>
            </a:endParaRPr>
          </a:p>
          <a:p>
            <a:pPr marL="475920" indent="-47592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Huni_Exob"/>
              </a:rPr>
              <a:t>Versenytársi árak követése</a:t>
            </a:r>
            <a:endParaRPr b="1" lang="en-US" sz="2100" spc="-1" strike="noStrike">
              <a:solidFill>
                <a:srgbClr val="000000"/>
              </a:solidFill>
              <a:latin typeface="Huni_Exob"/>
            </a:endParaRPr>
          </a:p>
          <a:p>
            <a:pPr lvl="1" marL="1116000" indent="-4010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Huni_Exob"/>
              </a:rPr>
              <a:t>A versenytársi erőviszonyoktól függően a versenytársakénál alacsonyabb, magasabb vagy azonos áron történő értékesítés</a:t>
            </a:r>
            <a:endParaRPr b="0" lang="en-US" sz="2100" spc="-1" strike="noStrike">
              <a:solidFill>
                <a:srgbClr val="000000"/>
              </a:solidFill>
              <a:latin typeface="Huni_Exob"/>
            </a:endParaRPr>
          </a:p>
          <a:p>
            <a:pPr lvl="1" marL="1116000" indent="-4010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Huni_Exob"/>
              </a:rPr>
              <a:t>Egy meghatározott versenytárs árainak követése</a:t>
            </a:r>
            <a:endParaRPr b="0" lang="en-US" sz="2100" spc="-1" strike="noStrike">
              <a:solidFill>
                <a:srgbClr val="000000"/>
              </a:solidFill>
              <a:latin typeface="Huni_Exob"/>
            </a:endParaRPr>
          </a:p>
          <a:p>
            <a:pPr lvl="1" marL="1116000" indent="-4010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Huni_Exob"/>
              </a:rPr>
              <a:t>Ártaktikák új versenytárs belépésének megakadályozására</a:t>
            </a:r>
            <a:endParaRPr b="0" lang="en-US" sz="2100" spc="-1" strike="noStrike">
              <a:solidFill>
                <a:srgbClr val="000000"/>
              </a:solidFill>
              <a:latin typeface="Huni_Exob"/>
            </a:endParaRPr>
          </a:p>
          <a:p>
            <a:pPr marL="475920" indent="-47592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Huni_Exob"/>
              </a:rPr>
              <a:t>Forgalombővítés árérzékeny piacon</a:t>
            </a:r>
            <a:endParaRPr b="1" lang="en-US" sz="2100" spc="-1" strike="noStrike">
              <a:solidFill>
                <a:srgbClr val="000000"/>
              </a:solidFill>
              <a:latin typeface="Huni_Exob"/>
            </a:endParaRPr>
          </a:p>
          <a:p>
            <a:pPr lvl="1" marL="1116000" indent="-4010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Huni_Exob"/>
              </a:rPr>
              <a:t>Alacsony árak alkalmazása nagy mennyiség értékesítése érdekében</a:t>
            </a:r>
            <a:endParaRPr b="0" lang="en-US" sz="2100" spc="-1" strike="noStrike">
              <a:solidFill>
                <a:srgbClr val="000000"/>
              </a:solidFill>
              <a:latin typeface="Huni_Exob"/>
            </a:endParaRPr>
          </a:p>
          <a:p>
            <a:pPr lvl="1" marL="1116000" indent="-4010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Huni_Exob"/>
              </a:rPr>
              <a:t>Forgalombővítő akciók az árveszteség ellensúlyozására</a:t>
            </a:r>
            <a:endParaRPr b="0" lang="en-US" sz="2100" spc="-1" strike="noStrike">
              <a:solidFill>
                <a:srgbClr val="000000"/>
              </a:solidFill>
              <a:latin typeface="Huni_Exob"/>
            </a:endParaRPr>
          </a:p>
          <a:p>
            <a:pPr marL="475920" indent="-47592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Huni_Exob"/>
              </a:rPr>
              <a:t>Termékkör-szintű nyereségmaximálás</a:t>
            </a:r>
            <a:endParaRPr b="1" lang="en-US" sz="2100" spc="-1" strike="noStrike">
              <a:solidFill>
                <a:srgbClr val="000000"/>
              </a:solidFill>
              <a:latin typeface="Huni_Exob"/>
            </a:endParaRPr>
          </a:p>
          <a:p>
            <a:pPr lvl="1" marL="1116000" indent="-4010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Huni_Exob"/>
              </a:rPr>
              <a:t>A teljes termékkör nyereségének maximálása, a jobb áron és a nagyobb volumenben értékesíthető termékek piaci előnyeinek kihasználásával</a:t>
            </a:r>
            <a:endParaRPr b="0" lang="en-US" sz="21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7596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Huni_Exob"/>
              </a:rPr>
              <a:t>Árképzés, árdöntések</a:t>
            </a: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9296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29040" indent="-32904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Huni_Exob"/>
              </a:rPr>
              <a:t>Árképzési módszerek</a:t>
            </a: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  <a:p>
            <a:pPr lvl="1" marL="885240" indent="-3938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Huni_Exob"/>
              </a:rPr>
              <a:t>Piaci ár: észlelt érték szerinti és versenytársak által vezérelt árképzés</a:t>
            </a:r>
            <a:endParaRPr b="0" lang="en-US" sz="2400" spc="-1" strike="noStrike">
              <a:solidFill>
                <a:srgbClr val="000000"/>
              </a:solidFill>
              <a:latin typeface="Huni_Exob"/>
            </a:endParaRPr>
          </a:p>
          <a:p>
            <a:pPr lvl="1" marL="885240" indent="-3938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Huni_Exob"/>
              </a:rPr>
              <a:t>Vállalkozói ár: költségalapú ár a fedezeti pont, haszonkulcs és tervezett megtérülés alapján</a:t>
            </a:r>
            <a:endParaRPr b="0" lang="en-US" sz="2400" spc="-1" strike="noStrike">
              <a:solidFill>
                <a:srgbClr val="000000"/>
              </a:solidFill>
              <a:latin typeface="Huni_Exob"/>
            </a:endParaRPr>
          </a:p>
          <a:p>
            <a:pPr lvl="1" marL="885240" indent="-3938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Huni_Exob"/>
              </a:rPr>
              <a:t>Államilag szabályozott árak és közvetlen állami beavatkozás</a:t>
            </a:r>
            <a:endParaRPr b="0" lang="en-US" sz="2400" spc="-1" strike="noStrike">
              <a:solidFill>
                <a:srgbClr val="000000"/>
              </a:solidFill>
              <a:latin typeface="Huni_Exob"/>
            </a:endParaRPr>
          </a:p>
          <a:p>
            <a:pPr marL="329040" indent="-32904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Huni_Exob"/>
              </a:rPr>
              <a:t>Árdöntések szempontjai</a:t>
            </a: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  <a:p>
            <a:pPr lvl="1" marL="885240" indent="-3938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Huni_Exob"/>
              </a:rPr>
              <a:t>Kereslet-kínálati viszonyok, árrugalmasság, jövedelemrugalmasság</a:t>
            </a:r>
            <a:endParaRPr b="0" lang="en-US" sz="2400" spc="-1" strike="noStrike">
              <a:solidFill>
                <a:srgbClr val="000000"/>
              </a:solidFill>
              <a:latin typeface="Huni_Exob"/>
            </a:endParaRPr>
          </a:p>
          <a:p>
            <a:pPr lvl="1" marL="885240" indent="-39384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Huni_Exob"/>
              </a:rPr>
              <a:t>A piaci verseny hatásai</a:t>
            </a:r>
            <a:endParaRPr b="0" lang="en-US" sz="24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2680" y="7596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Huni_Exob"/>
              </a:rPr>
              <a:t>Árképzés, árdöntések</a:t>
            </a: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52440" indent="-35244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Huni_Exob"/>
              </a:rPr>
              <a:t>A kínálati ár tartalma</a:t>
            </a: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  <a:p>
            <a:pPr lvl="1" marL="947520" indent="-42192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Huni_Exob"/>
              </a:rPr>
              <a:t>Használati érték</a:t>
            </a:r>
            <a:endParaRPr b="0" lang="en-US" sz="2400" spc="-1" strike="noStrike">
              <a:solidFill>
                <a:srgbClr val="000000"/>
              </a:solidFill>
              <a:latin typeface="Huni_Exob"/>
            </a:endParaRPr>
          </a:p>
          <a:p>
            <a:pPr lvl="1" marL="947520" indent="-42192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Huni_Exob"/>
              </a:rPr>
              <a:t>A termék újdonságfoka és az innováció diffúziósebessége</a:t>
            </a:r>
            <a:endParaRPr b="0" lang="en-US" sz="2400" spc="-1" strike="noStrike">
              <a:solidFill>
                <a:srgbClr val="000000"/>
              </a:solidFill>
              <a:latin typeface="Huni_Exob"/>
            </a:endParaRPr>
          </a:p>
          <a:p>
            <a:pPr lvl="1" marL="947520" indent="-42192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Huni_Exob"/>
              </a:rPr>
              <a:t>Versenyviszonyok, árdifferenciálás</a:t>
            </a:r>
            <a:endParaRPr b="0" lang="en-US" sz="2400" spc="-1" strike="noStrike">
              <a:solidFill>
                <a:srgbClr val="000000"/>
              </a:solidFill>
              <a:latin typeface="Huni_Exob"/>
            </a:endParaRPr>
          </a:p>
          <a:p>
            <a:pPr lvl="1" marL="947520" indent="-42192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Huni_Exob"/>
              </a:rPr>
              <a:t>A minőség és a márka szerepe</a:t>
            </a:r>
            <a:endParaRPr b="0" lang="en-US" sz="24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7596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uni_Exob"/>
              </a:rPr>
              <a:t>Az árstratégia tartalmi kérdései</a:t>
            </a: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04000" indent="-50400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ni_Exob"/>
              </a:rPr>
              <a:t>Árazás a vezetői célok tükrében</a:t>
            </a:r>
            <a:endParaRPr b="1" lang="en-US" sz="2800" spc="-1" strike="noStrike">
              <a:solidFill>
                <a:srgbClr val="000000"/>
              </a:solidFill>
              <a:latin typeface="Huni_Exob"/>
            </a:endParaRPr>
          </a:p>
          <a:p>
            <a:pPr marL="504000" indent="-50400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ni_Exob"/>
              </a:rPr>
              <a:t>Árstratégiák általában</a:t>
            </a:r>
            <a:endParaRPr b="1" lang="en-US" sz="2800" spc="-1" strike="noStrike">
              <a:solidFill>
                <a:srgbClr val="000000"/>
              </a:solidFill>
              <a:latin typeface="Huni_Exob"/>
            </a:endParaRPr>
          </a:p>
          <a:p>
            <a:pPr marL="504000" indent="-50400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ni_Exob"/>
              </a:rPr>
              <a:t>Árazás és a versenykörnyezet</a:t>
            </a:r>
            <a:endParaRPr b="1" lang="en-US" sz="2800" spc="-1" strike="noStrike">
              <a:solidFill>
                <a:srgbClr val="000000"/>
              </a:solidFill>
              <a:latin typeface="Huni_Exob"/>
            </a:endParaRPr>
          </a:p>
          <a:p>
            <a:pPr marL="504000" indent="-50400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ni_Exob"/>
              </a:rPr>
              <a:t>Marketing-mix</a:t>
            </a:r>
            <a:endParaRPr b="1" lang="en-US" sz="2800" spc="-1" strike="noStrike">
              <a:solidFill>
                <a:srgbClr val="000000"/>
              </a:solidFill>
              <a:latin typeface="Huni_Exob"/>
            </a:endParaRPr>
          </a:p>
          <a:p>
            <a:pPr marL="504000" indent="-50400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ni_Exob"/>
              </a:rPr>
              <a:t>Árpolitikák a termék-életgörbe fázisaiban</a:t>
            </a:r>
            <a:endParaRPr b="1" lang="en-US" sz="2800" spc="-1" strike="noStrike">
              <a:solidFill>
                <a:srgbClr val="000000"/>
              </a:solidFill>
              <a:latin typeface="Huni_Exob"/>
            </a:endParaRPr>
          </a:p>
          <a:p>
            <a:pPr marL="504000" indent="-50400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ni_Exob"/>
              </a:rPr>
              <a:t>Az árdiszkrimináció gazdaságtana</a:t>
            </a:r>
            <a:endParaRPr b="1" lang="en-US" sz="2800" spc="-1" strike="noStrike">
              <a:solidFill>
                <a:srgbClr val="000000"/>
              </a:solidFill>
              <a:latin typeface="Huni_Exob"/>
            </a:endParaRPr>
          </a:p>
          <a:p>
            <a:pPr marL="504000" indent="-50400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ni_Exob"/>
              </a:rPr>
              <a:t>Többtelepes, többtermékes cégek árstratégiája</a:t>
            </a:r>
            <a:endParaRPr b="1" lang="en-US" sz="2800" spc="-1" strike="noStrike">
              <a:solidFill>
                <a:srgbClr val="000000"/>
              </a:solidFill>
              <a:latin typeface="Huni_Exob"/>
            </a:endParaRPr>
          </a:p>
          <a:p>
            <a:pPr marL="504000" indent="-50400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ni_Exob"/>
              </a:rPr>
              <a:t>Csúcsterheléses árazás</a:t>
            </a:r>
            <a:endParaRPr b="1" lang="en-US" sz="2800" spc="-1" strike="noStrike">
              <a:solidFill>
                <a:srgbClr val="000000"/>
              </a:solidFill>
              <a:latin typeface="Huni_Exob"/>
            </a:endParaRPr>
          </a:p>
          <a:p>
            <a:pPr marL="504000" indent="-50400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ni_Exob"/>
              </a:rPr>
              <a:t>A kormányzati beavatkozás formái</a:t>
            </a:r>
            <a:endParaRPr b="1" lang="en-US" sz="28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533520"/>
            <a:ext cx="842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uni_Exob"/>
              </a:rPr>
              <a:t>Árazás a vezetői célok tükrében</a:t>
            </a: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5345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15520" indent="-51552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Huni_Exob"/>
              </a:rPr>
              <a:t>Árfunkciók</a:t>
            </a: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  <a:p>
            <a:pPr lvl="1" marL="1208880" indent="-43452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Huni_Exob"/>
              </a:rPr>
              <a:t>Nyereségtermelés</a:t>
            </a:r>
            <a:endParaRPr b="0" lang="en-US" sz="2400" spc="-1" strike="noStrike">
              <a:solidFill>
                <a:srgbClr val="000000"/>
              </a:solidFill>
              <a:latin typeface="Huni_Exob"/>
            </a:endParaRPr>
          </a:p>
          <a:p>
            <a:pPr lvl="1" marL="1208880" indent="-43452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Huni_Exob"/>
              </a:rPr>
              <a:t>Vevők megkülönböztetése, árra való reagálásuk követése</a:t>
            </a:r>
            <a:endParaRPr b="0" lang="en-US" sz="2400" spc="-1" strike="noStrike">
              <a:solidFill>
                <a:srgbClr val="000000"/>
              </a:solidFill>
              <a:latin typeface="Huni_Exob"/>
            </a:endParaRPr>
          </a:p>
          <a:p>
            <a:pPr lvl="1" marL="1208880" indent="-43452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Huni_Exob"/>
              </a:rPr>
              <a:t>Az eladható mennyiség befolyásolása</a:t>
            </a:r>
            <a:endParaRPr b="0" lang="en-US" sz="2400" spc="-1" strike="noStrike">
              <a:solidFill>
                <a:srgbClr val="000000"/>
              </a:solidFill>
              <a:latin typeface="Huni_Exob"/>
            </a:endParaRPr>
          </a:p>
          <a:p>
            <a:pPr lvl="1" marL="1208880" indent="-43452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Huni_Exob"/>
              </a:rPr>
              <a:t>Tapasztalatszerzés a fejlesztési döntésekhez</a:t>
            </a:r>
            <a:endParaRPr b="0" lang="en-US" sz="24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uni_Exob"/>
              </a:rPr>
              <a:t>Árazás a vezetői célok tükrében</a:t>
            </a: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5248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04000" indent="-50400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Huni_Exob"/>
              </a:rPr>
              <a:t>Vezetői célok és az árazás</a:t>
            </a: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  <a:p>
            <a:pPr lvl="1" marL="1182240" indent="-42516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Huni_Exob"/>
              </a:rPr>
              <a:t>Versenypiacon az ár a keresleti-kínálati erők függvénye</a:t>
            </a:r>
            <a:endParaRPr b="0" lang="en-US" sz="2400" spc="-1" strike="noStrike">
              <a:solidFill>
                <a:srgbClr val="000000"/>
              </a:solidFill>
              <a:latin typeface="Huni_Exob"/>
            </a:endParaRPr>
          </a:p>
          <a:p>
            <a:pPr lvl="1" marL="1182240" indent="-42516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Huni_Exob"/>
              </a:rPr>
              <a:t>Átfogó cél a jövedelmező értékesítés és az üzlet bővítése</a:t>
            </a:r>
            <a:endParaRPr b="0" lang="en-US" sz="2400" spc="-1" strike="noStrike">
              <a:solidFill>
                <a:srgbClr val="000000"/>
              </a:solidFill>
              <a:latin typeface="Huni_Exob"/>
            </a:endParaRPr>
          </a:p>
          <a:p>
            <a:pPr lvl="1" marL="1182240" indent="-42516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Huni_Exob"/>
              </a:rPr>
              <a:t>Lehetséges részcélok: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Huni_Exob"/>
              </a:rPr>
              <a:t>maximális profit, árbevétel, növekedés vagy jó közérzet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Huni_Exob"/>
              </a:rPr>
              <a:t>(amelyekhez más-más árszint tartozik)</a:t>
            </a:r>
            <a:endParaRPr b="0" lang="en-US" sz="2400" spc="-1" strike="noStrike">
              <a:solidFill>
                <a:srgbClr val="000000"/>
              </a:solidFill>
              <a:latin typeface="Huni_Exob"/>
            </a:endParaRPr>
          </a:p>
          <a:p>
            <a:pPr lvl="1" marL="1182240" indent="-425160"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Huni_Exob"/>
              </a:rPr>
              <a:t>A minimális veszteség is lehet cél, pl. piacok megszerzése érdekében</a:t>
            </a:r>
            <a:endParaRPr b="0" lang="en-US" sz="24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uni_Exob"/>
              </a:rPr>
              <a:t>Elterjedtebb árképzési stratégiák</a:t>
            </a: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76240" y="2514240"/>
            <a:ext cx="8191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58640" indent="-45864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Huni_Exob"/>
              </a:rPr>
              <a:t>Határköltségen alapuló, marginális árképzés</a:t>
            </a: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  <a:p>
            <a:pPr marL="458640" indent="-45864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Huni_Exob"/>
              </a:rPr>
              <a:t>Hozadéktöbblet-alapú, inkrementális árképzés</a:t>
            </a: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  <a:p>
            <a:pPr marL="458640" indent="-45864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Huni_Exob"/>
              </a:rPr>
              <a:t>Fedezeti pont-alapú ár</a:t>
            </a: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  <a:p>
            <a:pPr marL="458640" indent="-45864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Huni_Exob"/>
              </a:rPr>
              <a:t>Haszonkulcsos, „mark-up” árképzés</a:t>
            </a:r>
            <a:endParaRPr b="1" lang="en-US" sz="32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53316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uni_Exob"/>
              </a:rPr>
              <a:t>Határköltségen alapuló árképzés</a:t>
            </a:r>
            <a:endParaRPr b="1" lang="en-US" sz="4400" spc="-1" strike="noStrike">
              <a:solidFill>
                <a:srgbClr val="000000"/>
              </a:solidFill>
              <a:latin typeface="Huni_Exo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lvl="1"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ni_Exob"/>
              </a:rPr>
              <a:t>A határköltségen (marginális költségen) alapuló árképzés alapja olyan termékvolumen meghatározása, amely mellett a határköltség éppen egyenlő a határbevételle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Huni_Exob"/>
            </a:endParaRPr>
          </a:p>
          <a:p>
            <a:pPr marL="475920" indent="-47592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uni_Exob"/>
              </a:rPr>
              <a:t>Profitmaximáló árstratégia</a:t>
            </a:r>
            <a:endParaRPr b="1" lang="en-US" sz="2400" spc="-1" strike="noStrike">
              <a:solidFill>
                <a:srgbClr val="000000"/>
              </a:solidFill>
              <a:latin typeface="Huni_Exob"/>
            </a:endParaRPr>
          </a:p>
          <a:p>
            <a:pPr marL="475920" indent="-47592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uni_Exob"/>
              </a:rPr>
              <a:t>Célja az árbevétel és összköltség közötti eltérés maximálása</a:t>
            </a:r>
            <a:endParaRPr b="1" lang="en-US" sz="2400" spc="-1" strike="noStrike">
              <a:solidFill>
                <a:srgbClr val="000000"/>
              </a:solidFill>
              <a:latin typeface="Huni_Exob"/>
            </a:endParaRPr>
          </a:p>
          <a:p>
            <a:pPr marL="475920" indent="-475920">
              <a:buClr>
                <a:srgbClr val="000000"/>
              </a:buClr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uni_Exob"/>
              </a:rPr>
              <a:t>Alapja a termelés határköltsége, azaz egy további termék eladásakor jelentkező árbevétel- és költségtöbblet különbsége </a:t>
            </a:r>
            <a:endParaRPr b="1" lang="en-US" sz="2400" spc="-1" strike="noStrike">
              <a:solidFill>
                <a:srgbClr val="000000"/>
              </a:solidFill>
              <a:latin typeface="Huni_Exo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8T11:53:18Z</dcterms:created>
  <dc:creator>Varsányi Judit</dc:creator>
  <dc:description/>
  <dc:language>en-US</dc:language>
  <cp:lastModifiedBy>Varsányi Judit</cp:lastModifiedBy>
  <cp:lastPrinted>2002-10-24T19:39:58Z</cp:lastPrinted>
  <dcterms:modified xsi:type="dcterms:W3CDTF">2002-10-24T20:03:25Z</dcterms:modified>
  <cp:revision>52</cp:revision>
  <dc:subject/>
  <dc:title>ÁRSTRATÉGIÁK</dc:title>
</cp:coreProperties>
</file>