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4.png" ContentType="image/png"/>
  <Override PartName="/ppt/media/image3.wmf" ContentType="image/x-wmf"/>
  <Override PartName="/ppt/media/image15.jpeg" ContentType="image/jpeg"/>
  <Override PartName="/ppt/media/image26.wmf" ContentType="image/x-wmf"/>
  <Override PartName="/ppt/media/image27.wmf" ContentType="image/x-wmf"/>
  <Override PartName="/ppt/media/image16.png" ContentType="image/png"/>
  <Override PartName="/ppt/media/image24.wmf" ContentType="image/x-wmf"/>
  <Override PartName="/ppt/media/image2.png" ContentType="image/png"/>
  <Override PartName="/ppt/media/image25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886176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1120" y="3979800"/>
            <a:ext cx="886176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432432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2160" y="1447560"/>
            <a:ext cx="432432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1120" y="3979800"/>
            <a:ext cx="432432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2160" y="3979800"/>
            <a:ext cx="432432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285336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37400" y="1447560"/>
            <a:ext cx="285336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4040" y="1447560"/>
            <a:ext cx="285336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1120" y="3979800"/>
            <a:ext cx="285336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37400" y="3979800"/>
            <a:ext cx="285336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4040" y="3979800"/>
            <a:ext cx="285336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1120" y="1447560"/>
            <a:ext cx="886176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886176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432432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2160" y="1447560"/>
            <a:ext cx="432432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1120" y="304560"/>
            <a:ext cx="886176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432432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2160" y="1447560"/>
            <a:ext cx="432432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41120" y="3979800"/>
            <a:ext cx="432432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1120" y="1447560"/>
            <a:ext cx="886176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432432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160" y="1447560"/>
            <a:ext cx="432432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2160" y="3979800"/>
            <a:ext cx="432432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432432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160" y="1447560"/>
            <a:ext cx="432432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1120" y="3979800"/>
            <a:ext cx="886176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886176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41120" y="3979800"/>
            <a:ext cx="886176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432432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2160" y="1447560"/>
            <a:ext cx="432432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1120" y="3979800"/>
            <a:ext cx="432432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82160" y="3979800"/>
            <a:ext cx="432432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285336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37400" y="1447560"/>
            <a:ext cx="285336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34040" y="1447560"/>
            <a:ext cx="285336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41120" y="3979800"/>
            <a:ext cx="285336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37400" y="3979800"/>
            <a:ext cx="285336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34040" y="3979800"/>
            <a:ext cx="285336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886176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432432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2160" y="1447560"/>
            <a:ext cx="432432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1120" y="304560"/>
            <a:ext cx="886176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432432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2160" y="1447560"/>
            <a:ext cx="432432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1120" y="3979800"/>
            <a:ext cx="432432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432432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2160" y="1447560"/>
            <a:ext cx="432432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2160" y="3979800"/>
            <a:ext cx="432432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432432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2160" y="1447560"/>
            <a:ext cx="432432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1120" y="3979800"/>
            <a:ext cx="8861760" cy="231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1120" y="1447560"/>
            <a:ext cx="886176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Click to edit the outline text format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spcBef>
                <a:spcPts val="649"/>
              </a:spcBef>
              <a:buClr>
                <a:srgbClr val="006a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Second Outline Level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2" marL="1517760" indent="-177840">
              <a:spcBef>
                <a:spcPts val="649"/>
              </a:spcBef>
              <a:buClr>
                <a:srgbClr val="000000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Third Outline Level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3" marL="2098800" indent="-282600">
              <a:spcBef>
                <a:spcPts val="649"/>
              </a:spcBef>
              <a:buClr>
                <a:srgbClr val="5c2e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Fourth Outline Level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4" marL="2664000" indent="-282600">
              <a:spcBef>
                <a:spcPts val="649"/>
              </a:spcBef>
              <a:buClr>
                <a:srgbClr val="5c2e00"/>
              </a:buClr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Fifth Outline Level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5" marL="2664000" indent="-282600">
              <a:spcBef>
                <a:spcPts val="649"/>
              </a:spcBef>
              <a:buClr>
                <a:srgbClr val="000000"/>
              </a:buClr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Sixth Outline Level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6" marL="2664000" indent="-282600">
              <a:spcBef>
                <a:spcPts val="649"/>
              </a:spcBef>
              <a:buClr>
                <a:srgbClr val="000000"/>
              </a:buClr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Seventh Outline Level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8453520" y="6488280"/>
            <a:ext cx="80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1119-8628-4BCC-80C5-B483EBF75498}" type="slidenum">
              <a:rPr b="1" lang="en-US" sz="16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Click to edit the outline text format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Second Outline Level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2" marL="914400" indent="425520" algn="ctr">
              <a:buClr>
                <a:srgbClr val="000000"/>
              </a:buClr>
              <a:buFont typeface="Monotype Sort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444600" algn="ctr">
              <a:buClr>
                <a:srgbClr val="5c2e00"/>
              </a:buClr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2e00"/>
                </a:solidFill>
                <a:latin typeface="Comic Sans MS"/>
              </a:rPr>
              <a:t>Fourth Outline Level</a:t>
            </a:r>
            <a:endParaRPr b="0" lang="en-US" sz="1600" spc="-1" strike="noStrike">
              <a:solidFill>
                <a:srgbClr val="5c2e00"/>
              </a:solidFill>
              <a:latin typeface="Comic Sans MS"/>
            </a:endParaRPr>
          </a:p>
          <a:p>
            <a:pPr lvl="4" marL="1828800" indent="552600" algn="ctr">
              <a:buClr>
                <a:srgbClr val="5c2e00"/>
              </a:buClr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2e00"/>
                </a:solidFill>
                <a:latin typeface="Comic Sans MS"/>
              </a:rPr>
              <a:t>Fifth Outline Level</a:t>
            </a:r>
            <a:endParaRPr b="0" lang="en-US" sz="1600" spc="-1" strike="noStrike">
              <a:solidFill>
                <a:srgbClr val="5c2e00"/>
              </a:solidFill>
              <a:latin typeface="Comic Sans MS"/>
            </a:endParaRPr>
          </a:p>
          <a:p>
            <a:pPr lvl="5" marL="1828800" indent="552600">
              <a:spcBef>
                <a:spcPts val="400"/>
              </a:spcBef>
              <a:buClr>
                <a:srgbClr val="000000"/>
              </a:buClr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2e00"/>
                </a:solidFill>
                <a:latin typeface="Comic Sans MS"/>
              </a:rPr>
              <a:t>Sixth Outline Level</a:t>
            </a:r>
            <a:endParaRPr b="0" lang="en-US" sz="1600" spc="-1" strike="noStrike">
              <a:solidFill>
                <a:srgbClr val="5c2e00"/>
              </a:solidFill>
              <a:latin typeface="Comic Sans MS"/>
            </a:endParaRPr>
          </a:p>
          <a:p>
            <a:pPr lvl="6" marL="1828800" indent="552600">
              <a:spcBef>
                <a:spcPts val="400"/>
              </a:spcBef>
              <a:buClr>
                <a:srgbClr val="000000"/>
              </a:buClr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2e00"/>
                </a:solidFill>
                <a:latin typeface="Comic Sans MS"/>
              </a:rPr>
              <a:t>Seventh Outline Level</a:t>
            </a:r>
            <a:endParaRPr b="0" lang="en-US" sz="1600" spc="-1" strike="noStrike">
              <a:solidFill>
                <a:srgbClr val="5c2e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8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164880" y="3711600"/>
            <a:ext cx="8826480" cy="1479600"/>
            <a:chOff x="164880" y="3711600"/>
            <a:chExt cx="8826480" cy="1479600"/>
          </a:xfrm>
        </p:grpSpPr>
        <p:sp>
          <p:nvSpPr>
            <p:cNvPr id="78" name=""/>
            <p:cNvSpPr/>
            <p:nvPr/>
          </p:nvSpPr>
          <p:spPr>
            <a:xfrm>
              <a:off x="1685880" y="4549680"/>
              <a:ext cx="5943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A jegyzet támogatói a következők voltak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Nemzeti Távoktatási Taná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Phare Multi-Country Co-operation in Distance Education Program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00távtanács" descr=""/>
            <p:cNvPicPr/>
            <p:nvPr/>
          </p:nvPicPr>
          <p:blipFill>
            <a:blip r:embed="rId1"/>
            <a:stretch/>
          </p:blipFill>
          <p:spPr>
            <a:xfrm>
              <a:off x="512640" y="3711600"/>
              <a:ext cx="81864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164880" y="4562640"/>
              <a:ext cx="1613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NEMZETI TÁVOKTATÁSI TANÁC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00phare" descr=""/>
            <p:cNvPicPr/>
            <p:nvPr/>
          </p:nvPicPr>
          <p:blipFill>
            <a:blip r:embed="rId2"/>
            <a:stretch/>
          </p:blipFill>
          <p:spPr>
            <a:xfrm>
              <a:off x="7400880" y="3787920"/>
              <a:ext cx="148536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335360" y="4473720"/>
              <a:ext cx="165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HARE Multi-Country Co-oper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 Distance Education Program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828720"/>
            <a:ext cx="8569080" cy="8776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80"/>
                </a:solidFill>
                <a:latin typeface="Comic Sans MS"/>
              </a:rPr>
              <a:t>Likviditásmenedzsment</a:t>
            </a:r>
            <a:endParaRPr b="1" lang="en-US" sz="48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0080" y="221724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2600"/>
                </a:solidFill>
                <a:latin typeface="Comic Sans MS"/>
              </a:rPr>
              <a:t>Válogatás a „Vállalati gazdaságtan. Oktatási segédlet” c. prezentáció 98-231. képkockái közül.</a:t>
            </a:r>
            <a:endParaRPr b="1" lang="en-US" sz="2000" spc="-1" strike="noStrike">
              <a:solidFill>
                <a:srgbClr val="a026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a02600"/>
                </a:solidFill>
                <a:latin typeface="Comic Sans MS"/>
              </a:rPr>
              <a:t>Készült</a:t>
            </a:r>
            <a:endParaRPr b="1" lang="en-US" sz="1800" spc="-1" strike="noStrike">
              <a:solidFill>
                <a:srgbClr val="a026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02600"/>
                </a:solidFill>
                <a:latin typeface="Comic Sans MS"/>
              </a:rPr>
              <a:t>Szabó József: Vállalatok, vállalkozások gazdaságtana című</a:t>
            </a:r>
            <a:endParaRPr b="1" lang="en-US" sz="1800" spc="-1" strike="noStrike">
              <a:solidFill>
                <a:srgbClr val="a026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02600"/>
                </a:solidFill>
                <a:latin typeface="Comic Sans MS"/>
              </a:rPr>
              <a:t>egyetemi jegyzete alapján (Universitas-Győr KHT, 2003)</a:t>
            </a:r>
            <a:endParaRPr b="1" lang="en-US" sz="18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5235480"/>
            <a:ext cx="792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vábbi saját és hivatkozott forrásokkal kiegészítve összeállítot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rsányi Ju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4520" y="139680"/>
            <a:ext cx="79246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zéchenyi István Egyetem, Marketing és Menedzsment tanszé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8960" y="6202440"/>
            <a:ext cx="792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Ábraszerkesztés és animáció: Barka László - Agistra Stúdió, Budapest, 200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intMaster clipart képekkel illusztrál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8080"/>
                </a:solidFill>
                <a:latin typeface="Comic Sans MS"/>
              </a:rPr>
              <a:t>A működőtőkét csökkentő kockázatok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0760" y="1904760"/>
            <a:ext cx="7286760" cy="355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56040" indent="-35604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02600"/>
                </a:solidFill>
                <a:latin typeface="Comic Sans MS"/>
              </a:rPr>
              <a:t>Rövid lejáratú működőtőke-hitelemelés</a:t>
            </a:r>
            <a:br>
              <a:rPr sz="2200"/>
            </a:br>
            <a:r>
              <a:rPr b="1" lang="hu-HU" sz="2200" spc="-1" strike="noStrike">
                <a:solidFill>
                  <a:srgbClr val="a02600"/>
                </a:solidFill>
                <a:latin typeface="Comic Sans MS"/>
              </a:rPr>
              <a:t>finanszírozási költségei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marL="356040" indent="-35604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02600"/>
                </a:solidFill>
                <a:latin typeface="Comic Sans MS"/>
              </a:rPr>
              <a:t>A raktárkészlet értékcsökkenése,</a:t>
            </a:r>
            <a:br>
              <a:rPr sz="2200"/>
            </a:br>
            <a:r>
              <a:rPr b="1" lang="hu-HU" sz="2200" spc="-1" strike="noStrike">
                <a:solidFill>
                  <a:srgbClr val="a02600"/>
                </a:solidFill>
                <a:latin typeface="Comic Sans MS"/>
              </a:rPr>
              <a:t>elavulása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marL="356040" indent="-35604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02600"/>
                </a:solidFill>
                <a:latin typeface="Comic Sans MS"/>
              </a:rPr>
              <a:t>Tönkrement romlandó termékek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marL="356040" indent="-35604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02600"/>
                </a:solidFill>
                <a:latin typeface="Comic Sans MS"/>
              </a:rPr>
              <a:t>Ellopott raktárkészlet/őrzési költségek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marL="356040" indent="-35604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02600"/>
                </a:solidFill>
                <a:latin typeface="Comic Sans MS"/>
              </a:rPr>
              <a:t>Adósok fizetésmegtagadása vagy csődje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marL="356040" indent="-35604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02600"/>
                </a:solidFill>
                <a:latin typeface="Comic Sans MS"/>
              </a:rPr>
              <a:t>A vállalat pénzét kezelő bank csődje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marL="356040" indent="-35604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02600"/>
                </a:solidFill>
                <a:latin typeface="Comic Sans MS"/>
              </a:rPr>
              <a:t>Kintlévőségek és a készpénz valódi értékének</a:t>
            </a:r>
            <a:br>
              <a:rPr sz="2200"/>
            </a:br>
            <a:r>
              <a:rPr b="1" lang="hu-HU" sz="2200" spc="-1" strike="noStrike">
                <a:solidFill>
                  <a:srgbClr val="a02600"/>
                </a:solidFill>
                <a:latin typeface="Comic Sans MS"/>
              </a:rPr>
              <a:t>infláció miatti értékcsökkenése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210960" y="6305400"/>
            <a:ext cx="793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330960" y="2743200"/>
            <a:ext cx="267480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 flipH="1" rot="16200000">
            <a:off x="4276440" y="897840"/>
            <a:ext cx="609480" cy="11062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4b4b4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0960" y="6305400"/>
            <a:ext cx="793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omic Sans MS"/>
              </a:rPr>
              <a:t>A működőtőke-igény tervezése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0760" y="2057040"/>
            <a:ext cx="7177320" cy="370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50280" indent="-350280">
              <a:spcBef>
                <a:spcPts val="49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02600"/>
                </a:solidFill>
                <a:latin typeface="Comic Sans MS"/>
              </a:rPr>
              <a:t>A potenciális értékesítés becslése</a:t>
            </a:r>
            <a:endParaRPr b="1" lang="en-US" sz="2000" spc="-1" strike="noStrike">
              <a:solidFill>
                <a:srgbClr val="a02600"/>
              </a:solidFill>
              <a:latin typeface="Comic Sans MS"/>
            </a:endParaRPr>
          </a:p>
          <a:p>
            <a:pPr marL="350280" indent="-350280">
              <a:spcBef>
                <a:spcPts val="49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02600"/>
                </a:solidFill>
                <a:latin typeface="Comic Sans MS"/>
              </a:rPr>
              <a:t>Az ilyen volumenű  értékesítéshez szükséges</a:t>
            </a:r>
            <a:br>
              <a:rPr sz="2000"/>
            </a:br>
            <a:r>
              <a:rPr b="1" lang="hu-HU" sz="2000" spc="-1" strike="noStrike">
                <a:solidFill>
                  <a:srgbClr val="a02600"/>
                </a:solidFill>
                <a:latin typeface="Comic Sans MS"/>
              </a:rPr>
              <a:t>termelési terv meghatározása</a:t>
            </a:r>
            <a:endParaRPr b="1" lang="en-US" sz="2000" spc="-1" strike="noStrike">
              <a:solidFill>
                <a:srgbClr val="a02600"/>
              </a:solidFill>
              <a:latin typeface="Comic Sans MS"/>
            </a:endParaRPr>
          </a:p>
          <a:p>
            <a:pPr marL="350280" indent="-350280">
              <a:spcBef>
                <a:spcPts val="49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02600"/>
                </a:solidFill>
                <a:latin typeface="Comic Sans MS"/>
              </a:rPr>
              <a:t>A nyersanyagigény kielégítéséhez szükséges</a:t>
            </a:r>
            <a:br>
              <a:rPr sz="2000"/>
            </a:br>
            <a:r>
              <a:rPr b="1" lang="hu-HU" sz="2000" spc="-1" strike="noStrike">
                <a:solidFill>
                  <a:srgbClr val="a02600"/>
                </a:solidFill>
                <a:latin typeface="Comic Sans MS"/>
              </a:rPr>
              <a:t>forgóeszköz-igény</a:t>
            </a:r>
            <a:endParaRPr b="1" lang="en-US" sz="2000" spc="-1" strike="noStrike">
              <a:solidFill>
                <a:srgbClr val="a02600"/>
              </a:solidFill>
              <a:latin typeface="Comic Sans MS"/>
            </a:endParaRPr>
          </a:p>
          <a:p>
            <a:pPr marL="350280" indent="-350280">
              <a:spcBef>
                <a:spcPts val="49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02600"/>
                </a:solidFill>
                <a:latin typeface="Comic Sans MS"/>
              </a:rPr>
              <a:t>A termelési időszak, folyó munkák és</a:t>
            </a:r>
            <a:br>
              <a:rPr sz="2000"/>
            </a:br>
            <a:r>
              <a:rPr b="1" lang="hu-HU" sz="2000" spc="-1" strike="noStrike">
                <a:solidFill>
                  <a:srgbClr val="a02600"/>
                </a:solidFill>
                <a:latin typeface="Comic Sans MS"/>
              </a:rPr>
              <a:t>elfogadható szintű készárukészletek becslése</a:t>
            </a:r>
            <a:endParaRPr b="1" lang="en-US" sz="2000" spc="-1" strike="noStrike">
              <a:solidFill>
                <a:srgbClr val="a02600"/>
              </a:solidFill>
              <a:latin typeface="Comic Sans MS"/>
            </a:endParaRPr>
          </a:p>
          <a:p>
            <a:pPr marL="350280" indent="-350280">
              <a:spcBef>
                <a:spcPts val="49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02600"/>
                </a:solidFill>
                <a:latin typeface="Comic Sans MS"/>
              </a:rPr>
              <a:t>A kintlévőségek elfogadható szintjének meghatározása</a:t>
            </a:r>
            <a:br>
              <a:rPr sz="2000"/>
            </a:br>
            <a:r>
              <a:rPr b="1" lang="hu-HU" sz="2000" spc="-1" strike="noStrike">
                <a:solidFill>
                  <a:srgbClr val="a02600"/>
                </a:solidFill>
                <a:latin typeface="Comic Sans MS"/>
              </a:rPr>
              <a:t>a vállalat hitelpolitikája alapján</a:t>
            </a:r>
            <a:endParaRPr b="1" lang="en-US" sz="2000" spc="-1" strike="noStrike">
              <a:solidFill>
                <a:srgbClr val="a02600"/>
              </a:solidFill>
              <a:latin typeface="Comic Sans MS"/>
            </a:endParaRPr>
          </a:p>
          <a:p>
            <a:pPr marL="350280" indent="-350280">
              <a:spcBef>
                <a:spcPts val="49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02600"/>
                </a:solidFill>
                <a:latin typeface="Comic Sans MS"/>
              </a:rPr>
              <a:t>A beszállítók hitelfeltételeinek vizsgálata</a:t>
            </a:r>
            <a:endParaRPr b="1" lang="en-US" sz="2000" spc="-1" strike="noStrike">
              <a:solidFill>
                <a:srgbClr val="a02600"/>
              </a:solidFill>
              <a:latin typeface="Comic Sans MS"/>
            </a:endParaRPr>
          </a:p>
          <a:p>
            <a:pPr marL="350280" indent="-350280">
              <a:spcBef>
                <a:spcPts val="49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02600"/>
                </a:solidFill>
                <a:latin typeface="Comic Sans MS"/>
              </a:rPr>
              <a:t>A beszállításhoz felszabadítandó működőtőke nagyságának és ütemezésének meghatározása</a:t>
            </a:r>
            <a:endParaRPr b="1" lang="en-US" sz="2000" spc="-1" strike="noStrike">
              <a:solidFill>
                <a:srgbClr val="a026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900840" y="2705040"/>
            <a:ext cx="210996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181440" y="1563840"/>
            <a:ext cx="3788640" cy="2727000"/>
            <a:chOff x="181440" y="1563840"/>
            <a:chExt cx="3788640" cy="2727000"/>
          </a:xfrm>
        </p:grpSpPr>
        <p:sp>
          <p:nvSpPr>
            <p:cNvPr id="188" name=""/>
            <p:cNvSpPr/>
            <p:nvPr/>
          </p:nvSpPr>
          <p:spPr>
            <a:xfrm>
              <a:off x="557280" y="4032360"/>
              <a:ext cx="3412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181440" y="1563840"/>
              <a:ext cx="3364920" cy="2727000"/>
              <a:chOff x="181440" y="1563840"/>
              <a:chExt cx="3364920" cy="2727000"/>
            </a:xfrm>
          </p:grpSpPr>
          <p:sp>
            <p:nvSpPr>
              <p:cNvPr id="190" name=""/>
              <p:cNvSpPr/>
              <p:nvPr/>
            </p:nvSpPr>
            <p:spPr>
              <a:xfrm>
                <a:off x="1836360" y="3462480"/>
                <a:ext cx="169920" cy="328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836360" y="3462480"/>
                <a:ext cx="169920" cy="328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836360" y="3135240"/>
                <a:ext cx="1278000" cy="327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836360" y="3135240"/>
                <a:ext cx="1278000" cy="327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836360" y="2798640"/>
                <a:ext cx="216720" cy="336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836360" y="2798640"/>
                <a:ext cx="216720" cy="336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836360" y="2470320"/>
                <a:ext cx="468720" cy="3283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836360" y="2470320"/>
                <a:ext cx="468720" cy="328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13000" y="2143080"/>
                <a:ext cx="423360" cy="327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413000" y="2143080"/>
                <a:ext cx="423360" cy="327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836360" y="1600200"/>
                <a:ext cx="1710000" cy="328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836360" y="1563840"/>
                <a:ext cx="1440" cy="246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770480" y="4032360"/>
                <a:ext cx="65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70480" y="1563840"/>
                <a:ext cx="65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1440" y="1752480"/>
                <a:ext cx="921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500" spc="-1" strike="noStrike">
                    <a:solidFill>
                      <a:srgbClr val="000000"/>
                    </a:solidFill>
                    <a:latin typeface="Comic Sans MS"/>
                  </a:rPr>
                  <a:t>Likőrgyá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77480" y="4092480"/>
                <a:ext cx="457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300" spc="-1" strike="noStrike">
                    <a:solidFill>
                      <a:srgbClr val="000000"/>
                    </a:solidFill>
                    <a:latin typeface="Comic Sans MS"/>
                  </a:rPr>
                  <a:t>Forin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3790800" y="1752480"/>
            <a:ext cx="2400120" cy="1600200"/>
            <a:chOff x="3790800" y="1752480"/>
            <a:chExt cx="2400120" cy="1600200"/>
          </a:xfrm>
        </p:grpSpPr>
        <p:sp>
          <p:nvSpPr>
            <p:cNvPr id="207" name=""/>
            <p:cNvSpPr/>
            <p:nvPr/>
          </p:nvSpPr>
          <p:spPr>
            <a:xfrm>
              <a:off x="3790800" y="1752480"/>
              <a:ext cx="2400120" cy="160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50640" y="1905120"/>
              <a:ext cx="128520" cy="10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55480" y="1874880"/>
              <a:ext cx="1955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omic Sans MS"/>
                </a:rPr>
                <a:t>Nettó működőtőke igén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62160" y="2152800"/>
              <a:ext cx="127800" cy="1029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50640" y="2152800"/>
              <a:ext cx="128520" cy="10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55480" y="2103480"/>
              <a:ext cx="187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omic Sans MS"/>
                </a:rPr>
                <a:t>Folyó kifizetés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62160" y="2363760"/>
              <a:ext cx="127800" cy="1047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50640" y="2363760"/>
              <a:ext cx="128520" cy="104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42880" y="2332080"/>
              <a:ext cx="999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omic Sans MS"/>
                </a:rPr>
                <a:t>Kintlévőség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62160" y="2604960"/>
              <a:ext cx="127800" cy="1033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62160" y="2604960"/>
              <a:ext cx="127800" cy="10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55480" y="2560680"/>
              <a:ext cx="64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omic Sans MS"/>
                </a:rPr>
                <a:t>Készár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62160" y="2862360"/>
              <a:ext cx="127800" cy="1029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62160" y="2862360"/>
              <a:ext cx="127800" cy="10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23800" y="2819520"/>
              <a:ext cx="1001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omic Sans MS"/>
                </a:rPr>
                <a:t>Folyó munká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62160" y="3090960"/>
              <a:ext cx="127800" cy="1047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62160" y="3090960"/>
              <a:ext cx="127800" cy="104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37480" y="3048120"/>
              <a:ext cx="102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omic Sans MS"/>
                </a:rPr>
                <a:t>Nyersanyag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60520" y="4282920"/>
            <a:ext cx="3294000" cy="2118240"/>
            <a:chOff x="560520" y="4282920"/>
            <a:chExt cx="3294000" cy="2118240"/>
          </a:xfrm>
        </p:grpSpPr>
        <p:sp>
          <p:nvSpPr>
            <p:cNvPr id="226" name=""/>
            <p:cNvSpPr/>
            <p:nvPr/>
          </p:nvSpPr>
          <p:spPr>
            <a:xfrm>
              <a:off x="1972800" y="5562360"/>
              <a:ext cx="376200" cy="3398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72800" y="5562360"/>
              <a:ext cx="376200" cy="33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2800" y="5221080"/>
              <a:ext cx="184320" cy="3412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72800" y="5221080"/>
              <a:ext cx="184320" cy="34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44560" y="4881240"/>
              <a:ext cx="1128240" cy="3398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44560" y="4881240"/>
              <a:ext cx="1128240" cy="33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21120" y="4539960"/>
              <a:ext cx="751320" cy="34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0520" y="6160680"/>
              <a:ext cx="329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72800" y="4282920"/>
              <a:ext cx="1080" cy="18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09800" y="6160680"/>
              <a:ext cx="63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09800" y="4282920"/>
              <a:ext cx="6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97520" y="4329000"/>
              <a:ext cx="134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500" spc="-1" strike="noStrike">
                  <a:solidFill>
                    <a:srgbClr val="000000"/>
                  </a:solidFill>
                  <a:latin typeface="Comic Sans MS"/>
                </a:rPr>
                <a:t>Szupermark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06560" y="6187680"/>
              <a:ext cx="53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For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1360" y="304920"/>
            <a:ext cx="8763120" cy="91584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8080"/>
                </a:solidFill>
                <a:latin typeface="Comic Sans MS"/>
              </a:rPr>
              <a:t>A hosszabb gyártási időszak</a:t>
            </a:r>
            <a:br>
              <a:rPr sz="2800"/>
            </a:br>
            <a:r>
              <a:rPr b="1" lang="hu-HU" sz="2800" spc="-1" strike="noStrike">
                <a:solidFill>
                  <a:srgbClr val="008080"/>
                </a:solidFill>
                <a:latin typeface="Comic Sans MS"/>
              </a:rPr>
              <a:t>nagyobb működőtőke igényhez vezet ...</a:t>
            </a:r>
            <a:endParaRPr b="1" lang="en-US" sz="28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61120" y="1676520"/>
            <a:ext cx="2674800" cy="410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52440" indent="-352440">
              <a:spcBef>
                <a:spcPts val="40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a02600"/>
                </a:solidFill>
                <a:latin typeface="Comic Sans MS"/>
              </a:rPr>
              <a:t>Egy likőrgyárnak jelentős működőtőkére van szüksége, mivel</a:t>
            </a:r>
            <a:br>
              <a:rPr sz="1600"/>
            </a:br>
            <a:r>
              <a:rPr b="1" lang="hu-HU" sz="1600" spc="-1" strike="noStrike">
                <a:solidFill>
                  <a:srgbClr val="a02600"/>
                </a:solidFill>
                <a:latin typeface="Comic Sans MS"/>
              </a:rPr>
              <a:t>a gyártási idő hosszú</a:t>
            </a:r>
            <a:endParaRPr b="1" lang="en-US" sz="1600" spc="-1" strike="noStrike">
              <a:solidFill>
                <a:srgbClr val="a02600"/>
              </a:solidFill>
              <a:latin typeface="Comic Sans MS"/>
            </a:endParaRPr>
          </a:p>
          <a:p>
            <a:pPr marL="35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02600"/>
              </a:solidFill>
              <a:latin typeface="Comic Sans MS"/>
            </a:endParaRPr>
          </a:p>
          <a:p>
            <a:pPr marL="35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02600"/>
              </a:solidFill>
              <a:latin typeface="Comic Sans MS"/>
            </a:endParaRPr>
          </a:p>
          <a:p>
            <a:pPr marL="35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02600"/>
              </a:solidFill>
              <a:latin typeface="Comic Sans MS"/>
            </a:endParaRPr>
          </a:p>
          <a:p>
            <a:pPr marL="35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02600"/>
              </a:solidFill>
              <a:latin typeface="Comic Sans MS"/>
            </a:endParaRPr>
          </a:p>
          <a:p>
            <a:pPr marL="352440" indent="-352440">
              <a:spcBef>
                <a:spcPts val="40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a02600"/>
                </a:solidFill>
                <a:latin typeface="Comic Sans MS"/>
              </a:rPr>
              <a:t>Egy szupermarketnek szabad készpénze van, mert a működési idő rövid, és a vevők készpénzben fizetnek, míg a beszállítókat később kell csak kifizetni</a:t>
            </a:r>
            <a:endParaRPr b="1" lang="en-US" sz="1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210960" y="6305400"/>
            <a:ext cx="793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781440" y="4267080"/>
            <a:ext cx="2479320" cy="1600200"/>
            <a:chOff x="3781440" y="4267080"/>
            <a:chExt cx="2479320" cy="1600200"/>
          </a:xfrm>
        </p:grpSpPr>
        <p:sp>
          <p:nvSpPr>
            <p:cNvPr id="243" name=""/>
            <p:cNvSpPr/>
            <p:nvPr/>
          </p:nvSpPr>
          <p:spPr>
            <a:xfrm>
              <a:off x="3781440" y="4267080"/>
              <a:ext cx="2399760" cy="160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41280" y="4648320"/>
              <a:ext cx="128160" cy="10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46120" y="4618080"/>
              <a:ext cx="21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omic Sans MS"/>
                </a:rPr>
                <a:t>Nettó működőtőke többl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52800" y="4896000"/>
              <a:ext cx="127800" cy="1029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41280" y="4896000"/>
              <a:ext cx="128160" cy="10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46120" y="4846680"/>
              <a:ext cx="187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omic Sans MS"/>
                </a:rPr>
                <a:t>Esedékes kifizetés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52800" y="5119560"/>
              <a:ext cx="127800" cy="1033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52800" y="5119560"/>
              <a:ext cx="127800" cy="10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4960" y="5075280"/>
              <a:ext cx="1230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omic Sans MS"/>
                </a:rPr>
                <a:t>Áruk a boltokb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52800" y="5346720"/>
              <a:ext cx="127800" cy="10476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52800" y="5346720"/>
              <a:ext cx="127800" cy="104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52240" y="5303880"/>
              <a:ext cx="99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omic Sans MS"/>
                </a:rPr>
                <a:t>Áruk raktár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0960" y="1278000"/>
            <a:ext cx="8583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A kedvezmény- és hitelnyújtási politika hatékonyságához a vállalatnak folyamatosan meg kell határoznia kintlévőségeinek életkorá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81160" y="2438280"/>
            <a:ext cx="4713120" cy="3733920"/>
            <a:chOff x="281160" y="2438280"/>
            <a:chExt cx="4713120" cy="3733920"/>
          </a:xfrm>
        </p:grpSpPr>
        <p:sp>
          <p:nvSpPr>
            <p:cNvPr id="257" name=""/>
            <p:cNvSpPr/>
            <p:nvPr/>
          </p:nvSpPr>
          <p:spPr>
            <a:xfrm>
              <a:off x="997920" y="2865600"/>
              <a:ext cx="3696840" cy="2050920"/>
            </a:xfrm>
            <a:custGeom>
              <a:avLst/>
              <a:gdLst/>
              <a:ahLst/>
              <a:rect l="l" t="t" r="r" b="b"/>
              <a:pathLst>
                <a:path w="2329" h="1292">
                  <a:moveTo>
                    <a:pt x="0" y="0"/>
                  </a:moveTo>
                  <a:lnTo>
                    <a:pt x="2328" y="0"/>
                  </a:lnTo>
                  <a:lnTo>
                    <a:pt x="2328" y="1291"/>
                  </a:lnTo>
                  <a:lnTo>
                    <a:pt x="0" y="129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97920" y="2865600"/>
              <a:ext cx="3707280" cy="2060280"/>
            </a:xfrm>
            <a:custGeom>
              <a:avLst/>
              <a:gdLst/>
              <a:ahLst/>
              <a:rect l="l" t="t" r="r" b="b"/>
              <a:pathLst>
                <a:path w="2335" h="1298">
                  <a:moveTo>
                    <a:pt x="0" y="0"/>
                  </a:moveTo>
                  <a:lnTo>
                    <a:pt x="2334" y="0"/>
                  </a:lnTo>
                  <a:lnTo>
                    <a:pt x="2334" y="1297"/>
                  </a:lnTo>
                  <a:lnTo>
                    <a:pt x="0" y="1297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16360" y="4065480"/>
              <a:ext cx="167040" cy="860400"/>
            </a:xfrm>
            <a:custGeom>
              <a:avLst/>
              <a:gdLst/>
              <a:ahLst/>
              <a:rect l="l" t="t" r="r" b="b"/>
              <a:pathLst>
                <a:path w="105" h="542">
                  <a:moveTo>
                    <a:pt x="0" y="0"/>
                  </a:moveTo>
                  <a:lnTo>
                    <a:pt x="104" y="0"/>
                  </a:lnTo>
                  <a:lnTo>
                    <a:pt x="104" y="541"/>
                  </a:lnTo>
                  <a:lnTo>
                    <a:pt x="0" y="54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47360" y="3295800"/>
              <a:ext cx="166680" cy="1630080"/>
            </a:xfrm>
            <a:custGeom>
              <a:avLst/>
              <a:gdLst/>
              <a:ahLst/>
              <a:rect l="l" t="t" r="r" b="b"/>
              <a:pathLst>
                <a:path w="105" h="1027">
                  <a:moveTo>
                    <a:pt x="0" y="0"/>
                  </a:moveTo>
                  <a:lnTo>
                    <a:pt x="104" y="0"/>
                  </a:lnTo>
                  <a:lnTo>
                    <a:pt x="104" y="1026"/>
                  </a:lnTo>
                  <a:lnTo>
                    <a:pt x="0" y="1026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78000" y="3059280"/>
              <a:ext cx="167040" cy="1866600"/>
            </a:xfrm>
            <a:custGeom>
              <a:avLst/>
              <a:gdLst/>
              <a:ahLst/>
              <a:rect l="l" t="t" r="r" b="b"/>
              <a:pathLst>
                <a:path w="105" h="1176">
                  <a:moveTo>
                    <a:pt x="0" y="0"/>
                  </a:moveTo>
                  <a:lnTo>
                    <a:pt x="104" y="0"/>
                  </a:lnTo>
                  <a:lnTo>
                    <a:pt x="104" y="1175"/>
                  </a:lnTo>
                  <a:lnTo>
                    <a:pt x="0" y="1175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10080" y="4608360"/>
              <a:ext cx="165240" cy="317520"/>
            </a:xfrm>
            <a:custGeom>
              <a:avLst/>
              <a:gdLst/>
              <a:ahLst/>
              <a:rect l="l" t="t" r="r" b="b"/>
              <a:pathLst>
                <a:path w="105" h="200">
                  <a:moveTo>
                    <a:pt x="0" y="0"/>
                  </a:moveTo>
                  <a:lnTo>
                    <a:pt x="104" y="0"/>
                  </a:lnTo>
                  <a:lnTo>
                    <a:pt x="104" y="199"/>
                  </a:lnTo>
                  <a:lnTo>
                    <a:pt x="0" y="199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0640" y="4132440"/>
              <a:ext cx="167040" cy="793440"/>
            </a:xfrm>
            <a:custGeom>
              <a:avLst/>
              <a:gdLst/>
              <a:ahLst/>
              <a:rect l="l" t="t" r="r" b="b"/>
              <a:pathLst>
                <a:path w="105" h="500">
                  <a:moveTo>
                    <a:pt x="0" y="0"/>
                  </a:moveTo>
                  <a:lnTo>
                    <a:pt x="104" y="0"/>
                  </a:lnTo>
                  <a:lnTo>
                    <a:pt x="104" y="499"/>
                  </a:lnTo>
                  <a:lnTo>
                    <a:pt x="0" y="499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62720" y="4732200"/>
              <a:ext cx="164160" cy="193680"/>
            </a:xfrm>
            <a:custGeom>
              <a:avLst/>
              <a:gdLst/>
              <a:ahLst/>
              <a:rect l="l" t="t" r="r" b="b"/>
              <a:pathLst>
                <a:path w="104" h="122">
                  <a:moveTo>
                    <a:pt x="0" y="0"/>
                  </a:moveTo>
                  <a:lnTo>
                    <a:pt x="103" y="0"/>
                  </a:lnTo>
                  <a:lnTo>
                    <a:pt x="103" y="121"/>
                  </a:lnTo>
                  <a:lnTo>
                    <a:pt x="0" y="121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91920" y="3262320"/>
              <a:ext cx="166680" cy="1663560"/>
            </a:xfrm>
            <a:custGeom>
              <a:avLst/>
              <a:gdLst/>
              <a:ahLst/>
              <a:rect l="l" t="t" r="r" b="b"/>
              <a:pathLst>
                <a:path w="105" h="1048">
                  <a:moveTo>
                    <a:pt x="0" y="0"/>
                  </a:moveTo>
                  <a:lnTo>
                    <a:pt x="104" y="0"/>
                  </a:lnTo>
                  <a:lnTo>
                    <a:pt x="104" y="1047"/>
                  </a:lnTo>
                  <a:lnTo>
                    <a:pt x="0" y="1047"/>
                  </a:lnTo>
                  <a:lnTo>
                    <a:pt x="0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36600" y="3929040"/>
              <a:ext cx="165240" cy="996840"/>
            </a:xfrm>
            <a:custGeom>
              <a:avLst/>
              <a:gdLst/>
              <a:ahLst/>
              <a:rect l="l" t="t" r="r" b="b"/>
              <a:pathLst>
                <a:path w="105" h="628">
                  <a:moveTo>
                    <a:pt x="0" y="0"/>
                  </a:moveTo>
                  <a:lnTo>
                    <a:pt x="104" y="0"/>
                  </a:lnTo>
                  <a:lnTo>
                    <a:pt x="104" y="627"/>
                  </a:lnTo>
                  <a:lnTo>
                    <a:pt x="0" y="627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66160" y="4132440"/>
              <a:ext cx="166680" cy="793440"/>
            </a:xfrm>
            <a:custGeom>
              <a:avLst/>
              <a:gdLst/>
              <a:ahLst/>
              <a:rect l="l" t="t" r="r" b="b"/>
              <a:pathLst>
                <a:path w="105" h="500">
                  <a:moveTo>
                    <a:pt x="0" y="0"/>
                  </a:moveTo>
                  <a:lnTo>
                    <a:pt x="104" y="0"/>
                  </a:lnTo>
                  <a:lnTo>
                    <a:pt x="104" y="499"/>
                  </a:lnTo>
                  <a:lnTo>
                    <a:pt x="0" y="499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96800" y="3884760"/>
              <a:ext cx="167040" cy="1041120"/>
            </a:xfrm>
            <a:custGeom>
              <a:avLst/>
              <a:gdLst/>
              <a:ahLst/>
              <a:rect l="l" t="t" r="r" b="b"/>
              <a:pathLst>
                <a:path w="105" h="656">
                  <a:moveTo>
                    <a:pt x="0" y="0"/>
                  </a:moveTo>
                  <a:lnTo>
                    <a:pt x="104" y="0"/>
                  </a:lnTo>
                  <a:lnTo>
                    <a:pt x="104" y="655"/>
                  </a:lnTo>
                  <a:lnTo>
                    <a:pt x="0" y="655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8440" y="3986280"/>
              <a:ext cx="167040" cy="939600"/>
            </a:xfrm>
            <a:custGeom>
              <a:avLst/>
              <a:gdLst/>
              <a:ahLst/>
              <a:rect l="l" t="t" r="r" b="b"/>
              <a:pathLst>
                <a:path w="105" h="592">
                  <a:moveTo>
                    <a:pt x="0" y="0"/>
                  </a:moveTo>
                  <a:lnTo>
                    <a:pt x="104" y="0"/>
                  </a:lnTo>
                  <a:lnTo>
                    <a:pt x="104" y="591"/>
                  </a:lnTo>
                  <a:lnTo>
                    <a:pt x="0" y="591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49080" y="3522600"/>
              <a:ext cx="167040" cy="1403280"/>
            </a:xfrm>
            <a:custGeom>
              <a:avLst/>
              <a:gdLst/>
              <a:ahLst/>
              <a:rect l="l" t="t" r="r" b="b"/>
              <a:pathLst>
                <a:path w="105" h="884">
                  <a:moveTo>
                    <a:pt x="0" y="0"/>
                  </a:moveTo>
                  <a:lnTo>
                    <a:pt x="104" y="0"/>
                  </a:lnTo>
                  <a:lnTo>
                    <a:pt x="104" y="883"/>
                  </a:lnTo>
                  <a:lnTo>
                    <a:pt x="0" y="883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1520" y="4721400"/>
              <a:ext cx="164160" cy="204480"/>
            </a:xfrm>
            <a:custGeom>
              <a:avLst/>
              <a:gdLst/>
              <a:ahLst/>
              <a:rect l="l" t="t" r="r" b="b"/>
              <a:pathLst>
                <a:path w="104" h="129">
                  <a:moveTo>
                    <a:pt x="0" y="0"/>
                  </a:moveTo>
                  <a:lnTo>
                    <a:pt x="103" y="0"/>
                  </a:lnTo>
                  <a:lnTo>
                    <a:pt x="103" y="128"/>
                  </a:lnTo>
                  <a:lnTo>
                    <a:pt x="0" y="128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12160" y="3533760"/>
              <a:ext cx="165600" cy="1392120"/>
            </a:xfrm>
            <a:custGeom>
              <a:avLst/>
              <a:gdLst/>
              <a:ahLst/>
              <a:rect l="l" t="t" r="r" b="b"/>
              <a:pathLst>
                <a:path w="105" h="877">
                  <a:moveTo>
                    <a:pt x="0" y="0"/>
                  </a:moveTo>
                  <a:lnTo>
                    <a:pt x="104" y="0"/>
                  </a:lnTo>
                  <a:lnTo>
                    <a:pt x="104" y="876"/>
                  </a:lnTo>
                  <a:lnTo>
                    <a:pt x="0" y="876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97920" y="2871720"/>
              <a:ext cx="0" cy="204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77040" y="4924440"/>
              <a:ext cx="4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77040" y="4721400"/>
              <a:ext cx="4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77040" y="4518000"/>
              <a:ext cx="4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77040" y="4302000"/>
              <a:ext cx="4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77040" y="4098960"/>
              <a:ext cx="4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77040" y="3895560"/>
              <a:ext cx="4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77040" y="3691080"/>
              <a:ext cx="4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77040" y="3487680"/>
              <a:ext cx="4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77040" y="3273480"/>
              <a:ext cx="4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77040" y="3070080"/>
              <a:ext cx="4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77040" y="2865600"/>
              <a:ext cx="4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05120" y="4924440"/>
              <a:ext cx="369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997920" y="487152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1528200" y="487152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060640" y="487152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2589840" y="487152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111840" y="487152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3642480" y="487152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4173120" y="487152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4703760" y="487152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15400" y="2509920"/>
              <a:ext cx="26823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700" spc="-1" strike="noStrike">
                  <a:solidFill>
                    <a:srgbClr val="000000"/>
                  </a:solidFill>
                  <a:latin typeface="Comic Sans MS"/>
                </a:rPr>
                <a:t>Kintlévőségek életkor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2200" y="479736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6880" y="4594320"/>
              <a:ext cx="358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Comic Sans MS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6880" y="4390920"/>
              <a:ext cx="358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Comic Sans MS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6880" y="4175280"/>
              <a:ext cx="358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Comic Sans MS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6880" y="3971880"/>
              <a:ext cx="358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Comic Sans MS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840" y="376884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7160" y="3565440"/>
              <a:ext cx="358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Comic Sans MS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7160" y="3360600"/>
              <a:ext cx="358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Comic Sans MS"/>
                </a:rPr>
                <a:t>1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7160" y="3146400"/>
              <a:ext cx="358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Comic Sans MS"/>
                </a:rPr>
                <a:t>1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7160" y="2943360"/>
              <a:ext cx="358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Comic Sans MS"/>
                </a:rPr>
                <a:t>1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2200" y="273996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60920" y="5000760"/>
              <a:ext cx="490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omic Sans MS"/>
                </a:rPr>
                <a:t>0-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20000" y="5000760"/>
              <a:ext cx="403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omic Sans MS"/>
                </a:rPr>
                <a:t>30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32240" y="5192640"/>
              <a:ext cx="355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50640" y="5000760"/>
              <a:ext cx="403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omic Sans MS"/>
                </a:rPr>
                <a:t>60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61440" y="5192640"/>
              <a:ext cx="355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89920" y="5000760"/>
              <a:ext cx="403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omic Sans MS"/>
                </a:rPr>
                <a:t>90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53920" y="519264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omic Sans MS"/>
                </a:rPr>
                <a:t>1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61880" y="5000760"/>
              <a:ext cx="490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omic Sans MS"/>
                </a:rPr>
                <a:t>120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87440" y="519264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omic Sans MS"/>
                </a:rPr>
                <a:t>2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05840" y="5000760"/>
              <a:ext cx="490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omic Sans MS"/>
                </a:rPr>
                <a:t>240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18080" y="519264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omic Sans MS"/>
                </a:rPr>
                <a:t>3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97240" y="500076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omic Sans MS"/>
                </a:rPr>
                <a:t>&gt;3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48080" y="5487840"/>
              <a:ext cx="547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N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25560" y="3777480"/>
              <a:ext cx="1091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Milliárd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84320" y="5745240"/>
              <a:ext cx="155808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42720" y="5830920"/>
              <a:ext cx="61200" cy="77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48120" y="5724360"/>
              <a:ext cx="6415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omic Sans MS"/>
                </a:rPr>
                <a:t>96/2/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75680" y="5830920"/>
              <a:ext cx="60120" cy="77760"/>
            </a:xfrm>
            <a:prstGeom prst="rect">
              <a:avLst/>
            </a:prstGeom>
            <a:solidFill>
              <a:srgbClr val="80206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80360" y="5724360"/>
              <a:ext cx="6415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omic Sans MS"/>
                </a:rPr>
                <a:t>96/3/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1160" y="2438280"/>
              <a:ext cx="4713120" cy="373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77920" y="387360"/>
            <a:ext cx="8588160" cy="57456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8080"/>
                </a:solidFill>
                <a:latin typeface="Comic Sans MS"/>
              </a:rPr>
              <a:t>Kintlévőségek elemzése a jó vevői hitelpolitikához</a:t>
            </a:r>
            <a:endParaRPr b="1" lang="en-US" sz="24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46360" y="2590920"/>
            <a:ext cx="3468600" cy="410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7360" indent="-387360">
              <a:lnSpc>
                <a:spcPct val="90000"/>
              </a:lnSpc>
              <a:spcBef>
                <a:spcPts val="451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a02600"/>
                </a:solidFill>
                <a:latin typeface="Comic Sans MS"/>
              </a:rPr>
              <a:t>A kormeghatározó elemzés megmutatja a vállalat teljes vevői hitelpolitikájának hatását</a:t>
            </a:r>
            <a:endParaRPr b="1" lang="en-US" sz="18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lnSpc>
                <a:spcPct val="90000"/>
              </a:lnSpc>
              <a:spcBef>
                <a:spcPts val="451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a02600"/>
                </a:solidFill>
                <a:latin typeface="Comic Sans MS"/>
              </a:rPr>
              <a:t>Segít összehasonlítani a tényleges hitelpolitikát a kitűzött célokkal</a:t>
            </a:r>
            <a:endParaRPr b="1" lang="en-US" sz="18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lnSpc>
                <a:spcPct val="90000"/>
              </a:lnSpc>
              <a:spcBef>
                <a:spcPts val="451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a02600"/>
                </a:solidFill>
                <a:latin typeface="Comic Sans MS"/>
              </a:rPr>
              <a:t>Rámutat a fontosabb behajtási teendőkre</a:t>
            </a:r>
            <a:endParaRPr b="1" lang="en-US" sz="18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lnSpc>
                <a:spcPct val="90000"/>
              </a:lnSpc>
              <a:spcBef>
                <a:spcPts val="451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a02600"/>
                </a:solidFill>
                <a:latin typeface="Comic Sans MS"/>
              </a:rPr>
              <a:t>Becsléseket ad a kétes vagy behajthatatlan követelésekről</a:t>
            </a:r>
            <a:endParaRPr b="1" lang="en-US" sz="18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210960" y="6305400"/>
            <a:ext cx="793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10960" y="6305400"/>
            <a:ext cx="793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8080"/>
                </a:solidFill>
                <a:latin typeface="Comic Sans MS"/>
              </a:rPr>
              <a:t>Rugalmas fizetési feltételek előnyei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886176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553680" indent="-367200">
              <a:buClr>
                <a:srgbClr val="006a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6a00"/>
                </a:solidFill>
                <a:latin typeface="Comic Sans MS"/>
              </a:rPr>
              <a:t>A pénzbeáramlás maximálásához ki kell egyensúlyozni a vállalat kedvezménynyújtási és hitelpolitikáját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553680" indent="-367200">
              <a:buClr>
                <a:srgbClr val="006a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6a00"/>
                </a:solidFill>
                <a:latin typeface="Comic Sans MS"/>
              </a:rPr>
              <a:t>Lehetséges alternatívák: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2" marL="1020600" indent="-28008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00"/>
                </a:solidFill>
                <a:uFillTx/>
                <a:latin typeface="Comic Sans MS"/>
              </a:rPr>
              <a:t>Előleg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: egyesíti az előrefizetés és a hitelben történő eladás előnyeit.  Ezt a fizetési módot új vevőknek lehet ajánlan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20600" indent="-28008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00"/>
                </a:solidFill>
                <a:uFillTx/>
                <a:latin typeface="Comic Sans MS"/>
              </a:rPr>
              <a:t>Részteljesítésenkénti számlázás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:  ez különösen hosszú lejáratú szerződéses partnerkapcsolatoknál hatékony, például építési kivitelezésnél, mert rendszeres pénzbeáramlást tesz lehetőv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20600" indent="-28008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00"/>
                </a:solidFill>
                <a:uFillTx/>
                <a:latin typeface="Comic Sans MS"/>
              </a:rPr>
              <a:t>Bankgarancia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:  ha a fizetést nem teljesítik, az esedékes összeget a bank fizeti ki.  Új vevőktől tanácsos bankgaranciát kérn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20600" indent="-28008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00"/>
                </a:solidFill>
                <a:uFillTx/>
                <a:latin typeface="Comic Sans MS"/>
              </a:rPr>
              <a:t>Rugalmas árszabás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:  megvédi a vállalatot az inflációs veszteségektől, ha az árakat a következőkkel kötjük össze:  (i) infláció általános indexe, (ii) különféle termékek inflációs indexe, (iii) tényleges fizetési idő (iv) árfolyam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20600" indent="-28008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00"/>
                </a:solidFill>
                <a:uFillTx/>
                <a:latin typeface="Comic Sans MS"/>
              </a:rPr>
              <a:t>Kedvezmények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 több vásárlást vagy gyorsabb fizetést ösztönzésé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20600" indent="-28008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00"/>
                </a:solidFill>
                <a:uFillTx/>
                <a:latin typeface="Comic Sans MS"/>
              </a:rPr>
              <a:t>Bizományosi értékesítés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:  ilyenkor a vállalat megtartja az áruk tulajdonjogát a teljes kifizetési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703440" y="2281320"/>
            <a:ext cx="3693960" cy="2652480"/>
            <a:chOff x="703440" y="2281320"/>
            <a:chExt cx="3693960" cy="2652480"/>
          </a:xfrm>
        </p:grpSpPr>
        <p:sp>
          <p:nvSpPr>
            <p:cNvPr id="333" name=""/>
            <p:cNvSpPr/>
            <p:nvPr/>
          </p:nvSpPr>
          <p:spPr>
            <a:xfrm>
              <a:off x="703440" y="2281320"/>
              <a:ext cx="3693960" cy="2652480"/>
            </a:xfrm>
            <a:custGeom>
              <a:avLst/>
              <a:gdLst>
                <a:gd name="textAreaLeft" fmla="*/ 0 w 3693960"/>
                <a:gd name="textAreaRight" fmla="*/ 3694320 w 36939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9560" y="2941560"/>
              <a:ext cx="3194280" cy="16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Comic Sans MS"/>
                </a:rPr>
                <a:t>Túl sok tőkét köt 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Comic Sans MS"/>
                </a:rPr>
                <a:t>Felesleges fenntartási költsége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Comic Sans MS"/>
                </a:rPr>
                <a:t>Fennáll az elveszés/megrongálódá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Comic Sans MS"/>
                </a:rPr>
                <a:t>kockáz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Comic Sans MS"/>
                </a:rPr>
                <a:t>Fennáll az elavulás kockáz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3960" y="2465280"/>
              <a:ext cx="2025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Comic Sans MS"/>
                </a:rPr>
                <a:t>Túl nagy készl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05960" y="2792520"/>
              <a:ext cx="29361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659480" y="2300400"/>
            <a:ext cx="3838320" cy="2652480"/>
            <a:chOff x="4659480" y="2300400"/>
            <a:chExt cx="3838320" cy="2652480"/>
          </a:xfrm>
        </p:grpSpPr>
        <p:sp>
          <p:nvSpPr>
            <p:cNvPr id="338" name=""/>
            <p:cNvSpPr/>
            <p:nvPr/>
          </p:nvSpPr>
          <p:spPr>
            <a:xfrm flipH="1">
              <a:off x="4659480" y="2300400"/>
              <a:ext cx="3838320" cy="2652480"/>
            </a:xfrm>
            <a:custGeom>
              <a:avLst/>
              <a:gdLst>
                <a:gd name="textAreaLeft" fmla="*/ 360 w 3838320"/>
                <a:gd name="textAreaRight" fmla="*/ 3839040 w 383832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15640" y="3114720"/>
              <a:ext cx="278748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Comic Sans MS"/>
                </a:rPr>
                <a:t>Fennáll a kockázat, hogy 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Comic Sans MS"/>
                </a:rPr>
                <a:t>termelés leá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Comic Sans MS"/>
                </a:rPr>
                <a:t>Csökken az értékesítésből szár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Comic Sans MS"/>
                </a:rPr>
                <a:t>mazó bevételek vagy készpén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Comic Sans MS"/>
                </a:rPr>
                <a:t>mennyiség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34800" y="2484360"/>
              <a:ext cx="178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Comic Sans MS"/>
                </a:rPr>
                <a:t>Túl kis készl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72720" y="2784600"/>
              <a:ext cx="30247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 flipH="1" rot="16200000">
            <a:off x="3925440" y="1399320"/>
            <a:ext cx="1109880" cy="1730520"/>
          </a:xfrm>
          <a:prstGeom prst="rightArrow">
            <a:avLst>
              <a:gd name="adj1" fmla="val 75000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4b4b4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8080"/>
                </a:solidFill>
                <a:latin typeface="Comic Sans MS"/>
              </a:rPr>
              <a:t>Készletgazdálkodás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>
            <a:off x="210960" y="6305400"/>
            <a:ext cx="793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281160" y="3811680"/>
            <a:ext cx="4231800" cy="2338200"/>
            <a:chOff x="281160" y="3811680"/>
            <a:chExt cx="4231800" cy="2338200"/>
          </a:xfrm>
        </p:grpSpPr>
        <p:sp>
          <p:nvSpPr>
            <p:cNvPr id="346" name=""/>
            <p:cNvSpPr/>
            <p:nvPr/>
          </p:nvSpPr>
          <p:spPr>
            <a:xfrm>
              <a:off x="281160" y="3811680"/>
              <a:ext cx="4231800" cy="233820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43200" y="3878280"/>
              <a:ext cx="2570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Comic Sans MS"/>
                </a:rPr>
                <a:t>Kritikus készlet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3960" y="4438440"/>
              <a:ext cx="380628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Nagyértékű termék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Nehezen beszerezhető termék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Idényjellegű termék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Nagy fenntartási költségű</a:t>
              </a:r>
              <a:br>
                <a:rPr sz="1600"/>
              </a:b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   termék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Romlandó termék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732200" y="3811680"/>
            <a:ext cx="4232160" cy="2338200"/>
            <a:chOff x="4732200" y="3811680"/>
            <a:chExt cx="4232160" cy="2338200"/>
          </a:xfrm>
        </p:grpSpPr>
        <p:sp>
          <p:nvSpPr>
            <p:cNvPr id="350" name=""/>
            <p:cNvSpPr/>
            <p:nvPr/>
          </p:nvSpPr>
          <p:spPr>
            <a:xfrm>
              <a:off x="4732200" y="3811680"/>
              <a:ext cx="4232160" cy="233820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81640" y="3936960"/>
              <a:ext cx="2799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Comic Sans MS"/>
                </a:rPr>
                <a:t>Egyéb  készlet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37320" y="4394160"/>
              <a:ext cx="351000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Olcsó termék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Helyettesítő termék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Nem fontos üzletek céljára</a:t>
              </a:r>
              <a:br>
                <a:rPr sz="1600"/>
              </a:b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   tartott termék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Szilárd helyzetű beszállítóktól</a:t>
              </a:r>
              <a:br>
                <a:rPr sz="1600"/>
              </a:b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   érkező áruk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83720" y="2209680"/>
            <a:ext cx="7701120" cy="1551960"/>
            <a:chOff x="783720" y="2209680"/>
            <a:chExt cx="7701120" cy="1551960"/>
          </a:xfrm>
        </p:grpSpPr>
        <p:sp>
          <p:nvSpPr>
            <p:cNvPr id="354" name=""/>
            <p:cNvSpPr/>
            <p:nvPr/>
          </p:nvSpPr>
          <p:spPr>
            <a:xfrm>
              <a:off x="783720" y="3152880"/>
              <a:ext cx="354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Comic Sans MS"/>
                </a:rPr>
                <a:t>Tartsunk gyakran ellenőrzé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43640" y="3124080"/>
              <a:ext cx="3841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Comic Sans MS"/>
                </a:rPr>
                <a:t>Ellenőrizzünk irányelvek alapján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2039760" y="2209680"/>
              <a:ext cx="5019840" cy="731880"/>
              <a:chOff x="2039760" y="2209680"/>
              <a:chExt cx="5019840" cy="731880"/>
            </a:xfrm>
          </p:grpSpPr>
          <p:sp>
            <p:nvSpPr>
              <p:cNvPr id="357" name=""/>
              <p:cNvSpPr/>
              <p:nvPr/>
            </p:nvSpPr>
            <p:spPr>
              <a:xfrm>
                <a:off x="2417040" y="2322000"/>
                <a:ext cx="426528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000000"/>
                    </a:solidFill>
                    <a:latin typeface="Comic Sans MS"/>
                  </a:rPr>
                  <a:t>Határozzuk meg a kritikus készlettételeket és a többit kevésbé szigorúan ellenőrizzü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039760" y="2209680"/>
                <a:ext cx="5019840" cy="731880"/>
              </a:xfrm>
              <a:prstGeom prst="roundRect">
                <a:avLst>
                  <a:gd name="adj" fmla="val 27264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9" name=""/>
          <p:cNvGrpSpPr/>
          <p:nvPr/>
        </p:nvGrpSpPr>
        <p:grpSpPr>
          <a:xfrm>
            <a:off x="1324080" y="1295280"/>
            <a:ext cx="6815160" cy="812880"/>
            <a:chOff x="1324080" y="1295280"/>
            <a:chExt cx="6815160" cy="812880"/>
          </a:xfrm>
        </p:grpSpPr>
        <p:sp>
          <p:nvSpPr>
            <p:cNvPr id="360" name=""/>
            <p:cNvSpPr/>
            <p:nvPr/>
          </p:nvSpPr>
          <p:spPr>
            <a:xfrm>
              <a:off x="1324080" y="1295280"/>
              <a:ext cx="6815160" cy="63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Comic Sans MS"/>
                </a:rPr>
                <a:t>A teljes készlet hatékony ellenőrzése túl sok időt emészthet f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88600" y="1755720"/>
              <a:ext cx="735480" cy="352440"/>
            </a:xfrm>
            <a:prstGeom prst="downArrow">
              <a:avLst>
                <a:gd name="adj1" fmla="val 58889"/>
                <a:gd name="adj2" fmla="val 5356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8080"/>
                </a:solidFill>
                <a:latin typeface="Comic Sans MS"/>
              </a:rPr>
              <a:t>Szelektív készletellenőrzés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210960" y="6305400"/>
            <a:ext cx="793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492120" y="1933560"/>
            <a:ext cx="2039760" cy="2452680"/>
            <a:chOff x="492120" y="1933560"/>
            <a:chExt cx="2039760" cy="2452680"/>
          </a:xfrm>
        </p:grpSpPr>
        <p:sp>
          <p:nvSpPr>
            <p:cNvPr id="365" name=""/>
            <p:cNvSpPr/>
            <p:nvPr/>
          </p:nvSpPr>
          <p:spPr>
            <a:xfrm>
              <a:off x="492120" y="1933560"/>
              <a:ext cx="2037960" cy="9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573840" y="1934640"/>
              <a:ext cx="1925280" cy="2199240"/>
              <a:chOff x="573840" y="1934640"/>
              <a:chExt cx="1925280" cy="2199240"/>
            </a:xfrm>
          </p:grpSpPr>
          <p:sp>
            <p:nvSpPr>
              <p:cNvPr id="367" name=""/>
              <p:cNvSpPr/>
              <p:nvPr/>
            </p:nvSpPr>
            <p:spPr>
              <a:xfrm>
                <a:off x="573840" y="1934640"/>
                <a:ext cx="18745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000000"/>
                    </a:solidFill>
                    <a:latin typeface="Comic Sans MS"/>
                  </a:rPr>
                  <a:t>Készletfenntartási költsége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000000"/>
                    </a:solidFill>
                    <a:latin typeface="Comic Sans MS"/>
                  </a:rPr>
                  <a:t>felbecsülés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73840" y="3405600"/>
                <a:ext cx="1925280" cy="72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000000"/>
                    </a:solidFill>
                    <a:latin typeface="Comic Sans MS"/>
                  </a:rPr>
                  <a:t>Készletrendelési költségek felbecsülé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92120" y="3425760"/>
              <a:ext cx="2039760" cy="960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826160" y="1794960"/>
            <a:ext cx="1795320" cy="2578680"/>
            <a:chOff x="4826160" y="1794960"/>
            <a:chExt cx="1795320" cy="2578680"/>
          </a:xfrm>
        </p:grpSpPr>
        <p:sp>
          <p:nvSpPr>
            <p:cNvPr id="371" name=""/>
            <p:cNvSpPr/>
            <p:nvPr/>
          </p:nvSpPr>
          <p:spPr>
            <a:xfrm>
              <a:off x="4826160" y="3501720"/>
              <a:ext cx="179532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A beszerzéshez szükséges idő felbecsülé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4826160" y="1794960"/>
              <a:ext cx="1795320" cy="2578680"/>
              <a:chOff x="4826160" y="1794960"/>
              <a:chExt cx="1795320" cy="257868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4826160" y="1794960"/>
                <a:ext cx="1795320" cy="986040"/>
                <a:chOff x="4826160" y="1794960"/>
                <a:chExt cx="1795320" cy="98604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826160" y="1794960"/>
                  <a:ext cx="1795320" cy="85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000000"/>
                      </a:solidFill>
                      <a:latin typeface="Comic Sans MS"/>
                    </a:rPr>
                    <a:t>A termeléshez szükséges készlet nagyságának kiszámítás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871520" y="1818000"/>
                  <a:ext cx="1702440" cy="963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>
                <a:off x="4871520" y="3409920"/>
                <a:ext cx="1702800" cy="963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7" name=""/>
          <p:cNvGrpSpPr/>
          <p:nvPr/>
        </p:nvGrpSpPr>
        <p:grpSpPr>
          <a:xfrm>
            <a:off x="5394240" y="2514240"/>
            <a:ext cx="3285720" cy="1067040"/>
            <a:chOff x="5394240" y="2514240"/>
            <a:chExt cx="3285720" cy="1067040"/>
          </a:xfrm>
        </p:grpSpPr>
        <p:grpSp>
          <p:nvGrpSpPr>
            <p:cNvPr id="378" name=""/>
            <p:cNvGrpSpPr/>
            <p:nvPr/>
          </p:nvGrpSpPr>
          <p:grpSpPr>
            <a:xfrm>
              <a:off x="5394240" y="2514240"/>
              <a:ext cx="3285720" cy="759240"/>
              <a:chOff x="5394240" y="2514240"/>
              <a:chExt cx="3285720" cy="759240"/>
            </a:xfrm>
          </p:grpSpPr>
          <p:sp>
            <p:nvSpPr>
              <p:cNvPr id="379" name=""/>
              <p:cNvSpPr/>
              <p:nvPr/>
            </p:nvSpPr>
            <p:spPr>
              <a:xfrm>
                <a:off x="5394240" y="2940120"/>
                <a:ext cx="1428840" cy="333360"/>
              </a:xfrm>
              <a:prstGeom prst="rightArrow">
                <a:avLst>
                  <a:gd name="adj1" fmla="val 50000"/>
                  <a:gd name="adj2" fmla="val 153092"/>
                </a:avLst>
              </a:prstGeom>
              <a:gradFill rotWithShape="0">
                <a:gsLst>
                  <a:gs pos="0">
                    <a:srgbClr val="4b4b4b"/>
                  </a:gs>
                  <a:gs pos="100000">
                    <a:srgbClr val="ffff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883200" y="2514240"/>
                <a:ext cx="1796760" cy="72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000000"/>
                    </a:solidFill>
                    <a:latin typeface="Comic Sans MS"/>
                  </a:rPr>
                  <a:t>A rendelési ütemterv kidolgozás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6928920" y="2548080"/>
              <a:ext cx="1725120" cy="103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885000" y="3675240"/>
            <a:ext cx="1795320" cy="2342520"/>
            <a:chOff x="6885000" y="3675240"/>
            <a:chExt cx="1795320" cy="2342520"/>
          </a:xfrm>
        </p:grpSpPr>
        <p:sp>
          <p:nvSpPr>
            <p:cNvPr id="383" name=""/>
            <p:cNvSpPr/>
            <p:nvPr/>
          </p:nvSpPr>
          <p:spPr>
            <a:xfrm>
              <a:off x="6896520" y="4825080"/>
              <a:ext cx="1773720" cy="1192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6885000" y="3675240"/>
              <a:ext cx="1795320" cy="2338200"/>
              <a:chOff x="6885000" y="3675240"/>
              <a:chExt cx="1795320" cy="2338200"/>
            </a:xfrm>
          </p:grpSpPr>
          <p:sp>
            <p:nvSpPr>
              <p:cNvPr id="385" name=""/>
              <p:cNvSpPr/>
              <p:nvPr/>
            </p:nvSpPr>
            <p:spPr>
              <a:xfrm>
                <a:off x="6885000" y="4858920"/>
                <a:ext cx="179532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000000"/>
                    </a:solidFill>
                    <a:latin typeface="Comic Sans MS"/>
                  </a:rPr>
                  <a:t>Az alkalmazott rendelési ütemterv összehasonlítása az optimáliss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 rot="16200000">
                <a:off x="7234560" y="4024080"/>
                <a:ext cx="1097280" cy="399600"/>
              </a:xfrm>
              <a:prstGeom prst="rightArrow">
                <a:avLst>
                  <a:gd name="adj1" fmla="val 50000"/>
                  <a:gd name="adj2" fmla="val 9807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1327320" y="2529000"/>
            <a:ext cx="3366720" cy="914400"/>
            <a:chOff x="1327320" y="2529000"/>
            <a:chExt cx="3366720" cy="914400"/>
          </a:xfrm>
        </p:grpSpPr>
        <p:grpSp>
          <p:nvGrpSpPr>
            <p:cNvPr id="388" name=""/>
            <p:cNvGrpSpPr/>
            <p:nvPr/>
          </p:nvGrpSpPr>
          <p:grpSpPr>
            <a:xfrm>
              <a:off x="1327320" y="2612520"/>
              <a:ext cx="3366720" cy="728280"/>
              <a:chOff x="1327320" y="2612520"/>
              <a:chExt cx="3366720" cy="728280"/>
            </a:xfrm>
          </p:grpSpPr>
          <p:sp>
            <p:nvSpPr>
              <p:cNvPr id="389" name=""/>
              <p:cNvSpPr/>
              <p:nvPr/>
            </p:nvSpPr>
            <p:spPr>
              <a:xfrm>
                <a:off x="1327320" y="2974680"/>
                <a:ext cx="1430640" cy="335160"/>
              </a:xfrm>
              <a:prstGeom prst="rightArrow">
                <a:avLst>
                  <a:gd name="adj1" fmla="val 50000"/>
                  <a:gd name="adj2" fmla="val 152461"/>
                </a:avLst>
              </a:prstGeom>
              <a:gradFill rotWithShape="0">
                <a:gsLst>
                  <a:gs pos="0">
                    <a:srgbClr val="4b4b4b"/>
                  </a:gs>
                  <a:gs pos="100000">
                    <a:srgbClr val="ffff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38240" y="2612520"/>
                <a:ext cx="1855800" cy="72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000000"/>
                    </a:solidFill>
                    <a:latin typeface="Comic Sans MS"/>
                  </a:rPr>
                  <a:t>Optimális rendelési volumen kiszámítás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865600" y="2529000"/>
              <a:ext cx="175896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814480" y="3673440"/>
            <a:ext cx="1809720" cy="2328480"/>
            <a:chOff x="2814480" y="3673440"/>
            <a:chExt cx="1809720" cy="2328480"/>
          </a:xfrm>
        </p:grpSpPr>
        <p:grpSp>
          <p:nvGrpSpPr>
            <p:cNvPr id="393" name=""/>
            <p:cNvGrpSpPr/>
            <p:nvPr/>
          </p:nvGrpSpPr>
          <p:grpSpPr>
            <a:xfrm>
              <a:off x="2814480" y="3673440"/>
              <a:ext cx="1795320" cy="2317320"/>
              <a:chOff x="2814480" y="3673440"/>
              <a:chExt cx="1795320" cy="2317320"/>
            </a:xfrm>
          </p:grpSpPr>
          <p:sp>
            <p:nvSpPr>
              <p:cNvPr id="394" name=""/>
              <p:cNvSpPr/>
              <p:nvPr/>
            </p:nvSpPr>
            <p:spPr>
              <a:xfrm flipH="1" rot="16200000">
                <a:off x="3185280" y="4021920"/>
                <a:ext cx="1097280" cy="399960"/>
              </a:xfrm>
              <a:prstGeom prst="rightArrow">
                <a:avLst>
                  <a:gd name="adj1" fmla="val 50000"/>
                  <a:gd name="adj2" fmla="val 9799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814480" y="4836240"/>
                <a:ext cx="179532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000000"/>
                    </a:solidFill>
                    <a:latin typeface="Comic Sans MS"/>
                  </a:rPr>
                  <a:t>A rendelés szokásos mennyiségének összehasonlítása az optimáliss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2850840" y="4809600"/>
              <a:ext cx="1773360" cy="1192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8080"/>
                </a:solidFill>
                <a:latin typeface="Comic Sans MS"/>
              </a:rPr>
              <a:t>A hatékony készletmenedzsment lépései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0960" y="6305400"/>
            <a:ext cx="793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10960" y="6338880"/>
            <a:ext cx="71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8080"/>
                </a:solidFill>
                <a:latin typeface="Comic Sans MS"/>
              </a:rPr>
              <a:t>Marketingstratégia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886176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A marketingstratégia célja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Értékelni a helyzetelemzés problémáit és lehetőségeit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Marketingeszközökkel keresni a megoldást és</a:t>
            </a:r>
            <a:br>
              <a:rPr sz="2200"/>
            </a:b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az esélyek kihasználásának lehetőségeit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A marketingstratégia célterületei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Termékismeret, termékfejlesztés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Eladási árak alakítása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Elosztás, értékesítési erőfeszítése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A termékkipróbálások tapasztalatainak hasznosítása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Kapcsolattartás, szolgáltatáso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Piaci részesedés növelése, terjeszkedés új piacokra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Az értékesítés nyereségének növelése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914400" y="3330720"/>
            <a:ext cx="1749600" cy="2079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eeda9"/>
              </a:gs>
              <a:gs pos="100000">
                <a:srgbClr val="ffcc00"/>
              </a:gs>
            </a:gsLst>
            <a:lin ang="5400000"/>
          </a:gradFill>
          <a:ln w="3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14360" y="25178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14360" y="25178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27320" y="2517840"/>
            <a:ext cx="274788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086360" y="25178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95720" y="2517840"/>
            <a:ext cx="9525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62680" y="25178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73480" y="2517840"/>
            <a:ext cx="9525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39000" y="25178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49800" y="2517840"/>
            <a:ext cx="9493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010280" y="25178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10280" y="25178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14360" y="2530440"/>
            <a:ext cx="1800" cy="83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086360" y="2530440"/>
            <a:ext cx="1440" cy="83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62680" y="2530440"/>
            <a:ext cx="1440" cy="83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39000" y="2530440"/>
            <a:ext cx="1440" cy="83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10280" y="2530440"/>
            <a:ext cx="1800" cy="83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14400" y="2362320"/>
            <a:ext cx="1752480" cy="968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eeda9"/>
              </a:gs>
              <a:gs pos="100000">
                <a:srgbClr val="ffcc00"/>
              </a:gs>
            </a:gsLst>
            <a:lin ang="5400000"/>
          </a:gradFill>
          <a:ln w="3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184400" y="2666880"/>
            <a:ext cx="1101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yakorisá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66880" y="2362320"/>
            <a:ext cx="4496040" cy="968400"/>
          </a:xfrm>
          <a:prstGeom prst="rect">
            <a:avLst/>
          </a:prstGeom>
          <a:solidFill>
            <a:srgbClr val="cc3300"/>
          </a:solidFill>
          <a:ln w="3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68680" y="2554200"/>
            <a:ext cx="3060720" cy="301680"/>
          </a:xfrm>
          <a:prstGeom prst="rect">
            <a:avLst/>
          </a:prstGeom>
          <a:solidFill>
            <a:srgbClr val="cc3300"/>
          </a:solidFill>
          <a:ln w="3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Hatás erőssé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2975040"/>
            <a:ext cx="1123920" cy="301680"/>
          </a:xfrm>
          <a:prstGeom prst="rect">
            <a:avLst/>
          </a:prstGeom>
          <a:solidFill>
            <a:srgbClr val="cc3300"/>
          </a:solidFill>
          <a:ln w="3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mic Sans MS"/>
              </a:rPr>
              <a:t>Alacso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95680" y="2975040"/>
            <a:ext cx="1173240" cy="301680"/>
          </a:xfrm>
          <a:prstGeom prst="rect">
            <a:avLst/>
          </a:prstGeom>
          <a:solidFill>
            <a:srgbClr val="cc3300"/>
          </a:solidFill>
          <a:ln w="3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mic Sans MS"/>
              </a:rPr>
              <a:t>Köze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22800" y="2975040"/>
            <a:ext cx="795600" cy="301680"/>
          </a:xfrm>
          <a:prstGeom prst="rect">
            <a:avLst/>
          </a:prstGeom>
          <a:solidFill>
            <a:srgbClr val="cc3300"/>
          </a:solidFill>
          <a:ln w="3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mic Sans MS"/>
              </a:rPr>
              <a:t>Erő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311120" y="337356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311120" y="337356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22280" y="337356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35240" y="3373560"/>
            <a:ext cx="27399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86360" y="337356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95720" y="3373560"/>
            <a:ext cx="9525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62680" y="337356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73480" y="3373560"/>
            <a:ext cx="9493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33960" y="337356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46920" y="337356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56280" y="3373560"/>
            <a:ext cx="9428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10280" y="337356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311120" y="3382920"/>
            <a:ext cx="1800" cy="409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086360" y="3382920"/>
            <a:ext cx="1440" cy="409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062680" y="3382920"/>
            <a:ext cx="1440" cy="409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33960" y="3382920"/>
            <a:ext cx="1800" cy="409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10280" y="3382920"/>
            <a:ext cx="1800" cy="409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11120" y="380700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11120" y="380700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322280" y="380700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35240" y="3807000"/>
            <a:ext cx="27399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086360" y="380700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095720" y="3807000"/>
            <a:ext cx="9525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062680" y="380700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073480" y="3807000"/>
            <a:ext cx="9493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33960" y="380700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46920" y="380700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56280" y="3807000"/>
            <a:ext cx="9428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10280" y="380700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14360" y="3816360"/>
            <a:ext cx="1800" cy="409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86360" y="3816360"/>
            <a:ext cx="1440" cy="409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062680" y="3816360"/>
            <a:ext cx="1440" cy="409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39000" y="3816360"/>
            <a:ext cx="1440" cy="409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10280" y="3816360"/>
            <a:ext cx="1800" cy="409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14360" y="424008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311120" y="4444920"/>
            <a:ext cx="27482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86360" y="424008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95720" y="4240080"/>
            <a:ext cx="9525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062680" y="424008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73480" y="4240080"/>
            <a:ext cx="9525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39000" y="424008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049800" y="4240080"/>
            <a:ext cx="94932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010280" y="424008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314360" y="4249800"/>
            <a:ext cx="1800" cy="40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086360" y="4249800"/>
            <a:ext cx="1440" cy="40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62680" y="4249800"/>
            <a:ext cx="1440" cy="40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39000" y="4249800"/>
            <a:ext cx="1440" cy="40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4249800"/>
            <a:ext cx="1800" cy="40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14360" y="467208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27320" y="4672080"/>
            <a:ext cx="274788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086360" y="467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095720" y="4672080"/>
            <a:ext cx="9525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62680" y="467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73480" y="4672080"/>
            <a:ext cx="9525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39000" y="467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49800" y="4672080"/>
            <a:ext cx="9493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10280" y="467208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314360" y="4683240"/>
            <a:ext cx="1800" cy="40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14360" y="510552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14360" y="510552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086360" y="4683240"/>
            <a:ext cx="1440" cy="40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86360" y="510552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062680" y="4683240"/>
            <a:ext cx="1440" cy="40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062680" y="510552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39000" y="4683240"/>
            <a:ext cx="1440" cy="40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39000" y="510552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010280" y="4683240"/>
            <a:ext cx="1800" cy="40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010280" y="510552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10280" y="510552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911160" y="3581280"/>
            <a:ext cx="1755720" cy="1600200"/>
            <a:chOff x="911160" y="3581280"/>
            <a:chExt cx="1755720" cy="1600200"/>
          </a:xfrm>
        </p:grpSpPr>
        <p:sp>
          <p:nvSpPr>
            <p:cNvPr id="496" name=""/>
            <p:cNvSpPr/>
            <p:nvPr/>
          </p:nvSpPr>
          <p:spPr>
            <a:xfrm>
              <a:off x="911160" y="3581280"/>
              <a:ext cx="17557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Gyakorlatilag nul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11160" y="4014720"/>
              <a:ext cx="9237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lacson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11160" y="4446720"/>
              <a:ext cx="86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Közep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911160" y="4879800"/>
              <a:ext cx="7160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Mag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04920" y="632448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zabó József (1997): Vállalatok, vállalkozások gazdaságtana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Business Administration) Távoktatási jegyzet, SZIF Győ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omic Sans MS"/>
              </a:rPr>
              <a:t>Kockázatelemző mátrix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502" name=""/>
          <p:cNvSpPr/>
          <p:nvPr/>
        </p:nvSpPr>
        <p:spPr>
          <a:xfrm>
            <a:off x="2670120" y="3330720"/>
            <a:ext cx="4505400" cy="2079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04560" y="3611160"/>
            <a:ext cx="75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seké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44840" y="4663800"/>
            <a:ext cx="799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Köze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140520" y="5044680"/>
            <a:ext cx="79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Jelentő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04400" y="4036680"/>
            <a:ext cx="104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viselhet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9962600">
            <a:off x="3508200" y="4169520"/>
            <a:ext cx="2838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Kockázat mérté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Bagolyül" descr=""/>
          <p:cNvPicPr/>
          <p:nvPr/>
        </p:nvPicPr>
        <p:blipFill>
          <a:blip r:embed="rId1"/>
          <a:stretch/>
        </p:blipFill>
        <p:spPr>
          <a:xfrm>
            <a:off x="6946920" y="3213000"/>
            <a:ext cx="2044800" cy="2044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omic Sans MS"/>
              </a:rPr>
              <a:t>A gazdálkodásmenedzsment témakörei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7360" indent="-38736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02600"/>
                </a:solidFill>
                <a:latin typeface="Comic Sans MS"/>
              </a:rPr>
              <a:t>Gazdálkodás és jövedelmezőség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Költséggazdálkodás: elvek, sémá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Fedezeti kalkuláció, tanulási görbe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Forgalom és jövedelmezőség, fedezeti elven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Ortogonális cégmutató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Az árképzés, árpolitika szerepe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A költséggazdálkodás szerepe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Értékelemzés, értéktervezés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marL="387360" indent="-38736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02600"/>
                </a:solidFill>
                <a:latin typeface="Comic Sans MS"/>
              </a:rPr>
              <a:t>Balanced Scorecard módszer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spcBef>
                <a:spcPts val="451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02600"/>
                </a:solidFill>
                <a:latin typeface="Comic Sans MS"/>
              </a:rPr>
              <a:t>Oligofed elemzés </a:t>
            </a:r>
            <a:r>
              <a:rPr b="0" lang="en-US" sz="1800" spc="-1" strike="noStrike">
                <a:solidFill>
                  <a:srgbClr val="a02600"/>
                </a:solidFill>
                <a:latin typeface="Comic Sans MS"/>
              </a:rPr>
              <a:t>(a tankönyvben részletesebben)</a:t>
            </a:r>
            <a:endParaRPr b="1" lang="en-US" sz="18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313200" y="6504120"/>
            <a:ext cx="714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arsányi Judit - Menedzsment óravázlatok. Széchenyi István Egyetem, 2002. februá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304920" y="632448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zabó József (1997): Vállalatok, vállalkozások gazdaságtana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Business Administration) Távoktatási jegyzet, SZIF Győ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omic Sans MS"/>
              </a:rPr>
              <a:t>A kockázat finanszírozása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886176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Általános költség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Tartalékok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Külső források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Biztosítási transzfer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Személybiztosítás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Vagyonbiztosítás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Felelősségbiztosítás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Jogvédelmi biztosításo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8080"/>
                </a:solidFill>
                <a:latin typeface="Comic Sans MS"/>
              </a:rPr>
              <a:t>A vállalkozás alapvető adatai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900080" y="1905120"/>
            <a:ext cx="6473520" cy="914400"/>
            <a:chOff x="1900080" y="1905120"/>
            <a:chExt cx="6473520" cy="914400"/>
          </a:xfrm>
        </p:grpSpPr>
        <p:sp>
          <p:nvSpPr>
            <p:cNvPr id="513" name=""/>
            <p:cNvSpPr/>
            <p:nvPr/>
          </p:nvSpPr>
          <p:spPr>
            <a:xfrm>
              <a:off x="1900080" y="1905120"/>
              <a:ext cx="218124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Comic Sans MS"/>
                </a:rPr>
                <a:t>Beszerzé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222080" y="1905120"/>
              <a:ext cx="204084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Comic Sans MS"/>
                </a:rPr>
                <a:t>Termelé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3320" y="1905120"/>
              <a:ext cx="19702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Comic Sans MS"/>
                </a:rPr>
                <a:t>Értékesíté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1706400" y="2933640"/>
            <a:ext cx="6843960" cy="3353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900080" y="3048120"/>
            <a:ext cx="2183040" cy="3047760"/>
            <a:chOff x="1900080" y="3048120"/>
            <a:chExt cx="2183040" cy="3047760"/>
          </a:xfrm>
        </p:grpSpPr>
        <p:sp>
          <p:nvSpPr>
            <p:cNvPr id="518" name=""/>
            <p:cNvSpPr/>
            <p:nvPr/>
          </p:nvSpPr>
          <p:spPr>
            <a:xfrm>
              <a:off x="1900080" y="3048120"/>
              <a:ext cx="218304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Szállító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00080" y="3657600"/>
              <a:ext cx="218304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Anyagszükség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900080" y="4267080"/>
              <a:ext cx="218304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Anyagkészletsz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900080" y="4876920"/>
              <a:ext cx="2183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Elküldött rendelés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00080" y="5562720"/>
              <a:ext cx="218304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Tartozás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222800" y="3048120"/>
            <a:ext cx="2039760" cy="1752480"/>
            <a:chOff x="4222800" y="3048120"/>
            <a:chExt cx="2039760" cy="1752480"/>
          </a:xfrm>
        </p:grpSpPr>
        <p:sp>
          <p:nvSpPr>
            <p:cNvPr id="524" name=""/>
            <p:cNvSpPr/>
            <p:nvPr/>
          </p:nvSpPr>
          <p:spPr>
            <a:xfrm>
              <a:off x="4222800" y="3048120"/>
              <a:ext cx="20397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Rendelkezésre álló </a:t>
              </a:r>
              <a:br>
                <a:rPr sz="1600"/>
              </a:b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termelő eszközö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22800" y="3657600"/>
              <a:ext cx="20397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Anyagszükség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22800" y="4267080"/>
              <a:ext cx="20397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Munkaerőszükség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404040" y="3048120"/>
            <a:ext cx="1969920" cy="2971800"/>
            <a:chOff x="6404040" y="3048120"/>
            <a:chExt cx="1969920" cy="2971800"/>
          </a:xfrm>
        </p:grpSpPr>
        <p:sp>
          <p:nvSpPr>
            <p:cNvPr id="528" name=""/>
            <p:cNvSpPr/>
            <p:nvPr/>
          </p:nvSpPr>
          <p:spPr>
            <a:xfrm>
              <a:off x="6404040" y="3048120"/>
              <a:ext cx="19699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Termékpi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404040" y="3657600"/>
              <a:ext cx="19699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Vevő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404040" y="4267080"/>
              <a:ext cx="19699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Készáru kész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04040" y="4876920"/>
              <a:ext cx="19699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Befejezetl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termékkész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04040" y="5486400"/>
              <a:ext cx="19699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Comic Sans MS"/>
                </a:rPr>
                <a:t>Kintlévőség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 flipH="1">
            <a:off x="224640" y="2673720"/>
            <a:ext cx="1357560" cy="1554480"/>
          </a:xfrm>
          <a:prstGeom prst="wedgeRectCallout">
            <a:avLst>
              <a:gd name="adj1" fmla="val -85523"/>
              <a:gd name="adj2" fmla="val 86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z üzleti 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működések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segítéséhez 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szükséges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lapvető 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0960" y="6305400"/>
            <a:ext cx="793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210960" y="6338880"/>
            <a:ext cx="733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omic Sans MS"/>
              </a:rPr>
              <a:t>A versenytársi összemérés ismérvei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886176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7360" indent="-387360"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2600"/>
                </a:solidFill>
                <a:latin typeface="Comic Sans MS"/>
              </a:rPr>
              <a:t>Értékesítési ügynök képességei</a:t>
            </a:r>
            <a:endParaRPr b="1" lang="en-US" sz="24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2600"/>
                </a:solidFill>
                <a:latin typeface="Comic Sans MS"/>
              </a:rPr>
              <a:t>Megrendelések kezelése</a:t>
            </a:r>
            <a:endParaRPr b="1" lang="en-US" sz="24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2600"/>
                </a:solidFill>
                <a:latin typeface="Comic Sans MS"/>
              </a:rPr>
              <a:t>Árak és fizetési feltételek</a:t>
            </a:r>
            <a:endParaRPr b="1" lang="en-US" sz="24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2600"/>
                </a:solidFill>
                <a:latin typeface="Comic Sans MS"/>
              </a:rPr>
              <a:t>Rendelések átfutási ideje</a:t>
            </a:r>
            <a:endParaRPr b="1" lang="en-US" sz="24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2600"/>
                </a:solidFill>
                <a:latin typeface="Comic Sans MS"/>
              </a:rPr>
              <a:t>Szállítási határidők betartása</a:t>
            </a:r>
            <a:endParaRPr b="1" lang="en-US" sz="24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2600"/>
                </a:solidFill>
                <a:latin typeface="Comic Sans MS"/>
              </a:rPr>
              <a:t>Termékminőség</a:t>
            </a:r>
            <a:endParaRPr b="1" lang="en-US" sz="24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2600"/>
                </a:solidFill>
                <a:latin typeface="Comic Sans MS"/>
              </a:rPr>
              <a:t>Műszaki tervezés, formatervek</a:t>
            </a:r>
            <a:br>
              <a:rPr sz="2400"/>
            </a:br>
            <a:r>
              <a:rPr b="1" lang="en-US" sz="2400" spc="-1" strike="noStrike">
                <a:solidFill>
                  <a:srgbClr val="a02600"/>
                </a:solidFill>
                <a:latin typeface="Comic Sans MS"/>
              </a:rPr>
              <a:t>színvonala</a:t>
            </a:r>
            <a:endParaRPr b="1" lang="en-US" sz="24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2600"/>
                </a:solidFill>
                <a:latin typeface="Comic Sans MS"/>
              </a:rPr>
              <a:t>Termékskála</a:t>
            </a:r>
            <a:endParaRPr b="1" lang="en-US" sz="24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2600"/>
                </a:solidFill>
                <a:latin typeface="Comic Sans MS"/>
              </a:rPr>
              <a:t>Termékek élettartama</a:t>
            </a:r>
            <a:endParaRPr b="1" lang="en-US" sz="24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2600"/>
                </a:solidFill>
                <a:latin typeface="Comic Sans MS"/>
              </a:rPr>
              <a:t>Karbantartás</a:t>
            </a:r>
            <a:endParaRPr b="1" lang="en-US" sz="24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2600"/>
                </a:solidFill>
                <a:latin typeface="Comic Sans MS"/>
              </a:rPr>
              <a:t>Vevőszolgálat színvonala</a:t>
            </a:r>
            <a:endParaRPr b="1" lang="en-US" sz="24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2600"/>
                </a:solidFill>
                <a:latin typeface="Comic Sans MS"/>
              </a:rPr>
              <a:t>Költségszint, költségszerkezet</a:t>
            </a:r>
            <a:endParaRPr b="1" lang="en-US" sz="2400" spc="-1" strike="noStrike">
              <a:solidFill>
                <a:srgbClr val="a02600"/>
              </a:solidFill>
              <a:latin typeface="Comic Sans MS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6153120" y="2855880"/>
            <a:ext cx="2557440" cy="29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2563920" y="3544920"/>
            <a:ext cx="525240" cy="2082600"/>
            <a:chOff x="2563920" y="3544920"/>
            <a:chExt cx="525240" cy="2082600"/>
          </a:xfrm>
        </p:grpSpPr>
        <p:sp>
          <p:nvSpPr>
            <p:cNvPr id="540" name=""/>
            <p:cNvSpPr/>
            <p:nvPr/>
          </p:nvSpPr>
          <p:spPr>
            <a:xfrm>
              <a:off x="2563920" y="5002200"/>
              <a:ext cx="525240" cy="625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563920" y="4641840"/>
              <a:ext cx="525240" cy="360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63920" y="4162320"/>
              <a:ext cx="525240" cy="479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63920" y="3691080"/>
              <a:ext cx="525240" cy="471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63920" y="3544920"/>
              <a:ext cx="525240" cy="14616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860640" y="3948120"/>
            <a:ext cx="516240" cy="1679400"/>
            <a:chOff x="3860640" y="3948120"/>
            <a:chExt cx="516240" cy="1679400"/>
          </a:xfrm>
        </p:grpSpPr>
        <p:sp>
          <p:nvSpPr>
            <p:cNvPr id="546" name=""/>
            <p:cNvSpPr/>
            <p:nvPr/>
          </p:nvSpPr>
          <p:spPr>
            <a:xfrm>
              <a:off x="3860640" y="5156280"/>
              <a:ext cx="516240" cy="4712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60640" y="4968720"/>
              <a:ext cx="516240" cy="1875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60640" y="4530600"/>
              <a:ext cx="516240" cy="438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60640" y="4162320"/>
              <a:ext cx="516240" cy="3682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60640" y="3948120"/>
              <a:ext cx="516240" cy="21420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148360" y="4205160"/>
            <a:ext cx="523800" cy="1422360"/>
            <a:chOff x="5148360" y="4205160"/>
            <a:chExt cx="523800" cy="1422360"/>
          </a:xfrm>
        </p:grpSpPr>
        <p:sp>
          <p:nvSpPr>
            <p:cNvPr id="552" name=""/>
            <p:cNvSpPr/>
            <p:nvPr/>
          </p:nvSpPr>
          <p:spPr>
            <a:xfrm>
              <a:off x="5148360" y="5191200"/>
              <a:ext cx="523800" cy="4363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48360" y="4933800"/>
              <a:ext cx="523800" cy="257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48360" y="4608360"/>
              <a:ext cx="523800" cy="3254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48360" y="4351320"/>
              <a:ext cx="523800" cy="2570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48360" y="4205160"/>
              <a:ext cx="523800" cy="14616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405480" y="3886200"/>
            <a:ext cx="1878120" cy="1550880"/>
            <a:chOff x="6405480" y="3886200"/>
            <a:chExt cx="1878120" cy="1550880"/>
          </a:xfrm>
        </p:grpSpPr>
        <p:sp>
          <p:nvSpPr>
            <p:cNvPr id="558" name=""/>
            <p:cNvSpPr/>
            <p:nvPr/>
          </p:nvSpPr>
          <p:spPr>
            <a:xfrm>
              <a:off x="6405480" y="3886200"/>
              <a:ext cx="1878120" cy="15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559200" y="4005360"/>
              <a:ext cx="81720" cy="7776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22560" y="3970440"/>
              <a:ext cx="1631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Rezsi és más költség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559200" y="4314960"/>
              <a:ext cx="81720" cy="759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48480" y="4280040"/>
              <a:ext cx="157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Értékesítés/marke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559200" y="4622760"/>
              <a:ext cx="81720" cy="777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662520" y="4587840"/>
              <a:ext cx="66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ermelé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59200" y="4923000"/>
              <a:ext cx="81720" cy="777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78000" y="4888080"/>
              <a:ext cx="34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K + 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59200" y="5232240"/>
              <a:ext cx="81720" cy="763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42720" y="5197320"/>
              <a:ext cx="852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Nyersany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619560" y="3047760"/>
            <a:ext cx="5438160" cy="3091320"/>
            <a:chOff x="619560" y="3047760"/>
            <a:chExt cx="5438160" cy="3091320"/>
          </a:xfrm>
        </p:grpSpPr>
        <p:sp>
          <p:nvSpPr>
            <p:cNvPr id="570" name=""/>
            <p:cNvSpPr/>
            <p:nvPr/>
          </p:nvSpPr>
          <p:spPr>
            <a:xfrm>
              <a:off x="2184840" y="5259240"/>
              <a:ext cx="387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84840" y="4898880"/>
              <a:ext cx="387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184840" y="4530600"/>
              <a:ext cx="387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84840" y="4162320"/>
              <a:ext cx="387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84840" y="3801960"/>
              <a:ext cx="387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184840" y="3433680"/>
              <a:ext cx="387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84840" y="3433680"/>
              <a:ext cx="1080" cy="21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38040" y="5627520"/>
              <a:ext cx="4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38040" y="5259240"/>
              <a:ext cx="4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138040" y="4898880"/>
              <a:ext cx="4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138040" y="4530600"/>
              <a:ext cx="4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38040" y="4162320"/>
              <a:ext cx="4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38040" y="3801960"/>
              <a:ext cx="4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38040" y="3433680"/>
              <a:ext cx="4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184840" y="5627520"/>
              <a:ext cx="387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2184840" y="5627520"/>
              <a:ext cx="108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3478680" y="5627520"/>
              <a:ext cx="108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4762440" y="5627520"/>
              <a:ext cx="108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6056280" y="5627520"/>
              <a:ext cx="144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02280" y="5773680"/>
              <a:ext cx="90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gyar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versenytá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40840" y="5773680"/>
              <a:ext cx="578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gyar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vállal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959360" y="5773680"/>
              <a:ext cx="90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Nyugati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versenytá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9560" y="4220280"/>
              <a:ext cx="18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öltség költségössze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evőnké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73720" y="3047760"/>
              <a:ext cx="318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Összehasonlító költséglánc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103320" y="1447920"/>
            <a:ext cx="8835840" cy="145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7360" indent="-387360">
              <a:lnSpc>
                <a:spcPct val="90000"/>
              </a:lnSpc>
              <a:spcBef>
                <a:spcPts val="601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2600"/>
                </a:solidFill>
                <a:latin typeface="Comic Sans MS"/>
              </a:rPr>
              <a:t>A cégközi és nemzetközi összehasonlítás szempontjai</a:t>
            </a:r>
            <a:endParaRPr b="1" lang="en-US" sz="24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lnSpc>
                <a:spcPct val="90000"/>
              </a:lnSpc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Összes költség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lnSpc>
                <a:spcPct val="90000"/>
              </a:lnSpc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Költségösszetevők az összes költség százalékában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lnSpc>
                <a:spcPct val="90000"/>
              </a:lnSpc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Egyéb szemponto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omic Sans MS"/>
              </a:rPr>
              <a:t>Versenytársi összehasonlítás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596" name=""/>
          <p:cNvSpPr/>
          <p:nvPr/>
        </p:nvSpPr>
        <p:spPr>
          <a:xfrm>
            <a:off x="210960" y="6305400"/>
            <a:ext cx="797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4954680" y="1996920"/>
            <a:ext cx="2514600" cy="3828960"/>
            <a:chOff x="4954680" y="1996920"/>
            <a:chExt cx="2514600" cy="3828960"/>
          </a:xfrm>
        </p:grpSpPr>
        <p:sp>
          <p:nvSpPr>
            <p:cNvPr id="598" name=""/>
            <p:cNvSpPr/>
            <p:nvPr/>
          </p:nvSpPr>
          <p:spPr>
            <a:xfrm>
              <a:off x="4954680" y="1996920"/>
              <a:ext cx="25146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Erőforrás/Fő kompet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954680" y="2682720"/>
              <a:ext cx="2514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echnológiá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954680" y="3031920"/>
              <a:ext cx="2514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Vezetőségi erő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954680" y="3381120"/>
              <a:ext cx="251460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zervez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954680" y="3730680"/>
              <a:ext cx="2514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umán erőforrás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54680" y="4079880"/>
              <a:ext cx="2514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ermelési rugalmassá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954680" y="4429080"/>
              <a:ext cx="2514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K+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54680" y="4778280"/>
              <a:ext cx="2514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zámítógépes integráci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54680" y="5127480"/>
              <a:ext cx="2514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formációs rendsz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954680" y="5476680"/>
              <a:ext cx="25146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Kínálat menedzs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3062520" y="4527000"/>
            <a:ext cx="1964520" cy="1339920"/>
            <a:chOff x="3062520" y="4527000"/>
            <a:chExt cx="1964520" cy="1339920"/>
          </a:xfrm>
        </p:grpSpPr>
        <p:sp>
          <p:nvSpPr>
            <p:cNvPr id="609" name=""/>
            <p:cNvSpPr/>
            <p:nvPr/>
          </p:nvSpPr>
          <p:spPr>
            <a:xfrm>
              <a:off x="3062520" y="4527000"/>
              <a:ext cx="127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Jelmagyaráz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75480" y="5042880"/>
              <a:ext cx="1951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 = Gye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5 = Kivál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</a:t>
              </a: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= Legjobb versenytá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</a:t>
              </a: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= Magyar vállal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7469280" y="1994040"/>
            <a:ext cx="1369800" cy="3832200"/>
            <a:chOff x="7469280" y="1994040"/>
            <a:chExt cx="1369800" cy="3832200"/>
          </a:xfrm>
        </p:grpSpPr>
        <p:sp>
          <p:nvSpPr>
            <p:cNvPr id="612" name=""/>
            <p:cNvSpPr/>
            <p:nvPr/>
          </p:nvSpPr>
          <p:spPr>
            <a:xfrm>
              <a:off x="7469280" y="2683080"/>
              <a:ext cx="13698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69280" y="3032280"/>
              <a:ext cx="13698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69280" y="3381480"/>
              <a:ext cx="136980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69280" y="3731040"/>
              <a:ext cx="13698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69280" y="4080240"/>
              <a:ext cx="13698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69280" y="4429440"/>
              <a:ext cx="13698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69280" y="4778640"/>
              <a:ext cx="13698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69280" y="5127840"/>
              <a:ext cx="13698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69280" y="5477040"/>
              <a:ext cx="13698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773840" y="2422800"/>
              <a:ext cx="1440" cy="340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078760" y="2422800"/>
              <a:ext cx="0" cy="34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610480" y="2422800"/>
              <a:ext cx="0" cy="34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458200" y="5613840"/>
              <a:ext cx="1051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172360" y="5632560"/>
              <a:ext cx="105120" cy="1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887960" y="5261400"/>
              <a:ext cx="103680" cy="1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163360" y="4899240"/>
              <a:ext cx="103680" cy="1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545240" y="4556520"/>
              <a:ext cx="104040" cy="1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850160" y="4175280"/>
              <a:ext cx="103680" cy="1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850160" y="3870720"/>
              <a:ext cx="103680" cy="1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686800" y="3489480"/>
              <a:ext cx="105120" cy="1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458200" y="3184920"/>
              <a:ext cx="105120" cy="1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850160" y="2880000"/>
              <a:ext cx="103680" cy="1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686800" y="4937400"/>
              <a:ext cx="1051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850160" y="4556520"/>
              <a:ext cx="10368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458200" y="3489480"/>
              <a:ext cx="1051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154720" y="2803680"/>
              <a:ext cx="10368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7925760" y="5317920"/>
              <a:ext cx="2941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7926120" y="4946760"/>
              <a:ext cx="28404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7592400" y="4641840"/>
              <a:ext cx="6372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7611120" y="4204080"/>
              <a:ext cx="30456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7896960" y="3870360"/>
              <a:ext cx="2916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7896960" y="3565440"/>
              <a:ext cx="865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8515080" y="3232440"/>
              <a:ext cx="24732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7896600" y="2927160"/>
              <a:ext cx="61812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7925760" y="5298840"/>
              <a:ext cx="57996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7945200" y="5013360"/>
              <a:ext cx="81756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7907400" y="4632120"/>
              <a:ext cx="81720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163360" y="4213440"/>
              <a:ext cx="10368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7907400" y="4260960"/>
              <a:ext cx="31320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7887600" y="3870720"/>
              <a:ext cx="3517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7907400" y="3556080"/>
              <a:ext cx="61812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8496000" y="3232080"/>
              <a:ext cx="1008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flipV="1">
              <a:off x="8209800" y="2851560"/>
              <a:ext cx="285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8339400" y="2422800"/>
              <a:ext cx="2520" cy="34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469280" y="1994040"/>
              <a:ext cx="1369800" cy="42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469280" y="2422800"/>
              <a:ext cx="13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8839080" y="2422800"/>
              <a:ext cx="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62520" y="2071080"/>
              <a:ext cx="11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eljesítmén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82240" y="2429280"/>
              <a:ext cx="27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771320" y="2438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053920" y="2438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17800" y="24386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569800" y="24418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117360" y="1765080"/>
            <a:ext cx="4572000" cy="25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lvl="1" marL="438120" indent="-262800">
              <a:buClr>
                <a:srgbClr val="006a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Az összehasonlítás szempontjai láthatók a diagramon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438120" indent="-262800">
              <a:buClr>
                <a:srgbClr val="006a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Kérdés: mit lehet tenni, hogy a magyar vállalatot világszínvonalúvá tegyük minden egyes versenyterületen?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210960" y="6305400"/>
            <a:ext cx="754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omic Sans MS"/>
              </a:rPr>
              <a:t>Versenytársi összehasonlítás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210960" y="6305400"/>
            <a:ext cx="786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omic Sans MS"/>
              </a:rPr>
              <a:t>Pénzügyi audit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41120" y="1980720"/>
            <a:ext cx="8861760" cy="39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Régebbi pénzügyi számlakivonatok</a:t>
            </a:r>
            <a:br>
              <a:rPr sz="2600"/>
            </a:b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(három évre visszamenőleg)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Üzleti tervek és előirányzatok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Rövid távú készpénzáramlás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Kinnlevőségek időelemzése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Fizetendő számlák időelemzése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Raktárkészlet a feldolgozottság szintje szerint (nyersanyagok, félkész termékek, késztermékek)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6950160" y="1905120"/>
            <a:ext cx="170316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210960" y="6305400"/>
            <a:ext cx="70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omic Sans MS"/>
              </a:rPr>
              <a:t>Pénzügyi audit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886176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7360" indent="-387360">
              <a:spcBef>
                <a:spcPts val="975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Gazdasági mutatók a teljesítmény értékeléséhez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spcBef>
                <a:spcPts val="825"/>
              </a:spcBef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Forgalom, bevételek, kiadások alakulása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spcBef>
                <a:spcPts val="825"/>
              </a:spcBef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Hosszútávú trende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spcBef>
                <a:spcPts val="825"/>
              </a:spcBef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Összemérés hasonló cégekkel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spcBef>
                <a:spcPts val="825"/>
              </a:spcBef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A mutatók korlátainak felismerése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marL="387360" indent="-387360">
              <a:spcBef>
                <a:spcPts val="975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Pénzügyi mutatók a vezetőség szemszögéből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spcBef>
                <a:spcPts val="825"/>
              </a:spcBef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Működőképesség elemzése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spcBef>
                <a:spcPts val="825"/>
              </a:spcBef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Erőforrás-kihasználtság elemzése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spcBef>
                <a:spcPts val="825"/>
              </a:spcBef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Eladósodottsági mutató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spcBef>
                <a:spcPts val="825"/>
              </a:spcBef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Jövedelmezőségi  mutató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7696080" y="3890880"/>
            <a:ext cx="12178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210960" y="6305400"/>
            <a:ext cx="748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omic Sans MS"/>
              </a:rPr>
              <a:t>Pénzügyi audit  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886176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A teljesítménymérés aránymutatói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Jövedelem-növekedési ráta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Értékesítés megtérülési rátája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Beruházás megtérülési rátája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Újraberuházás rátája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Bruttó profitráta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Működőtőke, mint a megtérülés százaléka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Egy főre eső értékesítés vagy profit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Raktárkészlet forgási sebessége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Rendelési ciklusidő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Minőségi hibák költségei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Időben történő szállítás lehetősége és költségei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710400" y="1530360"/>
            <a:ext cx="19112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210960" y="6338880"/>
            <a:ext cx="827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8080"/>
                </a:solidFill>
                <a:latin typeface="Comic Sans MS"/>
              </a:rPr>
              <a:t>Termékcsoportok jövedelmezősége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886176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Értékesítési volumen és árbevétel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Belföldi és exportpiaconként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Termékcsoportonként és összesen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Közvetlen költség, egységköltség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Belföldi és exportpiaconként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Termékcsoportonként 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Finanszírozási költség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Belföldi és exportpiaconként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Termékcsoportonként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Nyereség összege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Belföldi és exportpiaconként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Termékcsoportonként és összesen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6553080" y="2540160"/>
            <a:ext cx="236232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210960" y="6338880"/>
            <a:ext cx="740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8080"/>
                </a:solidFill>
                <a:latin typeface="Comic Sans MS"/>
              </a:rPr>
              <a:t>Finanszírozási költségek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886176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Finanszírozási költségek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spcBef>
                <a:spcPts val="550"/>
              </a:spcBef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Hosszú lejáratú kölcsönök tőketörlesztése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spcBef>
                <a:spcPts val="550"/>
              </a:spcBef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Hosszú lejáratú kölcsönök kamattörlesztése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spcBef>
                <a:spcPts val="550"/>
              </a:spcBef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Rövid lejáratú kölcsönök tőketörlesztése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spcBef>
                <a:spcPts val="550"/>
              </a:spcBef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Rövid lejáratú kölcsönök kamattörlesztése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spcBef>
                <a:spcPts val="550"/>
              </a:spcBef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Készletek finanszírozása sajáttőkéből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spcBef>
                <a:spcPts val="550"/>
              </a:spcBef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Egyéb finanszírozási költsége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2600"/>
                </a:solidFill>
                <a:latin typeface="Comic Sans MS"/>
              </a:rPr>
              <a:t>A finanszírozási költségek felosztása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spcBef>
                <a:spcPts val="550"/>
              </a:spcBef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A termékcsoportra történő felosztás elvei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spcBef>
                <a:spcPts val="550"/>
              </a:spcBef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Termékcsoportok finanszírozási költségarányai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7162920" y="1949400"/>
            <a:ext cx="178272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omic Sans MS"/>
              </a:rPr>
              <a:t>Gazdálkodás és jövedelmezőség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7360" indent="-38736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02600"/>
                </a:solidFill>
                <a:latin typeface="Comic Sans MS"/>
              </a:rPr>
              <a:t>Költséggazdálkodás: elvek, sémák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Realitás, áttekinthetőség, követhetőség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Költségkalkulációs, költségfelosztási elve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Fedezeti elv, a ráhatás elve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Költségtervezési elvek, sémá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marL="387360" indent="-38736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02600"/>
                </a:solidFill>
                <a:latin typeface="Comic Sans MS"/>
              </a:rPr>
              <a:t>Fedezeti kalkuláció, tanulási görbe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Tömegtermékek gazdaságos forgalmazása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Gyártási, értékesítési tapasztalatok hasznosítása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marL="387360" indent="-38736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02600"/>
                </a:solidFill>
                <a:latin typeface="Comic Sans MS"/>
              </a:rPr>
              <a:t>Forgalom és jövedelmezőség fedezeti elven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A termelés és forgalmazás logisztikai tényezőinek hatása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Az alkuerő és hatásai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313200" y="6504120"/>
            <a:ext cx="714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arsányi Judit - Menedzsment óravázlatok. Széchenyi István Egyetem, 2002. februá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210960" y="6305400"/>
            <a:ext cx="793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8080"/>
                </a:solidFill>
                <a:latin typeface="Comic Sans MS"/>
              </a:rPr>
              <a:t>A tulajdonosi, hitelezői értékelés fő mutatói</a:t>
            </a:r>
            <a:endParaRPr b="1" lang="en-US" sz="28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886176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a02600"/>
                </a:solidFill>
                <a:latin typeface="Comic Sans MS"/>
              </a:rPr>
              <a:t>Fő mutatószámok a tulajdonos számára 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6a00"/>
                </a:solidFill>
                <a:latin typeface="Comic Sans MS"/>
              </a:rPr>
              <a:t>A teljes jövedelmezőség elemzéséhez: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 teljes tiszta vagyon hoza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 közös tőke hoza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a02600"/>
                </a:solidFill>
                <a:latin typeface="Comic Sans MS"/>
              </a:rPr>
              <a:t>Fő mutatószámok a hitelezők számára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6a00"/>
                </a:solidFill>
                <a:latin typeface="Comic Sans MS"/>
              </a:rPr>
              <a:t>A hitelképesség elemzéséhez: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Forgóeszközfedezeti mutat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Likviditási gyorsrát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6a00"/>
                </a:solidFill>
                <a:latin typeface="Comic Sans MS"/>
              </a:rPr>
              <a:t>A pénzügyi helyzet elemzéséhez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dósság és aktívák arány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dósság és tőkésítés arány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dósság és befektetett tőke arány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6a00"/>
                </a:solidFill>
                <a:latin typeface="Comic Sans MS"/>
              </a:rPr>
              <a:t>Az adósságtörlesztési képesség elemzése: 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Kamatfedez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Egyéb terhek fedezet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1" name="ad004612Macibalett" descr=""/>
          <p:cNvPicPr/>
          <p:nvPr/>
        </p:nvPicPr>
        <p:blipFill>
          <a:blip r:embed="rId1"/>
          <a:stretch/>
        </p:blipFill>
        <p:spPr>
          <a:xfrm>
            <a:off x="6915240" y="2411280"/>
            <a:ext cx="17222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6548400" y="4041720"/>
            <a:ext cx="2373120" cy="2095560"/>
            <a:chOff x="6548400" y="4041720"/>
            <a:chExt cx="2373120" cy="2095560"/>
          </a:xfrm>
        </p:grpSpPr>
        <p:sp>
          <p:nvSpPr>
            <p:cNvPr id="693" name=""/>
            <p:cNvSpPr/>
            <p:nvPr/>
          </p:nvSpPr>
          <p:spPr>
            <a:xfrm flipH="1">
              <a:off x="7894440" y="4460760"/>
              <a:ext cx="301680" cy="425520"/>
            </a:xfrm>
            <a:custGeom>
              <a:avLst/>
              <a:gdLst/>
              <a:ahLst/>
              <a:rect l="l" t="t" r="r" b="b"/>
              <a:pathLst>
                <a:path w="380" h="536">
                  <a:moveTo>
                    <a:pt x="0" y="301"/>
                  </a:moveTo>
                  <a:lnTo>
                    <a:pt x="1" y="334"/>
                  </a:lnTo>
                  <a:lnTo>
                    <a:pt x="15" y="365"/>
                  </a:lnTo>
                  <a:lnTo>
                    <a:pt x="36" y="386"/>
                  </a:lnTo>
                  <a:lnTo>
                    <a:pt x="70" y="410"/>
                  </a:lnTo>
                  <a:lnTo>
                    <a:pt x="117" y="431"/>
                  </a:lnTo>
                  <a:lnTo>
                    <a:pt x="158" y="449"/>
                  </a:lnTo>
                  <a:lnTo>
                    <a:pt x="191" y="473"/>
                  </a:lnTo>
                  <a:lnTo>
                    <a:pt x="257" y="536"/>
                  </a:lnTo>
                  <a:lnTo>
                    <a:pt x="282" y="480"/>
                  </a:lnTo>
                  <a:lnTo>
                    <a:pt x="317" y="427"/>
                  </a:lnTo>
                  <a:lnTo>
                    <a:pt x="345" y="368"/>
                  </a:lnTo>
                  <a:lnTo>
                    <a:pt x="380" y="221"/>
                  </a:lnTo>
                  <a:lnTo>
                    <a:pt x="45" y="0"/>
                  </a:lnTo>
                  <a:lnTo>
                    <a:pt x="45" y="77"/>
                  </a:lnTo>
                  <a:lnTo>
                    <a:pt x="42" y="123"/>
                  </a:lnTo>
                  <a:lnTo>
                    <a:pt x="32" y="165"/>
                  </a:lnTo>
                  <a:lnTo>
                    <a:pt x="24" y="194"/>
                  </a:lnTo>
                  <a:lnTo>
                    <a:pt x="3" y="224"/>
                  </a:lnTo>
                  <a:lnTo>
                    <a:pt x="0" y="263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ffc080"/>
            </a:solidFill>
            <a:ln w="792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7141680" y="4618080"/>
              <a:ext cx="1779480" cy="1269720"/>
            </a:xfrm>
            <a:custGeom>
              <a:avLst/>
              <a:gdLst/>
              <a:ahLst/>
              <a:rect l="l" t="t" r="r" b="b"/>
              <a:pathLst>
                <a:path w="2243" h="1602">
                  <a:moveTo>
                    <a:pt x="1254" y="172"/>
                  </a:moveTo>
                  <a:lnTo>
                    <a:pt x="1244" y="186"/>
                  </a:lnTo>
                  <a:lnTo>
                    <a:pt x="1223" y="226"/>
                  </a:lnTo>
                  <a:lnTo>
                    <a:pt x="1203" y="259"/>
                  </a:lnTo>
                  <a:lnTo>
                    <a:pt x="1184" y="289"/>
                  </a:lnTo>
                  <a:lnTo>
                    <a:pt x="1170" y="324"/>
                  </a:lnTo>
                  <a:lnTo>
                    <a:pt x="1129" y="287"/>
                  </a:lnTo>
                  <a:lnTo>
                    <a:pt x="1105" y="264"/>
                  </a:lnTo>
                  <a:lnTo>
                    <a:pt x="1076" y="245"/>
                  </a:lnTo>
                  <a:lnTo>
                    <a:pt x="1028" y="224"/>
                  </a:lnTo>
                  <a:lnTo>
                    <a:pt x="992" y="208"/>
                  </a:lnTo>
                  <a:lnTo>
                    <a:pt x="967" y="196"/>
                  </a:lnTo>
                  <a:lnTo>
                    <a:pt x="939" y="170"/>
                  </a:lnTo>
                  <a:lnTo>
                    <a:pt x="923" y="140"/>
                  </a:lnTo>
                  <a:lnTo>
                    <a:pt x="922" y="98"/>
                  </a:lnTo>
                  <a:lnTo>
                    <a:pt x="922" y="60"/>
                  </a:lnTo>
                  <a:lnTo>
                    <a:pt x="929" y="23"/>
                  </a:lnTo>
                  <a:lnTo>
                    <a:pt x="929" y="0"/>
                  </a:lnTo>
                  <a:lnTo>
                    <a:pt x="887" y="40"/>
                  </a:lnTo>
                  <a:lnTo>
                    <a:pt x="848" y="121"/>
                  </a:lnTo>
                  <a:lnTo>
                    <a:pt x="784" y="159"/>
                  </a:lnTo>
                  <a:lnTo>
                    <a:pt x="672" y="201"/>
                  </a:lnTo>
                  <a:lnTo>
                    <a:pt x="574" y="250"/>
                  </a:lnTo>
                  <a:lnTo>
                    <a:pt x="476" y="299"/>
                  </a:lnTo>
                  <a:lnTo>
                    <a:pt x="399" y="376"/>
                  </a:lnTo>
                  <a:lnTo>
                    <a:pt x="336" y="537"/>
                  </a:lnTo>
                  <a:lnTo>
                    <a:pt x="217" y="733"/>
                  </a:lnTo>
                  <a:lnTo>
                    <a:pt x="77" y="1055"/>
                  </a:lnTo>
                  <a:lnTo>
                    <a:pt x="0" y="1342"/>
                  </a:lnTo>
                  <a:lnTo>
                    <a:pt x="21" y="1503"/>
                  </a:lnTo>
                  <a:lnTo>
                    <a:pt x="112" y="1552"/>
                  </a:lnTo>
                  <a:lnTo>
                    <a:pt x="196" y="1552"/>
                  </a:lnTo>
                  <a:lnTo>
                    <a:pt x="322" y="1577"/>
                  </a:lnTo>
                  <a:lnTo>
                    <a:pt x="441" y="1601"/>
                  </a:lnTo>
                  <a:lnTo>
                    <a:pt x="557" y="1602"/>
                  </a:lnTo>
                  <a:lnTo>
                    <a:pt x="742" y="1602"/>
                  </a:lnTo>
                  <a:lnTo>
                    <a:pt x="777" y="1595"/>
                  </a:lnTo>
                  <a:lnTo>
                    <a:pt x="941" y="1595"/>
                  </a:lnTo>
                  <a:lnTo>
                    <a:pt x="948" y="1560"/>
                  </a:lnTo>
                  <a:lnTo>
                    <a:pt x="1519" y="1594"/>
                  </a:lnTo>
                  <a:lnTo>
                    <a:pt x="1645" y="1517"/>
                  </a:lnTo>
                  <a:lnTo>
                    <a:pt x="1708" y="1440"/>
                  </a:lnTo>
                  <a:lnTo>
                    <a:pt x="1771" y="1524"/>
                  </a:lnTo>
                  <a:lnTo>
                    <a:pt x="1848" y="1559"/>
                  </a:lnTo>
                  <a:lnTo>
                    <a:pt x="1995" y="1552"/>
                  </a:lnTo>
                  <a:lnTo>
                    <a:pt x="2058" y="1503"/>
                  </a:lnTo>
                  <a:lnTo>
                    <a:pt x="2096" y="1454"/>
                  </a:lnTo>
                  <a:lnTo>
                    <a:pt x="2135" y="1398"/>
                  </a:lnTo>
                  <a:lnTo>
                    <a:pt x="2148" y="1258"/>
                  </a:lnTo>
                  <a:lnTo>
                    <a:pt x="2148" y="1160"/>
                  </a:lnTo>
                  <a:lnTo>
                    <a:pt x="2204" y="1055"/>
                  </a:lnTo>
                  <a:lnTo>
                    <a:pt x="2232" y="1013"/>
                  </a:lnTo>
                  <a:lnTo>
                    <a:pt x="2243" y="957"/>
                  </a:lnTo>
                  <a:lnTo>
                    <a:pt x="2236" y="908"/>
                  </a:lnTo>
                  <a:lnTo>
                    <a:pt x="2155" y="859"/>
                  </a:lnTo>
                  <a:lnTo>
                    <a:pt x="2044" y="852"/>
                  </a:lnTo>
                  <a:lnTo>
                    <a:pt x="1967" y="950"/>
                  </a:lnTo>
                  <a:lnTo>
                    <a:pt x="1939" y="775"/>
                  </a:lnTo>
                  <a:lnTo>
                    <a:pt x="1883" y="649"/>
                  </a:lnTo>
                  <a:lnTo>
                    <a:pt x="1841" y="579"/>
                  </a:lnTo>
                  <a:lnTo>
                    <a:pt x="1827" y="439"/>
                  </a:lnTo>
                  <a:lnTo>
                    <a:pt x="1792" y="348"/>
                  </a:lnTo>
                  <a:lnTo>
                    <a:pt x="1757" y="278"/>
                  </a:lnTo>
                  <a:lnTo>
                    <a:pt x="1701" y="250"/>
                  </a:lnTo>
                  <a:lnTo>
                    <a:pt x="1638" y="222"/>
                  </a:lnTo>
                  <a:lnTo>
                    <a:pt x="1568" y="194"/>
                  </a:lnTo>
                  <a:lnTo>
                    <a:pt x="1450" y="149"/>
                  </a:lnTo>
                  <a:lnTo>
                    <a:pt x="1394" y="121"/>
                  </a:lnTo>
                  <a:lnTo>
                    <a:pt x="1348" y="49"/>
                  </a:lnTo>
                  <a:lnTo>
                    <a:pt x="1334" y="81"/>
                  </a:lnTo>
                  <a:lnTo>
                    <a:pt x="1315" y="114"/>
                  </a:lnTo>
                  <a:lnTo>
                    <a:pt x="1290" y="140"/>
                  </a:lnTo>
                  <a:lnTo>
                    <a:pt x="1254" y="172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8460720" y="5303880"/>
              <a:ext cx="104760" cy="317520"/>
            </a:xfrm>
            <a:custGeom>
              <a:avLst/>
              <a:gdLst/>
              <a:ahLst/>
              <a:rect l="l" t="t" r="r" b="b"/>
              <a:pathLst>
                <a:path w="133" h="399">
                  <a:moveTo>
                    <a:pt x="133" y="0"/>
                  </a:moveTo>
                  <a:lnTo>
                    <a:pt x="63" y="231"/>
                  </a:lnTo>
                  <a:lnTo>
                    <a:pt x="0" y="329"/>
                  </a:lnTo>
                  <a:lnTo>
                    <a:pt x="84" y="364"/>
                  </a:lnTo>
                  <a:lnTo>
                    <a:pt x="133" y="399"/>
                  </a:lnTo>
                  <a:lnTo>
                    <a:pt x="126" y="259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080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8012160" y="4730760"/>
              <a:ext cx="534960" cy="952560"/>
            </a:xfrm>
            <a:custGeom>
              <a:avLst/>
              <a:gdLst/>
              <a:ahLst/>
              <a:rect l="l" t="t" r="r" b="b"/>
              <a:pathLst>
                <a:path w="675" h="1200">
                  <a:moveTo>
                    <a:pt x="374" y="0"/>
                  </a:moveTo>
                  <a:lnTo>
                    <a:pt x="378" y="91"/>
                  </a:lnTo>
                  <a:lnTo>
                    <a:pt x="391" y="140"/>
                  </a:lnTo>
                  <a:lnTo>
                    <a:pt x="384" y="182"/>
                  </a:lnTo>
                  <a:lnTo>
                    <a:pt x="384" y="255"/>
                  </a:lnTo>
                  <a:lnTo>
                    <a:pt x="430" y="213"/>
                  </a:lnTo>
                  <a:lnTo>
                    <a:pt x="482" y="168"/>
                  </a:lnTo>
                  <a:lnTo>
                    <a:pt x="503" y="182"/>
                  </a:lnTo>
                  <a:lnTo>
                    <a:pt x="552" y="196"/>
                  </a:lnTo>
                  <a:lnTo>
                    <a:pt x="636" y="234"/>
                  </a:lnTo>
                  <a:lnTo>
                    <a:pt x="636" y="283"/>
                  </a:lnTo>
                  <a:lnTo>
                    <a:pt x="636" y="315"/>
                  </a:lnTo>
                  <a:lnTo>
                    <a:pt x="675" y="364"/>
                  </a:lnTo>
                  <a:lnTo>
                    <a:pt x="647" y="668"/>
                  </a:lnTo>
                  <a:lnTo>
                    <a:pt x="647" y="1182"/>
                  </a:lnTo>
                  <a:lnTo>
                    <a:pt x="517" y="1196"/>
                  </a:lnTo>
                  <a:lnTo>
                    <a:pt x="503" y="959"/>
                  </a:lnTo>
                  <a:lnTo>
                    <a:pt x="500" y="861"/>
                  </a:lnTo>
                  <a:lnTo>
                    <a:pt x="493" y="966"/>
                  </a:lnTo>
                  <a:lnTo>
                    <a:pt x="496" y="1046"/>
                  </a:lnTo>
                  <a:lnTo>
                    <a:pt x="500" y="1200"/>
                  </a:lnTo>
                  <a:lnTo>
                    <a:pt x="374" y="1193"/>
                  </a:lnTo>
                  <a:lnTo>
                    <a:pt x="381" y="997"/>
                  </a:lnTo>
                  <a:lnTo>
                    <a:pt x="371" y="899"/>
                  </a:lnTo>
                  <a:lnTo>
                    <a:pt x="339" y="815"/>
                  </a:lnTo>
                  <a:lnTo>
                    <a:pt x="350" y="885"/>
                  </a:lnTo>
                  <a:lnTo>
                    <a:pt x="364" y="990"/>
                  </a:lnTo>
                  <a:lnTo>
                    <a:pt x="357" y="1182"/>
                  </a:lnTo>
                  <a:lnTo>
                    <a:pt x="301" y="1175"/>
                  </a:lnTo>
                  <a:lnTo>
                    <a:pt x="238" y="1018"/>
                  </a:lnTo>
                  <a:lnTo>
                    <a:pt x="203" y="913"/>
                  </a:lnTo>
                  <a:lnTo>
                    <a:pt x="185" y="812"/>
                  </a:lnTo>
                  <a:lnTo>
                    <a:pt x="196" y="938"/>
                  </a:lnTo>
                  <a:lnTo>
                    <a:pt x="224" y="1029"/>
                  </a:lnTo>
                  <a:lnTo>
                    <a:pt x="280" y="1161"/>
                  </a:lnTo>
                  <a:lnTo>
                    <a:pt x="171" y="1130"/>
                  </a:lnTo>
                  <a:lnTo>
                    <a:pt x="147" y="1053"/>
                  </a:lnTo>
                  <a:lnTo>
                    <a:pt x="140" y="938"/>
                  </a:lnTo>
                  <a:lnTo>
                    <a:pt x="143" y="812"/>
                  </a:lnTo>
                  <a:lnTo>
                    <a:pt x="136" y="742"/>
                  </a:lnTo>
                  <a:lnTo>
                    <a:pt x="133" y="861"/>
                  </a:lnTo>
                  <a:lnTo>
                    <a:pt x="133" y="1025"/>
                  </a:lnTo>
                  <a:lnTo>
                    <a:pt x="147" y="1130"/>
                  </a:lnTo>
                  <a:lnTo>
                    <a:pt x="126" y="1126"/>
                  </a:lnTo>
                  <a:lnTo>
                    <a:pt x="119" y="994"/>
                  </a:lnTo>
                  <a:lnTo>
                    <a:pt x="119" y="854"/>
                  </a:lnTo>
                  <a:lnTo>
                    <a:pt x="126" y="749"/>
                  </a:lnTo>
                  <a:lnTo>
                    <a:pt x="126" y="714"/>
                  </a:lnTo>
                  <a:lnTo>
                    <a:pt x="108" y="640"/>
                  </a:lnTo>
                  <a:lnTo>
                    <a:pt x="84" y="525"/>
                  </a:lnTo>
                  <a:lnTo>
                    <a:pt x="84" y="427"/>
                  </a:lnTo>
                  <a:lnTo>
                    <a:pt x="98" y="535"/>
                  </a:lnTo>
                  <a:lnTo>
                    <a:pt x="112" y="598"/>
                  </a:lnTo>
                  <a:lnTo>
                    <a:pt x="140" y="696"/>
                  </a:lnTo>
                  <a:lnTo>
                    <a:pt x="115" y="553"/>
                  </a:lnTo>
                  <a:lnTo>
                    <a:pt x="108" y="483"/>
                  </a:lnTo>
                  <a:lnTo>
                    <a:pt x="105" y="413"/>
                  </a:lnTo>
                  <a:lnTo>
                    <a:pt x="91" y="322"/>
                  </a:lnTo>
                  <a:lnTo>
                    <a:pt x="49" y="245"/>
                  </a:lnTo>
                  <a:lnTo>
                    <a:pt x="14" y="220"/>
                  </a:lnTo>
                  <a:lnTo>
                    <a:pt x="0" y="206"/>
                  </a:lnTo>
                  <a:lnTo>
                    <a:pt x="21" y="171"/>
                  </a:lnTo>
                  <a:lnTo>
                    <a:pt x="108" y="129"/>
                  </a:lnTo>
                  <a:lnTo>
                    <a:pt x="140" y="147"/>
                  </a:lnTo>
                  <a:lnTo>
                    <a:pt x="161" y="189"/>
                  </a:lnTo>
                  <a:lnTo>
                    <a:pt x="147" y="133"/>
                  </a:lnTo>
                  <a:lnTo>
                    <a:pt x="129" y="115"/>
                  </a:lnTo>
                  <a:lnTo>
                    <a:pt x="210" y="77"/>
                  </a:lnTo>
                  <a:lnTo>
                    <a:pt x="252" y="56"/>
                  </a:lnTo>
                  <a:lnTo>
                    <a:pt x="315" y="38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8175600" y="4890960"/>
              <a:ext cx="730080" cy="988920"/>
            </a:xfrm>
            <a:custGeom>
              <a:avLst/>
              <a:gdLst/>
              <a:ahLst/>
              <a:rect l="l" t="t" r="r" b="b"/>
              <a:pathLst>
                <a:path w="920" h="1245">
                  <a:moveTo>
                    <a:pt x="920" y="1014"/>
                  </a:moveTo>
                  <a:lnTo>
                    <a:pt x="823" y="997"/>
                  </a:lnTo>
                  <a:lnTo>
                    <a:pt x="770" y="986"/>
                  </a:lnTo>
                  <a:lnTo>
                    <a:pt x="686" y="962"/>
                  </a:lnTo>
                  <a:lnTo>
                    <a:pt x="627" y="944"/>
                  </a:lnTo>
                  <a:lnTo>
                    <a:pt x="592" y="934"/>
                  </a:lnTo>
                  <a:lnTo>
                    <a:pt x="550" y="930"/>
                  </a:lnTo>
                  <a:lnTo>
                    <a:pt x="508" y="913"/>
                  </a:lnTo>
                  <a:lnTo>
                    <a:pt x="462" y="885"/>
                  </a:lnTo>
                  <a:lnTo>
                    <a:pt x="417" y="868"/>
                  </a:lnTo>
                  <a:lnTo>
                    <a:pt x="343" y="871"/>
                  </a:lnTo>
                  <a:lnTo>
                    <a:pt x="263" y="906"/>
                  </a:lnTo>
                  <a:lnTo>
                    <a:pt x="200" y="944"/>
                  </a:lnTo>
                  <a:lnTo>
                    <a:pt x="200" y="913"/>
                  </a:lnTo>
                  <a:lnTo>
                    <a:pt x="270" y="885"/>
                  </a:lnTo>
                  <a:lnTo>
                    <a:pt x="343" y="864"/>
                  </a:lnTo>
                  <a:lnTo>
                    <a:pt x="399" y="854"/>
                  </a:lnTo>
                  <a:lnTo>
                    <a:pt x="410" y="826"/>
                  </a:lnTo>
                  <a:lnTo>
                    <a:pt x="329" y="826"/>
                  </a:lnTo>
                  <a:lnTo>
                    <a:pt x="249" y="840"/>
                  </a:lnTo>
                  <a:lnTo>
                    <a:pt x="186" y="850"/>
                  </a:lnTo>
                  <a:lnTo>
                    <a:pt x="175" y="833"/>
                  </a:lnTo>
                  <a:lnTo>
                    <a:pt x="189" y="815"/>
                  </a:lnTo>
                  <a:lnTo>
                    <a:pt x="224" y="805"/>
                  </a:lnTo>
                  <a:lnTo>
                    <a:pt x="273" y="805"/>
                  </a:lnTo>
                  <a:lnTo>
                    <a:pt x="294" y="805"/>
                  </a:lnTo>
                  <a:lnTo>
                    <a:pt x="357" y="805"/>
                  </a:lnTo>
                  <a:lnTo>
                    <a:pt x="413" y="815"/>
                  </a:lnTo>
                  <a:lnTo>
                    <a:pt x="424" y="815"/>
                  </a:lnTo>
                  <a:lnTo>
                    <a:pt x="448" y="794"/>
                  </a:lnTo>
                  <a:lnTo>
                    <a:pt x="417" y="777"/>
                  </a:lnTo>
                  <a:lnTo>
                    <a:pt x="354" y="756"/>
                  </a:lnTo>
                  <a:lnTo>
                    <a:pt x="312" y="714"/>
                  </a:lnTo>
                  <a:lnTo>
                    <a:pt x="291" y="651"/>
                  </a:lnTo>
                  <a:lnTo>
                    <a:pt x="277" y="588"/>
                  </a:lnTo>
                  <a:lnTo>
                    <a:pt x="273" y="539"/>
                  </a:lnTo>
                  <a:lnTo>
                    <a:pt x="287" y="553"/>
                  </a:lnTo>
                  <a:lnTo>
                    <a:pt x="312" y="647"/>
                  </a:lnTo>
                  <a:lnTo>
                    <a:pt x="336" y="707"/>
                  </a:lnTo>
                  <a:lnTo>
                    <a:pt x="368" y="731"/>
                  </a:lnTo>
                  <a:lnTo>
                    <a:pt x="403" y="752"/>
                  </a:lnTo>
                  <a:lnTo>
                    <a:pt x="459" y="763"/>
                  </a:lnTo>
                  <a:lnTo>
                    <a:pt x="483" y="703"/>
                  </a:lnTo>
                  <a:lnTo>
                    <a:pt x="511" y="623"/>
                  </a:lnTo>
                  <a:lnTo>
                    <a:pt x="532" y="546"/>
                  </a:lnTo>
                  <a:lnTo>
                    <a:pt x="529" y="504"/>
                  </a:lnTo>
                  <a:lnTo>
                    <a:pt x="462" y="437"/>
                  </a:lnTo>
                  <a:lnTo>
                    <a:pt x="389" y="357"/>
                  </a:lnTo>
                  <a:lnTo>
                    <a:pt x="375" y="283"/>
                  </a:lnTo>
                  <a:lnTo>
                    <a:pt x="396" y="308"/>
                  </a:lnTo>
                  <a:lnTo>
                    <a:pt x="410" y="357"/>
                  </a:lnTo>
                  <a:lnTo>
                    <a:pt x="455" y="406"/>
                  </a:lnTo>
                  <a:lnTo>
                    <a:pt x="504" y="455"/>
                  </a:lnTo>
                  <a:lnTo>
                    <a:pt x="529" y="479"/>
                  </a:lnTo>
                  <a:lnTo>
                    <a:pt x="560" y="507"/>
                  </a:lnTo>
                  <a:lnTo>
                    <a:pt x="543" y="434"/>
                  </a:lnTo>
                  <a:lnTo>
                    <a:pt x="522" y="343"/>
                  </a:lnTo>
                  <a:lnTo>
                    <a:pt x="522" y="238"/>
                  </a:lnTo>
                  <a:lnTo>
                    <a:pt x="529" y="203"/>
                  </a:lnTo>
                  <a:lnTo>
                    <a:pt x="529" y="157"/>
                  </a:lnTo>
                  <a:lnTo>
                    <a:pt x="515" y="94"/>
                  </a:lnTo>
                  <a:lnTo>
                    <a:pt x="501" y="24"/>
                  </a:lnTo>
                  <a:lnTo>
                    <a:pt x="441" y="0"/>
                  </a:lnTo>
                  <a:lnTo>
                    <a:pt x="396" y="35"/>
                  </a:lnTo>
                  <a:lnTo>
                    <a:pt x="375" y="98"/>
                  </a:lnTo>
                  <a:lnTo>
                    <a:pt x="340" y="185"/>
                  </a:lnTo>
                  <a:lnTo>
                    <a:pt x="305" y="255"/>
                  </a:lnTo>
                  <a:lnTo>
                    <a:pt x="235" y="360"/>
                  </a:lnTo>
                  <a:lnTo>
                    <a:pt x="161" y="535"/>
                  </a:lnTo>
                  <a:lnTo>
                    <a:pt x="91" y="696"/>
                  </a:lnTo>
                  <a:lnTo>
                    <a:pt x="77" y="703"/>
                  </a:lnTo>
                  <a:lnTo>
                    <a:pt x="70" y="742"/>
                  </a:lnTo>
                  <a:lnTo>
                    <a:pt x="70" y="770"/>
                  </a:lnTo>
                  <a:lnTo>
                    <a:pt x="46" y="836"/>
                  </a:lnTo>
                  <a:lnTo>
                    <a:pt x="7" y="965"/>
                  </a:lnTo>
                  <a:lnTo>
                    <a:pt x="0" y="1021"/>
                  </a:lnTo>
                  <a:lnTo>
                    <a:pt x="7" y="1053"/>
                  </a:lnTo>
                  <a:lnTo>
                    <a:pt x="7" y="1102"/>
                  </a:lnTo>
                  <a:lnTo>
                    <a:pt x="18" y="1133"/>
                  </a:lnTo>
                  <a:lnTo>
                    <a:pt x="46" y="1151"/>
                  </a:lnTo>
                  <a:lnTo>
                    <a:pt x="88" y="1182"/>
                  </a:lnTo>
                  <a:lnTo>
                    <a:pt x="144" y="1186"/>
                  </a:lnTo>
                  <a:lnTo>
                    <a:pt x="259" y="1193"/>
                  </a:lnTo>
                  <a:lnTo>
                    <a:pt x="382" y="1224"/>
                  </a:lnTo>
                  <a:lnTo>
                    <a:pt x="494" y="1235"/>
                  </a:lnTo>
                  <a:lnTo>
                    <a:pt x="648" y="1245"/>
                  </a:lnTo>
                  <a:lnTo>
                    <a:pt x="735" y="1231"/>
                  </a:lnTo>
                  <a:lnTo>
                    <a:pt x="728" y="1161"/>
                  </a:lnTo>
                  <a:lnTo>
                    <a:pt x="742" y="1109"/>
                  </a:lnTo>
                  <a:lnTo>
                    <a:pt x="767" y="1067"/>
                  </a:lnTo>
                  <a:lnTo>
                    <a:pt x="763" y="1098"/>
                  </a:lnTo>
                  <a:lnTo>
                    <a:pt x="742" y="1161"/>
                  </a:lnTo>
                  <a:lnTo>
                    <a:pt x="749" y="1210"/>
                  </a:lnTo>
                  <a:lnTo>
                    <a:pt x="774" y="1242"/>
                  </a:lnTo>
                  <a:lnTo>
                    <a:pt x="906" y="1238"/>
                  </a:lnTo>
                  <a:lnTo>
                    <a:pt x="875" y="1207"/>
                  </a:lnTo>
                  <a:lnTo>
                    <a:pt x="857" y="1137"/>
                  </a:lnTo>
                  <a:lnTo>
                    <a:pt x="864" y="1074"/>
                  </a:lnTo>
                  <a:lnTo>
                    <a:pt x="878" y="1046"/>
                  </a:lnTo>
                  <a:lnTo>
                    <a:pt x="920" y="101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8697600" y="5638680"/>
              <a:ext cx="123480" cy="127080"/>
            </a:xfrm>
            <a:custGeom>
              <a:avLst/>
              <a:gdLst/>
              <a:ahLst/>
              <a:rect l="l" t="t" r="r" b="b"/>
              <a:pathLst>
                <a:path w="158" h="161">
                  <a:moveTo>
                    <a:pt x="158" y="0"/>
                  </a:moveTo>
                  <a:lnTo>
                    <a:pt x="84" y="42"/>
                  </a:lnTo>
                  <a:lnTo>
                    <a:pt x="18" y="112"/>
                  </a:lnTo>
                  <a:lnTo>
                    <a:pt x="0" y="161"/>
                  </a:lnTo>
                  <a:lnTo>
                    <a:pt x="35" y="143"/>
                  </a:lnTo>
                  <a:lnTo>
                    <a:pt x="88" y="77"/>
                  </a:lnTo>
                  <a:lnTo>
                    <a:pt x="123" y="42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8675280" y="5568840"/>
              <a:ext cx="166680" cy="63360"/>
            </a:xfrm>
            <a:custGeom>
              <a:avLst/>
              <a:gdLst/>
              <a:ahLst/>
              <a:rect l="l" t="t" r="r" b="b"/>
              <a:pathLst>
                <a:path w="210" h="80">
                  <a:moveTo>
                    <a:pt x="210" y="0"/>
                  </a:moveTo>
                  <a:lnTo>
                    <a:pt x="108" y="7"/>
                  </a:lnTo>
                  <a:lnTo>
                    <a:pt x="49" y="24"/>
                  </a:lnTo>
                  <a:lnTo>
                    <a:pt x="7" y="49"/>
                  </a:lnTo>
                  <a:lnTo>
                    <a:pt x="0" y="69"/>
                  </a:lnTo>
                  <a:lnTo>
                    <a:pt x="14" y="80"/>
                  </a:lnTo>
                  <a:lnTo>
                    <a:pt x="70" y="66"/>
                  </a:lnTo>
                  <a:lnTo>
                    <a:pt x="101" y="38"/>
                  </a:lnTo>
                  <a:lnTo>
                    <a:pt x="143" y="21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8382960" y="5738760"/>
              <a:ext cx="352440" cy="63360"/>
            </a:xfrm>
            <a:custGeom>
              <a:avLst/>
              <a:gdLst/>
              <a:ahLst/>
              <a:rect l="l" t="t" r="r" b="b"/>
              <a:pathLst>
                <a:path w="444" h="80">
                  <a:moveTo>
                    <a:pt x="444" y="0"/>
                  </a:moveTo>
                  <a:lnTo>
                    <a:pt x="357" y="38"/>
                  </a:lnTo>
                  <a:lnTo>
                    <a:pt x="259" y="59"/>
                  </a:lnTo>
                  <a:lnTo>
                    <a:pt x="192" y="66"/>
                  </a:lnTo>
                  <a:lnTo>
                    <a:pt x="66" y="66"/>
                  </a:lnTo>
                  <a:lnTo>
                    <a:pt x="0" y="59"/>
                  </a:lnTo>
                  <a:lnTo>
                    <a:pt x="101" y="80"/>
                  </a:lnTo>
                  <a:lnTo>
                    <a:pt x="189" y="80"/>
                  </a:lnTo>
                  <a:lnTo>
                    <a:pt x="276" y="77"/>
                  </a:lnTo>
                  <a:lnTo>
                    <a:pt x="343" y="63"/>
                  </a:lnTo>
                  <a:lnTo>
                    <a:pt x="44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8466120" y="5654520"/>
              <a:ext cx="225360" cy="50760"/>
            </a:xfrm>
            <a:custGeom>
              <a:avLst/>
              <a:gdLst/>
              <a:ahLst/>
              <a:rect l="l" t="t" r="r" b="b"/>
              <a:pathLst>
                <a:path w="283" h="63">
                  <a:moveTo>
                    <a:pt x="283" y="0"/>
                  </a:moveTo>
                  <a:lnTo>
                    <a:pt x="199" y="31"/>
                  </a:lnTo>
                  <a:lnTo>
                    <a:pt x="105" y="56"/>
                  </a:lnTo>
                  <a:lnTo>
                    <a:pt x="0" y="63"/>
                  </a:lnTo>
                  <a:lnTo>
                    <a:pt x="87" y="45"/>
                  </a:lnTo>
                  <a:lnTo>
                    <a:pt x="175" y="14"/>
                  </a:lnTo>
                  <a:lnTo>
                    <a:pt x="206" y="7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7544880" y="4727520"/>
              <a:ext cx="390600" cy="1144440"/>
            </a:xfrm>
            <a:custGeom>
              <a:avLst/>
              <a:gdLst/>
              <a:ahLst/>
              <a:rect l="l" t="t" r="r" b="b"/>
              <a:pathLst>
                <a:path w="494" h="1442">
                  <a:moveTo>
                    <a:pt x="161" y="0"/>
                  </a:moveTo>
                  <a:lnTo>
                    <a:pt x="200" y="105"/>
                  </a:lnTo>
                  <a:lnTo>
                    <a:pt x="210" y="161"/>
                  </a:lnTo>
                  <a:lnTo>
                    <a:pt x="203" y="217"/>
                  </a:lnTo>
                  <a:lnTo>
                    <a:pt x="172" y="189"/>
                  </a:lnTo>
                  <a:lnTo>
                    <a:pt x="137" y="161"/>
                  </a:lnTo>
                  <a:lnTo>
                    <a:pt x="112" y="144"/>
                  </a:lnTo>
                  <a:lnTo>
                    <a:pt x="84" y="161"/>
                  </a:lnTo>
                  <a:lnTo>
                    <a:pt x="18" y="221"/>
                  </a:lnTo>
                  <a:lnTo>
                    <a:pt x="25" y="294"/>
                  </a:lnTo>
                  <a:lnTo>
                    <a:pt x="0" y="329"/>
                  </a:lnTo>
                  <a:lnTo>
                    <a:pt x="32" y="410"/>
                  </a:lnTo>
                  <a:lnTo>
                    <a:pt x="49" y="501"/>
                  </a:lnTo>
                  <a:lnTo>
                    <a:pt x="67" y="630"/>
                  </a:lnTo>
                  <a:lnTo>
                    <a:pt x="74" y="718"/>
                  </a:lnTo>
                  <a:lnTo>
                    <a:pt x="77" y="858"/>
                  </a:lnTo>
                  <a:lnTo>
                    <a:pt x="84" y="1036"/>
                  </a:lnTo>
                  <a:lnTo>
                    <a:pt x="81" y="1218"/>
                  </a:lnTo>
                  <a:lnTo>
                    <a:pt x="123" y="1235"/>
                  </a:lnTo>
                  <a:lnTo>
                    <a:pt x="224" y="1316"/>
                  </a:lnTo>
                  <a:lnTo>
                    <a:pt x="224" y="1382"/>
                  </a:lnTo>
                  <a:lnTo>
                    <a:pt x="186" y="1393"/>
                  </a:lnTo>
                  <a:lnTo>
                    <a:pt x="172" y="1438"/>
                  </a:lnTo>
                  <a:lnTo>
                    <a:pt x="270" y="1442"/>
                  </a:lnTo>
                  <a:lnTo>
                    <a:pt x="238" y="1232"/>
                  </a:lnTo>
                  <a:lnTo>
                    <a:pt x="242" y="1012"/>
                  </a:lnTo>
                  <a:lnTo>
                    <a:pt x="259" y="1267"/>
                  </a:lnTo>
                  <a:lnTo>
                    <a:pt x="287" y="1435"/>
                  </a:lnTo>
                  <a:lnTo>
                    <a:pt x="368" y="1382"/>
                  </a:lnTo>
                  <a:lnTo>
                    <a:pt x="350" y="1270"/>
                  </a:lnTo>
                  <a:lnTo>
                    <a:pt x="364" y="1078"/>
                  </a:lnTo>
                  <a:lnTo>
                    <a:pt x="361" y="1225"/>
                  </a:lnTo>
                  <a:lnTo>
                    <a:pt x="389" y="1368"/>
                  </a:lnTo>
                  <a:lnTo>
                    <a:pt x="469" y="1274"/>
                  </a:lnTo>
                  <a:lnTo>
                    <a:pt x="462" y="1193"/>
                  </a:lnTo>
                  <a:lnTo>
                    <a:pt x="445" y="1026"/>
                  </a:lnTo>
                  <a:lnTo>
                    <a:pt x="424" y="861"/>
                  </a:lnTo>
                  <a:lnTo>
                    <a:pt x="427" y="742"/>
                  </a:lnTo>
                  <a:lnTo>
                    <a:pt x="438" y="634"/>
                  </a:lnTo>
                  <a:lnTo>
                    <a:pt x="452" y="553"/>
                  </a:lnTo>
                  <a:lnTo>
                    <a:pt x="462" y="462"/>
                  </a:lnTo>
                  <a:lnTo>
                    <a:pt x="441" y="410"/>
                  </a:lnTo>
                  <a:lnTo>
                    <a:pt x="445" y="315"/>
                  </a:lnTo>
                  <a:lnTo>
                    <a:pt x="427" y="368"/>
                  </a:lnTo>
                  <a:lnTo>
                    <a:pt x="427" y="424"/>
                  </a:lnTo>
                  <a:lnTo>
                    <a:pt x="445" y="494"/>
                  </a:lnTo>
                  <a:lnTo>
                    <a:pt x="413" y="434"/>
                  </a:lnTo>
                  <a:lnTo>
                    <a:pt x="413" y="361"/>
                  </a:lnTo>
                  <a:lnTo>
                    <a:pt x="431" y="291"/>
                  </a:lnTo>
                  <a:lnTo>
                    <a:pt x="469" y="179"/>
                  </a:lnTo>
                  <a:lnTo>
                    <a:pt x="494" y="151"/>
                  </a:lnTo>
                  <a:lnTo>
                    <a:pt x="399" y="105"/>
                  </a:lnTo>
                  <a:lnTo>
                    <a:pt x="371" y="119"/>
                  </a:lnTo>
                  <a:lnTo>
                    <a:pt x="343" y="144"/>
                  </a:lnTo>
                  <a:lnTo>
                    <a:pt x="375" y="105"/>
                  </a:lnTo>
                  <a:lnTo>
                    <a:pt x="382" y="98"/>
                  </a:lnTo>
                  <a:lnTo>
                    <a:pt x="312" y="67"/>
                  </a:lnTo>
                  <a:lnTo>
                    <a:pt x="245" y="49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7630560" y="5164200"/>
              <a:ext cx="189000" cy="21960"/>
            </a:xfrm>
            <a:custGeom>
              <a:avLst/>
              <a:gdLst/>
              <a:ahLst/>
              <a:rect l="l" t="t" r="r" b="b"/>
              <a:pathLst>
                <a:path w="238" h="28">
                  <a:moveTo>
                    <a:pt x="0" y="21"/>
                  </a:moveTo>
                  <a:lnTo>
                    <a:pt x="32" y="28"/>
                  </a:lnTo>
                  <a:lnTo>
                    <a:pt x="123" y="24"/>
                  </a:lnTo>
                  <a:lnTo>
                    <a:pt x="238" y="0"/>
                  </a:lnTo>
                  <a:lnTo>
                    <a:pt x="137" y="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7630560" y="5224320"/>
              <a:ext cx="166680" cy="187200"/>
            </a:xfrm>
            <a:custGeom>
              <a:avLst/>
              <a:gdLst/>
              <a:ahLst/>
              <a:rect l="l" t="t" r="r" b="b"/>
              <a:pathLst>
                <a:path w="210" h="234">
                  <a:moveTo>
                    <a:pt x="207" y="0"/>
                  </a:moveTo>
                  <a:lnTo>
                    <a:pt x="196" y="112"/>
                  </a:lnTo>
                  <a:lnTo>
                    <a:pt x="168" y="182"/>
                  </a:lnTo>
                  <a:lnTo>
                    <a:pt x="98" y="217"/>
                  </a:lnTo>
                  <a:lnTo>
                    <a:pt x="0" y="227"/>
                  </a:lnTo>
                  <a:lnTo>
                    <a:pt x="18" y="234"/>
                  </a:lnTo>
                  <a:lnTo>
                    <a:pt x="81" y="231"/>
                  </a:lnTo>
                  <a:lnTo>
                    <a:pt x="147" y="210"/>
                  </a:lnTo>
                  <a:lnTo>
                    <a:pt x="182" y="185"/>
                  </a:lnTo>
                  <a:lnTo>
                    <a:pt x="203" y="129"/>
                  </a:lnTo>
                  <a:lnTo>
                    <a:pt x="210" y="8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7375320" y="4856040"/>
              <a:ext cx="216000" cy="887400"/>
            </a:xfrm>
            <a:custGeom>
              <a:avLst/>
              <a:gdLst/>
              <a:ahLst/>
              <a:rect l="l" t="t" r="r" b="b"/>
              <a:pathLst>
                <a:path w="273" h="1120">
                  <a:moveTo>
                    <a:pt x="74" y="0"/>
                  </a:moveTo>
                  <a:lnTo>
                    <a:pt x="133" y="123"/>
                  </a:lnTo>
                  <a:lnTo>
                    <a:pt x="133" y="161"/>
                  </a:lnTo>
                  <a:lnTo>
                    <a:pt x="151" y="242"/>
                  </a:lnTo>
                  <a:lnTo>
                    <a:pt x="147" y="301"/>
                  </a:lnTo>
                  <a:lnTo>
                    <a:pt x="77" y="361"/>
                  </a:lnTo>
                  <a:lnTo>
                    <a:pt x="49" y="424"/>
                  </a:lnTo>
                  <a:lnTo>
                    <a:pt x="25" y="515"/>
                  </a:lnTo>
                  <a:lnTo>
                    <a:pt x="14" y="602"/>
                  </a:lnTo>
                  <a:lnTo>
                    <a:pt x="46" y="497"/>
                  </a:lnTo>
                  <a:lnTo>
                    <a:pt x="88" y="389"/>
                  </a:lnTo>
                  <a:lnTo>
                    <a:pt x="126" y="350"/>
                  </a:lnTo>
                  <a:lnTo>
                    <a:pt x="158" y="326"/>
                  </a:lnTo>
                  <a:lnTo>
                    <a:pt x="214" y="396"/>
                  </a:lnTo>
                  <a:lnTo>
                    <a:pt x="235" y="490"/>
                  </a:lnTo>
                  <a:lnTo>
                    <a:pt x="273" y="616"/>
                  </a:lnTo>
                  <a:lnTo>
                    <a:pt x="273" y="662"/>
                  </a:lnTo>
                  <a:lnTo>
                    <a:pt x="249" y="686"/>
                  </a:lnTo>
                  <a:lnTo>
                    <a:pt x="245" y="711"/>
                  </a:lnTo>
                  <a:lnTo>
                    <a:pt x="175" y="742"/>
                  </a:lnTo>
                  <a:lnTo>
                    <a:pt x="81" y="802"/>
                  </a:lnTo>
                  <a:lnTo>
                    <a:pt x="49" y="851"/>
                  </a:lnTo>
                  <a:lnTo>
                    <a:pt x="46" y="914"/>
                  </a:lnTo>
                  <a:lnTo>
                    <a:pt x="70" y="847"/>
                  </a:lnTo>
                  <a:lnTo>
                    <a:pt x="98" y="809"/>
                  </a:lnTo>
                  <a:lnTo>
                    <a:pt x="147" y="774"/>
                  </a:lnTo>
                  <a:lnTo>
                    <a:pt x="200" y="746"/>
                  </a:lnTo>
                  <a:lnTo>
                    <a:pt x="245" y="721"/>
                  </a:lnTo>
                  <a:lnTo>
                    <a:pt x="214" y="774"/>
                  </a:lnTo>
                  <a:lnTo>
                    <a:pt x="172" y="802"/>
                  </a:lnTo>
                  <a:lnTo>
                    <a:pt x="130" y="826"/>
                  </a:lnTo>
                  <a:lnTo>
                    <a:pt x="95" y="861"/>
                  </a:lnTo>
                  <a:lnTo>
                    <a:pt x="70" y="917"/>
                  </a:lnTo>
                  <a:lnTo>
                    <a:pt x="46" y="969"/>
                  </a:lnTo>
                  <a:lnTo>
                    <a:pt x="67" y="947"/>
                  </a:lnTo>
                  <a:lnTo>
                    <a:pt x="81" y="924"/>
                  </a:lnTo>
                  <a:lnTo>
                    <a:pt x="123" y="865"/>
                  </a:lnTo>
                  <a:lnTo>
                    <a:pt x="158" y="826"/>
                  </a:lnTo>
                  <a:lnTo>
                    <a:pt x="224" y="788"/>
                  </a:lnTo>
                  <a:lnTo>
                    <a:pt x="151" y="858"/>
                  </a:lnTo>
                  <a:lnTo>
                    <a:pt x="112" y="910"/>
                  </a:lnTo>
                  <a:lnTo>
                    <a:pt x="95" y="952"/>
                  </a:lnTo>
                  <a:lnTo>
                    <a:pt x="105" y="1007"/>
                  </a:lnTo>
                  <a:lnTo>
                    <a:pt x="98" y="1056"/>
                  </a:lnTo>
                  <a:lnTo>
                    <a:pt x="77" y="1031"/>
                  </a:lnTo>
                  <a:lnTo>
                    <a:pt x="60" y="993"/>
                  </a:lnTo>
                  <a:lnTo>
                    <a:pt x="60" y="1059"/>
                  </a:lnTo>
                  <a:lnTo>
                    <a:pt x="42" y="1120"/>
                  </a:lnTo>
                  <a:lnTo>
                    <a:pt x="42" y="1053"/>
                  </a:lnTo>
                  <a:lnTo>
                    <a:pt x="25" y="959"/>
                  </a:lnTo>
                  <a:lnTo>
                    <a:pt x="21" y="882"/>
                  </a:lnTo>
                  <a:lnTo>
                    <a:pt x="11" y="795"/>
                  </a:lnTo>
                  <a:lnTo>
                    <a:pt x="0" y="693"/>
                  </a:lnTo>
                  <a:lnTo>
                    <a:pt x="0" y="606"/>
                  </a:lnTo>
                  <a:lnTo>
                    <a:pt x="7" y="501"/>
                  </a:lnTo>
                  <a:lnTo>
                    <a:pt x="39" y="392"/>
                  </a:lnTo>
                  <a:lnTo>
                    <a:pt x="88" y="319"/>
                  </a:lnTo>
                  <a:lnTo>
                    <a:pt x="119" y="273"/>
                  </a:lnTo>
                  <a:lnTo>
                    <a:pt x="126" y="221"/>
                  </a:lnTo>
                  <a:lnTo>
                    <a:pt x="102" y="280"/>
                  </a:lnTo>
                  <a:lnTo>
                    <a:pt x="60" y="333"/>
                  </a:lnTo>
                  <a:lnTo>
                    <a:pt x="18" y="396"/>
                  </a:lnTo>
                  <a:lnTo>
                    <a:pt x="42" y="312"/>
                  </a:lnTo>
                  <a:lnTo>
                    <a:pt x="84" y="235"/>
                  </a:lnTo>
                  <a:lnTo>
                    <a:pt x="112" y="200"/>
                  </a:lnTo>
                  <a:lnTo>
                    <a:pt x="77" y="228"/>
                  </a:lnTo>
                  <a:lnTo>
                    <a:pt x="39" y="291"/>
                  </a:lnTo>
                  <a:lnTo>
                    <a:pt x="21" y="256"/>
                  </a:lnTo>
                  <a:lnTo>
                    <a:pt x="21" y="214"/>
                  </a:lnTo>
                  <a:lnTo>
                    <a:pt x="18" y="161"/>
                  </a:lnTo>
                  <a:lnTo>
                    <a:pt x="18" y="130"/>
                  </a:lnTo>
                  <a:lnTo>
                    <a:pt x="25" y="6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7158960" y="5373720"/>
              <a:ext cx="398520" cy="466560"/>
            </a:xfrm>
            <a:custGeom>
              <a:avLst/>
              <a:gdLst/>
              <a:ahLst/>
              <a:rect l="l" t="t" r="r" b="b"/>
              <a:pathLst>
                <a:path w="504" h="588">
                  <a:moveTo>
                    <a:pt x="277" y="0"/>
                  </a:moveTo>
                  <a:lnTo>
                    <a:pt x="273" y="32"/>
                  </a:lnTo>
                  <a:lnTo>
                    <a:pt x="291" y="88"/>
                  </a:lnTo>
                  <a:lnTo>
                    <a:pt x="357" y="105"/>
                  </a:lnTo>
                  <a:lnTo>
                    <a:pt x="399" y="102"/>
                  </a:lnTo>
                  <a:lnTo>
                    <a:pt x="469" y="91"/>
                  </a:lnTo>
                  <a:lnTo>
                    <a:pt x="504" y="60"/>
                  </a:lnTo>
                  <a:lnTo>
                    <a:pt x="430" y="189"/>
                  </a:lnTo>
                  <a:lnTo>
                    <a:pt x="343" y="193"/>
                  </a:lnTo>
                  <a:lnTo>
                    <a:pt x="259" y="182"/>
                  </a:lnTo>
                  <a:lnTo>
                    <a:pt x="287" y="196"/>
                  </a:lnTo>
                  <a:lnTo>
                    <a:pt x="361" y="217"/>
                  </a:lnTo>
                  <a:lnTo>
                    <a:pt x="423" y="207"/>
                  </a:lnTo>
                  <a:lnTo>
                    <a:pt x="420" y="284"/>
                  </a:lnTo>
                  <a:lnTo>
                    <a:pt x="406" y="382"/>
                  </a:lnTo>
                  <a:lnTo>
                    <a:pt x="329" y="445"/>
                  </a:lnTo>
                  <a:lnTo>
                    <a:pt x="252" y="462"/>
                  </a:lnTo>
                  <a:lnTo>
                    <a:pt x="147" y="473"/>
                  </a:lnTo>
                  <a:lnTo>
                    <a:pt x="221" y="487"/>
                  </a:lnTo>
                  <a:lnTo>
                    <a:pt x="287" y="476"/>
                  </a:lnTo>
                  <a:lnTo>
                    <a:pt x="354" y="452"/>
                  </a:lnTo>
                  <a:lnTo>
                    <a:pt x="385" y="427"/>
                  </a:lnTo>
                  <a:lnTo>
                    <a:pt x="343" y="501"/>
                  </a:lnTo>
                  <a:lnTo>
                    <a:pt x="280" y="567"/>
                  </a:lnTo>
                  <a:lnTo>
                    <a:pt x="207" y="588"/>
                  </a:lnTo>
                  <a:lnTo>
                    <a:pt x="126" y="581"/>
                  </a:lnTo>
                  <a:lnTo>
                    <a:pt x="63" y="553"/>
                  </a:lnTo>
                  <a:lnTo>
                    <a:pt x="28" y="518"/>
                  </a:lnTo>
                  <a:lnTo>
                    <a:pt x="4" y="490"/>
                  </a:lnTo>
                  <a:lnTo>
                    <a:pt x="0" y="462"/>
                  </a:lnTo>
                  <a:lnTo>
                    <a:pt x="4" y="413"/>
                  </a:lnTo>
                  <a:lnTo>
                    <a:pt x="39" y="410"/>
                  </a:lnTo>
                  <a:lnTo>
                    <a:pt x="63" y="438"/>
                  </a:lnTo>
                  <a:lnTo>
                    <a:pt x="154" y="452"/>
                  </a:lnTo>
                  <a:lnTo>
                    <a:pt x="231" y="431"/>
                  </a:lnTo>
                  <a:lnTo>
                    <a:pt x="158" y="438"/>
                  </a:lnTo>
                  <a:lnTo>
                    <a:pt x="91" y="427"/>
                  </a:lnTo>
                  <a:lnTo>
                    <a:pt x="56" y="410"/>
                  </a:lnTo>
                  <a:lnTo>
                    <a:pt x="46" y="389"/>
                  </a:lnTo>
                  <a:lnTo>
                    <a:pt x="56" y="336"/>
                  </a:lnTo>
                  <a:lnTo>
                    <a:pt x="98" y="343"/>
                  </a:lnTo>
                  <a:lnTo>
                    <a:pt x="200" y="322"/>
                  </a:lnTo>
                  <a:lnTo>
                    <a:pt x="270" y="277"/>
                  </a:lnTo>
                  <a:lnTo>
                    <a:pt x="207" y="305"/>
                  </a:lnTo>
                  <a:lnTo>
                    <a:pt x="147" y="319"/>
                  </a:lnTo>
                  <a:lnTo>
                    <a:pt x="119" y="329"/>
                  </a:lnTo>
                  <a:lnTo>
                    <a:pt x="56" y="319"/>
                  </a:lnTo>
                  <a:lnTo>
                    <a:pt x="77" y="259"/>
                  </a:lnTo>
                  <a:lnTo>
                    <a:pt x="116" y="210"/>
                  </a:lnTo>
                  <a:lnTo>
                    <a:pt x="165" y="165"/>
                  </a:lnTo>
                  <a:lnTo>
                    <a:pt x="200" y="144"/>
                  </a:lnTo>
                  <a:lnTo>
                    <a:pt x="200" y="102"/>
                  </a:lnTo>
                  <a:lnTo>
                    <a:pt x="228" y="39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8022960" y="4645080"/>
              <a:ext cx="214560" cy="268200"/>
            </a:xfrm>
            <a:custGeom>
              <a:avLst/>
              <a:gdLst/>
              <a:ahLst/>
              <a:rect l="l" t="t" r="r" b="b"/>
              <a:pathLst>
                <a:path w="271" h="338">
                  <a:moveTo>
                    <a:pt x="39" y="7"/>
                  </a:moveTo>
                  <a:lnTo>
                    <a:pt x="49" y="0"/>
                  </a:lnTo>
                  <a:lnTo>
                    <a:pt x="46" y="93"/>
                  </a:lnTo>
                  <a:lnTo>
                    <a:pt x="56" y="137"/>
                  </a:lnTo>
                  <a:lnTo>
                    <a:pt x="91" y="173"/>
                  </a:lnTo>
                  <a:lnTo>
                    <a:pt x="134" y="191"/>
                  </a:lnTo>
                  <a:lnTo>
                    <a:pt x="210" y="221"/>
                  </a:lnTo>
                  <a:lnTo>
                    <a:pt x="271" y="271"/>
                  </a:lnTo>
                  <a:lnTo>
                    <a:pt x="184" y="249"/>
                  </a:lnTo>
                  <a:lnTo>
                    <a:pt x="125" y="256"/>
                  </a:lnTo>
                  <a:lnTo>
                    <a:pt x="93" y="266"/>
                  </a:lnTo>
                  <a:lnTo>
                    <a:pt x="72" y="277"/>
                  </a:lnTo>
                  <a:lnTo>
                    <a:pt x="11" y="338"/>
                  </a:lnTo>
                  <a:lnTo>
                    <a:pt x="18" y="273"/>
                  </a:lnTo>
                  <a:lnTo>
                    <a:pt x="8" y="221"/>
                  </a:lnTo>
                  <a:lnTo>
                    <a:pt x="0" y="165"/>
                  </a:lnTo>
                  <a:lnTo>
                    <a:pt x="2" y="119"/>
                  </a:lnTo>
                  <a:lnTo>
                    <a:pt x="4" y="86"/>
                  </a:lnTo>
                  <a:lnTo>
                    <a:pt x="39" y="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7784640" y="4673520"/>
              <a:ext cx="196920" cy="206280"/>
            </a:xfrm>
            <a:custGeom>
              <a:avLst/>
              <a:gdLst/>
              <a:ahLst/>
              <a:rect l="l" t="t" r="r" b="b"/>
              <a:pathLst>
                <a:path w="249" h="261">
                  <a:moveTo>
                    <a:pt x="0" y="254"/>
                  </a:moveTo>
                  <a:lnTo>
                    <a:pt x="24" y="208"/>
                  </a:lnTo>
                  <a:lnTo>
                    <a:pt x="76" y="110"/>
                  </a:lnTo>
                  <a:lnTo>
                    <a:pt x="109" y="82"/>
                  </a:lnTo>
                  <a:lnTo>
                    <a:pt x="137" y="51"/>
                  </a:lnTo>
                  <a:lnTo>
                    <a:pt x="156" y="23"/>
                  </a:lnTo>
                  <a:lnTo>
                    <a:pt x="165" y="0"/>
                  </a:lnTo>
                  <a:lnTo>
                    <a:pt x="198" y="56"/>
                  </a:lnTo>
                  <a:lnTo>
                    <a:pt x="210" y="91"/>
                  </a:lnTo>
                  <a:lnTo>
                    <a:pt x="237" y="152"/>
                  </a:lnTo>
                  <a:lnTo>
                    <a:pt x="245" y="194"/>
                  </a:lnTo>
                  <a:lnTo>
                    <a:pt x="249" y="233"/>
                  </a:lnTo>
                  <a:lnTo>
                    <a:pt x="249" y="261"/>
                  </a:lnTo>
                  <a:lnTo>
                    <a:pt x="216" y="222"/>
                  </a:lnTo>
                  <a:lnTo>
                    <a:pt x="177" y="196"/>
                  </a:lnTo>
                  <a:lnTo>
                    <a:pt x="137" y="182"/>
                  </a:lnTo>
                  <a:lnTo>
                    <a:pt x="100" y="182"/>
                  </a:lnTo>
                  <a:lnTo>
                    <a:pt x="73" y="193"/>
                  </a:lnTo>
                  <a:lnTo>
                    <a:pt x="49" y="215"/>
                  </a:lnTo>
                  <a:lnTo>
                    <a:pt x="0" y="25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7861320" y="4827600"/>
              <a:ext cx="272880" cy="1027080"/>
            </a:xfrm>
            <a:custGeom>
              <a:avLst/>
              <a:gdLst/>
              <a:ahLst/>
              <a:rect l="l" t="t" r="r" b="b"/>
              <a:pathLst>
                <a:path w="343" h="1295">
                  <a:moveTo>
                    <a:pt x="0" y="42"/>
                  </a:moveTo>
                  <a:lnTo>
                    <a:pt x="35" y="35"/>
                  </a:lnTo>
                  <a:lnTo>
                    <a:pt x="77" y="42"/>
                  </a:lnTo>
                  <a:lnTo>
                    <a:pt x="122" y="60"/>
                  </a:lnTo>
                  <a:lnTo>
                    <a:pt x="175" y="91"/>
                  </a:lnTo>
                  <a:lnTo>
                    <a:pt x="199" y="92"/>
                  </a:lnTo>
                  <a:lnTo>
                    <a:pt x="224" y="57"/>
                  </a:lnTo>
                  <a:lnTo>
                    <a:pt x="252" y="26"/>
                  </a:lnTo>
                  <a:lnTo>
                    <a:pt x="281" y="5"/>
                  </a:lnTo>
                  <a:lnTo>
                    <a:pt x="315" y="0"/>
                  </a:lnTo>
                  <a:lnTo>
                    <a:pt x="343" y="7"/>
                  </a:lnTo>
                  <a:lnTo>
                    <a:pt x="308" y="32"/>
                  </a:lnTo>
                  <a:lnTo>
                    <a:pt x="278" y="61"/>
                  </a:lnTo>
                  <a:lnTo>
                    <a:pt x="255" y="88"/>
                  </a:lnTo>
                  <a:lnTo>
                    <a:pt x="252" y="119"/>
                  </a:lnTo>
                  <a:lnTo>
                    <a:pt x="257" y="162"/>
                  </a:lnTo>
                  <a:lnTo>
                    <a:pt x="238" y="210"/>
                  </a:lnTo>
                  <a:lnTo>
                    <a:pt x="259" y="278"/>
                  </a:lnTo>
                  <a:lnTo>
                    <a:pt x="273" y="357"/>
                  </a:lnTo>
                  <a:lnTo>
                    <a:pt x="308" y="588"/>
                  </a:lnTo>
                  <a:lnTo>
                    <a:pt x="322" y="1295"/>
                  </a:lnTo>
                  <a:lnTo>
                    <a:pt x="140" y="1281"/>
                  </a:lnTo>
                  <a:lnTo>
                    <a:pt x="140" y="931"/>
                  </a:lnTo>
                  <a:lnTo>
                    <a:pt x="140" y="560"/>
                  </a:lnTo>
                  <a:lnTo>
                    <a:pt x="168" y="301"/>
                  </a:lnTo>
                  <a:lnTo>
                    <a:pt x="168" y="256"/>
                  </a:lnTo>
                  <a:lnTo>
                    <a:pt x="168" y="224"/>
                  </a:lnTo>
                  <a:lnTo>
                    <a:pt x="134" y="172"/>
                  </a:lnTo>
                  <a:lnTo>
                    <a:pt x="133" y="105"/>
                  </a:lnTo>
                  <a:lnTo>
                    <a:pt x="110" y="88"/>
                  </a:lnTo>
                  <a:lnTo>
                    <a:pt x="77" y="67"/>
                  </a:lnTo>
                  <a:lnTo>
                    <a:pt x="38" y="5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7708680" y="4041720"/>
              <a:ext cx="509760" cy="439560"/>
            </a:xfrm>
            <a:custGeom>
              <a:avLst/>
              <a:gdLst/>
              <a:ahLst/>
              <a:rect l="l" t="t" r="r" b="b"/>
              <a:pathLst>
                <a:path w="640" h="554">
                  <a:moveTo>
                    <a:pt x="586" y="496"/>
                  </a:moveTo>
                  <a:lnTo>
                    <a:pt x="604" y="463"/>
                  </a:lnTo>
                  <a:lnTo>
                    <a:pt x="625" y="400"/>
                  </a:lnTo>
                  <a:lnTo>
                    <a:pt x="625" y="323"/>
                  </a:lnTo>
                  <a:lnTo>
                    <a:pt x="640" y="262"/>
                  </a:lnTo>
                  <a:lnTo>
                    <a:pt x="626" y="219"/>
                  </a:lnTo>
                  <a:lnTo>
                    <a:pt x="614" y="161"/>
                  </a:lnTo>
                  <a:lnTo>
                    <a:pt x="588" y="121"/>
                  </a:lnTo>
                  <a:lnTo>
                    <a:pt x="553" y="90"/>
                  </a:lnTo>
                  <a:lnTo>
                    <a:pt x="497" y="58"/>
                  </a:lnTo>
                  <a:lnTo>
                    <a:pt x="442" y="34"/>
                  </a:lnTo>
                  <a:lnTo>
                    <a:pt x="411" y="23"/>
                  </a:lnTo>
                  <a:lnTo>
                    <a:pt x="377" y="3"/>
                  </a:lnTo>
                  <a:lnTo>
                    <a:pt x="337" y="0"/>
                  </a:lnTo>
                  <a:lnTo>
                    <a:pt x="265" y="17"/>
                  </a:lnTo>
                  <a:lnTo>
                    <a:pt x="195" y="35"/>
                  </a:lnTo>
                  <a:lnTo>
                    <a:pt x="153" y="52"/>
                  </a:lnTo>
                  <a:lnTo>
                    <a:pt x="114" y="69"/>
                  </a:lnTo>
                  <a:lnTo>
                    <a:pt x="94" y="98"/>
                  </a:lnTo>
                  <a:lnTo>
                    <a:pt x="74" y="129"/>
                  </a:lnTo>
                  <a:lnTo>
                    <a:pt x="56" y="170"/>
                  </a:lnTo>
                  <a:lnTo>
                    <a:pt x="32" y="224"/>
                  </a:lnTo>
                  <a:lnTo>
                    <a:pt x="7" y="294"/>
                  </a:lnTo>
                  <a:lnTo>
                    <a:pt x="0" y="360"/>
                  </a:lnTo>
                  <a:lnTo>
                    <a:pt x="10" y="423"/>
                  </a:lnTo>
                  <a:lnTo>
                    <a:pt x="43" y="464"/>
                  </a:lnTo>
                  <a:lnTo>
                    <a:pt x="190" y="554"/>
                  </a:lnTo>
                  <a:lnTo>
                    <a:pt x="586" y="49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750080" y="4271760"/>
              <a:ext cx="433440" cy="476280"/>
            </a:xfrm>
            <a:custGeom>
              <a:avLst/>
              <a:gdLst/>
              <a:ahLst/>
              <a:rect l="l" t="t" r="r" b="b"/>
              <a:pathLst>
                <a:path w="547" h="600">
                  <a:moveTo>
                    <a:pt x="78" y="116"/>
                  </a:moveTo>
                  <a:lnTo>
                    <a:pt x="52" y="74"/>
                  </a:lnTo>
                  <a:lnTo>
                    <a:pt x="33" y="73"/>
                  </a:lnTo>
                  <a:lnTo>
                    <a:pt x="14" y="84"/>
                  </a:lnTo>
                  <a:lnTo>
                    <a:pt x="5" y="108"/>
                  </a:lnTo>
                  <a:lnTo>
                    <a:pt x="0" y="133"/>
                  </a:lnTo>
                  <a:lnTo>
                    <a:pt x="7" y="189"/>
                  </a:lnTo>
                  <a:lnTo>
                    <a:pt x="12" y="210"/>
                  </a:lnTo>
                  <a:lnTo>
                    <a:pt x="21" y="242"/>
                  </a:lnTo>
                  <a:lnTo>
                    <a:pt x="31" y="250"/>
                  </a:lnTo>
                  <a:lnTo>
                    <a:pt x="43" y="251"/>
                  </a:lnTo>
                  <a:lnTo>
                    <a:pt x="42" y="298"/>
                  </a:lnTo>
                  <a:lnTo>
                    <a:pt x="45" y="354"/>
                  </a:lnTo>
                  <a:lnTo>
                    <a:pt x="59" y="396"/>
                  </a:lnTo>
                  <a:lnTo>
                    <a:pt x="98" y="462"/>
                  </a:lnTo>
                  <a:lnTo>
                    <a:pt x="121" y="490"/>
                  </a:lnTo>
                  <a:lnTo>
                    <a:pt x="150" y="522"/>
                  </a:lnTo>
                  <a:lnTo>
                    <a:pt x="177" y="547"/>
                  </a:lnTo>
                  <a:lnTo>
                    <a:pt x="208" y="571"/>
                  </a:lnTo>
                  <a:lnTo>
                    <a:pt x="237" y="585"/>
                  </a:lnTo>
                  <a:lnTo>
                    <a:pt x="271" y="595"/>
                  </a:lnTo>
                  <a:lnTo>
                    <a:pt x="314" y="600"/>
                  </a:lnTo>
                  <a:lnTo>
                    <a:pt x="349" y="593"/>
                  </a:lnTo>
                  <a:lnTo>
                    <a:pt x="365" y="581"/>
                  </a:lnTo>
                  <a:lnTo>
                    <a:pt x="380" y="564"/>
                  </a:lnTo>
                  <a:lnTo>
                    <a:pt x="396" y="536"/>
                  </a:lnTo>
                  <a:lnTo>
                    <a:pt x="410" y="516"/>
                  </a:lnTo>
                  <a:lnTo>
                    <a:pt x="428" y="477"/>
                  </a:lnTo>
                  <a:lnTo>
                    <a:pt x="435" y="448"/>
                  </a:lnTo>
                  <a:lnTo>
                    <a:pt x="447" y="420"/>
                  </a:lnTo>
                  <a:lnTo>
                    <a:pt x="465" y="399"/>
                  </a:lnTo>
                  <a:lnTo>
                    <a:pt x="485" y="364"/>
                  </a:lnTo>
                  <a:lnTo>
                    <a:pt x="500" y="329"/>
                  </a:lnTo>
                  <a:lnTo>
                    <a:pt x="518" y="280"/>
                  </a:lnTo>
                  <a:lnTo>
                    <a:pt x="524" y="237"/>
                  </a:lnTo>
                  <a:lnTo>
                    <a:pt x="533" y="210"/>
                  </a:lnTo>
                  <a:lnTo>
                    <a:pt x="547" y="181"/>
                  </a:lnTo>
                  <a:lnTo>
                    <a:pt x="540" y="152"/>
                  </a:lnTo>
                  <a:lnTo>
                    <a:pt x="540" y="115"/>
                  </a:lnTo>
                  <a:lnTo>
                    <a:pt x="536" y="76"/>
                  </a:lnTo>
                  <a:lnTo>
                    <a:pt x="534" y="37"/>
                  </a:lnTo>
                  <a:lnTo>
                    <a:pt x="496" y="54"/>
                  </a:lnTo>
                  <a:lnTo>
                    <a:pt x="456" y="67"/>
                  </a:lnTo>
                  <a:lnTo>
                    <a:pt x="375" y="81"/>
                  </a:lnTo>
                  <a:lnTo>
                    <a:pt x="302" y="77"/>
                  </a:lnTo>
                  <a:lnTo>
                    <a:pt x="239" y="67"/>
                  </a:lnTo>
                  <a:lnTo>
                    <a:pt x="194" y="42"/>
                  </a:lnTo>
                  <a:lnTo>
                    <a:pt x="167" y="18"/>
                  </a:lnTo>
                  <a:lnTo>
                    <a:pt x="142" y="0"/>
                  </a:lnTo>
                  <a:lnTo>
                    <a:pt x="132" y="42"/>
                  </a:lnTo>
                  <a:lnTo>
                    <a:pt x="145" y="84"/>
                  </a:lnTo>
                  <a:lnTo>
                    <a:pt x="127" y="137"/>
                  </a:lnTo>
                  <a:lnTo>
                    <a:pt x="117" y="193"/>
                  </a:lnTo>
                  <a:lnTo>
                    <a:pt x="92" y="179"/>
                  </a:lnTo>
                  <a:lnTo>
                    <a:pt x="78" y="116"/>
                  </a:lnTo>
                  <a:close/>
                </a:path>
              </a:pathLst>
            </a:custGeom>
            <a:solidFill>
              <a:srgbClr val="ffc080"/>
            </a:solidFill>
            <a:ln w="792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7764480" y="4422600"/>
              <a:ext cx="93600" cy="174600"/>
            </a:xfrm>
            <a:custGeom>
              <a:avLst/>
              <a:gdLst/>
              <a:ahLst/>
              <a:rect l="l" t="t" r="r" b="b"/>
              <a:pathLst>
                <a:path w="118" h="219">
                  <a:moveTo>
                    <a:pt x="24" y="8"/>
                  </a:moveTo>
                  <a:lnTo>
                    <a:pt x="19" y="18"/>
                  </a:lnTo>
                  <a:lnTo>
                    <a:pt x="14" y="36"/>
                  </a:lnTo>
                  <a:lnTo>
                    <a:pt x="0" y="45"/>
                  </a:lnTo>
                  <a:lnTo>
                    <a:pt x="6" y="65"/>
                  </a:lnTo>
                  <a:lnTo>
                    <a:pt x="4" y="96"/>
                  </a:lnTo>
                  <a:lnTo>
                    <a:pt x="2" y="143"/>
                  </a:lnTo>
                  <a:lnTo>
                    <a:pt x="0" y="178"/>
                  </a:lnTo>
                  <a:lnTo>
                    <a:pt x="9" y="219"/>
                  </a:lnTo>
                  <a:lnTo>
                    <a:pt x="11" y="206"/>
                  </a:lnTo>
                  <a:lnTo>
                    <a:pt x="7" y="170"/>
                  </a:lnTo>
                  <a:lnTo>
                    <a:pt x="9" y="128"/>
                  </a:lnTo>
                  <a:lnTo>
                    <a:pt x="11" y="110"/>
                  </a:lnTo>
                  <a:lnTo>
                    <a:pt x="13" y="72"/>
                  </a:lnTo>
                  <a:lnTo>
                    <a:pt x="19" y="53"/>
                  </a:lnTo>
                  <a:lnTo>
                    <a:pt x="26" y="39"/>
                  </a:lnTo>
                  <a:lnTo>
                    <a:pt x="37" y="32"/>
                  </a:lnTo>
                  <a:lnTo>
                    <a:pt x="52" y="25"/>
                  </a:lnTo>
                  <a:lnTo>
                    <a:pt x="75" y="24"/>
                  </a:lnTo>
                  <a:lnTo>
                    <a:pt x="107" y="26"/>
                  </a:lnTo>
                  <a:lnTo>
                    <a:pt x="118" y="24"/>
                  </a:lnTo>
                  <a:lnTo>
                    <a:pt x="102" y="12"/>
                  </a:lnTo>
                  <a:lnTo>
                    <a:pt x="82" y="3"/>
                  </a:lnTo>
                  <a:lnTo>
                    <a:pt x="65" y="10"/>
                  </a:lnTo>
                  <a:lnTo>
                    <a:pt x="68" y="1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905600" y="4400280"/>
              <a:ext cx="106560" cy="46080"/>
            </a:xfrm>
            <a:custGeom>
              <a:avLst/>
              <a:gdLst/>
              <a:ahLst/>
              <a:rect l="l" t="t" r="r" b="b"/>
              <a:pathLst>
                <a:path w="133" h="57">
                  <a:moveTo>
                    <a:pt x="0" y="15"/>
                  </a:moveTo>
                  <a:lnTo>
                    <a:pt x="52" y="26"/>
                  </a:lnTo>
                  <a:lnTo>
                    <a:pt x="84" y="32"/>
                  </a:lnTo>
                  <a:lnTo>
                    <a:pt x="107" y="43"/>
                  </a:lnTo>
                  <a:lnTo>
                    <a:pt x="122" y="57"/>
                  </a:lnTo>
                  <a:lnTo>
                    <a:pt x="133" y="45"/>
                  </a:lnTo>
                  <a:lnTo>
                    <a:pt x="131" y="32"/>
                  </a:lnTo>
                  <a:lnTo>
                    <a:pt x="119" y="17"/>
                  </a:lnTo>
                  <a:lnTo>
                    <a:pt x="119" y="26"/>
                  </a:lnTo>
                  <a:lnTo>
                    <a:pt x="75" y="1"/>
                  </a:lnTo>
                  <a:lnTo>
                    <a:pt x="72" y="15"/>
                  </a:lnTo>
                  <a:lnTo>
                    <a:pt x="45" y="0"/>
                  </a:lnTo>
                  <a:lnTo>
                    <a:pt x="48" y="10"/>
                  </a:lnTo>
                  <a:lnTo>
                    <a:pt x="34" y="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849800" y="4564080"/>
              <a:ext cx="90360" cy="55440"/>
            </a:xfrm>
            <a:custGeom>
              <a:avLst/>
              <a:gdLst/>
              <a:ahLst/>
              <a:rect l="l" t="t" r="r" b="b"/>
              <a:pathLst>
                <a:path w="114" h="70">
                  <a:moveTo>
                    <a:pt x="7" y="0"/>
                  </a:moveTo>
                  <a:lnTo>
                    <a:pt x="6" y="16"/>
                  </a:lnTo>
                  <a:lnTo>
                    <a:pt x="10" y="24"/>
                  </a:lnTo>
                  <a:lnTo>
                    <a:pt x="21" y="31"/>
                  </a:lnTo>
                  <a:lnTo>
                    <a:pt x="37" y="31"/>
                  </a:lnTo>
                  <a:lnTo>
                    <a:pt x="54" y="45"/>
                  </a:lnTo>
                  <a:lnTo>
                    <a:pt x="67" y="55"/>
                  </a:lnTo>
                  <a:lnTo>
                    <a:pt x="79" y="58"/>
                  </a:lnTo>
                  <a:lnTo>
                    <a:pt x="88" y="55"/>
                  </a:lnTo>
                  <a:lnTo>
                    <a:pt x="114" y="42"/>
                  </a:lnTo>
                  <a:lnTo>
                    <a:pt x="91" y="62"/>
                  </a:lnTo>
                  <a:lnTo>
                    <a:pt x="72" y="70"/>
                  </a:lnTo>
                  <a:lnTo>
                    <a:pt x="51" y="63"/>
                  </a:lnTo>
                  <a:lnTo>
                    <a:pt x="30" y="42"/>
                  </a:lnTo>
                  <a:lnTo>
                    <a:pt x="10" y="37"/>
                  </a:lnTo>
                  <a:lnTo>
                    <a:pt x="0" y="23"/>
                  </a:lnTo>
                  <a:lnTo>
                    <a:pt x="0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7897680" y="4674960"/>
              <a:ext cx="47520" cy="9720"/>
            </a:xfrm>
            <a:custGeom>
              <a:avLst/>
              <a:gdLst/>
              <a:ahLst/>
              <a:rect l="l" t="t" r="r" b="b"/>
              <a:pathLst>
                <a:path w="59" h="13">
                  <a:moveTo>
                    <a:pt x="0" y="6"/>
                  </a:moveTo>
                  <a:lnTo>
                    <a:pt x="24" y="0"/>
                  </a:lnTo>
                  <a:lnTo>
                    <a:pt x="59" y="2"/>
                  </a:lnTo>
                  <a:lnTo>
                    <a:pt x="24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7867080" y="4633920"/>
              <a:ext cx="117720" cy="27000"/>
            </a:xfrm>
            <a:custGeom>
              <a:avLst/>
              <a:gdLst/>
              <a:ahLst/>
              <a:rect l="l" t="t" r="r" b="b"/>
              <a:pathLst>
                <a:path w="148" h="33">
                  <a:moveTo>
                    <a:pt x="148" y="17"/>
                  </a:moveTo>
                  <a:lnTo>
                    <a:pt x="142" y="33"/>
                  </a:lnTo>
                  <a:lnTo>
                    <a:pt x="121" y="23"/>
                  </a:lnTo>
                  <a:lnTo>
                    <a:pt x="100" y="23"/>
                  </a:lnTo>
                  <a:lnTo>
                    <a:pt x="68" y="18"/>
                  </a:lnTo>
                  <a:lnTo>
                    <a:pt x="22" y="17"/>
                  </a:lnTo>
                  <a:lnTo>
                    <a:pt x="0" y="27"/>
                  </a:lnTo>
                  <a:lnTo>
                    <a:pt x="3" y="13"/>
                  </a:lnTo>
                  <a:lnTo>
                    <a:pt x="17" y="0"/>
                  </a:lnTo>
                  <a:lnTo>
                    <a:pt x="40" y="9"/>
                  </a:lnTo>
                  <a:lnTo>
                    <a:pt x="82" y="11"/>
                  </a:lnTo>
                  <a:lnTo>
                    <a:pt x="102" y="16"/>
                  </a:lnTo>
                  <a:lnTo>
                    <a:pt x="120" y="14"/>
                  </a:lnTo>
                  <a:lnTo>
                    <a:pt x="137" y="20"/>
                  </a:lnTo>
                  <a:lnTo>
                    <a:pt x="148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7783560" y="4459320"/>
              <a:ext cx="56880" cy="34920"/>
            </a:xfrm>
            <a:custGeom>
              <a:avLst/>
              <a:gdLst/>
              <a:ahLst/>
              <a:rect l="l" t="t" r="r" b="b"/>
              <a:pathLst>
                <a:path w="72" h="43">
                  <a:moveTo>
                    <a:pt x="1" y="12"/>
                  </a:moveTo>
                  <a:lnTo>
                    <a:pt x="2" y="20"/>
                  </a:lnTo>
                  <a:lnTo>
                    <a:pt x="0" y="27"/>
                  </a:lnTo>
                  <a:lnTo>
                    <a:pt x="0" y="35"/>
                  </a:lnTo>
                  <a:lnTo>
                    <a:pt x="4" y="43"/>
                  </a:lnTo>
                  <a:lnTo>
                    <a:pt x="7" y="26"/>
                  </a:lnTo>
                  <a:lnTo>
                    <a:pt x="19" y="33"/>
                  </a:lnTo>
                  <a:lnTo>
                    <a:pt x="31" y="34"/>
                  </a:lnTo>
                  <a:lnTo>
                    <a:pt x="49" y="32"/>
                  </a:lnTo>
                  <a:lnTo>
                    <a:pt x="58" y="23"/>
                  </a:lnTo>
                  <a:lnTo>
                    <a:pt x="72" y="18"/>
                  </a:lnTo>
                  <a:lnTo>
                    <a:pt x="66" y="9"/>
                  </a:lnTo>
                  <a:lnTo>
                    <a:pt x="46" y="1"/>
                  </a:lnTo>
                  <a:lnTo>
                    <a:pt x="26" y="0"/>
                  </a:lnTo>
                  <a:lnTo>
                    <a:pt x="7" y="7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7786080" y="4451400"/>
              <a:ext cx="42840" cy="10800"/>
            </a:xfrm>
            <a:custGeom>
              <a:avLst/>
              <a:gdLst/>
              <a:ahLst/>
              <a:rect l="l" t="t" r="r" b="b"/>
              <a:pathLst>
                <a:path w="52" h="14">
                  <a:moveTo>
                    <a:pt x="0" y="8"/>
                  </a:moveTo>
                  <a:lnTo>
                    <a:pt x="17" y="3"/>
                  </a:lnTo>
                  <a:lnTo>
                    <a:pt x="33" y="5"/>
                  </a:lnTo>
                  <a:lnTo>
                    <a:pt x="52" y="14"/>
                  </a:lnTo>
                  <a:lnTo>
                    <a:pt x="37" y="3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7821000" y="4467240"/>
              <a:ext cx="9720" cy="158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5"/>
                  </a:moveTo>
                  <a:lnTo>
                    <a:pt x="0" y="10"/>
                  </a:lnTo>
                  <a:lnTo>
                    <a:pt x="8" y="18"/>
                  </a:lnTo>
                  <a:lnTo>
                    <a:pt x="13" y="20"/>
                  </a:lnTo>
                  <a:lnTo>
                    <a:pt x="11" y="9"/>
                  </a:lnTo>
                  <a:lnTo>
                    <a:pt x="1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7924680" y="4430520"/>
              <a:ext cx="77760" cy="54000"/>
              <a:chOff x="7924680" y="4430520"/>
              <a:chExt cx="77760" cy="54000"/>
            </a:xfrm>
          </p:grpSpPr>
          <p:sp>
            <p:nvSpPr>
              <p:cNvPr id="721" name=""/>
              <p:cNvSpPr/>
              <p:nvPr/>
            </p:nvSpPr>
            <p:spPr>
              <a:xfrm flipH="1">
                <a:off x="7924680" y="4443480"/>
                <a:ext cx="77760" cy="4104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0" y="6"/>
                    </a:moveTo>
                    <a:lnTo>
                      <a:pt x="15" y="12"/>
                    </a:lnTo>
                    <a:lnTo>
                      <a:pt x="23" y="26"/>
                    </a:lnTo>
                    <a:lnTo>
                      <a:pt x="37" y="33"/>
                    </a:lnTo>
                    <a:lnTo>
                      <a:pt x="50" y="37"/>
                    </a:lnTo>
                    <a:lnTo>
                      <a:pt x="65" y="37"/>
                    </a:lnTo>
                    <a:lnTo>
                      <a:pt x="82" y="29"/>
                    </a:lnTo>
                    <a:lnTo>
                      <a:pt x="86" y="35"/>
                    </a:lnTo>
                    <a:lnTo>
                      <a:pt x="79" y="54"/>
                    </a:lnTo>
                    <a:lnTo>
                      <a:pt x="89" y="42"/>
                    </a:lnTo>
                    <a:lnTo>
                      <a:pt x="93" y="26"/>
                    </a:lnTo>
                    <a:lnTo>
                      <a:pt x="96" y="15"/>
                    </a:lnTo>
                    <a:lnTo>
                      <a:pt x="92" y="8"/>
                    </a:lnTo>
                    <a:lnTo>
                      <a:pt x="61" y="1"/>
                    </a:lnTo>
                    <a:lnTo>
                      <a:pt x="3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7930800" y="4430520"/>
                <a:ext cx="52200" cy="12960"/>
              </a:xfrm>
              <a:custGeom>
                <a:avLst/>
                <a:gdLst/>
                <a:ahLst/>
                <a:rect l="l" t="t" r="r" b="b"/>
                <a:pathLst>
                  <a:path w="66" h="15">
                    <a:moveTo>
                      <a:pt x="66" y="15"/>
                    </a:moveTo>
                    <a:lnTo>
                      <a:pt x="50" y="12"/>
                    </a:lnTo>
                    <a:lnTo>
                      <a:pt x="28" y="6"/>
                    </a:lnTo>
                    <a:lnTo>
                      <a:pt x="0" y="5"/>
                    </a:lnTo>
                    <a:lnTo>
                      <a:pt x="24" y="0"/>
                    </a:lnTo>
                    <a:lnTo>
                      <a:pt x="47" y="2"/>
                    </a:lnTo>
                    <a:lnTo>
                      <a:pt x="66" y="15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7968600" y="4451400"/>
                <a:ext cx="16200" cy="1404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2"/>
                    </a:moveTo>
                    <a:lnTo>
                      <a:pt x="8" y="14"/>
                    </a:lnTo>
                    <a:lnTo>
                      <a:pt x="20" y="17"/>
                    </a:lnTo>
                    <a:lnTo>
                      <a:pt x="17" y="8"/>
                    </a:lnTo>
                    <a:lnTo>
                      <a:pt x="18" y="0"/>
                    </a:lnTo>
                    <a:lnTo>
                      <a:pt x="9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7932600" y="44542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5" y="0"/>
                    </a:moveTo>
                    <a:lnTo>
                      <a:pt x="13" y="7"/>
                    </a:lnTo>
                    <a:lnTo>
                      <a:pt x="0" y="1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 flipH="1">
              <a:off x="7791480" y="4468680"/>
              <a:ext cx="1080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6" y="0"/>
                  </a:moveTo>
                  <a:lnTo>
                    <a:pt x="5" y="6"/>
                  </a:lnTo>
                  <a:lnTo>
                    <a:pt x="0" y="14"/>
                  </a:lnTo>
                  <a:lnTo>
                    <a:pt x="13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8134200" y="4394160"/>
              <a:ext cx="22320" cy="44280"/>
            </a:xfrm>
            <a:custGeom>
              <a:avLst/>
              <a:gdLst/>
              <a:ahLst/>
              <a:rect l="l" t="t" r="r" b="b"/>
              <a:pathLst>
                <a:path w="28" h="56">
                  <a:moveTo>
                    <a:pt x="28" y="0"/>
                  </a:moveTo>
                  <a:lnTo>
                    <a:pt x="14" y="17"/>
                  </a:lnTo>
                  <a:lnTo>
                    <a:pt x="11" y="33"/>
                  </a:lnTo>
                  <a:lnTo>
                    <a:pt x="17" y="56"/>
                  </a:lnTo>
                  <a:lnTo>
                    <a:pt x="4" y="42"/>
                  </a:lnTo>
                  <a:lnTo>
                    <a:pt x="0" y="19"/>
                  </a:lnTo>
                  <a:lnTo>
                    <a:pt x="2" y="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8137080" y="4349520"/>
              <a:ext cx="34920" cy="92160"/>
            </a:xfrm>
            <a:custGeom>
              <a:avLst/>
              <a:gdLst/>
              <a:ahLst/>
              <a:rect l="l" t="t" r="r" b="b"/>
              <a:pathLst>
                <a:path w="44" h="116">
                  <a:moveTo>
                    <a:pt x="44" y="26"/>
                  </a:moveTo>
                  <a:lnTo>
                    <a:pt x="40" y="7"/>
                  </a:lnTo>
                  <a:lnTo>
                    <a:pt x="29" y="0"/>
                  </a:lnTo>
                  <a:lnTo>
                    <a:pt x="13" y="0"/>
                  </a:lnTo>
                  <a:lnTo>
                    <a:pt x="1" y="24"/>
                  </a:lnTo>
                  <a:lnTo>
                    <a:pt x="0" y="49"/>
                  </a:lnTo>
                  <a:lnTo>
                    <a:pt x="2" y="81"/>
                  </a:lnTo>
                  <a:lnTo>
                    <a:pt x="10" y="116"/>
                  </a:lnTo>
                  <a:lnTo>
                    <a:pt x="16" y="116"/>
                  </a:lnTo>
                  <a:lnTo>
                    <a:pt x="8" y="89"/>
                  </a:lnTo>
                  <a:lnTo>
                    <a:pt x="5" y="56"/>
                  </a:lnTo>
                  <a:lnTo>
                    <a:pt x="8" y="34"/>
                  </a:lnTo>
                  <a:lnTo>
                    <a:pt x="15" y="19"/>
                  </a:lnTo>
                  <a:lnTo>
                    <a:pt x="28" y="14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7313400" y="5246640"/>
              <a:ext cx="928800" cy="733320"/>
            </a:xfrm>
            <a:custGeom>
              <a:avLst/>
              <a:gdLst/>
              <a:ahLst/>
              <a:rect l="l" t="t" r="r" b="b"/>
              <a:pathLst>
                <a:path w="1169" h="923">
                  <a:moveTo>
                    <a:pt x="1033" y="0"/>
                  </a:moveTo>
                  <a:lnTo>
                    <a:pt x="1012" y="73"/>
                  </a:lnTo>
                  <a:lnTo>
                    <a:pt x="977" y="147"/>
                  </a:lnTo>
                  <a:lnTo>
                    <a:pt x="935" y="224"/>
                  </a:lnTo>
                  <a:lnTo>
                    <a:pt x="875" y="297"/>
                  </a:lnTo>
                  <a:lnTo>
                    <a:pt x="812" y="378"/>
                  </a:lnTo>
                  <a:lnTo>
                    <a:pt x="742" y="444"/>
                  </a:lnTo>
                  <a:lnTo>
                    <a:pt x="658" y="493"/>
                  </a:lnTo>
                  <a:lnTo>
                    <a:pt x="567" y="545"/>
                  </a:lnTo>
                  <a:lnTo>
                    <a:pt x="490" y="577"/>
                  </a:lnTo>
                  <a:lnTo>
                    <a:pt x="406" y="612"/>
                  </a:lnTo>
                  <a:lnTo>
                    <a:pt x="308" y="675"/>
                  </a:lnTo>
                  <a:lnTo>
                    <a:pt x="207" y="738"/>
                  </a:lnTo>
                  <a:lnTo>
                    <a:pt x="102" y="804"/>
                  </a:lnTo>
                  <a:lnTo>
                    <a:pt x="49" y="839"/>
                  </a:lnTo>
                  <a:lnTo>
                    <a:pt x="18" y="874"/>
                  </a:lnTo>
                  <a:lnTo>
                    <a:pt x="0" y="923"/>
                  </a:lnTo>
                  <a:lnTo>
                    <a:pt x="137" y="923"/>
                  </a:lnTo>
                  <a:lnTo>
                    <a:pt x="158" y="888"/>
                  </a:lnTo>
                  <a:lnTo>
                    <a:pt x="200" y="857"/>
                  </a:lnTo>
                  <a:lnTo>
                    <a:pt x="249" y="832"/>
                  </a:lnTo>
                  <a:lnTo>
                    <a:pt x="322" y="797"/>
                  </a:lnTo>
                  <a:lnTo>
                    <a:pt x="441" y="738"/>
                  </a:lnTo>
                  <a:lnTo>
                    <a:pt x="539" y="696"/>
                  </a:lnTo>
                  <a:lnTo>
                    <a:pt x="616" y="654"/>
                  </a:lnTo>
                  <a:lnTo>
                    <a:pt x="697" y="619"/>
                  </a:lnTo>
                  <a:lnTo>
                    <a:pt x="777" y="573"/>
                  </a:lnTo>
                  <a:lnTo>
                    <a:pt x="844" y="528"/>
                  </a:lnTo>
                  <a:lnTo>
                    <a:pt x="900" y="472"/>
                  </a:lnTo>
                  <a:lnTo>
                    <a:pt x="956" y="409"/>
                  </a:lnTo>
                  <a:lnTo>
                    <a:pt x="1012" y="346"/>
                  </a:lnTo>
                  <a:lnTo>
                    <a:pt x="1064" y="276"/>
                  </a:lnTo>
                  <a:lnTo>
                    <a:pt x="1117" y="192"/>
                  </a:lnTo>
                  <a:lnTo>
                    <a:pt x="1141" y="133"/>
                  </a:lnTo>
                  <a:lnTo>
                    <a:pt x="1169" y="56"/>
                  </a:lnTo>
                  <a:lnTo>
                    <a:pt x="1033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7767360" y="5676840"/>
              <a:ext cx="451080" cy="245880"/>
              <a:chOff x="7767360" y="5676840"/>
              <a:chExt cx="451080" cy="245880"/>
            </a:xfrm>
          </p:grpSpPr>
          <p:sp>
            <p:nvSpPr>
              <p:cNvPr id="730" name=""/>
              <p:cNvSpPr/>
              <p:nvPr/>
            </p:nvSpPr>
            <p:spPr>
              <a:xfrm flipH="1">
                <a:off x="7767000" y="5676840"/>
                <a:ext cx="451080" cy="245880"/>
              </a:xfrm>
              <a:custGeom>
                <a:avLst/>
                <a:gdLst/>
                <a:ahLst/>
                <a:rect l="l" t="t" r="r" b="b"/>
                <a:pathLst>
                  <a:path w="568" h="310">
                    <a:moveTo>
                      <a:pt x="93" y="16"/>
                    </a:moveTo>
                    <a:lnTo>
                      <a:pt x="245" y="0"/>
                    </a:lnTo>
                    <a:lnTo>
                      <a:pt x="350" y="7"/>
                    </a:lnTo>
                    <a:lnTo>
                      <a:pt x="416" y="34"/>
                    </a:lnTo>
                    <a:lnTo>
                      <a:pt x="462" y="48"/>
                    </a:lnTo>
                    <a:lnTo>
                      <a:pt x="484" y="66"/>
                    </a:lnTo>
                    <a:lnTo>
                      <a:pt x="515" y="90"/>
                    </a:lnTo>
                    <a:lnTo>
                      <a:pt x="562" y="129"/>
                    </a:lnTo>
                    <a:lnTo>
                      <a:pt x="568" y="156"/>
                    </a:lnTo>
                    <a:lnTo>
                      <a:pt x="554" y="175"/>
                    </a:lnTo>
                    <a:lnTo>
                      <a:pt x="514" y="181"/>
                    </a:lnTo>
                    <a:lnTo>
                      <a:pt x="518" y="206"/>
                    </a:lnTo>
                    <a:lnTo>
                      <a:pt x="514" y="225"/>
                    </a:lnTo>
                    <a:lnTo>
                      <a:pt x="495" y="234"/>
                    </a:lnTo>
                    <a:lnTo>
                      <a:pt x="478" y="234"/>
                    </a:lnTo>
                    <a:lnTo>
                      <a:pt x="471" y="267"/>
                    </a:lnTo>
                    <a:lnTo>
                      <a:pt x="456" y="279"/>
                    </a:lnTo>
                    <a:lnTo>
                      <a:pt x="427" y="276"/>
                    </a:lnTo>
                    <a:lnTo>
                      <a:pt x="407" y="303"/>
                    </a:lnTo>
                    <a:lnTo>
                      <a:pt x="333" y="307"/>
                    </a:lnTo>
                    <a:lnTo>
                      <a:pt x="258" y="310"/>
                    </a:lnTo>
                    <a:lnTo>
                      <a:pt x="209" y="301"/>
                    </a:lnTo>
                    <a:lnTo>
                      <a:pt x="149" y="272"/>
                    </a:lnTo>
                    <a:lnTo>
                      <a:pt x="85" y="234"/>
                    </a:lnTo>
                    <a:lnTo>
                      <a:pt x="45" y="220"/>
                    </a:lnTo>
                    <a:lnTo>
                      <a:pt x="21" y="220"/>
                    </a:lnTo>
                    <a:lnTo>
                      <a:pt x="9" y="192"/>
                    </a:lnTo>
                    <a:lnTo>
                      <a:pt x="0" y="143"/>
                    </a:lnTo>
                    <a:lnTo>
                      <a:pt x="6" y="104"/>
                    </a:lnTo>
                    <a:lnTo>
                      <a:pt x="14" y="69"/>
                    </a:lnTo>
                    <a:lnTo>
                      <a:pt x="59" y="38"/>
                    </a:lnTo>
                    <a:lnTo>
                      <a:pt x="93" y="16"/>
                    </a:lnTo>
                    <a:close/>
                  </a:path>
                </a:pathLst>
              </a:custGeom>
              <a:solidFill>
                <a:srgbClr val="ffc080"/>
              </a:solidFill>
              <a:ln w="792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7826400" y="5770440"/>
                <a:ext cx="109440" cy="38160"/>
              </a:xfrm>
              <a:custGeom>
                <a:avLst/>
                <a:gdLst/>
                <a:ahLst/>
                <a:rect l="l" t="t" r="r" b="b"/>
                <a:pathLst>
                  <a:path w="139" h="47">
                    <a:moveTo>
                      <a:pt x="139" y="47"/>
                    </a:moveTo>
                    <a:lnTo>
                      <a:pt x="77" y="11"/>
                    </a:lnTo>
                    <a:lnTo>
                      <a:pt x="41" y="0"/>
                    </a:lnTo>
                    <a:lnTo>
                      <a:pt x="0" y="12"/>
                    </a:lnTo>
                    <a:lnTo>
                      <a:pt x="50" y="25"/>
                    </a:lnTo>
                    <a:lnTo>
                      <a:pt x="139" y="47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7854840" y="5840280"/>
                <a:ext cx="108000" cy="15840"/>
              </a:xfrm>
              <a:custGeom>
                <a:avLst/>
                <a:gdLst/>
                <a:ahLst/>
                <a:rect l="l" t="t" r="r" b="b"/>
                <a:pathLst>
                  <a:path w="136" h="20">
                    <a:moveTo>
                      <a:pt x="136" y="15"/>
                    </a:moveTo>
                    <a:lnTo>
                      <a:pt x="86" y="6"/>
                    </a:lnTo>
                    <a:lnTo>
                      <a:pt x="51" y="0"/>
                    </a:lnTo>
                    <a:lnTo>
                      <a:pt x="0" y="14"/>
                    </a:lnTo>
                    <a:lnTo>
                      <a:pt x="57" y="20"/>
                    </a:lnTo>
                    <a:lnTo>
                      <a:pt x="136" y="15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7911720" y="5887800"/>
                <a:ext cx="58680" cy="9720"/>
              </a:xfrm>
              <a:custGeom>
                <a:avLst/>
                <a:gdLst/>
                <a:ahLst/>
                <a:rect l="l" t="t" r="r" b="b"/>
                <a:pathLst>
                  <a:path w="74" h="13">
                    <a:moveTo>
                      <a:pt x="74" y="4"/>
                    </a:moveTo>
                    <a:lnTo>
                      <a:pt x="29" y="0"/>
                    </a:lnTo>
                    <a:lnTo>
                      <a:pt x="0" y="13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7975080" y="5740200"/>
                <a:ext cx="17640" cy="55800"/>
              </a:xfrm>
              <a:custGeom>
                <a:avLst/>
                <a:gdLst/>
                <a:ahLst/>
                <a:rect l="l" t="t" r="r" b="b"/>
                <a:pathLst>
                  <a:path w="22" h="70">
                    <a:moveTo>
                      <a:pt x="1" y="0"/>
                    </a:moveTo>
                    <a:lnTo>
                      <a:pt x="10" y="29"/>
                    </a:lnTo>
                    <a:lnTo>
                      <a:pt x="22" y="47"/>
                    </a:lnTo>
                    <a:lnTo>
                      <a:pt x="0" y="7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7995960" y="5837040"/>
                <a:ext cx="14400" cy="47880"/>
              </a:xfrm>
              <a:custGeom>
                <a:avLst/>
                <a:gdLst/>
                <a:ahLst/>
                <a:rect l="l" t="t" r="r" b="b"/>
                <a:pathLst>
                  <a:path w="19" h="59">
                    <a:moveTo>
                      <a:pt x="19" y="19"/>
                    </a:moveTo>
                    <a:lnTo>
                      <a:pt x="0" y="0"/>
                    </a:lnTo>
                    <a:lnTo>
                      <a:pt x="9" y="5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7134120" y="5099040"/>
              <a:ext cx="324000" cy="349200"/>
              <a:chOff x="7134120" y="5099040"/>
              <a:chExt cx="324000" cy="349200"/>
            </a:xfrm>
          </p:grpSpPr>
          <p:sp>
            <p:nvSpPr>
              <p:cNvPr id="737" name=""/>
              <p:cNvSpPr/>
              <p:nvPr/>
            </p:nvSpPr>
            <p:spPr>
              <a:xfrm flipH="1">
                <a:off x="7146360" y="5325840"/>
                <a:ext cx="141480" cy="122400"/>
              </a:xfrm>
              <a:custGeom>
                <a:avLst/>
                <a:gdLst/>
                <a:ahLst/>
                <a:rect l="l" t="t" r="r" b="b"/>
                <a:pathLst>
                  <a:path w="178" h="154">
                    <a:moveTo>
                      <a:pt x="164" y="10"/>
                    </a:moveTo>
                    <a:lnTo>
                      <a:pt x="178" y="42"/>
                    </a:lnTo>
                    <a:lnTo>
                      <a:pt x="173" y="76"/>
                    </a:lnTo>
                    <a:lnTo>
                      <a:pt x="155" y="118"/>
                    </a:lnTo>
                    <a:lnTo>
                      <a:pt x="122" y="143"/>
                    </a:lnTo>
                    <a:lnTo>
                      <a:pt x="80" y="154"/>
                    </a:lnTo>
                    <a:lnTo>
                      <a:pt x="39" y="154"/>
                    </a:lnTo>
                    <a:lnTo>
                      <a:pt x="0" y="142"/>
                    </a:lnTo>
                    <a:lnTo>
                      <a:pt x="86" y="0"/>
                    </a:lnTo>
                    <a:lnTo>
                      <a:pt x="164" y="1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7134120" y="5099040"/>
                <a:ext cx="324000" cy="341280"/>
              </a:xfrm>
              <a:custGeom>
                <a:avLst/>
                <a:gdLst/>
                <a:ahLst/>
                <a:rect l="l" t="t" r="r" b="b"/>
                <a:pathLst>
                  <a:path w="408" h="429">
                    <a:moveTo>
                      <a:pt x="252" y="5"/>
                    </a:moveTo>
                    <a:lnTo>
                      <a:pt x="287" y="19"/>
                    </a:lnTo>
                    <a:lnTo>
                      <a:pt x="306" y="52"/>
                    </a:lnTo>
                    <a:lnTo>
                      <a:pt x="346" y="98"/>
                    </a:lnTo>
                    <a:lnTo>
                      <a:pt x="376" y="129"/>
                    </a:lnTo>
                    <a:lnTo>
                      <a:pt x="394" y="150"/>
                    </a:lnTo>
                    <a:lnTo>
                      <a:pt x="404" y="178"/>
                    </a:lnTo>
                    <a:lnTo>
                      <a:pt x="394" y="209"/>
                    </a:lnTo>
                    <a:lnTo>
                      <a:pt x="407" y="226"/>
                    </a:lnTo>
                    <a:lnTo>
                      <a:pt x="408" y="252"/>
                    </a:lnTo>
                    <a:lnTo>
                      <a:pt x="399" y="280"/>
                    </a:lnTo>
                    <a:lnTo>
                      <a:pt x="370" y="296"/>
                    </a:lnTo>
                    <a:lnTo>
                      <a:pt x="357" y="314"/>
                    </a:lnTo>
                    <a:lnTo>
                      <a:pt x="351" y="348"/>
                    </a:lnTo>
                    <a:lnTo>
                      <a:pt x="334" y="364"/>
                    </a:lnTo>
                    <a:lnTo>
                      <a:pt x="308" y="371"/>
                    </a:lnTo>
                    <a:lnTo>
                      <a:pt x="289" y="405"/>
                    </a:lnTo>
                    <a:lnTo>
                      <a:pt x="253" y="425"/>
                    </a:lnTo>
                    <a:lnTo>
                      <a:pt x="221" y="429"/>
                    </a:lnTo>
                    <a:lnTo>
                      <a:pt x="196" y="420"/>
                    </a:lnTo>
                    <a:lnTo>
                      <a:pt x="176" y="395"/>
                    </a:lnTo>
                    <a:lnTo>
                      <a:pt x="162" y="366"/>
                    </a:lnTo>
                    <a:lnTo>
                      <a:pt x="162" y="330"/>
                    </a:lnTo>
                    <a:lnTo>
                      <a:pt x="169" y="309"/>
                    </a:lnTo>
                    <a:lnTo>
                      <a:pt x="134" y="275"/>
                    </a:lnTo>
                    <a:lnTo>
                      <a:pt x="74" y="251"/>
                    </a:lnTo>
                    <a:lnTo>
                      <a:pt x="47" y="238"/>
                    </a:lnTo>
                    <a:lnTo>
                      <a:pt x="40" y="217"/>
                    </a:lnTo>
                    <a:lnTo>
                      <a:pt x="42" y="192"/>
                    </a:lnTo>
                    <a:lnTo>
                      <a:pt x="16" y="178"/>
                    </a:lnTo>
                    <a:lnTo>
                      <a:pt x="5" y="141"/>
                    </a:lnTo>
                    <a:lnTo>
                      <a:pt x="14" y="112"/>
                    </a:lnTo>
                    <a:lnTo>
                      <a:pt x="0" y="86"/>
                    </a:lnTo>
                    <a:lnTo>
                      <a:pt x="2" y="57"/>
                    </a:lnTo>
                    <a:lnTo>
                      <a:pt x="26" y="38"/>
                    </a:lnTo>
                    <a:lnTo>
                      <a:pt x="65" y="35"/>
                    </a:lnTo>
                    <a:lnTo>
                      <a:pt x="84" y="6"/>
                    </a:lnTo>
                    <a:lnTo>
                      <a:pt x="107" y="0"/>
                    </a:lnTo>
                    <a:lnTo>
                      <a:pt x="141" y="5"/>
                    </a:lnTo>
                    <a:lnTo>
                      <a:pt x="210" y="0"/>
                    </a:lnTo>
                    <a:lnTo>
                      <a:pt x="252" y="5"/>
                    </a:lnTo>
                    <a:close/>
                  </a:path>
                </a:pathLst>
              </a:custGeom>
              <a:solidFill>
                <a:srgbClr val="ffc080"/>
              </a:solidFill>
              <a:ln w="792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7235280" y="5259240"/>
                <a:ext cx="158760" cy="82440"/>
              </a:xfrm>
              <a:custGeom>
                <a:avLst/>
                <a:gdLst/>
                <a:ahLst/>
                <a:rect l="l" t="t" r="r" b="b"/>
                <a:pathLst>
                  <a:path w="199" h="104">
                    <a:moveTo>
                      <a:pt x="0" y="0"/>
                    </a:moveTo>
                    <a:lnTo>
                      <a:pt x="66" y="15"/>
                    </a:lnTo>
                    <a:lnTo>
                      <a:pt x="108" y="29"/>
                    </a:lnTo>
                    <a:lnTo>
                      <a:pt x="199" y="104"/>
                    </a:lnTo>
                    <a:lnTo>
                      <a:pt x="134" y="67"/>
                    </a:lnTo>
                    <a:lnTo>
                      <a:pt x="91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7194240" y="5182920"/>
                <a:ext cx="252720" cy="123840"/>
              </a:xfrm>
              <a:custGeom>
                <a:avLst/>
                <a:gdLst/>
                <a:ahLst/>
                <a:rect l="l" t="t" r="r" b="b"/>
                <a:pathLst>
                  <a:path w="318" h="156">
                    <a:moveTo>
                      <a:pt x="9" y="9"/>
                    </a:moveTo>
                    <a:lnTo>
                      <a:pt x="139" y="39"/>
                    </a:lnTo>
                    <a:lnTo>
                      <a:pt x="188" y="53"/>
                    </a:lnTo>
                    <a:lnTo>
                      <a:pt x="247" y="93"/>
                    </a:lnTo>
                    <a:lnTo>
                      <a:pt x="318" y="156"/>
                    </a:lnTo>
                    <a:lnTo>
                      <a:pt x="292" y="120"/>
                    </a:lnTo>
                    <a:lnTo>
                      <a:pt x="225" y="68"/>
                    </a:lnTo>
                    <a:lnTo>
                      <a:pt x="205" y="43"/>
                    </a:lnTo>
                    <a:lnTo>
                      <a:pt x="158" y="21"/>
                    </a:lnTo>
                    <a:lnTo>
                      <a:pt x="92" y="15"/>
                    </a:lnTo>
                    <a:lnTo>
                      <a:pt x="0" y="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7178400" y="5140080"/>
                <a:ext cx="209520" cy="100080"/>
              </a:xfrm>
              <a:custGeom>
                <a:avLst/>
                <a:gdLst/>
                <a:ahLst/>
                <a:rect l="l" t="t" r="r" b="b"/>
                <a:pathLst>
                  <a:path w="263" h="126">
                    <a:moveTo>
                      <a:pt x="0" y="0"/>
                    </a:moveTo>
                    <a:lnTo>
                      <a:pt x="92" y="17"/>
                    </a:lnTo>
                    <a:lnTo>
                      <a:pt x="150" y="31"/>
                    </a:lnTo>
                    <a:lnTo>
                      <a:pt x="189" y="59"/>
                    </a:lnTo>
                    <a:lnTo>
                      <a:pt x="217" y="89"/>
                    </a:lnTo>
                    <a:lnTo>
                      <a:pt x="263" y="126"/>
                    </a:lnTo>
                    <a:lnTo>
                      <a:pt x="235" y="97"/>
                    </a:lnTo>
                    <a:lnTo>
                      <a:pt x="186" y="44"/>
                    </a:lnTo>
                    <a:lnTo>
                      <a:pt x="160" y="14"/>
                    </a:lnTo>
                    <a:lnTo>
                      <a:pt x="127" y="5"/>
                    </a:lnTo>
                    <a:lnTo>
                      <a:pt x="9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7276680" y="5340240"/>
                <a:ext cx="52200" cy="47520"/>
              </a:xfrm>
              <a:custGeom>
                <a:avLst/>
                <a:gdLst/>
                <a:ahLst/>
                <a:rect l="l" t="t" r="r" b="b"/>
                <a:pathLst>
                  <a:path w="67" h="61">
                    <a:moveTo>
                      <a:pt x="10" y="0"/>
                    </a:moveTo>
                    <a:lnTo>
                      <a:pt x="40" y="45"/>
                    </a:lnTo>
                    <a:lnTo>
                      <a:pt x="67" y="61"/>
                    </a:lnTo>
                    <a:lnTo>
                      <a:pt x="31" y="55"/>
                    </a:lnTo>
                    <a:lnTo>
                      <a:pt x="0" y="4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7402320" y="514980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8" y="0"/>
                    </a:moveTo>
                    <a:lnTo>
                      <a:pt x="27" y="23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7402320" y="521496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0"/>
                    </a:moveTo>
                    <a:lnTo>
                      <a:pt x="14" y="15"/>
                    </a:lnTo>
                    <a:lnTo>
                      <a:pt x="0" y="1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7346520" y="511164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23" y="0"/>
                    </a:moveTo>
                    <a:lnTo>
                      <a:pt x="25" y="11"/>
                    </a:lnTo>
                    <a:lnTo>
                      <a:pt x="14" y="29"/>
                    </a:lnTo>
                    <a:lnTo>
                      <a:pt x="0" y="28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7373880" y="5256000"/>
                <a:ext cx="17280" cy="237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22" y="15"/>
                    </a:moveTo>
                    <a:lnTo>
                      <a:pt x="5" y="32"/>
                    </a:lnTo>
                    <a:lnTo>
                      <a:pt x="0" y="0"/>
                    </a:lnTo>
                    <a:lnTo>
                      <a:pt x="22" y="15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6548400" y="5129280"/>
              <a:ext cx="1490400" cy="1008000"/>
              <a:chOff x="6548400" y="5129280"/>
              <a:chExt cx="1490400" cy="1008000"/>
            </a:xfrm>
          </p:grpSpPr>
          <p:grpSp>
            <p:nvGrpSpPr>
              <p:cNvPr id="748" name=""/>
              <p:cNvGrpSpPr/>
              <p:nvPr/>
            </p:nvGrpSpPr>
            <p:grpSpPr>
              <a:xfrm>
                <a:off x="6548400" y="5709960"/>
                <a:ext cx="1490400" cy="427320"/>
                <a:chOff x="6548400" y="5709960"/>
                <a:chExt cx="1490400" cy="427320"/>
              </a:xfrm>
            </p:grpSpPr>
            <p:grpSp>
              <p:nvGrpSpPr>
                <p:cNvPr id="749" name=""/>
                <p:cNvGrpSpPr/>
                <p:nvPr/>
              </p:nvGrpSpPr>
              <p:grpSpPr>
                <a:xfrm>
                  <a:off x="6742080" y="5748120"/>
                  <a:ext cx="1296720" cy="389160"/>
                  <a:chOff x="6742080" y="5748120"/>
                  <a:chExt cx="1296720" cy="389160"/>
                </a:xfrm>
              </p:grpSpPr>
              <p:sp>
                <p:nvSpPr>
                  <p:cNvPr id="750" name=""/>
                  <p:cNvSpPr/>
                  <p:nvPr/>
                </p:nvSpPr>
                <p:spPr>
                  <a:xfrm flipH="1">
                    <a:off x="7279920" y="5823000"/>
                    <a:ext cx="75708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955" h="77">
                        <a:moveTo>
                          <a:pt x="0" y="77"/>
                        </a:moveTo>
                        <a:lnTo>
                          <a:pt x="318" y="70"/>
                        </a:lnTo>
                        <a:lnTo>
                          <a:pt x="955" y="14"/>
                        </a:lnTo>
                        <a:lnTo>
                          <a:pt x="703" y="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flipH="1">
                    <a:off x="7253280" y="5802120"/>
                    <a:ext cx="785520" cy="335160"/>
                  </a:xfrm>
                  <a:custGeom>
                    <a:avLst/>
                    <a:gdLst/>
                    <a:ahLst/>
                    <a:rect l="l" t="t" r="r" b="b"/>
                    <a:pathLst>
                      <a:path w="990" h="424">
                        <a:moveTo>
                          <a:pt x="0" y="103"/>
                        </a:moveTo>
                        <a:lnTo>
                          <a:pt x="326" y="94"/>
                        </a:lnTo>
                        <a:lnTo>
                          <a:pt x="382" y="0"/>
                        </a:lnTo>
                        <a:lnTo>
                          <a:pt x="990" y="46"/>
                        </a:lnTo>
                        <a:lnTo>
                          <a:pt x="990" y="424"/>
                        </a:lnTo>
                        <a:lnTo>
                          <a:pt x="0" y="187"/>
                        </a:lnTo>
                        <a:lnTo>
                          <a:pt x="0" y="103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flipH="1">
                    <a:off x="6743520" y="5763960"/>
                    <a:ext cx="509760" cy="373320"/>
                  </a:xfrm>
                  <a:custGeom>
                    <a:avLst/>
                    <a:gdLst/>
                    <a:ahLst/>
                    <a:rect l="l" t="t" r="r" b="b"/>
                    <a:pathLst>
                      <a:path w="643" h="470">
                        <a:moveTo>
                          <a:pt x="0" y="91"/>
                        </a:moveTo>
                        <a:lnTo>
                          <a:pt x="643" y="0"/>
                        </a:lnTo>
                        <a:lnTo>
                          <a:pt x="643" y="326"/>
                        </a:lnTo>
                        <a:lnTo>
                          <a:pt x="0" y="470"/>
                        </a:lnTo>
                        <a:lnTo>
                          <a:pt x="0" y="91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 flipH="1">
                    <a:off x="6741720" y="5748120"/>
                    <a:ext cx="9968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5" h="112">
                        <a:moveTo>
                          <a:pt x="0" y="66"/>
                        </a:moveTo>
                        <a:lnTo>
                          <a:pt x="609" y="112"/>
                        </a:lnTo>
                        <a:lnTo>
                          <a:pt x="1255" y="21"/>
                        </a:lnTo>
                        <a:lnTo>
                          <a:pt x="696" y="0"/>
                        </a:lnTo>
                        <a:lnTo>
                          <a:pt x="0" y="66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54" name=""/>
                  <p:cNvGrpSpPr/>
                  <p:nvPr/>
                </p:nvGrpSpPr>
                <p:grpSpPr>
                  <a:xfrm>
                    <a:off x="7094520" y="5848200"/>
                    <a:ext cx="122040" cy="88920"/>
                    <a:chOff x="7094520" y="5848200"/>
                    <a:chExt cx="122040" cy="88920"/>
                  </a:xfrm>
                </p:grpSpPr>
                <p:sp>
                  <p:nvSpPr>
                    <p:cNvPr id="755" name=""/>
                    <p:cNvSpPr/>
                    <p:nvPr/>
                  </p:nvSpPr>
                  <p:spPr>
                    <a:xfrm flipH="1" flipV="1">
                      <a:off x="7094520" y="5851080"/>
                      <a:ext cx="122040" cy="1908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 flipH="1" flipV="1">
                      <a:off x="7095960" y="5873760"/>
                      <a:ext cx="120600" cy="1728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 flipH="1" flipV="1">
                      <a:off x="7094520" y="5892840"/>
                      <a:ext cx="122040" cy="1728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 flipH="1">
                      <a:off x="7142040" y="5848200"/>
                      <a:ext cx="23760" cy="8892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59" name=""/>
                  <p:cNvSpPr/>
                  <p:nvPr/>
                </p:nvSpPr>
                <p:spPr>
                  <a:xfrm flipH="1">
                    <a:off x="6831000" y="5762520"/>
                    <a:ext cx="24120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">
                        <a:moveTo>
                          <a:pt x="156" y="24"/>
                        </a:moveTo>
                        <a:lnTo>
                          <a:pt x="306" y="6"/>
                        </a:lnTo>
                        <a:lnTo>
                          <a:pt x="156" y="0"/>
                        </a:lnTo>
                        <a:lnTo>
                          <a:pt x="0" y="13"/>
                        </a:lnTo>
                        <a:lnTo>
                          <a:pt x="156" y="24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0" name=""/>
                <p:cNvGrpSpPr/>
                <p:nvPr/>
              </p:nvGrpSpPr>
              <p:grpSpPr>
                <a:xfrm>
                  <a:off x="6548400" y="5709960"/>
                  <a:ext cx="357120" cy="206640"/>
                  <a:chOff x="6548400" y="5709960"/>
                  <a:chExt cx="357120" cy="206640"/>
                </a:xfrm>
              </p:grpSpPr>
              <p:sp>
                <p:nvSpPr>
                  <p:cNvPr id="761" name=""/>
                  <p:cNvSpPr/>
                  <p:nvPr/>
                </p:nvSpPr>
                <p:spPr>
                  <a:xfrm flipH="1">
                    <a:off x="6767280" y="5780160"/>
                    <a:ext cx="13680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129">
                        <a:moveTo>
                          <a:pt x="0" y="28"/>
                        </a:moveTo>
                        <a:lnTo>
                          <a:pt x="0" y="129"/>
                        </a:lnTo>
                        <a:lnTo>
                          <a:pt x="169" y="97"/>
                        </a:lnTo>
                        <a:lnTo>
                          <a:pt x="171" y="0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62" name=""/>
                  <p:cNvGrpSpPr/>
                  <p:nvPr/>
                </p:nvGrpSpPr>
                <p:grpSpPr>
                  <a:xfrm>
                    <a:off x="6548400" y="5709960"/>
                    <a:ext cx="252360" cy="206640"/>
                    <a:chOff x="6548400" y="5709960"/>
                    <a:chExt cx="252360" cy="206640"/>
                  </a:xfrm>
                </p:grpSpPr>
                <p:sp>
                  <p:nvSpPr>
                    <p:cNvPr id="763" name=""/>
                    <p:cNvSpPr/>
                    <p:nvPr/>
                  </p:nvSpPr>
                  <p:spPr>
                    <a:xfrm flipH="1">
                      <a:off x="6548400" y="5709960"/>
                      <a:ext cx="177840" cy="20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4" h="259">
                          <a:moveTo>
                            <a:pt x="0" y="14"/>
                          </a:moveTo>
                          <a:lnTo>
                            <a:pt x="126" y="0"/>
                          </a:lnTo>
                          <a:lnTo>
                            <a:pt x="144" y="1"/>
                          </a:lnTo>
                          <a:lnTo>
                            <a:pt x="161" y="5"/>
                          </a:lnTo>
                          <a:lnTo>
                            <a:pt x="172" y="12"/>
                          </a:lnTo>
                          <a:lnTo>
                            <a:pt x="186" y="22"/>
                          </a:lnTo>
                          <a:lnTo>
                            <a:pt x="196" y="34"/>
                          </a:lnTo>
                          <a:lnTo>
                            <a:pt x="207" y="50"/>
                          </a:lnTo>
                          <a:lnTo>
                            <a:pt x="214" y="66"/>
                          </a:lnTo>
                          <a:lnTo>
                            <a:pt x="220" y="87"/>
                          </a:lnTo>
                          <a:lnTo>
                            <a:pt x="224" y="113"/>
                          </a:lnTo>
                          <a:lnTo>
                            <a:pt x="223" y="134"/>
                          </a:lnTo>
                          <a:lnTo>
                            <a:pt x="219" y="155"/>
                          </a:lnTo>
                          <a:lnTo>
                            <a:pt x="212" y="175"/>
                          </a:lnTo>
                          <a:lnTo>
                            <a:pt x="205" y="191"/>
                          </a:lnTo>
                          <a:lnTo>
                            <a:pt x="193" y="206"/>
                          </a:lnTo>
                          <a:lnTo>
                            <a:pt x="177" y="218"/>
                          </a:lnTo>
                          <a:lnTo>
                            <a:pt x="157" y="227"/>
                          </a:lnTo>
                          <a:lnTo>
                            <a:pt x="13" y="259"/>
                          </a:lnTo>
                          <a:lnTo>
                            <a:pt x="0" y="1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 flipH="1">
                      <a:off x="6646680" y="5721120"/>
                      <a:ext cx="154080" cy="195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5" name=""/>
                  <p:cNvSpPr/>
                  <p:nvPr/>
                </p:nvSpPr>
                <p:spPr>
                  <a:xfrm flipH="1">
                    <a:off x="6699240" y="5783040"/>
                    <a:ext cx="64800" cy="842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>
                    <a:off x="6714720" y="5790960"/>
                    <a:ext cx="19044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15">
                        <a:moveTo>
                          <a:pt x="0" y="17"/>
                        </a:moveTo>
                        <a:lnTo>
                          <a:pt x="212" y="0"/>
                        </a:lnTo>
                        <a:lnTo>
                          <a:pt x="227" y="10"/>
                        </a:lnTo>
                        <a:lnTo>
                          <a:pt x="236" y="21"/>
                        </a:lnTo>
                        <a:lnTo>
                          <a:pt x="240" y="38"/>
                        </a:lnTo>
                        <a:lnTo>
                          <a:pt x="236" y="55"/>
                        </a:lnTo>
                        <a:lnTo>
                          <a:pt x="230" y="73"/>
                        </a:lnTo>
                        <a:lnTo>
                          <a:pt x="215" y="83"/>
                        </a:lnTo>
                        <a:lnTo>
                          <a:pt x="0" y="115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67" name=""/>
              <p:cNvSpPr/>
              <p:nvPr/>
            </p:nvSpPr>
            <p:spPr>
              <a:xfrm flipH="1">
                <a:off x="6939000" y="5129280"/>
                <a:ext cx="279360" cy="645840"/>
              </a:xfrm>
              <a:custGeom>
                <a:avLst/>
                <a:gdLst/>
                <a:ahLst/>
                <a:rect l="l" t="t" r="r" b="b"/>
                <a:pathLst>
                  <a:path w="351" h="816">
                    <a:moveTo>
                      <a:pt x="204" y="810"/>
                    </a:moveTo>
                    <a:lnTo>
                      <a:pt x="283" y="816"/>
                    </a:lnTo>
                    <a:lnTo>
                      <a:pt x="351" y="806"/>
                    </a:lnTo>
                    <a:lnTo>
                      <a:pt x="334" y="774"/>
                    </a:lnTo>
                    <a:lnTo>
                      <a:pt x="315" y="732"/>
                    </a:lnTo>
                    <a:lnTo>
                      <a:pt x="294" y="613"/>
                    </a:lnTo>
                    <a:lnTo>
                      <a:pt x="280" y="473"/>
                    </a:lnTo>
                    <a:lnTo>
                      <a:pt x="252" y="340"/>
                    </a:lnTo>
                    <a:lnTo>
                      <a:pt x="221" y="259"/>
                    </a:lnTo>
                    <a:lnTo>
                      <a:pt x="168" y="151"/>
                    </a:lnTo>
                    <a:lnTo>
                      <a:pt x="98" y="67"/>
                    </a:lnTo>
                    <a:lnTo>
                      <a:pt x="0" y="0"/>
                    </a:lnTo>
                    <a:lnTo>
                      <a:pt x="81" y="147"/>
                    </a:lnTo>
                    <a:lnTo>
                      <a:pt x="109" y="252"/>
                    </a:lnTo>
                    <a:lnTo>
                      <a:pt x="133" y="361"/>
                    </a:lnTo>
                    <a:lnTo>
                      <a:pt x="158" y="494"/>
                    </a:lnTo>
                    <a:lnTo>
                      <a:pt x="168" y="648"/>
                    </a:lnTo>
                    <a:lnTo>
                      <a:pt x="182" y="735"/>
                    </a:lnTo>
                    <a:lnTo>
                      <a:pt x="204" y="81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8" name=""/>
          <p:cNvSpPr/>
          <p:nvPr/>
        </p:nvSpPr>
        <p:spPr>
          <a:xfrm>
            <a:off x="23400" y="6297480"/>
            <a:ext cx="628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Varsányi Judit-Virág Miklós: Cégstratégiák piaci, pénzügyi megalapozása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Műszaki Könyvkiadó, Budapest, 199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8080"/>
                </a:solidFill>
                <a:latin typeface="Comic Sans MS"/>
              </a:rPr>
              <a:t>A pénzügyi cégminősítés főbb tényezői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40760" y="1218960"/>
            <a:ext cx="8534520" cy="39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7360" indent="-38736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02600"/>
                </a:solidFill>
                <a:latin typeface="Comic Sans MS"/>
              </a:rPr>
              <a:t>A cég életképességének és fejlődőképességének</a:t>
            </a:r>
            <a:br>
              <a:rPr sz="2200"/>
            </a:br>
            <a:r>
              <a:rPr b="1" lang="hu-HU" sz="2200" spc="-1" strike="noStrike">
                <a:solidFill>
                  <a:srgbClr val="a02600"/>
                </a:solidFill>
                <a:latin typeface="Comic Sans MS"/>
              </a:rPr>
              <a:t>aktuális mutatói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 pénzügyi egyensúly mutatói és időfüggvénye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 cég pénzellátottságának jellemző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z eladósodottság mérőszáma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Hitelképesség és számszerű garanciá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7360" indent="-38736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a02600"/>
                </a:solidFill>
                <a:latin typeface="Comic Sans MS"/>
              </a:rPr>
              <a:t>A pénzügyi helyzetet</a:t>
            </a:r>
            <a:br>
              <a:rPr sz="2200"/>
            </a:br>
            <a:r>
              <a:rPr b="1" lang="hu-HU" sz="2200" spc="-1" strike="noStrike">
                <a:solidFill>
                  <a:srgbClr val="a02600"/>
                </a:solidFill>
                <a:latin typeface="Comic Sans MS"/>
              </a:rPr>
              <a:t>hosszú távon befolyásoló tényezők 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 kínálkozó innovációs alternatívák finanszírozási igény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z önfinanszírozó kapacitás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fejlesztésre fordítható hányad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z innováció idegen finanszírozási alternatívái,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forrásai és feltétele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139680" y="1433160"/>
            <a:ext cx="876312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06720" indent="-306720">
              <a:buClr>
                <a:srgbClr val="a02600"/>
              </a:buClr>
              <a:buFont typeface="Monotype Sorts" charset="2"/>
              <a:buChar char="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hu-HU" sz="2000" spc="-1" strike="noStrike">
                <a:solidFill>
                  <a:srgbClr val="a02600"/>
                </a:solidFill>
                <a:latin typeface="Comic Sans MS"/>
              </a:rPr>
              <a:t>Ha az eszközmegtérülést (ROA) vesszük fő mérőszámként, akkor a DuPont modellt az alábbi egyenlet kiterjesztésével állíthatjuk fel:</a:t>
            </a:r>
            <a:endParaRPr b="1" lang="en-US" sz="20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8080"/>
                </a:solidFill>
                <a:latin typeface="Comic Sans MS"/>
              </a:rPr>
              <a:t>A pénzügyi teljesítmény modellezése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403560" y="2489040"/>
            <a:ext cx="8534880" cy="1578600"/>
            <a:chOff x="403560" y="2489040"/>
            <a:chExt cx="8534880" cy="1578600"/>
          </a:xfrm>
        </p:grpSpPr>
        <p:sp>
          <p:nvSpPr>
            <p:cNvPr id="774" name=""/>
            <p:cNvSpPr/>
            <p:nvPr/>
          </p:nvSpPr>
          <p:spPr>
            <a:xfrm>
              <a:off x="403560" y="266976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ROA 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95920" y="2498400"/>
              <a:ext cx="124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Nettó prof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25520" y="2841120"/>
              <a:ext cx="98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Eszközö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315080" y="28126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480400" y="26697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93960" y="2489040"/>
              <a:ext cx="124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Nettó prof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783160" y="2850840"/>
              <a:ext cx="117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Értékesíté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14160" y="2489040"/>
              <a:ext cx="117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Értékesíté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307040" y="2850840"/>
              <a:ext cx="98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Eszközö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990960" y="266976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181520" y="3398400"/>
              <a:ext cx="31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(Értékesítés - Összköltség - Adó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211480" y="3760560"/>
              <a:ext cx="117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Értékesíté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238400" y="3708000"/>
              <a:ext cx="288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73120" y="3398400"/>
              <a:ext cx="117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Értékesíté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388400" y="3760560"/>
              <a:ext cx="455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(Forgóeszközök + Állóeszközök + Egyéb eszközö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402080" y="3693600"/>
              <a:ext cx="450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129560" y="354132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934920" y="35604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305240" y="2812680"/>
              <a:ext cx="104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2764800" y="2812680"/>
              <a:ext cx="118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210960" y="6305400"/>
            <a:ext cx="793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69920" y="4314960"/>
            <a:ext cx="876312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0120" indent="-330120"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z az egyenlet továbbfejthető a következő oldalon felvázolt modell elkészítéséh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274680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 baloldali inputok a mérlegből és a bevételi kimutatásból kerültek a modellbe, vagy a vezetés feltételezéseit, elképzeléseit tükrözik a vállalat jövőbeni működésének alternatíváiró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274680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Minden más tételt a modell fenti egyenlete alapján kell kalkulál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"/>
          <p:cNvGrpSpPr/>
          <p:nvPr/>
        </p:nvGrpSpPr>
        <p:grpSpPr>
          <a:xfrm>
            <a:off x="4749840" y="1890720"/>
            <a:ext cx="1758960" cy="1942200"/>
            <a:chOff x="4749840" y="1890720"/>
            <a:chExt cx="1758960" cy="1942200"/>
          </a:xfrm>
        </p:grpSpPr>
        <p:sp>
          <p:nvSpPr>
            <p:cNvPr id="797" name=""/>
            <p:cNvSpPr/>
            <p:nvPr/>
          </p:nvSpPr>
          <p:spPr>
            <a:xfrm>
              <a:off x="5277600" y="1890720"/>
              <a:ext cx="659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Eszközforgalo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474600" y="18907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857840" y="1998720"/>
              <a:ext cx="151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(Egyenlet = Értékesítésböl származó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94080" y="2106720"/>
              <a:ext cx="83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bevételek/Eszközök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474600" y="19987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74600" y="21067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474600" y="22147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475320" y="23223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475320" y="24303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475320" y="25383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475320" y="26463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475320" y="27543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475320" y="28623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475320" y="29703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475320" y="307800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475320" y="318600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475320" y="329400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475320" y="340200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475320" y="351000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475320" y="361800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474600" y="372600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749840" y="1992240"/>
              <a:ext cx="1710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2913120" y="811080"/>
            <a:ext cx="1814400" cy="2050200"/>
            <a:chOff x="2913120" y="811080"/>
            <a:chExt cx="1814400" cy="2050200"/>
          </a:xfrm>
        </p:grpSpPr>
        <p:sp>
          <p:nvSpPr>
            <p:cNvPr id="820" name=""/>
            <p:cNvSpPr/>
            <p:nvPr/>
          </p:nvSpPr>
          <p:spPr>
            <a:xfrm>
              <a:off x="3113640" y="933480"/>
              <a:ext cx="996480" cy="287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Értékesítésböl származó bevétele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694040" y="8110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694040" y="9190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694040" y="10270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694040" y="11350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694040" y="12430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694040" y="13510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694040" y="14590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694040" y="15667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694040" y="16747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693320" y="17827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693320" y="18907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693320" y="19987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693320" y="21067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693320" y="22147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693320" y="232236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693320" y="243036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693320" y="253836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378240" y="2646360"/>
              <a:ext cx="776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Eszközök összes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693320" y="264636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12200" y="2754360"/>
              <a:ext cx="1364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(Egyenlet = Álló + forgóeszközök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693320" y="275436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913120" y="2747880"/>
              <a:ext cx="1766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6473520" y="3835440"/>
            <a:ext cx="1731960" cy="430560"/>
            <a:chOff x="6473520" y="3835440"/>
            <a:chExt cx="1731960" cy="430560"/>
          </a:xfrm>
        </p:grpSpPr>
        <p:sp>
          <p:nvSpPr>
            <p:cNvPr id="844" name=""/>
            <p:cNvSpPr/>
            <p:nvPr/>
          </p:nvSpPr>
          <p:spPr>
            <a:xfrm>
              <a:off x="6473520" y="383544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988320" y="3835440"/>
              <a:ext cx="752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Eszközmegtérülé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473520" y="394344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621480" y="3949560"/>
              <a:ext cx="1430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omic Sans MS"/>
                </a:rPr>
                <a:t>(Egyenlet = Eszközforgalom x Profitráta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73520" y="405144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474240" y="41590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529320" y="3936960"/>
              <a:ext cx="1676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529320" y="3936960"/>
              <a:ext cx="1676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4749840" y="4267080"/>
            <a:ext cx="1757520" cy="2050200"/>
            <a:chOff x="4749840" y="4267080"/>
            <a:chExt cx="1757520" cy="2050200"/>
          </a:xfrm>
        </p:grpSpPr>
        <p:sp>
          <p:nvSpPr>
            <p:cNvPr id="853" name=""/>
            <p:cNvSpPr/>
            <p:nvPr/>
          </p:nvSpPr>
          <p:spPr>
            <a:xfrm>
              <a:off x="6474240" y="42670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474240" y="43750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474240" y="44830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474240" y="45910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474240" y="46990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474240" y="48070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474240" y="49150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474240" y="50227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74240" y="51307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474240" y="52387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474240" y="53467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474240" y="54547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474240" y="55627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474240" y="56707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74240" y="57783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474240" y="58863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432760" y="5994360"/>
              <a:ext cx="398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Profitrá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473160" y="599436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13920" y="6102360"/>
              <a:ext cx="168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(Egyenlet = Nettó bevétel/Értekesítésböl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82560" y="6210360"/>
              <a:ext cx="849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származó bevételek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73160" y="610236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73160" y="621036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49840" y="6095880"/>
              <a:ext cx="1710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210960" y="6400800"/>
            <a:ext cx="793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1120" y="88920"/>
            <a:ext cx="8861760" cy="49536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8080"/>
                </a:solidFill>
                <a:latin typeface="Comic Sans MS"/>
              </a:rPr>
              <a:t>A DuPont modell vázlata    </a:t>
            </a:r>
            <a:endParaRPr b="1" lang="en-US" sz="2800" spc="-1" strike="noStrike">
              <a:solidFill>
                <a:srgbClr val="008080"/>
              </a:solidFill>
              <a:latin typeface="Comic Sans MS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608040" y="838080"/>
            <a:ext cx="2281320" cy="1159560"/>
            <a:chOff x="608040" y="838080"/>
            <a:chExt cx="2281320" cy="1159560"/>
          </a:xfrm>
        </p:grpSpPr>
        <p:sp>
          <p:nvSpPr>
            <p:cNvPr id="879" name=""/>
            <p:cNvSpPr/>
            <p:nvPr/>
          </p:nvSpPr>
          <p:spPr>
            <a:xfrm>
              <a:off x="2855160" y="16747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855160" y="17827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55160" y="18907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608040" y="838080"/>
              <a:ext cx="2232360" cy="1159560"/>
              <a:chOff x="608040" y="838080"/>
              <a:chExt cx="2232360" cy="1159560"/>
            </a:xfrm>
          </p:grpSpPr>
          <p:sp>
            <p:nvSpPr>
              <p:cNvPr id="883" name=""/>
              <p:cNvSpPr/>
              <p:nvPr/>
            </p:nvSpPr>
            <p:spPr>
              <a:xfrm>
                <a:off x="608040" y="838080"/>
                <a:ext cx="996840" cy="287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Nem anyagi jellegü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állóeszközö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682280" y="919080"/>
                <a:ext cx="34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}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682280" y="1027080"/>
                <a:ext cx="34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}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682280" y="1135080"/>
                <a:ext cx="34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}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682280" y="1243080"/>
                <a:ext cx="34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}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682280" y="1351080"/>
                <a:ext cx="34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}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682280" y="1459080"/>
                <a:ext cx="34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}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682280" y="1566720"/>
                <a:ext cx="34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}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682280" y="1674720"/>
                <a:ext cx="34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}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012760" y="1674720"/>
                <a:ext cx="5324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Állóeszközö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682280" y="1782720"/>
                <a:ext cx="34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}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682280" y="1890720"/>
                <a:ext cx="34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}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779480" y="1782720"/>
                <a:ext cx="10432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Comic Sans MS"/>
                  </a:rPr>
                  <a:t>(Egyenlet = Tételek összesen)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738080" y="1776240"/>
                <a:ext cx="1102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08040" y="1171440"/>
                <a:ext cx="996840" cy="2876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Anyagi jellegü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állóeszközö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08040" y="1503360"/>
                <a:ext cx="996840" cy="287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Hosszú távú</a:t>
                </a:r>
                <a:br>
                  <a:rPr sz="700"/>
                </a:b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beruházáso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9" name=""/>
          <p:cNvGrpSpPr/>
          <p:nvPr/>
        </p:nvGrpSpPr>
        <p:grpSpPr>
          <a:xfrm>
            <a:off x="608040" y="1998720"/>
            <a:ext cx="2281320" cy="1834200"/>
            <a:chOff x="608040" y="1998720"/>
            <a:chExt cx="2281320" cy="1834200"/>
          </a:xfrm>
        </p:grpSpPr>
        <p:sp>
          <p:nvSpPr>
            <p:cNvPr id="900" name=""/>
            <p:cNvSpPr/>
            <p:nvPr/>
          </p:nvSpPr>
          <p:spPr>
            <a:xfrm>
              <a:off x="1682280" y="19987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682280" y="21067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855160" y="19987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855160" y="21067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682280" y="22147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55160" y="22147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682280" y="232236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855160" y="232236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682280" y="243036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855160" y="243036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855160" y="253836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682280" y="264636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855160" y="264636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82280" y="275436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55160" y="275436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682280" y="286236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855160" y="286236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682280" y="297036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855160" y="297036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682280" y="307800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855160" y="307800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682280" y="318600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55160" y="318600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682280" y="329400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972440" y="3129120"/>
              <a:ext cx="621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Forgóeszközö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855160" y="329400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682280" y="340200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740240" y="3236760"/>
              <a:ext cx="38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(Egyen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28680" y="3249720"/>
              <a:ext cx="687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Comic Sans MS"/>
                </a:rPr>
                <a:t>= Tételek összese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816280" y="3236760"/>
              <a:ext cx="26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855160" y="340200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682280" y="351000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682280" y="361800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682280" y="372600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738080" y="3230640"/>
              <a:ext cx="110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738080" y="3230640"/>
              <a:ext cx="11023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8040" y="2104920"/>
              <a:ext cx="996840" cy="287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Tőkemódosításo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08040" y="2438280"/>
              <a:ext cx="996840" cy="287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Készlete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08040" y="2766960"/>
              <a:ext cx="996840" cy="287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Kintlévősége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08040" y="3103560"/>
              <a:ext cx="996840" cy="287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Rövidtávú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beruházáso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08040" y="3478320"/>
              <a:ext cx="996840" cy="287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Készpénz +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halasztott költsége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1778040" y="5562720"/>
            <a:ext cx="2899800" cy="862560"/>
            <a:chOff x="1778040" y="5562720"/>
            <a:chExt cx="2899800" cy="862560"/>
          </a:xfrm>
        </p:grpSpPr>
        <p:sp>
          <p:nvSpPr>
            <p:cNvPr id="942" name=""/>
            <p:cNvSpPr/>
            <p:nvPr/>
          </p:nvSpPr>
          <p:spPr>
            <a:xfrm>
              <a:off x="3543840" y="5562720"/>
              <a:ext cx="56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Nettó bevét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092760" y="5683320"/>
              <a:ext cx="1305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omic Sans MS"/>
                </a:rPr>
                <a:t>(Egyenlet = Értekesítésböl származó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329640" y="5784840"/>
              <a:ext cx="861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omic Sans MS"/>
                </a:rPr>
                <a:t>bevételek - Összköltség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855160" y="61023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855160" y="62103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855160" y="63183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12040" y="5664240"/>
              <a:ext cx="176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912040" y="5664240"/>
              <a:ext cx="17658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778040" y="6113520"/>
              <a:ext cx="996480" cy="287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Értékesítés bevétele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08040" y="3835440"/>
            <a:ext cx="2282760" cy="2295360"/>
            <a:chOff x="608040" y="3835440"/>
            <a:chExt cx="2282760" cy="2295360"/>
          </a:xfrm>
        </p:grpSpPr>
        <p:sp>
          <p:nvSpPr>
            <p:cNvPr id="952" name=""/>
            <p:cNvSpPr/>
            <p:nvPr/>
          </p:nvSpPr>
          <p:spPr>
            <a:xfrm>
              <a:off x="1682280" y="383544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682280" y="394344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682280" y="415908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682280" y="426708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682280" y="437508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682280" y="448308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682280" y="459108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82280" y="469908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682280" y="480708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682280" y="491508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682280" y="50227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038320" y="4648320"/>
              <a:ext cx="498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Összköltsé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855520" y="50227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682640" y="51307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779480" y="4768920"/>
              <a:ext cx="1043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omic Sans MS"/>
                </a:rPr>
                <a:t>(Egyenlet = Tételek összesen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855880" y="51307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682640" y="52387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855880" y="52387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682640" y="53467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682640" y="54547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855880" y="53467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855520" y="54547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682640" y="55627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855520" y="55627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682640" y="56707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682640" y="57783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55520" y="56707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855520" y="577836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682640" y="58863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855520" y="58863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82280" y="59943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855520" y="59943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738440" y="4749840"/>
              <a:ext cx="110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738440" y="4749840"/>
              <a:ext cx="11023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08040" y="4046400"/>
              <a:ext cx="996840" cy="28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Közvetlen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anyagköltsége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08040" y="4379760"/>
              <a:ext cx="996840" cy="28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Bérek, fizetése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08040" y="4722840"/>
              <a:ext cx="996840" cy="287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Amortizáció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08040" y="5519880"/>
              <a:ext cx="996840" cy="287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Finanszírozás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költsége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8040" y="5843520"/>
              <a:ext cx="996840" cy="287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Egyéb költsége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56600" y="47815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856600" y="48895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56600" y="4997520"/>
              <a:ext cx="3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3595680" y="5562720"/>
            <a:ext cx="1130760" cy="1078200"/>
            <a:chOff x="3595680" y="5562720"/>
            <a:chExt cx="1130760" cy="1078200"/>
          </a:xfrm>
        </p:grpSpPr>
        <p:grpSp>
          <p:nvGrpSpPr>
            <p:cNvPr id="995" name=""/>
            <p:cNvGrpSpPr/>
            <p:nvPr/>
          </p:nvGrpSpPr>
          <p:grpSpPr>
            <a:xfrm>
              <a:off x="4691880" y="5562720"/>
              <a:ext cx="34560" cy="1078200"/>
              <a:chOff x="4691880" y="5562720"/>
              <a:chExt cx="34560" cy="1078200"/>
            </a:xfrm>
          </p:grpSpPr>
          <p:sp>
            <p:nvSpPr>
              <p:cNvPr id="996" name=""/>
              <p:cNvSpPr/>
              <p:nvPr/>
            </p:nvSpPr>
            <p:spPr>
              <a:xfrm>
                <a:off x="4691880" y="5562720"/>
                <a:ext cx="34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}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691880" y="5670720"/>
                <a:ext cx="34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}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691880" y="5778360"/>
                <a:ext cx="34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}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693320" y="5886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692240" y="5994360"/>
                <a:ext cx="34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}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692240" y="6102360"/>
                <a:ext cx="34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}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692240" y="6210360"/>
                <a:ext cx="34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}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693320" y="6318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693320" y="642636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693320" y="6534000"/>
                <a:ext cx="2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6" name=""/>
            <p:cNvSpPr/>
            <p:nvPr/>
          </p:nvSpPr>
          <p:spPr>
            <a:xfrm>
              <a:off x="3595680" y="6124680"/>
              <a:ext cx="996840" cy="287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Értékesítés bevétele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Kiskacsafürdik" descr=""/>
          <p:cNvPicPr/>
          <p:nvPr/>
        </p:nvPicPr>
        <p:blipFill>
          <a:blip r:embed="rId1"/>
          <a:stretch/>
        </p:blipFill>
        <p:spPr>
          <a:xfrm>
            <a:off x="6359400" y="3463920"/>
            <a:ext cx="2470320" cy="2470320"/>
          </a:xfrm>
          <a:prstGeom prst="rect">
            <a:avLst/>
          </a:prstGeom>
          <a:ln w="0">
            <a:noFill/>
          </a:ln>
        </p:spPr>
      </p:pic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omic Sans MS"/>
              </a:rPr>
              <a:t>Likviditásmenedzsment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729792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7360" indent="-38736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02600"/>
                </a:solidFill>
                <a:latin typeface="Comic Sans MS"/>
              </a:rPr>
              <a:t>Kleinebeckel rendszere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A tőkeszükséglet tervezése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A tőkefedezet lehetséges elemei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Tőkeszükséglet és tőkefedezet összehangolása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marL="387360" indent="-38736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02600"/>
                </a:solidFill>
                <a:latin typeface="Comic Sans MS"/>
              </a:rPr>
              <a:t>Helfert modellje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A vállalati működés leképezése</a:t>
            </a:r>
            <a:br>
              <a:rPr sz="2200"/>
            </a:b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pénzügyi következmény-szemléletben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marL="387360" indent="-38736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02600"/>
                </a:solidFill>
                <a:latin typeface="Comic Sans MS"/>
              </a:rPr>
              <a:t>Matula Miklós likviditási fésű-diagramja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A pénzügyi bevételek és kiadások</a:t>
            </a:r>
            <a:br>
              <a:rPr sz="2200"/>
            </a:b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állapotmodellje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A likviditásmenedzsment eszköze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</p:txBody>
      </p:sp>
      <p:sp>
        <p:nvSpPr>
          <p:cNvPr id="1010" name=""/>
          <p:cNvSpPr/>
          <p:nvPr/>
        </p:nvSpPr>
        <p:spPr>
          <a:xfrm>
            <a:off x="313200" y="6504120"/>
            <a:ext cx="714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arsányi Judit - Menedzsment óravázlatok. Széchenyi István Egyetem, 2002. februá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1" name=""/>
          <p:cNvGrpSpPr/>
          <p:nvPr/>
        </p:nvGrpSpPr>
        <p:grpSpPr>
          <a:xfrm>
            <a:off x="3689280" y="3198960"/>
            <a:ext cx="668520" cy="1892160"/>
            <a:chOff x="3689280" y="3198960"/>
            <a:chExt cx="668520" cy="1892160"/>
          </a:xfrm>
        </p:grpSpPr>
        <p:sp>
          <p:nvSpPr>
            <p:cNvPr id="1012" name=""/>
            <p:cNvSpPr/>
            <p:nvPr/>
          </p:nvSpPr>
          <p:spPr>
            <a:xfrm>
              <a:off x="3689280" y="3198960"/>
              <a:ext cx="668520" cy="189216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54160" y="3943440"/>
              <a:ext cx="3470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H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41120" y="52200"/>
            <a:ext cx="8861760" cy="54900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Comic Sans MS"/>
              </a:rPr>
              <a:t>Kleinebeckel pénzügyi tervmérlege</a:t>
            </a:r>
            <a:endParaRPr b="1" lang="en-US" sz="28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1015" name=""/>
          <p:cNvSpPr/>
          <p:nvPr/>
        </p:nvSpPr>
        <p:spPr>
          <a:xfrm>
            <a:off x="97920" y="6504120"/>
            <a:ext cx="779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zöveges forrás: Kleinebeckel: Pénzügyi és likviditási irányítás. Saldo, Budapest, 1993. 51.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279360" y="1857240"/>
            <a:ext cx="2572920" cy="1573560"/>
            <a:chOff x="279360" y="1857240"/>
            <a:chExt cx="2572920" cy="1573560"/>
          </a:xfrm>
        </p:grpSpPr>
        <p:sp>
          <p:nvSpPr>
            <p:cNvPr id="1017" name=""/>
            <p:cNvSpPr/>
            <p:nvPr/>
          </p:nvSpPr>
          <p:spPr>
            <a:xfrm>
              <a:off x="279360" y="1857240"/>
              <a:ext cx="2547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Forgóeszközök (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Comic Sans MS"/>
                </a:rPr>
                <a:t>Biztos üzletmenet esetén</a:t>
              </a:r>
              <a:br>
                <a:rPr sz="1400"/>
              </a:br>
              <a:r>
                <a:rPr b="0" lang="hu-HU" sz="1400" spc="-1" strike="noStrike">
                  <a:solidFill>
                    <a:srgbClr val="000000"/>
                  </a:solidFill>
                  <a:latin typeface="Comic Sans MS"/>
                </a:rPr>
                <a:t>ezek összegét tervezzük</a:t>
              </a:r>
              <a:br>
                <a:rPr sz="1400"/>
              </a:br>
              <a:r>
                <a:rPr b="0" lang="hu-HU" sz="1400" spc="-1" strike="noStrike">
                  <a:solidFill>
                    <a:srgbClr val="000000"/>
                  </a:solidFill>
                  <a:latin typeface="Comic Sans MS"/>
                </a:rPr>
                <a:t>a lehető legalacsonyabb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445480" y="3128760"/>
              <a:ext cx="406800" cy="3020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0" y="4295880"/>
            <a:ext cx="2876400" cy="1757520"/>
            <a:chOff x="0" y="4295880"/>
            <a:chExt cx="2876400" cy="1757520"/>
          </a:xfrm>
        </p:grpSpPr>
        <p:sp>
          <p:nvSpPr>
            <p:cNvPr id="1020" name=""/>
            <p:cNvSpPr/>
            <p:nvPr/>
          </p:nvSpPr>
          <p:spPr>
            <a:xfrm>
              <a:off x="0" y="4295880"/>
              <a:ext cx="2822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Befektetett eszközök (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Comic Sans MS"/>
                </a:rPr>
                <a:t>Tekintettel a finanszírozási lehetőségekre, ezeket</a:t>
              </a:r>
              <a:br>
                <a:rPr sz="1400"/>
              </a:br>
              <a:r>
                <a:rPr b="0" lang="hu-HU" sz="1400" spc="-1" strike="noStrike">
                  <a:solidFill>
                    <a:srgbClr val="000000"/>
                  </a:solidFill>
                  <a:latin typeface="Comic Sans MS"/>
                </a:rPr>
                <a:t>a lehető legszolidabban és leggazdaságosabban tervezzü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419200" y="5751360"/>
              <a:ext cx="457200" cy="3020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4564080" y="5381640"/>
            <a:ext cx="4427640" cy="1116360"/>
            <a:chOff x="4564080" y="5381640"/>
            <a:chExt cx="4427640" cy="1116360"/>
          </a:xfrm>
        </p:grpSpPr>
        <p:sp>
          <p:nvSpPr>
            <p:cNvPr id="1023" name=""/>
            <p:cNvSpPr/>
            <p:nvPr/>
          </p:nvSpPr>
          <p:spPr>
            <a:xfrm>
              <a:off x="5343480" y="5381640"/>
              <a:ext cx="364824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Sajáttőke (S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Comic Sans MS"/>
                </a:rPr>
                <a:t>Hitelképességünk érdekében a sajáttőkét ne engedjük a számlavezető bankunk által megkövetelt szint alá süllyed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564080" y="5879880"/>
              <a:ext cx="457200" cy="3020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4508640" y="1368360"/>
            <a:ext cx="4182840" cy="1116360"/>
            <a:chOff x="4508640" y="1368360"/>
            <a:chExt cx="4182840" cy="1116360"/>
          </a:xfrm>
        </p:grpSpPr>
        <p:sp>
          <p:nvSpPr>
            <p:cNvPr id="1026" name=""/>
            <p:cNvSpPr/>
            <p:nvPr/>
          </p:nvSpPr>
          <p:spPr>
            <a:xfrm>
              <a:off x="5302080" y="1368360"/>
              <a:ext cx="338940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Áthidaló kölcsön (Á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Comic Sans MS"/>
                </a:rPr>
                <a:t>A szezonális hatások és a sajátos</a:t>
              </a:r>
              <a:br>
                <a:rPr sz="1400"/>
              </a:br>
              <a:r>
                <a:rPr b="0" lang="hu-HU" sz="1400" spc="-1" strike="noStrike">
                  <a:solidFill>
                    <a:srgbClr val="000000"/>
                  </a:solidFill>
                  <a:latin typeface="Comic Sans MS"/>
                </a:rPr>
                <a:t>üzleti adottságok finanszírozásához ezt kielégítő mértékben kell tervez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08640" y="1373040"/>
              <a:ext cx="457200" cy="3020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Comic Sans MS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4513320" y="2566800"/>
            <a:ext cx="4268880" cy="729360"/>
            <a:chOff x="4513320" y="2566800"/>
            <a:chExt cx="4268880" cy="729360"/>
          </a:xfrm>
        </p:grpSpPr>
        <p:sp>
          <p:nvSpPr>
            <p:cNvPr id="1029" name=""/>
            <p:cNvSpPr/>
            <p:nvPr/>
          </p:nvSpPr>
          <p:spPr>
            <a:xfrm>
              <a:off x="5243400" y="2584440"/>
              <a:ext cx="3538800" cy="71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Rövid távú kötelezettségek (R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Comic Sans MS"/>
                </a:rPr>
                <a:t>Összegüket a normál üzletmenetre</a:t>
              </a:r>
              <a:br>
                <a:rPr sz="1400"/>
              </a:br>
              <a:r>
                <a:rPr b="0" lang="hu-HU" sz="1400" spc="-1" strike="noStrike">
                  <a:solidFill>
                    <a:srgbClr val="000000"/>
                  </a:solidFill>
                  <a:latin typeface="Comic Sans MS"/>
                </a:rPr>
                <a:t>kell tervez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513320" y="2566800"/>
              <a:ext cx="457200" cy="3020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5033880" y="3601800"/>
            <a:ext cx="4110120" cy="1121400"/>
            <a:chOff x="5033880" y="3601800"/>
            <a:chExt cx="4110120" cy="1121400"/>
          </a:xfrm>
        </p:grpSpPr>
        <p:sp>
          <p:nvSpPr>
            <p:cNvPr id="1032" name=""/>
            <p:cNvSpPr/>
            <p:nvPr/>
          </p:nvSpPr>
          <p:spPr>
            <a:xfrm>
              <a:off x="5322960" y="3606840"/>
              <a:ext cx="382104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Működőtőke (MT=ST+HH-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Comic Sans MS"/>
                </a:rPr>
                <a:t>A működőtőkét olyan nagyra kell tervezni, hogy a forgóeszközök megfelelő hányadát hosszú lejáratú hitelekkel (HH) fedezhessü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33880" y="3601800"/>
              <a:ext cx="457200" cy="3020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Comic Sans MS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4556160" y="4803480"/>
            <a:ext cx="4037040" cy="359640"/>
            <a:chOff x="4556160" y="4803480"/>
            <a:chExt cx="4037040" cy="359640"/>
          </a:xfrm>
        </p:grpSpPr>
        <p:sp>
          <p:nvSpPr>
            <p:cNvPr id="1035" name=""/>
            <p:cNvSpPr/>
            <p:nvPr/>
          </p:nvSpPr>
          <p:spPr>
            <a:xfrm>
              <a:off x="5460840" y="4856040"/>
              <a:ext cx="313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Hosszú lejáratú hitelek (HH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556160" y="4803480"/>
              <a:ext cx="457200" cy="3020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3021120" y="1779480"/>
            <a:ext cx="668160" cy="2838600"/>
            <a:chOff x="3021120" y="1779480"/>
            <a:chExt cx="668160" cy="2838600"/>
          </a:xfrm>
        </p:grpSpPr>
        <p:sp>
          <p:nvSpPr>
            <p:cNvPr id="1038" name=""/>
            <p:cNvSpPr/>
            <p:nvPr/>
          </p:nvSpPr>
          <p:spPr>
            <a:xfrm>
              <a:off x="3021120" y="1779480"/>
              <a:ext cx="668160" cy="2838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34240" y="3079800"/>
              <a:ext cx="170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3021120" y="4618080"/>
            <a:ext cx="668160" cy="1655640"/>
            <a:chOff x="3021120" y="4618080"/>
            <a:chExt cx="668160" cy="1655640"/>
          </a:xfrm>
        </p:grpSpPr>
        <p:sp>
          <p:nvSpPr>
            <p:cNvPr id="1041" name=""/>
            <p:cNvSpPr/>
            <p:nvPr/>
          </p:nvSpPr>
          <p:spPr>
            <a:xfrm>
              <a:off x="3021120" y="4618080"/>
              <a:ext cx="668160" cy="165564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220560" y="5327640"/>
              <a:ext cx="1929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3689280" y="5091120"/>
            <a:ext cx="668520" cy="1182600"/>
            <a:chOff x="3689280" y="5091120"/>
            <a:chExt cx="668520" cy="1182600"/>
          </a:xfrm>
        </p:grpSpPr>
        <p:sp>
          <p:nvSpPr>
            <p:cNvPr id="1044" name=""/>
            <p:cNvSpPr/>
            <p:nvPr/>
          </p:nvSpPr>
          <p:spPr>
            <a:xfrm>
              <a:off x="3689280" y="5091120"/>
              <a:ext cx="668520" cy="118260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882600" y="5564160"/>
              <a:ext cx="2739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3689280" y="1187280"/>
            <a:ext cx="668520" cy="592200"/>
            <a:chOff x="3689280" y="1187280"/>
            <a:chExt cx="668520" cy="592200"/>
          </a:xfrm>
        </p:grpSpPr>
        <p:sp>
          <p:nvSpPr>
            <p:cNvPr id="1047" name=""/>
            <p:cNvSpPr/>
            <p:nvPr/>
          </p:nvSpPr>
          <p:spPr>
            <a:xfrm>
              <a:off x="3689280" y="1187280"/>
              <a:ext cx="668520" cy="592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854160" y="1306440"/>
              <a:ext cx="3150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Á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3689280" y="1779480"/>
            <a:ext cx="668520" cy="1419480"/>
            <a:chOff x="3689280" y="1779480"/>
            <a:chExt cx="668520" cy="1419480"/>
          </a:xfrm>
        </p:grpSpPr>
        <p:sp>
          <p:nvSpPr>
            <p:cNvPr id="1050" name=""/>
            <p:cNvSpPr/>
            <p:nvPr/>
          </p:nvSpPr>
          <p:spPr>
            <a:xfrm>
              <a:off x="3689280" y="1779480"/>
              <a:ext cx="668520" cy="141948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873240" y="2308320"/>
              <a:ext cx="3088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3021120" y="3187800"/>
            <a:ext cx="2074680" cy="1457280"/>
            <a:chOff x="3021120" y="3187800"/>
            <a:chExt cx="2074680" cy="1457280"/>
          </a:xfrm>
        </p:grpSpPr>
        <p:grpSp>
          <p:nvGrpSpPr>
            <p:cNvPr id="1053" name=""/>
            <p:cNvGrpSpPr/>
            <p:nvPr/>
          </p:nvGrpSpPr>
          <p:grpSpPr>
            <a:xfrm>
              <a:off x="3021120" y="3187800"/>
              <a:ext cx="2074680" cy="1457280"/>
              <a:chOff x="3021120" y="3187800"/>
              <a:chExt cx="2074680" cy="1457280"/>
            </a:xfrm>
          </p:grpSpPr>
          <p:sp>
            <p:nvSpPr>
              <p:cNvPr id="1054" name=""/>
              <p:cNvSpPr/>
              <p:nvPr/>
            </p:nvSpPr>
            <p:spPr>
              <a:xfrm>
                <a:off x="3021120" y="4616280"/>
                <a:ext cx="69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5" name=""/>
              <p:cNvGrpSpPr/>
              <p:nvPr/>
            </p:nvGrpSpPr>
            <p:grpSpPr>
              <a:xfrm>
                <a:off x="3672000" y="3187800"/>
                <a:ext cx="1423800" cy="1457280"/>
                <a:chOff x="3672000" y="3187800"/>
                <a:chExt cx="1423800" cy="145728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3672000" y="3206880"/>
                  <a:ext cx="685800" cy="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V="1">
                  <a:off x="3689280" y="3187800"/>
                  <a:ext cx="0" cy="14572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343400" y="3200400"/>
                  <a:ext cx="752400" cy="1415880"/>
                </a:xfrm>
                <a:prstGeom prst="upDownArrow">
                  <a:avLst>
                    <a:gd name="adj1" fmla="val 50000"/>
                    <a:gd name="adj2" fmla="val 26885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59" name=""/>
            <p:cNvSpPr/>
            <p:nvPr/>
          </p:nvSpPr>
          <p:spPr>
            <a:xfrm>
              <a:off x="4594320" y="3735360"/>
              <a:ext cx="3441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omic Sans MS"/>
                </a:rPr>
                <a:t>M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>
            <a:off x="244440" y="736560"/>
            <a:ext cx="2689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omic Sans MS"/>
              </a:rPr>
              <a:t>Tőkeszükségleti te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452920" y="736560"/>
            <a:ext cx="2689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omic Sans MS"/>
              </a:rPr>
              <a:t>Tőkefedezeti te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omic Sans MS"/>
              </a:rPr>
              <a:t>A Balanced Scorecard rendszere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-360" y="1366920"/>
            <a:ext cx="8915400" cy="492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7360" indent="-38736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02600"/>
                </a:solidFill>
                <a:latin typeface="Comic Sans MS"/>
              </a:rPr>
              <a:t>Törekvés a vállalati teljesítmény szintetikus értékelésére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02600"/>
                </a:solidFill>
                <a:latin typeface="Comic Sans MS"/>
              </a:rPr>
              <a:t>Nézőpontok és tartalmuk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Piaci, vevőköri nézőpont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észarány, stabilitás, árpozíció, vevők megtartása, új vevők megszerzé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vőjövedelmezőség, vevőelégedettség, lojalitá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Gazdasági-pénzügyi nézőpont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galom, költségek, hozzáadott érté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övedelmezőség, termelékenység, tőkemegtérülé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Működési nézőpont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zetők kvalitása, vezetési stílus, döntésminősé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rányíthatóság, rugalmasság, likviditá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Cégtanulási, fejlődési nézőpont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nkatársak elégedettsége, termelékenység, lojalitá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Strukturális és stratégiai nézőpont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vékenységek versenyképessége, fejlesztések eredményessége stb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87360" indent="-38736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02600"/>
                </a:solidFill>
                <a:latin typeface="Comic Sans MS"/>
              </a:rPr>
              <a:t>A modell hasznosítása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1064" name=""/>
          <p:cNvSpPr/>
          <p:nvPr/>
        </p:nvSpPr>
        <p:spPr>
          <a:xfrm>
            <a:off x="80640" y="6532560"/>
            <a:ext cx="580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aplan-Norton: Balanced Scorecard. KJK-IFUA, Bp. 1998. 206-208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41120" y="477720"/>
            <a:ext cx="4957920" cy="7192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A pénzügyi nézőpont szerepe</a:t>
            </a:r>
            <a:endParaRPr b="1" lang="en-US" sz="24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71320" y="1541160"/>
            <a:ext cx="8272440" cy="16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7360" indent="-387360"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02600"/>
                </a:solidFill>
                <a:latin typeface="Comic Sans MS"/>
              </a:rPr>
              <a:t>Múltbeli események gazdasági következményeinek mérése</a:t>
            </a:r>
            <a:endParaRPr b="1" lang="en-US" sz="18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02600"/>
                </a:solidFill>
                <a:latin typeface="Comic Sans MS"/>
              </a:rPr>
              <a:t>A stratégia felülvizsgálata a jövedelmezőség szemszögéből</a:t>
            </a:r>
            <a:endParaRPr b="1" lang="en-US" sz="18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a00"/>
                </a:solidFill>
                <a:latin typeface="Comic Sans MS"/>
              </a:rPr>
              <a:t>Működőtőke hozama, hozzáadott érték</a:t>
            </a:r>
            <a:endParaRPr b="0" lang="en-US" sz="18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a00"/>
                </a:solidFill>
                <a:latin typeface="Comic Sans MS"/>
              </a:rPr>
              <a:t>Árbevétel, készpénzteremtő képesség stb.)</a:t>
            </a:r>
            <a:endParaRPr b="0" lang="en-US" sz="1800" spc="-1" strike="noStrike">
              <a:solidFill>
                <a:srgbClr val="006a00"/>
              </a:solidFill>
              <a:latin typeface="Comic Sans MS"/>
            </a:endParaRPr>
          </a:p>
        </p:txBody>
      </p:sp>
      <p:sp>
        <p:nvSpPr>
          <p:cNvPr id="1067" name=""/>
          <p:cNvSpPr/>
          <p:nvPr/>
        </p:nvSpPr>
        <p:spPr>
          <a:xfrm>
            <a:off x="80640" y="6532560"/>
            <a:ext cx="580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aplan-Norton: Balanced Scorecard. KJK-IFUA, Bp. 1998. 206-208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643200" y="3649680"/>
            <a:ext cx="5119920" cy="7192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Példák pénzügyi BSC-mutatók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76120" y="4915080"/>
            <a:ext cx="8623440" cy="12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 algn="r">
              <a:lnSpc>
                <a:spcPct val="100000"/>
              </a:lnSpc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02600"/>
                </a:solidFill>
                <a:latin typeface="Comic Sans MS"/>
              </a:rPr>
              <a:t>Részványárfolyam megkétszereződése adott időszak sorá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 algn="r">
              <a:lnSpc>
                <a:spcPct val="100000"/>
              </a:lnSpc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02600"/>
                </a:solidFill>
                <a:latin typeface="Comic Sans MS"/>
              </a:rPr>
              <a:t>Befektetett tőke 40%-os növeked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 algn="r">
              <a:lnSpc>
                <a:spcPct val="100000"/>
              </a:lnSpc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02600"/>
                </a:solidFill>
                <a:latin typeface="Comic Sans MS"/>
              </a:rPr>
              <a:t>Árbevétel 50%-os emelked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 algn="r">
              <a:lnSpc>
                <a:spcPct val="100000"/>
              </a:lnSpc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02600"/>
                </a:solidFill>
                <a:latin typeface="Comic Sans MS"/>
              </a:rPr>
              <a:t>A mai vevők keresletnövekedését 30%-kal meghaladó forgalomnöveked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304920" y="624852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zabó József (1997): Vállalatok, vállalkozások gazdaságtana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usiness Administration) Távoktatási jegyzet, SZIF Győ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omic Sans MS"/>
              </a:rPr>
              <a:t>A vállalati vagyon elemei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481176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5480" indent="-37548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02600"/>
                </a:solidFill>
                <a:latin typeface="Comic Sans MS"/>
              </a:rPr>
              <a:t>Dologi vagyonelemek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lvl="1" marL="923760" indent="-36324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Ingatlano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2" marL="1472040" indent="-1724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iulajdonjog, bérleti jog, használati jo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23760" indent="-36324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Gépek, berendezések, járműve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marL="375480" indent="-37548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02600"/>
                </a:solidFill>
                <a:latin typeface="Comic Sans MS"/>
              </a:rPr>
              <a:t>Ingóságok mint forgóeszközök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lvl="1" marL="923760" indent="-36324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Anyag, szerszám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23760" indent="-36324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Félkész és késztermék-készlet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marL="375480" indent="-37548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02600"/>
                </a:solidFill>
                <a:latin typeface="Comic Sans MS"/>
              </a:rPr>
              <a:t>Pénzjellegű vagyonelemek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lvl="1" marL="923760" indent="-36324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Készpénz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23760" indent="-36324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Követelések, tartozáso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23760" indent="-36324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Egyéb pénzjellegű vagyon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35456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7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02600"/>
                </a:solidFill>
                <a:latin typeface="Comic Sans MS"/>
              </a:rPr>
              <a:t>Egyéb vagyonelemek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Értékpapíro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ötvény, részvén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áltó, egyéb értékpapí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Vállalati üzletrésze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észvény, üzletrés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Szellemi jogok és terméke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alálmány, szabadal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édjeg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now-ho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517760" indent="-177840">
              <a:buClr>
                <a:srgbClr val="000000"/>
              </a:buClr>
              <a:buFont typeface="Monotype Sort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gyéb szellemi terméke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3749760" y="5927760"/>
            <a:ext cx="232092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8000"/>
                </a:solidFill>
                <a:latin typeface="Comic Sans MS"/>
              </a:rPr>
              <a:t>Tartalékok t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617920" y="711360"/>
            <a:ext cx="2808000" cy="1720800"/>
          </a:xfrm>
          <a:custGeom>
            <a:avLst/>
            <a:gdLst>
              <a:gd name="textAreaLeft" fmla="*/ 640800 w 2808000"/>
              <a:gd name="textAreaRight" fmla="*/ 2167200 w 2808000"/>
              <a:gd name="textAreaTop" fmla="*/ 392760 h 1720800"/>
              <a:gd name="textAreaBottom" fmla="*/ 1328040 h 1720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ed8a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18ffd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Kréd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misszi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filozóf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881440" y="4684680"/>
            <a:ext cx="2092320" cy="485640"/>
          </a:xfrm>
          <a:prstGeom prst="octagon">
            <a:avLst>
              <a:gd name="adj" fmla="val 29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hu-HU" sz="1800" spc="-1" strike="noStrike">
                <a:solidFill>
                  <a:srgbClr val="008000"/>
                </a:solidFill>
                <a:latin typeface="Comic Sans MS"/>
              </a:rPr>
              <a:t>Cégdiagnóz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rot="840000">
            <a:off x="5474880" y="1285920"/>
            <a:ext cx="428760" cy="447480"/>
          </a:xfrm>
          <a:prstGeom prst="rightArrow">
            <a:avLst>
              <a:gd name="adj1" fmla="val 52602"/>
              <a:gd name="adj2" fmla="val 50264"/>
            </a:avLst>
          </a:prstGeom>
          <a:gradFill rotWithShape="0">
            <a:gsLst>
              <a:gs pos="0">
                <a:srgbClr val="ff9900"/>
              </a:gs>
              <a:gs pos="100000">
                <a:srgbClr val="fed8a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18ffd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 rot="16200000">
            <a:off x="6730920" y="1917720"/>
            <a:ext cx="596880" cy="104760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9900"/>
              </a:gs>
              <a:gs pos="100000">
                <a:srgbClr val="fed8a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18ffd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25680" y="5923080"/>
            <a:ext cx="209232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8000"/>
                </a:solidFill>
                <a:latin typeface="Comic Sans MS"/>
              </a:rPr>
              <a:t>Akciók t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 rot="12480000">
            <a:off x="5000760" y="5273280"/>
            <a:ext cx="552240" cy="488880"/>
          </a:xfrm>
          <a:prstGeom prst="rightArrow">
            <a:avLst>
              <a:gd name="adj1" fmla="val 50000"/>
              <a:gd name="adj2" fmla="val 56485"/>
            </a:avLst>
          </a:prstGeom>
          <a:gradFill rotWithShape="0">
            <a:gsLst>
              <a:gs pos="0">
                <a:srgbClr val="ff9900"/>
              </a:gs>
              <a:gs pos="100000">
                <a:srgbClr val="fed8a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18ffd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6630840" y="1595880"/>
            <a:ext cx="2292120" cy="4249080"/>
            <a:chOff x="6630840" y="1595880"/>
            <a:chExt cx="2292120" cy="4249080"/>
          </a:xfrm>
        </p:grpSpPr>
        <p:sp>
          <p:nvSpPr>
            <p:cNvPr id="1082" name=""/>
            <p:cNvSpPr/>
            <p:nvPr/>
          </p:nvSpPr>
          <p:spPr>
            <a:xfrm>
              <a:off x="7709040" y="3338640"/>
              <a:ext cx="945720" cy="83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80" y="202"/>
                  </a:moveTo>
                  <a:arcTo wR="10800" hR="10800" stAng="-4733656" swAng="8137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80" y="202"/>
                  </a:moveTo>
                  <a:arcTo wR="10800" hR="10800" stAng="-4733656" swAng="8137535"/>
                </a:path>
              </a:pathLst>
            </a:custGeom>
            <a:noFill/>
            <a:ln cap="rnd" w="6480">
              <a:solidFill>
                <a:srgbClr val="00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10800000">
              <a:off x="7389360" y="3008160"/>
              <a:ext cx="1414800" cy="156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60" y="21575"/>
                  </a:moveTo>
                  <a:arcTo wR="10800" hR="10800" stAng="5635799" swAng="88800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60" y="21575"/>
                  </a:moveTo>
                  <a:arcTo wR="10800" hR="10800" stAng="5635799" swAng="8880036"/>
                </a:path>
              </a:pathLst>
            </a:custGeom>
            <a:noFill/>
            <a:ln cap="rnd" w="6480">
              <a:solidFill>
                <a:srgbClr val="00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630840" y="1595880"/>
              <a:ext cx="2292120" cy="424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495" y="652"/>
                  </a:moveTo>
                  <a:arcTo wR="10800" hR="10800" stAng="-4199583" swAng="91907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495" y="652"/>
                  </a:moveTo>
                  <a:arcTo wR="10800" hR="10800" stAng="-4199583" swAng="9190788"/>
                </a:path>
              </a:pathLst>
            </a:custGeom>
            <a:noFill/>
            <a:ln cap="rnd" w="6480">
              <a:solidFill>
                <a:srgbClr val="000000"/>
              </a:solidFill>
              <a:custDash>
                <a:ds d="499000" sp="201000"/>
              </a:custDash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193680" y="1425600"/>
            <a:ext cx="209232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8000"/>
                </a:solidFill>
                <a:latin typeface="Comic Sans MS"/>
              </a:rPr>
              <a:t>Piacisme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87440" y="2117880"/>
            <a:ext cx="209376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8000"/>
                </a:solidFill>
                <a:latin typeface="Comic Sans MS"/>
              </a:rPr>
              <a:t>Helyzetelemz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73280" y="2801880"/>
            <a:ext cx="236988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8000"/>
                </a:solidFill>
                <a:latin typeface="Comic Sans MS"/>
              </a:rPr>
              <a:t>Környezetvizsgál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087560" y="3495600"/>
            <a:ext cx="2158920" cy="5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8000"/>
                </a:solidFill>
                <a:latin typeface="Comic Sans MS"/>
              </a:rPr>
              <a:t>Prognózis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019920" y="2846520"/>
            <a:ext cx="209232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8000"/>
                </a:solidFill>
                <a:latin typeface="Comic Sans MS"/>
              </a:rPr>
              <a:t>Jövedelmezősé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162840" y="3527280"/>
            <a:ext cx="2093760" cy="5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8000"/>
                </a:solidFill>
                <a:latin typeface="Comic Sans MS"/>
              </a:rPr>
              <a:t>Tőkeforgat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313320" y="4208400"/>
            <a:ext cx="209232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8000"/>
                </a:solidFill>
                <a:latin typeface="Comic Sans MS"/>
              </a:rPr>
              <a:t>Innováci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019920" y="754200"/>
            <a:ext cx="209232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8000"/>
                </a:solidFill>
                <a:latin typeface="Comic Sans MS"/>
              </a:rPr>
              <a:t>Piaci cél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018120" y="1428840"/>
            <a:ext cx="209232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8000"/>
                </a:solidFill>
                <a:latin typeface="Comic Sans MS"/>
              </a:rPr>
              <a:t>Likviditási cél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6165720" y="5205240"/>
            <a:ext cx="2090880" cy="1266840"/>
            <a:chOff x="6165720" y="5205240"/>
            <a:chExt cx="2090880" cy="1266840"/>
          </a:xfrm>
        </p:grpSpPr>
        <p:sp>
          <p:nvSpPr>
            <p:cNvPr id="1095" name=""/>
            <p:cNvSpPr/>
            <p:nvPr/>
          </p:nvSpPr>
          <p:spPr>
            <a:xfrm>
              <a:off x="6165720" y="5205240"/>
              <a:ext cx="2090880" cy="1266840"/>
            </a:xfrm>
            <a:custGeom>
              <a:avLst/>
              <a:gdLst/>
              <a:ahLst/>
              <a:rect l="l" t="t" r="r" b="b"/>
              <a:pathLst>
                <a:path w="1041" h="725">
                  <a:moveTo>
                    <a:pt x="30" y="26"/>
                  </a:moveTo>
                  <a:lnTo>
                    <a:pt x="58" y="49"/>
                  </a:lnTo>
                  <a:lnTo>
                    <a:pt x="88" y="70"/>
                  </a:lnTo>
                  <a:lnTo>
                    <a:pt x="117" y="91"/>
                  </a:lnTo>
                  <a:lnTo>
                    <a:pt x="147" y="110"/>
                  </a:lnTo>
                  <a:lnTo>
                    <a:pt x="175" y="128"/>
                  </a:lnTo>
                  <a:lnTo>
                    <a:pt x="205" y="143"/>
                  </a:lnTo>
                  <a:lnTo>
                    <a:pt x="236" y="158"/>
                  </a:lnTo>
                  <a:lnTo>
                    <a:pt x="263" y="171"/>
                  </a:lnTo>
                  <a:lnTo>
                    <a:pt x="292" y="183"/>
                  </a:lnTo>
                  <a:lnTo>
                    <a:pt x="319" y="196"/>
                  </a:lnTo>
                  <a:lnTo>
                    <a:pt x="348" y="207"/>
                  </a:lnTo>
                  <a:lnTo>
                    <a:pt x="374" y="215"/>
                  </a:lnTo>
                  <a:lnTo>
                    <a:pt x="401" y="223"/>
                  </a:lnTo>
                  <a:lnTo>
                    <a:pt x="425" y="231"/>
                  </a:lnTo>
                  <a:lnTo>
                    <a:pt x="452" y="237"/>
                  </a:lnTo>
                  <a:lnTo>
                    <a:pt x="475" y="243"/>
                  </a:lnTo>
                  <a:lnTo>
                    <a:pt x="499" y="250"/>
                  </a:lnTo>
                  <a:lnTo>
                    <a:pt x="520" y="253"/>
                  </a:lnTo>
                  <a:lnTo>
                    <a:pt x="539" y="258"/>
                  </a:lnTo>
                  <a:lnTo>
                    <a:pt x="560" y="260"/>
                  </a:lnTo>
                  <a:lnTo>
                    <a:pt x="578" y="263"/>
                  </a:lnTo>
                  <a:lnTo>
                    <a:pt x="594" y="266"/>
                  </a:lnTo>
                  <a:lnTo>
                    <a:pt x="610" y="268"/>
                  </a:lnTo>
                  <a:lnTo>
                    <a:pt x="624" y="268"/>
                  </a:lnTo>
                  <a:lnTo>
                    <a:pt x="638" y="270"/>
                  </a:lnTo>
                  <a:lnTo>
                    <a:pt x="647" y="272"/>
                  </a:lnTo>
                  <a:lnTo>
                    <a:pt x="656" y="272"/>
                  </a:lnTo>
                  <a:lnTo>
                    <a:pt x="663" y="272"/>
                  </a:lnTo>
                  <a:lnTo>
                    <a:pt x="669" y="272"/>
                  </a:lnTo>
                  <a:lnTo>
                    <a:pt x="671" y="272"/>
                  </a:lnTo>
                  <a:lnTo>
                    <a:pt x="672" y="272"/>
                  </a:lnTo>
                  <a:lnTo>
                    <a:pt x="672" y="181"/>
                  </a:lnTo>
                  <a:lnTo>
                    <a:pt x="1040" y="362"/>
                  </a:lnTo>
                  <a:lnTo>
                    <a:pt x="672" y="543"/>
                  </a:lnTo>
                  <a:lnTo>
                    <a:pt x="672" y="453"/>
                  </a:lnTo>
                  <a:lnTo>
                    <a:pt x="671" y="453"/>
                  </a:lnTo>
                  <a:lnTo>
                    <a:pt x="669" y="453"/>
                  </a:lnTo>
                  <a:lnTo>
                    <a:pt x="663" y="453"/>
                  </a:lnTo>
                  <a:lnTo>
                    <a:pt x="656" y="453"/>
                  </a:lnTo>
                  <a:lnTo>
                    <a:pt x="647" y="453"/>
                  </a:lnTo>
                  <a:lnTo>
                    <a:pt x="638" y="454"/>
                  </a:lnTo>
                  <a:lnTo>
                    <a:pt x="624" y="454"/>
                  </a:lnTo>
                  <a:lnTo>
                    <a:pt x="610" y="456"/>
                  </a:lnTo>
                  <a:lnTo>
                    <a:pt x="594" y="458"/>
                  </a:lnTo>
                  <a:lnTo>
                    <a:pt x="578" y="461"/>
                  </a:lnTo>
                  <a:lnTo>
                    <a:pt x="560" y="463"/>
                  </a:lnTo>
                  <a:lnTo>
                    <a:pt x="539" y="466"/>
                  </a:lnTo>
                  <a:lnTo>
                    <a:pt x="520" y="470"/>
                  </a:lnTo>
                  <a:lnTo>
                    <a:pt x="499" y="474"/>
                  </a:lnTo>
                  <a:lnTo>
                    <a:pt x="475" y="479"/>
                  </a:lnTo>
                  <a:lnTo>
                    <a:pt x="452" y="487"/>
                  </a:lnTo>
                  <a:lnTo>
                    <a:pt x="425" y="493"/>
                  </a:lnTo>
                  <a:lnTo>
                    <a:pt x="401" y="499"/>
                  </a:lnTo>
                  <a:lnTo>
                    <a:pt x="374" y="508"/>
                  </a:lnTo>
                  <a:lnTo>
                    <a:pt x="348" y="517"/>
                  </a:lnTo>
                  <a:lnTo>
                    <a:pt x="319" y="528"/>
                  </a:lnTo>
                  <a:lnTo>
                    <a:pt x="292" y="540"/>
                  </a:lnTo>
                  <a:lnTo>
                    <a:pt x="263" y="553"/>
                  </a:lnTo>
                  <a:lnTo>
                    <a:pt x="236" y="566"/>
                  </a:lnTo>
                  <a:lnTo>
                    <a:pt x="205" y="581"/>
                  </a:lnTo>
                  <a:lnTo>
                    <a:pt x="175" y="596"/>
                  </a:lnTo>
                  <a:lnTo>
                    <a:pt x="147" y="614"/>
                  </a:lnTo>
                  <a:lnTo>
                    <a:pt x="117" y="634"/>
                  </a:lnTo>
                  <a:lnTo>
                    <a:pt x="88" y="654"/>
                  </a:lnTo>
                  <a:lnTo>
                    <a:pt x="58" y="675"/>
                  </a:lnTo>
                  <a:lnTo>
                    <a:pt x="30" y="698"/>
                  </a:lnTo>
                  <a:lnTo>
                    <a:pt x="0" y="724"/>
                  </a:lnTo>
                  <a:lnTo>
                    <a:pt x="11" y="706"/>
                  </a:lnTo>
                  <a:lnTo>
                    <a:pt x="21" y="687"/>
                  </a:lnTo>
                  <a:lnTo>
                    <a:pt x="32" y="667"/>
                  </a:lnTo>
                  <a:lnTo>
                    <a:pt x="41" y="648"/>
                  </a:lnTo>
                  <a:lnTo>
                    <a:pt x="49" y="627"/>
                  </a:lnTo>
                  <a:lnTo>
                    <a:pt x="56" y="605"/>
                  </a:lnTo>
                  <a:lnTo>
                    <a:pt x="62" y="583"/>
                  </a:lnTo>
                  <a:lnTo>
                    <a:pt x="69" y="560"/>
                  </a:lnTo>
                  <a:lnTo>
                    <a:pt x="74" y="537"/>
                  </a:lnTo>
                  <a:lnTo>
                    <a:pt x="79" y="512"/>
                  </a:lnTo>
                  <a:lnTo>
                    <a:pt x="83" y="488"/>
                  </a:lnTo>
                  <a:lnTo>
                    <a:pt x="86" y="463"/>
                  </a:lnTo>
                  <a:lnTo>
                    <a:pt x="90" y="438"/>
                  </a:lnTo>
                  <a:lnTo>
                    <a:pt x="91" y="412"/>
                  </a:lnTo>
                  <a:lnTo>
                    <a:pt x="92" y="386"/>
                  </a:lnTo>
                  <a:lnTo>
                    <a:pt x="92" y="362"/>
                  </a:lnTo>
                  <a:lnTo>
                    <a:pt x="92" y="338"/>
                  </a:lnTo>
                  <a:lnTo>
                    <a:pt x="91" y="312"/>
                  </a:lnTo>
                  <a:lnTo>
                    <a:pt x="90" y="286"/>
                  </a:lnTo>
                  <a:lnTo>
                    <a:pt x="86" y="260"/>
                  </a:lnTo>
                  <a:lnTo>
                    <a:pt x="83" y="236"/>
                  </a:lnTo>
                  <a:lnTo>
                    <a:pt x="79" y="212"/>
                  </a:lnTo>
                  <a:lnTo>
                    <a:pt x="74" y="187"/>
                  </a:lnTo>
                  <a:lnTo>
                    <a:pt x="69" y="164"/>
                  </a:lnTo>
                  <a:lnTo>
                    <a:pt x="62" y="141"/>
                  </a:lnTo>
                  <a:lnTo>
                    <a:pt x="56" y="119"/>
                  </a:lnTo>
                  <a:lnTo>
                    <a:pt x="49" y="97"/>
                  </a:lnTo>
                  <a:lnTo>
                    <a:pt x="41" y="76"/>
                  </a:lnTo>
                  <a:lnTo>
                    <a:pt x="32" y="55"/>
                  </a:lnTo>
                  <a:lnTo>
                    <a:pt x="21" y="35"/>
                  </a:lnTo>
                  <a:lnTo>
                    <a:pt x="11" y="18"/>
                  </a:lnTo>
                  <a:lnTo>
                    <a:pt x="0" y="0"/>
                  </a:lnTo>
                  <a:lnTo>
                    <a:pt x="30" y="2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296040" y="5578200"/>
              <a:ext cx="1566720" cy="45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Comic Sans MS"/>
                </a:rPr>
                <a:t>Korrekció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7" name=""/>
          <p:cNvSpPr/>
          <p:nvPr/>
        </p:nvSpPr>
        <p:spPr>
          <a:xfrm>
            <a:off x="1692360" y="4183200"/>
            <a:ext cx="1065240" cy="1152360"/>
          </a:xfrm>
          <a:custGeom>
            <a:avLst/>
            <a:gdLst/>
            <a:ahLst/>
            <a:rect l="l" t="t" r="r" b="b"/>
            <a:pathLst>
              <a:path w="727" h="726">
                <a:moveTo>
                  <a:pt x="214" y="276"/>
                </a:moveTo>
                <a:lnTo>
                  <a:pt x="200" y="266"/>
                </a:lnTo>
                <a:lnTo>
                  <a:pt x="186" y="257"/>
                </a:lnTo>
                <a:lnTo>
                  <a:pt x="174" y="248"/>
                </a:lnTo>
                <a:lnTo>
                  <a:pt x="161" y="237"/>
                </a:lnTo>
                <a:lnTo>
                  <a:pt x="149" y="226"/>
                </a:lnTo>
                <a:lnTo>
                  <a:pt x="138" y="214"/>
                </a:lnTo>
                <a:lnTo>
                  <a:pt x="127" y="204"/>
                </a:lnTo>
                <a:lnTo>
                  <a:pt x="116" y="192"/>
                </a:lnTo>
                <a:lnTo>
                  <a:pt x="107" y="179"/>
                </a:lnTo>
                <a:lnTo>
                  <a:pt x="96" y="168"/>
                </a:lnTo>
                <a:lnTo>
                  <a:pt x="87" y="157"/>
                </a:lnTo>
                <a:lnTo>
                  <a:pt x="79" y="144"/>
                </a:lnTo>
                <a:lnTo>
                  <a:pt x="71" y="133"/>
                </a:lnTo>
                <a:lnTo>
                  <a:pt x="63" y="122"/>
                </a:lnTo>
                <a:lnTo>
                  <a:pt x="56" y="109"/>
                </a:lnTo>
                <a:lnTo>
                  <a:pt x="49" y="98"/>
                </a:lnTo>
                <a:lnTo>
                  <a:pt x="42" y="89"/>
                </a:lnTo>
                <a:lnTo>
                  <a:pt x="36" y="76"/>
                </a:lnTo>
                <a:lnTo>
                  <a:pt x="31" y="67"/>
                </a:lnTo>
                <a:lnTo>
                  <a:pt x="26" y="57"/>
                </a:lnTo>
                <a:lnTo>
                  <a:pt x="22" y="48"/>
                </a:lnTo>
                <a:lnTo>
                  <a:pt x="17" y="41"/>
                </a:lnTo>
                <a:lnTo>
                  <a:pt x="14" y="31"/>
                </a:lnTo>
                <a:lnTo>
                  <a:pt x="10" y="24"/>
                </a:lnTo>
                <a:lnTo>
                  <a:pt x="8" y="18"/>
                </a:lnTo>
                <a:lnTo>
                  <a:pt x="5" y="13"/>
                </a:lnTo>
                <a:lnTo>
                  <a:pt x="3" y="8"/>
                </a:lnTo>
                <a:lnTo>
                  <a:pt x="1" y="5"/>
                </a:lnTo>
                <a:lnTo>
                  <a:pt x="1" y="2"/>
                </a:lnTo>
                <a:lnTo>
                  <a:pt x="0" y="0"/>
                </a:lnTo>
                <a:lnTo>
                  <a:pt x="0" y="4"/>
                </a:lnTo>
                <a:lnTo>
                  <a:pt x="1" y="8"/>
                </a:lnTo>
                <a:lnTo>
                  <a:pt x="2" y="11"/>
                </a:lnTo>
                <a:lnTo>
                  <a:pt x="3" y="18"/>
                </a:lnTo>
                <a:lnTo>
                  <a:pt x="5" y="26"/>
                </a:lnTo>
                <a:lnTo>
                  <a:pt x="6" y="33"/>
                </a:lnTo>
                <a:lnTo>
                  <a:pt x="9" y="44"/>
                </a:lnTo>
                <a:lnTo>
                  <a:pt x="12" y="55"/>
                </a:lnTo>
                <a:lnTo>
                  <a:pt x="14" y="67"/>
                </a:lnTo>
                <a:lnTo>
                  <a:pt x="17" y="80"/>
                </a:lnTo>
                <a:lnTo>
                  <a:pt x="21" y="93"/>
                </a:lnTo>
                <a:lnTo>
                  <a:pt x="24" y="107"/>
                </a:lnTo>
                <a:lnTo>
                  <a:pt x="28" y="122"/>
                </a:lnTo>
                <a:lnTo>
                  <a:pt x="33" y="137"/>
                </a:lnTo>
                <a:lnTo>
                  <a:pt x="37" y="154"/>
                </a:lnTo>
                <a:lnTo>
                  <a:pt x="42" y="170"/>
                </a:lnTo>
                <a:lnTo>
                  <a:pt x="48" y="187"/>
                </a:lnTo>
                <a:lnTo>
                  <a:pt x="54" y="204"/>
                </a:lnTo>
                <a:lnTo>
                  <a:pt x="60" y="220"/>
                </a:lnTo>
                <a:lnTo>
                  <a:pt x="66" y="237"/>
                </a:lnTo>
                <a:lnTo>
                  <a:pt x="73" y="255"/>
                </a:lnTo>
                <a:lnTo>
                  <a:pt x="80" y="272"/>
                </a:lnTo>
                <a:lnTo>
                  <a:pt x="87" y="289"/>
                </a:lnTo>
                <a:lnTo>
                  <a:pt x="95" y="305"/>
                </a:lnTo>
                <a:lnTo>
                  <a:pt x="104" y="322"/>
                </a:lnTo>
                <a:lnTo>
                  <a:pt x="112" y="338"/>
                </a:lnTo>
                <a:lnTo>
                  <a:pt x="121" y="355"/>
                </a:lnTo>
                <a:lnTo>
                  <a:pt x="131" y="372"/>
                </a:lnTo>
                <a:lnTo>
                  <a:pt x="140" y="387"/>
                </a:lnTo>
                <a:lnTo>
                  <a:pt x="150" y="400"/>
                </a:lnTo>
                <a:lnTo>
                  <a:pt x="161" y="414"/>
                </a:lnTo>
                <a:lnTo>
                  <a:pt x="172" y="426"/>
                </a:lnTo>
                <a:lnTo>
                  <a:pt x="183" y="438"/>
                </a:lnTo>
                <a:lnTo>
                  <a:pt x="195" y="451"/>
                </a:lnTo>
                <a:lnTo>
                  <a:pt x="207" y="462"/>
                </a:lnTo>
                <a:lnTo>
                  <a:pt x="219" y="473"/>
                </a:lnTo>
                <a:lnTo>
                  <a:pt x="231" y="483"/>
                </a:lnTo>
                <a:lnTo>
                  <a:pt x="244" y="494"/>
                </a:lnTo>
                <a:lnTo>
                  <a:pt x="256" y="503"/>
                </a:lnTo>
                <a:lnTo>
                  <a:pt x="269" y="511"/>
                </a:lnTo>
                <a:lnTo>
                  <a:pt x="282" y="520"/>
                </a:lnTo>
                <a:lnTo>
                  <a:pt x="294" y="527"/>
                </a:lnTo>
                <a:lnTo>
                  <a:pt x="307" y="533"/>
                </a:lnTo>
                <a:lnTo>
                  <a:pt x="319" y="540"/>
                </a:lnTo>
                <a:lnTo>
                  <a:pt x="331" y="547"/>
                </a:lnTo>
                <a:lnTo>
                  <a:pt x="343" y="553"/>
                </a:lnTo>
                <a:lnTo>
                  <a:pt x="355" y="559"/>
                </a:lnTo>
                <a:lnTo>
                  <a:pt x="366" y="562"/>
                </a:lnTo>
                <a:lnTo>
                  <a:pt x="377" y="568"/>
                </a:lnTo>
                <a:lnTo>
                  <a:pt x="387" y="571"/>
                </a:lnTo>
                <a:lnTo>
                  <a:pt x="397" y="575"/>
                </a:lnTo>
                <a:lnTo>
                  <a:pt x="407" y="579"/>
                </a:lnTo>
                <a:lnTo>
                  <a:pt x="416" y="583"/>
                </a:lnTo>
                <a:lnTo>
                  <a:pt x="424" y="584"/>
                </a:lnTo>
                <a:lnTo>
                  <a:pt x="432" y="588"/>
                </a:lnTo>
                <a:lnTo>
                  <a:pt x="438" y="590"/>
                </a:lnTo>
                <a:lnTo>
                  <a:pt x="445" y="592"/>
                </a:lnTo>
                <a:lnTo>
                  <a:pt x="450" y="594"/>
                </a:lnTo>
                <a:lnTo>
                  <a:pt x="454" y="594"/>
                </a:lnTo>
                <a:lnTo>
                  <a:pt x="458" y="596"/>
                </a:lnTo>
                <a:lnTo>
                  <a:pt x="460" y="596"/>
                </a:lnTo>
                <a:lnTo>
                  <a:pt x="462" y="596"/>
                </a:lnTo>
                <a:lnTo>
                  <a:pt x="463" y="596"/>
                </a:lnTo>
                <a:lnTo>
                  <a:pt x="463" y="725"/>
                </a:lnTo>
                <a:lnTo>
                  <a:pt x="726" y="466"/>
                </a:lnTo>
                <a:lnTo>
                  <a:pt x="463" y="207"/>
                </a:lnTo>
                <a:lnTo>
                  <a:pt x="463" y="337"/>
                </a:lnTo>
                <a:lnTo>
                  <a:pt x="462" y="337"/>
                </a:lnTo>
                <a:lnTo>
                  <a:pt x="460" y="338"/>
                </a:lnTo>
                <a:lnTo>
                  <a:pt x="459" y="338"/>
                </a:lnTo>
                <a:lnTo>
                  <a:pt x="457" y="338"/>
                </a:lnTo>
                <a:lnTo>
                  <a:pt x="454" y="338"/>
                </a:lnTo>
                <a:lnTo>
                  <a:pt x="451" y="340"/>
                </a:lnTo>
                <a:lnTo>
                  <a:pt x="448" y="340"/>
                </a:lnTo>
                <a:lnTo>
                  <a:pt x="444" y="340"/>
                </a:lnTo>
                <a:lnTo>
                  <a:pt x="440" y="340"/>
                </a:lnTo>
                <a:lnTo>
                  <a:pt x="435" y="342"/>
                </a:lnTo>
                <a:lnTo>
                  <a:pt x="429" y="342"/>
                </a:lnTo>
                <a:lnTo>
                  <a:pt x="424" y="342"/>
                </a:lnTo>
                <a:lnTo>
                  <a:pt x="418" y="342"/>
                </a:lnTo>
                <a:lnTo>
                  <a:pt x="411" y="342"/>
                </a:lnTo>
                <a:lnTo>
                  <a:pt x="404" y="342"/>
                </a:lnTo>
                <a:lnTo>
                  <a:pt x="396" y="340"/>
                </a:lnTo>
                <a:lnTo>
                  <a:pt x="388" y="340"/>
                </a:lnTo>
                <a:lnTo>
                  <a:pt x="380" y="338"/>
                </a:lnTo>
                <a:lnTo>
                  <a:pt x="371" y="337"/>
                </a:lnTo>
                <a:lnTo>
                  <a:pt x="361" y="334"/>
                </a:lnTo>
                <a:lnTo>
                  <a:pt x="352" y="333"/>
                </a:lnTo>
                <a:lnTo>
                  <a:pt x="342" y="331"/>
                </a:lnTo>
                <a:lnTo>
                  <a:pt x="330" y="327"/>
                </a:lnTo>
                <a:lnTo>
                  <a:pt x="319" y="324"/>
                </a:lnTo>
                <a:lnTo>
                  <a:pt x="308" y="320"/>
                </a:lnTo>
                <a:lnTo>
                  <a:pt x="296" y="315"/>
                </a:lnTo>
                <a:lnTo>
                  <a:pt x="283" y="309"/>
                </a:lnTo>
                <a:lnTo>
                  <a:pt x="270" y="305"/>
                </a:lnTo>
                <a:lnTo>
                  <a:pt x="256" y="298"/>
                </a:lnTo>
                <a:lnTo>
                  <a:pt x="243" y="290"/>
                </a:lnTo>
                <a:lnTo>
                  <a:pt x="228" y="283"/>
                </a:lnTo>
                <a:lnTo>
                  <a:pt x="214" y="276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ed8a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18ffd"/>
            </a:solidFill>
            <a:round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 rot="16200000">
            <a:off x="6894360" y="4844160"/>
            <a:ext cx="285480" cy="63684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9900"/>
              </a:gs>
              <a:gs pos="100000">
                <a:srgbClr val="fed8a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18ffd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1113120" y="-130320"/>
            <a:ext cx="5591160" cy="5310360"/>
            <a:chOff x="1113120" y="-130320"/>
            <a:chExt cx="5591160" cy="5310360"/>
          </a:xfrm>
        </p:grpSpPr>
        <p:sp>
          <p:nvSpPr>
            <p:cNvPr id="1100" name=""/>
            <p:cNvSpPr/>
            <p:nvPr/>
          </p:nvSpPr>
          <p:spPr>
            <a:xfrm rot="18809400">
              <a:off x="4729320" y="3744720"/>
              <a:ext cx="600120" cy="450720"/>
            </a:xfrm>
            <a:prstGeom prst="rightArrow">
              <a:avLst>
                <a:gd name="adj1" fmla="val 51972"/>
                <a:gd name="adj2" fmla="val 67233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ed8a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18ffd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rot="20514600">
              <a:off x="3602520" y="3242880"/>
              <a:ext cx="1319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Comic Sans MS"/>
                </a:rPr>
                <a:t>Mozgásté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1113120" y="-130320"/>
              <a:ext cx="5591160" cy="5310360"/>
              <a:chOff x="1113120" y="-130320"/>
              <a:chExt cx="5591160" cy="5310360"/>
            </a:xfrm>
          </p:grpSpPr>
          <p:sp>
            <p:nvSpPr>
              <p:cNvPr id="1103" name=""/>
              <p:cNvSpPr/>
              <p:nvPr/>
            </p:nvSpPr>
            <p:spPr>
              <a:xfrm rot="20760000">
                <a:off x="2304360" y="1101600"/>
                <a:ext cx="3684240" cy="237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561" y="15423"/>
                    </a:moveTo>
                    <a:arcTo wR="10800" hR="10800" stAng="1520642" swAng="29950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561" y="15423"/>
                    </a:moveTo>
                    <a:arcTo wR="10800" hR="10800" stAng="1520642" swAng="299504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19740000">
                <a:off x="1717200" y="744120"/>
                <a:ext cx="4383000" cy="356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6" y="17038"/>
                    </a:moveTo>
                    <a:arcTo wR="10800" hR="10800" stAng="2116833" swAng="23872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6" y="17038"/>
                    </a:moveTo>
                    <a:arcTo wR="10800" hR="10800" stAng="2116833" swAng="238727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4973400" y="3115440"/>
            <a:ext cx="1339920" cy="1811880"/>
            <a:chOff x="4973400" y="3115440"/>
            <a:chExt cx="1339920" cy="1811880"/>
          </a:xfrm>
        </p:grpSpPr>
        <p:cxnSp>
          <p:nvCxnSpPr>
            <p:cNvPr id="1106" name=""/>
            <p:cNvCxnSpPr>
              <a:stCxn id="1076" idx="3"/>
              <a:endCxn id="1089" idx="1"/>
            </p:cNvCxnSpPr>
            <p:nvPr/>
          </p:nvCxnSpPr>
          <p:spPr>
            <a:xfrm flipV="1">
              <a:off x="4973760" y="3115440"/>
              <a:ext cx="1046880" cy="1811880"/>
            </a:xfrm>
            <a:prstGeom prst="curvedConnector5">
              <a:avLst>
                <a:gd name="adj1" fmla="val 49914"/>
                <a:gd name="adj2" fmla="val 50000"/>
                <a:gd name="adj3" fmla="val 49914"/>
              </a:avLst>
            </a:prstGeom>
            <a:ln w="6480">
              <a:solidFill>
                <a:srgbClr val="000000"/>
              </a:solidFill>
              <a:miter/>
              <a:tailEnd len="lg" type="stealth" w="sm"/>
            </a:ln>
          </p:spPr>
        </p:cxnSp>
        <p:cxnSp>
          <p:nvCxnSpPr>
            <p:cNvPr id="1107" name=""/>
            <p:cNvCxnSpPr>
              <a:stCxn id="1076" idx="3"/>
              <a:endCxn id="1090" idx="1"/>
            </p:cNvCxnSpPr>
            <p:nvPr/>
          </p:nvCxnSpPr>
          <p:spPr>
            <a:xfrm flipV="1">
              <a:off x="4973400" y="3796560"/>
              <a:ext cx="1189800" cy="1130760"/>
            </a:xfrm>
            <a:prstGeom prst="curvedConnector5">
              <a:avLst>
                <a:gd name="adj1" fmla="val 49909"/>
                <a:gd name="adj2" fmla="val 50000"/>
                <a:gd name="adj3" fmla="val 49909"/>
              </a:avLst>
            </a:prstGeom>
            <a:ln w="6480">
              <a:solidFill>
                <a:srgbClr val="000000"/>
              </a:solidFill>
              <a:miter/>
              <a:tailEnd len="lg" type="stealth" w="sm"/>
            </a:ln>
          </p:spPr>
        </p:cxnSp>
        <p:cxnSp>
          <p:nvCxnSpPr>
            <p:cNvPr id="1108" name=""/>
            <p:cNvCxnSpPr>
              <a:stCxn id="1076" idx="3"/>
              <a:endCxn id="1091" idx="1"/>
            </p:cNvCxnSpPr>
            <p:nvPr/>
          </p:nvCxnSpPr>
          <p:spPr>
            <a:xfrm flipV="1">
              <a:off x="4973400" y="4477680"/>
              <a:ext cx="1340280" cy="450000"/>
            </a:xfrm>
            <a:prstGeom prst="curvedConnector5">
              <a:avLst>
                <a:gd name="adj1" fmla="val 50000"/>
                <a:gd name="adj2" fmla="val 49959"/>
                <a:gd name="adj3" fmla="val 50000"/>
              </a:avLst>
            </a:prstGeom>
            <a:ln w="648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1109" name=""/>
          <p:cNvSpPr/>
          <p:nvPr/>
        </p:nvSpPr>
        <p:spPr>
          <a:xfrm>
            <a:off x="136080" y="6539040"/>
            <a:ext cx="747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Varsányi Judit - Üzleti stratégia, üzleti tervezés. Nezmeti Tankönyvkiadó, Bp. 199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41120" y="182160"/>
            <a:ext cx="8861760" cy="52092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8080"/>
                </a:solidFill>
                <a:latin typeface="Comic Sans MS"/>
              </a:rPr>
              <a:t>Az üzleti tervezés folyamatmodellje</a:t>
            </a:r>
            <a:endParaRPr b="1" lang="en-US" sz="2400" spc="-1" strike="noStrike">
              <a:solidFill>
                <a:srgbClr val="00808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omic Sans MS"/>
              </a:rPr>
              <a:t>Gazdálkodás és jövedelmezőség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4880" y="1374480"/>
            <a:ext cx="88390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3400" indent="-38340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02600"/>
                </a:solidFill>
                <a:latin typeface="Comic Sans MS"/>
              </a:rPr>
              <a:t>Cégteljesítmény-mutatók Matula Miklós modelljében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lvl="1" marL="942840" indent="-37080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Cégmutatók szerepe és az ortogonalitás elve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42840" indent="-37080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Ajánlott mutatószám-rendszer, fésűdiagramo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42840" indent="-37080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Vállalati sikermutató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marL="383400" indent="-38340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02600"/>
                </a:solidFill>
                <a:latin typeface="Comic Sans MS"/>
              </a:rPr>
              <a:t>Az árpolitika és költséggazdálkodás szerepe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lvl="1" marL="942840" indent="-37080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Piackövető árpolitiká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42840" indent="-37080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Eseménykövető és eseményalakító költséggazdálkodás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marL="383400" indent="-38340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02600"/>
                </a:solidFill>
                <a:latin typeface="Comic Sans MS"/>
              </a:rPr>
              <a:t>Értékelemzés, értéktervezés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lvl="1" marL="942840" indent="-37080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Az értékelemzés logikai alapja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42840" indent="-37080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Funkciójelleg, funkcióelemzés, funkciószínvonal javítása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42840" indent="-37080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Költségelemzés, költségracionalitás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42840" indent="-37080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Funkciószínvonal vs. funkcióköltség viszony javítása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42840" indent="-37080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Kreatív megoldási változatok és értékelésü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42840" indent="-37080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Megvalósítás és hasznosítás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313200" y="6504120"/>
            <a:ext cx="714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arsányi Judit - Menedzsment óravázlatok. Széchenyi István Egyetem, 2002. februá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"/>
          <p:cNvGrpSpPr/>
          <p:nvPr/>
        </p:nvGrpSpPr>
        <p:grpSpPr>
          <a:xfrm>
            <a:off x="3122640" y="1219320"/>
            <a:ext cx="2898720" cy="1295280"/>
            <a:chOff x="3122640" y="1219320"/>
            <a:chExt cx="2898720" cy="1295280"/>
          </a:xfrm>
        </p:grpSpPr>
        <p:sp>
          <p:nvSpPr>
            <p:cNvPr id="1112" name=""/>
            <p:cNvSpPr/>
            <p:nvPr/>
          </p:nvSpPr>
          <p:spPr>
            <a:xfrm>
              <a:off x="3122640" y="1219320"/>
              <a:ext cx="2898720" cy="1295280"/>
            </a:xfrm>
            <a:custGeom>
              <a:avLst/>
              <a:gdLst>
                <a:gd name="textAreaLeft" fmla="*/ 661680 w 2898720"/>
                <a:gd name="textAreaRight" fmla="*/ 2237040 w 2898720"/>
                <a:gd name="textAreaTop" fmla="*/ 295560 h 1295280"/>
                <a:gd name="textAreaBottom" fmla="*/ 99972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ed8a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18ffd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677400" y="1465200"/>
              <a:ext cx="1787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Comic Sans MS"/>
                </a:rPr>
                <a:t>Mozgásté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1306440" y="1892160"/>
            <a:ext cx="6531120" cy="4422960"/>
            <a:chOff x="1306440" y="1892160"/>
            <a:chExt cx="6531120" cy="4422960"/>
          </a:xfrm>
        </p:grpSpPr>
        <p:sp>
          <p:nvSpPr>
            <p:cNvPr id="1115" name=""/>
            <p:cNvSpPr/>
            <p:nvPr/>
          </p:nvSpPr>
          <p:spPr>
            <a:xfrm flipV="1">
              <a:off x="1306440" y="5454360"/>
              <a:ext cx="6531120" cy="860400"/>
            </a:xfrm>
            <a:custGeom>
              <a:avLst/>
              <a:gdLst>
                <a:gd name="textAreaLeft" fmla="*/ 856080 w 6531120"/>
                <a:gd name="textAreaRight" fmla="*/ 5675040 w 6531120"/>
                <a:gd name="textAreaTop" fmla="*/ 112680 h 860400"/>
                <a:gd name="textAreaBottom" fmla="*/ 747720 h 86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53" y="21600"/>
                  </a:lnTo>
                  <a:lnTo>
                    <a:pt x="194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9f9f9"/>
                </a:gs>
                <a:gs pos="50000">
                  <a:srgbClr val="fafafa"/>
                </a:gs>
                <a:gs pos="100000">
                  <a:srgbClr val="f9f9f9"/>
                </a:gs>
              </a:gsLst>
              <a:lin ang="10800000"/>
            </a:gradFill>
            <a:ln w="12600">
              <a:solidFill>
                <a:srgbClr val="cecece"/>
              </a:solidFill>
              <a:miter/>
            </a:ln>
            <a:effectLst>
              <a:outerShdw dist="107932" dir="2700000" blurRad="0" rotWithShape="0">
                <a:srgbClr val="00a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1895400" y="4530240"/>
              <a:ext cx="5353200" cy="906480"/>
            </a:xfrm>
            <a:custGeom>
              <a:avLst/>
              <a:gdLst>
                <a:gd name="textAreaLeft" fmla="*/ 785520 w 5353200"/>
                <a:gd name="textAreaRight" fmla="*/ 4567680 w 5353200"/>
                <a:gd name="textAreaTop" fmla="*/ 132840 h 906480"/>
                <a:gd name="textAreaBottom" fmla="*/ 773640 h 90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044" y="21600"/>
                  </a:lnTo>
                  <a:lnTo>
                    <a:pt x="255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fdfdf"/>
                </a:gs>
                <a:gs pos="50000">
                  <a:srgbClr val="fafafa"/>
                </a:gs>
                <a:gs pos="100000">
                  <a:srgbClr val="dfdfdf"/>
                </a:gs>
              </a:gsLst>
              <a:lin ang="10800000"/>
            </a:gradFill>
            <a:ln w="12600">
              <a:solidFill>
                <a:srgbClr val="cecece"/>
              </a:solidFill>
              <a:miter/>
            </a:ln>
            <a:effectLst>
              <a:outerShdw dist="107932" dir="2700000" blurRad="0" rotWithShape="0">
                <a:srgbClr val="00a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2529000" y="3720960"/>
              <a:ext cx="4086000" cy="797040"/>
            </a:xfrm>
            <a:custGeom>
              <a:avLst/>
              <a:gdLst>
                <a:gd name="textAreaLeft" fmla="*/ 666360 w 4086000"/>
                <a:gd name="textAreaRight" fmla="*/ 3419640 w 4086000"/>
                <a:gd name="textAreaTop" fmla="*/ 129960 h 797040"/>
                <a:gd name="textAreaBottom" fmla="*/ 667080 h 79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408" y="21600"/>
                  </a:lnTo>
                  <a:lnTo>
                    <a:pt x="319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9f9f9"/>
                </a:gs>
                <a:gs pos="50000">
                  <a:srgbClr val="fafafa"/>
                </a:gs>
                <a:gs pos="100000">
                  <a:srgbClr val="f9f9f9"/>
                </a:gs>
              </a:gsLst>
              <a:lin ang="10800000"/>
            </a:gradFill>
            <a:ln w="12600">
              <a:solidFill>
                <a:srgbClr val="cecece"/>
              </a:solidFill>
              <a:miter/>
            </a:ln>
            <a:effectLst>
              <a:outerShdw dist="107932" dir="2700000" blurRad="0" rotWithShape="0">
                <a:srgbClr val="00a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3135240" y="3149640"/>
              <a:ext cx="2873520" cy="558720"/>
            </a:xfrm>
            <a:custGeom>
              <a:avLst/>
              <a:gdLst>
                <a:gd name="textAreaLeft" fmla="*/ 482760 w 2873520"/>
                <a:gd name="textAreaRight" fmla="*/ 2390760 w 2873520"/>
                <a:gd name="textAreaTop" fmla="*/ 93960 h 558720"/>
                <a:gd name="textAreaBottom" fmla="*/ 464760 h 55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14" y="21600"/>
                  </a:lnTo>
                  <a:lnTo>
                    <a:pt x="338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fdfdf"/>
                </a:gs>
                <a:gs pos="50000">
                  <a:srgbClr val="fafafa"/>
                </a:gs>
                <a:gs pos="100000">
                  <a:srgbClr val="dfdfdf"/>
                </a:gs>
              </a:gsLst>
              <a:lin ang="10800000"/>
            </a:gradFill>
            <a:ln w="12600">
              <a:solidFill>
                <a:srgbClr val="cecece"/>
              </a:solidFill>
              <a:miter/>
            </a:ln>
            <a:effectLst>
              <a:outerShdw dist="107932" dir="2700000" blurRad="0" rotWithShape="0">
                <a:srgbClr val="00a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587760" y="1892160"/>
              <a:ext cx="1968480" cy="1244880"/>
            </a:xfrm>
            <a:prstGeom prst="triangle">
              <a:avLst>
                <a:gd name="adj" fmla="val 49986"/>
              </a:avLst>
            </a:prstGeom>
            <a:gradFill rotWithShape="0">
              <a:gsLst>
                <a:gs pos="0">
                  <a:srgbClr val="f9f9f9"/>
                </a:gs>
                <a:gs pos="50000">
                  <a:srgbClr val="fafafa"/>
                </a:gs>
                <a:gs pos="100000">
                  <a:srgbClr val="f9f9f9"/>
                </a:gs>
              </a:gsLst>
              <a:lin ang="10800000"/>
            </a:gradFill>
            <a:ln w="12600">
              <a:solidFill>
                <a:srgbClr val="cecece"/>
              </a:solidFill>
              <a:miter/>
            </a:ln>
            <a:effectLst>
              <a:outerShdw dist="107932" dir="2700000" blurRad="0" rotWithShape="0">
                <a:srgbClr val="00a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960000" y="2652840"/>
              <a:ext cx="1224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omic Sans MS"/>
                </a:rPr>
                <a:t>Fejlődé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866400" y="3271680"/>
              <a:ext cx="141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omic Sans MS"/>
                </a:rPr>
                <a:t>Likviditá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651040" y="3967200"/>
              <a:ext cx="3843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omic Sans MS"/>
                </a:rPr>
                <a:t>Forgalom és jövedelmezősé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217600" y="5738760"/>
              <a:ext cx="5058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omic Sans MS"/>
                </a:rPr>
                <a:t>Erőforrások felhasználása és költsége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234160" y="4865760"/>
              <a:ext cx="4675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omic Sans MS"/>
                </a:rPr>
                <a:t>Üzletpolitika, árpolitika, marke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86400" y="6580080"/>
            <a:ext cx="80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Varsányi Judit - Üzleti stratégia-üzleti tervezés. Nemzeti Tankönyvkiadó, Budapest, 1996, 200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8080"/>
                </a:solidFill>
                <a:latin typeface="Comic Sans MS"/>
              </a:rPr>
              <a:t>Az üzleti terv célpiramisa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omic Sans MS"/>
              </a:rPr>
              <a:t>Az üzleti forgalom értékelése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886176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a02600"/>
                </a:solidFill>
                <a:latin typeface="Comic Sans MS"/>
              </a:rPr>
              <a:t>Ügyfelek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a00"/>
                </a:solidFill>
                <a:latin typeface="Comic Sans MS"/>
              </a:rPr>
              <a:t>Soroljuk fel az eladások együttesen legalább ötven százalékát adó legnagyobb ügyfeleket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a00"/>
                </a:solidFill>
                <a:latin typeface="Comic Sans MS"/>
              </a:rPr>
              <a:t>Milyen folyamatok segítségével mérjük fel az ügyfelek elvárásait?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a00"/>
                </a:solidFill>
                <a:latin typeface="Comic Sans MS"/>
              </a:rPr>
              <a:t>Milyennek látják az ügyfelek a céget?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a00"/>
                </a:solidFill>
                <a:latin typeface="Comic Sans MS"/>
              </a:rPr>
              <a:t>Mekkora a marketing költségvetés?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a00"/>
                </a:solidFill>
                <a:latin typeface="Comic Sans MS"/>
              </a:rPr>
              <a:t>Melyek a bejáratott marketing tevékenységek?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a00"/>
                </a:solidFill>
                <a:latin typeface="Comic Sans MS"/>
              </a:rPr>
              <a:t>Melyek a legfőbb gondok a marketing tevékenységben?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a02600"/>
                </a:solidFill>
                <a:latin typeface="Comic Sans MS"/>
              </a:rPr>
              <a:t>Termékek forgalma és árbevétel-arányos nyeresége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a00"/>
                </a:solidFill>
                <a:latin typeface="Comic Sans MS"/>
              </a:rPr>
              <a:t>Terméklista az elosztó hálózat csatornái szerint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a00"/>
                </a:solidFill>
                <a:latin typeface="Comic Sans MS"/>
              </a:rPr>
              <a:t>Felsorolás földrajzi terület szerint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a00"/>
                </a:solidFill>
                <a:latin typeface="Comic Sans MS"/>
              </a:rPr>
              <a:t>Egyéb csoportosítások forgalma és nyereséghozama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</p:txBody>
      </p:sp>
      <p:sp>
        <p:nvSpPr>
          <p:cNvPr id="1129" name=""/>
          <p:cNvSpPr/>
          <p:nvPr/>
        </p:nvSpPr>
        <p:spPr>
          <a:xfrm>
            <a:off x="210960" y="6305400"/>
            <a:ext cx="793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7916760" y="4448160"/>
            <a:ext cx="1011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8080"/>
                </a:solidFill>
                <a:latin typeface="Comic Sans MS"/>
              </a:rPr>
              <a:t>Pénzügy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533160" y="3628800"/>
            <a:ext cx="7931160" cy="24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7920" indent="-36792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a02600"/>
                </a:solidFill>
                <a:latin typeface="Comic Sans MS"/>
              </a:rPr>
              <a:t>A gazdálkodás fontosabb kimutatásai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1" marL="904680" indent="-35568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6a00"/>
                </a:solidFill>
                <a:latin typeface="Comic Sans MS"/>
              </a:rPr>
              <a:t>Pénzügyi  mérleg három évre visszamenőleg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04680" indent="-35568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6a00"/>
                </a:solidFill>
                <a:latin typeface="Comic Sans MS"/>
              </a:rPr>
              <a:t>Nyereség-veszteség és cash flow kimutatáso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marL="367920" indent="-36792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a02600"/>
                </a:solidFill>
                <a:latin typeface="Comic Sans MS"/>
              </a:rPr>
              <a:t>A cég tulajdonát képező összes felszerelés</a:t>
            </a:r>
            <a:br>
              <a:rPr sz="2600"/>
            </a:br>
            <a:r>
              <a:rPr b="1" lang="hu-HU" sz="2600" spc="-1" strike="noStrike">
                <a:solidFill>
                  <a:srgbClr val="a02600"/>
                </a:solidFill>
                <a:latin typeface="Comic Sans MS"/>
              </a:rPr>
              <a:t>beszerzésének időpontja és mai értéke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marL="367920" indent="-36792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a02600"/>
                </a:solidFill>
                <a:latin typeface="Comic Sans MS"/>
              </a:rPr>
              <a:t>A teljes ingatlantőke összetétele és értéke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1133" name=""/>
          <p:cNvSpPr/>
          <p:nvPr/>
        </p:nvSpPr>
        <p:spPr>
          <a:xfrm>
            <a:off x="210960" y="6305400"/>
            <a:ext cx="793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4" name="ctani108" descr=""/>
          <p:cNvPicPr/>
          <p:nvPr/>
        </p:nvPicPr>
        <p:blipFill>
          <a:blip r:embed="rId1"/>
          <a:stretch/>
        </p:blipFill>
        <p:spPr>
          <a:xfrm>
            <a:off x="4091040" y="1438200"/>
            <a:ext cx="19461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5" name=""/>
          <p:cNvGrpSpPr/>
          <p:nvPr/>
        </p:nvGrpSpPr>
        <p:grpSpPr>
          <a:xfrm>
            <a:off x="6706440" y="188640"/>
            <a:ext cx="2279880" cy="1413000"/>
            <a:chOff x="6706440" y="188640"/>
            <a:chExt cx="2279880" cy="1413000"/>
          </a:xfrm>
        </p:grpSpPr>
        <p:grpSp>
          <p:nvGrpSpPr>
            <p:cNvPr id="1136" name=""/>
            <p:cNvGrpSpPr/>
            <p:nvPr/>
          </p:nvGrpSpPr>
          <p:grpSpPr>
            <a:xfrm>
              <a:off x="6706440" y="188640"/>
              <a:ext cx="2279880" cy="1413000"/>
              <a:chOff x="6706440" y="188640"/>
              <a:chExt cx="2279880" cy="1413000"/>
            </a:xfrm>
          </p:grpSpPr>
          <p:grpSp>
            <p:nvGrpSpPr>
              <p:cNvPr id="1137" name=""/>
              <p:cNvGrpSpPr/>
              <p:nvPr/>
            </p:nvGrpSpPr>
            <p:grpSpPr>
              <a:xfrm>
                <a:off x="6706440" y="188640"/>
                <a:ext cx="2279880" cy="1413000"/>
                <a:chOff x="6706440" y="188640"/>
                <a:chExt cx="2279880" cy="1413000"/>
              </a:xfrm>
            </p:grpSpPr>
            <p:grpSp>
              <p:nvGrpSpPr>
                <p:cNvPr id="1138" name=""/>
                <p:cNvGrpSpPr/>
                <p:nvPr/>
              </p:nvGrpSpPr>
              <p:grpSpPr>
                <a:xfrm>
                  <a:off x="6706440" y="188640"/>
                  <a:ext cx="2279880" cy="1413000"/>
                  <a:chOff x="6706440" y="188640"/>
                  <a:chExt cx="2279880" cy="1413000"/>
                </a:xfrm>
              </p:grpSpPr>
              <p:sp>
                <p:nvSpPr>
                  <p:cNvPr id="1139" name=""/>
                  <p:cNvSpPr/>
                  <p:nvPr/>
                </p:nvSpPr>
                <p:spPr>
                  <a:xfrm flipH="1" rot="21168000">
                    <a:off x="6792120" y="679320"/>
                    <a:ext cx="2152440" cy="79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4">
                        <a:moveTo>
                          <a:pt x="0" y="1368"/>
                        </a:moveTo>
                        <a:lnTo>
                          <a:pt x="1073" y="1904"/>
                        </a:lnTo>
                        <a:lnTo>
                          <a:pt x="1242" y="1747"/>
                        </a:lnTo>
                        <a:lnTo>
                          <a:pt x="1402" y="1600"/>
                        </a:lnTo>
                        <a:lnTo>
                          <a:pt x="1556" y="1466"/>
                        </a:lnTo>
                        <a:lnTo>
                          <a:pt x="1729" y="1324"/>
                        </a:lnTo>
                        <a:lnTo>
                          <a:pt x="1857" y="1222"/>
                        </a:lnTo>
                        <a:lnTo>
                          <a:pt x="2036" y="1092"/>
                        </a:lnTo>
                        <a:lnTo>
                          <a:pt x="2223" y="958"/>
                        </a:lnTo>
                        <a:lnTo>
                          <a:pt x="2377" y="842"/>
                        </a:lnTo>
                        <a:lnTo>
                          <a:pt x="2518" y="746"/>
                        </a:lnTo>
                        <a:lnTo>
                          <a:pt x="2653" y="657"/>
                        </a:lnTo>
                        <a:lnTo>
                          <a:pt x="2787" y="566"/>
                        </a:lnTo>
                        <a:lnTo>
                          <a:pt x="2922" y="483"/>
                        </a:lnTo>
                        <a:lnTo>
                          <a:pt x="1958" y="0"/>
                        </a:lnTo>
                        <a:lnTo>
                          <a:pt x="1800" y="93"/>
                        </a:lnTo>
                        <a:lnTo>
                          <a:pt x="1639" y="195"/>
                        </a:lnTo>
                        <a:lnTo>
                          <a:pt x="1517" y="278"/>
                        </a:lnTo>
                        <a:lnTo>
                          <a:pt x="1390" y="381"/>
                        </a:lnTo>
                        <a:lnTo>
                          <a:pt x="1254" y="489"/>
                        </a:lnTo>
                        <a:lnTo>
                          <a:pt x="1120" y="605"/>
                        </a:lnTo>
                        <a:lnTo>
                          <a:pt x="909" y="734"/>
                        </a:lnTo>
                        <a:lnTo>
                          <a:pt x="724" y="849"/>
                        </a:lnTo>
                        <a:lnTo>
                          <a:pt x="548" y="951"/>
                        </a:lnTo>
                        <a:lnTo>
                          <a:pt x="356" y="1087"/>
                        </a:lnTo>
                        <a:lnTo>
                          <a:pt x="183" y="1214"/>
                        </a:lnTo>
                        <a:lnTo>
                          <a:pt x="0" y="136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 flipH="1" rot="21168000">
                    <a:off x="6789600" y="659160"/>
                    <a:ext cx="2152440" cy="79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5">
                        <a:moveTo>
                          <a:pt x="0" y="1369"/>
                        </a:moveTo>
                        <a:lnTo>
                          <a:pt x="1073" y="1905"/>
                        </a:lnTo>
                        <a:lnTo>
                          <a:pt x="1242" y="1747"/>
                        </a:lnTo>
                        <a:lnTo>
                          <a:pt x="1402" y="1599"/>
                        </a:lnTo>
                        <a:lnTo>
                          <a:pt x="1556" y="1465"/>
                        </a:lnTo>
                        <a:lnTo>
                          <a:pt x="1729" y="1325"/>
                        </a:lnTo>
                        <a:lnTo>
                          <a:pt x="1857" y="1220"/>
                        </a:lnTo>
                        <a:lnTo>
                          <a:pt x="2036" y="1093"/>
                        </a:lnTo>
                        <a:lnTo>
                          <a:pt x="2223" y="957"/>
                        </a:lnTo>
                        <a:lnTo>
                          <a:pt x="2377" y="842"/>
                        </a:lnTo>
                        <a:lnTo>
                          <a:pt x="2518" y="746"/>
                        </a:lnTo>
                        <a:lnTo>
                          <a:pt x="2653" y="656"/>
                        </a:lnTo>
                        <a:lnTo>
                          <a:pt x="2787" y="567"/>
                        </a:lnTo>
                        <a:lnTo>
                          <a:pt x="2922" y="482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4"/>
                        </a:lnTo>
                        <a:lnTo>
                          <a:pt x="1517" y="278"/>
                        </a:lnTo>
                        <a:lnTo>
                          <a:pt x="1390" y="380"/>
                        </a:lnTo>
                        <a:lnTo>
                          <a:pt x="1254" y="490"/>
                        </a:lnTo>
                        <a:lnTo>
                          <a:pt x="1120" y="605"/>
                        </a:lnTo>
                        <a:lnTo>
                          <a:pt x="909" y="733"/>
                        </a:lnTo>
                        <a:lnTo>
                          <a:pt x="724" y="848"/>
                        </a:lnTo>
                        <a:lnTo>
                          <a:pt x="548" y="951"/>
                        </a:lnTo>
                        <a:lnTo>
                          <a:pt x="356" y="1086"/>
                        </a:lnTo>
                        <a:lnTo>
                          <a:pt x="183" y="1213"/>
                        </a:lnTo>
                        <a:lnTo>
                          <a:pt x="0" y="1369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 flipH="1" rot="21168000">
                    <a:off x="6786720" y="637560"/>
                    <a:ext cx="2152440" cy="79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4">
                        <a:moveTo>
                          <a:pt x="0" y="1368"/>
                        </a:moveTo>
                        <a:lnTo>
                          <a:pt x="1073" y="1904"/>
                        </a:lnTo>
                        <a:lnTo>
                          <a:pt x="1242" y="1747"/>
                        </a:lnTo>
                        <a:lnTo>
                          <a:pt x="1402" y="1600"/>
                        </a:lnTo>
                        <a:lnTo>
                          <a:pt x="1556" y="1465"/>
                        </a:lnTo>
                        <a:lnTo>
                          <a:pt x="1729" y="1324"/>
                        </a:lnTo>
                        <a:lnTo>
                          <a:pt x="1857" y="1220"/>
                        </a:lnTo>
                        <a:lnTo>
                          <a:pt x="2036" y="1092"/>
                        </a:lnTo>
                        <a:lnTo>
                          <a:pt x="2223" y="958"/>
                        </a:lnTo>
                        <a:lnTo>
                          <a:pt x="2377" y="842"/>
                        </a:lnTo>
                        <a:lnTo>
                          <a:pt x="2518" y="745"/>
                        </a:lnTo>
                        <a:lnTo>
                          <a:pt x="2653" y="656"/>
                        </a:lnTo>
                        <a:lnTo>
                          <a:pt x="2787" y="566"/>
                        </a:lnTo>
                        <a:lnTo>
                          <a:pt x="2922" y="481"/>
                        </a:lnTo>
                        <a:lnTo>
                          <a:pt x="1958" y="0"/>
                        </a:lnTo>
                        <a:lnTo>
                          <a:pt x="1800" y="91"/>
                        </a:lnTo>
                        <a:lnTo>
                          <a:pt x="1639" y="195"/>
                        </a:lnTo>
                        <a:lnTo>
                          <a:pt x="1517" y="278"/>
                        </a:lnTo>
                        <a:lnTo>
                          <a:pt x="1390" y="380"/>
                        </a:lnTo>
                        <a:lnTo>
                          <a:pt x="1254" y="489"/>
                        </a:lnTo>
                        <a:lnTo>
                          <a:pt x="1120" y="605"/>
                        </a:lnTo>
                        <a:lnTo>
                          <a:pt x="909" y="733"/>
                        </a:lnTo>
                        <a:lnTo>
                          <a:pt x="724" y="848"/>
                        </a:lnTo>
                        <a:lnTo>
                          <a:pt x="548" y="951"/>
                        </a:lnTo>
                        <a:lnTo>
                          <a:pt x="356" y="1085"/>
                        </a:lnTo>
                        <a:lnTo>
                          <a:pt x="183" y="1214"/>
                        </a:lnTo>
                        <a:lnTo>
                          <a:pt x="0" y="136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 flipH="1" rot="21168000">
                    <a:off x="6784200" y="616680"/>
                    <a:ext cx="2152440" cy="79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4">
                        <a:moveTo>
                          <a:pt x="0" y="1366"/>
                        </a:moveTo>
                        <a:lnTo>
                          <a:pt x="1073" y="1904"/>
                        </a:lnTo>
                        <a:lnTo>
                          <a:pt x="1242" y="1747"/>
                        </a:lnTo>
                        <a:lnTo>
                          <a:pt x="1402" y="1599"/>
                        </a:lnTo>
                        <a:lnTo>
                          <a:pt x="1556" y="1465"/>
                        </a:lnTo>
                        <a:lnTo>
                          <a:pt x="1729" y="1322"/>
                        </a:lnTo>
                        <a:lnTo>
                          <a:pt x="1857" y="1220"/>
                        </a:lnTo>
                        <a:lnTo>
                          <a:pt x="2036" y="1091"/>
                        </a:lnTo>
                        <a:lnTo>
                          <a:pt x="2223" y="957"/>
                        </a:lnTo>
                        <a:lnTo>
                          <a:pt x="2377" y="842"/>
                        </a:lnTo>
                        <a:lnTo>
                          <a:pt x="2518" y="746"/>
                        </a:lnTo>
                        <a:lnTo>
                          <a:pt x="2653" y="656"/>
                        </a:lnTo>
                        <a:lnTo>
                          <a:pt x="2787" y="566"/>
                        </a:lnTo>
                        <a:lnTo>
                          <a:pt x="2922" y="482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4"/>
                        </a:lnTo>
                        <a:lnTo>
                          <a:pt x="1517" y="278"/>
                        </a:lnTo>
                        <a:lnTo>
                          <a:pt x="1390" y="380"/>
                        </a:lnTo>
                        <a:lnTo>
                          <a:pt x="1254" y="489"/>
                        </a:lnTo>
                        <a:lnTo>
                          <a:pt x="1120" y="604"/>
                        </a:lnTo>
                        <a:lnTo>
                          <a:pt x="909" y="733"/>
                        </a:lnTo>
                        <a:lnTo>
                          <a:pt x="724" y="848"/>
                        </a:lnTo>
                        <a:lnTo>
                          <a:pt x="548" y="950"/>
                        </a:lnTo>
                        <a:lnTo>
                          <a:pt x="356" y="1086"/>
                        </a:lnTo>
                        <a:lnTo>
                          <a:pt x="183" y="1213"/>
                        </a:lnTo>
                        <a:lnTo>
                          <a:pt x="0" y="1366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 flipH="1" rot="21168000">
                    <a:off x="6781320" y="594720"/>
                    <a:ext cx="2152440" cy="79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6">
                        <a:moveTo>
                          <a:pt x="0" y="1368"/>
                        </a:moveTo>
                        <a:lnTo>
                          <a:pt x="1073" y="1906"/>
                        </a:lnTo>
                        <a:lnTo>
                          <a:pt x="1242" y="1749"/>
                        </a:lnTo>
                        <a:lnTo>
                          <a:pt x="1402" y="1600"/>
                        </a:lnTo>
                        <a:lnTo>
                          <a:pt x="1556" y="1466"/>
                        </a:lnTo>
                        <a:lnTo>
                          <a:pt x="1729" y="1324"/>
                        </a:lnTo>
                        <a:lnTo>
                          <a:pt x="1857" y="1221"/>
                        </a:lnTo>
                        <a:lnTo>
                          <a:pt x="2036" y="1094"/>
                        </a:lnTo>
                        <a:lnTo>
                          <a:pt x="2223" y="958"/>
                        </a:lnTo>
                        <a:lnTo>
                          <a:pt x="2377" y="843"/>
                        </a:lnTo>
                        <a:lnTo>
                          <a:pt x="2518" y="747"/>
                        </a:lnTo>
                        <a:lnTo>
                          <a:pt x="2653" y="657"/>
                        </a:lnTo>
                        <a:lnTo>
                          <a:pt x="2787" y="568"/>
                        </a:lnTo>
                        <a:lnTo>
                          <a:pt x="2922" y="483"/>
                        </a:lnTo>
                        <a:lnTo>
                          <a:pt x="1958" y="0"/>
                        </a:lnTo>
                        <a:lnTo>
                          <a:pt x="1800" y="93"/>
                        </a:lnTo>
                        <a:lnTo>
                          <a:pt x="1639" y="195"/>
                        </a:lnTo>
                        <a:lnTo>
                          <a:pt x="1517" y="279"/>
                        </a:lnTo>
                        <a:lnTo>
                          <a:pt x="1390" y="382"/>
                        </a:lnTo>
                        <a:lnTo>
                          <a:pt x="1254" y="491"/>
                        </a:lnTo>
                        <a:lnTo>
                          <a:pt x="1120" y="607"/>
                        </a:lnTo>
                        <a:lnTo>
                          <a:pt x="909" y="734"/>
                        </a:lnTo>
                        <a:lnTo>
                          <a:pt x="724" y="849"/>
                        </a:lnTo>
                        <a:lnTo>
                          <a:pt x="548" y="952"/>
                        </a:lnTo>
                        <a:lnTo>
                          <a:pt x="356" y="1087"/>
                        </a:lnTo>
                        <a:lnTo>
                          <a:pt x="183" y="1216"/>
                        </a:lnTo>
                        <a:lnTo>
                          <a:pt x="0" y="136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 flipH="1" rot="21168000">
                    <a:off x="6778800" y="573120"/>
                    <a:ext cx="2152440" cy="79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6">
                        <a:moveTo>
                          <a:pt x="0" y="1369"/>
                        </a:moveTo>
                        <a:lnTo>
                          <a:pt x="1073" y="1906"/>
                        </a:lnTo>
                        <a:lnTo>
                          <a:pt x="1242" y="1749"/>
                        </a:lnTo>
                        <a:lnTo>
                          <a:pt x="1402" y="1602"/>
                        </a:lnTo>
                        <a:lnTo>
                          <a:pt x="1556" y="1465"/>
                        </a:lnTo>
                        <a:lnTo>
                          <a:pt x="1729" y="1325"/>
                        </a:lnTo>
                        <a:lnTo>
                          <a:pt x="1857" y="1223"/>
                        </a:lnTo>
                        <a:lnTo>
                          <a:pt x="2036" y="1094"/>
                        </a:lnTo>
                        <a:lnTo>
                          <a:pt x="2223" y="960"/>
                        </a:lnTo>
                        <a:lnTo>
                          <a:pt x="2377" y="844"/>
                        </a:lnTo>
                        <a:lnTo>
                          <a:pt x="2518" y="747"/>
                        </a:lnTo>
                        <a:lnTo>
                          <a:pt x="2653" y="659"/>
                        </a:lnTo>
                        <a:lnTo>
                          <a:pt x="2787" y="568"/>
                        </a:lnTo>
                        <a:lnTo>
                          <a:pt x="2922" y="483"/>
                        </a:lnTo>
                        <a:lnTo>
                          <a:pt x="1958" y="0"/>
                        </a:lnTo>
                        <a:lnTo>
                          <a:pt x="1800" y="95"/>
                        </a:lnTo>
                        <a:lnTo>
                          <a:pt x="1639" y="197"/>
                        </a:lnTo>
                        <a:lnTo>
                          <a:pt x="1517" y="280"/>
                        </a:lnTo>
                        <a:lnTo>
                          <a:pt x="1390" y="383"/>
                        </a:lnTo>
                        <a:lnTo>
                          <a:pt x="1254" y="491"/>
                        </a:lnTo>
                        <a:lnTo>
                          <a:pt x="1120" y="607"/>
                        </a:lnTo>
                        <a:lnTo>
                          <a:pt x="909" y="736"/>
                        </a:lnTo>
                        <a:lnTo>
                          <a:pt x="724" y="851"/>
                        </a:lnTo>
                        <a:lnTo>
                          <a:pt x="548" y="953"/>
                        </a:lnTo>
                        <a:lnTo>
                          <a:pt x="356" y="1087"/>
                        </a:lnTo>
                        <a:lnTo>
                          <a:pt x="183" y="1216"/>
                        </a:lnTo>
                        <a:lnTo>
                          <a:pt x="0" y="1369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 flipH="1" rot="21168000">
                    <a:off x="6775920" y="552600"/>
                    <a:ext cx="2152440" cy="79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6">
                        <a:moveTo>
                          <a:pt x="0" y="1367"/>
                        </a:moveTo>
                        <a:lnTo>
                          <a:pt x="1073" y="1906"/>
                        </a:lnTo>
                        <a:lnTo>
                          <a:pt x="1242" y="1748"/>
                        </a:lnTo>
                        <a:lnTo>
                          <a:pt x="1402" y="1600"/>
                        </a:lnTo>
                        <a:lnTo>
                          <a:pt x="1556" y="1465"/>
                        </a:lnTo>
                        <a:lnTo>
                          <a:pt x="1729" y="1323"/>
                        </a:lnTo>
                        <a:lnTo>
                          <a:pt x="1857" y="1221"/>
                        </a:lnTo>
                        <a:lnTo>
                          <a:pt x="2036" y="1092"/>
                        </a:lnTo>
                        <a:lnTo>
                          <a:pt x="2223" y="958"/>
                        </a:lnTo>
                        <a:lnTo>
                          <a:pt x="2377" y="843"/>
                        </a:lnTo>
                        <a:lnTo>
                          <a:pt x="2518" y="747"/>
                        </a:lnTo>
                        <a:lnTo>
                          <a:pt x="2653" y="657"/>
                        </a:lnTo>
                        <a:lnTo>
                          <a:pt x="2787" y="567"/>
                        </a:lnTo>
                        <a:lnTo>
                          <a:pt x="2922" y="483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5"/>
                        </a:lnTo>
                        <a:lnTo>
                          <a:pt x="1517" y="279"/>
                        </a:lnTo>
                        <a:lnTo>
                          <a:pt x="1390" y="381"/>
                        </a:lnTo>
                        <a:lnTo>
                          <a:pt x="1254" y="490"/>
                        </a:lnTo>
                        <a:lnTo>
                          <a:pt x="1120" y="605"/>
                        </a:lnTo>
                        <a:lnTo>
                          <a:pt x="909" y="734"/>
                        </a:lnTo>
                        <a:lnTo>
                          <a:pt x="724" y="849"/>
                        </a:lnTo>
                        <a:lnTo>
                          <a:pt x="548" y="951"/>
                        </a:lnTo>
                        <a:lnTo>
                          <a:pt x="356" y="1087"/>
                        </a:lnTo>
                        <a:lnTo>
                          <a:pt x="183" y="1214"/>
                        </a:lnTo>
                        <a:lnTo>
                          <a:pt x="0" y="1367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 flipH="1" rot="21168000">
                    <a:off x="6773400" y="531000"/>
                    <a:ext cx="2152440" cy="79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6">
                        <a:moveTo>
                          <a:pt x="0" y="1368"/>
                        </a:moveTo>
                        <a:lnTo>
                          <a:pt x="1073" y="1906"/>
                        </a:lnTo>
                        <a:lnTo>
                          <a:pt x="1242" y="1749"/>
                        </a:lnTo>
                        <a:lnTo>
                          <a:pt x="1402" y="1601"/>
                        </a:lnTo>
                        <a:lnTo>
                          <a:pt x="1556" y="1465"/>
                        </a:lnTo>
                        <a:lnTo>
                          <a:pt x="1729" y="1325"/>
                        </a:lnTo>
                        <a:lnTo>
                          <a:pt x="1857" y="1221"/>
                        </a:lnTo>
                        <a:lnTo>
                          <a:pt x="2036" y="1094"/>
                        </a:lnTo>
                        <a:lnTo>
                          <a:pt x="2223" y="958"/>
                        </a:lnTo>
                        <a:lnTo>
                          <a:pt x="2377" y="843"/>
                        </a:lnTo>
                        <a:lnTo>
                          <a:pt x="2518" y="747"/>
                        </a:lnTo>
                        <a:lnTo>
                          <a:pt x="2653" y="657"/>
                        </a:lnTo>
                        <a:lnTo>
                          <a:pt x="2787" y="568"/>
                        </a:lnTo>
                        <a:lnTo>
                          <a:pt x="2922" y="483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7"/>
                        </a:lnTo>
                        <a:lnTo>
                          <a:pt x="1517" y="279"/>
                        </a:lnTo>
                        <a:lnTo>
                          <a:pt x="1390" y="382"/>
                        </a:lnTo>
                        <a:lnTo>
                          <a:pt x="1254" y="491"/>
                        </a:lnTo>
                        <a:lnTo>
                          <a:pt x="1120" y="607"/>
                        </a:lnTo>
                        <a:lnTo>
                          <a:pt x="909" y="734"/>
                        </a:lnTo>
                        <a:lnTo>
                          <a:pt x="724" y="849"/>
                        </a:lnTo>
                        <a:lnTo>
                          <a:pt x="548" y="953"/>
                        </a:lnTo>
                        <a:lnTo>
                          <a:pt x="356" y="1087"/>
                        </a:lnTo>
                        <a:lnTo>
                          <a:pt x="183" y="1216"/>
                        </a:lnTo>
                        <a:lnTo>
                          <a:pt x="0" y="136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 flipH="1" rot="21168000">
                    <a:off x="6770520" y="509760"/>
                    <a:ext cx="2152440" cy="79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6">
                        <a:moveTo>
                          <a:pt x="0" y="1369"/>
                        </a:moveTo>
                        <a:lnTo>
                          <a:pt x="1073" y="1906"/>
                        </a:lnTo>
                        <a:lnTo>
                          <a:pt x="1242" y="1749"/>
                        </a:lnTo>
                        <a:lnTo>
                          <a:pt x="1402" y="1601"/>
                        </a:lnTo>
                        <a:lnTo>
                          <a:pt x="1556" y="1465"/>
                        </a:lnTo>
                        <a:lnTo>
                          <a:pt x="1729" y="1325"/>
                        </a:lnTo>
                        <a:lnTo>
                          <a:pt x="1857" y="1223"/>
                        </a:lnTo>
                        <a:lnTo>
                          <a:pt x="2036" y="1094"/>
                        </a:lnTo>
                        <a:lnTo>
                          <a:pt x="2223" y="960"/>
                        </a:lnTo>
                        <a:lnTo>
                          <a:pt x="2377" y="844"/>
                        </a:lnTo>
                        <a:lnTo>
                          <a:pt x="2518" y="748"/>
                        </a:lnTo>
                        <a:lnTo>
                          <a:pt x="2653" y="659"/>
                        </a:lnTo>
                        <a:lnTo>
                          <a:pt x="2787" y="568"/>
                        </a:lnTo>
                        <a:lnTo>
                          <a:pt x="2922" y="483"/>
                        </a:lnTo>
                        <a:lnTo>
                          <a:pt x="1958" y="0"/>
                        </a:lnTo>
                        <a:lnTo>
                          <a:pt x="1800" y="93"/>
                        </a:lnTo>
                        <a:lnTo>
                          <a:pt x="1639" y="196"/>
                        </a:lnTo>
                        <a:lnTo>
                          <a:pt x="1517" y="280"/>
                        </a:lnTo>
                        <a:lnTo>
                          <a:pt x="1390" y="383"/>
                        </a:lnTo>
                        <a:lnTo>
                          <a:pt x="1254" y="491"/>
                        </a:lnTo>
                        <a:lnTo>
                          <a:pt x="1120" y="607"/>
                        </a:lnTo>
                        <a:lnTo>
                          <a:pt x="909" y="736"/>
                        </a:lnTo>
                        <a:lnTo>
                          <a:pt x="724" y="851"/>
                        </a:lnTo>
                        <a:lnTo>
                          <a:pt x="548" y="953"/>
                        </a:lnTo>
                        <a:lnTo>
                          <a:pt x="356" y="1087"/>
                        </a:lnTo>
                        <a:lnTo>
                          <a:pt x="183" y="1216"/>
                        </a:lnTo>
                        <a:lnTo>
                          <a:pt x="0" y="1369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 flipH="1" rot="21168000">
                    <a:off x="6768000" y="488880"/>
                    <a:ext cx="2152440" cy="79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6">
                        <a:moveTo>
                          <a:pt x="0" y="1367"/>
                        </a:moveTo>
                        <a:lnTo>
                          <a:pt x="1073" y="1906"/>
                        </a:lnTo>
                        <a:lnTo>
                          <a:pt x="1242" y="1748"/>
                        </a:lnTo>
                        <a:lnTo>
                          <a:pt x="1402" y="1599"/>
                        </a:lnTo>
                        <a:lnTo>
                          <a:pt x="1556" y="1465"/>
                        </a:lnTo>
                        <a:lnTo>
                          <a:pt x="1729" y="1323"/>
                        </a:lnTo>
                        <a:lnTo>
                          <a:pt x="1857" y="1221"/>
                        </a:lnTo>
                        <a:lnTo>
                          <a:pt x="2036" y="1093"/>
                        </a:lnTo>
                        <a:lnTo>
                          <a:pt x="2223" y="958"/>
                        </a:lnTo>
                        <a:lnTo>
                          <a:pt x="2377" y="843"/>
                        </a:lnTo>
                        <a:lnTo>
                          <a:pt x="2518" y="747"/>
                        </a:lnTo>
                        <a:lnTo>
                          <a:pt x="2653" y="657"/>
                        </a:lnTo>
                        <a:lnTo>
                          <a:pt x="2787" y="567"/>
                        </a:lnTo>
                        <a:lnTo>
                          <a:pt x="2922" y="483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4"/>
                        </a:lnTo>
                        <a:lnTo>
                          <a:pt x="1517" y="277"/>
                        </a:lnTo>
                        <a:lnTo>
                          <a:pt x="1390" y="381"/>
                        </a:lnTo>
                        <a:lnTo>
                          <a:pt x="1254" y="490"/>
                        </a:lnTo>
                        <a:lnTo>
                          <a:pt x="1120" y="605"/>
                        </a:lnTo>
                        <a:lnTo>
                          <a:pt x="909" y="734"/>
                        </a:lnTo>
                        <a:lnTo>
                          <a:pt x="724" y="849"/>
                        </a:lnTo>
                        <a:lnTo>
                          <a:pt x="548" y="951"/>
                        </a:lnTo>
                        <a:lnTo>
                          <a:pt x="356" y="1087"/>
                        </a:lnTo>
                        <a:lnTo>
                          <a:pt x="183" y="1214"/>
                        </a:lnTo>
                        <a:lnTo>
                          <a:pt x="0" y="1367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 flipH="1" rot="21168000">
                    <a:off x="6765120" y="467640"/>
                    <a:ext cx="2152440" cy="79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6">
                        <a:moveTo>
                          <a:pt x="0" y="1368"/>
                        </a:moveTo>
                        <a:lnTo>
                          <a:pt x="1073" y="1906"/>
                        </a:lnTo>
                        <a:lnTo>
                          <a:pt x="1242" y="1749"/>
                        </a:lnTo>
                        <a:lnTo>
                          <a:pt x="1402" y="1601"/>
                        </a:lnTo>
                        <a:lnTo>
                          <a:pt x="1556" y="1465"/>
                        </a:lnTo>
                        <a:lnTo>
                          <a:pt x="1729" y="1325"/>
                        </a:lnTo>
                        <a:lnTo>
                          <a:pt x="1857" y="1221"/>
                        </a:lnTo>
                        <a:lnTo>
                          <a:pt x="2036" y="1094"/>
                        </a:lnTo>
                        <a:lnTo>
                          <a:pt x="2223" y="958"/>
                        </a:lnTo>
                        <a:lnTo>
                          <a:pt x="2377" y="843"/>
                        </a:lnTo>
                        <a:lnTo>
                          <a:pt x="2518" y="747"/>
                        </a:lnTo>
                        <a:lnTo>
                          <a:pt x="2653" y="657"/>
                        </a:lnTo>
                        <a:lnTo>
                          <a:pt x="2787" y="568"/>
                        </a:lnTo>
                        <a:lnTo>
                          <a:pt x="2922" y="483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5"/>
                        </a:lnTo>
                        <a:lnTo>
                          <a:pt x="1517" y="278"/>
                        </a:lnTo>
                        <a:lnTo>
                          <a:pt x="1390" y="382"/>
                        </a:lnTo>
                        <a:lnTo>
                          <a:pt x="1254" y="491"/>
                        </a:lnTo>
                        <a:lnTo>
                          <a:pt x="1120" y="607"/>
                        </a:lnTo>
                        <a:lnTo>
                          <a:pt x="909" y="734"/>
                        </a:lnTo>
                        <a:lnTo>
                          <a:pt x="724" y="850"/>
                        </a:lnTo>
                        <a:lnTo>
                          <a:pt x="548" y="953"/>
                        </a:lnTo>
                        <a:lnTo>
                          <a:pt x="356" y="1087"/>
                        </a:lnTo>
                        <a:lnTo>
                          <a:pt x="183" y="1216"/>
                        </a:lnTo>
                        <a:lnTo>
                          <a:pt x="0" y="136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 flipH="1" rot="21168000">
                    <a:off x="6762600" y="446400"/>
                    <a:ext cx="2152440" cy="79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5">
                        <a:moveTo>
                          <a:pt x="0" y="1368"/>
                        </a:moveTo>
                        <a:lnTo>
                          <a:pt x="1073" y="1905"/>
                        </a:lnTo>
                        <a:lnTo>
                          <a:pt x="1242" y="1747"/>
                        </a:lnTo>
                        <a:lnTo>
                          <a:pt x="1402" y="1600"/>
                        </a:lnTo>
                        <a:lnTo>
                          <a:pt x="1556" y="1465"/>
                        </a:lnTo>
                        <a:lnTo>
                          <a:pt x="1729" y="1324"/>
                        </a:lnTo>
                        <a:lnTo>
                          <a:pt x="1857" y="1222"/>
                        </a:lnTo>
                        <a:lnTo>
                          <a:pt x="2036" y="1093"/>
                        </a:lnTo>
                        <a:lnTo>
                          <a:pt x="2223" y="959"/>
                        </a:lnTo>
                        <a:lnTo>
                          <a:pt x="2377" y="843"/>
                        </a:lnTo>
                        <a:lnTo>
                          <a:pt x="2518" y="747"/>
                        </a:lnTo>
                        <a:lnTo>
                          <a:pt x="2653" y="658"/>
                        </a:lnTo>
                        <a:lnTo>
                          <a:pt x="2787" y="567"/>
                        </a:lnTo>
                        <a:lnTo>
                          <a:pt x="2922" y="483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5"/>
                        </a:lnTo>
                        <a:lnTo>
                          <a:pt x="1517" y="278"/>
                        </a:lnTo>
                        <a:lnTo>
                          <a:pt x="1390" y="380"/>
                        </a:lnTo>
                        <a:lnTo>
                          <a:pt x="1254" y="490"/>
                        </a:lnTo>
                        <a:lnTo>
                          <a:pt x="1120" y="606"/>
                        </a:lnTo>
                        <a:lnTo>
                          <a:pt x="909" y="735"/>
                        </a:lnTo>
                        <a:lnTo>
                          <a:pt x="724" y="850"/>
                        </a:lnTo>
                        <a:lnTo>
                          <a:pt x="548" y="952"/>
                        </a:lnTo>
                        <a:lnTo>
                          <a:pt x="356" y="1086"/>
                        </a:lnTo>
                        <a:lnTo>
                          <a:pt x="183" y="1215"/>
                        </a:lnTo>
                        <a:lnTo>
                          <a:pt x="0" y="136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 flipH="1" rot="21168000">
                    <a:off x="6760080" y="425880"/>
                    <a:ext cx="2152440" cy="79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6">
                        <a:moveTo>
                          <a:pt x="0" y="1368"/>
                        </a:moveTo>
                        <a:lnTo>
                          <a:pt x="1073" y="1906"/>
                        </a:lnTo>
                        <a:lnTo>
                          <a:pt x="1242" y="1746"/>
                        </a:lnTo>
                        <a:lnTo>
                          <a:pt x="1402" y="1599"/>
                        </a:lnTo>
                        <a:lnTo>
                          <a:pt x="1556" y="1465"/>
                        </a:lnTo>
                        <a:lnTo>
                          <a:pt x="1729" y="1323"/>
                        </a:lnTo>
                        <a:lnTo>
                          <a:pt x="1857" y="1221"/>
                        </a:lnTo>
                        <a:lnTo>
                          <a:pt x="2036" y="1094"/>
                        </a:lnTo>
                        <a:lnTo>
                          <a:pt x="2223" y="958"/>
                        </a:lnTo>
                        <a:lnTo>
                          <a:pt x="2377" y="843"/>
                        </a:lnTo>
                        <a:lnTo>
                          <a:pt x="2518" y="747"/>
                        </a:lnTo>
                        <a:lnTo>
                          <a:pt x="2653" y="657"/>
                        </a:lnTo>
                        <a:lnTo>
                          <a:pt x="2787" y="567"/>
                        </a:lnTo>
                        <a:lnTo>
                          <a:pt x="2922" y="483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4"/>
                        </a:lnTo>
                        <a:lnTo>
                          <a:pt x="1517" y="277"/>
                        </a:lnTo>
                        <a:lnTo>
                          <a:pt x="1390" y="380"/>
                        </a:lnTo>
                        <a:lnTo>
                          <a:pt x="1254" y="490"/>
                        </a:lnTo>
                        <a:lnTo>
                          <a:pt x="1120" y="605"/>
                        </a:lnTo>
                        <a:lnTo>
                          <a:pt x="909" y="734"/>
                        </a:lnTo>
                        <a:lnTo>
                          <a:pt x="724" y="849"/>
                        </a:lnTo>
                        <a:lnTo>
                          <a:pt x="548" y="952"/>
                        </a:lnTo>
                        <a:lnTo>
                          <a:pt x="356" y="1087"/>
                        </a:lnTo>
                        <a:lnTo>
                          <a:pt x="183" y="1214"/>
                        </a:lnTo>
                        <a:lnTo>
                          <a:pt x="0" y="136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 flipH="1" rot="21168000">
                    <a:off x="6757200" y="404280"/>
                    <a:ext cx="2152440" cy="79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6">
                        <a:moveTo>
                          <a:pt x="0" y="1368"/>
                        </a:moveTo>
                        <a:lnTo>
                          <a:pt x="1073" y="1906"/>
                        </a:lnTo>
                        <a:lnTo>
                          <a:pt x="1242" y="1748"/>
                        </a:lnTo>
                        <a:lnTo>
                          <a:pt x="1402" y="1601"/>
                        </a:lnTo>
                        <a:lnTo>
                          <a:pt x="1556" y="1465"/>
                        </a:lnTo>
                        <a:lnTo>
                          <a:pt x="1729" y="1325"/>
                        </a:lnTo>
                        <a:lnTo>
                          <a:pt x="1857" y="1222"/>
                        </a:lnTo>
                        <a:lnTo>
                          <a:pt x="2036" y="1094"/>
                        </a:lnTo>
                        <a:lnTo>
                          <a:pt x="2223" y="958"/>
                        </a:lnTo>
                        <a:lnTo>
                          <a:pt x="2377" y="844"/>
                        </a:lnTo>
                        <a:lnTo>
                          <a:pt x="2518" y="747"/>
                        </a:lnTo>
                        <a:lnTo>
                          <a:pt x="2653" y="657"/>
                        </a:lnTo>
                        <a:lnTo>
                          <a:pt x="2787" y="568"/>
                        </a:lnTo>
                        <a:lnTo>
                          <a:pt x="2922" y="482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5"/>
                        </a:lnTo>
                        <a:lnTo>
                          <a:pt x="1517" y="278"/>
                        </a:lnTo>
                        <a:lnTo>
                          <a:pt x="1390" y="381"/>
                        </a:lnTo>
                        <a:lnTo>
                          <a:pt x="1254" y="491"/>
                        </a:lnTo>
                        <a:lnTo>
                          <a:pt x="1120" y="607"/>
                        </a:lnTo>
                        <a:lnTo>
                          <a:pt x="909" y="734"/>
                        </a:lnTo>
                        <a:lnTo>
                          <a:pt x="724" y="850"/>
                        </a:lnTo>
                        <a:lnTo>
                          <a:pt x="548" y="953"/>
                        </a:lnTo>
                        <a:lnTo>
                          <a:pt x="356" y="1087"/>
                        </a:lnTo>
                        <a:lnTo>
                          <a:pt x="183" y="1216"/>
                        </a:lnTo>
                        <a:lnTo>
                          <a:pt x="0" y="136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 flipH="1" rot="21168000">
                    <a:off x="6754680" y="383040"/>
                    <a:ext cx="2152440" cy="79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4">
                        <a:moveTo>
                          <a:pt x="0" y="1368"/>
                        </a:moveTo>
                        <a:lnTo>
                          <a:pt x="1073" y="1904"/>
                        </a:lnTo>
                        <a:lnTo>
                          <a:pt x="1242" y="1747"/>
                        </a:lnTo>
                        <a:lnTo>
                          <a:pt x="1402" y="1600"/>
                        </a:lnTo>
                        <a:lnTo>
                          <a:pt x="1556" y="1465"/>
                        </a:lnTo>
                        <a:lnTo>
                          <a:pt x="1729" y="1324"/>
                        </a:lnTo>
                        <a:lnTo>
                          <a:pt x="1857" y="1222"/>
                        </a:lnTo>
                        <a:lnTo>
                          <a:pt x="2036" y="1093"/>
                        </a:lnTo>
                        <a:lnTo>
                          <a:pt x="2223" y="959"/>
                        </a:lnTo>
                        <a:lnTo>
                          <a:pt x="2377" y="844"/>
                        </a:lnTo>
                        <a:lnTo>
                          <a:pt x="2518" y="747"/>
                        </a:lnTo>
                        <a:lnTo>
                          <a:pt x="2653" y="658"/>
                        </a:lnTo>
                        <a:lnTo>
                          <a:pt x="2787" y="568"/>
                        </a:lnTo>
                        <a:lnTo>
                          <a:pt x="2922" y="483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5"/>
                        </a:lnTo>
                        <a:lnTo>
                          <a:pt x="1517" y="278"/>
                        </a:lnTo>
                        <a:lnTo>
                          <a:pt x="1390" y="380"/>
                        </a:lnTo>
                        <a:lnTo>
                          <a:pt x="1254" y="489"/>
                        </a:lnTo>
                        <a:lnTo>
                          <a:pt x="1120" y="606"/>
                        </a:lnTo>
                        <a:lnTo>
                          <a:pt x="909" y="735"/>
                        </a:lnTo>
                        <a:lnTo>
                          <a:pt x="724" y="850"/>
                        </a:lnTo>
                        <a:lnTo>
                          <a:pt x="548" y="952"/>
                        </a:lnTo>
                        <a:lnTo>
                          <a:pt x="356" y="1086"/>
                        </a:lnTo>
                        <a:lnTo>
                          <a:pt x="183" y="1215"/>
                        </a:lnTo>
                        <a:lnTo>
                          <a:pt x="0" y="136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 flipH="1" rot="21168000">
                    <a:off x="6751800" y="362160"/>
                    <a:ext cx="2152440" cy="79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4">
                        <a:moveTo>
                          <a:pt x="0" y="1368"/>
                        </a:moveTo>
                        <a:lnTo>
                          <a:pt x="1073" y="1904"/>
                        </a:lnTo>
                        <a:lnTo>
                          <a:pt x="1242" y="1746"/>
                        </a:lnTo>
                        <a:lnTo>
                          <a:pt x="1402" y="1599"/>
                        </a:lnTo>
                        <a:lnTo>
                          <a:pt x="1556" y="1465"/>
                        </a:lnTo>
                        <a:lnTo>
                          <a:pt x="1729" y="1324"/>
                        </a:lnTo>
                        <a:lnTo>
                          <a:pt x="1857" y="1221"/>
                        </a:lnTo>
                        <a:lnTo>
                          <a:pt x="2036" y="1094"/>
                        </a:lnTo>
                        <a:lnTo>
                          <a:pt x="2223" y="958"/>
                        </a:lnTo>
                        <a:lnTo>
                          <a:pt x="2377" y="843"/>
                        </a:lnTo>
                        <a:lnTo>
                          <a:pt x="2518" y="747"/>
                        </a:lnTo>
                        <a:lnTo>
                          <a:pt x="2653" y="657"/>
                        </a:lnTo>
                        <a:lnTo>
                          <a:pt x="2787" y="567"/>
                        </a:lnTo>
                        <a:lnTo>
                          <a:pt x="2922" y="482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4"/>
                        </a:lnTo>
                        <a:lnTo>
                          <a:pt x="1517" y="277"/>
                        </a:lnTo>
                        <a:lnTo>
                          <a:pt x="1390" y="380"/>
                        </a:lnTo>
                        <a:lnTo>
                          <a:pt x="1254" y="490"/>
                        </a:lnTo>
                        <a:lnTo>
                          <a:pt x="1120" y="607"/>
                        </a:lnTo>
                        <a:lnTo>
                          <a:pt x="909" y="734"/>
                        </a:lnTo>
                        <a:lnTo>
                          <a:pt x="724" y="849"/>
                        </a:lnTo>
                        <a:lnTo>
                          <a:pt x="548" y="952"/>
                        </a:lnTo>
                        <a:lnTo>
                          <a:pt x="356" y="1087"/>
                        </a:lnTo>
                        <a:lnTo>
                          <a:pt x="183" y="1214"/>
                        </a:lnTo>
                        <a:lnTo>
                          <a:pt x="0" y="136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 flipH="1" rot="21168000">
                    <a:off x="6749280" y="340920"/>
                    <a:ext cx="2152440" cy="79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5">
                        <a:moveTo>
                          <a:pt x="0" y="1369"/>
                        </a:moveTo>
                        <a:lnTo>
                          <a:pt x="1073" y="1905"/>
                        </a:lnTo>
                        <a:lnTo>
                          <a:pt x="1242" y="1748"/>
                        </a:lnTo>
                        <a:lnTo>
                          <a:pt x="1402" y="1601"/>
                        </a:lnTo>
                        <a:lnTo>
                          <a:pt x="1556" y="1465"/>
                        </a:lnTo>
                        <a:lnTo>
                          <a:pt x="1729" y="1325"/>
                        </a:lnTo>
                        <a:lnTo>
                          <a:pt x="1857" y="1223"/>
                        </a:lnTo>
                        <a:lnTo>
                          <a:pt x="2036" y="1094"/>
                        </a:lnTo>
                        <a:lnTo>
                          <a:pt x="2223" y="960"/>
                        </a:lnTo>
                        <a:lnTo>
                          <a:pt x="2377" y="844"/>
                        </a:lnTo>
                        <a:lnTo>
                          <a:pt x="2518" y="747"/>
                        </a:lnTo>
                        <a:lnTo>
                          <a:pt x="2653" y="659"/>
                        </a:lnTo>
                        <a:lnTo>
                          <a:pt x="2787" y="567"/>
                        </a:lnTo>
                        <a:lnTo>
                          <a:pt x="2922" y="482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5"/>
                        </a:lnTo>
                        <a:lnTo>
                          <a:pt x="1517" y="278"/>
                        </a:lnTo>
                        <a:lnTo>
                          <a:pt x="1390" y="381"/>
                        </a:lnTo>
                        <a:lnTo>
                          <a:pt x="1254" y="490"/>
                        </a:lnTo>
                        <a:lnTo>
                          <a:pt x="1120" y="606"/>
                        </a:lnTo>
                        <a:lnTo>
                          <a:pt x="909" y="734"/>
                        </a:lnTo>
                        <a:lnTo>
                          <a:pt x="724" y="850"/>
                        </a:lnTo>
                        <a:lnTo>
                          <a:pt x="548" y="953"/>
                        </a:lnTo>
                        <a:lnTo>
                          <a:pt x="356" y="1087"/>
                        </a:lnTo>
                        <a:lnTo>
                          <a:pt x="183" y="1216"/>
                        </a:lnTo>
                        <a:lnTo>
                          <a:pt x="0" y="1369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 flipH="1" rot="21168000">
                    <a:off x="6746760" y="320400"/>
                    <a:ext cx="2152440" cy="78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3">
                        <a:moveTo>
                          <a:pt x="0" y="1367"/>
                        </a:moveTo>
                        <a:lnTo>
                          <a:pt x="1073" y="1903"/>
                        </a:lnTo>
                        <a:lnTo>
                          <a:pt x="1242" y="1746"/>
                        </a:lnTo>
                        <a:lnTo>
                          <a:pt x="1402" y="1599"/>
                        </a:lnTo>
                        <a:lnTo>
                          <a:pt x="1556" y="1465"/>
                        </a:lnTo>
                        <a:lnTo>
                          <a:pt x="1729" y="1323"/>
                        </a:lnTo>
                        <a:lnTo>
                          <a:pt x="1857" y="1221"/>
                        </a:lnTo>
                        <a:lnTo>
                          <a:pt x="2036" y="1092"/>
                        </a:lnTo>
                        <a:lnTo>
                          <a:pt x="2223" y="958"/>
                        </a:lnTo>
                        <a:lnTo>
                          <a:pt x="2377" y="843"/>
                        </a:lnTo>
                        <a:lnTo>
                          <a:pt x="2518" y="746"/>
                        </a:lnTo>
                        <a:lnTo>
                          <a:pt x="2653" y="656"/>
                        </a:lnTo>
                        <a:lnTo>
                          <a:pt x="2787" y="565"/>
                        </a:lnTo>
                        <a:lnTo>
                          <a:pt x="2922" y="482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4"/>
                        </a:lnTo>
                        <a:lnTo>
                          <a:pt x="1517" y="277"/>
                        </a:lnTo>
                        <a:lnTo>
                          <a:pt x="1390" y="379"/>
                        </a:lnTo>
                        <a:lnTo>
                          <a:pt x="1254" y="488"/>
                        </a:lnTo>
                        <a:lnTo>
                          <a:pt x="1120" y="604"/>
                        </a:lnTo>
                        <a:lnTo>
                          <a:pt x="909" y="734"/>
                        </a:lnTo>
                        <a:lnTo>
                          <a:pt x="724" y="840"/>
                        </a:lnTo>
                        <a:lnTo>
                          <a:pt x="548" y="951"/>
                        </a:lnTo>
                        <a:lnTo>
                          <a:pt x="356" y="1087"/>
                        </a:lnTo>
                        <a:lnTo>
                          <a:pt x="183" y="1214"/>
                        </a:lnTo>
                        <a:lnTo>
                          <a:pt x="0" y="1367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7" name=""/>
                <p:cNvGrpSpPr/>
                <p:nvPr/>
              </p:nvGrpSpPr>
              <p:grpSpPr>
                <a:xfrm>
                  <a:off x="6902280" y="277200"/>
                  <a:ext cx="1842480" cy="869400"/>
                  <a:chOff x="6902280" y="277200"/>
                  <a:chExt cx="1842480" cy="869400"/>
                </a:xfrm>
              </p:grpSpPr>
              <p:sp>
                <p:nvSpPr>
                  <p:cNvPr id="1158" name=""/>
                  <p:cNvSpPr/>
                  <p:nvPr/>
                </p:nvSpPr>
                <p:spPr>
                  <a:xfrm flipH="1" rot="21168000">
                    <a:off x="6936120" y="385560"/>
                    <a:ext cx="1774800" cy="65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10" h="1570">
                        <a:moveTo>
                          <a:pt x="0" y="1127"/>
                        </a:moveTo>
                        <a:lnTo>
                          <a:pt x="884" y="1570"/>
                        </a:lnTo>
                        <a:lnTo>
                          <a:pt x="1025" y="1440"/>
                        </a:lnTo>
                        <a:lnTo>
                          <a:pt x="1156" y="1318"/>
                        </a:lnTo>
                        <a:lnTo>
                          <a:pt x="1282" y="1207"/>
                        </a:lnTo>
                        <a:lnTo>
                          <a:pt x="1426" y="1092"/>
                        </a:lnTo>
                        <a:lnTo>
                          <a:pt x="1530" y="1006"/>
                        </a:lnTo>
                        <a:lnTo>
                          <a:pt x="1679" y="901"/>
                        </a:lnTo>
                        <a:lnTo>
                          <a:pt x="1832" y="791"/>
                        </a:lnTo>
                        <a:lnTo>
                          <a:pt x="1960" y="694"/>
                        </a:lnTo>
                        <a:lnTo>
                          <a:pt x="2076" y="616"/>
                        </a:lnTo>
                        <a:lnTo>
                          <a:pt x="2187" y="541"/>
                        </a:lnTo>
                        <a:lnTo>
                          <a:pt x="2299" y="467"/>
                        </a:lnTo>
                        <a:lnTo>
                          <a:pt x="2410" y="395"/>
                        </a:lnTo>
                        <a:lnTo>
                          <a:pt x="1614" y="0"/>
                        </a:lnTo>
                        <a:lnTo>
                          <a:pt x="1484" y="74"/>
                        </a:lnTo>
                        <a:lnTo>
                          <a:pt x="1351" y="159"/>
                        </a:lnTo>
                        <a:lnTo>
                          <a:pt x="1250" y="228"/>
                        </a:lnTo>
                        <a:lnTo>
                          <a:pt x="1146" y="313"/>
                        </a:lnTo>
                        <a:lnTo>
                          <a:pt x="1034" y="402"/>
                        </a:lnTo>
                        <a:lnTo>
                          <a:pt x="924" y="498"/>
                        </a:lnTo>
                        <a:lnTo>
                          <a:pt x="749" y="605"/>
                        </a:lnTo>
                        <a:lnTo>
                          <a:pt x="613" y="682"/>
                        </a:lnTo>
                        <a:lnTo>
                          <a:pt x="452" y="785"/>
                        </a:lnTo>
                        <a:lnTo>
                          <a:pt x="294" y="896"/>
                        </a:lnTo>
                        <a:lnTo>
                          <a:pt x="150" y="1000"/>
                        </a:lnTo>
                        <a:lnTo>
                          <a:pt x="0" y="1127"/>
                        </a:lnTo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 flipH="1" rot="21168000">
                    <a:off x="6987960" y="403920"/>
                    <a:ext cx="1666080" cy="61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63" h="1481">
                        <a:moveTo>
                          <a:pt x="0" y="1075"/>
                        </a:moveTo>
                        <a:lnTo>
                          <a:pt x="805" y="1481"/>
                        </a:lnTo>
                        <a:lnTo>
                          <a:pt x="939" y="1348"/>
                        </a:lnTo>
                        <a:lnTo>
                          <a:pt x="1083" y="1221"/>
                        </a:lnTo>
                        <a:lnTo>
                          <a:pt x="1197" y="1120"/>
                        </a:lnTo>
                        <a:lnTo>
                          <a:pt x="1326" y="1016"/>
                        </a:lnTo>
                        <a:lnTo>
                          <a:pt x="1420" y="939"/>
                        </a:lnTo>
                        <a:lnTo>
                          <a:pt x="1554" y="845"/>
                        </a:lnTo>
                        <a:lnTo>
                          <a:pt x="1691" y="745"/>
                        </a:lnTo>
                        <a:lnTo>
                          <a:pt x="1806" y="659"/>
                        </a:lnTo>
                        <a:lnTo>
                          <a:pt x="1913" y="588"/>
                        </a:lnTo>
                        <a:lnTo>
                          <a:pt x="2012" y="521"/>
                        </a:lnTo>
                        <a:lnTo>
                          <a:pt x="2130" y="444"/>
                        </a:lnTo>
                        <a:lnTo>
                          <a:pt x="2263" y="357"/>
                        </a:lnTo>
                        <a:lnTo>
                          <a:pt x="1538" y="0"/>
                        </a:lnTo>
                        <a:lnTo>
                          <a:pt x="1412" y="75"/>
                        </a:lnTo>
                        <a:lnTo>
                          <a:pt x="1285" y="152"/>
                        </a:lnTo>
                        <a:lnTo>
                          <a:pt x="1168" y="239"/>
                        </a:lnTo>
                        <a:lnTo>
                          <a:pt x="1074" y="314"/>
                        </a:lnTo>
                        <a:lnTo>
                          <a:pt x="973" y="395"/>
                        </a:lnTo>
                        <a:lnTo>
                          <a:pt x="875" y="481"/>
                        </a:lnTo>
                        <a:lnTo>
                          <a:pt x="717" y="577"/>
                        </a:lnTo>
                        <a:lnTo>
                          <a:pt x="595" y="649"/>
                        </a:lnTo>
                        <a:lnTo>
                          <a:pt x="450" y="740"/>
                        </a:lnTo>
                        <a:lnTo>
                          <a:pt x="315" y="841"/>
                        </a:lnTo>
                        <a:lnTo>
                          <a:pt x="177" y="943"/>
                        </a:lnTo>
                        <a:lnTo>
                          <a:pt x="0" y="1075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0" name=""/>
              <p:cNvGrpSpPr/>
              <p:nvPr/>
            </p:nvGrpSpPr>
            <p:grpSpPr>
              <a:xfrm>
                <a:off x="7042320" y="465480"/>
                <a:ext cx="1548360" cy="489960"/>
                <a:chOff x="7042320" y="465480"/>
                <a:chExt cx="1548360" cy="489960"/>
              </a:xfrm>
            </p:grpSpPr>
            <p:grpSp>
              <p:nvGrpSpPr>
                <p:cNvPr id="1161" name=""/>
                <p:cNvGrpSpPr/>
                <p:nvPr/>
              </p:nvGrpSpPr>
              <p:grpSpPr>
                <a:xfrm>
                  <a:off x="8424000" y="711720"/>
                  <a:ext cx="166680" cy="54000"/>
                  <a:chOff x="8424000" y="711720"/>
                  <a:chExt cx="166680" cy="54000"/>
                </a:xfrm>
              </p:grpSpPr>
              <p:sp>
                <p:nvSpPr>
                  <p:cNvPr id="1162" name=""/>
                  <p:cNvSpPr/>
                  <p:nvPr/>
                </p:nvSpPr>
                <p:spPr>
                  <a:xfrm flipH="1" flipV="1">
                    <a:off x="8454960" y="711720"/>
                    <a:ext cx="135720" cy="396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 flipH="1" flipV="1">
                    <a:off x="8424000" y="724680"/>
                    <a:ext cx="135720" cy="410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4" name=""/>
                <p:cNvGrpSpPr/>
                <p:nvPr/>
              </p:nvGrpSpPr>
              <p:grpSpPr>
                <a:xfrm>
                  <a:off x="7980480" y="895680"/>
                  <a:ext cx="159120" cy="59760"/>
                  <a:chOff x="7980480" y="895680"/>
                  <a:chExt cx="159120" cy="59760"/>
                </a:xfrm>
              </p:grpSpPr>
              <p:sp>
                <p:nvSpPr>
                  <p:cNvPr id="1165" name=""/>
                  <p:cNvSpPr/>
                  <p:nvPr/>
                </p:nvSpPr>
                <p:spPr>
                  <a:xfrm flipH="1" flipV="1">
                    <a:off x="8018640" y="895680"/>
                    <a:ext cx="120960" cy="442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 flipH="1" flipV="1">
                    <a:off x="7980480" y="910440"/>
                    <a:ext cx="120960" cy="450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7" name=""/>
                <p:cNvGrpSpPr/>
                <p:nvPr/>
              </p:nvGrpSpPr>
              <p:grpSpPr>
                <a:xfrm>
                  <a:off x="7042320" y="634320"/>
                  <a:ext cx="154800" cy="42840"/>
                  <a:chOff x="7042320" y="634320"/>
                  <a:chExt cx="154800" cy="42840"/>
                </a:xfrm>
              </p:grpSpPr>
              <p:sp>
                <p:nvSpPr>
                  <p:cNvPr id="1168" name=""/>
                  <p:cNvSpPr/>
                  <p:nvPr/>
                </p:nvSpPr>
                <p:spPr>
                  <a:xfrm>
                    <a:off x="7042320" y="649080"/>
                    <a:ext cx="117000" cy="280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7080120" y="634320"/>
                    <a:ext cx="117000" cy="270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7453440" y="465480"/>
                  <a:ext cx="146520" cy="37800"/>
                  <a:chOff x="7453440" y="465480"/>
                  <a:chExt cx="146520" cy="37800"/>
                </a:xfrm>
              </p:grpSpPr>
              <p:sp>
                <p:nvSpPr>
                  <p:cNvPr id="1171" name=""/>
                  <p:cNvSpPr/>
                  <p:nvPr/>
                </p:nvSpPr>
                <p:spPr>
                  <a:xfrm>
                    <a:off x="7482960" y="465480"/>
                    <a:ext cx="117000" cy="237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7453440" y="479160"/>
                    <a:ext cx="117360" cy="241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3" name=""/>
                <p:cNvGrpSpPr/>
                <p:nvPr/>
              </p:nvGrpSpPr>
              <p:grpSpPr>
                <a:xfrm>
                  <a:off x="7527600" y="562320"/>
                  <a:ext cx="428040" cy="240480"/>
                  <a:chOff x="7527600" y="562320"/>
                  <a:chExt cx="428040" cy="240480"/>
                </a:xfrm>
              </p:grpSpPr>
              <p:sp>
                <p:nvSpPr>
                  <p:cNvPr id="1174" name=""/>
                  <p:cNvSpPr/>
                  <p:nvPr/>
                </p:nvSpPr>
                <p:spPr>
                  <a:xfrm flipH="1" rot="21168000">
                    <a:off x="7539120" y="586800"/>
                    <a:ext cx="40608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9943" y="16549"/>
                        </a:moveTo>
                        <a:arcTo wR="10800" hR="10800" stAng="1929812" swAng="1089031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9943" y="16549"/>
                        </a:moveTo>
                        <a:arcTo wR="10800" hR="10800" stAng="1929812" swAng="10890316"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 flipH="1" rot="21168000">
                    <a:off x="7537320" y="587520"/>
                    <a:ext cx="40392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37" y="5083"/>
                        </a:moveTo>
                        <a:arcTo wR="10800" hR="10800" stAng="-8882483" swAng="109063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37" y="5083"/>
                        </a:moveTo>
                        <a:arcTo wR="10800" hR="10800" stAng="-8882483" swAng="10906309"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76" name=""/>
            <p:cNvSpPr/>
            <p:nvPr/>
          </p:nvSpPr>
          <p:spPr>
            <a:xfrm flipH="1" rot="21168000">
              <a:off x="7410600" y="573120"/>
              <a:ext cx="685080" cy="572040"/>
            </a:xfrm>
            <a:custGeom>
              <a:avLst/>
              <a:gdLst/>
              <a:ahLst/>
              <a:rect l="l" t="t" r="r" b="b"/>
              <a:pathLst>
                <a:path w="930" h="1381">
                  <a:moveTo>
                    <a:pt x="0" y="0"/>
                  </a:moveTo>
                  <a:lnTo>
                    <a:pt x="930" y="483"/>
                  </a:lnTo>
                  <a:lnTo>
                    <a:pt x="929" y="1381"/>
                  </a:lnTo>
                </a:path>
              </a:pathLst>
            </a:custGeom>
            <a:solidFill>
              <a:srgbClr val="ddddd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"/>
          <p:cNvSpPr/>
          <p:nvPr/>
        </p:nvSpPr>
        <p:spPr>
          <a:xfrm>
            <a:off x="23400" y="6297480"/>
            <a:ext cx="628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Varsányi Judit-Virág Miklós: Cégstratégiák piaci, pénzügyi megalapozása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Műszaki Könyvkiadó, Budapest, 199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40760" y="304560"/>
            <a:ext cx="631692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8080"/>
                </a:solidFill>
                <a:latin typeface="Comic Sans MS"/>
              </a:rPr>
              <a:t>Finanszírozási célterületek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886176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7360" indent="-38736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a02600"/>
                </a:solidFill>
                <a:latin typeface="Comic Sans MS"/>
              </a:rPr>
              <a:t>Likviditásmenedzselés hosszabb távon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a00"/>
                </a:solidFill>
                <a:latin typeface="Comic Sans MS"/>
              </a:rPr>
              <a:t>A likviditásmenedzselés célja az, hogy a cég a viszonylag hosszú stratégiai időtávon tartósan elkerülje a fizetésképtelen állapot. Kulcseleme a pénzügyi helyzet folyamatos követése likviditási mutatók alapján, cash flow követési mechanizmusokkal, keresztmetszeti elemzésekkel, csődmodellekkel. Rendszerbe épített szűrők jelzik a kritikus sávokat, értékeket, időpontokat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spcBef>
                <a:spcPts val="499"/>
              </a:spcBef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a00"/>
                </a:solidFill>
                <a:latin typeface="Comic Sans MS"/>
              </a:rPr>
              <a:t>A tartós likviditásnak fontos feltétele, hogy a cégvezetés tudatosan kialakított finanszírozási elveket és arányokat kövessen. Az árak és fizetési feltételek alakításával pl. a likviditás széles határokon belül látványosan befolyásolható. Annak, hogy ez kihasználható legyen, fontos feltétele a cég termékeinek piacképessége, s ennek folytán a cég erős alkupozíciója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"/>
          <p:cNvGrpSpPr/>
          <p:nvPr/>
        </p:nvGrpSpPr>
        <p:grpSpPr>
          <a:xfrm>
            <a:off x="6344640" y="279360"/>
            <a:ext cx="2279880" cy="1413000"/>
            <a:chOff x="6344640" y="279360"/>
            <a:chExt cx="2279880" cy="1413000"/>
          </a:xfrm>
        </p:grpSpPr>
        <p:grpSp>
          <p:nvGrpSpPr>
            <p:cNvPr id="1181" name=""/>
            <p:cNvGrpSpPr/>
            <p:nvPr/>
          </p:nvGrpSpPr>
          <p:grpSpPr>
            <a:xfrm>
              <a:off x="6344640" y="279360"/>
              <a:ext cx="2279880" cy="1413000"/>
              <a:chOff x="6344640" y="279360"/>
              <a:chExt cx="2279880" cy="1413000"/>
            </a:xfrm>
          </p:grpSpPr>
          <p:grpSp>
            <p:nvGrpSpPr>
              <p:cNvPr id="1182" name=""/>
              <p:cNvGrpSpPr/>
              <p:nvPr/>
            </p:nvGrpSpPr>
            <p:grpSpPr>
              <a:xfrm>
                <a:off x="6344640" y="279360"/>
                <a:ext cx="2279880" cy="1413000"/>
                <a:chOff x="6344640" y="279360"/>
                <a:chExt cx="2279880" cy="1413000"/>
              </a:xfrm>
            </p:grpSpPr>
            <p:grpSp>
              <p:nvGrpSpPr>
                <p:cNvPr id="1183" name=""/>
                <p:cNvGrpSpPr/>
                <p:nvPr/>
              </p:nvGrpSpPr>
              <p:grpSpPr>
                <a:xfrm>
                  <a:off x="6344640" y="279360"/>
                  <a:ext cx="2279880" cy="1413000"/>
                  <a:chOff x="6344640" y="279360"/>
                  <a:chExt cx="2279880" cy="1413000"/>
                </a:xfrm>
              </p:grpSpPr>
              <p:sp>
                <p:nvSpPr>
                  <p:cNvPr id="1184" name=""/>
                  <p:cNvSpPr/>
                  <p:nvPr/>
                </p:nvSpPr>
                <p:spPr>
                  <a:xfrm flipH="1" rot="21168000">
                    <a:off x="6430320" y="770040"/>
                    <a:ext cx="2152440" cy="79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4">
                        <a:moveTo>
                          <a:pt x="0" y="1368"/>
                        </a:moveTo>
                        <a:lnTo>
                          <a:pt x="1073" y="1904"/>
                        </a:lnTo>
                        <a:lnTo>
                          <a:pt x="1242" y="1747"/>
                        </a:lnTo>
                        <a:lnTo>
                          <a:pt x="1402" y="1600"/>
                        </a:lnTo>
                        <a:lnTo>
                          <a:pt x="1556" y="1466"/>
                        </a:lnTo>
                        <a:lnTo>
                          <a:pt x="1729" y="1324"/>
                        </a:lnTo>
                        <a:lnTo>
                          <a:pt x="1857" y="1222"/>
                        </a:lnTo>
                        <a:lnTo>
                          <a:pt x="2036" y="1092"/>
                        </a:lnTo>
                        <a:lnTo>
                          <a:pt x="2223" y="958"/>
                        </a:lnTo>
                        <a:lnTo>
                          <a:pt x="2377" y="842"/>
                        </a:lnTo>
                        <a:lnTo>
                          <a:pt x="2518" y="746"/>
                        </a:lnTo>
                        <a:lnTo>
                          <a:pt x="2653" y="657"/>
                        </a:lnTo>
                        <a:lnTo>
                          <a:pt x="2787" y="566"/>
                        </a:lnTo>
                        <a:lnTo>
                          <a:pt x="2922" y="483"/>
                        </a:lnTo>
                        <a:lnTo>
                          <a:pt x="1958" y="0"/>
                        </a:lnTo>
                        <a:lnTo>
                          <a:pt x="1800" y="93"/>
                        </a:lnTo>
                        <a:lnTo>
                          <a:pt x="1639" y="195"/>
                        </a:lnTo>
                        <a:lnTo>
                          <a:pt x="1517" y="278"/>
                        </a:lnTo>
                        <a:lnTo>
                          <a:pt x="1390" y="381"/>
                        </a:lnTo>
                        <a:lnTo>
                          <a:pt x="1254" y="489"/>
                        </a:lnTo>
                        <a:lnTo>
                          <a:pt x="1120" y="605"/>
                        </a:lnTo>
                        <a:lnTo>
                          <a:pt x="909" y="734"/>
                        </a:lnTo>
                        <a:lnTo>
                          <a:pt x="724" y="849"/>
                        </a:lnTo>
                        <a:lnTo>
                          <a:pt x="548" y="951"/>
                        </a:lnTo>
                        <a:lnTo>
                          <a:pt x="356" y="1087"/>
                        </a:lnTo>
                        <a:lnTo>
                          <a:pt x="183" y="1214"/>
                        </a:lnTo>
                        <a:lnTo>
                          <a:pt x="0" y="136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 flipH="1" rot="21168000">
                    <a:off x="6427800" y="749520"/>
                    <a:ext cx="2152440" cy="79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5">
                        <a:moveTo>
                          <a:pt x="0" y="1369"/>
                        </a:moveTo>
                        <a:lnTo>
                          <a:pt x="1073" y="1905"/>
                        </a:lnTo>
                        <a:lnTo>
                          <a:pt x="1242" y="1747"/>
                        </a:lnTo>
                        <a:lnTo>
                          <a:pt x="1402" y="1599"/>
                        </a:lnTo>
                        <a:lnTo>
                          <a:pt x="1556" y="1465"/>
                        </a:lnTo>
                        <a:lnTo>
                          <a:pt x="1729" y="1325"/>
                        </a:lnTo>
                        <a:lnTo>
                          <a:pt x="1857" y="1220"/>
                        </a:lnTo>
                        <a:lnTo>
                          <a:pt x="2036" y="1093"/>
                        </a:lnTo>
                        <a:lnTo>
                          <a:pt x="2223" y="957"/>
                        </a:lnTo>
                        <a:lnTo>
                          <a:pt x="2377" y="842"/>
                        </a:lnTo>
                        <a:lnTo>
                          <a:pt x="2518" y="746"/>
                        </a:lnTo>
                        <a:lnTo>
                          <a:pt x="2653" y="656"/>
                        </a:lnTo>
                        <a:lnTo>
                          <a:pt x="2787" y="567"/>
                        </a:lnTo>
                        <a:lnTo>
                          <a:pt x="2922" y="482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4"/>
                        </a:lnTo>
                        <a:lnTo>
                          <a:pt x="1517" y="278"/>
                        </a:lnTo>
                        <a:lnTo>
                          <a:pt x="1390" y="380"/>
                        </a:lnTo>
                        <a:lnTo>
                          <a:pt x="1254" y="490"/>
                        </a:lnTo>
                        <a:lnTo>
                          <a:pt x="1120" y="605"/>
                        </a:lnTo>
                        <a:lnTo>
                          <a:pt x="909" y="733"/>
                        </a:lnTo>
                        <a:lnTo>
                          <a:pt x="724" y="848"/>
                        </a:lnTo>
                        <a:lnTo>
                          <a:pt x="548" y="951"/>
                        </a:lnTo>
                        <a:lnTo>
                          <a:pt x="356" y="1086"/>
                        </a:lnTo>
                        <a:lnTo>
                          <a:pt x="183" y="1213"/>
                        </a:lnTo>
                        <a:lnTo>
                          <a:pt x="0" y="1369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 flipH="1" rot="21168000">
                    <a:off x="6424920" y="728280"/>
                    <a:ext cx="2152440" cy="79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4">
                        <a:moveTo>
                          <a:pt x="0" y="1368"/>
                        </a:moveTo>
                        <a:lnTo>
                          <a:pt x="1073" y="1904"/>
                        </a:lnTo>
                        <a:lnTo>
                          <a:pt x="1242" y="1747"/>
                        </a:lnTo>
                        <a:lnTo>
                          <a:pt x="1402" y="1600"/>
                        </a:lnTo>
                        <a:lnTo>
                          <a:pt x="1556" y="1465"/>
                        </a:lnTo>
                        <a:lnTo>
                          <a:pt x="1729" y="1324"/>
                        </a:lnTo>
                        <a:lnTo>
                          <a:pt x="1857" y="1220"/>
                        </a:lnTo>
                        <a:lnTo>
                          <a:pt x="2036" y="1092"/>
                        </a:lnTo>
                        <a:lnTo>
                          <a:pt x="2223" y="958"/>
                        </a:lnTo>
                        <a:lnTo>
                          <a:pt x="2377" y="842"/>
                        </a:lnTo>
                        <a:lnTo>
                          <a:pt x="2518" y="745"/>
                        </a:lnTo>
                        <a:lnTo>
                          <a:pt x="2653" y="656"/>
                        </a:lnTo>
                        <a:lnTo>
                          <a:pt x="2787" y="566"/>
                        </a:lnTo>
                        <a:lnTo>
                          <a:pt x="2922" y="481"/>
                        </a:lnTo>
                        <a:lnTo>
                          <a:pt x="1958" y="0"/>
                        </a:lnTo>
                        <a:lnTo>
                          <a:pt x="1800" y="91"/>
                        </a:lnTo>
                        <a:lnTo>
                          <a:pt x="1639" y="195"/>
                        </a:lnTo>
                        <a:lnTo>
                          <a:pt x="1517" y="278"/>
                        </a:lnTo>
                        <a:lnTo>
                          <a:pt x="1390" y="380"/>
                        </a:lnTo>
                        <a:lnTo>
                          <a:pt x="1254" y="489"/>
                        </a:lnTo>
                        <a:lnTo>
                          <a:pt x="1120" y="605"/>
                        </a:lnTo>
                        <a:lnTo>
                          <a:pt x="909" y="733"/>
                        </a:lnTo>
                        <a:lnTo>
                          <a:pt x="724" y="848"/>
                        </a:lnTo>
                        <a:lnTo>
                          <a:pt x="548" y="951"/>
                        </a:lnTo>
                        <a:lnTo>
                          <a:pt x="356" y="1085"/>
                        </a:lnTo>
                        <a:lnTo>
                          <a:pt x="183" y="1214"/>
                        </a:lnTo>
                        <a:lnTo>
                          <a:pt x="0" y="136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 flipH="1" rot="21168000">
                    <a:off x="6422400" y="707400"/>
                    <a:ext cx="2152440" cy="79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4">
                        <a:moveTo>
                          <a:pt x="0" y="1366"/>
                        </a:moveTo>
                        <a:lnTo>
                          <a:pt x="1073" y="1904"/>
                        </a:lnTo>
                        <a:lnTo>
                          <a:pt x="1242" y="1747"/>
                        </a:lnTo>
                        <a:lnTo>
                          <a:pt x="1402" y="1599"/>
                        </a:lnTo>
                        <a:lnTo>
                          <a:pt x="1556" y="1465"/>
                        </a:lnTo>
                        <a:lnTo>
                          <a:pt x="1729" y="1322"/>
                        </a:lnTo>
                        <a:lnTo>
                          <a:pt x="1857" y="1220"/>
                        </a:lnTo>
                        <a:lnTo>
                          <a:pt x="2036" y="1091"/>
                        </a:lnTo>
                        <a:lnTo>
                          <a:pt x="2223" y="957"/>
                        </a:lnTo>
                        <a:lnTo>
                          <a:pt x="2377" y="842"/>
                        </a:lnTo>
                        <a:lnTo>
                          <a:pt x="2518" y="746"/>
                        </a:lnTo>
                        <a:lnTo>
                          <a:pt x="2653" y="656"/>
                        </a:lnTo>
                        <a:lnTo>
                          <a:pt x="2787" y="566"/>
                        </a:lnTo>
                        <a:lnTo>
                          <a:pt x="2922" y="482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4"/>
                        </a:lnTo>
                        <a:lnTo>
                          <a:pt x="1517" y="278"/>
                        </a:lnTo>
                        <a:lnTo>
                          <a:pt x="1390" y="380"/>
                        </a:lnTo>
                        <a:lnTo>
                          <a:pt x="1254" y="489"/>
                        </a:lnTo>
                        <a:lnTo>
                          <a:pt x="1120" y="604"/>
                        </a:lnTo>
                        <a:lnTo>
                          <a:pt x="909" y="733"/>
                        </a:lnTo>
                        <a:lnTo>
                          <a:pt x="724" y="848"/>
                        </a:lnTo>
                        <a:lnTo>
                          <a:pt x="548" y="950"/>
                        </a:lnTo>
                        <a:lnTo>
                          <a:pt x="356" y="1086"/>
                        </a:lnTo>
                        <a:lnTo>
                          <a:pt x="183" y="1213"/>
                        </a:lnTo>
                        <a:lnTo>
                          <a:pt x="0" y="1366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 flipH="1" rot="21168000">
                    <a:off x="6419520" y="685080"/>
                    <a:ext cx="2152440" cy="79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6">
                        <a:moveTo>
                          <a:pt x="0" y="1368"/>
                        </a:moveTo>
                        <a:lnTo>
                          <a:pt x="1073" y="1906"/>
                        </a:lnTo>
                        <a:lnTo>
                          <a:pt x="1242" y="1749"/>
                        </a:lnTo>
                        <a:lnTo>
                          <a:pt x="1402" y="1600"/>
                        </a:lnTo>
                        <a:lnTo>
                          <a:pt x="1556" y="1466"/>
                        </a:lnTo>
                        <a:lnTo>
                          <a:pt x="1729" y="1324"/>
                        </a:lnTo>
                        <a:lnTo>
                          <a:pt x="1857" y="1221"/>
                        </a:lnTo>
                        <a:lnTo>
                          <a:pt x="2036" y="1094"/>
                        </a:lnTo>
                        <a:lnTo>
                          <a:pt x="2223" y="958"/>
                        </a:lnTo>
                        <a:lnTo>
                          <a:pt x="2377" y="843"/>
                        </a:lnTo>
                        <a:lnTo>
                          <a:pt x="2518" y="747"/>
                        </a:lnTo>
                        <a:lnTo>
                          <a:pt x="2653" y="657"/>
                        </a:lnTo>
                        <a:lnTo>
                          <a:pt x="2787" y="568"/>
                        </a:lnTo>
                        <a:lnTo>
                          <a:pt x="2922" y="483"/>
                        </a:lnTo>
                        <a:lnTo>
                          <a:pt x="1958" y="0"/>
                        </a:lnTo>
                        <a:lnTo>
                          <a:pt x="1800" y="93"/>
                        </a:lnTo>
                        <a:lnTo>
                          <a:pt x="1639" y="195"/>
                        </a:lnTo>
                        <a:lnTo>
                          <a:pt x="1517" y="279"/>
                        </a:lnTo>
                        <a:lnTo>
                          <a:pt x="1390" y="382"/>
                        </a:lnTo>
                        <a:lnTo>
                          <a:pt x="1254" y="491"/>
                        </a:lnTo>
                        <a:lnTo>
                          <a:pt x="1120" y="607"/>
                        </a:lnTo>
                        <a:lnTo>
                          <a:pt x="909" y="734"/>
                        </a:lnTo>
                        <a:lnTo>
                          <a:pt x="724" y="849"/>
                        </a:lnTo>
                        <a:lnTo>
                          <a:pt x="548" y="952"/>
                        </a:lnTo>
                        <a:lnTo>
                          <a:pt x="356" y="1087"/>
                        </a:lnTo>
                        <a:lnTo>
                          <a:pt x="183" y="1216"/>
                        </a:lnTo>
                        <a:lnTo>
                          <a:pt x="0" y="136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 flipH="1" rot="21168000">
                    <a:off x="6417000" y="663840"/>
                    <a:ext cx="2152440" cy="79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6">
                        <a:moveTo>
                          <a:pt x="0" y="1369"/>
                        </a:moveTo>
                        <a:lnTo>
                          <a:pt x="1073" y="1906"/>
                        </a:lnTo>
                        <a:lnTo>
                          <a:pt x="1242" y="1749"/>
                        </a:lnTo>
                        <a:lnTo>
                          <a:pt x="1402" y="1602"/>
                        </a:lnTo>
                        <a:lnTo>
                          <a:pt x="1556" y="1465"/>
                        </a:lnTo>
                        <a:lnTo>
                          <a:pt x="1729" y="1325"/>
                        </a:lnTo>
                        <a:lnTo>
                          <a:pt x="1857" y="1223"/>
                        </a:lnTo>
                        <a:lnTo>
                          <a:pt x="2036" y="1094"/>
                        </a:lnTo>
                        <a:lnTo>
                          <a:pt x="2223" y="960"/>
                        </a:lnTo>
                        <a:lnTo>
                          <a:pt x="2377" y="844"/>
                        </a:lnTo>
                        <a:lnTo>
                          <a:pt x="2518" y="747"/>
                        </a:lnTo>
                        <a:lnTo>
                          <a:pt x="2653" y="659"/>
                        </a:lnTo>
                        <a:lnTo>
                          <a:pt x="2787" y="568"/>
                        </a:lnTo>
                        <a:lnTo>
                          <a:pt x="2922" y="483"/>
                        </a:lnTo>
                        <a:lnTo>
                          <a:pt x="1958" y="0"/>
                        </a:lnTo>
                        <a:lnTo>
                          <a:pt x="1800" y="95"/>
                        </a:lnTo>
                        <a:lnTo>
                          <a:pt x="1639" y="197"/>
                        </a:lnTo>
                        <a:lnTo>
                          <a:pt x="1517" y="280"/>
                        </a:lnTo>
                        <a:lnTo>
                          <a:pt x="1390" y="383"/>
                        </a:lnTo>
                        <a:lnTo>
                          <a:pt x="1254" y="491"/>
                        </a:lnTo>
                        <a:lnTo>
                          <a:pt x="1120" y="607"/>
                        </a:lnTo>
                        <a:lnTo>
                          <a:pt x="909" y="736"/>
                        </a:lnTo>
                        <a:lnTo>
                          <a:pt x="724" y="851"/>
                        </a:lnTo>
                        <a:lnTo>
                          <a:pt x="548" y="953"/>
                        </a:lnTo>
                        <a:lnTo>
                          <a:pt x="356" y="1087"/>
                        </a:lnTo>
                        <a:lnTo>
                          <a:pt x="183" y="1216"/>
                        </a:lnTo>
                        <a:lnTo>
                          <a:pt x="0" y="1369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 flipH="1" rot="21168000">
                    <a:off x="6414120" y="643320"/>
                    <a:ext cx="2152440" cy="79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6">
                        <a:moveTo>
                          <a:pt x="0" y="1367"/>
                        </a:moveTo>
                        <a:lnTo>
                          <a:pt x="1073" y="1906"/>
                        </a:lnTo>
                        <a:lnTo>
                          <a:pt x="1242" y="1748"/>
                        </a:lnTo>
                        <a:lnTo>
                          <a:pt x="1402" y="1600"/>
                        </a:lnTo>
                        <a:lnTo>
                          <a:pt x="1556" y="1465"/>
                        </a:lnTo>
                        <a:lnTo>
                          <a:pt x="1729" y="1323"/>
                        </a:lnTo>
                        <a:lnTo>
                          <a:pt x="1857" y="1221"/>
                        </a:lnTo>
                        <a:lnTo>
                          <a:pt x="2036" y="1092"/>
                        </a:lnTo>
                        <a:lnTo>
                          <a:pt x="2223" y="958"/>
                        </a:lnTo>
                        <a:lnTo>
                          <a:pt x="2377" y="843"/>
                        </a:lnTo>
                        <a:lnTo>
                          <a:pt x="2518" y="747"/>
                        </a:lnTo>
                        <a:lnTo>
                          <a:pt x="2653" y="657"/>
                        </a:lnTo>
                        <a:lnTo>
                          <a:pt x="2787" y="567"/>
                        </a:lnTo>
                        <a:lnTo>
                          <a:pt x="2922" y="483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5"/>
                        </a:lnTo>
                        <a:lnTo>
                          <a:pt x="1517" y="279"/>
                        </a:lnTo>
                        <a:lnTo>
                          <a:pt x="1390" y="381"/>
                        </a:lnTo>
                        <a:lnTo>
                          <a:pt x="1254" y="490"/>
                        </a:lnTo>
                        <a:lnTo>
                          <a:pt x="1120" y="605"/>
                        </a:lnTo>
                        <a:lnTo>
                          <a:pt x="909" y="734"/>
                        </a:lnTo>
                        <a:lnTo>
                          <a:pt x="724" y="849"/>
                        </a:lnTo>
                        <a:lnTo>
                          <a:pt x="548" y="951"/>
                        </a:lnTo>
                        <a:lnTo>
                          <a:pt x="356" y="1087"/>
                        </a:lnTo>
                        <a:lnTo>
                          <a:pt x="183" y="1214"/>
                        </a:lnTo>
                        <a:lnTo>
                          <a:pt x="0" y="1367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 flipH="1" rot="21168000">
                    <a:off x="6411600" y="621720"/>
                    <a:ext cx="2152440" cy="79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6">
                        <a:moveTo>
                          <a:pt x="0" y="1368"/>
                        </a:moveTo>
                        <a:lnTo>
                          <a:pt x="1073" y="1906"/>
                        </a:lnTo>
                        <a:lnTo>
                          <a:pt x="1242" y="1749"/>
                        </a:lnTo>
                        <a:lnTo>
                          <a:pt x="1402" y="1601"/>
                        </a:lnTo>
                        <a:lnTo>
                          <a:pt x="1556" y="1465"/>
                        </a:lnTo>
                        <a:lnTo>
                          <a:pt x="1729" y="1325"/>
                        </a:lnTo>
                        <a:lnTo>
                          <a:pt x="1857" y="1221"/>
                        </a:lnTo>
                        <a:lnTo>
                          <a:pt x="2036" y="1094"/>
                        </a:lnTo>
                        <a:lnTo>
                          <a:pt x="2223" y="958"/>
                        </a:lnTo>
                        <a:lnTo>
                          <a:pt x="2377" y="843"/>
                        </a:lnTo>
                        <a:lnTo>
                          <a:pt x="2518" y="747"/>
                        </a:lnTo>
                        <a:lnTo>
                          <a:pt x="2653" y="657"/>
                        </a:lnTo>
                        <a:lnTo>
                          <a:pt x="2787" y="568"/>
                        </a:lnTo>
                        <a:lnTo>
                          <a:pt x="2922" y="483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7"/>
                        </a:lnTo>
                        <a:lnTo>
                          <a:pt x="1517" y="279"/>
                        </a:lnTo>
                        <a:lnTo>
                          <a:pt x="1390" y="382"/>
                        </a:lnTo>
                        <a:lnTo>
                          <a:pt x="1254" y="491"/>
                        </a:lnTo>
                        <a:lnTo>
                          <a:pt x="1120" y="607"/>
                        </a:lnTo>
                        <a:lnTo>
                          <a:pt x="909" y="734"/>
                        </a:lnTo>
                        <a:lnTo>
                          <a:pt x="724" y="849"/>
                        </a:lnTo>
                        <a:lnTo>
                          <a:pt x="548" y="953"/>
                        </a:lnTo>
                        <a:lnTo>
                          <a:pt x="356" y="1087"/>
                        </a:lnTo>
                        <a:lnTo>
                          <a:pt x="183" y="1216"/>
                        </a:lnTo>
                        <a:lnTo>
                          <a:pt x="0" y="136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 flipH="1" rot="21168000">
                    <a:off x="6408720" y="600480"/>
                    <a:ext cx="2152440" cy="79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6">
                        <a:moveTo>
                          <a:pt x="0" y="1369"/>
                        </a:moveTo>
                        <a:lnTo>
                          <a:pt x="1073" y="1906"/>
                        </a:lnTo>
                        <a:lnTo>
                          <a:pt x="1242" y="1749"/>
                        </a:lnTo>
                        <a:lnTo>
                          <a:pt x="1402" y="1601"/>
                        </a:lnTo>
                        <a:lnTo>
                          <a:pt x="1556" y="1465"/>
                        </a:lnTo>
                        <a:lnTo>
                          <a:pt x="1729" y="1325"/>
                        </a:lnTo>
                        <a:lnTo>
                          <a:pt x="1857" y="1223"/>
                        </a:lnTo>
                        <a:lnTo>
                          <a:pt x="2036" y="1094"/>
                        </a:lnTo>
                        <a:lnTo>
                          <a:pt x="2223" y="960"/>
                        </a:lnTo>
                        <a:lnTo>
                          <a:pt x="2377" y="844"/>
                        </a:lnTo>
                        <a:lnTo>
                          <a:pt x="2518" y="748"/>
                        </a:lnTo>
                        <a:lnTo>
                          <a:pt x="2653" y="659"/>
                        </a:lnTo>
                        <a:lnTo>
                          <a:pt x="2787" y="568"/>
                        </a:lnTo>
                        <a:lnTo>
                          <a:pt x="2922" y="483"/>
                        </a:lnTo>
                        <a:lnTo>
                          <a:pt x="1958" y="0"/>
                        </a:lnTo>
                        <a:lnTo>
                          <a:pt x="1800" y="93"/>
                        </a:lnTo>
                        <a:lnTo>
                          <a:pt x="1639" y="196"/>
                        </a:lnTo>
                        <a:lnTo>
                          <a:pt x="1517" y="280"/>
                        </a:lnTo>
                        <a:lnTo>
                          <a:pt x="1390" y="383"/>
                        </a:lnTo>
                        <a:lnTo>
                          <a:pt x="1254" y="491"/>
                        </a:lnTo>
                        <a:lnTo>
                          <a:pt x="1120" y="607"/>
                        </a:lnTo>
                        <a:lnTo>
                          <a:pt x="909" y="736"/>
                        </a:lnTo>
                        <a:lnTo>
                          <a:pt x="724" y="851"/>
                        </a:lnTo>
                        <a:lnTo>
                          <a:pt x="548" y="953"/>
                        </a:lnTo>
                        <a:lnTo>
                          <a:pt x="356" y="1087"/>
                        </a:lnTo>
                        <a:lnTo>
                          <a:pt x="183" y="1216"/>
                        </a:lnTo>
                        <a:lnTo>
                          <a:pt x="0" y="1369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 flipH="1" rot="21168000">
                    <a:off x="6406200" y="579600"/>
                    <a:ext cx="2152440" cy="79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6">
                        <a:moveTo>
                          <a:pt x="0" y="1367"/>
                        </a:moveTo>
                        <a:lnTo>
                          <a:pt x="1073" y="1906"/>
                        </a:lnTo>
                        <a:lnTo>
                          <a:pt x="1242" y="1748"/>
                        </a:lnTo>
                        <a:lnTo>
                          <a:pt x="1402" y="1599"/>
                        </a:lnTo>
                        <a:lnTo>
                          <a:pt x="1556" y="1465"/>
                        </a:lnTo>
                        <a:lnTo>
                          <a:pt x="1729" y="1323"/>
                        </a:lnTo>
                        <a:lnTo>
                          <a:pt x="1857" y="1221"/>
                        </a:lnTo>
                        <a:lnTo>
                          <a:pt x="2036" y="1093"/>
                        </a:lnTo>
                        <a:lnTo>
                          <a:pt x="2223" y="958"/>
                        </a:lnTo>
                        <a:lnTo>
                          <a:pt x="2377" y="843"/>
                        </a:lnTo>
                        <a:lnTo>
                          <a:pt x="2518" y="747"/>
                        </a:lnTo>
                        <a:lnTo>
                          <a:pt x="2653" y="657"/>
                        </a:lnTo>
                        <a:lnTo>
                          <a:pt x="2787" y="567"/>
                        </a:lnTo>
                        <a:lnTo>
                          <a:pt x="2922" y="483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4"/>
                        </a:lnTo>
                        <a:lnTo>
                          <a:pt x="1517" y="277"/>
                        </a:lnTo>
                        <a:lnTo>
                          <a:pt x="1390" y="381"/>
                        </a:lnTo>
                        <a:lnTo>
                          <a:pt x="1254" y="490"/>
                        </a:lnTo>
                        <a:lnTo>
                          <a:pt x="1120" y="605"/>
                        </a:lnTo>
                        <a:lnTo>
                          <a:pt x="909" y="734"/>
                        </a:lnTo>
                        <a:lnTo>
                          <a:pt x="724" y="849"/>
                        </a:lnTo>
                        <a:lnTo>
                          <a:pt x="548" y="951"/>
                        </a:lnTo>
                        <a:lnTo>
                          <a:pt x="356" y="1087"/>
                        </a:lnTo>
                        <a:lnTo>
                          <a:pt x="183" y="1214"/>
                        </a:lnTo>
                        <a:lnTo>
                          <a:pt x="0" y="1367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 flipH="1" rot="21168000">
                    <a:off x="6403680" y="558360"/>
                    <a:ext cx="2152440" cy="79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6">
                        <a:moveTo>
                          <a:pt x="0" y="1368"/>
                        </a:moveTo>
                        <a:lnTo>
                          <a:pt x="1073" y="1906"/>
                        </a:lnTo>
                        <a:lnTo>
                          <a:pt x="1242" y="1749"/>
                        </a:lnTo>
                        <a:lnTo>
                          <a:pt x="1402" y="1601"/>
                        </a:lnTo>
                        <a:lnTo>
                          <a:pt x="1556" y="1465"/>
                        </a:lnTo>
                        <a:lnTo>
                          <a:pt x="1729" y="1325"/>
                        </a:lnTo>
                        <a:lnTo>
                          <a:pt x="1857" y="1221"/>
                        </a:lnTo>
                        <a:lnTo>
                          <a:pt x="2036" y="1094"/>
                        </a:lnTo>
                        <a:lnTo>
                          <a:pt x="2223" y="958"/>
                        </a:lnTo>
                        <a:lnTo>
                          <a:pt x="2377" y="843"/>
                        </a:lnTo>
                        <a:lnTo>
                          <a:pt x="2518" y="747"/>
                        </a:lnTo>
                        <a:lnTo>
                          <a:pt x="2653" y="657"/>
                        </a:lnTo>
                        <a:lnTo>
                          <a:pt x="2787" y="568"/>
                        </a:lnTo>
                        <a:lnTo>
                          <a:pt x="2922" y="483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5"/>
                        </a:lnTo>
                        <a:lnTo>
                          <a:pt x="1517" y="278"/>
                        </a:lnTo>
                        <a:lnTo>
                          <a:pt x="1390" y="382"/>
                        </a:lnTo>
                        <a:lnTo>
                          <a:pt x="1254" y="491"/>
                        </a:lnTo>
                        <a:lnTo>
                          <a:pt x="1120" y="607"/>
                        </a:lnTo>
                        <a:lnTo>
                          <a:pt x="909" y="734"/>
                        </a:lnTo>
                        <a:lnTo>
                          <a:pt x="724" y="850"/>
                        </a:lnTo>
                        <a:lnTo>
                          <a:pt x="548" y="953"/>
                        </a:lnTo>
                        <a:lnTo>
                          <a:pt x="356" y="1087"/>
                        </a:lnTo>
                        <a:lnTo>
                          <a:pt x="183" y="1216"/>
                        </a:lnTo>
                        <a:lnTo>
                          <a:pt x="0" y="136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 flipH="1" rot="21168000">
                    <a:off x="6400800" y="537120"/>
                    <a:ext cx="2152440" cy="79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5">
                        <a:moveTo>
                          <a:pt x="0" y="1368"/>
                        </a:moveTo>
                        <a:lnTo>
                          <a:pt x="1073" y="1905"/>
                        </a:lnTo>
                        <a:lnTo>
                          <a:pt x="1242" y="1747"/>
                        </a:lnTo>
                        <a:lnTo>
                          <a:pt x="1402" y="1600"/>
                        </a:lnTo>
                        <a:lnTo>
                          <a:pt x="1556" y="1465"/>
                        </a:lnTo>
                        <a:lnTo>
                          <a:pt x="1729" y="1324"/>
                        </a:lnTo>
                        <a:lnTo>
                          <a:pt x="1857" y="1222"/>
                        </a:lnTo>
                        <a:lnTo>
                          <a:pt x="2036" y="1093"/>
                        </a:lnTo>
                        <a:lnTo>
                          <a:pt x="2223" y="959"/>
                        </a:lnTo>
                        <a:lnTo>
                          <a:pt x="2377" y="843"/>
                        </a:lnTo>
                        <a:lnTo>
                          <a:pt x="2518" y="747"/>
                        </a:lnTo>
                        <a:lnTo>
                          <a:pt x="2653" y="658"/>
                        </a:lnTo>
                        <a:lnTo>
                          <a:pt x="2787" y="567"/>
                        </a:lnTo>
                        <a:lnTo>
                          <a:pt x="2922" y="483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5"/>
                        </a:lnTo>
                        <a:lnTo>
                          <a:pt x="1517" y="278"/>
                        </a:lnTo>
                        <a:lnTo>
                          <a:pt x="1390" y="380"/>
                        </a:lnTo>
                        <a:lnTo>
                          <a:pt x="1254" y="490"/>
                        </a:lnTo>
                        <a:lnTo>
                          <a:pt x="1120" y="606"/>
                        </a:lnTo>
                        <a:lnTo>
                          <a:pt x="909" y="735"/>
                        </a:lnTo>
                        <a:lnTo>
                          <a:pt x="724" y="850"/>
                        </a:lnTo>
                        <a:lnTo>
                          <a:pt x="548" y="952"/>
                        </a:lnTo>
                        <a:lnTo>
                          <a:pt x="356" y="1086"/>
                        </a:lnTo>
                        <a:lnTo>
                          <a:pt x="183" y="1215"/>
                        </a:lnTo>
                        <a:lnTo>
                          <a:pt x="0" y="136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 flipH="1" rot="21168000">
                    <a:off x="6398280" y="516240"/>
                    <a:ext cx="2152440" cy="79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6">
                        <a:moveTo>
                          <a:pt x="0" y="1368"/>
                        </a:moveTo>
                        <a:lnTo>
                          <a:pt x="1073" y="1906"/>
                        </a:lnTo>
                        <a:lnTo>
                          <a:pt x="1242" y="1746"/>
                        </a:lnTo>
                        <a:lnTo>
                          <a:pt x="1402" y="1599"/>
                        </a:lnTo>
                        <a:lnTo>
                          <a:pt x="1556" y="1465"/>
                        </a:lnTo>
                        <a:lnTo>
                          <a:pt x="1729" y="1323"/>
                        </a:lnTo>
                        <a:lnTo>
                          <a:pt x="1857" y="1221"/>
                        </a:lnTo>
                        <a:lnTo>
                          <a:pt x="2036" y="1094"/>
                        </a:lnTo>
                        <a:lnTo>
                          <a:pt x="2223" y="958"/>
                        </a:lnTo>
                        <a:lnTo>
                          <a:pt x="2377" y="843"/>
                        </a:lnTo>
                        <a:lnTo>
                          <a:pt x="2518" y="747"/>
                        </a:lnTo>
                        <a:lnTo>
                          <a:pt x="2653" y="657"/>
                        </a:lnTo>
                        <a:lnTo>
                          <a:pt x="2787" y="567"/>
                        </a:lnTo>
                        <a:lnTo>
                          <a:pt x="2922" y="483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4"/>
                        </a:lnTo>
                        <a:lnTo>
                          <a:pt x="1517" y="277"/>
                        </a:lnTo>
                        <a:lnTo>
                          <a:pt x="1390" y="380"/>
                        </a:lnTo>
                        <a:lnTo>
                          <a:pt x="1254" y="490"/>
                        </a:lnTo>
                        <a:lnTo>
                          <a:pt x="1120" y="605"/>
                        </a:lnTo>
                        <a:lnTo>
                          <a:pt x="909" y="734"/>
                        </a:lnTo>
                        <a:lnTo>
                          <a:pt x="724" y="849"/>
                        </a:lnTo>
                        <a:lnTo>
                          <a:pt x="548" y="952"/>
                        </a:lnTo>
                        <a:lnTo>
                          <a:pt x="356" y="1087"/>
                        </a:lnTo>
                        <a:lnTo>
                          <a:pt x="183" y="1214"/>
                        </a:lnTo>
                        <a:lnTo>
                          <a:pt x="0" y="136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 flipH="1" rot="21168000">
                    <a:off x="6395400" y="495000"/>
                    <a:ext cx="2152440" cy="79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6">
                        <a:moveTo>
                          <a:pt x="0" y="1368"/>
                        </a:moveTo>
                        <a:lnTo>
                          <a:pt x="1073" y="1906"/>
                        </a:lnTo>
                        <a:lnTo>
                          <a:pt x="1242" y="1748"/>
                        </a:lnTo>
                        <a:lnTo>
                          <a:pt x="1402" y="1601"/>
                        </a:lnTo>
                        <a:lnTo>
                          <a:pt x="1556" y="1465"/>
                        </a:lnTo>
                        <a:lnTo>
                          <a:pt x="1729" y="1325"/>
                        </a:lnTo>
                        <a:lnTo>
                          <a:pt x="1857" y="1222"/>
                        </a:lnTo>
                        <a:lnTo>
                          <a:pt x="2036" y="1094"/>
                        </a:lnTo>
                        <a:lnTo>
                          <a:pt x="2223" y="958"/>
                        </a:lnTo>
                        <a:lnTo>
                          <a:pt x="2377" y="844"/>
                        </a:lnTo>
                        <a:lnTo>
                          <a:pt x="2518" y="747"/>
                        </a:lnTo>
                        <a:lnTo>
                          <a:pt x="2653" y="657"/>
                        </a:lnTo>
                        <a:lnTo>
                          <a:pt x="2787" y="568"/>
                        </a:lnTo>
                        <a:lnTo>
                          <a:pt x="2922" y="482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5"/>
                        </a:lnTo>
                        <a:lnTo>
                          <a:pt x="1517" y="278"/>
                        </a:lnTo>
                        <a:lnTo>
                          <a:pt x="1390" y="381"/>
                        </a:lnTo>
                        <a:lnTo>
                          <a:pt x="1254" y="491"/>
                        </a:lnTo>
                        <a:lnTo>
                          <a:pt x="1120" y="607"/>
                        </a:lnTo>
                        <a:lnTo>
                          <a:pt x="909" y="734"/>
                        </a:lnTo>
                        <a:lnTo>
                          <a:pt x="724" y="850"/>
                        </a:lnTo>
                        <a:lnTo>
                          <a:pt x="548" y="953"/>
                        </a:lnTo>
                        <a:lnTo>
                          <a:pt x="356" y="1087"/>
                        </a:lnTo>
                        <a:lnTo>
                          <a:pt x="183" y="1216"/>
                        </a:lnTo>
                        <a:lnTo>
                          <a:pt x="0" y="136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 flipH="1" rot="21168000">
                    <a:off x="6392880" y="473760"/>
                    <a:ext cx="2152440" cy="79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4">
                        <a:moveTo>
                          <a:pt x="0" y="1368"/>
                        </a:moveTo>
                        <a:lnTo>
                          <a:pt x="1073" y="1904"/>
                        </a:lnTo>
                        <a:lnTo>
                          <a:pt x="1242" y="1747"/>
                        </a:lnTo>
                        <a:lnTo>
                          <a:pt x="1402" y="1600"/>
                        </a:lnTo>
                        <a:lnTo>
                          <a:pt x="1556" y="1465"/>
                        </a:lnTo>
                        <a:lnTo>
                          <a:pt x="1729" y="1324"/>
                        </a:lnTo>
                        <a:lnTo>
                          <a:pt x="1857" y="1222"/>
                        </a:lnTo>
                        <a:lnTo>
                          <a:pt x="2036" y="1093"/>
                        </a:lnTo>
                        <a:lnTo>
                          <a:pt x="2223" y="959"/>
                        </a:lnTo>
                        <a:lnTo>
                          <a:pt x="2377" y="844"/>
                        </a:lnTo>
                        <a:lnTo>
                          <a:pt x="2518" y="747"/>
                        </a:lnTo>
                        <a:lnTo>
                          <a:pt x="2653" y="658"/>
                        </a:lnTo>
                        <a:lnTo>
                          <a:pt x="2787" y="568"/>
                        </a:lnTo>
                        <a:lnTo>
                          <a:pt x="2922" y="483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5"/>
                        </a:lnTo>
                        <a:lnTo>
                          <a:pt x="1517" y="278"/>
                        </a:lnTo>
                        <a:lnTo>
                          <a:pt x="1390" y="380"/>
                        </a:lnTo>
                        <a:lnTo>
                          <a:pt x="1254" y="489"/>
                        </a:lnTo>
                        <a:lnTo>
                          <a:pt x="1120" y="606"/>
                        </a:lnTo>
                        <a:lnTo>
                          <a:pt x="909" y="735"/>
                        </a:lnTo>
                        <a:lnTo>
                          <a:pt x="724" y="850"/>
                        </a:lnTo>
                        <a:lnTo>
                          <a:pt x="548" y="952"/>
                        </a:lnTo>
                        <a:lnTo>
                          <a:pt x="356" y="1086"/>
                        </a:lnTo>
                        <a:lnTo>
                          <a:pt x="183" y="1215"/>
                        </a:lnTo>
                        <a:lnTo>
                          <a:pt x="0" y="136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 flipH="1" rot="21168000">
                    <a:off x="6390360" y="452880"/>
                    <a:ext cx="2152440" cy="79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4">
                        <a:moveTo>
                          <a:pt x="0" y="1368"/>
                        </a:moveTo>
                        <a:lnTo>
                          <a:pt x="1073" y="1904"/>
                        </a:lnTo>
                        <a:lnTo>
                          <a:pt x="1242" y="1746"/>
                        </a:lnTo>
                        <a:lnTo>
                          <a:pt x="1402" y="1599"/>
                        </a:lnTo>
                        <a:lnTo>
                          <a:pt x="1556" y="1465"/>
                        </a:lnTo>
                        <a:lnTo>
                          <a:pt x="1729" y="1324"/>
                        </a:lnTo>
                        <a:lnTo>
                          <a:pt x="1857" y="1221"/>
                        </a:lnTo>
                        <a:lnTo>
                          <a:pt x="2036" y="1094"/>
                        </a:lnTo>
                        <a:lnTo>
                          <a:pt x="2223" y="958"/>
                        </a:lnTo>
                        <a:lnTo>
                          <a:pt x="2377" y="843"/>
                        </a:lnTo>
                        <a:lnTo>
                          <a:pt x="2518" y="747"/>
                        </a:lnTo>
                        <a:lnTo>
                          <a:pt x="2653" y="657"/>
                        </a:lnTo>
                        <a:lnTo>
                          <a:pt x="2787" y="567"/>
                        </a:lnTo>
                        <a:lnTo>
                          <a:pt x="2922" y="482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4"/>
                        </a:lnTo>
                        <a:lnTo>
                          <a:pt x="1517" y="277"/>
                        </a:lnTo>
                        <a:lnTo>
                          <a:pt x="1390" y="380"/>
                        </a:lnTo>
                        <a:lnTo>
                          <a:pt x="1254" y="490"/>
                        </a:lnTo>
                        <a:lnTo>
                          <a:pt x="1120" y="607"/>
                        </a:lnTo>
                        <a:lnTo>
                          <a:pt x="909" y="734"/>
                        </a:lnTo>
                        <a:lnTo>
                          <a:pt x="724" y="849"/>
                        </a:lnTo>
                        <a:lnTo>
                          <a:pt x="548" y="952"/>
                        </a:lnTo>
                        <a:lnTo>
                          <a:pt x="356" y="1087"/>
                        </a:lnTo>
                        <a:lnTo>
                          <a:pt x="183" y="1214"/>
                        </a:lnTo>
                        <a:lnTo>
                          <a:pt x="0" y="136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 flipH="1" rot="21168000">
                    <a:off x="6387480" y="431640"/>
                    <a:ext cx="2152440" cy="79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5">
                        <a:moveTo>
                          <a:pt x="0" y="1369"/>
                        </a:moveTo>
                        <a:lnTo>
                          <a:pt x="1073" y="1905"/>
                        </a:lnTo>
                        <a:lnTo>
                          <a:pt x="1242" y="1748"/>
                        </a:lnTo>
                        <a:lnTo>
                          <a:pt x="1402" y="1601"/>
                        </a:lnTo>
                        <a:lnTo>
                          <a:pt x="1556" y="1465"/>
                        </a:lnTo>
                        <a:lnTo>
                          <a:pt x="1729" y="1325"/>
                        </a:lnTo>
                        <a:lnTo>
                          <a:pt x="1857" y="1223"/>
                        </a:lnTo>
                        <a:lnTo>
                          <a:pt x="2036" y="1094"/>
                        </a:lnTo>
                        <a:lnTo>
                          <a:pt x="2223" y="960"/>
                        </a:lnTo>
                        <a:lnTo>
                          <a:pt x="2377" y="844"/>
                        </a:lnTo>
                        <a:lnTo>
                          <a:pt x="2518" y="747"/>
                        </a:lnTo>
                        <a:lnTo>
                          <a:pt x="2653" y="659"/>
                        </a:lnTo>
                        <a:lnTo>
                          <a:pt x="2787" y="567"/>
                        </a:lnTo>
                        <a:lnTo>
                          <a:pt x="2922" y="482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5"/>
                        </a:lnTo>
                        <a:lnTo>
                          <a:pt x="1517" y="278"/>
                        </a:lnTo>
                        <a:lnTo>
                          <a:pt x="1390" y="381"/>
                        </a:lnTo>
                        <a:lnTo>
                          <a:pt x="1254" y="490"/>
                        </a:lnTo>
                        <a:lnTo>
                          <a:pt x="1120" y="606"/>
                        </a:lnTo>
                        <a:lnTo>
                          <a:pt x="909" y="734"/>
                        </a:lnTo>
                        <a:lnTo>
                          <a:pt x="724" y="850"/>
                        </a:lnTo>
                        <a:lnTo>
                          <a:pt x="548" y="953"/>
                        </a:lnTo>
                        <a:lnTo>
                          <a:pt x="356" y="1087"/>
                        </a:lnTo>
                        <a:lnTo>
                          <a:pt x="183" y="1216"/>
                        </a:lnTo>
                        <a:lnTo>
                          <a:pt x="0" y="1369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 flipH="1" rot="21168000">
                    <a:off x="6384960" y="411120"/>
                    <a:ext cx="2152440" cy="78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22" h="1903">
                        <a:moveTo>
                          <a:pt x="0" y="1367"/>
                        </a:moveTo>
                        <a:lnTo>
                          <a:pt x="1073" y="1903"/>
                        </a:lnTo>
                        <a:lnTo>
                          <a:pt x="1242" y="1746"/>
                        </a:lnTo>
                        <a:lnTo>
                          <a:pt x="1402" y="1599"/>
                        </a:lnTo>
                        <a:lnTo>
                          <a:pt x="1556" y="1465"/>
                        </a:lnTo>
                        <a:lnTo>
                          <a:pt x="1729" y="1323"/>
                        </a:lnTo>
                        <a:lnTo>
                          <a:pt x="1857" y="1221"/>
                        </a:lnTo>
                        <a:lnTo>
                          <a:pt x="2036" y="1092"/>
                        </a:lnTo>
                        <a:lnTo>
                          <a:pt x="2223" y="958"/>
                        </a:lnTo>
                        <a:lnTo>
                          <a:pt x="2377" y="843"/>
                        </a:lnTo>
                        <a:lnTo>
                          <a:pt x="2518" y="746"/>
                        </a:lnTo>
                        <a:lnTo>
                          <a:pt x="2653" y="656"/>
                        </a:lnTo>
                        <a:lnTo>
                          <a:pt x="2787" y="565"/>
                        </a:lnTo>
                        <a:lnTo>
                          <a:pt x="2922" y="482"/>
                        </a:lnTo>
                        <a:lnTo>
                          <a:pt x="1958" y="0"/>
                        </a:lnTo>
                        <a:lnTo>
                          <a:pt x="1800" y="92"/>
                        </a:lnTo>
                        <a:lnTo>
                          <a:pt x="1639" y="194"/>
                        </a:lnTo>
                        <a:lnTo>
                          <a:pt x="1517" y="277"/>
                        </a:lnTo>
                        <a:lnTo>
                          <a:pt x="1390" y="379"/>
                        </a:lnTo>
                        <a:lnTo>
                          <a:pt x="1254" y="488"/>
                        </a:lnTo>
                        <a:lnTo>
                          <a:pt x="1120" y="604"/>
                        </a:lnTo>
                        <a:lnTo>
                          <a:pt x="909" y="734"/>
                        </a:lnTo>
                        <a:lnTo>
                          <a:pt x="724" y="840"/>
                        </a:lnTo>
                        <a:lnTo>
                          <a:pt x="548" y="951"/>
                        </a:lnTo>
                        <a:lnTo>
                          <a:pt x="356" y="1087"/>
                        </a:lnTo>
                        <a:lnTo>
                          <a:pt x="183" y="1214"/>
                        </a:lnTo>
                        <a:lnTo>
                          <a:pt x="0" y="1367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2" name=""/>
                <p:cNvGrpSpPr/>
                <p:nvPr/>
              </p:nvGrpSpPr>
              <p:grpSpPr>
                <a:xfrm>
                  <a:off x="6540480" y="367920"/>
                  <a:ext cx="1842480" cy="869040"/>
                  <a:chOff x="6540480" y="367920"/>
                  <a:chExt cx="1842480" cy="869040"/>
                </a:xfrm>
              </p:grpSpPr>
              <p:sp>
                <p:nvSpPr>
                  <p:cNvPr id="1203" name=""/>
                  <p:cNvSpPr/>
                  <p:nvPr/>
                </p:nvSpPr>
                <p:spPr>
                  <a:xfrm flipH="1" rot="21168000">
                    <a:off x="6574320" y="476280"/>
                    <a:ext cx="1774800" cy="65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10" h="1570">
                        <a:moveTo>
                          <a:pt x="0" y="1127"/>
                        </a:moveTo>
                        <a:lnTo>
                          <a:pt x="884" y="1570"/>
                        </a:lnTo>
                        <a:lnTo>
                          <a:pt x="1025" y="1440"/>
                        </a:lnTo>
                        <a:lnTo>
                          <a:pt x="1156" y="1318"/>
                        </a:lnTo>
                        <a:lnTo>
                          <a:pt x="1282" y="1207"/>
                        </a:lnTo>
                        <a:lnTo>
                          <a:pt x="1426" y="1092"/>
                        </a:lnTo>
                        <a:lnTo>
                          <a:pt x="1530" y="1006"/>
                        </a:lnTo>
                        <a:lnTo>
                          <a:pt x="1679" y="901"/>
                        </a:lnTo>
                        <a:lnTo>
                          <a:pt x="1832" y="791"/>
                        </a:lnTo>
                        <a:lnTo>
                          <a:pt x="1960" y="694"/>
                        </a:lnTo>
                        <a:lnTo>
                          <a:pt x="2076" y="616"/>
                        </a:lnTo>
                        <a:lnTo>
                          <a:pt x="2187" y="541"/>
                        </a:lnTo>
                        <a:lnTo>
                          <a:pt x="2299" y="467"/>
                        </a:lnTo>
                        <a:lnTo>
                          <a:pt x="2410" y="395"/>
                        </a:lnTo>
                        <a:lnTo>
                          <a:pt x="1614" y="0"/>
                        </a:lnTo>
                        <a:lnTo>
                          <a:pt x="1484" y="74"/>
                        </a:lnTo>
                        <a:lnTo>
                          <a:pt x="1351" y="159"/>
                        </a:lnTo>
                        <a:lnTo>
                          <a:pt x="1250" y="228"/>
                        </a:lnTo>
                        <a:lnTo>
                          <a:pt x="1146" y="313"/>
                        </a:lnTo>
                        <a:lnTo>
                          <a:pt x="1034" y="402"/>
                        </a:lnTo>
                        <a:lnTo>
                          <a:pt x="924" y="498"/>
                        </a:lnTo>
                        <a:lnTo>
                          <a:pt x="749" y="605"/>
                        </a:lnTo>
                        <a:lnTo>
                          <a:pt x="613" y="682"/>
                        </a:lnTo>
                        <a:lnTo>
                          <a:pt x="452" y="785"/>
                        </a:lnTo>
                        <a:lnTo>
                          <a:pt x="294" y="896"/>
                        </a:lnTo>
                        <a:lnTo>
                          <a:pt x="150" y="1000"/>
                        </a:lnTo>
                        <a:lnTo>
                          <a:pt x="0" y="1127"/>
                        </a:lnTo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 flipH="1" rot="21168000">
                    <a:off x="6626160" y="494640"/>
                    <a:ext cx="1666080" cy="614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63" h="1481">
                        <a:moveTo>
                          <a:pt x="0" y="1075"/>
                        </a:moveTo>
                        <a:lnTo>
                          <a:pt x="805" y="1481"/>
                        </a:lnTo>
                        <a:lnTo>
                          <a:pt x="939" y="1348"/>
                        </a:lnTo>
                        <a:lnTo>
                          <a:pt x="1083" y="1221"/>
                        </a:lnTo>
                        <a:lnTo>
                          <a:pt x="1197" y="1120"/>
                        </a:lnTo>
                        <a:lnTo>
                          <a:pt x="1326" y="1016"/>
                        </a:lnTo>
                        <a:lnTo>
                          <a:pt x="1420" y="939"/>
                        </a:lnTo>
                        <a:lnTo>
                          <a:pt x="1554" y="845"/>
                        </a:lnTo>
                        <a:lnTo>
                          <a:pt x="1691" y="745"/>
                        </a:lnTo>
                        <a:lnTo>
                          <a:pt x="1806" y="659"/>
                        </a:lnTo>
                        <a:lnTo>
                          <a:pt x="1913" y="588"/>
                        </a:lnTo>
                        <a:lnTo>
                          <a:pt x="2012" y="521"/>
                        </a:lnTo>
                        <a:lnTo>
                          <a:pt x="2130" y="444"/>
                        </a:lnTo>
                        <a:lnTo>
                          <a:pt x="2263" y="357"/>
                        </a:lnTo>
                        <a:lnTo>
                          <a:pt x="1538" y="0"/>
                        </a:lnTo>
                        <a:lnTo>
                          <a:pt x="1412" y="75"/>
                        </a:lnTo>
                        <a:lnTo>
                          <a:pt x="1285" y="152"/>
                        </a:lnTo>
                        <a:lnTo>
                          <a:pt x="1168" y="239"/>
                        </a:lnTo>
                        <a:lnTo>
                          <a:pt x="1074" y="314"/>
                        </a:lnTo>
                        <a:lnTo>
                          <a:pt x="973" y="395"/>
                        </a:lnTo>
                        <a:lnTo>
                          <a:pt x="875" y="481"/>
                        </a:lnTo>
                        <a:lnTo>
                          <a:pt x="717" y="577"/>
                        </a:lnTo>
                        <a:lnTo>
                          <a:pt x="595" y="649"/>
                        </a:lnTo>
                        <a:lnTo>
                          <a:pt x="450" y="740"/>
                        </a:lnTo>
                        <a:lnTo>
                          <a:pt x="315" y="841"/>
                        </a:lnTo>
                        <a:lnTo>
                          <a:pt x="177" y="943"/>
                        </a:lnTo>
                        <a:lnTo>
                          <a:pt x="0" y="1075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5" name=""/>
              <p:cNvGrpSpPr/>
              <p:nvPr/>
            </p:nvGrpSpPr>
            <p:grpSpPr>
              <a:xfrm>
                <a:off x="6680520" y="556200"/>
                <a:ext cx="1548360" cy="489960"/>
                <a:chOff x="6680520" y="556200"/>
                <a:chExt cx="1548360" cy="489960"/>
              </a:xfrm>
            </p:grpSpPr>
            <p:grpSp>
              <p:nvGrpSpPr>
                <p:cNvPr id="1206" name=""/>
                <p:cNvGrpSpPr/>
                <p:nvPr/>
              </p:nvGrpSpPr>
              <p:grpSpPr>
                <a:xfrm>
                  <a:off x="8062200" y="802440"/>
                  <a:ext cx="166680" cy="54000"/>
                  <a:chOff x="8062200" y="802440"/>
                  <a:chExt cx="166680" cy="54000"/>
                </a:xfrm>
              </p:grpSpPr>
              <p:sp>
                <p:nvSpPr>
                  <p:cNvPr id="1207" name=""/>
                  <p:cNvSpPr/>
                  <p:nvPr/>
                </p:nvSpPr>
                <p:spPr>
                  <a:xfrm flipH="1" flipV="1">
                    <a:off x="8093520" y="802440"/>
                    <a:ext cx="135360" cy="396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 flipH="1" flipV="1">
                    <a:off x="8062200" y="815400"/>
                    <a:ext cx="136080" cy="410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9" name=""/>
                <p:cNvGrpSpPr/>
                <p:nvPr/>
              </p:nvGrpSpPr>
              <p:grpSpPr>
                <a:xfrm>
                  <a:off x="7618680" y="986400"/>
                  <a:ext cx="159120" cy="59760"/>
                  <a:chOff x="7618680" y="986400"/>
                  <a:chExt cx="159120" cy="59760"/>
                </a:xfrm>
              </p:grpSpPr>
              <p:sp>
                <p:nvSpPr>
                  <p:cNvPr id="1210" name=""/>
                  <p:cNvSpPr/>
                  <p:nvPr/>
                </p:nvSpPr>
                <p:spPr>
                  <a:xfrm flipH="1" flipV="1">
                    <a:off x="7656840" y="986400"/>
                    <a:ext cx="120960" cy="442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 flipH="1" flipV="1">
                    <a:off x="7618680" y="1001160"/>
                    <a:ext cx="121320" cy="450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2" name=""/>
                <p:cNvGrpSpPr/>
                <p:nvPr/>
              </p:nvGrpSpPr>
              <p:grpSpPr>
                <a:xfrm>
                  <a:off x="6680520" y="725040"/>
                  <a:ext cx="154800" cy="42840"/>
                  <a:chOff x="6680520" y="725040"/>
                  <a:chExt cx="154800" cy="42840"/>
                </a:xfrm>
              </p:grpSpPr>
              <p:sp>
                <p:nvSpPr>
                  <p:cNvPr id="1213" name=""/>
                  <p:cNvSpPr/>
                  <p:nvPr/>
                </p:nvSpPr>
                <p:spPr>
                  <a:xfrm>
                    <a:off x="6680520" y="739800"/>
                    <a:ext cx="117000" cy="280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718320" y="725040"/>
                    <a:ext cx="117000" cy="270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5" name=""/>
                <p:cNvGrpSpPr/>
                <p:nvPr/>
              </p:nvGrpSpPr>
              <p:grpSpPr>
                <a:xfrm>
                  <a:off x="7092000" y="556200"/>
                  <a:ext cx="146160" cy="37800"/>
                  <a:chOff x="7092000" y="556200"/>
                  <a:chExt cx="146160" cy="37800"/>
                </a:xfrm>
              </p:grpSpPr>
              <p:sp>
                <p:nvSpPr>
                  <p:cNvPr id="1216" name=""/>
                  <p:cNvSpPr/>
                  <p:nvPr/>
                </p:nvSpPr>
                <p:spPr>
                  <a:xfrm>
                    <a:off x="7121520" y="556200"/>
                    <a:ext cx="116640" cy="237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7092000" y="569880"/>
                    <a:ext cx="117000" cy="241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8" name=""/>
                <p:cNvGrpSpPr/>
                <p:nvPr/>
              </p:nvGrpSpPr>
              <p:grpSpPr>
                <a:xfrm>
                  <a:off x="7165800" y="653040"/>
                  <a:ext cx="428040" cy="240480"/>
                  <a:chOff x="7165800" y="653040"/>
                  <a:chExt cx="428040" cy="240480"/>
                </a:xfrm>
              </p:grpSpPr>
              <p:sp>
                <p:nvSpPr>
                  <p:cNvPr id="1219" name=""/>
                  <p:cNvSpPr/>
                  <p:nvPr/>
                </p:nvSpPr>
                <p:spPr>
                  <a:xfrm flipH="1" rot="21168000">
                    <a:off x="7177320" y="677520"/>
                    <a:ext cx="40608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9943" y="16549"/>
                        </a:moveTo>
                        <a:arcTo wR="10800" hR="10800" stAng="1929812" swAng="1089031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9943" y="16549"/>
                        </a:moveTo>
                        <a:arcTo wR="10800" hR="10800" stAng="1929812" swAng="10890316"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 flipH="1" rot="21168000">
                    <a:off x="7175520" y="678240"/>
                    <a:ext cx="40392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37" y="5083"/>
                        </a:moveTo>
                        <a:arcTo wR="10800" hR="10800" stAng="-8882483" swAng="1090630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37" y="5083"/>
                        </a:moveTo>
                        <a:arcTo wR="10800" hR="10800" stAng="-8882483" swAng="10906309"/>
                      </a:path>
                    </a:pathLst>
                  </a:custGeom>
                  <a:solidFill>
                    <a:srgbClr val="dddddd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21" name=""/>
            <p:cNvSpPr/>
            <p:nvPr/>
          </p:nvSpPr>
          <p:spPr>
            <a:xfrm flipH="1" rot="21168000">
              <a:off x="7048800" y="663840"/>
              <a:ext cx="685080" cy="572040"/>
            </a:xfrm>
            <a:custGeom>
              <a:avLst/>
              <a:gdLst/>
              <a:ahLst/>
              <a:rect l="l" t="t" r="r" b="b"/>
              <a:pathLst>
                <a:path w="930" h="1381">
                  <a:moveTo>
                    <a:pt x="0" y="0"/>
                  </a:moveTo>
                  <a:lnTo>
                    <a:pt x="930" y="483"/>
                  </a:lnTo>
                  <a:lnTo>
                    <a:pt x="929" y="1381"/>
                  </a:lnTo>
                </a:path>
              </a:pathLst>
            </a:custGeom>
            <a:solidFill>
              <a:srgbClr val="ddddd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2" name=""/>
          <p:cNvSpPr/>
          <p:nvPr/>
        </p:nvSpPr>
        <p:spPr>
          <a:xfrm>
            <a:off x="23400" y="6297480"/>
            <a:ext cx="628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Varsányi Judit-Virág Miklós: Cégstratégiák piaci, pénzügyi megalapozása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Műszaki Könyvkiadó, Budapest, 199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40760" y="304560"/>
            <a:ext cx="550404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8080"/>
                </a:solidFill>
                <a:latin typeface="Comic Sans MS"/>
              </a:rPr>
              <a:t>Finanszírozási célterületek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886176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3400" indent="-38340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a02600"/>
                </a:solidFill>
                <a:latin typeface="Comic Sans MS"/>
              </a:rPr>
              <a:t>Projektek finanszírozása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1" marL="942840" indent="-37080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a00"/>
                </a:solidFill>
                <a:latin typeface="Comic Sans MS"/>
              </a:rPr>
              <a:t>A projektfinanszírozás eredményességének feltétele, hogy a cég széles körben mérje fel tőkeforrásait, s azokat gondosan igazítsa a projekt tényleges tőkeszükségletéhez - beleértve a pénzforrások időbeli eloszlásának szempontját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  <a:p>
            <a:pPr lvl="1" marL="942840" indent="-37080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a00"/>
                </a:solidFill>
                <a:latin typeface="Comic Sans MS"/>
              </a:rPr>
              <a:t>A jó tőkeellátottságú projektek sikeres kivitelezésének feltétele a jó döntésmodellezés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  <a:p>
            <a:pPr marL="383400" indent="-38340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a02600"/>
                </a:solidFill>
                <a:latin typeface="Comic Sans MS"/>
              </a:rPr>
              <a:t>Stratégiai akciók finanszírozása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1" marL="942840" indent="-37080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a00"/>
                </a:solidFill>
                <a:latin typeface="Comic Sans MS"/>
              </a:rPr>
              <a:t>A stratégiai akciók finanszírozása a projektfinanszírozás körébe tartozik</a:t>
            </a:r>
            <a:br>
              <a:rPr sz="2000"/>
            </a:br>
            <a:r>
              <a:rPr b="1" lang="hu-HU" sz="2000" spc="-1" strike="noStrike">
                <a:solidFill>
                  <a:srgbClr val="006a00"/>
                </a:solidFill>
                <a:latin typeface="Comic Sans MS"/>
              </a:rPr>
              <a:t>akkor, ha az akció tartalma, jellege és jelentősége innovációs projektnek felel meg. Általában azonban az akcióprogramot előzetesen felül kell vizsgálni a finanszírozhatóság, pénzügyi erőforrások elosztása és az egyéb szempontok alapján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  <a:p>
            <a:pPr lvl="1" marL="94284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" descr=""/>
          <p:cNvPicPr/>
          <p:nvPr/>
        </p:nvPicPr>
        <p:blipFill>
          <a:blip r:embed="rId1"/>
          <a:stretch/>
        </p:blipFill>
        <p:spPr>
          <a:xfrm>
            <a:off x="7618320" y="270000"/>
            <a:ext cx="1238400" cy="1242720"/>
          </a:xfrm>
          <a:prstGeom prst="rect">
            <a:avLst/>
          </a:prstGeom>
          <a:ln w="0">
            <a:noFill/>
          </a:ln>
        </p:spPr>
      </p:pic>
      <p:sp>
        <p:nvSpPr>
          <p:cNvPr id="1226" name=""/>
          <p:cNvSpPr/>
          <p:nvPr/>
        </p:nvSpPr>
        <p:spPr>
          <a:xfrm>
            <a:off x="23400" y="6297480"/>
            <a:ext cx="628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Varsányi Judit-Virág Miklós: Cégstratégiák piaci, pénzügyi megalapozása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Műszaki Könyvkiadó, Budapest, 199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40760" y="304560"/>
            <a:ext cx="58215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8080"/>
                </a:solidFill>
                <a:latin typeface="Comic Sans MS"/>
              </a:rPr>
              <a:t>Finanszírozási célterületek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41120" y="1255320"/>
            <a:ext cx="886176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7920" indent="-36792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a02600"/>
                </a:solidFill>
                <a:latin typeface="Comic Sans MS"/>
              </a:rPr>
              <a:t>Befektetések működésének</a:t>
            </a:r>
            <a:br>
              <a:rPr sz="2600"/>
            </a:br>
            <a:r>
              <a:rPr b="1" lang="hu-HU" sz="2600" spc="-1" strike="noStrike">
                <a:solidFill>
                  <a:srgbClr val="a02600"/>
                </a:solidFill>
                <a:latin typeface="Comic Sans MS"/>
              </a:rPr>
              <a:t>átmeneti pénzügyi támogatása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1" marL="904680" indent="-35568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a00"/>
                </a:solidFill>
                <a:latin typeface="Comic Sans MS"/>
              </a:rPr>
              <a:t>Az erőforráselosztást az akciótervezési témakörben ismertetett piaci és kivitelezhetőségi előnyösségi szempontok és a finanszírozhatóság együttes figyelembevételével kell megtervezni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  <a:p>
            <a:pPr marL="367920" indent="-367920">
              <a:spcBef>
                <a:spcPts val="649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a02600"/>
                </a:solidFill>
                <a:latin typeface="Comic Sans MS"/>
              </a:rPr>
              <a:t>Pénzforgatási, befektetési akciók</a:t>
            </a:r>
            <a:endParaRPr b="1" lang="en-US" sz="2600" spc="-1" strike="noStrike">
              <a:solidFill>
                <a:srgbClr val="a02600"/>
              </a:solidFill>
              <a:latin typeface="Comic Sans MS"/>
            </a:endParaRPr>
          </a:p>
          <a:p>
            <a:pPr lvl="1" marL="904680" indent="-35568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a00"/>
                </a:solidFill>
                <a:latin typeface="Comic Sans MS"/>
              </a:rPr>
              <a:t>A tőkeallokációs döntéseket sokoldalú hatásszimulációnak kell követnie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  <a:p>
            <a:pPr lvl="1" marL="904680" indent="-35568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a00"/>
                </a:solidFill>
                <a:latin typeface="Comic Sans MS"/>
              </a:rPr>
              <a:t>A tőkeforgatási koncepció mint stratégiai kérdés, a cég és a fontosabb projektek tőkebővítési szükségletének felmérésén alapul. Erre épülnek a befektetési kínálat elemzésével foglalkozó tanulmányok. A kirajzolódó alternatívák sokoldalú előnyösségi vizsgálata és hatásszimulációja segíti az e témában születő átfogó finanszírozási döntéseket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Denevér" descr=""/>
          <p:cNvPicPr/>
          <p:nvPr/>
        </p:nvPicPr>
        <p:blipFill>
          <a:blip r:embed="rId1"/>
          <a:stretch/>
        </p:blipFill>
        <p:spPr>
          <a:xfrm>
            <a:off x="6870600" y="1704960"/>
            <a:ext cx="2009880" cy="200988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omic Sans MS"/>
              </a:rPr>
              <a:t>Innovációk finanszírozása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228240" y="2082960"/>
            <a:ext cx="7558200" cy="387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7360" indent="-38736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02600"/>
                </a:solidFill>
                <a:latin typeface="Comic Sans MS"/>
              </a:rPr>
              <a:t>Akciófinanszírozás, projektfinanszírozás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Akciófüggő finanszírozási ismérve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Forrásfüggő finanszírozási ismérve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marL="387360" indent="-387360">
              <a:spcBef>
                <a:spcPts val="55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02600"/>
                </a:solidFill>
                <a:latin typeface="Comic Sans MS"/>
              </a:rPr>
              <a:t>Fundraising és forráshasznosítás</a:t>
            </a:r>
            <a:endParaRPr b="1" lang="en-US" sz="22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Fundraising = forrásszerzés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Pályázati rendszer, vegyes célú források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Változó feltételrendszer = döntésmotiváló tényezők (hozzáférhetőség, előnyök, terhek, kockázatok)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Pályázókészség nagy szerepe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a00"/>
                </a:solidFill>
                <a:latin typeface="Comic Sans MS"/>
              </a:rPr>
              <a:t>A pályázatírási készség fejlesztése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</p:txBody>
      </p:sp>
      <p:sp>
        <p:nvSpPr>
          <p:cNvPr id="1232" name=""/>
          <p:cNvSpPr/>
          <p:nvPr/>
        </p:nvSpPr>
        <p:spPr>
          <a:xfrm>
            <a:off x="313200" y="6504120"/>
            <a:ext cx="714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arsányi Judit - Menedzsment óravázlatok. Széchenyi István Egyetem, 2002. februá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/>
          <p:nvPr/>
        </p:nvSpPr>
        <p:spPr>
          <a:xfrm>
            <a:off x="571680" y="142920"/>
            <a:ext cx="8001000" cy="31104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8080"/>
                </a:solidFill>
                <a:latin typeface="Comic Sans MS"/>
              </a:rPr>
              <a:t>Akcióirányokhoz kötött pénzügyi megfontolás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881440" y="1282680"/>
            <a:ext cx="6262560" cy="50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özvetlen, gyors megtérülés, mérhető piaci hatásokka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atás a minőségre, mennyiségre, szervezhetőségre, fajlagosokra, amortizáció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áfordítások időszerkezete, megtérülése és hatása a likviditásr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z ismeretszerzés célja és hatás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lternatívák a piackutató kínálat költségességére és hatásosságár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 marketingakció piacbefolyásoló képessége: hatás az erőviszonyokra, részarányok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atás az árpolitika mozgásterére és az eladható mennyiség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Jövedelmezőségi, likviditási hatások tömege és időbeli eloszlás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ermékjelleggel meghatározott mozgásté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z értékesítési hálózatbővítés formái és hatásosság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 bővülés fenntartásának forgóeszközigénye és finanszírozhatóság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 megcélzott képességjavulás je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z akció tartalma, menedzselési igénye, alvállalkozói kínálat és ésszerűsé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 hatások számszerű és intuitív elemei, szinergiahatások és pénzügyi eredmén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 környezetvédelmi akció célpontja és indokoltsá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inanszírozási forráslehetőségek és preferenciá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lvárások és a megtérülés kulcsszempontjai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47600" y="695160"/>
            <a:ext cx="2098800" cy="45108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50000">
                <a:srgbClr val="ffffff"/>
              </a:gs>
              <a:gs pos="100000">
                <a:srgbClr val="d0d0d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kcióirány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033720" y="685800"/>
            <a:ext cx="5637240" cy="45072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50000">
                <a:srgbClr val="ffffff"/>
              </a:gs>
              <a:gs pos="100000">
                <a:srgbClr val="d0d0d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öntési szempontok és pénzügyi megfontolás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117360" y="1319040"/>
            <a:ext cx="2563920" cy="3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90440" indent="-190440">
              <a:lnSpc>
                <a:spcPct val="95000"/>
              </a:lnSpc>
              <a:buClr>
                <a:srgbClr val="d8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3300"/>
                </a:solidFill>
                <a:latin typeface="Comic Sans MS"/>
              </a:rPr>
              <a:t>Gyártmányfejlesz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117360" y="1820880"/>
            <a:ext cx="2563920" cy="3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90440" indent="-190440">
              <a:lnSpc>
                <a:spcPct val="95000"/>
              </a:lnSpc>
              <a:buClr>
                <a:srgbClr val="d8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3300"/>
                </a:solidFill>
                <a:latin typeface="Comic Sans MS"/>
              </a:rPr>
              <a:t>Gyártásfejlesz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117360" y="2484360"/>
            <a:ext cx="2563920" cy="3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90440" indent="-190440">
              <a:lnSpc>
                <a:spcPct val="95000"/>
              </a:lnSpc>
              <a:buClr>
                <a:srgbClr val="d8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3300"/>
                </a:solidFill>
                <a:latin typeface="Comic Sans MS"/>
              </a:rPr>
              <a:t>Piackutatá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117360" y="3249720"/>
            <a:ext cx="2563920" cy="3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90440" indent="-190440">
              <a:lnSpc>
                <a:spcPct val="95000"/>
              </a:lnSpc>
              <a:buClr>
                <a:srgbClr val="d8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3300"/>
                </a:solidFill>
                <a:latin typeface="Comic Sans MS"/>
              </a:rPr>
              <a:t>Termékpozicionáló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H="1">
            <a:off x="116640" y="4119480"/>
            <a:ext cx="2457720" cy="3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90440" indent="-190440">
              <a:lnSpc>
                <a:spcPct val="95000"/>
              </a:lnSpc>
              <a:buClr>
                <a:srgbClr val="d8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3300"/>
                </a:solidFill>
                <a:latin typeface="Comic Sans MS"/>
              </a:rPr>
              <a:t>Piacbővítő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117360" y="4967280"/>
            <a:ext cx="2563920" cy="3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90440" indent="-190440">
              <a:lnSpc>
                <a:spcPct val="95000"/>
              </a:lnSpc>
              <a:buClr>
                <a:srgbClr val="d8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3300"/>
                </a:solidFill>
                <a:latin typeface="Comic Sans MS"/>
              </a:rPr>
              <a:t>TQM akci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117360" y="5764320"/>
            <a:ext cx="2563920" cy="36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90440" indent="-190440">
              <a:lnSpc>
                <a:spcPct val="95000"/>
              </a:lnSpc>
              <a:buClr>
                <a:srgbClr val="d8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3300"/>
                </a:solidFill>
                <a:latin typeface="Comic Sans MS"/>
              </a:rPr>
              <a:t>Környezetvéde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-65520" y="6297480"/>
            <a:ext cx="715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Varsányi Judit-Virág Miklós: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Cégstratégiák piaci, pénzügyi megalapozása. Műszaki Könyvkiadó, Budapest, 199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/>
          <p:nvPr/>
        </p:nvSpPr>
        <p:spPr>
          <a:xfrm>
            <a:off x="0" y="71280"/>
            <a:ext cx="9144000" cy="57960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8080"/>
                </a:solidFill>
                <a:latin typeface="Comic Sans MS"/>
              </a:rPr>
              <a:t>Finanszírozási forráshoz kötött pénzügyi megfontolás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290760" y="1441440"/>
            <a:ext cx="565164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 saját forrás tömege, és a más irányú lehetőségek mérlegelé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 saját tőke megtérülési követelmén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rízis esetére tartalékolandó saját tőke arány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itelterhek és biztosíték iránti igény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örlesztési kondíciók és a cég törlesztőképesség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rrás és hozzáférhetőségi feltétel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Általános és speciális hitelkondíciók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ibocsátási feltételek és ígérvény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nflációs viszonyok és várakozás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Visszafizetési és törlesztőképességi viszonyok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z innovációs lehetőség vonzereje és tartós hatás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z idegen tulajdonos magatartása, messzebbre mutató szándék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 tulajdonarányok változásának hatása a jövedelmezőségre, osztalékr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és a döntési struktúra alakulásá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osszú távú megtérülési és likviditási viszony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z innováció hatása a vagyonarányos nyereség alakulásá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47600" y="822240"/>
            <a:ext cx="2098800" cy="45108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50000">
                <a:srgbClr val="ffffff"/>
              </a:gs>
              <a:gs pos="100000">
                <a:srgbClr val="d0d0d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énzforrás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182760" y="816120"/>
            <a:ext cx="5621400" cy="45072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50000">
                <a:srgbClr val="ffffff"/>
              </a:gs>
              <a:gs pos="100000">
                <a:srgbClr val="d0d0d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öntési szempontok és pénzügyi megfontolás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116640" y="1706400"/>
            <a:ext cx="23418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90440" indent="-190440">
              <a:lnSpc>
                <a:spcPct val="95000"/>
              </a:lnSpc>
              <a:buClr>
                <a:srgbClr val="d8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3300"/>
                </a:solidFill>
                <a:latin typeface="Comic Sans MS"/>
              </a:rPr>
              <a:t>Saját forrá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116640" y="2577960"/>
            <a:ext cx="3511800" cy="2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90440" indent="-190440">
              <a:lnSpc>
                <a:spcPct val="95000"/>
              </a:lnSpc>
              <a:buClr>
                <a:srgbClr val="d8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3300"/>
                </a:solidFill>
                <a:latin typeface="Comic Sans MS"/>
              </a:rPr>
              <a:t>Hosszú lejáratú bankkölcsö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116640" y="3306600"/>
            <a:ext cx="30481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90440" indent="-190440">
              <a:lnSpc>
                <a:spcPct val="95000"/>
              </a:lnSpc>
              <a:buClr>
                <a:srgbClr val="d8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3300"/>
                </a:solidFill>
                <a:latin typeface="Comic Sans MS"/>
              </a:rPr>
              <a:t>Kedvezményes célhitel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116640" y="3992400"/>
            <a:ext cx="23418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90440" indent="-190440">
              <a:lnSpc>
                <a:spcPct val="95000"/>
              </a:lnSpc>
              <a:buClr>
                <a:srgbClr val="d8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3300"/>
                </a:solidFill>
                <a:latin typeface="Comic Sans MS"/>
              </a:rPr>
              <a:t>Kötvénykibocsátá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117360" y="5092560"/>
            <a:ext cx="2244960" cy="2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90440" indent="-190440">
              <a:lnSpc>
                <a:spcPct val="95000"/>
              </a:lnSpc>
              <a:buClr>
                <a:srgbClr val="d8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3300"/>
                </a:solidFill>
                <a:latin typeface="Comic Sans MS"/>
              </a:rPr>
              <a:t>Idegen tulajdonosi tőke bevon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3400" y="6297480"/>
            <a:ext cx="628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Varsányi Judit-Virág Miklós: Cégstratégiák piaci, pénzügyi megalapozása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Műszaki Könyvkiadó, Budapest, 199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omic Sans MS"/>
              </a:rPr>
              <a:t>Fundraising és forráshasznosítás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7360" indent="-387360">
              <a:spcBef>
                <a:spcPts val="601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2600"/>
                </a:solidFill>
                <a:latin typeface="Comic Sans MS"/>
              </a:rPr>
              <a:t>A tőkeerő és pénzügyi forrásszerzés jelentősége</a:t>
            </a:r>
            <a:endParaRPr b="1" lang="en-US" sz="24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a00"/>
                </a:solidFill>
                <a:latin typeface="Comic Sans MS"/>
              </a:rPr>
              <a:t>Tőkeerős cégek üzleti előnyei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a00"/>
                </a:solidFill>
                <a:latin typeface="Comic Sans MS"/>
              </a:rPr>
              <a:t>Külső források célzott hasznosítása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  <a:p>
            <a:pPr marL="387360" indent="-387360">
              <a:spcBef>
                <a:spcPts val="601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2600"/>
                </a:solidFill>
                <a:latin typeface="Comic Sans MS"/>
              </a:rPr>
              <a:t>A pályázati tevékenység fókuszpontjai</a:t>
            </a:r>
            <a:endParaRPr b="1" lang="en-US" sz="24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a00"/>
                </a:solidFill>
                <a:latin typeface="Comic Sans MS"/>
              </a:rPr>
              <a:t>A pályázati kiírás értelmezése, feltételezett preferenciák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a00"/>
                </a:solidFill>
                <a:latin typeface="Comic Sans MS"/>
              </a:rPr>
              <a:t>Info. gyújtés, háttértényezők vizsgálata, info. feldolgozás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a00"/>
                </a:solidFill>
                <a:latin typeface="Comic Sans MS"/>
              </a:rPr>
              <a:t>Bemutatkozás és szerepe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a00"/>
                </a:solidFill>
                <a:latin typeface="Comic Sans MS"/>
              </a:rPr>
              <a:t>A pályázati anyag tartalmi elemei és sikertényezői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a00"/>
                </a:solidFill>
                <a:latin typeface="Comic Sans MS"/>
              </a:rPr>
              <a:t>A bírálók szempontjai, értékelési gyakorlat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a00"/>
                </a:solidFill>
                <a:latin typeface="Comic Sans MS"/>
              </a:rPr>
              <a:t>A projekt vonzereje, kidolgozottsága, megvalósíthatósága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a00"/>
                </a:solidFill>
                <a:latin typeface="Comic Sans MS"/>
              </a:rPr>
              <a:t>A fenntarthatóság szempontjai és társadalmi hasznosság</a:t>
            </a:r>
            <a:endParaRPr b="0" lang="en-US" sz="2000" spc="-1" strike="noStrike">
              <a:solidFill>
                <a:srgbClr val="006a00"/>
              </a:solidFill>
              <a:latin typeface="Comic Sans MS"/>
            </a:endParaRPr>
          </a:p>
          <a:p>
            <a:pPr marL="387360" indent="-387360">
              <a:spcBef>
                <a:spcPts val="601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2600"/>
                </a:solidFill>
                <a:latin typeface="Comic Sans MS"/>
              </a:rPr>
              <a:t>Fundraising készségfejlesztés tréningekkel</a:t>
            </a:r>
            <a:endParaRPr b="1" lang="en-US" sz="24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1257" name=""/>
          <p:cNvSpPr/>
          <p:nvPr/>
        </p:nvSpPr>
        <p:spPr>
          <a:xfrm>
            <a:off x="313200" y="6504120"/>
            <a:ext cx="714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arsányi Judit - Menedzsment óravázlatok. Széchenyi István Egyetem, 2002. februá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03320" y="1873080"/>
            <a:ext cx="1711440" cy="121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omic Sans MS"/>
              </a:rPr>
              <a:t>Költsé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omic Sans MS"/>
              </a:rPr>
              <a:t>menedz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498680" y="1266840"/>
            <a:ext cx="6565680" cy="2290680"/>
            <a:chOff x="1498680" y="1266840"/>
            <a:chExt cx="6565680" cy="2290680"/>
          </a:xfrm>
        </p:grpSpPr>
        <p:sp>
          <p:nvSpPr>
            <p:cNvPr id="100" name=""/>
            <p:cNvSpPr/>
            <p:nvPr/>
          </p:nvSpPr>
          <p:spPr>
            <a:xfrm>
              <a:off x="1498680" y="1690560"/>
              <a:ext cx="6565680" cy="1866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52840" y="1854360"/>
              <a:ext cx="1329480" cy="12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Comic Sans MS"/>
                </a:rPr>
                <a:t>Változ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Comic Sans MS"/>
                </a:rPr>
                <a:t>költség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Comic Sans MS"/>
                </a:rPr>
                <a:t>elszámolá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Comic Sans MS"/>
                </a:rPr>
                <a:t>modell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29800" y="1863720"/>
              <a:ext cx="1394280" cy="1257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Comic Sans MS"/>
                </a:rPr>
                <a:t>Költsé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Comic Sans MS"/>
                </a:rPr>
                <a:t>felosztá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Comic Sans MS"/>
                </a:rPr>
                <a:t>módszer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61520" y="1266840"/>
              <a:ext cx="3936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Comic Sans MS"/>
                </a:rPr>
                <a:t>Költségmérés, költségelemzé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8" idx="3"/>
              <a:endCxn id="101" idx="1"/>
            </p:cNvCxnSpPr>
            <p:nvPr/>
          </p:nvCxnSpPr>
          <p:spPr>
            <a:xfrm>
              <a:off x="3614040" y="2480760"/>
              <a:ext cx="839520" cy="2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>
              <a:stCxn id="101" idx="3"/>
              <a:endCxn id="102" idx="1"/>
            </p:cNvCxnSpPr>
            <p:nvPr/>
          </p:nvCxnSpPr>
          <p:spPr>
            <a:xfrm>
              <a:off x="5782680" y="2482920"/>
              <a:ext cx="447840" cy="10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6" name=""/>
          <p:cNvGrpSpPr/>
          <p:nvPr/>
        </p:nvGrpSpPr>
        <p:grpSpPr>
          <a:xfrm>
            <a:off x="977760" y="1419120"/>
            <a:ext cx="3041280" cy="4811760"/>
            <a:chOff x="977760" y="1419120"/>
            <a:chExt cx="3041280" cy="4811760"/>
          </a:xfrm>
        </p:grpSpPr>
        <p:grpSp>
          <p:nvGrpSpPr>
            <p:cNvPr id="107" name=""/>
            <p:cNvGrpSpPr/>
            <p:nvPr/>
          </p:nvGrpSpPr>
          <p:grpSpPr>
            <a:xfrm>
              <a:off x="977760" y="1419120"/>
              <a:ext cx="3041280" cy="4811760"/>
              <a:chOff x="977760" y="1419120"/>
              <a:chExt cx="3041280" cy="4811760"/>
            </a:xfrm>
          </p:grpSpPr>
          <p:sp>
            <p:nvSpPr>
              <p:cNvPr id="108" name=""/>
              <p:cNvSpPr/>
              <p:nvPr/>
            </p:nvSpPr>
            <p:spPr>
              <a:xfrm>
                <a:off x="1499400" y="1690560"/>
                <a:ext cx="2519640" cy="4540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886400" y="3786120"/>
                <a:ext cx="1744200" cy="711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000000"/>
                    </a:solidFill>
                    <a:latin typeface="Comic Sans MS"/>
                  </a:rPr>
                  <a:t>Költségképző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886400" y="4941720"/>
                <a:ext cx="1745640" cy="10875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000000"/>
                    </a:solidFill>
                    <a:latin typeface="Comic Sans MS"/>
                  </a:rPr>
                  <a:t>A költség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000000"/>
                    </a:solidFill>
                    <a:latin typeface="Comic Sans MS"/>
                  </a:rPr>
                  <a:t>csökkenté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000000"/>
                    </a:solidFill>
                    <a:latin typeface="Comic Sans MS"/>
                  </a:rPr>
                  <a:t>megközelítése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6200000">
                <a:off x="-1167840" y="3564720"/>
                <a:ext cx="4654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000000"/>
                    </a:solidFill>
                    <a:latin typeface="Comic Sans MS"/>
                  </a:rPr>
                  <a:t>Költségellenőrzés, költségcsökkenté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2" name=""/>
              <p:cNvCxnSpPr>
                <a:stCxn id="98" idx="2"/>
                <a:endCxn id="109" idx="0"/>
              </p:cNvCxnSpPr>
              <p:nvPr/>
            </p:nvCxnSpPr>
            <p:spPr>
              <a:xfrm flipH="1">
                <a:off x="2758320" y="3087720"/>
                <a:ext cx="2160" cy="6991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113" name=""/>
            <p:cNvCxnSpPr>
              <a:stCxn id="109" idx="2"/>
              <a:endCxn id="110" idx="0"/>
            </p:cNvCxnSpPr>
            <p:nvPr/>
          </p:nvCxnSpPr>
          <p:spPr>
            <a:xfrm>
              <a:off x="2758680" y="4497480"/>
              <a:ext cx="2160" cy="444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8080"/>
                </a:solidFill>
                <a:latin typeface="Comic Sans MS"/>
              </a:rPr>
              <a:t>A költségmenedzsment áttekintése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0" y="3901680"/>
            <a:ext cx="436104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7360" indent="-387360">
              <a:spcBef>
                <a:spcPts val="601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a02600"/>
                </a:solidFill>
                <a:latin typeface="Comic Sans MS"/>
              </a:rPr>
              <a:t>A költségmenedzsment célirányai</a:t>
            </a:r>
            <a:endParaRPr b="1" lang="en-US" sz="2400" spc="-1" strike="noStrike">
              <a:solidFill>
                <a:srgbClr val="a026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a00"/>
                </a:solidFill>
                <a:latin typeface="Comic Sans MS"/>
              </a:rPr>
              <a:t>Költségek mérése</a:t>
            </a:r>
            <a:endParaRPr b="0" lang="en-US" sz="24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a00"/>
                </a:solidFill>
                <a:latin typeface="Comic Sans MS"/>
              </a:rPr>
              <a:t>Költségelemzés</a:t>
            </a:r>
            <a:endParaRPr b="0" lang="en-US" sz="24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a00"/>
                </a:solidFill>
                <a:latin typeface="Comic Sans MS"/>
              </a:rPr>
              <a:t>Költségek ellenőrzése</a:t>
            </a:r>
            <a:endParaRPr b="0" lang="en-US" sz="2400" spc="-1" strike="noStrike">
              <a:solidFill>
                <a:srgbClr val="006a00"/>
              </a:solidFill>
              <a:latin typeface="Comic Sans MS"/>
            </a:endParaRPr>
          </a:p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a00"/>
                </a:solidFill>
                <a:latin typeface="Comic Sans MS"/>
              </a:rPr>
              <a:t>Költségcsökkentés</a:t>
            </a:r>
            <a:endParaRPr b="0" lang="en-US" sz="2400" spc="-1" strike="noStrike">
              <a:solidFill>
                <a:srgbClr val="006a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210960" y="6305400"/>
            <a:ext cx="793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/>
          <p:nvPr/>
        </p:nvSpPr>
        <p:spPr>
          <a:xfrm>
            <a:off x="3406680" y="1230480"/>
            <a:ext cx="26924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9cb"/>
              </a:gs>
              <a:gs pos="100000">
                <a:srgbClr val="ffc77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Tőkegyarapod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2204640" y="2922120"/>
            <a:ext cx="4858560" cy="478080"/>
            <a:chOff x="2204640" y="2922120"/>
            <a:chExt cx="4858560" cy="478080"/>
          </a:xfrm>
        </p:grpSpPr>
        <p:grpSp>
          <p:nvGrpSpPr>
            <p:cNvPr id="1260" name=""/>
            <p:cNvGrpSpPr/>
            <p:nvPr/>
          </p:nvGrpSpPr>
          <p:grpSpPr>
            <a:xfrm>
              <a:off x="2204640" y="2922120"/>
              <a:ext cx="4858560" cy="478080"/>
              <a:chOff x="2204640" y="2922120"/>
              <a:chExt cx="4858560" cy="478080"/>
            </a:xfrm>
          </p:grpSpPr>
          <p:cxnSp>
            <p:nvCxnSpPr>
              <p:cNvPr id="1261" name=""/>
              <p:cNvCxnSpPr/>
              <p:nvPr/>
            </p:nvCxnSpPr>
            <p:spPr>
              <a:xfrm flipH="1" rot="16200000">
                <a:off x="6354720" y="2691720"/>
                <a:ext cx="478440" cy="938880"/>
              </a:xfrm>
              <a:prstGeom prst="bentConnector3">
                <a:avLst>
                  <a:gd name="adj1" fmla="val 49774"/>
                </a:avLst>
              </a:prstGeom>
              <a:ln w="15840">
                <a:solidFill>
                  <a:srgbClr val="006600"/>
                </a:solidFill>
                <a:miter/>
                <a:tailEnd len="sm" type="triangle" w="sm"/>
              </a:ln>
            </p:spPr>
          </p:cxnSp>
          <p:cxnSp>
            <p:nvCxnSpPr>
              <p:cNvPr id="1262" name=""/>
              <p:cNvCxnSpPr/>
              <p:nvPr/>
            </p:nvCxnSpPr>
            <p:spPr>
              <a:xfrm rot="5400000">
                <a:off x="3925440" y="1201320"/>
                <a:ext cx="478440" cy="3920400"/>
              </a:xfrm>
              <a:prstGeom prst="bentConnector3">
                <a:avLst>
                  <a:gd name="adj1" fmla="val 49774"/>
                </a:avLst>
              </a:prstGeom>
              <a:ln w="15840">
                <a:solidFill>
                  <a:srgbClr val="006600"/>
                </a:solidFill>
                <a:miter/>
                <a:tailEnd len="sm" type="triangle" w="sm"/>
              </a:ln>
            </p:spPr>
          </p:cxnSp>
          <p:cxnSp>
            <p:nvCxnSpPr>
              <p:cNvPr id="1263" name=""/>
              <p:cNvCxnSpPr/>
              <p:nvPr/>
            </p:nvCxnSpPr>
            <p:spPr>
              <a:xfrm flipH="1" rot="16200000">
                <a:off x="3740040" y="2388600"/>
                <a:ext cx="478440" cy="1545120"/>
              </a:xfrm>
              <a:prstGeom prst="bentConnector3">
                <a:avLst>
                  <a:gd name="adj1" fmla="val 49774"/>
                </a:avLst>
              </a:prstGeom>
              <a:ln w="15840">
                <a:solidFill>
                  <a:srgbClr val="006600"/>
                </a:solidFill>
                <a:miter/>
                <a:tailEnd len="sm" type="triangle" w="sm"/>
              </a:ln>
            </p:spPr>
          </p:cxnSp>
        </p:grpSp>
        <p:cxnSp>
          <p:nvCxnSpPr>
            <p:cNvPr id="1264" name=""/>
            <p:cNvCxnSpPr>
              <a:stCxn id="1265" idx="2"/>
              <a:endCxn id="1266" idx="0"/>
            </p:cNvCxnSpPr>
            <p:nvPr/>
          </p:nvCxnSpPr>
          <p:spPr>
            <a:xfrm rot="5400000">
              <a:off x="5198400" y="2474280"/>
              <a:ext cx="478440" cy="1374120"/>
            </a:xfrm>
            <a:prstGeom prst="bentConnector3">
              <a:avLst>
                <a:gd name="adj1" fmla="val 49774"/>
              </a:avLst>
            </a:prstGeom>
            <a:ln w="15840">
              <a:solidFill>
                <a:srgbClr val="006600"/>
              </a:solidFill>
              <a:miter/>
              <a:tailEnd len="sm" type="triangle" w="sm"/>
            </a:ln>
          </p:spPr>
        </p:cxnSp>
      </p:grpSp>
      <p:grpSp>
        <p:nvGrpSpPr>
          <p:cNvPr id="1267" name=""/>
          <p:cNvGrpSpPr/>
          <p:nvPr/>
        </p:nvGrpSpPr>
        <p:grpSpPr>
          <a:xfrm>
            <a:off x="1890000" y="3973320"/>
            <a:ext cx="5755680" cy="640080"/>
            <a:chOff x="1890000" y="3973320"/>
            <a:chExt cx="5755680" cy="640080"/>
          </a:xfrm>
        </p:grpSpPr>
        <p:grpSp>
          <p:nvGrpSpPr>
            <p:cNvPr id="1268" name=""/>
            <p:cNvGrpSpPr/>
            <p:nvPr/>
          </p:nvGrpSpPr>
          <p:grpSpPr>
            <a:xfrm>
              <a:off x="1890000" y="3973320"/>
              <a:ext cx="5755680" cy="640080"/>
              <a:chOff x="1890000" y="3973320"/>
              <a:chExt cx="5755680" cy="640080"/>
            </a:xfrm>
          </p:grpSpPr>
          <p:cxnSp>
            <p:nvCxnSpPr>
              <p:cNvPr id="1269" name=""/>
              <p:cNvCxnSpPr>
                <a:stCxn id="1270" idx="2"/>
                <a:endCxn id="1271" idx="0"/>
              </p:cNvCxnSpPr>
              <p:nvPr/>
            </p:nvCxnSpPr>
            <p:spPr>
              <a:xfrm rot="5400000">
                <a:off x="1727280" y="4136040"/>
                <a:ext cx="640440" cy="315000"/>
              </a:xfrm>
              <a:prstGeom prst="bentConnector3">
                <a:avLst>
                  <a:gd name="adj1" fmla="val 49831"/>
                </a:avLst>
              </a:prstGeom>
              <a:ln w="15840">
                <a:solidFill>
                  <a:srgbClr val="006600"/>
                </a:solidFill>
                <a:miter/>
                <a:tailEnd len="sm" type="triangle" w="sm"/>
              </a:ln>
            </p:spPr>
          </p:cxnSp>
          <p:cxnSp>
            <p:nvCxnSpPr>
              <p:cNvPr id="1272" name=""/>
              <p:cNvCxnSpPr/>
              <p:nvPr/>
            </p:nvCxnSpPr>
            <p:spPr>
              <a:xfrm flipH="1" rot="16200000">
                <a:off x="4605120" y="1572840"/>
                <a:ext cx="640440" cy="5441040"/>
              </a:xfrm>
              <a:prstGeom prst="bentConnector3">
                <a:avLst>
                  <a:gd name="adj1" fmla="val 49831"/>
                </a:avLst>
              </a:prstGeom>
              <a:ln w="15840">
                <a:solidFill>
                  <a:srgbClr val="006600"/>
                </a:solidFill>
                <a:miter/>
                <a:tailEnd len="sm" type="triangle" w="sm"/>
              </a:ln>
            </p:spPr>
          </p:cxnSp>
          <p:cxnSp>
            <p:nvCxnSpPr>
              <p:cNvPr id="1273" name=""/>
              <p:cNvCxnSpPr/>
              <p:nvPr/>
            </p:nvCxnSpPr>
            <p:spPr>
              <a:xfrm rot="5400000">
                <a:off x="6077160" y="3628080"/>
                <a:ext cx="640440" cy="1330920"/>
              </a:xfrm>
              <a:prstGeom prst="bentConnector3">
                <a:avLst>
                  <a:gd name="adj1" fmla="val 49831"/>
                </a:avLst>
              </a:prstGeom>
              <a:ln w="15840">
                <a:solidFill>
                  <a:srgbClr val="006600"/>
                </a:solidFill>
                <a:miter/>
                <a:tailEnd len="sm" type="triangle" w="sm"/>
              </a:ln>
            </p:spPr>
          </p:cxnSp>
          <p:cxnSp>
            <p:nvCxnSpPr>
              <p:cNvPr id="1274" name=""/>
              <p:cNvCxnSpPr/>
              <p:nvPr/>
            </p:nvCxnSpPr>
            <p:spPr>
              <a:xfrm rot="5400000">
                <a:off x="4096800" y="3959280"/>
                <a:ext cx="640440" cy="668880"/>
              </a:xfrm>
              <a:prstGeom prst="bentConnector3">
                <a:avLst>
                  <a:gd name="adj1" fmla="val 49831"/>
                </a:avLst>
              </a:prstGeom>
              <a:ln w="15840">
                <a:solidFill>
                  <a:srgbClr val="006600"/>
                </a:solidFill>
                <a:miter/>
                <a:tailEnd len="sm" type="triangle" w="sm"/>
              </a:ln>
            </p:spPr>
          </p:cxnSp>
        </p:grpSp>
        <p:cxnSp>
          <p:nvCxnSpPr>
            <p:cNvPr id="1275" name=""/>
            <p:cNvCxnSpPr>
              <a:stCxn id="1270" idx="2"/>
              <a:endCxn id="1276" idx="0"/>
            </p:cNvCxnSpPr>
            <p:nvPr/>
          </p:nvCxnSpPr>
          <p:spPr>
            <a:xfrm flipH="1" rot="16200000">
              <a:off x="2823120" y="3354120"/>
              <a:ext cx="640440" cy="1878840"/>
            </a:xfrm>
            <a:prstGeom prst="bentConnector3">
              <a:avLst>
                <a:gd name="adj1" fmla="val 49831"/>
              </a:avLst>
            </a:prstGeom>
            <a:ln w="15840">
              <a:solidFill>
                <a:srgbClr val="006600"/>
              </a:solidFill>
              <a:miter/>
              <a:tailEnd len="sm" type="triangle" w="sm"/>
            </a:ln>
          </p:spPr>
        </p:cxnSp>
      </p:grpSp>
      <p:grpSp>
        <p:nvGrpSpPr>
          <p:cNvPr id="1277" name=""/>
          <p:cNvGrpSpPr/>
          <p:nvPr/>
        </p:nvGrpSpPr>
        <p:grpSpPr>
          <a:xfrm>
            <a:off x="403200" y="5913360"/>
            <a:ext cx="8388360" cy="576000"/>
            <a:chOff x="403200" y="5913360"/>
            <a:chExt cx="8388360" cy="576000"/>
          </a:xfrm>
        </p:grpSpPr>
        <p:sp>
          <p:nvSpPr>
            <p:cNvPr id="1278" name=""/>
            <p:cNvSpPr/>
            <p:nvPr/>
          </p:nvSpPr>
          <p:spPr>
            <a:xfrm>
              <a:off x="2708280" y="5913360"/>
              <a:ext cx="1825560" cy="57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b54805"/>
                  </a:solidFill>
                  <a:latin typeface="Comic Sans MS"/>
                </a:rPr>
                <a:t>Piaci aktivitá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57920" y="5913360"/>
              <a:ext cx="1695240" cy="57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b54805"/>
                  </a:solidFill>
                  <a:latin typeface="Comic Sans MS"/>
                </a:rPr>
                <a:t>Keres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03200" y="5913360"/>
              <a:ext cx="1771560" cy="57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b54805"/>
                  </a:solidFill>
                  <a:latin typeface="Comic Sans MS"/>
                </a:rPr>
                <a:t>Piacismer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176960" y="5913360"/>
              <a:ext cx="1614600" cy="57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b54805"/>
                  </a:solidFill>
                  <a:latin typeface="Comic Sans MS"/>
                </a:rPr>
                <a:t>Minősé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835200" y="4613400"/>
            <a:ext cx="7743240" cy="576000"/>
            <a:chOff x="835200" y="4613400"/>
            <a:chExt cx="7743240" cy="576000"/>
          </a:xfrm>
        </p:grpSpPr>
        <p:sp>
          <p:nvSpPr>
            <p:cNvPr id="1271" name=""/>
            <p:cNvSpPr/>
            <p:nvPr/>
          </p:nvSpPr>
          <p:spPr>
            <a:xfrm>
              <a:off x="835200" y="4613400"/>
              <a:ext cx="1929960" cy="57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b54805"/>
                  </a:solidFill>
                  <a:latin typeface="Comic Sans MS"/>
                </a:rPr>
                <a:t>Versenyképessé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167960" y="4613400"/>
              <a:ext cx="1410480" cy="57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b54805"/>
                  </a:solidFill>
                  <a:latin typeface="Comic Sans MS"/>
                </a:rPr>
                <a:t>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445200" y="4613400"/>
              <a:ext cx="1335240" cy="57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b54805"/>
                  </a:solidFill>
                  <a:latin typeface="Comic Sans MS"/>
                </a:rPr>
                <a:t>Tőkeerő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152320" y="4613400"/>
              <a:ext cx="1402200" cy="57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b54805"/>
                  </a:solidFill>
                  <a:latin typeface="Comic Sans MS"/>
                </a:rPr>
                <a:t>Alkuerő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1241280" y="3400560"/>
            <a:ext cx="6832440" cy="573120"/>
            <a:chOff x="1241280" y="3400560"/>
            <a:chExt cx="6832440" cy="573120"/>
          </a:xfrm>
        </p:grpSpPr>
        <p:sp>
          <p:nvSpPr>
            <p:cNvPr id="1266" name=""/>
            <p:cNvSpPr/>
            <p:nvPr/>
          </p:nvSpPr>
          <p:spPr>
            <a:xfrm>
              <a:off x="4011120" y="3400560"/>
              <a:ext cx="1478160" cy="573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b54805"/>
                  </a:solidFill>
                  <a:latin typeface="Comic Sans MS"/>
                </a:rPr>
                <a:t>Gazdálkodá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241280" y="3400560"/>
              <a:ext cx="1925640" cy="573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b54805"/>
                  </a:solidFill>
                  <a:latin typeface="Comic Sans MS"/>
                </a:rPr>
                <a:t>Jövedelmezősé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051240" y="3400560"/>
              <a:ext cx="2022480" cy="573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b54805"/>
                  </a:solidFill>
                  <a:latin typeface="Comic Sans MS"/>
                </a:rPr>
                <a:t>Fejlesztéspoliti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2541600" y="2346480"/>
            <a:ext cx="4246560" cy="576000"/>
            <a:chOff x="2541600" y="2346480"/>
            <a:chExt cx="4246560" cy="576000"/>
          </a:xfrm>
        </p:grpSpPr>
        <p:sp>
          <p:nvSpPr>
            <p:cNvPr id="1265" name=""/>
            <p:cNvSpPr/>
            <p:nvPr/>
          </p:nvSpPr>
          <p:spPr>
            <a:xfrm>
              <a:off x="5459400" y="2346480"/>
              <a:ext cx="1328760" cy="57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b54805"/>
                  </a:solidFill>
                  <a:latin typeface="Comic Sans MS"/>
                </a:rPr>
                <a:t>Likviditá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541600" y="2346480"/>
              <a:ext cx="1328760" cy="57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b54805"/>
                  </a:solidFill>
                  <a:latin typeface="Comic Sans MS"/>
                </a:rPr>
                <a:t>Innováci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3206160" y="1806120"/>
            <a:ext cx="2918880" cy="540000"/>
            <a:chOff x="3206160" y="1806120"/>
            <a:chExt cx="2918880" cy="540000"/>
          </a:xfrm>
        </p:grpSpPr>
        <p:cxnSp>
          <p:nvCxnSpPr>
            <p:cNvPr id="1290" name=""/>
            <p:cNvCxnSpPr>
              <a:stCxn id="1258" idx="2"/>
              <a:endCxn id="1265" idx="0"/>
            </p:cNvCxnSpPr>
            <p:nvPr/>
          </p:nvCxnSpPr>
          <p:spPr>
            <a:xfrm flipH="1" rot="16200000">
              <a:off x="5168880" y="1389960"/>
              <a:ext cx="540360" cy="1372320"/>
            </a:xfrm>
            <a:prstGeom prst="bentConnector3">
              <a:avLst>
                <a:gd name="adj1" fmla="val 50000"/>
              </a:avLst>
            </a:prstGeom>
            <a:ln w="15840">
              <a:solidFill>
                <a:srgbClr val="006600"/>
              </a:solidFill>
              <a:miter/>
              <a:tailEnd len="sm" type="triangle" w="sm"/>
            </a:ln>
          </p:spPr>
        </p:cxnSp>
        <p:cxnSp>
          <p:nvCxnSpPr>
            <p:cNvPr id="1291" name=""/>
            <p:cNvCxnSpPr>
              <a:stCxn id="1258" idx="2"/>
              <a:endCxn id="1288" idx="0"/>
            </p:cNvCxnSpPr>
            <p:nvPr/>
          </p:nvCxnSpPr>
          <p:spPr>
            <a:xfrm rot="5400000">
              <a:off x="3709440" y="1302840"/>
              <a:ext cx="540360" cy="1546920"/>
            </a:xfrm>
            <a:prstGeom prst="bentConnector3">
              <a:avLst>
                <a:gd name="adj1" fmla="val 50000"/>
              </a:avLst>
            </a:prstGeom>
            <a:ln w="15840">
              <a:solidFill>
                <a:srgbClr val="006600"/>
              </a:solidFill>
              <a:miter/>
              <a:tailEnd len="sm" type="triangle" w="sm"/>
            </a:ln>
          </p:spPr>
        </p:cxnSp>
      </p:grpSp>
      <p:grpSp>
        <p:nvGrpSpPr>
          <p:cNvPr id="1292" name=""/>
          <p:cNvGrpSpPr/>
          <p:nvPr/>
        </p:nvGrpSpPr>
        <p:grpSpPr>
          <a:xfrm>
            <a:off x="1288440" y="5189040"/>
            <a:ext cx="6696720" cy="724320"/>
            <a:chOff x="1288440" y="5189040"/>
            <a:chExt cx="6696720" cy="724320"/>
          </a:xfrm>
        </p:grpSpPr>
        <p:grpSp>
          <p:nvGrpSpPr>
            <p:cNvPr id="1293" name=""/>
            <p:cNvGrpSpPr/>
            <p:nvPr/>
          </p:nvGrpSpPr>
          <p:grpSpPr>
            <a:xfrm>
              <a:off x="1288440" y="5189040"/>
              <a:ext cx="6696720" cy="724320"/>
              <a:chOff x="1288440" y="5189040"/>
              <a:chExt cx="6696720" cy="724320"/>
            </a:xfrm>
          </p:grpSpPr>
          <p:cxnSp>
            <p:nvCxnSpPr>
              <p:cNvPr id="1294" name=""/>
              <p:cNvCxnSpPr>
                <a:stCxn id="1276" idx="2"/>
                <a:endCxn id="1280" idx="0"/>
              </p:cNvCxnSpPr>
              <p:nvPr/>
            </p:nvCxnSpPr>
            <p:spPr>
              <a:xfrm rot="5400000">
                <a:off x="2323440" y="4154040"/>
                <a:ext cx="724680" cy="2794680"/>
              </a:xfrm>
              <a:prstGeom prst="bentConnector3">
                <a:avLst>
                  <a:gd name="adj1" fmla="val 50000"/>
                </a:avLst>
              </a:prstGeom>
              <a:ln w="15840">
                <a:solidFill>
                  <a:srgbClr val="006600"/>
                </a:solidFill>
                <a:miter/>
                <a:tailEnd len="sm" type="triangle" w="sm"/>
              </a:ln>
            </p:spPr>
          </p:cxnSp>
          <p:cxnSp>
            <p:nvCxnSpPr>
              <p:cNvPr id="1295" name=""/>
              <p:cNvCxnSpPr/>
              <p:nvPr/>
            </p:nvCxnSpPr>
            <p:spPr>
              <a:xfrm rot="5400000">
                <a:off x="3489480" y="5320080"/>
                <a:ext cx="724680" cy="462600"/>
              </a:xfrm>
              <a:prstGeom prst="bentConnector3">
                <a:avLst>
                  <a:gd name="adj1" fmla="val 50000"/>
                </a:avLst>
              </a:prstGeom>
              <a:ln w="15840">
                <a:solidFill>
                  <a:srgbClr val="006600"/>
                </a:solidFill>
                <a:miter/>
                <a:tailEnd len="sm" type="triangle" w="sm"/>
              </a:ln>
            </p:spPr>
          </p:cxnSp>
          <p:cxnSp>
            <p:nvCxnSpPr>
              <p:cNvPr id="1296" name=""/>
              <p:cNvCxnSpPr/>
              <p:nvPr/>
            </p:nvCxnSpPr>
            <p:spPr>
              <a:xfrm flipH="1" rot="16200000">
                <a:off x="5406840" y="5514480"/>
                <a:ext cx="724680" cy="73440"/>
              </a:xfrm>
              <a:prstGeom prst="bentConnector3">
                <a:avLst>
                  <a:gd name="adj1" fmla="val 50000"/>
                </a:avLst>
              </a:prstGeom>
              <a:ln w="15840">
                <a:solidFill>
                  <a:srgbClr val="006600"/>
                </a:solidFill>
                <a:miter/>
                <a:tailEnd len="sm" type="triangle" w="sm"/>
              </a:ln>
            </p:spPr>
          </p:cxnSp>
          <p:cxnSp>
            <p:nvCxnSpPr>
              <p:cNvPr id="1297" name=""/>
              <p:cNvCxnSpPr/>
              <p:nvPr/>
            </p:nvCxnSpPr>
            <p:spPr>
              <a:xfrm flipH="1" rot="16200000">
                <a:off x="7453080" y="5381280"/>
                <a:ext cx="724680" cy="340200"/>
              </a:xfrm>
              <a:prstGeom prst="bentConnector3">
                <a:avLst>
                  <a:gd name="adj1" fmla="val 50000"/>
                </a:avLst>
              </a:prstGeom>
              <a:ln w="15840">
                <a:solidFill>
                  <a:srgbClr val="006600"/>
                </a:solidFill>
                <a:miter/>
                <a:tailEnd len="sm" type="triangle" w="sm"/>
              </a:ln>
            </p:spPr>
          </p:cxnSp>
          <p:cxnSp>
            <p:nvCxnSpPr>
              <p:cNvPr id="1298" name=""/>
              <p:cNvCxnSpPr/>
              <p:nvPr/>
            </p:nvCxnSpPr>
            <p:spPr>
              <a:xfrm rot="5400000">
                <a:off x="1227240" y="5250240"/>
                <a:ext cx="724680" cy="602280"/>
              </a:xfrm>
              <a:prstGeom prst="bentConnector3">
                <a:avLst>
                  <a:gd name="adj1" fmla="val 50000"/>
                </a:avLst>
              </a:prstGeom>
              <a:ln w="15840">
                <a:solidFill>
                  <a:srgbClr val="006600"/>
                </a:solidFill>
                <a:miter/>
                <a:tailEnd len="sm" type="triangle" w="sm"/>
              </a:ln>
            </p:spPr>
          </p:cxnSp>
        </p:grpSp>
        <p:cxnSp>
          <p:nvCxnSpPr>
            <p:cNvPr id="1299" name=""/>
            <p:cNvCxnSpPr>
              <a:stCxn id="1276" idx="2"/>
              <a:endCxn id="1279" idx="0"/>
            </p:cNvCxnSpPr>
            <p:nvPr/>
          </p:nvCxnSpPr>
          <p:spPr>
            <a:xfrm flipH="1" rot="16200000">
              <a:off x="4582080" y="4689720"/>
              <a:ext cx="724680" cy="1722960"/>
            </a:xfrm>
            <a:prstGeom prst="bentConnector3">
              <a:avLst>
                <a:gd name="adj1" fmla="val 50000"/>
              </a:avLst>
            </a:prstGeom>
            <a:ln w="15840">
              <a:solidFill>
                <a:srgbClr val="006600"/>
              </a:solidFill>
              <a:miter/>
              <a:tailEnd len="sm" type="triangle" w="sm"/>
            </a:ln>
          </p:spPr>
        </p:cxnSp>
        <p:cxnSp>
          <p:nvCxnSpPr>
            <p:cNvPr id="1300" name=""/>
            <p:cNvCxnSpPr/>
            <p:nvPr/>
          </p:nvCxnSpPr>
          <p:spPr>
            <a:xfrm flipH="1" rot="16200000">
              <a:off x="5671080" y="3600000"/>
              <a:ext cx="724680" cy="3902760"/>
            </a:xfrm>
            <a:prstGeom prst="bentConnector3">
              <a:avLst>
                <a:gd name="adj1" fmla="val 50000"/>
              </a:avLst>
            </a:prstGeom>
            <a:ln w="15840">
              <a:solidFill>
                <a:srgbClr val="006600"/>
              </a:solidFill>
              <a:miter/>
              <a:tailEnd len="sm" type="triangle" w="sm"/>
            </a:ln>
          </p:spPr>
        </p:cxnSp>
      </p:grpSp>
      <p:sp>
        <p:nvSpPr>
          <p:cNvPr id="1301" name=""/>
          <p:cNvSpPr/>
          <p:nvPr/>
        </p:nvSpPr>
        <p:spPr>
          <a:xfrm>
            <a:off x="183960" y="6539040"/>
            <a:ext cx="747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Varsányi Judit - Üzleti stratégia, üzleti tervezés. Nezmeti Tankönyvkiadó, Bp. 199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omic Sans MS"/>
              </a:rPr>
              <a:t>Az üzleti siker hatáslánca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633240" y="4162320"/>
            <a:ext cx="2111400" cy="2162160"/>
            <a:chOff x="633240" y="4162320"/>
            <a:chExt cx="2111400" cy="2162160"/>
          </a:xfrm>
        </p:grpSpPr>
        <p:sp>
          <p:nvSpPr>
            <p:cNvPr id="118" name=""/>
            <p:cNvSpPr/>
            <p:nvPr/>
          </p:nvSpPr>
          <p:spPr>
            <a:xfrm>
              <a:off x="716400" y="4162320"/>
              <a:ext cx="2027880" cy="650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I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egyenes arányb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rot="16200000">
              <a:off x="1621800" y="5121360"/>
              <a:ext cx="216000" cy="69192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618ff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3240" y="5886360"/>
              <a:ext cx="211140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VÁLTOZÓ KÖLTSÉ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400800" y="4162320"/>
            <a:ext cx="2028960" cy="2105280"/>
            <a:chOff x="6400800" y="4162320"/>
            <a:chExt cx="2028960" cy="2105280"/>
          </a:xfrm>
        </p:grpSpPr>
        <p:sp>
          <p:nvSpPr>
            <p:cNvPr id="122" name=""/>
            <p:cNvSpPr/>
            <p:nvPr/>
          </p:nvSpPr>
          <p:spPr>
            <a:xfrm flipH="1" rot="16200000">
              <a:off x="7322760" y="5121000"/>
              <a:ext cx="216000" cy="6922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618ff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51640" y="5886360"/>
              <a:ext cx="1760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FIX KÖLTSÉ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00800" y="4162320"/>
              <a:ext cx="2028960" cy="650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N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359160" y="4162320"/>
            <a:ext cx="2449440" cy="2086200"/>
            <a:chOff x="3359160" y="4162320"/>
            <a:chExt cx="2449440" cy="2086200"/>
          </a:xfrm>
        </p:grpSpPr>
        <p:sp>
          <p:nvSpPr>
            <p:cNvPr id="126" name=""/>
            <p:cNvSpPr/>
            <p:nvPr/>
          </p:nvSpPr>
          <p:spPr>
            <a:xfrm>
              <a:off x="3359160" y="4162320"/>
              <a:ext cx="2449440" cy="650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I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de nem egyenes arányb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rot="16200000">
              <a:off x="4475520" y="5121720"/>
              <a:ext cx="216000" cy="69120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618ff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81640" y="5886360"/>
              <a:ext cx="2116800" cy="36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KVÁZI-FIX KÖLTSÉ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10960" y="6305400"/>
            <a:ext cx="793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35040" y="2324160"/>
            <a:ext cx="7783200" cy="1644480"/>
            <a:chOff x="635040" y="2324160"/>
            <a:chExt cx="7783200" cy="1644480"/>
          </a:xfrm>
        </p:grpSpPr>
        <p:sp>
          <p:nvSpPr>
            <p:cNvPr id="131" name=""/>
            <p:cNvSpPr/>
            <p:nvPr/>
          </p:nvSpPr>
          <p:spPr>
            <a:xfrm>
              <a:off x="635040" y="2324160"/>
              <a:ext cx="7783200" cy="393840"/>
            </a:xfrm>
            <a:prstGeom prst="rect">
              <a:avLst/>
            </a:prstGeom>
            <a:noFill/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3300"/>
                  </a:solidFill>
                  <a:latin typeface="Comic Sans MS"/>
                </a:rPr>
                <a:t>VÁLTOZIK-E EZ A KÖLTSÉG AZ ELŐÁLLÍTOTT MENNYISÉGGEL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rot="16200000">
              <a:off x="4001760" y="2200680"/>
              <a:ext cx="1117440" cy="24184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8080"/>
                </a:solidFill>
                <a:latin typeface="Comic Sans MS"/>
              </a:rPr>
              <a:t>Fix és változó költségek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1120" y="1447560"/>
            <a:ext cx="886176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52560" indent="-374760">
              <a:buClr>
                <a:srgbClr val="006a00"/>
              </a:buClr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6a00"/>
                </a:solidFill>
                <a:latin typeface="Comic Sans MS"/>
              </a:rPr>
              <a:t>Annak meghatározásához, hogy a költség fix vagy változó,</a:t>
            </a:r>
            <a:br>
              <a:rPr sz="2200"/>
            </a:br>
            <a:r>
              <a:rPr b="0" lang="hu-HU" sz="2200" spc="-1" strike="noStrike">
                <a:solidFill>
                  <a:srgbClr val="006a00"/>
                </a:solidFill>
                <a:latin typeface="Comic Sans MS"/>
              </a:rPr>
              <a:t>fel kell tennünk a következő kérdést:</a:t>
            </a:r>
            <a:endParaRPr b="0" lang="en-US" sz="2200" spc="-1" strike="noStrike">
              <a:solidFill>
                <a:srgbClr val="006a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66960" y="2590920"/>
            <a:ext cx="6915960" cy="69876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Comic Sans MS"/>
              </a:rPr>
              <a:t>GAZDASÁGI SZEMPONTBÓL KÖTHETŐ-E EZ A KÖLTSÉG</a:t>
            </a:r>
            <a:br>
              <a:rPr sz="2000"/>
            </a:br>
            <a:r>
              <a:rPr b="1" lang="en-GB" sz="2000" spc="-1" strike="noStrike">
                <a:solidFill>
                  <a:srgbClr val="993300"/>
                </a:solidFill>
                <a:latin typeface="Comic Sans MS"/>
              </a:rPr>
              <a:t>EGY ADOTT TERMÉKHEZ VAGY TEVÉKENYSÉGHEZ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266840" y="3552840"/>
            <a:ext cx="2814480" cy="2600280"/>
            <a:chOff x="1266840" y="3552840"/>
            <a:chExt cx="2814480" cy="2600280"/>
          </a:xfrm>
        </p:grpSpPr>
        <p:sp>
          <p:nvSpPr>
            <p:cNvPr id="137" name=""/>
            <p:cNvSpPr/>
            <p:nvPr/>
          </p:nvSpPr>
          <p:spPr>
            <a:xfrm flipH="1">
              <a:off x="2532600" y="3552840"/>
              <a:ext cx="1294200" cy="892080"/>
            </a:xfrm>
            <a:prstGeom prst="line">
              <a:avLst/>
            </a:prstGeom>
            <a:ln w="50760">
              <a:solidFill>
                <a:srgbClr val="41414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20320" y="4524480"/>
              <a:ext cx="1269000" cy="42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IG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rot="16200000">
              <a:off x="2541240" y="5026320"/>
              <a:ext cx="215640" cy="69156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66840" y="5772240"/>
              <a:ext cx="2814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KÖZVETLEN KÖLTSÉ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170320" y="3639960"/>
            <a:ext cx="2570040" cy="2513160"/>
            <a:chOff x="5170320" y="3639960"/>
            <a:chExt cx="2570040" cy="2513160"/>
          </a:xfrm>
        </p:grpSpPr>
        <p:sp>
          <p:nvSpPr>
            <p:cNvPr id="142" name=""/>
            <p:cNvSpPr/>
            <p:nvPr/>
          </p:nvSpPr>
          <p:spPr>
            <a:xfrm>
              <a:off x="5170320" y="3639960"/>
              <a:ext cx="1397520" cy="804960"/>
            </a:xfrm>
            <a:prstGeom prst="line">
              <a:avLst/>
            </a:prstGeom>
            <a:ln w="50760">
              <a:solidFill>
                <a:srgbClr val="41414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rot="16200000">
              <a:off x="6352920" y="5025960"/>
              <a:ext cx="215640" cy="6922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22640" y="4530600"/>
              <a:ext cx="1269720" cy="42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06680" y="5772240"/>
              <a:ext cx="25336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KÖZVETETT KÖLTSÉ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7318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8080"/>
                </a:solidFill>
                <a:latin typeface="Comic Sans MS"/>
              </a:rPr>
              <a:t>Közvetlen és közvetett költségek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1360" y="1371600"/>
            <a:ext cx="8763120" cy="72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a02600"/>
                </a:solidFill>
                <a:latin typeface="Comic Sans MS"/>
              </a:rPr>
              <a:t>Ha meg akarjuk állapítani, hogy egy költség közvetlen-e vagy közvetett,</a:t>
            </a:r>
            <a:endParaRPr b="1" lang="en-US" sz="1800" spc="-1" strike="noStrike">
              <a:solidFill>
                <a:srgbClr val="a026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a02600"/>
                </a:solidFill>
                <a:latin typeface="Comic Sans MS"/>
              </a:rPr>
              <a:t>tegyük fel a következő kérdést:</a:t>
            </a:r>
            <a:endParaRPr b="1" lang="en-US" sz="18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210960" y="6480000"/>
            <a:ext cx="793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54040" y="239400"/>
            <a:ext cx="6204240" cy="90972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omic Sans MS"/>
              </a:rPr>
              <a:t>Az ABC elemzés elve</a:t>
            </a:r>
            <a:br>
              <a:rPr sz="3200"/>
            </a:br>
            <a:r>
              <a:rPr b="1" lang="en-US" sz="3200" spc="-1" strike="noStrike">
                <a:solidFill>
                  <a:srgbClr val="008080"/>
                </a:solidFill>
                <a:latin typeface="Comic Sans MS"/>
              </a:rPr>
              <a:t>(Pareto nyomán)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1411200"/>
            <a:ext cx="1601640" cy="984240"/>
          </a:xfrm>
          <a:prstGeom prst="rect">
            <a:avLst/>
          </a:prstGeom>
          <a:gradFill rotWithShape="0">
            <a:gsLst>
              <a:gs pos="0">
                <a:srgbClr val="efdea1"/>
              </a:gs>
              <a:gs pos="50000">
                <a:srgbClr val="f7efd5"/>
              </a:gs>
              <a:gs pos="100000">
                <a:srgbClr val="efdea1"/>
              </a:gs>
            </a:gsLst>
            <a:lin ang="5400000"/>
          </a:gradFill>
          <a:ln w="3240">
            <a:solidFill>
              <a:srgbClr val="b54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Comic Sans MS"/>
              </a:rPr>
              <a:t>Elemzési</a:t>
            </a:r>
            <a:br>
              <a:rPr sz="2000"/>
            </a:br>
            <a:r>
              <a:rPr b="1" lang="en-US" sz="2000" spc="-1" strike="noStrike">
                <a:solidFill>
                  <a:srgbClr val="993300"/>
                </a:solidFill>
                <a:latin typeface="Comic Sans MS"/>
              </a:rPr>
              <a:t>kategóriá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2471760"/>
            <a:ext cx="1601640" cy="1258920"/>
          </a:xfrm>
          <a:prstGeom prst="rect">
            <a:avLst/>
          </a:prstGeom>
          <a:solidFill>
            <a:srgbClr val="ffffff"/>
          </a:solidFill>
          <a:ln w="3240">
            <a:solidFill>
              <a:srgbClr val="b54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” kateg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3727440"/>
            <a:ext cx="1601640" cy="1258920"/>
          </a:xfrm>
          <a:prstGeom prst="rect">
            <a:avLst/>
          </a:prstGeom>
          <a:solidFill>
            <a:srgbClr val="ffffff"/>
          </a:solidFill>
          <a:ln w="3240">
            <a:solidFill>
              <a:srgbClr val="b54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” kateg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4989600"/>
            <a:ext cx="1601640" cy="1258920"/>
          </a:xfrm>
          <a:prstGeom prst="rect">
            <a:avLst/>
          </a:prstGeom>
          <a:solidFill>
            <a:srgbClr val="ffffff"/>
          </a:solidFill>
          <a:ln w="3240">
            <a:solidFill>
              <a:srgbClr val="b54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” kateg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25640" y="1411200"/>
            <a:ext cx="1655640" cy="984240"/>
          </a:xfrm>
          <a:prstGeom prst="rect">
            <a:avLst/>
          </a:prstGeom>
          <a:gradFill rotWithShape="0">
            <a:gsLst>
              <a:gs pos="0">
                <a:srgbClr val="efdea1"/>
              </a:gs>
              <a:gs pos="50000">
                <a:srgbClr val="f7efd5"/>
              </a:gs>
              <a:gs pos="100000">
                <a:srgbClr val="efdea1"/>
              </a:gs>
            </a:gsLst>
            <a:lin ang="5400000"/>
          </a:gradFill>
          <a:ln w="3240">
            <a:solidFill>
              <a:srgbClr val="b54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Comic Sans MS"/>
              </a:rPr>
              <a:t>Tételek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Comic Sans MS"/>
              </a:rPr>
              <a:t>számaránya,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25640" y="2471760"/>
            <a:ext cx="1655640" cy="1258920"/>
          </a:xfrm>
          <a:prstGeom prst="rect">
            <a:avLst/>
          </a:prstGeom>
          <a:solidFill>
            <a:srgbClr val="faf5e2"/>
          </a:solidFill>
          <a:ln w="3240">
            <a:solidFill>
              <a:srgbClr val="b54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25640" y="3727440"/>
            <a:ext cx="1655640" cy="1258920"/>
          </a:xfrm>
          <a:prstGeom prst="rect">
            <a:avLst/>
          </a:prstGeom>
          <a:solidFill>
            <a:srgbClr val="faf5e2"/>
          </a:solidFill>
          <a:ln w="3240">
            <a:solidFill>
              <a:srgbClr val="b54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25640" y="4989600"/>
            <a:ext cx="1655640" cy="1258920"/>
          </a:xfrm>
          <a:prstGeom prst="rect">
            <a:avLst/>
          </a:prstGeom>
          <a:solidFill>
            <a:srgbClr val="faf5e2"/>
          </a:solidFill>
          <a:ln w="3240">
            <a:solidFill>
              <a:srgbClr val="b54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25840" y="1411200"/>
            <a:ext cx="1805040" cy="984240"/>
          </a:xfrm>
          <a:prstGeom prst="rect">
            <a:avLst/>
          </a:prstGeom>
          <a:gradFill rotWithShape="0">
            <a:gsLst>
              <a:gs pos="0">
                <a:srgbClr val="efdea1"/>
              </a:gs>
              <a:gs pos="50000">
                <a:srgbClr val="f7efd5"/>
              </a:gs>
              <a:gs pos="100000">
                <a:srgbClr val="efdea1"/>
              </a:gs>
            </a:gsLst>
            <a:lin ang="5400000"/>
          </a:gradFill>
          <a:ln w="3240">
            <a:solidFill>
              <a:srgbClr val="b54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Comic Sans MS"/>
              </a:rPr>
              <a:t>Tételek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Comic Sans MS"/>
              </a:rPr>
              <a:t>értékaránya,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25840" y="2471760"/>
            <a:ext cx="1805040" cy="1258920"/>
          </a:xfrm>
          <a:prstGeom prst="rect">
            <a:avLst/>
          </a:prstGeom>
          <a:solidFill>
            <a:srgbClr val="ffffff"/>
          </a:solidFill>
          <a:ln w="3240">
            <a:solidFill>
              <a:srgbClr val="b54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25840" y="3727440"/>
            <a:ext cx="1805040" cy="1258920"/>
          </a:xfrm>
          <a:prstGeom prst="rect">
            <a:avLst/>
          </a:prstGeom>
          <a:solidFill>
            <a:srgbClr val="ffffff"/>
          </a:solidFill>
          <a:ln w="3240">
            <a:solidFill>
              <a:srgbClr val="b54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25840" y="4989600"/>
            <a:ext cx="1805040" cy="1258920"/>
          </a:xfrm>
          <a:prstGeom prst="rect">
            <a:avLst/>
          </a:prstGeom>
          <a:solidFill>
            <a:srgbClr val="ffffff"/>
          </a:solidFill>
          <a:ln w="3240">
            <a:solidFill>
              <a:srgbClr val="b54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40240" y="1411200"/>
            <a:ext cx="3657600" cy="984240"/>
          </a:xfrm>
          <a:prstGeom prst="rect">
            <a:avLst/>
          </a:prstGeom>
          <a:gradFill rotWithShape="0">
            <a:gsLst>
              <a:gs pos="0">
                <a:srgbClr val="efdea1"/>
              </a:gs>
              <a:gs pos="50000">
                <a:srgbClr val="f7efd5"/>
              </a:gs>
              <a:gs pos="100000">
                <a:srgbClr val="efdea1"/>
              </a:gs>
            </a:gsLst>
            <a:lin ang="5400000"/>
          </a:gradFill>
          <a:ln w="3240">
            <a:solidFill>
              <a:srgbClr val="b54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Comic Sans MS"/>
              </a:rPr>
              <a:t>Megjegyzé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40240" y="2471760"/>
            <a:ext cx="3657600" cy="1258920"/>
          </a:xfrm>
          <a:prstGeom prst="rect">
            <a:avLst/>
          </a:prstGeom>
          <a:solidFill>
            <a:srgbClr val="faf5e2"/>
          </a:solidFill>
          <a:ln w="3240">
            <a:solidFill>
              <a:srgbClr val="b54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ételenkénti elemzés célszerű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% munkaigény mellett a teljes megtakarítás 75%-a realizálhat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40240" y="3727440"/>
            <a:ext cx="3657600" cy="1258920"/>
          </a:xfrm>
          <a:prstGeom prst="rect">
            <a:avLst/>
          </a:prstGeom>
          <a:solidFill>
            <a:srgbClr val="faf5e2"/>
          </a:solidFill>
          <a:ln w="3240">
            <a:solidFill>
              <a:srgbClr val="b54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 teljes „B” kategóriát egyetlen közös tételként célszerű vizsgálni a marketingakció vagy a takarékossági kampány sor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40240" y="4989600"/>
            <a:ext cx="3657600" cy="1258920"/>
          </a:xfrm>
          <a:prstGeom prst="rect">
            <a:avLst/>
          </a:prstGeom>
          <a:solidFill>
            <a:srgbClr val="faf5e2"/>
          </a:solidFill>
          <a:ln w="3240">
            <a:solidFill>
              <a:srgbClr val="b54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 nagy tételszámú „C” sokaság egésze csekély jelentőségű, így foglalkozni vele felesle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8800" y="6539040"/>
            <a:ext cx="686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Comic Sans MS"/>
              </a:rPr>
              <a:t>Varsányi Judit - Üzleti stratégia, üzleti tervezés. Nemzeti Tkkiadó, Bp. 199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73280" y="914400"/>
            <a:ext cx="7386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6440" y="1212840"/>
            <a:ext cx="88581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69960" indent="-66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02600"/>
                </a:solidFill>
                <a:latin typeface="Comic Sans MS"/>
              </a:rPr>
              <a:t>MŰKÖDŐTŐKE = az egyes termelési ciklusokban a vállalat pillanatnyi működéséhez szükséges befektetett anyagi források összessé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560" y="4343400"/>
            <a:ext cx="67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3044880"/>
            <a:ext cx="1868400" cy="304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marL="106200" indent="-106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02600"/>
                </a:solidFill>
                <a:latin typeface="Comic Sans MS"/>
              </a:rPr>
              <a:t>Nettó működőtő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54000" y="2238480"/>
            <a:ext cx="206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Forgóeszközö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89600" y="2255760"/>
            <a:ext cx="297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Folyó kötelezettség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8861760" cy="555480"/>
          </a:xfrm>
          <a:prstGeom prst="rect">
            <a:avLst/>
          </a:prstGeom>
          <a:solidFill>
            <a:srgbClr val="e8ead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Comic Sans MS"/>
              </a:rPr>
              <a:t>Működőtőke és hasznosítása</a:t>
            </a:r>
            <a:endParaRPr b="1" lang="en-US" sz="3200" spc="-1" strike="noStrike">
              <a:solidFill>
                <a:srgbClr val="00808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21080" y="3100320"/>
            <a:ext cx="2462040" cy="303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87360" indent="-387360">
              <a:lnSpc>
                <a:spcPct val="90000"/>
              </a:lnSpc>
              <a:spcBef>
                <a:spcPts val="40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a02600"/>
                </a:solidFill>
                <a:latin typeface="Comic Sans MS"/>
              </a:rPr>
              <a:t>Fizetendő számlák</a:t>
            </a:r>
            <a:endParaRPr b="1" lang="en-US" sz="16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lnSpc>
                <a:spcPct val="90000"/>
              </a:lnSpc>
              <a:spcBef>
                <a:spcPts val="40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a02600"/>
                </a:solidFill>
                <a:latin typeface="Comic Sans MS"/>
              </a:rPr>
              <a:t>Esedékes kifizetések - adók, bérek, stb.</a:t>
            </a:r>
            <a:endParaRPr b="1" lang="en-US" sz="16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lnSpc>
                <a:spcPct val="90000"/>
              </a:lnSpc>
              <a:spcBef>
                <a:spcPts val="40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a02600"/>
                </a:solidFill>
                <a:latin typeface="Comic Sans MS"/>
              </a:rPr>
              <a:t>Hosszúlejáratú tartozások adott időszakra eső része</a:t>
            </a:r>
            <a:endParaRPr b="1" lang="en-US" sz="16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lnSpc>
                <a:spcPct val="90000"/>
              </a:lnSpc>
              <a:spcBef>
                <a:spcPts val="40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a02600"/>
                </a:solidFill>
                <a:latin typeface="Comic Sans MS"/>
              </a:rPr>
              <a:t>Rövidlejáratú tartozások</a:t>
            </a:r>
            <a:endParaRPr b="1" lang="en-US" sz="1600" spc="-1" strike="noStrike">
              <a:solidFill>
                <a:srgbClr val="a02600"/>
              </a:solidFill>
              <a:latin typeface="Comic Sans MS"/>
            </a:endParaRPr>
          </a:p>
          <a:p>
            <a:pPr marL="387360" indent="-387360">
              <a:lnSpc>
                <a:spcPct val="90000"/>
              </a:lnSpc>
              <a:spcBef>
                <a:spcPts val="40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a02600"/>
                </a:solidFill>
                <a:latin typeface="Comic Sans MS"/>
              </a:rPr>
              <a:t>Egyéb folyó kötelezettségek</a:t>
            </a:r>
            <a:endParaRPr b="1" lang="en-US" sz="1600" spc="-1" strike="noStrike">
              <a:solidFill>
                <a:srgbClr val="a026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630520" y="3046320"/>
            <a:ext cx="2462040" cy="303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7360" indent="-387360">
              <a:lnSpc>
                <a:spcPct val="90000"/>
              </a:lnSpc>
              <a:spcBef>
                <a:spcPts val="40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a02600"/>
                </a:solidFill>
                <a:latin typeface="Comic Sans MS"/>
              </a:rPr>
              <a:t>Nyersanyagok,</a:t>
            </a:r>
            <a:br>
              <a:rPr sz="1600"/>
            </a:br>
            <a:r>
              <a:rPr b="1" lang="hu-HU" sz="1600" spc="-1" strike="noStrike">
                <a:solidFill>
                  <a:srgbClr val="a02600"/>
                </a:solidFill>
                <a:latin typeface="Comic Sans MS"/>
              </a:rPr>
              <a:t>folyó munkák, készáruk kész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90000"/>
              </a:lnSpc>
              <a:spcBef>
                <a:spcPts val="40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a02600"/>
                </a:solidFill>
                <a:latin typeface="Comic Sans MS"/>
              </a:rPr>
              <a:t>Követelés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90000"/>
              </a:lnSpc>
              <a:spcBef>
                <a:spcPts val="40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a02600"/>
                </a:solidFill>
                <a:latin typeface="Comic Sans MS"/>
              </a:rPr>
              <a:t>Rövidtávú befektetés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90000"/>
              </a:lnSpc>
              <a:spcBef>
                <a:spcPts val="40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a02600"/>
                </a:solidFill>
                <a:latin typeface="Comic Sans MS"/>
              </a:rPr>
              <a:t>Készpé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90000"/>
              </a:lnSpc>
              <a:spcBef>
                <a:spcPts val="400"/>
              </a:spcBef>
              <a:buClr>
                <a:srgbClr val="a02600"/>
              </a:buClr>
              <a:buFont typeface="Monotype Sorts" charset="2"/>
              <a:buChar char="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a02600"/>
                </a:solidFill>
                <a:latin typeface="Comic Sans MS"/>
              </a:rPr>
              <a:t>Egyéb rövid lejáratú eszközö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90680" y="4367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0960" y="6305400"/>
            <a:ext cx="793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AID Tanácsadásfejlesztési Projekt, Hungary Omnibus II. EPE, MTFP 97/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8T09:54:18Z</dcterms:created>
  <dc:creator>Varsányi Judit</dc:creator>
  <dc:description>Válogatás a VállgazdDEMObővebben.PPT fájl
98-231. képkockáiból</dc:description>
  <dc:language>en-US</dc:language>
  <cp:lastModifiedBy>Varsányi Judit</cp:lastModifiedBy>
  <cp:lastPrinted>2004-09-07T20:51:53Z</cp:lastPrinted>
  <dcterms:modified xsi:type="dcterms:W3CDTF">2004-11-08T21:03:10Z</dcterms:modified>
  <cp:revision>310</cp:revision>
  <dc:subject/>
  <dc:title>Vállalkozási ismeretek alapjai</dc:title>
</cp:coreProperties>
</file>