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6CC-158A-4857-B4A4-1F1B5341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DC0-9AA6-447F-A42F-53895703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F73-4029-4162-B9F8-AE537A97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902-C038-49A8-840A-636DB87F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2EE-C5ED-4371-8899-CA355678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C33-6E62-4ACE-9B1E-27C26297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99C-5428-4C42-9E47-FAC37DBE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1CB-779D-4F7C-AF42-90BE567F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CF0-6961-4165-83DA-431C3FE1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3A0-53CD-4976-97A6-96251E74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977-A28D-4FFB-AAED-5096C08D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54A-6654-4918-AACF-6DC1164E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586800" indent="-225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90288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26396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162504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9C1E-1D6A-45D9-A583-FCD1181BB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6858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10666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95280" y="9684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152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143000" y="5335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0520" y="1600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33520" y="12193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20574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2743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43828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914400" y="7621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CD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European Computer Driving Lic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z ECDL moduljai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alapismeret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198108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Információ és kommunik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IT alapismeret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2:47:14Z</dcterms:created>
  <dc:creator>.</dc:creator>
  <dc:description/>
  <dc:language>en-US</dc:language>
  <cp:lastModifiedBy>.</cp:lastModifiedBy>
  <dcterms:modified xsi:type="dcterms:W3CDTF">2003-03-11T19:02:59Z</dcterms:modified>
  <cp:revision>4</cp:revision>
  <dc:subject/>
  <dc:title>ECDL</dc:title>
</cp:coreProperties>
</file>