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BE8F-4B96-41BF-A684-B69A9437E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1523-F326-497D-8B8C-C855CC95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434D-42C4-4B0E-B74E-E4C70DA8C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3AA1-F411-4FB8-8459-2A8ED5843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7C87-9840-4708-8F5B-DB34222C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9025-F2CC-4FF5-BF05-AE1BFD9F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06B6-AA76-4521-B1C3-55EB88E0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38E2-B4BC-4DE6-B90E-DD745AEA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F654-4ACC-4948-9F1C-7287E912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3548-0B0D-4ECE-827A-9E1DE60D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2826-CBE7-4377-844D-24522F75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B4C4-3164-4F97-A4E6-94A8FB07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586800" indent="-22572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902880" indent="-18036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263960" indent="-18036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1625040" indent="-18036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1625040" indent="-180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1625040" indent="-180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5E33-49F8-4A5F-8576-110F38848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33520" y="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45720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04920" y="68580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45720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52280" y="106668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295280" y="9684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828800" y="15228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1143000" y="53352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20520" y="160020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533520" y="121932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228600" y="205740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0" y="274320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2438280" y="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914400" y="76212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CDL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European Computer Driving Lic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z ECDL moduljai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T alapismerete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perációs rendszere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zövegszerkeszté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áblázatkezelé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datbázis-kezelé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ezentáció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1981080"/>
            <a:ext cx="1828800" cy="685800"/>
          </a:xfrm>
          <a:prstGeom prst="rightArrow">
            <a:avLst>
              <a:gd name="adj1" fmla="val 50000"/>
              <a:gd name="adj2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00"/>
                </a:solidFill>
                <a:latin typeface="Times New Roman"/>
              </a:rPr>
              <a:t>Szövegszerkeszté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00"/>
                </a:solidFill>
                <a:latin typeface="Times New Roman"/>
              </a:rPr>
              <a:t>Adatbázis-kezelé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00"/>
                </a:solidFill>
                <a:latin typeface="Times New Roman"/>
              </a:rPr>
              <a:t>Prezentáció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00"/>
                </a:solidFill>
                <a:latin typeface="Times New Roman"/>
              </a:rPr>
              <a:t>Operációs rendszerek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00"/>
                </a:solidFill>
                <a:latin typeface="Times New Roman"/>
              </a:rPr>
              <a:t>Információ és kommunikáció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00"/>
                </a:solidFill>
                <a:latin typeface="Times New Roman"/>
              </a:rPr>
              <a:t>IT alapismeretek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00"/>
                </a:solidFill>
                <a:latin typeface="Times New Roman"/>
              </a:rPr>
              <a:t>Táblázatkezelé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2T22:47:14Z</dcterms:created>
  <dc:creator>.</dc:creator>
  <dc:description/>
  <dc:language>en-US</dc:language>
  <cp:lastModifiedBy>.</cp:lastModifiedBy>
  <dcterms:modified xsi:type="dcterms:W3CDTF">2003-05-24T20:54:38Z</dcterms:modified>
  <cp:revision>5</cp:revision>
  <dc:subject/>
  <dc:title>ECDL</dc:title>
</cp:coreProperties>
</file>