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5B2-B35B-4F11-B9B1-1F63CF97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F66-04E5-41DA-9DE0-5E37A65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5CF-0D4F-43CD-8469-67290B91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E5B-81FC-46B5-B4DA-DEB992A3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18B-DBB6-4C1D-B19A-B5E88D9A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5AF-2139-4558-8854-ED5B5B8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EF2-A6E0-4692-AC44-AB8A6D2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DC0-FA7F-4F91-8494-224D0D9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D2F-B552-4CF0-90F9-18E5AF51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423-3A53-4E3E-BF42-9FD4242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BAA-7AE6-43A2-9AD6-71666285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82F-073B-423B-BD66-2B84A03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7892-A213-4B8D-84C6-11273A39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s program ha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á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 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övegek, képek 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ok, rajzobjektu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ktusok alkalma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ítés, nyom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7:28:02Z</dcterms:created>
  <dc:creator>.</dc:creator>
  <dc:description/>
  <dc:language>en-US</dc:language>
  <cp:lastModifiedBy>.</cp:lastModifiedBy>
  <dcterms:modified xsi:type="dcterms:W3CDTF">2003-02-19T07:38:30Z</dcterms:modified>
  <cp:revision>2</cp:revision>
  <dc:subject/>
  <dc:title>Prezentáció</dc:title>
</cp:coreProperties>
</file>