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0D8F-AD07-4AF4-A5FA-D5A93C64A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E0C7-A314-4203-A450-307E1D07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12BA-F30D-4254-AFEA-D83310AEF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9717-9AD1-43E7-BF1F-D8D7AEBA4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D8F3-AC0D-4FAD-A27B-6C4A2356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06F1-FA55-4617-97A2-90E0ABC5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EBDF-DE9E-4A55-B803-C7A21F52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F005-9BDB-4EF7-97CB-9EA61D80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18B9-0F85-477A-82FF-C97B7F8E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654A-ECA1-4156-B4AC-38FA895B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7EDF-CDD5-4D05-8C4B-B5F4BAE6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E122-145D-4E1B-BFB3-200D9F51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2367-A156-40CF-8E20-FB779EBE29AF}" type="datetime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26.07.31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3386-4F80-4748-906B-A8CABC9AFA9E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1447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8920" y="1438200"/>
            <a:ext cx="4114800" cy="164700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rabant 601 elad</a:t>
            </a: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ó! Ár: 90 000 F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Tel.: 777-777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17840" y="3598920"/>
            <a:ext cx="4114800" cy="216468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Mitsubishi Galant, 1800 cm</a:t>
            </a:r>
            <a:r>
              <a:rPr b="0" lang="hu-HU" sz="3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, kiváló állapotban eladó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Tel.: 999-999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1447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1447920"/>
            <a:ext cx="4114800" cy="167796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pari tevékenységre alkalmas családi ház eladó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Érd.: 888-88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920" y="4267080"/>
            <a:ext cx="4114800" cy="128196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Balatonparti nyaraló eladó. Ár: 45 millió F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Tel.: 666-66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1447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1438200"/>
            <a:ext cx="4114800" cy="167796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cserélném budapesti 2 szobás lakásomat székesfehérvári 2 szobásra. Tel.: 111-1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17840" y="3598920"/>
            <a:ext cx="4114800" cy="88596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+fél szobás lakás eladó. Érd.: XXX Ingatlanirod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9480" y="1447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17840" y="3598920"/>
            <a:ext cx="4114800" cy="167796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 szobás családi házamat elcserélném 2 földszinti lakásr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Érd.: XXX Ingatlanirod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1447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1447920"/>
            <a:ext cx="4114800" cy="1677960"/>
          </a:xfrm>
          <a:prstGeom prst="rect">
            <a:avLst/>
          </a:prstGeom>
          <a:solidFill>
            <a:srgbClr val="cc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ásfél szobás, 43 nm-es üres lakás hosszú távra kiadó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Érd.: 555-55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920" y="4267080"/>
            <a:ext cx="4114800" cy="1677960"/>
          </a:xfrm>
          <a:prstGeom prst="rect">
            <a:avLst/>
          </a:prstGeom>
          <a:solidFill>
            <a:srgbClr val="cc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ép, 2 szobás lakás igényeseknek, hosszú távra, bútorozottan kiadó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Érd.: 444-44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9480" y="1447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1438200"/>
            <a:ext cx="4114800" cy="88596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anyhalak eladó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l.: 222-22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17840" y="3598920"/>
            <a:ext cx="4114800" cy="128196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éves ékszerteknősöm elcserélném fiatalabbr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l.: 222-22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1447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85800" y="2971800"/>
          <a:ext cx="7772400" cy="243828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kosság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állalkozó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8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n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Ft + áf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Ft + áf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hé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 Ft + áf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 Ft + áf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2498760" y="1592280"/>
            <a:ext cx="183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87040" y="159696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rdetési árai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09480" y="1447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1447920"/>
            <a:ext cx="4114800" cy="885960"/>
          </a:xfrm>
          <a:prstGeom prst="rect">
            <a:avLst/>
          </a:prstGeom>
          <a:solidFill>
            <a:srgbClr val="cc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z az Ön hirdetésének a helye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920" y="4267080"/>
            <a:ext cx="4114800" cy="885960"/>
          </a:xfrm>
          <a:prstGeom prst="rect">
            <a:avLst/>
          </a:prstGeom>
          <a:solidFill>
            <a:srgbClr val="cc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z az Ön hirdetésének a helye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09480" y="1447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8920" y="1438200"/>
            <a:ext cx="4114800" cy="88596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z az Ön hirdetésének a helye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17840" y="3598920"/>
            <a:ext cx="4114800" cy="88596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z az Ön hirdetésének a helye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8T10:13:26Z</dcterms:created>
  <dc:creator>.</dc:creator>
  <dc:description/>
  <dc:language>en-US</dc:language>
  <cp:lastModifiedBy>.</cp:lastModifiedBy>
  <dcterms:modified xsi:type="dcterms:W3CDTF">2003-06-03T18:28:18Z</dcterms:modified>
  <cp:revision>9</cp:revision>
  <dc:subject/>
  <dc:title>PowerPoint bemutató</dc:title>
</cp:coreProperties>
</file>