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0DC-662C-4650-9D86-6F9C0635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4D9-53E6-4A8D-AB18-A9C9FAA3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431-912F-4BEE-ADFE-6E323D69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86F-F9F2-4350-9591-FB582ED7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172-4BBA-4FEB-A943-372EC317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FCD-D38C-4F18-9E5C-60C518A8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EFC-7047-4E50-88FA-E19DBA85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D1B-DCE3-495C-9C68-C58AEA85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16F-F42F-495B-B966-0A0196A3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F3C-EEEB-4FD3-AF0A-57E1CDF6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BB2-A501-4939-A340-1F3C4BDB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988-7B0A-4AAA-A50A-D4B0F64D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1AF9-4EB9-408F-9455-E87610362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ve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z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mutatko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élkitűzé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őbeosz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ső té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éma felvázo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éma kifej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érdések és válasz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9:57:25Z</dcterms:created>
  <dc:creator>.</dc:creator>
  <dc:description/>
  <dc:language>en-US</dc:language>
  <cp:lastModifiedBy>.</cp:lastModifiedBy>
  <dcterms:modified xsi:type="dcterms:W3CDTF">2003-03-11T19:57:39Z</dcterms:modified>
  <cp:revision>1</cp:revision>
  <dc:subject/>
  <dc:title>Bevezetés</dc:title>
</cp:coreProperties>
</file>